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072C-8328-471D-845E-1104A186BA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Юрьевич Лермо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цыр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9102-DD0B-4C67-B4DE-A69B37BFBB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7203-D7B4-4E66-94FC-1CA3C4A6EF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BFAF-003E-441D-9DB3-4F5F672FB6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торим  основные признаки романт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88A6-722D-4FB0-859A-6FA273F8E2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B702-7FFC-444A-90BB-C1E51E67C4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Пятигорска. Акварель М.Ю. Лермон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62BA-E2E5-4C2F-869D-9A1DAF53A8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М.Ю. Лермонтов. 183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D97B-D571-4D47-9934-3A0D3CC0B5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бе,  Кавказ, суровый царь зем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посвящаю снова стих небрежн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щё ребёнком робкими ш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збирался я на гордые ска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витые туманными чалм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к головы поклонников 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ветер машет вольными крыл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ночевать слетаются ор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в гости к ним летал мечтой послушн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56BA-F024-4748-9769-C656819AEE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Г. Бели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14E7-7868-4874-AF1B-F8F2CAEB2B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Анд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975E-159C-4A58-8B46-36D61DA53C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пиграф к поэме М.Ю. Лермонтова взят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ревнерусских летопис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ибл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ы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тихотворения Го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2. В чем заключается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стание против судьбы, против Бог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скаяние, смир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щита права человека на своб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A9E1-C062-4818-ABAB-4A4B984BD3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F644-7766-4476-8F20-C863E96865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3. Определите жанр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алл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элег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эма-исповед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т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4. Выделите черты романтизма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урная неистовая при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гибель геро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ерой одинок и не понят ми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ведение сна героя в сюжет поэ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мотив борьбы, мяте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5. Определите стихотворный размер, использованный Лермонтовым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 анапе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акти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мфибрах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я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0FA1-C642-4AA8-B7E8-5E89B75E24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6. Какой эпизод в сюжете  поэмы является централь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бег из монастыр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стреча с грузинк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й с барс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гибель Мц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7. В исповеди Мцыри зву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егод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мирение, покая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своей прав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отказ от бесплодной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8. В чём заключается основная идея произве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рицание религиозной морали аскетизма и сми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ска по в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идеи верности идеалам перед лицом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зыв к борьбе с любым проявлением деспо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5C53-CB14-4830-AC99-2EFA5B1BA4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4F0D-7CEE-4BE4-A866-A8E931F2D3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57BC-6855-4BB8-8BC7-0F3408C791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3058-4C48-4766-83A1-275E5C5DAF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E462-558D-493F-8C10-ECD55793E8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0D93-1997-48EB-94D7-AD08F827E7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81DC-FA08-40F3-90CC-8E92A0BDFC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5867-98B7-41F6-A6B3-C342894F4B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5CC-C331-44CA-B1A3-3137B350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474-18AC-4155-B75A-01C39E79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5BA-B315-4DD6-8B10-3C2BBC56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AFD-1AD4-4DBB-9245-26231CF1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16873-E41B-4E75-A82A-1CE24C16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8B102-54C5-4F2B-BDF9-418B892C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A919F-EC20-4D65-A99D-C9716BC0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AD1C5-5075-4F90-9193-0045CB12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1D76B-2EA2-40B6-A319-12D535E0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53720-F75E-42E1-8C49-B5502B39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993B7-AA2E-47EE-8B74-ED6D8818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79A-94AF-4269-BADF-7334D030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C8CEB-5087-4070-A9A8-931589F7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52D82-59EE-46CB-8819-F14A05D5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30DE2-7BA8-49C4-9E9B-720A5CB7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5C835-96AA-4068-AB03-95A4936C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0E77F-73C2-498A-A753-6C73B1E7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76D-3009-44B5-8353-0FF31C02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5B0-36F5-4E29-ADC0-19B34A6C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B93-4CE5-47D5-9D05-B5DB291A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1B5-616A-46DC-8A5B-852DFFE3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82C-2F80-492B-9158-F407135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57D-FE21-483F-9923-2A8B291B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52F-4D87-4DE0-9709-9EAC5549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41C9-A5B9-4024-8E79-69F8ECF9C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EE72-79A0-4466-9B01-1B3D8B37D6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324000" y="1341360"/>
            <a:ext cx="864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хаил Юрьевич Лермонтов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цыри"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0" name="Picture 53" descr="Лермонтов"/>
          <p:cNvPicPr/>
          <p:nvPr/>
        </p:nvPicPr>
        <p:blipFill>
          <a:blip r:embed="rId1"/>
          <a:stretch/>
        </p:blipFill>
        <p:spPr>
          <a:xfrm>
            <a:off x="6548400" y="2643120"/>
            <a:ext cx="2595600" cy="337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Голова Мцыри"/>
          <p:cNvPicPr/>
          <p:nvPr/>
        </p:nvPicPr>
        <p:blipFill>
          <a:blip r:embed="rId2"/>
          <a:stretch/>
        </p:blipFill>
        <p:spPr>
          <a:xfrm>
            <a:off x="428760" y="2928960"/>
            <a:ext cx="239076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57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58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59"/>
          <p:cNvSpPr/>
          <p:nvPr/>
        </p:nvSpPr>
        <p:spPr>
          <a:xfrm>
            <a:off x="2340000" y="56833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Picture 60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2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3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7"/>
          <p:cNvSpPr/>
          <p:nvPr/>
        </p:nvSpPr>
        <p:spPr>
          <a:xfrm>
            <a:off x="2340000" y="5589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о   э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58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59"/>
          <p:cNvSpPr/>
          <p:nvPr/>
        </p:nvSpPr>
        <p:spPr>
          <a:xfrm>
            <a:off x="324000" y="476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60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1" descr="Бафрон"/>
          <p:cNvPicPr/>
          <p:nvPr/>
        </p:nvPicPr>
        <p:blipFill>
          <a:blip r:embed="rId2"/>
          <a:stretch/>
        </p:blipFill>
        <p:spPr>
          <a:xfrm>
            <a:off x="6877080" y="5084640"/>
            <a:ext cx="1278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Object 4"/>
          <p:cNvGraphicFramePr/>
          <p:nvPr/>
        </p:nvGraphicFramePr>
        <p:xfrm>
          <a:off x="2987640" y="3573360"/>
          <a:ext cx="586728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573360"/>
                    <a:ext cx="58672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5"/>
          <p:cNvSpPr/>
          <p:nvPr/>
        </p:nvSpPr>
        <p:spPr>
          <a:xfrm>
            <a:off x="250920" y="1413000"/>
            <a:ext cx="84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торим  основные признаки романт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Военногруз дорога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5"/>
          <p:cNvSpPr/>
          <p:nvPr/>
        </p:nvSpPr>
        <p:spPr>
          <a:xfrm>
            <a:off x="1116000" y="18900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5003640" y="621648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енно-Грузинская дорога близ Мцхета. Рисунок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4" descr="Вид Пятигорска"/>
          <p:cNvPicPr/>
          <p:nvPr/>
        </p:nvPicPr>
        <p:blipFill>
          <a:blip r:embed="rId1"/>
          <a:stretch/>
        </p:blipFill>
        <p:spPr>
          <a:xfrm>
            <a:off x="-181080" y="0"/>
            <a:ext cx="9577440" cy="70293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5"/>
          <p:cNvSpPr/>
          <p:nvPr/>
        </p:nvSpPr>
        <p:spPr>
          <a:xfrm>
            <a:off x="4140360" y="645336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 Пятигорска. Акварель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Портрет Лерм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5"/>
          <p:cNvSpPr/>
          <p:nvPr/>
        </p:nvSpPr>
        <p:spPr>
          <a:xfrm>
            <a:off x="4067280" y="1268280"/>
            <a:ext cx="5076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М.Ю. Лермонтов. 1832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Автопортрет"/>
          <p:cNvPicPr/>
          <p:nvPr/>
        </p:nvPicPr>
        <p:blipFill>
          <a:blip r:embed="rId1"/>
          <a:stretch/>
        </p:blipFill>
        <p:spPr>
          <a:xfrm>
            <a:off x="5292720" y="1052640"/>
            <a:ext cx="3313080" cy="423216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5"/>
          <p:cNvSpPr/>
          <p:nvPr/>
        </p:nvSpPr>
        <p:spPr>
          <a:xfrm>
            <a:off x="468360" y="765000"/>
            <a:ext cx="50385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ебе,  Кавказ, суровый царь зем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посвящаю снова стих небрежны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щё ребёнком робкими ша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збирался я на гордые ска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витые туманными чалм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к головы поклонников 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ветер машет вольными крыл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ночевать слетаются орл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в гости к ним летал мечтой послушно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Голова Мцыри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73264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6"/>
          <p:cNvSpPr/>
          <p:nvPr/>
        </p:nvSpPr>
        <p:spPr>
          <a:xfrm>
            <a:off x="179280" y="0"/>
            <a:ext cx="896472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Г. Белинск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4572000" y="2133720"/>
            <a:ext cx="432108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0" y="6524640"/>
            <a:ext cx="42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Мцыри. Рисунок Ф.Д. Константи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5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4067280" y="260280"/>
            <a:ext cx="439236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611280" y="1916280"/>
            <a:ext cx="806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. Андрон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395280" y="260280"/>
            <a:ext cx="36720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7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4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256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3132000" y="18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0" y="90792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Эпиграф к поэме М.Ю. Лермонтова взят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ревнерусских летописе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Библ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ыл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стихотворения Го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0" y="4005360"/>
            <a:ext cx="9144000" cy="1620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. В чем заключается смысл эпиграф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осстание против судьбы, против Бог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раскаяние, сми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защита права человека на своб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1" dur="2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447840" y="476280"/>
            <a:ext cx="62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2556000" y="83664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755640" y="549360"/>
            <a:ext cx="592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0607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3" descr="Лермонтов"/>
          <p:cNvPicPr/>
          <p:nvPr/>
        </p:nvPicPr>
        <p:blipFill>
          <a:blip r:embed="rId1"/>
          <a:stretch/>
        </p:blipFill>
        <p:spPr>
          <a:xfrm>
            <a:off x="2771640" y="1844640"/>
            <a:ext cx="3326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9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. Определите жанр произ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аллад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элег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оэма-исповед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т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1"/>
          <p:cNvSpPr/>
          <p:nvPr/>
        </p:nvSpPr>
        <p:spPr>
          <a:xfrm>
            <a:off x="0" y="2492280"/>
            <a:ext cx="9144000" cy="2454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. Выделите черты романтизма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урная неистовая прир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гибель геро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герой одинок и не понят мир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введение сна героя в сюжет поэм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мотив борьбы, мяте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2"/>
          <p:cNvSpPr/>
          <p:nvPr/>
        </p:nvSpPr>
        <p:spPr>
          <a:xfrm>
            <a:off x="0" y="5157720"/>
            <a:ext cx="9144000" cy="146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 Определите стихотворный размер, использованный Лермонтовым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анапес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дактил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амфибрах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ям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8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8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8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8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8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8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8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8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8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8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328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8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28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8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4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8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8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8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8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5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8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50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8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6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5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. Какой эпизод в сюжете  поэмы является центральны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обег из монастыр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встреча с грузинко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ой с барс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гибель Мцы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0" y="249228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. В исповеди Мцыри зву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негодо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мирение, покаяни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своей прав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отказ от бесплодной борь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0" y="4653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8. В чём заключается основная идея произвед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отрицание религиозной морали аскетизма и смир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тоска по во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идеи верности идеалам перед лицом смер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зыв к борьбе с любым проявлением деспот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8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8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8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8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8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740"/>
                            </p:stCondLst>
                            <p:childTnLst>
                              <p:par>
                                <p:cTn id="5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8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740"/>
                            </p:stCondLst>
                            <p:childTnLst>
                              <p:par>
                                <p:cTn id="5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8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8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5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8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8740"/>
                            </p:stCondLst>
                            <p:childTnLst>
                              <p:par>
                                <p:cTn id="59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8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740"/>
                            </p:stCondLst>
                            <p:childTnLst>
                              <p:par>
                                <p:cTn id="6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8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8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8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8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8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1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8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8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8"/>
          <p:cNvSpPr/>
          <p:nvPr/>
        </p:nvSpPr>
        <p:spPr>
          <a:xfrm>
            <a:off x="2987640" y="1700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м  о   н  т   о  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17928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3492360" y="2297160"/>
            <a:ext cx="5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1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2" descr="Шекспир"/>
          <p:cNvPicPr/>
          <p:nvPr/>
        </p:nvPicPr>
        <p:blipFill>
          <a:blip r:embed="rId2"/>
          <a:stretch/>
        </p:blipFill>
        <p:spPr>
          <a:xfrm>
            <a:off x="2700360" y="1700280"/>
            <a:ext cx="2976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395280" y="333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2916360" y="1700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м  о  н  т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3687840" y="2298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1979640" y="27813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3" descr="Карамзин"/>
          <p:cNvPicPr/>
          <p:nvPr/>
        </p:nvPicPr>
        <p:blipFill>
          <a:blip r:embed="rId1"/>
          <a:stretch/>
        </p:blipFill>
        <p:spPr>
          <a:xfrm>
            <a:off x="2411280" y="1773360"/>
            <a:ext cx="3703680" cy="432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4" descr="Шекспир"/>
          <p:cNvPicPr/>
          <p:nvPr/>
        </p:nvPicPr>
        <p:blipFill>
          <a:blip r:embed="rId2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5" descr="Лермонтов"/>
          <p:cNvPicPr/>
          <p:nvPr/>
        </p:nvPicPr>
        <p:blipFill>
          <a:blip r:embed="rId3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1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2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53"/>
          <p:cNvSpPr/>
          <p:nvPr/>
        </p:nvSpPr>
        <p:spPr>
          <a:xfrm>
            <a:off x="468360" y="476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1816200" y="3284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55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6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7" descr="p_222i"/>
          <p:cNvPicPr/>
          <p:nvPr/>
        </p:nvPicPr>
        <p:blipFill>
          <a:blip r:embed="rId3"/>
          <a:stretch/>
        </p:blipFill>
        <p:spPr>
          <a:xfrm>
            <a:off x="2411280" y="1916280"/>
            <a:ext cx="3905280" cy="4346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8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2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53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4"/>
          <p:cNvSpPr/>
          <p:nvPr/>
        </p:nvSpPr>
        <p:spPr>
          <a:xfrm>
            <a:off x="179280" y="18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55"/>
          <p:cNvSpPr/>
          <p:nvPr/>
        </p:nvSpPr>
        <p:spPr>
          <a:xfrm>
            <a:off x="2987640" y="378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56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7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8" descr="p_222i"/>
          <p:cNvPicPr/>
          <p:nvPr/>
        </p:nvPicPr>
        <p:blipFill>
          <a:blip r:embed="rId3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9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54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55"/>
          <p:cNvSpPr/>
          <p:nvPr/>
        </p:nvSpPr>
        <p:spPr>
          <a:xfrm>
            <a:off x="298764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56"/>
          <p:cNvSpPr/>
          <p:nvPr/>
        </p:nvSpPr>
        <p:spPr>
          <a:xfrm>
            <a:off x="179280" y="189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57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8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9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0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55"/>
          <p:cNvSpPr/>
          <p:nvPr/>
        </p:nvSpPr>
        <p:spPr>
          <a:xfrm>
            <a:off x="1187280" y="5013360"/>
            <a:ext cx="554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57"/>
          <p:cNvSpPr/>
          <p:nvPr/>
        </p:nvSpPr>
        <p:spPr>
          <a:xfrm>
            <a:off x="468360" y="620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58"/>
          <p:cNvSpPr/>
          <p:nvPr/>
        </p:nvSpPr>
        <p:spPr>
          <a:xfrm>
            <a:off x="2340000" y="47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59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0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57"/>
          <p:cNvSpPr/>
          <p:nvPr/>
        </p:nvSpPr>
        <p:spPr>
          <a:xfrm>
            <a:off x="179280" y="404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58"/>
          <p:cNvSpPr/>
          <p:nvPr/>
        </p:nvSpPr>
        <p:spPr>
          <a:xfrm>
            <a:off x="1258920" y="522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59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0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2:29:01Z</dcterms:created>
  <dc:creator>Genya</dc:creator>
  <dc:description/>
  <dc:language>en-US</dc:language>
  <cp:lastModifiedBy>LEGION</cp:lastModifiedBy>
  <dcterms:modified xsi:type="dcterms:W3CDTF">2015-01-20T08:00:55Z</dcterms:modified>
  <cp:revision>33</cp:revision>
  <dc:subject/>
  <dc:title>Слайд 1</dc:title>
</cp:coreProperties>
</file>