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97D1-9E76-48A4-A1D0-00FEC7FE73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8473-E0A1-4FE6-9B65-5CDBE47726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8617-A605-46B0-8283-34CF1D28C6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5EB5-6B32-4760-A7CE-3D70D5E4B1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DD20-4292-4A96-967D-F7D39845AA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3DF4-66F2-4682-A4A1-19839BEA71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B150-4BD1-46E8-85EF-E5C7E6B33D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AE9D-23BB-4C9F-A03E-5C67AA1E50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FF2C-95E9-4ACC-B45B-EB818FE7DB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712F-2B77-4643-954B-1AA56BC4F3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E0B0-66AE-485E-B336-E2D21CF9E6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06DF-5DF1-498C-A7D9-91902C614B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E859-496C-4C25-8C95-864924F4DF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1200"/>
            </a:b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4A29-6F42-471E-837B-8DB9459315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01A1-F12C-4C94-BC1D-6F7825571E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A80B-1384-4B07-A7DD-BFC754925C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5881-8527-45BF-B6D4-9303B7A922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CAA-ED08-41F0-8B88-1E51E8FB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29E-D248-4C02-8B1F-E318F003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DE7-AA69-46DE-8B43-B6597891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F7AA-BA83-40B5-8554-F5BF44F2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804-2FF1-4852-AA0C-C3904703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C49-1D93-4950-804A-7801CFBE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1C8-E28E-40C5-A987-475814CF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4D4-57FD-489B-9E5D-235F349A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110-FF8B-43F8-AFE9-00A69342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234-59F0-472D-86C1-4B09320C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80B8-C470-4DE4-847F-F90AA788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A48-4414-4FE3-9A0E-1E2109F9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698D-6C8C-49FA-8A4C-7E24BFB5680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28960" y="3857760"/>
            <a:ext cx="48434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643800" y="157176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714240" y="2571840"/>
            <a:ext cx="2714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2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714920" y="3571920"/>
            <a:ext cx="3971880" cy="311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714920" y="3000240"/>
            <a:ext cx="3333600" cy="271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214280" y="2857680"/>
            <a:ext cx="27147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28560" y="356760"/>
            <a:ext cx="6357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25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714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28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580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4000320" cy="557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0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61434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2682720" cy="424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6000840" y="3000240"/>
            <a:ext cx="2925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3080" y="335772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071880" y="2643120"/>
            <a:ext cx="2733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25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571500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2400"/>
            </a:br>
            <a:r>
              <a:rPr b="0" i="1" lang="ru-RU" sz="24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143760" y="1857240"/>
            <a:ext cx="2714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143080" y="34290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40813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357280" y="2500200"/>
            <a:ext cx="435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4:42:23Z</dcterms:created>
  <dc:creator>Катька</dc:creator>
  <dc:description/>
  <dc:language>en-US</dc:language>
  <cp:lastModifiedBy>LEGION</cp:lastModifiedBy>
  <dcterms:modified xsi:type="dcterms:W3CDTF">2015-01-20T08:01:48Z</dcterms:modified>
  <cp:revision>27</cp:revision>
  <dc:subject/>
  <dc:title>Михаил Александрович Шолохов </dc:title>
</cp:coreProperties>
</file>