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165-A6E5-4381-A7C0-4FD3FC9674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орруп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572C-B34C-4378-A2DE-363C205AB4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служб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орган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инспе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рование и регистрация предпринимательск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креди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экспортных кво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ы на закупку товаров/услуг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и ремонт за счёт бюджетных сред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риальное удостоверение сделок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ловий лицензир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соблюдением правил охоты и рыболов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от призыва на военную службу в вооружённые си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е в государственные высшие учебные заве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артийных избирательных сп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A7D-2444-4912-A2B6-FAB472B71E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вред от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279B-05B5-4C7E-BCBB-17EDF5E92D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 от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распределение и расходование государственных средств и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сть коррупционных финансовых потоков с точки зрения экономики стран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налогов, когда налоговые органы присваивают себе часть налог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рение частных предпринима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инвестиций в производство, замедление экономического ро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е качества общественного серви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ост социального нераве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иление организованной преступности — банды превращаются в маф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щерб политической легитимности вла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нижение общественной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3F4-5DA1-4420-A44F-1852C6F634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отиводействие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13EE-0502-45E4-BD00-1E36D89BF2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тиводействие коррупции- э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910A-7AE7-4563-B818-D84F9EE6EC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ипы противодействия коррупции в Российской Федераци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зако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A71F-A060-4690-96AE-F983078E31B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зидент Российской Фед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F327-9654-46CF-9E7E-67AC99C48E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730B-2443-4CE9-81AB-FBE4C83D28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EAA5-FAEC-46BD-8648-DB47B77DAC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еральный прокурор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0AFF-8121-42A9-B455-422DCBDCAD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ОТИВОДЕЙСТВИИ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 декабря 2008 года №273-Ф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руп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F79-8C7F-4B0D-AFAF-A1D27C79F6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етная пала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елах своих полномочий обеспечивает противодействие корруп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3619-E796-4F62-9A2C-D59B690F6A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иводействие корруп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еделах своих полномочий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7F89-1467-4D4C-83E7-A65125C0D2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циональный план противодействия коррупц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программного характера, утверждённый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резидентом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Д. А. Медведе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31 июля 2008 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B228-46FD-4F79-B5D8-2DAF99C8C5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Й ПЛАН включае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B159-6E73-4B11-8A1C-C274EC6131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Антикоррупционное законодательство Улья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3313-370C-440D-A632-AE3D9A59E4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ACD3-AAAA-4032-9528-4BBEC0ADFE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бочее определение «коррупции»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ведите п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8B3D-2500-40FC-9841-1FA165EB73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1D62-3F34-4623-B9C3-FB176220CA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DC8-DB4C-4C05-A2A5-B3EB8D3CE9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C861-B3D1-4093-8836-BA890028DF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2C38-B1F5-4832-A77D-9F30B481E9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66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3BC1-53A6-4F30-A42E-25E3675D7C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3BE-6B71-4169-9083-665AF407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C06-4E13-41BA-A202-96885D4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133-9090-42EA-AFCD-459C7E7A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717-02E6-42D5-9F52-3304DD27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8F7D-0A57-4B96-9408-6AC87CAD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B19C-1368-490E-B01B-3E820E94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81F-1AA9-4390-A838-202E9DDF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90BE-79F4-4C56-918C-D747A710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1CC8-2CA2-4AAF-8A08-73EF2B2D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9F4E-E3FE-4C96-82C2-65C18577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8953-A662-406E-B6BD-113153C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593-FAA3-4707-A3A0-9E5FE33E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D88E-A829-453A-8515-8EB6039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770B-AD38-47BD-AD35-3C64932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425-816C-4AF1-83BE-7BA9561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A394-484A-451A-B71D-10CD1592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AA62-D280-4929-A953-171D8AB8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11D-5FEF-4E54-8FF8-1B54097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8F3-975F-4BC9-AC82-4A40DD4C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FDD-8BD1-40B2-95DA-BFB58352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98E-D12F-4185-9B64-DA75DDD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412-6EAC-4C2E-921A-8B95065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0CB-26CA-46F7-AB29-75795E01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C32-E230-4567-92FE-8B8BF130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50FC-6EB4-41D6-92BD-C699E42679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AE91-255B-44CB-871F-6B08D13E32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online/base/?req=doc;base=LAW;n=116687#p2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79;&#1080;&#1076;&#1077;&#1085;&#1090;_&#1056;&#1060;" TargetMode="External"/><Relationship Id="rId2" Type="http://schemas.openxmlformats.org/officeDocument/2006/relationships/hyperlink" Target="http://ru.wikipedia.org/wiki/&#1052;&#1077;&#1076;&#1074;&#1077;&#1076;&#1077;&#1074;,_&#1044;&#1084;&#1080;&#1090;&#1088;&#1080;&#1081;_&#1040;&#1085;&#1072;&#1090;&#1086;&#1083;&#1100;&#1077;&#1074;&#1080;&#1095;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._.D0.9C.D0.B5.D1.80.D1.8B_.D0.BF.D0.BE_.D0.B7.D0.B0.D0.BA.D0.BE.D0.BD.D0.BE.D0.B4.D0.B0.D1.82.D0.B5.D0.BB.D1.8C.D0.BD.D0.BE.D0.BC.D1.83_.D0.BE.D0.B1.D0.B5.D1.81.D0.BF.D0.B5.D1.87.D0.B5.D0.BD.D0.B8.D1.8E_.D0.BF.D1.80.D0.BE.D1.82.D0.B8.D0.B2.D0.BE.D0.B4.D0.B5.D0.B9.D1.81.D1.82.D0.B2.D0.B8.D1.8F_.D0.BA.D0.BE.D1.80.D1.80.D1.83.D0.BF.D1.86.D0.B8.D0.B8" TargetMode="External"/><Relationship Id="rId2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._.D0.9C.D0.B5.D1.80.D1.8B_.D0.BF.D0.BE_.D1.81.D0.BE.D0.B2.D0.B5.D1.80.D1.88.D0.B5.D0.BD.D1.81.D1.82.D0.B2.D0.BE.D0.B2.D0.B0.D0.BD.D0.B8.D1.8E_.D0.B3.D0.BE.D1.81.D1.83.D0.B4.D0.B0.D1.80.D1.81.D1.82.D0.B2.D0.B5.D0.BD.D0.BD.D0.BE.D0.B3.D0.BE_.D1.83.D0.BF.D1.80.D0.B0.D0.B2.D0.BB.D0.B5.D0.BD.D0.B8.D1.8F_.D0.B2_.D1.86.D0.B5.D0.BB.D1.8F.D1.85_.D0.BF.D1.80.D0.B5.D0.B4.D1.83.D0.BF.D1.80.D0.B5.D0.B6.D0.B4.D0.B5.D0.BD.D0.B8.D1.8F_.D0.BA.D0.BE.D1.80.D1.80.D1.83.D0.BF.D1.86.D0.B8.D0.B8" TargetMode="External"/><Relationship Id="rId3" Type="http://schemas.openxmlformats.org/officeDocument/2006/relationships/hyperlink" Target="http://ru.wikipedia.org/wiki/&#1053;&#1072;&#1094;&#1080;&#1086;&#1085;&#1072;&#1083;&#1100;&#1085;&#1099;&#1081;_&#1087;&#1083;&#1072;&#1085;_&#1087;&#1088;&#1086;&#1090;&#1080;&#1074;&#1086;&#1076;&#1077;&#1081;&#1089;&#1090;&#1074;&#1080;&#1103;_&#1082;&#1086;&#1088;&#1088;&#1091;&#1087;&#1094;&#1080;&#1080;#.D0.A0.D0.B0.D0.B7.D0.B4.D0.B5.D0.BB_III._.D0.9C.D0.B5.D1.80.D1.8B_.D0.BF.D0.BE_.D0.BF.D0.BE.D0.B2.D1.8B.D1.88.D0.B5.D0.BD.D0.B8.D1.8E_.D0.BF.D1.80.D0.BE.D1.84.D0.B5.D1.81.D1.81.D0.B8.D0.BE.D0.BD.D0.B0.D0.BB.D1.8C.D0.BD.D0.BE.D0.B3.D0.BE_.D1.83.D1.80.D0.BE.D0.B2.D0.BD.D1.8F_.D1.8E.D1.80.D0.B8.D0.B4.D0.B8.D1.87.D0.B5.D1.81.D0.BA.D0.B8.D1.85_.D0.BA.D0.B0.D0.B4.D1.80.D0.BE.D0.B2_.D0.B8_.D0.BF.D1.80.D0.B0.D0.B2.D0.BE.D0.B2.D0.BE.D0.BC.D1.83_.D0.BF.D1.80.D0.BE.D1.81.D0.B2.D0.B5.D1.89.D0.B5.D0.BD.D0.B8.D1.8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ticorrupt-ul.ru/laws/regional/210r.html" TargetMode="External"/><Relationship Id="rId2" Type="http://schemas.openxmlformats.org/officeDocument/2006/relationships/hyperlink" Target="http://anticorrupt-ul.ru/laws/regional/izm_ocp_protivod_corrupcii_2008-2012.html" TargetMode="External"/><Relationship Id="rId3" Type="http://schemas.openxmlformats.org/officeDocument/2006/relationships/hyperlink" Target="http://anticorrupt-ul.ru/laws/regional/proect_npa.html" TargetMode="External"/><Relationship Id="rId4" Type="http://schemas.openxmlformats.org/officeDocument/2006/relationships/hyperlink" Target="http://anticorrupt-ul.ru/laws/regional/post_zso_nazn_upolnom.html" TargetMode="External"/><Relationship Id="rId5" Type="http://schemas.openxmlformats.org/officeDocument/2006/relationships/hyperlink" Target="http://anticorrupt-ul.ru/laws/regional/pravila_expertizy.html" TargetMode="External"/><Relationship Id="rId6" Type="http://schemas.openxmlformats.org/officeDocument/2006/relationships/hyperlink" Target="http://anticorrupt-ul.ru/laws/regional/programma2008-2010.html" TargetMode="External"/><Relationship Id="rId7" Type="http://schemas.openxmlformats.org/officeDocument/2006/relationships/hyperlink" Target="http://anticorrupt-ul.ru/laws/regional/zuo_o_prot_corrupcii.html" TargetMode="External"/><Relationship Id="rId8" Type="http://schemas.openxmlformats.org/officeDocument/2006/relationships/hyperlink" Target="http://anticorrupt-ul.ru/laws/regional/post_guo_ob_anticor_sovete.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коррупция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82760" y="1341360"/>
            <a:ext cx="8207280" cy="4781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К сферам деятельности, которые в наибольшей степени подвержены коррупции в России, относятся: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моженные служб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дицинские организа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инспекци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удеб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огов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авоохранительные орг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цензирование и регистрация предпринимательской деятельно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дача разрешений на размещение и проведение банковских операций с бюджетными средствам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кредит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учение экспортных квот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сы на закупку товаров/услуг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тельство и ремонт за счёт бюджетных средст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тариальное удостоверение сделок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троль за соблюдением условий лицензирова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дзор за соблюдением правил охоты и рыболов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вобождение от призыва на военную службу в вооружённые сил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упление в государственные высшие учебные заведени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сударственная регистрация, аттестация и аккредитация негосударственных высших учебных заведени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ем на службу, позволяющую иметь значительный незаконный доход от должности в государственных и муниципальных учреждениях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ирование партийных избирательных спис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Каков вред от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20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5" descr="ANd9GcTu9zv0_k0gB6vIeP-e5ltdHNB2UZJfoKphdZWdHlsUanOJdHMB"/>
          <p:cNvPicPr/>
          <p:nvPr/>
        </p:nvPicPr>
        <p:blipFill>
          <a:blip r:embed="rId1"/>
          <a:stretch/>
        </p:blipFill>
        <p:spPr>
          <a:xfrm>
            <a:off x="900000" y="1700280"/>
            <a:ext cx="7056720" cy="40845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Вред от корруп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распределение и расходование государственных средств и ресурс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сть коррупционных финансовых потоков с точки зрения экономики стран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налогов, когда налоговые органы присваивают себе часть налогов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тери времени из-за чинимых препятствий, снижение эффективности работы государственного аппарата в целом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азорение частных предпринимателей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инвестиций в производство, замедление экономического рост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онижение качества общественного сервис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целевое использование международной помощи развивающимся странам, что резко снижает её эффективность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еэффективное использование способностей индивидов: вместо производства материальных благ люди тратят время на непродуктивный поиск ренты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рост социального неравенств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силение организованной преступности — банды превращаются в мафию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щерб политической легитимности власт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нижение общественной морал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Что такое противодействие коррупции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6920" y="2923920"/>
            <a:ext cx="648036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ANd9GcRHNpqcNRnAkb-2YXdVmKrrLnR_3GE3cC9_P5P-mUnxXLmc4QjB1Q"/>
          <p:cNvPicPr/>
          <p:nvPr/>
        </p:nvPicPr>
        <p:blipFill>
          <a:blip r:embed="rId1"/>
          <a:stretch/>
        </p:blipFill>
        <p:spPr>
          <a:xfrm>
            <a:off x="1187280" y="2997360"/>
            <a:ext cx="6409080" cy="3079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отиводействие коррупции- это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деятельность федеральных органов государственной власти, органов государственной власти субъектов Российской Федерации, органов местного самоуправления, институтов гражданского общества, организаций и физических лиц в пределах их полномочи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) по предупреждению коррупции, в том числе по выявлению и последующему устранению причин коррупции (профилактика коррупции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б) по выявлению, предупреждению, пресечению, раскрытию и расследованию коррупционных правонарушений (борьба с коррупцией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) по минимизации и (или) ликвидации последствий коррупционных правонару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нципы противодействия коррупции в Российской Федерации: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) признание, обеспечение и защита основных прав и свобод человека и гражданин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) законност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) публичность и открытость деятельности государственных органов и органов местного самоуправ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) неотвратимость ответственности за совершение коррупционных правонару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5) комплексное использование политических, организационных, информационно-пропагандистских, социально-экономических, правовых, специальных и иных мер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) приоритетное применение мер по предупреждению коррупц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) сотрудничество государства с институтами гражданского общества, международными организациями и физическими лиц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Функции органов государственной власти в области борьбы с коррупцией распределяются следующим образом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зидент Российской Феде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пределяет основные направления государственной политики в области противодействия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устанавливает компетенцию федеральных органов исполнительной власти, руководство деятельностью которых он осуществляет, в области противодействия корруп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397320" cy="4751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Times New Roman"/>
              </a:rPr>
              <a:t>Федеральное Собрание Российской Федера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вает разработку и принятие федеральных законов по вопросам противодействия коррупции, а также контролирует деятельность органов исполнительной власти в пределах своих полномочи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8" descr="ANd9GcST5ZS8lkkwYHT5cqlSuxA2PKy3gsOrrARoJoAY-cOy5qcON1L6"/>
          <p:cNvPicPr/>
          <p:nvPr/>
        </p:nvPicPr>
        <p:blipFill>
          <a:blip r:embed="rId1"/>
          <a:stretch/>
        </p:blipFill>
        <p:spPr>
          <a:xfrm>
            <a:off x="4788000" y="1700280"/>
            <a:ext cx="3456000" cy="3384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авительство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еделяет функции между федеральными органами исполнительной власти, руководство деятельностью которых оно осуществляет, по противодействию корруп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Picture 6" descr="ANd9GcTRrx9cE96PpjXZAmgCq_oxAz2ZhBPtiYnsfiqB9OEkakbYsz6g"/>
          <p:cNvPicPr/>
          <p:nvPr/>
        </p:nvPicPr>
        <p:blipFill>
          <a:blip r:embed="rId1"/>
          <a:stretch/>
        </p:blipFill>
        <p:spPr>
          <a:xfrm>
            <a:off x="4716360" y="1628640"/>
            <a:ext cx="3959280" cy="4392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Генеральный прокурор Российской Федер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чиненные ему прокуроры в пределах своих полномочий координируют деятельность органов внутренних дел Российской Федерации, органов федеральной службы безопасности, таможенных органов Российской Федерации и других правоохранительных органов по борьбе с коррупцией и реализуют иные полномочия в области противодействия коррупции, установленные федеральными закон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78936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Й ЗАКОН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О ПРОТИВОДЕЙСТВИИ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25 декабря 2008 года №273-ФЗ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рупц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овершение деяний, указанных в 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подпункте "а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настоящего пункта, от имени или в интересах юридического лиц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четная палата Российской Федерации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еделах своих полномочий обеспечивает противодействие корруп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ные полномочия Счетной палаты распространяются на все государственные органы (в том числе их аппараты) и учреждения в Российской Федерации, на федеральные внебюджетные фонды, государственные корпорации и государственные комп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2" descr="ANd9GcSovK36d-mTrcOZ7NRGZVqjgyaD1ruvrF8Sn4nJUjZTuCyh_uc9vA"/>
          <p:cNvPicPr/>
          <p:nvPr/>
        </p:nvPicPr>
        <p:blipFill>
          <a:blip r:embed="rId1"/>
          <a:stretch/>
        </p:blipFill>
        <p:spPr>
          <a:xfrm>
            <a:off x="4716360" y="1628640"/>
            <a:ext cx="3981600" cy="3816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Федеральные органы государственной власти, органы государственной власти субъектов Российской Федерации и органы местного самоуправления осуществляют 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противодействие коррупции</a:t>
            </a:r>
            <a:br>
              <a:rPr sz="2400"/>
            </a:b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 в пределах своих полномочий.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ANd9GcTQMwfPYpLxhdlq4bU9H6eVIYJMZo8BB4AEQjkWbkX4tRILxBtQ"/>
          <p:cNvPicPr/>
          <p:nvPr/>
        </p:nvPicPr>
        <p:blipFill>
          <a:blip r:embed="rId1"/>
          <a:stretch/>
        </p:blipFill>
        <p:spPr>
          <a:xfrm>
            <a:off x="611280" y="2997360"/>
            <a:ext cx="8064360" cy="30956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Национальный план противодействия коррупции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умент программного характера, утверждённый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резидентом РФ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. А. Медведевы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31 июля 2008 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5" descr="ANd9GcToqjVQugu__wywjTjxfLPHFbjyuJJ2thpwP2inWuVm8nkOmP1e"/>
          <p:cNvPicPr/>
          <p:nvPr/>
        </p:nvPicPr>
        <p:blipFill>
          <a:blip r:embed="rId3"/>
          <a:stretch/>
        </p:blipFill>
        <p:spPr>
          <a:xfrm>
            <a:off x="2195640" y="3284640"/>
            <a:ext cx="4319640" cy="31687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АЦИОНАЛЬНЫЙ ПЛАН включ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I. Меры по законодательному обеспечению противодейств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II. Меры по совершенствованию государственного управления в целях предупреждения корруп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III. Меры по повышению профессионального уровня юридических кадров и правовому просвещ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a500"/>
                </a:solidFill>
                <a:latin typeface="Arial"/>
              </a:rPr>
              <a:t>Антикоррупционное законодательство Ульяновской области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Распоряжение Губернатора Ульяновской области от 25.05.2011 № 210-р «О дополнительных мерах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Постановление Правительства Ульяновской области № 36-325-П от 06.10.2010 "О внесении изменений в постановление Правительства Ульяновской области от 22.07.2008 № 14/329-П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Постановление Губернатора Ульяновской области от 13 июля 2009 г. № 49 "Об утверждении Правил подготовки и издания правовых актов Губернатора и Правительства Ульяновской области"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Постановление Законодательного Собрания Ульяновской области от 28 мая 2009 г. N 348/28-4 «О назначении на должность уполномоченного по противодействию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Постановление Губернатора Ульяновской области от 23 апреля 2009 г. № 31 «Об утверждении Порядка проведения антикоррупционной экспертизы законов, иных нормативных правовых актов Ульяновской области и их проектов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Постановление Правительства Ульяновской области от 22 июля 2008 г. № 14/329-П «Об утверждении областной целевой программы «Противодействие коррупции в Ульяновской области» на 2008 – 2010 годы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Закон Ульяновской области от 5 июня 2007 г. N 77-ЗО «О противодействии коррупции в Ульяновской области»</a:t>
            </a:r>
            <a:br>
              <a:rPr sz="1600"/>
            </a:b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Постановление Губернатора Ульяновской области от 19 апреля 2007 г. N 28 «О координационном совете по реализации антикоррупционной политики в Ульяновской области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етырехкратный эффект корруп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лит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новники государственных учреждений и органов преступают закон,  когда используют служебное положение для личной выгоды. Наибольший вред коррупция наносит странам с развивающейся демократи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ном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ащение национального богатства. Размещение дефицитных государственных средств в неэкономичные проекты. Удерживание инвестици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ществен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рывает доверие граждан к власти. Крушение надежд и общая апатия в разочарованном обществе приводят к его гражданской слаб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кологиче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брежное использование природных ресурсов. Неудовлетворительная система регулиров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bd71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абочее определение «коррупции» -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ожно ли определить цену корруп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иведите п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имеры корруп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Рабочее определение коррупци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Злоупотребление служебным положением </a:t>
            </a:r>
            <a:r>
              <a:rPr b="1" i="1" lang="ru-RU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 целью получения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личной выгоды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1_1381"/>
          <p:cNvPicPr/>
          <p:nvPr/>
        </p:nvPicPr>
        <p:blipFill>
          <a:blip r:embed="rId1"/>
          <a:stretch/>
        </p:blipFill>
        <p:spPr>
          <a:xfrm>
            <a:off x="826920" y="2997360"/>
            <a:ext cx="7561440" cy="35827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Можно ли определить цену коррупции?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ча взяток не фиксируется, и они не всегда имеют денежную форму: одолжения, подарки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ще сложнее дать коррупции количественное определение в социальном аспекте: цена крушения иллюзий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ак коррупция влияет на человеческую жизнь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0" name="Picture 3" descr="C:\Documents and Settings\mikkel\Desktop\Corruption pictures\free\corrup1.jpg"/>
          <p:cNvPicPr/>
          <p:nvPr/>
        </p:nvPicPr>
        <p:blipFill>
          <a:blip r:embed="rId1"/>
          <a:stretch/>
        </p:blipFill>
        <p:spPr>
          <a:xfrm>
            <a:off x="5219640" y="4221000"/>
            <a:ext cx="2468520" cy="2273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0001r97w"/>
          <p:cNvPicPr/>
          <p:nvPr/>
        </p:nvPicPr>
        <p:blipFill>
          <a:blip r:embed="rId2"/>
          <a:stretch/>
        </p:blipFill>
        <p:spPr>
          <a:xfrm>
            <a:off x="4788000" y="1197000"/>
            <a:ext cx="3352680" cy="2685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korrupziya2"/>
          <p:cNvPicPr/>
          <p:nvPr/>
        </p:nvPicPr>
        <p:blipFill>
          <a:blip r:embed="rId3"/>
          <a:stretch/>
        </p:blipFill>
        <p:spPr>
          <a:xfrm>
            <a:off x="1332000" y="1557360"/>
            <a:ext cx="285732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Примеры коррупции</a:t>
            </a:r>
            <a:r>
              <a:rPr b="0" lang="da-DK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C:\Documents and Settings\mikkel\Desktop\Corruption pictures\free\policecorruption.jpg"/>
          <p:cNvPicPr/>
          <p:nvPr/>
        </p:nvPicPr>
        <p:blipFill>
          <a:blip r:embed="rId1"/>
          <a:stretch/>
        </p:blipFill>
        <p:spPr>
          <a:xfrm>
            <a:off x="4932360" y="1700280"/>
            <a:ext cx="3960720" cy="331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mikkel\Desktop\Corruption pictures\free\corrup8.jpg"/>
          <p:cNvPicPr/>
          <p:nvPr/>
        </p:nvPicPr>
        <p:blipFill>
          <a:blip r:embed="rId2"/>
          <a:stretch/>
        </p:blipFill>
        <p:spPr>
          <a:xfrm>
            <a:off x="324000" y="3716280"/>
            <a:ext cx="3960720" cy="2979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mikkel\Desktop\Corruption pictures\Cleared\newbribe.jpg"/>
          <p:cNvPicPr/>
          <p:nvPr/>
        </p:nvPicPr>
        <p:blipFill>
          <a:blip r:embed="rId3"/>
          <a:stretch/>
        </p:blipFill>
        <p:spPr>
          <a:xfrm>
            <a:off x="900000" y="1484280"/>
            <a:ext cx="2808360" cy="1903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 Unicode MS"/>
                <a:ea typeface="Arial Unicode MS"/>
              </a:rPr>
              <a:t>Коррупция процветает там, где…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</a:t>
            </a:r>
            <a:r>
              <a:rPr b="0" lang="da-DK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лазн сосуществует с вседозволенност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Н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е проводятся проверки в учрежден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</a:t>
            </a:r>
            <a:r>
              <a:rPr b="0" lang="en-ZA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оцесс принятия важных решений проходит в закрытом поряд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актически отсутствует гражданское общ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ромное неравенство в распределении богатства обрекает людей на нищ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6:34:17Z</dcterms:created>
  <dc:creator>Диво</dc:creator>
  <dc:description/>
  <dc:language>en-US</dc:language>
  <cp:lastModifiedBy>LEGION</cp:lastModifiedBy>
  <dcterms:modified xsi:type="dcterms:W3CDTF">2014-11-10T08:14:57Z</dcterms:modified>
  <cp:revision>16</cp:revision>
  <dc:subject/>
  <dc:title>Меры по противодействию коррупции в федеральных органах государственной власти и органах исполнительной власти Ульяновской области</dc:title>
</cp:coreProperties>
</file>