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936D-B495-4B5B-989D-D0519D33518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www.consultant.ru/online/base/?req=doc;base=LAW;n=116687#p28" TargetMode="Externa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77;&#1079;&#1080;&#1076;&#1077;&#1085;&#1090;_&#1056;&#1060;" TargetMode="External"/><Relationship Id="rId2" Type="http://schemas.openxmlformats.org/officeDocument/2006/relationships/hyperlink" Target="http://ru.wikipedia.org/wiki/&#1052;&#1077;&#1076;&#1074;&#1077;&#1076;&#1077;&#1074;,_&#1044;&#1084;&#1080;&#1090;&#1088;&#1080;&#1081;_&#1040;&#1085;&#1072;&#1090;&#1086;&#1083;&#1100;&#1077;&#1074;&#1080;&#1095;" TargetMode="External"/><Relationship Id="rId3" Type="http://schemas.openxmlformats.org/officeDocument/2006/relationships/slide" Target="../slides/slide22.xml"/><Relationship Id="rId4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72;&#1094;&#1080;&#1086;&#1085;&#1072;&#1083;&#1100;&#1085;&#1099;&#1081;_&#1087;&#1083;&#1072;&#1085;_&#1087;&#1088;&#1086;&#1090;&#1080;&#1074;&#1086;&#1076;&#1077;&#1081;&#1089;&#1090;&#1074;&#1080;&#1103;_&#1082;&#1086;&#1088;&#1088;&#1091;&#1087;&#1094;&#1080;&#1080;#.D0.A0.D0.B0.D0.B7.D0.B4.D0.B5.D0.BB_I._.D0.9C.D0.B5.D1.80.D1.8B_.D0.BF.D0.BE_.D0.B7.D0.B0.D0.BA.D0.BE.D0.BD.D0.BE.D0.B4.D0.B0.D1.82.D0.B5.D0.BB.D1.8C.D0.BD.D0.BE.D0.BC.D1.83_.D0.BE.D0.B1.D0.B5.D1.81.D0.BF.D0.B5.D1.87.D0.B5.D0.BD.D0.B8.D1.8E_.D0.BF.D1.80.D0.BE.D1.82.D0.B8.D0.B2.D0.BE.D0.B4.D0.B5.D0.B9.D1.81.D1.82.D0.B2.D0.B8.D1.8F_.D0.BA.D0.BE.D1.80.D1.80.D1.83.D0.BF.D1.86.D0.B8.D0.B8" TargetMode="External"/><Relationship Id="rId2" Type="http://schemas.openxmlformats.org/officeDocument/2006/relationships/hyperlink" Target="http://ru.wikipedia.org/wiki/&#1053;&#1072;&#1094;&#1080;&#1086;&#1085;&#1072;&#1083;&#1100;&#1085;&#1099;&#1081;_&#1087;&#1083;&#1072;&#1085;_&#1087;&#1088;&#1086;&#1090;&#1080;&#1074;&#1086;&#1076;&#1077;&#1081;&#1089;&#1090;&#1074;&#1080;&#1103;_&#1082;&#1086;&#1088;&#1088;&#1091;&#1087;&#1094;&#1080;&#1080;#.D0.A0.D0.B0.D0.B7.D0.B4.D0.B5.D0.BB_II._.D0.9C.D0.B5.D1.80.D1.8B_.D0.BF.D0.BE_.D1.81.D0.BE.D0.B2.D0.B5.D1.80.D1.88.D0.B5.D0.BD.D1.81.D1.82.D0.B2.D0.BE.D0.B2.D0.B0.D0.BD.D0.B8.D1.8E_.D0.B3.D0.BE.D1.81.D1.83.D0.B4.D0.B0.D1.80.D1.81.D1.82.D0.B2.D0.B5.D0.BD.D0.BD.D0.BE.D0.B3.D0.BE_.D1.83.D0.BF.D1.80.D0.B0.D0.B2.D0.BB.D0.B5.D0.BD.D0.B8.D1.8F_.D0.B2_.D1.86.D0.B5.D0.BB.D1.8F.D1.85_.D0.BF.D1.80.D0.B5.D0.B4.D1.83.D0.BF.D1.80.D0.B5.D0.B6.D0.B4.D0.B5.D0.BD.D0.B8.D1.8F_.D0.BA.D0.BE.D1.80.D1.80.D1.83.D0.BF.D1.86.D0.B8.D0.B8" TargetMode="External"/><Relationship Id="rId3" Type="http://schemas.openxmlformats.org/officeDocument/2006/relationships/slide" Target="../slides/slide23.xml"/><Relationship Id="rId4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корруп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D198-EC07-4CC6-AE94-58ECCF40733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 сферам деятельности, которые в наибольшей степени подвержены коррупции в России, относятся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оженные служб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ие организ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инспек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ые орган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е орган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е орган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рование и регистрация предпринимательской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ача разрешений на размещение и проведение банковских операций с бюджетными средств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кредит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экспортных кво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ы на закупку товаров/услуг за счёт бюджетных средст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ельство и ремонт за счёт бюджетных средст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тариальное удостоверение сделок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соблюдением условий лицензиров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за соблюдением правил охоты и рыболов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вобождение от призыва на военную службу в вооружённые сил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упление в государственные высшие учебные завед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регистрация, аттестация и аккредитация негосударственных высших учебных завед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 на службу, позволяющую иметь значительный незаконный доход от должности в государственных и муниципальных учрежден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артийных избирательных сп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0D51-9688-41CD-A570-78D3CDFCE50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ов вред от корруп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E00F-A33D-4317-A5D4-825D8CA8164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ред от корруп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эффективное распределение и расходование государственных средств и ресур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эффективность коррупционных финансовых потоков с точки зрения экономики стран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тери налогов, когда налоговые органы присваивают себе часть налог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тери времени из-за чинимых препятствий, снижение эффективности работы государственного аппарата в цел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орение частных предпринимате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нижение инвестиций в производство, замедление экономического рос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нижение качества общественного серви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целевое использование международной помощи развивающимся странам, что резко снижает её эффектив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эффективное использование способностей индивидов: вместо производства материальных благ люди тратят время на непродуктивный поиск рен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ост социального неравен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силение организованной преступности — банды превращаются в маф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щерб политической легитимности вла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нижение общественной мор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44A8-0570-4850-A43F-64467A91AD3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противодействие корруп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03E4-C50D-4424-84CA-7866AD2F9D5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тиводействие коррупции- эт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еятельность федеральных органов государственной власти, органов государственной власти субъектов Российской Федерации, органов местного самоуправления, институтов гражданского общества, организаций и физических лиц в пределах их полномоч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по предупреждению коррупции, в том числе по выявлению и последующему устранению причин коррупции (профилактика коррупци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по выявлению, предупреждению, пресечению, раскрытию и расследованию коррупционных правонарушений (борьба с коррупцие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по минимизации и (или) ликвидации последствий коррупционных правонару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D0B6-0C81-4348-9C79-AA223BE0868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нципы противодействия коррупции в Российской Федерации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признание, обеспечение и защита основных прав и свобод человека и граждани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зако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) публичность и открытость деятельности государственных органов и органов местного само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) неотвратимость ответственности за совершение коррупционных правонару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) комплексное использование политических, организационных, информационно-пропагандистских, социально-экономических, правовых, специальных и иных ме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) приоритетное применение мер по предупреждению корруп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) сотрудничество государства с институтами гражданского общества, международными организациями и физическими лиц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19AD-E878-4BDA-B66B-B76BC4D45DA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ункции органов государственной власти в области борьбы с коррупцией распределяются следующим образом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зидент Российской Федер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определяет основные направления государственной политики в области противодействия корруп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устанавливает компетенцию федеральных органов исполнительной власти, руководство деятельностью которых он осуществляет, в области противодействия корруп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131F-6E71-4816-B8FB-97240E46274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едеральное Собрание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ивает разработку и принятие федеральных законов по вопросам противодействия коррупции, а также контролирует деятельность органов исполнительной власти в пределах своих полномочи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C089-7CD9-4663-A09E-8F8887BB99A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вительство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яет функции между федеральными органами исполнительной власти, руководство деятельностью которых оно осуществляет, по противодействию корруп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E179-02BE-4479-AEC1-219E6B7F02F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неральный прокурор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одчиненные ему прокуроры в пределах своих полномочий координируют деятельность органов внутренних дел Российской Федерации, органов федеральной службы безопасности, таможенных органов Российской Федерации и других правоохранительных органов по борьбе с коррупцией и реализуют иные полномочия в области противодействия коррупции, установленные федеральными зако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554D-8C2D-4AF6-A8A3-5F915E3659E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 ПРОТИВОДЕЙСТВИИ КОРРУПЦИ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5 декабря 2008 года №273-Ф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ррупц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злоупотребление служебным положением, дача взятки, получение взятки, злоупотребление полномочиями, коммерческий подкуп либо иное незаконное использование физическим лицом своего должностного положения вопреки законным интересам общества и государства в целях получения выгоды в виде денег, ценностей, иного имущества или услуг имущественного характера, иных имущественных прав для себя или для третьих лиц либо незаконное предоставление такой выгоды указанному лицу другими физическими лиц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совершение деяний, указанных в 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подпункте "а"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настоящего пункта, от имени или в интересах юридического ли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D2E9-028D-4ABB-BB41-87A95DBDB38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четная палата Российской Федерац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еделах своих полномочий обеспечивает противодействие корруп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е полномочия Счетной палаты распространяются на все государственные органы (в том числе их аппараты) и учреждения в Российской Федерации, на федеральные внебюджетные фонды, государственные корпорации и государственные компа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9365-6A77-43A6-8911-391AA627BE9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е органы государственной власти, органы государственной власти субъектов Российской Федерации и органы местного самоуправления осуществляют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тиводействие коррупци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пределах своих полномочий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4D1C-F194-4E82-B616-1BA093A94D5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ациональный план противодействия коррупци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 программного характера, утверждённый 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Президентом РФ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Д. А. Медведевы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31 июля 2008 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9A4D-DFC0-4C42-9E8B-E285469C024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ЦИОНАЛЬНЫЙ ПЛАН включае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I. Меры по законодательному обеспечению противодействия корруп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I. Меры по совершенствованию государственного управления в целях предупреждения корруп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. Меры по повышению профессионального уровня юридических кадров и правовому просвещ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20E1-D616-4C4A-9F85-0C396BFAC29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Calibri"/>
              </a:rPr>
              <a:t>Антикоррупционное законодательство Ульяновской обла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ряжение Губернатора Ульяновской области от 25.05.2011 № 210-р «О дополнительных мерах по противодействию коррупции в Ульяновской области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Ульяновской области № 36-325-П от 06.10.2010 "О внесении изменений в постановление Правительства Ульяновской области от 22.07.2008 № 14/329-П"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Губернатора Ульяновской области от 13 июля 2009 г. № 49 "Об утверждении Правил подготовки и издания правовых актов Губернатора и Правительства Ульяновской области"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Законодательного Собрания Ульяновской области от 28 мая 2009 г. N 348/28-4 «О назначении на должность уполномоченного по противодействию коррупции в Ульяновской области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Губернатора Ульяновской области от 23 апреля 2009 г. № 31 «Об утверждении Порядка проведения антикоррупционной экспертизы законов, иных нормативных правовых актов Ульяновской области и их проектов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Ульяновской области от 22 июля 2008 г. № 14/329-П «Об утверждении областной целевой программы «Противодействие коррупции в Ульяновской области» на 2008 – 2010 год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Ульяновской области от 5 июня 2007 г. N 77-ЗО «О противодействии коррупции в Ульяновской области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Губернатора Ульяновской области от 19 апреля 2007 г. N 28 «О координационном совете по реализации антикоррупционной политики в Ульяновской обла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06BE-8DB5-44DD-BDE4-51850E39325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Четырехкратный эффект корруп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и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новники государственных учреждений и органов преступают закон,  когда используют служебное положение для личной выгоды. Наибольший вред коррупция наносит странам с развивающейся демократ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национального богатства. Размещение дефицитных государственных средств в неэкономичные проекты. Удерживание инвести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ен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рывает доверие граждан к власти. Крушение надежд и общая апатия в разочарованном обществе приводят к его гражданской слаб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режное использование природных ресурсов. Неудовлетворительная система регул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E8E3-A0DA-40D2-AB9E-D0F383ED73C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абочее определение «коррупции» -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ожно ли определить цену корруп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к коррупция влияет на человеческую жизн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иведите п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имеры корруп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ррупция процветает там, гд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BC18-4905-45EB-9BC4-C8DCBE7F721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бочее определение коррупции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Злоупотребление служебным положением </a:t>
            </a:r>
            <a:r>
              <a:rPr b="1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 целью получения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ичной выгод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CED2-4EBD-4C5F-9401-B7B9726868C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жно ли определить цену коррупции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ча взяток не фиксируется, и они не всегда имеют денежную форму: одолжения, подарки и 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ще сложнее дать коррупции количественное определение в социальном аспекте: цена крушения иллюзий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E43A-D04B-498D-8F48-1C8AB689BEE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к коррупция влияет на человеческую жизнь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0122-52BF-47E2-BE26-F5CB36B7751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меры коррупции</a:t>
            </a:r>
            <a:r>
              <a:rPr b="0" lang="da-DK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4D59-A196-4479-8CB3-39D7E989177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ррупция процветает там, где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66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</a:t>
            </a:r>
            <a:r>
              <a:rPr b="0" lang="da-DK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лазн сосуществует с вседозволенно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66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</a:t>
            </a:r>
            <a:r>
              <a:rPr b="0" lang="en-ZA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 проводятся проверки в учреждения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66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</a:t>
            </a:r>
            <a:r>
              <a:rPr b="0" lang="en-ZA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оцесс принятия важных решений проходит в закрытом поряд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66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ктически отсутствует гражданское общ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66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громное неравенство в распределении богатства обрекает людей на нище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8CAD-E6C8-4F43-8688-AE6CCB805BD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00BA-BBE3-4802-A17E-C527D15A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DC45-3FE2-4082-A7D6-CFE2E748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2491-BB31-4A88-A84E-EA67AF473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751B-A5F2-46DC-87DD-44E88807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1EDA-F6CA-4D30-8021-F9CA2824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EDCE-8761-42B3-AE32-569905D2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35E7-E475-4CDC-A351-E410711B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DB24-DD51-46E0-ADCC-BA2F0B2B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10DC-3CD8-46D4-9A9F-2BB93784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E93B-F792-4117-9749-C9BAEBBB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060D-5150-4071-ABD7-387B2E5D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242C-8D03-4CC9-94BE-85C9CA8F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4F59-3D6E-4FFE-99DF-77D978E6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6D11-2C71-4978-804C-694A7FBF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B5D1-DB22-4841-9F7E-FD4C9C04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B8E2-271B-4E56-9F32-58964676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DFDC-9352-4E02-981F-0D011143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9C0C-57AD-4928-886F-5971D48D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C9A6-45B1-44A3-B20D-C061036C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DEB1-9AA9-496C-889C-A2F29A44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76CC-070D-4D7C-B2DD-09E42357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241E-5306-47B4-884D-53532648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E7E9-7D1D-44CB-85A3-ED19C017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CE2A-1BDF-4629-8A34-BF896582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7D19-7085-47BF-82CB-8AD2278F71A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F13B-F1E8-4984-BFE5-C26F1EDD40A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onsultant.ru/online/base/?req=doc;base=LAW;n=116687#p28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77;&#1079;&#1080;&#1076;&#1077;&#1085;&#1090;_&#1056;&#1060;" TargetMode="External"/><Relationship Id="rId2" Type="http://schemas.openxmlformats.org/officeDocument/2006/relationships/hyperlink" Target="http://ru.wikipedia.org/wiki/&#1052;&#1077;&#1076;&#1074;&#1077;&#1076;&#1077;&#1074;,_&#1044;&#1084;&#1080;&#1090;&#1088;&#1080;&#1081;_&#1040;&#1085;&#1072;&#1090;&#1086;&#1083;&#1100;&#1077;&#1074;&#1080;&#1095;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72;&#1094;&#1080;&#1086;&#1085;&#1072;&#1083;&#1100;&#1085;&#1099;&#1081;_&#1087;&#1083;&#1072;&#1085;_&#1087;&#1088;&#1086;&#1090;&#1080;&#1074;&#1086;&#1076;&#1077;&#1081;&#1089;&#1090;&#1074;&#1080;&#1103;_&#1082;&#1086;&#1088;&#1088;&#1091;&#1087;&#1094;&#1080;&#1080;#.D0.A0.D0.B0.D0.B7.D0.B4.D0.B5.D0.BB_I._.D0.9C.D0.B5.D1.80.D1.8B_.D0.BF.D0.BE_.D0.B7.D0.B0.D0.BA.D0.BE.D0.BD.D0.BE.D0.B4.D0.B0.D1.82.D0.B5.D0.BB.D1.8C.D0.BD.D0.BE.D0.BC.D1.83_.D0.BE.D0.B1.D0.B5.D1.81.D0.BF.D0.B5.D1.87.D0.B5.D0.BD.D0.B8.D1.8E_.D0.BF.D1.80.D0.BE.D1.82.D0.B8.D0.B2.D0.BE.D0.B4.D0.B5.D0.B9.D1.81.D1.82.D0.B2.D0.B8.D1.8F_.D0.BA.D0.BE.D1.80.D1.80.D1.83.D0.BF.D1.86.D0.B8.D0.B8" TargetMode="External"/><Relationship Id="rId2" Type="http://schemas.openxmlformats.org/officeDocument/2006/relationships/hyperlink" Target="http://ru.wikipedia.org/wiki/&#1053;&#1072;&#1094;&#1080;&#1086;&#1085;&#1072;&#1083;&#1100;&#1085;&#1099;&#1081;_&#1087;&#1083;&#1072;&#1085;_&#1087;&#1088;&#1086;&#1090;&#1080;&#1074;&#1086;&#1076;&#1077;&#1081;&#1089;&#1090;&#1074;&#1080;&#1103;_&#1082;&#1086;&#1088;&#1088;&#1091;&#1087;&#1094;&#1080;&#1080;#.D0.A0.D0.B0.D0.B7.D0.B4.D0.B5.D0.BB_II._.D0.9C.D0.B5.D1.80.D1.8B_.D0.BF.D0.BE_.D1.81.D0.BE.D0.B2.D0.B5.D1.80.D1.88.D0.B5.D0.BD.D1.81.D1.82.D0.B2.D0.BE.D0.B2.D0.B0.D0.BD.D0.B8.D1.8E_.D0.B3.D0.BE.D1.81.D1.83.D0.B4.D0.B0.D1.80.D1.81.D1.82.D0.B2.D0.B5.D0.BD.D0.BD.D0.BE.D0.B3.D0.BE_.D1.83.D0.BF.D1.80.D0.B0.D0.B2.D0.BB.D0.B5.D0.BD.D0.B8.D1.8F_.D0.B2_.D1.86.D0.B5.D0.BB.D1.8F.D1.85_.D0.BF.D1.80.D0.B5.D0.B4.D1.83.D0.BF.D1.80.D0.B5.D0.B6.D0.B4.D0.B5.D0.BD.D0.B8.D1.8F_.D0.BA.D0.BE.D1.80.D1.80.D1.83.D0.BF.D1.86.D0.B8.D0.B8" TargetMode="External"/><Relationship Id="rId3" Type="http://schemas.openxmlformats.org/officeDocument/2006/relationships/hyperlink" Target="http://ru.wikipedia.org/wiki/&#1053;&#1072;&#1094;&#1080;&#1086;&#1085;&#1072;&#1083;&#1100;&#1085;&#1099;&#1081;_&#1087;&#1083;&#1072;&#1085;_&#1087;&#1088;&#1086;&#1090;&#1080;&#1074;&#1086;&#1076;&#1077;&#1081;&#1089;&#1090;&#1074;&#1080;&#1103;_&#1082;&#1086;&#1088;&#1088;&#1091;&#1087;&#1094;&#1080;&#1080;#.D0.A0.D0.B0.D0.B7.D0.B4.D0.B5.D0.BB_III._.D0.9C.D0.B5.D1.80.D1.8B_.D0.BF.D0.BE_.D0.BF.D0.BE.D0.B2.D1.8B.D1.88.D0.B5.D0.BD.D0.B8.D1.8E_.D0.BF.D1.80.D0.BE.D1.84.D0.B5.D1.81.D1.81.D0.B8.D0.BE.D0.BD.D0.B0.D0.BB.D1.8C.D0.BD.D0.BE.D0.B3.D0.BE_.D1.83.D1.80.D0.BE.D0.B2.D0.BD.D1.8F_.D1.8E.D1.80.D0.B8.D0.B4.D0.B8.D1.87.D0.B5.D1.81.D0.BA.D0.B8.D1.85_.D0.BA.D0.B0.D0.B4.D1.80.D0.BE.D0.B2_.D0.B8_.D0.BF.D1.80.D0.B0.D0.B2.D0.BE.D0.B2.D0.BE.D0.BC.D1.83_.D0.BF.D1.80.D0.BE.D1.81.D0.B2.D0.B5.D1.89.D0.B5.D0.BD.D0.B8.D1.8E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anticorrupt-ul.ru/laws/regional/210r.html" TargetMode="External"/><Relationship Id="rId2" Type="http://schemas.openxmlformats.org/officeDocument/2006/relationships/hyperlink" Target="http://anticorrupt-ul.ru/laws/regional/izm_ocp_protivod_corrupcii_2008-2012.html" TargetMode="External"/><Relationship Id="rId3" Type="http://schemas.openxmlformats.org/officeDocument/2006/relationships/hyperlink" Target="http://anticorrupt-ul.ru/laws/regional/proect_npa.html" TargetMode="External"/><Relationship Id="rId4" Type="http://schemas.openxmlformats.org/officeDocument/2006/relationships/hyperlink" Target="http://anticorrupt-ul.ru/laws/regional/post_zso_nazn_upolnom.html" TargetMode="External"/><Relationship Id="rId5" Type="http://schemas.openxmlformats.org/officeDocument/2006/relationships/hyperlink" Target="http://anticorrupt-ul.ru/laws/regional/pravila_expertizy.html" TargetMode="External"/><Relationship Id="rId6" Type="http://schemas.openxmlformats.org/officeDocument/2006/relationships/hyperlink" Target="http://anticorrupt-ul.ru/laws/regional/programma2008-2010.html" TargetMode="External"/><Relationship Id="rId7" Type="http://schemas.openxmlformats.org/officeDocument/2006/relationships/hyperlink" Target="http://anticorrupt-ul.ru/laws/regional/zuo_o_prot_corrupcii.html" TargetMode="External"/><Relationship Id="rId8" Type="http://schemas.openxmlformats.org/officeDocument/2006/relationships/hyperlink" Target="http://anticorrupt-ul.ru/laws/regional/post_guo_ob_anticor_sovete.html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Что такое коррупция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482760" y="1341360"/>
            <a:ext cx="8207280" cy="47815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К сферам деятельности, которые в наибольшей степени подвержены коррупции в России, относятся:</a:t>
            </a:r>
            <a:br>
              <a:rPr sz="24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аможенные служб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дицинские организаци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втоинспекци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удебные орган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логовые орган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авоохранительные орган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ицензирование и регистрация предпринимательской деятельност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ыдача разрешений на размещение и проведение банковских операций с бюджетными средствам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лучение кредитов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лучение экспортных квот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нкурсы на закупку товаров/услуг за счёт бюджетных средств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роительство и ремонт за счёт бюджетных средств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отариальное удостоверение сделок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нтроль за соблюдением условий лицензирования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дзор за соблюдением правил охоты и рыболовства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свобождение от призыва на военную службу в вооружённые сил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ступление в государственные высшие учебные заведения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осударственная регистрация, аттестация и аккредитация негосударственных высших учебных заведений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ием на службу, позволяющую иметь значительный незаконный доход от должности в государственных и муниципальных учреждениях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ормирование партийных избирательных списк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Каков вред от коррупции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201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5" descr="ANd9GcTu9zv0_k0gB6vIeP-e5ltdHNB2UZJfoKphdZWdHlsUanOJdHMB"/>
          <p:cNvPicPr/>
          <p:nvPr/>
        </p:nvPicPr>
        <p:blipFill>
          <a:blip r:embed="rId1"/>
          <a:stretch/>
        </p:blipFill>
        <p:spPr>
          <a:xfrm>
            <a:off x="900000" y="1700280"/>
            <a:ext cx="7056720" cy="408456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Вред от корруп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еэффективное распределение и расходование государственных средств и ресурсов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еэффективность коррупционных финансовых потоков с точки зрения экономики стран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отери налогов, когда налоговые органы присваивают себе часть налогов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отери времени из-за чинимых препятствий, снижение эффективности работы государственного аппарата в целом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разорение частных предпринимателей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снижение инвестиций в производство, замедление экономического роста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онижение качества общественного сервиса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ецелевое использование международной помощи развивающимся странам, что резко снижает её эффективность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еэффективное использование способностей индивидов: вместо производства материальных благ люди тратят время на непродуктивный поиск рент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рост социального неравенства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усиление организованной преступности — банды превращаются в мафию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ущерб политической легитимности власт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снижение общественной морал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3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Что такое противодействие коррупции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6920" y="2923920"/>
            <a:ext cx="6480360" cy="31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5" descr="ANd9GcRHNpqcNRnAkb-2YXdVmKrrLnR_3GE3cC9_P5P-mUnxXLmc4QjB1Q"/>
          <p:cNvPicPr/>
          <p:nvPr/>
        </p:nvPicPr>
        <p:blipFill>
          <a:blip r:embed="rId1"/>
          <a:stretch/>
        </p:blipFill>
        <p:spPr>
          <a:xfrm>
            <a:off x="1187280" y="2997360"/>
            <a:ext cx="6409080" cy="307944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отиводействие коррупции- это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деятельность федеральных органов государственной власти, органов государственной власти субъектов Российской Федерации, органов местного самоуправления, институтов гражданского общества, организаций и физических лиц в пределах их полномочий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) по предупреждению коррупции, в том числе по выявлению и последующему устранению причин коррупции (профилактика коррупции)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б) по выявлению, предупреждению, пресечению, раскрытию и расследованию коррупционных правонарушений (борьба с коррупцией)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) по минимизации и (или) ликвидации последствий коррупционных правонарушени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Принципы противодействия коррупции в Российской Федерации:</a:t>
            </a:r>
            <a:br>
              <a:rPr sz="28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1) признание, обеспечение и защита основных прав и свобод человека и гражданина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2) законность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3) публичность и открытость деятельности государственных органов и органов местного самоуправления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4) неотвратимость ответственности за совершение коррупционных правонарушений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5) комплексное использование политических, организационных, информационно-пропагандистских, социально-экономических, правовых, специальных и иных мер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6) приоритетное применение мер по предупреждению коррупции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7) сотрудничество государства с институтами гражданского общества, международными организациями и физическими лицами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Функции органов государственной власти в области борьбы с коррупцией распределяются следующим образом: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762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зидент Российской Федераци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определяет основные направления государственной политики в области противодействия коррупц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устанавливает компетенцию федеральных органов исполнительной власти, руководство деятельностью которых он осуществляет, в области противодействия корруп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3397320" cy="475128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Times New Roman"/>
              </a:rPr>
              <a:t>Федеральное Собрание Российской Федера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еспечивает разработку и принятие федеральных законов по вопросам противодействия коррупции, а также контролирует деятельность органов исполнительной власти в пределах своих полномочий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Picture 8" descr="ANd9GcST5ZS8lkkwYHT5cqlSuxA2PKy3gsOrrARoJoAY-cOy5qcON1L6"/>
          <p:cNvPicPr/>
          <p:nvPr/>
        </p:nvPicPr>
        <p:blipFill>
          <a:blip r:embed="rId1"/>
          <a:stretch/>
        </p:blipFill>
        <p:spPr>
          <a:xfrm>
            <a:off x="4788000" y="1700280"/>
            <a:ext cx="3456000" cy="33843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авительство Российской Федера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пределяет функции между федеральными органами исполнительной власти, руководство деятельностью которых оно осуществляет, по противодействию коррупц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Picture 6" descr="ANd9GcTRrx9cE96PpjXZAmgCq_oxAz2ZhBPtiYnsfiqB9OEkakbYsz6g"/>
          <p:cNvPicPr/>
          <p:nvPr/>
        </p:nvPicPr>
        <p:blipFill>
          <a:blip r:embed="rId1"/>
          <a:stretch/>
        </p:blipFill>
        <p:spPr>
          <a:xfrm>
            <a:off x="4716360" y="1628640"/>
            <a:ext cx="3959280" cy="439272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Генеральный прокурор Российской Федера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подчиненные ему прокуроры в пределах своих полномочий координируют деятельность органов внутренних дел Российской Федерации, органов федеральной службы безопасности, таможенных органов Российской Федерации и других правоохранительных органов по борьбе с коррупцией и реализуют иные полномочия в области противодействия коррупции, установленные федеральными закон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1"/>
          <a:stretch/>
        </p:blipFill>
        <p:spPr>
          <a:xfrm>
            <a:off x="4932360" y="1989000"/>
            <a:ext cx="3789360" cy="403236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ФЕДЕРАЛЬНЫЙ ЗАКОН </a:t>
            </a:r>
            <a:br>
              <a:rPr sz="2400"/>
            </a:b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О ПРОТИВОДЕЙСТВИИ КОРРУПЦИИ</a:t>
            </a:r>
            <a:br>
              <a:rPr sz="2400"/>
            </a:b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25 декабря 2008 года №273-ФЗ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ррупц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злоупотребление служебным положением, дача взятки, получение взятки, злоупотребление полномочиями, коммерческий подкуп либо иное незаконное использование физическим лицом своего должностного положения вопреки законным интересам общества и государства в целях получения выгоды в виде денег, ценностей, иного имущества или услуг имущественного характера, иных имущественных прав для себя или для третьих лиц либо незаконное предоставление такой выгоды указанному лицу другими физическими лиц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 совершение деяний, указанных в 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imes New Roman"/>
                <a:hlinkClick r:id="rId1"/>
              </a:rPr>
              <a:t>подпункте "а"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настоящего пункта, от имени или в интересах юридического лиц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Счетная палата Российской Федерации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пределах своих полномочий обеспечивает противодействие коррупци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трольные полномочия Счетной палаты распространяются на все государственные органы (в том числе их аппараты) и учреждения в Российской Федерации, на федеральные внебюджетные фонды, государственные корпорации и государственные компан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AutoShape 10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Picture 12" descr="ANd9GcSovK36d-mTrcOZ7NRGZVqjgyaD1ruvrF8Sn4nJUjZTuCyh_uc9vA"/>
          <p:cNvPicPr/>
          <p:nvPr/>
        </p:nvPicPr>
        <p:blipFill>
          <a:blip r:embed="rId1"/>
          <a:stretch/>
        </p:blipFill>
        <p:spPr>
          <a:xfrm>
            <a:off x="4716360" y="1628640"/>
            <a:ext cx="3981600" cy="38163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Федеральные органы государственной власти, органы государственной власти субъектов Российской Федерации и органы местного самоуправления осуществляют </a:t>
            </a:r>
            <a:br>
              <a:rPr sz="2400"/>
            </a:b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противодействие коррупции</a:t>
            </a:r>
            <a:br>
              <a:rPr sz="2400"/>
            </a:b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 в пределах своих полномочий.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923920"/>
            <a:ext cx="8229600" cy="32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5" descr="ANd9GcTQMwfPYpLxhdlq4bU9H6eVIYJMZo8BB4AEQjkWbkX4tRILxBtQ"/>
          <p:cNvPicPr/>
          <p:nvPr/>
        </p:nvPicPr>
        <p:blipFill>
          <a:blip r:embed="rId1"/>
          <a:stretch/>
        </p:blipFill>
        <p:spPr>
          <a:xfrm>
            <a:off x="611280" y="2997360"/>
            <a:ext cx="8064360" cy="309564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Национальный план противодействия коррупции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кумент программного характера, утверждённый 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Президентом РФ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Д. А. Медведевы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31 июля 2008 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Picture 5" descr="ANd9GcToqjVQugu__wywjTjxfLPHFbjyuJJ2thpwP2inWuVm8nkOmP1e"/>
          <p:cNvPicPr/>
          <p:nvPr/>
        </p:nvPicPr>
        <p:blipFill>
          <a:blip r:embed="rId3"/>
          <a:stretch/>
        </p:blipFill>
        <p:spPr>
          <a:xfrm>
            <a:off x="2195640" y="3284640"/>
            <a:ext cx="4319640" cy="316872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НАЦИОНАЛЬНЫЙ ПЛАН включает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I. Меры по законодательному обеспечению противодействия корруп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II. Меры по совершенствованию государственного управления в целях предупреждения корруп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III. Меры по повышению профессионального уровня юридических кадров и правовому просвещени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49780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a500"/>
                </a:solidFill>
                <a:latin typeface="Arial"/>
              </a:rPr>
              <a:t>Антикоррупционное законодательство Ульяновской области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87854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1"/>
              </a:rPr>
              <a:t>Распоряжение Губернатора Ульяновской области от 25.05.2011 № 210-р «О дополнительных мерах по противодействию коррупции в Ульяновской области»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2"/>
              </a:rPr>
              <a:t>Постановление Правительства Ульяновской области № 36-325-П от 06.10.2010 "О внесении изменений в постановление Правительства Ульяновской области от 22.07.2008 № 14/329-П"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3"/>
              </a:rPr>
              <a:t>Постановление Губернатора Ульяновской области от 13 июля 2009 г. № 49 "Об утверждении Правил подготовки и издания правовых актов Губернатора и Правительства Ульяновской области"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4"/>
              </a:rPr>
              <a:t>Постановление Законодательного Собрания Ульяновской области от 28 мая 2009 г. N 348/28-4 «О назначении на должность уполномоченного по противодействию коррупции в Ульяновской области»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5"/>
              </a:rPr>
              <a:t>Постановление Губернатора Ульяновской области от 23 апреля 2009 г. № 31 «Об утверждении Порядка проведения антикоррупционной экспертизы законов, иных нормативных правовых актов Ульяновской области и их проектов»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6"/>
              </a:rPr>
              <a:t>Постановление Правительства Ульяновской области от 22 июля 2008 г. № 14/329-П «Об утверждении областной целевой программы «Противодействие коррупции в Ульяновской области» на 2008 – 2010 годы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7"/>
              </a:rPr>
              <a:t>Закон Ульяновской области от 5 июня 2007 г. N 77-ЗО «О противодействии коррупции в Ульяновской области»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8"/>
              </a:rPr>
              <a:t>Постановление Губернатора Ульяновской области от 19 апреля 2007 г. N 28 «О координационном совете по реализации антикоррупционной политики в Ульяновской области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Четырехкратный эффект коррупции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литиче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иновники государственных учреждений и органов преступают закон,  когда используют служебное положение для личной выгоды. Наибольший вред коррупция наносит странам с развивающейся демократи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кономиче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кращение национального богатства. Размещение дефицитных государственных средств в неэкономичные проекты. Удерживание инвестици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бщественны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рывает доверие граждан к власти. Крушение надежд и общая апатия в разочарованном обществе приводят к его гражданской слабост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кологиче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брежное использование природных ресурсов. Неудовлетворительная система регулирова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Рабочее определение «коррупции» -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Можно ли определить цену коррупц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Как коррупция влияет на человеческую жизн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Приведите п</a:t>
            </a: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римеры корруп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Коррупция процветает там, где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 Unicode MS"/>
                <a:ea typeface="Arial Unicode MS"/>
              </a:rPr>
              <a:t>Рабочее определение коррупции</a:t>
            </a:r>
            <a:br>
              <a:rPr sz="28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9152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«Злоупотребление служебным положением </a:t>
            </a:r>
            <a:r>
              <a:rPr b="1" i="1" lang="ru-RU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с целью получения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личной выгоды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9" descr="1_1381"/>
          <p:cNvPicPr/>
          <p:nvPr/>
        </p:nvPicPr>
        <p:blipFill>
          <a:blip r:embed="rId1"/>
          <a:stretch/>
        </p:blipFill>
        <p:spPr>
          <a:xfrm>
            <a:off x="826920" y="2997360"/>
            <a:ext cx="7561440" cy="35827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Можно ли определить цену коррупции?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ча взяток не фиксируется, и они не всегда имеют денежную форму: одолжения, подарки и т.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ще сложнее дать коррупции количественное определение в социальном аспекте: цена крушения иллюзий…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 Unicode MS"/>
                <a:ea typeface="Arial Unicode MS"/>
              </a:rPr>
              <a:t>Как коррупция влияет на человеческую жизнь?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0" name="Picture 3" descr="C:\Documents and Settings\mikkel\Desktop\Corruption pictures\free\corrup1.jpg"/>
          <p:cNvPicPr/>
          <p:nvPr/>
        </p:nvPicPr>
        <p:blipFill>
          <a:blip r:embed="rId1"/>
          <a:stretch/>
        </p:blipFill>
        <p:spPr>
          <a:xfrm>
            <a:off x="5219640" y="4221000"/>
            <a:ext cx="2468520" cy="2273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0001r97w"/>
          <p:cNvPicPr/>
          <p:nvPr/>
        </p:nvPicPr>
        <p:blipFill>
          <a:blip r:embed="rId2"/>
          <a:stretch/>
        </p:blipFill>
        <p:spPr>
          <a:xfrm>
            <a:off x="4788000" y="1197000"/>
            <a:ext cx="3352680" cy="2685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korrupziya2"/>
          <p:cNvPicPr/>
          <p:nvPr/>
        </p:nvPicPr>
        <p:blipFill>
          <a:blip r:embed="rId3"/>
          <a:stretch/>
        </p:blipFill>
        <p:spPr>
          <a:xfrm>
            <a:off x="1332000" y="1557360"/>
            <a:ext cx="2857320" cy="426708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 Unicode MS"/>
                <a:ea typeface="Arial Unicode MS"/>
              </a:rPr>
              <a:t>Примеры коррупции</a:t>
            </a:r>
            <a:r>
              <a:rPr b="0" lang="da-DK" sz="4000" spc="-1" strike="noStrike">
                <a:solidFill>
                  <a:srgbClr val="dbbd71"/>
                </a:solidFill>
                <a:latin typeface="Arial Unicode MS"/>
                <a:ea typeface="Arial Unicode MS"/>
              </a:rPr>
              <a:t>: 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3" descr="C:\Documents and Settings\mikkel\Desktop\Corruption pictures\free\policecorruption.jpg"/>
          <p:cNvPicPr/>
          <p:nvPr/>
        </p:nvPicPr>
        <p:blipFill>
          <a:blip r:embed="rId1"/>
          <a:stretch/>
        </p:blipFill>
        <p:spPr>
          <a:xfrm>
            <a:off x="4932360" y="1700280"/>
            <a:ext cx="3960720" cy="3313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C:\Documents and Settings\mikkel\Desktop\Corruption pictures\free\corrup8.jpg"/>
          <p:cNvPicPr/>
          <p:nvPr/>
        </p:nvPicPr>
        <p:blipFill>
          <a:blip r:embed="rId2"/>
          <a:stretch/>
        </p:blipFill>
        <p:spPr>
          <a:xfrm>
            <a:off x="324000" y="3716280"/>
            <a:ext cx="3960720" cy="2979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C:\Documents and Settings\mikkel\Desktop\Corruption pictures\Cleared\newbribe.jpg"/>
          <p:cNvPicPr/>
          <p:nvPr/>
        </p:nvPicPr>
        <p:blipFill>
          <a:blip r:embed="rId3"/>
          <a:stretch/>
        </p:blipFill>
        <p:spPr>
          <a:xfrm>
            <a:off x="900000" y="1484280"/>
            <a:ext cx="2808360" cy="19033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 Unicode MS"/>
                <a:ea typeface="Arial Unicode MS"/>
              </a:rPr>
              <a:t>Коррупция процветает там, где…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С</a:t>
            </a:r>
            <a:r>
              <a:rPr b="0" lang="da-DK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блазн сосуществует с вседозволенность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Н</a:t>
            </a:r>
            <a:r>
              <a:rPr b="0" lang="en-ZA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е проводятся проверки в учреждения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П</a:t>
            </a:r>
            <a:r>
              <a:rPr b="0" lang="en-ZA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роцесс принятия важных решений проходит в закрытом поряд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Практически отсутствует гражданское обще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громное неравенство в распределении богатства обрекает людей на нище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6:34:17Z</dcterms:created>
  <dc:creator>Диво</dc:creator>
  <dc:description/>
  <dc:language>en-US</dc:language>
  <cp:lastModifiedBy>LEGION</cp:lastModifiedBy>
  <dcterms:modified xsi:type="dcterms:W3CDTF">2014-11-10T08:14:57Z</dcterms:modified>
  <cp:revision>16</cp:revision>
  <dc:subject/>
  <dc:title>Меры по противодействию коррупции в федеральных органах государственной власти и органах исполнительной власти Ульяновской области</dc:title>
</cp:coreProperties>
</file>