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057E6-EA67-4B17-9128-C47A05A888C7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ff"/>
                </a:solidFill>
                <a:latin typeface="Calibri"/>
              </a:rPr>
              <a:t>Оды Михаила Васильевича Ломонос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1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F3316-1A53-41B5-9240-503F279F3C4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ff33"/>
                </a:solidFill>
                <a:latin typeface="Calibri"/>
              </a:rPr>
              <a:t>Ода 1750 г. посвящена точным наукам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ройдите землю и пучину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И степи, и глубокий лес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И нутр Рифейский, и вершину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И саму высоту небес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Везде исследуйте всечасно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Что есть велико и прекрасно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Чего еще не видел свет…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2E0E9-248A-4895-8519-D98ED31B7BA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ольшое количество од Ломоносов посвятил Елизавете Петровн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…Какую радость ощущаю?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да я ныне восхищен?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бесну пищу я вкушаю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верьх Олимпа вознесен!»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7D0C5-6ECA-4953-B63A-D3CB37EA199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1"/>
                </a:solidFill>
                <a:latin typeface="Calibri"/>
              </a:rPr>
              <a:t>Важное место отводит поэт так называемым украшениям: олицетворениям, метафорам, аллегориям и гиперболам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Тогда божественны науки  чрез горы, реки и моря  в Россию простирали руки»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Или я ныне позабылась  и с одного пути склонилась,  которым прежде я текла?»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 полях кровавых Марс страшился, свой меч в Петровых зря руках,  и с трепетом Нептун чудился,  взирая на российский флаг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BC030-C8D2-4032-AE0A-EA97E089F96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XVIII в. кроме Ломоносова духовные оды писали Тредиаковский, Сумароков,Державин, Херасков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68F9F-B087-44FD-95C4-D99A1CBB12D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уховных одах  Ломоносова отчетливо прослеживаются две темы: восхищение гармонией, красотой мироздания и гневное обличение гонителей, недоброжелателей поэт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зык духовных од лаконичен и лишен всякого рода "украшений"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C1203-2D10-493F-B313-079564D3241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оторые из духовных од Ломоносова стали «кантами».Особенно был известен 145-й псалом, начинавшийся словами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Никто не уповай вовеки на тщетну     власть князей земных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E50B6-4B29-4BF5-B44E-10A4B6E319D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ff"/>
                </a:solidFill>
                <a:latin typeface="Calibri"/>
              </a:rPr>
              <a:t>Спасибо за внимание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47731-1922-4B58-964D-95FBC01FAA8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01"/>
                </a:solidFill>
                <a:latin typeface="Calibri"/>
              </a:rPr>
              <a:t>Од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лирический жанр, пришедший в европейскую литературу из античной поэз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1200" spc="-1" strike="noStrike">
                <a:solidFill>
                  <a:srgbClr val="ffccff"/>
                </a:solidFill>
                <a:latin typeface="Calibri"/>
              </a:rPr>
              <a:t>Ви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обедно-патриотическа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охвальна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философска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духовна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анакреонтическа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3E9CC-DED7-4A48-A10F-9A99A8FBF53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вая ода Ломоносова – «Ода на взятие Хотин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F0E06-1B1B-4444-AEC0-9BD8E157E6E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400" spc="-1" strike="noStrike">
                <a:solidFill>
                  <a:srgbClr val="ffff01"/>
                </a:solidFill>
                <a:latin typeface="Calibri"/>
              </a:rPr>
              <a:t>В оде Ломоносова выделяется три основные части: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тупл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ображение военных действ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лавление победител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C0572-01FD-4B0D-AD54-109015D3B8B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ff"/>
                </a:solidFill>
                <a:latin typeface="Calibri"/>
              </a:rPr>
              <a:t>О подвиге безымянного героя Ломоносов пишет с восхищением: 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…Крепит отечества любов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ынов российских дух и руку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Желает всяк пролить всю кровь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От грозного бодрится звуку…»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551D5-E2FD-4A36-8173-8AEE77CCBA5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Большая часть од Ломоносова была написана по случаю дней восшествия на престол монархов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не Иоанновн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оанну Антоновичу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лизавете Петровн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тру III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катерине I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C4224-8B48-44BA-8EAB-372164B5923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тавниками и помощниками царей должны быть не льстивые царедворцы, а люди, бескорыстно служащие истине, - ученые и писат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E1AF0-66B2-4042-A621-FE30687911F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ы Ломоносова отражают многие события того вре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439E0-CA89-4D97-8162-F7DDBAFFA51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ой задачей Ломоносов считал распространение наук, которые помогут овладеть природным богатством России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C3E19-D3E8-444F-A1BF-847D7327C44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88469-52DF-4688-842E-3A8A4F3CF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B0CEE-FF6C-4784-88E3-59EB6F461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59C56-C493-4AEC-B794-D5EB312BC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54754-2C5A-4383-B05D-F4C6FD82C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783FD-895E-48A6-8CA0-05F4967C7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5D9A8-582A-49EB-870A-473E23A1F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E71E6-2D98-4A5E-90F7-DAD5971C9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90499-E5F2-4057-87C3-185ECD121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0E54E-8053-477D-8BC5-AC216CD82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DEBA7-4BF8-427C-80DA-DB415CC35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64973-E3C4-411C-8D8C-8E420C9CF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506E8-5036-42EC-96C7-051E9CEF8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23D63-E2CF-403A-BC95-FD4ADBD36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95837-046F-4AC8-9A3E-E9A5499D6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EF4FA-FA10-42DD-9004-E61A39C82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4A729-F487-42B8-9A0B-611BDE3A1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E6D76-D42A-4883-A026-1DBB85701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174C7-AD23-4D60-B702-D85B6881D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BD4BF-3775-4421-AF94-191935C33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CF59A-4F39-4365-ABE4-E2A406D6B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BABFC-8742-4475-812E-F18819219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F0417-81AF-46E1-8A41-EF1B8186F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2E799-238E-4A74-A6CE-C58E2A122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9C9E4-A716-4F32-BADB-A859A45E5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53B46-78A6-4A5D-8C4B-8F5B3BB58050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6DAF4-7CC0-40C9-B84C-D40501E94BCA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4360" y="612720"/>
            <a:ext cx="8229600" cy="1123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ffff"/>
                </a:solidFill>
                <a:latin typeface="Tahoma"/>
              </a:rPr>
              <a:t>Оды Михаила Васильевича Ломоносова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0" y="3832200"/>
            <a:ext cx="64008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1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9" descr="ломоносов"/>
          <p:cNvPicPr/>
          <p:nvPr/>
        </p:nvPicPr>
        <p:blipFill>
          <a:blip r:embed="rId1"/>
          <a:stretch/>
        </p:blipFill>
        <p:spPr>
          <a:xfrm>
            <a:off x="2916360" y="2387520"/>
            <a:ext cx="3173400" cy="4084560"/>
          </a:xfrm>
          <a:prstGeom prst="rect">
            <a:avLst/>
          </a:prstGeom>
          <a:ln w="0">
            <a:noFill/>
          </a:ln>
        </p:spPr>
      </p:pic>
      <p:sp>
        <p:nvSpPr>
          <p:cNvPr id="136" name="Скругленный прямоугольник 6">
            <a:hlinkClick r:id="rId2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ff33"/>
                </a:solidFill>
                <a:latin typeface="Tahoma"/>
              </a:rPr>
              <a:t>Ода 1750 г. посвящена точным наукам.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Пройдите землю и пучину,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И степи, и глубокий лес,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И нутр Рифейский, и вершину,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И саму высоту небес.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Везде исследуйте всечасно,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Что есть велико и прекрасно,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Чего еще не видел свет…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Большое количество од Ломоносов посвятил Елизавете Петровне: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4932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…Какую радость ощущаю?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уда я ныне восхищен?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бесну пищу я вкушаю,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 верьх Олимпа вознесен!»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Picture 9" descr="петровна"/>
          <p:cNvPicPr/>
          <p:nvPr/>
        </p:nvPicPr>
        <p:blipFill>
          <a:blip r:embed="rId1"/>
          <a:stretch/>
        </p:blipFill>
        <p:spPr>
          <a:xfrm>
            <a:off x="4932360" y="1700280"/>
            <a:ext cx="3649680" cy="40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6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4000" y="1052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01"/>
                </a:solidFill>
                <a:latin typeface="Tahoma"/>
              </a:rPr>
              <a:t>Важное место отводит поэт так называемым украшениям: олицетворениям, метафорам, аллегориям и гиперболам: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2492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Тогда божественны науки  чрез горы, реки и моря  в Россию простирали руки»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Или я ныне позабылась  и с одного пути склонилась,  которым прежде я текла?»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В полях кровавых Марс страшился, свой меч в Петровых зря руках,  и с трепетом Нептун чудился,  взирая на российский флаг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50560" y="277920"/>
            <a:ext cx="84358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В XVIII в. кроме Ломоносова духовные оды писали Тредиаковский, Сумароков,Державин, Херасков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3" name="Picture 9" descr="тре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116000" y="1700280"/>
            <a:ext cx="2336760" cy="25495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0" descr="сумjpg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4643280" y="1700280"/>
            <a:ext cx="2314800" cy="244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1" descr="дерjpg"/>
          <p:cNvPicPr/>
          <p:nvPr/>
        </p:nvPicPr>
        <p:blipFill>
          <a:blip r:embed="rId3"/>
          <a:stretch/>
        </p:blipFill>
        <p:spPr>
          <a:xfrm>
            <a:off x="1835280" y="3860640"/>
            <a:ext cx="2079360" cy="26211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2" descr="херасковjpg"/>
          <p:cNvPicPr/>
          <p:nvPr/>
        </p:nvPicPr>
        <p:blipFill>
          <a:blip r:embed="rId4"/>
          <a:stretch/>
        </p:blipFill>
        <p:spPr>
          <a:xfrm>
            <a:off x="4716360" y="3860640"/>
            <a:ext cx="2230560" cy="24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9640" y="981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духовных одах  Ломоносова отчетливо прослеживаются две темы: восхищение гармонией, красотой мироздания и гневное обличение гонителей, недоброжелателей поэта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Язык духовных од лаконичен и лишен всякого рода "украшений". 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которые из духовных од Ломоносова стали «кантами».Особенно был известен 145-й псалом, начинавшийся словами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"Никто не уповай вовеки на тщетну     власть князей земных"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7989840" cy="2879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cff"/>
                </a:solidFill>
                <a:latin typeface="Tahoma"/>
              </a:rPr>
              <a:t>Спасибо за внимание!!!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5280" y="549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01"/>
                </a:solidFill>
                <a:latin typeface="Tahoma"/>
              </a:rPr>
              <a:t>Ода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– лирический жанр, пришедший в европейскую литературу из античной поэз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ru-RU" sz="2800" spc="-1" strike="noStrike">
                <a:solidFill>
                  <a:srgbClr val="ffccff"/>
                </a:solidFill>
                <a:latin typeface="Tahoma"/>
              </a:rPr>
              <a:t>Виды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победно-патриотическа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похвальная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философска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духовна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анакреонтическа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cc"/>
                </a:solidFill>
                <a:latin typeface="Tahoma"/>
              </a:rPr>
              <a:t>Первая ода Ломоносова – «Ода на взятие Хотина»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0" name="Picture 5" descr="хотинj"/>
          <p:cNvPicPr/>
          <p:nvPr/>
        </p:nvPicPr>
        <p:blipFill>
          <a:blip r:embed="rId1"/>
          <a:stretch/>
        </p:blipFill>
        <p:spPr>
          <a:xfrm>
            <a:off x="1692360" y="1708200"/>
            <a:ext cx="5842080" cy="43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ffff01"/>
                </a:solidFill>
                <a:latin typeface="Tahoma"/>
              </a:rPr>
              <a:t>В оде Ломоносова выделяется три основные части: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ступлени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ображение военных действи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славление победителей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77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" dur="77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" dur="77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1" dur="77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000" y="1267920"/>
            <a:ext cx="821844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ccff"/>
                </a:solidFill>
                <a:latin typeface="Tahoma"/>
              </a:rPr>
              <a:t>О подвиге безымянного героя Ломоносов пишет с восхищением: </a:t>
            </a: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…Крепит отечества любовь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Сынов российских дух и руку: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Желает всяк пролить всю кровь,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От грозного бодрится звуку…»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9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ebf25a"/>
                </a:solidFill>
                <a:latin typeface="Tahoma"/>
              </a:rPr>
              <a:t>Большая часть од Ломоносова была написана по случаю дней восшествия на престол монархов: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нне Иоанновн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оанну Антоновичу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лизавете Петровне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етру III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катерине II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4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4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4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4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4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4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4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4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4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4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4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4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920" y="907560"/>
            <a:ext cx="4255920" cy="54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ставниками и помощниками царей должны быть не льстивые царедворцы, а люди, бескорыстно служащие истине, - ученые и писател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Picture 9" descr="vgjpg"/>
          <p:cNvPicPr/>
          <p:nvPr/>
        </p:nvPicPr>
        <p:blipFill>
          <a:blip r:embed="rId1"/>
          <a:stretch/>
        </p:blipFill>
        <p:spPr>
          <a:xfrm>
            <a:off x="4932360" y="1052640"/>
            <a:ext cx="35733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Оды Ломоносова отражают многие события того времени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1" name="Picture 11" descr="война1jpg"/>
          <p:cNvPicPr/>
          <p:nvPr/>
        </p:nvPicPr>
        <p:blipFill>
          <a:blip r:embed="rId1"/>
          <a:stretch/>
        </p:blipFill>
        <p:spPr>
          <a:xfrm>
            <a:off x="468360" y="1557360"/>
            <a:ext cx="3957480" cy="45306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2" descr="война2"/>
          <p:cNvPicPr/>
          <p:nvPr/>
        </p:nvPicPr>
        <p:blipFill>
          <a:blip r:embed="rId2"/>
          <a:stretch/>
        </p:blipFill>
        <p:spPr>
          <a:xfrm>
            <a:off x="4643280" y="1557360"/>
            <a:ext cx="40388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640" y="141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Главной задачей Ломоносов считал распространение наук, которые помогут овладеть природным богатством России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4" name="Picture 6" descr="наука"/>
          <p:cNvPicPr/>
          <p:nvPr/>
        </p:nvPicPr>
        <p:blipFill>
          <a:blip r:embed="rId1"/>
          <a:stretch/>
        </p:blipFill>
        <p:spPr>
          <a:xfrm>
            <a:off x="2484360" y="2637000"/>
            <a:ext cx="3759120" cy="40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2T17:14:42Z</dcterms:created>
  <dc:creator>BenQ CUSTOMER</dc:creator>
  <dc:description/>
  <dc:language>en-US</dc:language>
  <cp:lastModifiedBy>LEGION</cp:lastModifiedBy>
  <dcterms:modified xsi:type="dcterms:W3CDTF">2015-01-20T10:11:09Z</dcterms:modified>
  <cp:revision>5</cp:revision>
  <dc:subject/>
  <dc:title>Оды Михаила Васильевича Ломоносова</dc:title>
</cp:coreProperties>
</file>