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10FB3-8BDD-4838-BCEA-324A12B88960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ff"/>
                </a:solidFill>
                <a:latin typeface="Calibri"/>
              </a:rPr>
              <a:t>Оды Михаила Васильевича Ломонос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1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4BBF7-D57A-46E2-A75B-3D0B7AA9A54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ff33"/>
                </a:solidFill>
                <a:latin typeface="Calibri"/>
              </a:rPr>
              <a:t>Ода 1750 г. посвящена точным наука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ройдите землю и пучину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И степи, и глубокий лес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И нутр Рифейский, и вершину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И саму высоту небес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Везде исследуйте всечасно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Что есть велико и прекрасно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Чего еще не видел свет…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408CC-D70F-491B-B88C-5EB08817DD5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ольшое количество од Ломоносов посвятил Елизавете Петровн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…Какую радость ощущаю?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да я ныне восхищен?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бесну пищу я вкушаю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верьх Олимпа вознесен!»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B2A70-96F4-499B-AD81-C4C7FC6EA07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1"/>
                </a:solidFill>
                <a:latin typeface="Calibri"/>
              </a:rPr>
              <a:t>Важное место отводит поэт так называемым украшениям: олицетворениям, метафорам, аллегориям и гиперболам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Тогда божественны науки  чрез горы, реки и моря  в Россию простирали руки»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Или я ныне позабылась  и с одного пути склонилась,  которым прежде я текла?»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 полях кровавых Марс страшился, свой меч в Петровых зря руках,  и с трепетом Нептун чудился,  взирая на российский флаг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7B711-3A47-44B7-9F12-65A75D5CE09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XVIII в. кроме Ломоносова духовные оды писали Тредиаковский, Сумароков,Державин, Херасков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5EE49-C5D3-4068-8264-346FD8D1330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уховных одах  Ломоносова отчетливо прослеживаются две темы: восхищение гармонией, красотой мироздания и гневное обличение гонителей, недоброжелателей поэ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зык духовных од лаконичен и лишен всякого рода "украшений"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ACFD6-3D8C-4337-A496-19F3891DA86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торые из духовных од Ломоносова стали «кантами».Особенно был известен 145-й псалом, начинавшийся словами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Никто не уповай вовеки на тщетну     власть князей земных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5B8EC-C172-4023-965C-B8963F91BD4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ff"/>
                </a:solidFill>
                <a:latin typeface="Calibri"/>
              </a:rPr>
              <a:t>Спасибо за внимание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6DA66-DCF9-46B1-A4A2-526842C2764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01"/>
                </a:solidFill>
                <a:latin typeface="Calibri"/>
              </a:rPr>
              <a:t>Од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лирический жанр, пришедший в европейскую литературу из античной поэз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1200" spc="-1" strike="noStrike">
                <a:solidFill>
                  <a:srgbClr val="ffccff"/>
                </a:solidFill>
                <a:latin typeface="Calibri"/>
              </a:rPr>
              <a:t>Ви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обедно-патриотическ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охвальн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философск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духовн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анакреонтическа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27F55-D434-4978-BCF9-202782088BF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вая ода Ломоносова – «Ода на взятие Хотин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6C4DD-3963-47E4-8E5E-AF9180201F3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400" spc="-1" strike="noStrike">
                <a:solidFill>
                  <a:srgbClr val="ffff01"/>
                </a:solidFill>
                <a:latin typeface="Calibri"/>
              </a:rPr>
              <a:t>В оде Ломоносова выделяется три основные части: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тупл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ображение военных действ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лавление победител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B7320-F74C-4679-A008-24575AD3F6B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ff"/>
                </a:solidFill>
                <a:latin typeface="Calibri"/>
              </a:rPr>
              <a:t>О подвиге безымянного героя Ломоносов пишет с восхищением: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…Крепит отечества любов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ынов российских дух и руку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Желает всяк пролить всю кровь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От грозного бодрится звуку…»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8E488-FA3C-4B80-BC2D-33E12BC6E88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Большая часть од Ломоносова была написана по случаю дней восшествия на престол монархов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не Иоанновн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оанну Антоновичу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лизавете Петровн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ру III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катерине I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CC4B6-2451-4E0D-938F-BA79F73E0F5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тавниками и помощниками царей должны быть не льстивые царедворцы, а люди, бескорыстно служащие истине, - ученые и писат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407CA-538B-4904-92A9-5C3131FEB7A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ы Ломоносова отражают многие события того 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3FB76-FF98-4095-868E-46540D06549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ой задачей Ломоносов считал распространение наук, которые помогут овладеть природным богатством России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1BD31-A807-45AF-9A81-7AFB65D7C7D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3BFF8-EA57-4C79-B5E0-DB579E339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86DF8-4152-4AED-8B7A-579D826E2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A59D3-C6D2-47B2-8317-436B7E405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9E05C-342A-4632-99BB-9ADCD1F25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C4140-F227-436D-947B-F4F118541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E4FEA-A362-4C49-8CBF-909A82000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B5415-693F-4728-8DEC-9A2AB6B5C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C9973-00DB-4ADA-B47A-7DE200068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683C7-24D0-4F1D-948E-4BF5186EB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1672F-5107-4AA8-9195-9A1695F0A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3E29E-124C-4E70-9687-998DB082F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E7C64-5571-46E9-B75E-596D111FF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26BFC-874F-4636-867F-CAF9CF9C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5E716-B7CA-4FC4-B8F2-060509DFE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2ABAE-E7EF-449F-81B6-2AF77AD26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26D17-CE01-404A-9B59-AFE9EE46C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DD8A9-6580-4AA9-97B5-FC2A8D35D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BC895-1998-42C7-BAFC-B53558E03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B4264-92E0-47E1-AA77-F8B47CD6A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FB634-F021-43EC-916D-3ECD362D5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510E5-552F-431E-8A0D-7F6419837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949AA-434E-40DC-86AB-F4FC36247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BA47D-3927-40DA-8230-A4AB8D0C6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8FD2E-E2A5-40D4-9DE8-B8286D05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4EEEE-B0E7-45E8-87B3-C2DEFCD62D87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8349B-3389-4D37-B612-FCEDBEE237EF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4360" y="612720"/>
            <a:ext cx="8229600" cy="1123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ffff"/>
                </a:solidFill>
                <a:latin typeface="Tahoma"/>
              </a:rPr>
              <a:t>Оды Михаила Васильевича Ломоносова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0" y="3832200"/>
            <a:ext cx="64008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1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9" descr="ломоносов"/>
          <p:cNvPicPr/>
          <p:nvPr/>
        </p:nvPicPr>
        <p:blipFill>
          <a:blip r:embed="rId1"/>
          <a:stretch/>
        </p:blipFill>
        <p:spPr>
          <a:xfrm>
            <a:off x="2916360" y="2387520"/>
            <a:ext cx="3173400" cy="4084560"/>
          </a:xfrm>
          <a:prstGeom prst="rect">
            <a:avLst/>
          </a:prstGeom>
          <a:ln w="0">
            <a:noFill/>
          </a:ln>
        </p:spPr>
      </p:pic>
      <p:sp>
        <p:nvSpPr>
          <p:cNvPr id="136" name="Скругленный прямоугольник 6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ff33"/>
                </a:solidFill>
                <a:latin typeface="Tahoma"/>
              </a:rPr>
              <a:t>Ода 1750 г. посвящена точным наукам.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Пройдите землю и пучину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И степи, и глубокий лес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И нутр Рифейский, и вершину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И саму высоту небес.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Везде исследуйте всечасно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Что есть велико и прекрасно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Чего еще не видел свет…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Большое количество од Ломоносов посвятил Елизавете Петровне: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4932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…Какую радость ощущаю?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уда я ныне восхищен?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бесну пищу я вкушаю,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верьх Олимпа вознесен!»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Picture 9" descr="петровна"/>
          <p:cNvPicPr/>
          <p:nvPr/>
        </p:nvPicPr>
        <p:blipFill>
          <a:blip r:embed="rId1"/>
          <a:stretch/>
        </p:blipFill>
        <p:spPr>
          <a:xfrm>
            <a:off x="4932360" y="1700280"/>
            <a:ext cx="3649680" cy="40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1052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01"/>
                </a:solidFill>
                <a:latin typeface="Tahoma"/>
              </a:rPr>
              <a:t>Важное место отводит поэт так называемым украшениям: олицетворениям, метафорам, аллегориям и гиперболам: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2492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Тогда божественны науки  чрез горы, реки и моря  в Россию простирали руки»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Или я ныне позабылась  и с одного пути склонилась,  которым прежде я текла?»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В полях кровавых Марс страшился, свой меч в Петровых зря руках,  и с трепетом Нептун чудился,  взирая на российский флаг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4358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В XVIII в. кроме Ломоносова духовные оды писали Тредиаковский, Сумароков,Державин, Херасков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3" name="Picture 9" descr="тре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116000" y="1700280"/>
            <a:ext cx="2336760" cy="25495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0" descr="сумjpg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4643280" y="1700280"/>
            <a:ext cx="2314800" cy="244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1" descr="дерjpg"/>
          <p:cNvPicPr/>
          <p:nvPr/>
        </p:nvPicPr>
        <p:blipFill>
          <a:blip r:embed="rId3"/>
          <a:stretch/>
        </p:blipFill>
        <p:spPr>
          <a:xfrm>
            <a:off x="1835280" y="3860640"/>
            <a:ext cx="2079360" cy="26211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2" descr="херасковjpg"/>
          <p:cNvPicPr/>
          <p:nvPr/>
        </p:nvPicPr>
        <p:blipFill>
          <a:blip r:embed="rId4"/>
          <a:stretch/>
        </p:blipFill>
        <p:spPr>
          <a:xfrm>
            <a:off x="4716360" y="3860640"/>
            <a:ext cx="2230560" cy="24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9640" y="981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духовных одах  Ломоносова отчетливо прослеживаются две темы: восхищение гармонией, красотой мироздания и гневное обличение гонителей, недоброжелателей поэта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Язык духовных од лаконичен и лишен всякого рода "украшений". 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которые из духовных од Ломоносова стали «кантами».Особенно был известен 145-й псалом, начинавшийся словами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"Никто не уповай вовеки на тщетну     власть князей земных"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7989840" cy="2879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cff"/>
                </a:solidFill>
                <a:latin typeface="Tahoma"/>
              </a:rPr>
              <a:t>Спасибо за внимание!!!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5280" y="549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01"/>
                </a:solidFill>
                <a:latin typeface="Tahoma"/>
              </a:rPr>
              <a:t>Ода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– лирический жанр, пришедший в европейскую литературу из античной поэз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ru-RU" sz="2800" spc="-1" strike="noStrike">
                <a:solidFill>
                  <a:srgbClr val="ffccff"/>
                </a:solidFill>
                <a:latin typeface="Tahoma"/>
              </a:rPr>
              <a:t>Виды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победно-патриотическа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похвальная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философска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духовна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анакреонтическа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cc"/>
                </a:solidFill>
                <a:latin typeface="Tahoma"/>
              </a:rPr>
              <a:t>Первая ода Ломоносова – «Ода на взятие Хотина»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0" name="Picture 5" descr="хотинj"/>
          <p:cNvPicPr/>
          <p:nvPr/>
        </p:nvPicPr>
        <p:blipFill>
          <a:blip r:embed="rId1"/>
          <a:stretch/>
        </p:blipFill>
        <p:spPr>
          <a:xfrm>
            <a:off x="1692360" y="1708200"/>
            <a:ext cx="5842080" cy="43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ffff01"/>
                </a:solidFill>
                <a:latin typeface="Tahoma"/>
              </a:rPr>
              <a:t>В оде Ломоносова выделяется три основные части: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ступлени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ображение военных действи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славление победителе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77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77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" dur="77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" dur="77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000" y="1267920"/>
            <a:ext cx="821844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ccff"/>
                </a:solidFill>
                <a:latin typeface="Tahoma"/>
              </a:rPr>
              <a:t>О подвиге безымянного героя Ломоносов пишет с восхищением: </a:t>
            </a: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…Крепит отечества любовь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ынов российских дух и руку: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Желает всяк пролить всю кровь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От грозного бодрится звуку…»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9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ebf25a"/>
                </a:solidFill>
                <a:latin typeface="Tahoma"/>
              </a:rPr>
              <a:t>Большая часть од Ломоносова была написана по случаю дней восшествия на престол монархов: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нне Иоанновн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оанну Антоновичу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лизавете Петровне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тру III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катерине II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4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4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4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4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4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4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4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4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4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4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4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4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4255920" cy="54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ставниками и помощниками царей должны быть не льстивые царедворцы, а люди, бескорыстно служащие истине, - ученые и писател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9" descr="vgjpg"/>
          <p:cNvPicPr/>
          <p:nvPr/>
        </p:nvPicPr>
        <p:blipFill>
          <a:blip r:embed="rId1"/>
          <a:stretch/>
        </p:blipFill>
        <p:spPr>
          <a:xfrm>
            <a:off x="4932360" y="1052640"/>
            <a:ext cx="35733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Оды Ломоносова отражают многие события того времени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1" name="Picture 11" descr="война1jpg"/>
          <p:cNvPicPr/>
          <p:nvPr/>
        </p:nvPicPr>
        <p:blipFill>
          <a:blip r:embed="rId1"/>
          <a:stretch/>
        </p:blipFill>
        <p:spPr>
          <a:xfrm>
            <a:off x="468360" y="1557360"/>
            <a:ext cx="3957480" cy="45306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2" descr="война2"/>
          <p:cNvPicPr/>
          <p:nvPr/>
        </p:nvPicPr>
        <p:blipFill>
          <a:blip r:embed="rId2"/>
          <a:stretch/>
        </p:blipFill>
        <p:spPr>
          <a:xfrm>
            <a:off x="4643280" y="1557360"/>
            <a:ext cx="40388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640" y="141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Главной задачей Ломоносов считал распространение наук, которые помогут овладеть природным богатством России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4" name="Picture 6" descr="наука"/>
          <p:cNvPicPr/>
          <p:nvPr/>
        </p:nvPicPr>
        <p:blipFill>
          <a:blip r:embed="rId1"/>
          <a:stretch/>
        </p:blipFill>
        <p:spPr>
          <a:xfrm>
            <a:off x="2484360" y="2637000"/>
            <a:ext cx="3759120" cy="40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2T17:14:42Z</dcterms:created>
  <dc:creator>BenQ CUSTOMER</dc:creator>
  <dc:description/>
  <dc:language>en-US</dc:language>
  <cp:lastModifiedBy>LEGION</cp:lastModifiedBy>
  <dcterms:modified xsi:type="dcterms:W3CDTF">2015-01-20T10:11:09Z</dcterms:modified>
  <cp:revision>5</cp:revision>
  <dc:subject/>
  <dc:title>Оды Михаила Васильевича Ломоносова</dc:title>
</cp:coreProperties>
</file>