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4982-6BF7-4B4D-B7B4-9F348968D4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6244-0317-4322-B057-25B0500C63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7218-ADF2-4416-937C-562224825C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57C5-8531-4DED-B973-9AD8CCF9C4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DE5C-D72D-4F6F-9DAA-819C08423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CEEE-9B18-4657-A359-40303E59D0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169F-9737-4425-8C7F-F921E61F6D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C2F7-ACF4-49EA-BB5E-C5A9137ACA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301C-2360-4B07-9042-4EAAE5DADE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5EC-9903-40D6-9756-3CA6B58F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EAF-640F-4FED-8502-B200ED0F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D0C-5130-4BFB-9A79-373ED683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AEB-D3CF-4BA8-8AA3-94461049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608-FA18-40A1-AC79-520104AA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7E3-B4E2-4B21-A4A5-6AE0461B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8ED-C001-46E3-A225-7CD10C80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4AA-B57F-4931-A779-A937FC5C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B0C-FA0D-4CAB-AEB2-AE3D9C36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CEE-9818-4260-B68F-DDF16B4C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7687-FFAC-4A29-872B-800B6953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F36-BB5F-484F-B94A-00CFA7F1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A84E-D49C-40B7-9FF3-3EA5F3714F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_9b9e_f9b4b96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481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4356000" y="952560"/>
            <a:ext cx="4630680" cy="590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8920" y="1267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971640" y="198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Тютч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79280" y="4437000"/>
            <a:ext cx="3816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Выполнила: ученица 8 класс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редней школы №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Г. Ку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отник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3857760" y="6357960"/>
            <a:ext cx="228600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0800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5796000" y="213372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179280" y="3500280"/>
            <a:ext cx="8713800" cy="316872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18108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300720" y="115920"/>
            <a:ext cx="253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181440" y="-360"/>
            <a:ext cx="9217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i"/>
          <p:cNvPicPr/>
          <p:nvPr/>
        </p:nvPicPr>
        <p:blipFill>
          <a:blip r:embed="rId2"/>
          <a:stretch/>
        </p:blipFill>
        <p:spPr>
          <a:xfrm>
            <a:off x="6419880" y="0"/>
            <a:ext cx="2549520" cy="321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804000" y="3213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588000" y="3213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леонора Петерс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181440" y="188640"/>
            <a:ext cx="9145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0_62248_2bd0ee89_XL"/>
          <p:cNvPicPr/>
          <p:nvPr/>
        </p:nvPicPr>
        <p:blipFill>
          <a:blip r:embed="rId2"/>
          <a:stretch/>
        </p:blipFill>
        <p:spPr>
          <a:xfrm>
            <a:off x="6443640" y="189000"/>
            <a:ext cx="2557440" cy="309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551640" y="3357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рнестина Дёр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108000" y="188640"/>
            <a:ext cx="925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g4"/>
          <p:cNvPicPr/>
          <p:nvPr/>
        </p:nvPicPr>
        <p:blipFill>
          <a:blip r:embed="rId2"/>
          <a:stretch/>
        </p:blipFill>
        <p:spPr>
          <a:xfrm>
            <a:off x="6964200" y="0"/>
            <a:ext cx="2179800" cy="256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1470-6-b"/>
          <p:cNvPicPr/>
          <p:nvPr/>
        </p:nvPicPr>
        <p:blipFill>
          <a:blip r:embed="rId3"/>
          <a:stretch/>
        </p:blipFill>
        <p:spPr>
          <a:xfrm>
            <a:off x="6851520" y="4149720"/>
            <a:ext cx="2292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252360" y="260280"/>
            <a:ext cx="8794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50925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627280" y="404640"/>
            <a:ext cx="38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askerville Old Face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830760" cy="46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51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5:39Z</dcterms:created>
  <dc:creator>1</dc:creator>
  <dc:description/>
  <dc:language>en-US</dc:language>
  <cp:lastModifiedBy>LEGION</cp:lastModifiedBy>
  <dcterms:modified xsi:type="dcterms:W3CDTF">2015-01-20T08:16:53Z</dcterms:modified>
  <cp:revision>4</cp:revision>
  <dc:subject/>
  <dc:title>Слайд 1</dc:title>
</cp:coreProperties>
</file>