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A2E8-4D0D-4588-85A2-17C9CD3391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8516-866A-45D2-A777-3508242099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037C-CB02-4E6A-8C6A-F255C1729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567B-4A09-4975-B8B1-31FCD18BA3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B90C-185A-4431-A137-B1B11E99E0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0BF6-9072-46E9-80AC-BD0C3CF696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766B-F041-4975-8B74-618BF6607B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6BA0-AB57-4DD9-A0F4-2BF342824F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98CA-3454-4D71-B870-4331145D6D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F00-59B7-4CBD-B30C-BF87ED00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200-DD9C-449A-B5F1-CADF0A33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165-01F0-4CD8-997C-C087A978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EC1-4AEC-430B-93F3-EC4A0ADC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C7F-7A35-4AAF-AF03-D682A26F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0EA-67F4-4FCF-8421-E6B9FB93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4CC-A7CF-409B-B067-EAFB3252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D29-5A07-46B5-BD31-891E78F6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54D-B97D-49F8-BAAF-9B0D5F08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53E3-3E4B-477E-93DA-435AE228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BC0-10B9-4766-B121-15144896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6F12-F0CE-4D25-9F75-801766CD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3E03-BFC1-4B41-9D40-2C92973B7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0_9b9e_f9b4b96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481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4356000" y="952560"/>
            <a:ext cx="4630680" cy="5905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8920" y="1267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971640" y="1989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Тютч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79280" y="4437000"/>
            <a:ext cx="3816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Выполнила: ученица 8 класса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редней школы №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Г. Ку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отник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3857760" y="6357960"/>
            <a:ext cx="2286000" cy="500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108000" y="112500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5796000" y="213372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179280" y="3500280"/>
            <a:ext cx="8713800" cy="316872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18108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6300720" y="115920"/>
            <a:ext cx="253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181440" y="-360"/>
            <a:ext cx="9217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i"/>
          <p:cNvPicPr/>
          <p:nvPr/>
        </p:nvPicPr>
        <p:blipFill>
          <a:blip r:embed="rId2"/>
          <a:stretch/>
        </p:blipFill>
        <p:spPr>
          <a:xfrm>
            <a:off x="6419880" y="0"/>
            <a:ext cx="2549520" cy="321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804000" y="3213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588000" y="32130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леонора Петерс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181440" y="188640"/>
            <a:ext cx="9145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0_62248_2bd0ee89_XL"/>
          <p:cNvPicPr/>
          <p:nvPr/>
        </p:nvPicPr>
        <p:blipFill>
          <a:blip r:embed="rId2"/>
          <a:stretch/>
        </p:blipFill>
        <p:spPr>
          <a:xfrm>
            <a:off x="6443640" y="189000"/>
            <a:ext cx="2557440" cy="309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6551640" y="3357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рнестина Дёр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3250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108000" y="188640"/>
            <a:ext cx="925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g4"/>
          <p:cNvPicPr/>
          <p:nvPr/>
        </p:nvPicPr>
        <p:blipFill>
          <a:blip r:embed="rId2"/>
          <a:stretch/>
        </p:blipFill>
        <p:spPr>
          <a:xfrm>
            <a:off x="6964200" y="0"/>
            <a:ext cx="2179800" cy="2565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1470-6-b"/>
          <p:cNvPicPr/>
          <p:nvPr/>
        </p:nvPicPr>
        <p:blipFill>
          <a:blip r:embed="rId3"/>
          <a:stretch/>
        </p:blipFill>
        <p:spPr>
          <a:xfrm>
            <a:off x="6851520" y="4149720"/>
            <a:ext cx="2292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252360" y="260280"/>
            <a:ext cx="8794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3924360" y="3141720"/>
            <a:ext cx="50925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627280" y="404640"/>
            <a:ext cx="38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askerville Old Face"/>
              </a:rPr>
              <a:t>Спасиб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3830760" cy="468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51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8:05:39Z</dcterms:created>
  <dc:creator>1</dc:creator>
  <dc:description/>
  <dc:language>en-US</dc:language>
  <cp:lastModifiedBy>LEGION</cp:lastModifiedBy>
  <dcterms:modified xsi:type="dcterms:W3CDTF">2015-01-20T08:16:53Z</dcterms:modified>
  <cp:revision>4</cp:revision>
  <dc:subject/>
  <dc:title>Слайд 1</dc:title>
</cp:coreProperties>
</file>