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7731-A703-4131-9085-D632210021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slide" Target="../slides/slide18.xml"/><Relationship Id="rId3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" Target="../slides/slide19.xml"/><Relationship Id="rId4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Федор 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Иванович</a:t>
            </a:r>
            <a:br>
              <a:rPr sz="2000"/>
            </a:br>
            <a:r>
              <a:rPr b="1" i="1" lang="ru-RU" sz="2000" spc="-1" strike="noStrike">
                <a:solidFill>
                  <a:srgbClr val="c0504d"/>
                </a:solidFill>
                <a:latin typeface="Georgia"/>
              </a:rPr>
              <a:t>Тютч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м не дано предугада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ше слово отзовется,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нам сочувствие д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нам дается благода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E286-A41C-44B6-86C8-34CC8D597AB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третил вас – и все бы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жившем сердце ожил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вспомнил время золото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-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рдцу стало так тепл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июля 19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юбленная Ф.И.Тютч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рет работы И. Штиллера 1830-е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D1C5-D492-456E-AFD0-22614AF34FA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Элеонора Петерсон 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ервая жена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5B2F-7A2C-4260-ABDB-5C6AFC017BD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Эрнестина Тютчева, вторая ж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45CD-882A-45E6-9BD1-93C6EF2F6A95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е знаю я, коснется ль благод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оей души болезненно-грехов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Удастся ль ей воскреснуть и восст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Пройдет ли обморок духовн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Но если бы душа мог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Здесь, на земле, найти успокоень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Мне благодатью ты б была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宋体"/>
              </a:rPr>
              <a:t>Ты, ты, мое земное  провиденье!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BB89-7094-49A5-9BE6-97109C64D83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Не рассуждай, не хлопочи!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Безумство ищет, глупость суд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невные раны сном леч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А завтра быть чему, то бу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Живя, умей все переж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Печаль, и радость, и трево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Чего желать? О чем туж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ahoma"/>
              </a:rPr>
              <a:t>День пережит - и слава богу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Памятник поэту в Овсту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BE8C-9579-49C2-94C0-DBC7A39FA64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Памятник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Calibri"/>
              </a:rPr>
              <a:t>в Брян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р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7 июля 2003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-лети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921B-272B-4B7F-B50B-DC9A89DCC0E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.Н.Толстой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:</a:t>
            </a:r>
            <a:br>
              <a:rPr sz="8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Без него жить нельз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0E04-F56B-4BB9-AADA-90DEDB0CA7B9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 Пушк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5743-8303-40EA-B2A3-5F2C6AECB3EA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ри периода творчества Тютче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и традиции европейского романтиз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сятилетие 40-х годов  Тютчев почти не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пишет сти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«денисьевский цикл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103C-4D38-4874-977A-F50B591ACD1A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. А. Тютче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ть поэ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1776-186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898-B468-4EDF-920A-5552B6FD5613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м.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Тютч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ские взгляды, восприятие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наиз. стих-я (к понед. 14 дек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F19D-5B77-458C-B84E-9E9CDF14C50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тчев в дет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EAAB-750D-403E-B1ED-3B042C05C9BD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Усадьба Овстуг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Брянского уезда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Орловской губер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9C4B-CDD8-42A8-A2B8-00BFBF9FE138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Городская усадьба Тютчевых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Arial"/>
              </a:rPr>
              <a:t> в Армянском переулке в Москв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4990-EBBC-4A6B-B8C5-220ED06B310F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E81E-C960-49C6-A8FC-6205919C6B4B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С 1822 г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коллегии иностранных дел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ahoma"/>
              </a:rPr>
              <a:t>в Германии, Итали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13BA-F061-4AB3-BE8C-86D32C9F42A6}" type="slidenum">
              <a:rPr b="0" lang="uk-UA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6DB-CEDF-4408-B3D3-8A1D6CD1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A3E-30DE-48C3-8819-BA893C7B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EE1-F1E4-45CC-AFD8-BD4B700E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6D4-AC19-44AD-8E13-AAD8C78E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C6A5-9F7D-4FA3-8497-D74DFEFE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3038-9812-4012-B710-3B68C08D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9426-D64B-48A5-85BB-CCDA57C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E986-4F25-4943-968A-9B59A0CB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4A2E-23D7-46FD-8D56-A47685D8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E28E-6823-48B5-8F93-1EA20237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0B8F-9C6B-4FBB-BB0D-0EB2D697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4CF-9317-4C41-B70D-4E5CA38A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99CF-A98A-44E4-87DD-1247E589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3EAF-242C-45ED-8B91-1619BE05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293A-B6C7-41D9-A160-A0F6293D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29B5-64F1-4319-9982-859F498C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3EA6-109E-4586-B466-4FC40650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6E6-4B72-42AB-9D9D-616725FB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6E8-1E99-4A75-9790-38BE9752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6070-079F-4021-A72D-0F7A6282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CBF-C9C5-4DA5-93CD-A5085E98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5AF-6A65-4F0F-8A22-37A19D63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D0D-CCAE-4C2B-95F3-A83C9B79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E32-1EAF-4FF3-8166-F6BACFEB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D971-81AD-4B71-9BAB-A2FE0638A32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2889-093C-40E4-8909-191868BD829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8;&#1102;&#1090;&#1095;_%20&#1055;&#1091;&#1096;&#1082;&#1080;&#1085;&#1091;.mp3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I" TargetMode="External"/><Relationship Id="rId2" Type="http://schemas.openxmlformats.org/officeDocument/2006/relationships/hyperlink" Target="http://ru.wikipedia.org/wiki/XVII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632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Федор 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Иванович</a:t>
            </a:r>
            <a:br>
              <a:rPr sz="4400"/>
            </a:br>
            <a:r>
              <a:rPr b="1" i="1" lang="ru-RU" sz="4400" spc="-1" strike="noStrike">
                <a:solidFill>
                  <a:srgbClr val="996600"/>
                </a:solidFill>
                <a:latin typeface="Georgia"/>
              </a:rPr>
              <a:t>Тютч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58752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Нам не дано предугадать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ше слово отзовется, -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И нам сочувствие дается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Как нам дается благодать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Рисунок 8" descr="Tut_big.jpg"/>
          <p:cNvPicPr/>
          <p:nvPr/>
        </p:nvPicPr>
        <p:blipFill>
          <a:blip r:embed="rId1"/>
          <a:srcRect l="3026" t="0" r="0" b="8646"/>
          <a:stretch/>
        </p:blipFill>
        <p:spPr>
          <a:xfrm>
            <a:off x="5857920" y="428760"/>
            <a:ext cx="2738520" cy="35240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50920" y="5229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076720" y="1052640"/>
            <a:ext cx="35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Arial"/>
              </a:rPr>
              <a:t>Амалия Лерхенфельд (Крюденер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6" name="Picture 4" descr="image051"/>
          <p:cNvPicPr/>
          <p:nvPr/>
        </p:nvPicPr>
        <p:blipFill>
          <a:blip r:embed="rId1"/>
          <a:stretch/>
        </p:blipFill>
        <p:spPr>
          <a:xfrm>
            <a:off x="539640" y="1628640"/>
            <a:ext cx="2952720" cy="381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539640" y="5734080"/>
            <a:ext cx="605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Возлюбленная Ф.И.Тютчева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трет работы И. Штиллера 1830-е гг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51280" y="2708280"/>
            <a:ext cx="489600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К. Б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третил вас – и все былое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В отжившем сердце ожило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Я вспомнил время золотое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--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И сердцу стало так тепло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26 июля 1970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27960" y="33336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imes New Roman"/>
              </a:rPr>
              <a:t>Женщины в жизни  Ф.И.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Элеонора Петерсон -</a:t>
            </a:r>
            <a:r>
              <a:rPr b="0" lang="ru-RU" sz="32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996600"/>
                </a:solidFill>
                <a:latin typeface="Tahoma"/>
              </a:rPr>
              <a:t>первая жена поэ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foto3_s"/>
          <p:cNvPicPr/>
          <p:nvPr/>
        </p:nvPicPr>
        <p:blipFill>
          <a:blip r:embed="rId1"/>
          <a:stretch/>
        </p:blipFill>
        <p:spPr>
          <a:xfrm>
            <a:off x="5435640" y="1916280"/>
            <a:ext cx="2720880" cy="3384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52" name="Picture 4" descr="eleonora"/>
          <p:cNvPicPr/>
          <p:nvPr/>
        </p:nvPicPr>
        <p:blipFill>
          <a:blip r:embed="rId2"/>
          <a:stretch/>
        </p:blipFill>
        <p:spPr>
          <a:xfrm>
            <a:off x="826920" y="1628640"/>
            <a:ext cx="3362400" cy="4465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ahoma"/>
              </a:rPr>
              <a:t>Эрнестина Тютчева, вторая же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3_4_03b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41162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55" name="Text Box 5"/>
          <p:cNvSpPr/>
          <p:nvPr/>
        </p:nvSpPr>
        <p:spPr>
          <a:xfrm>
            <a:off x="4140360" y="981000"/>
            <a:ext cx="47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Arial"/>
              </a:rPr>
              <a:t>Овдовев, поэт женился в 1839 г. на Эрнестине Дернберг, урожденной баронессе Пфеффель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6" name="Picture 9" descr="ernestina2"/>
          <p:cNvPicPr/>
          <p:nvPr/>
        </p:nvPicPr>
        <p:blipFill>
          <a:blip r:embed="rId2"/>
          <a:stretch/>
        </p:blipFill>
        <p:spPr>
          <a:xfrm>
            <a:off x="5357880" y="2857680"/>
            <a:ext cx="2722320" cy="3644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2" descr="foto6_s"/>
          <p:cNvPicPr/>
          <p:nvPr/>
        </p:nvPicPr>
        <p:blipFill>
          <a:blip r:embed="rId1"/>
          <a:stretch/>
        </p:blipFill>
        <p:spPr>
          <a:xfrm>
            <a:off x="900000" y="1700280"/>
            <a:ext cx="3443400" cy="424980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58" name="Rectangle 15"/>
          <p:cNvSpPr/>
          <p:nvPr/>
        </p:nvSpPr>
        <p:spPr>
          <a:xfrm>
            <a:off x="250920" y="272160"/>
            <a:ext cx="87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Елена Александровна Денисьева</a:t>
            </a: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Arial"/>
              </a:rPr>
              <a:t>(1826-1864) - "последняя любовь поэта"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403280" y="476280"/>
            <a:ext cx="727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0" name="Picture 12" descr="deniseva_0"/>
          <p:cNvPicPr/>
          <p:nvPr/>
        </p:nvPicPr>
        <p:blipFill>
          <a:blip r:embed="rId2">
            <a:grayscl/>
          </a:blip>
          <a:stretch/>
        </p:blipFill>
        <p:spPr>
          <a:xfrm>
            <a:off x="5003640" y="1700280"/>
            <a:ext cx="3238560" cy="4092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е знаю я, коснется ль благодать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оей души болезненно-греховной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Удастся ль ей воскреснуть и восстать,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Пройдет ли обморок духовный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Но если бы душа могл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Здесь, на земле, найти успокоенье,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Мне благодатью ты б была —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i="1" lang="ru-RU" sz="3200" spc="-1" strike="noStrike">
                <a:solidFill>
                  <a:srgbClr val="f8f8f8"/>
                </a:solidFill>
                <a:latin typeface="Tahoma"/>
              </a:rPr>
              <a:t>Ты, ты, мое земное  провиденье!.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4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1400"/>
                            </p:stCondLst>
                            <p:childTnLst>
                              <p:par>
                                <p:cTn id="2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2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80px-Ovstug3"/>
          <p:cNvPicPr/>
          <p:nvPr/>
        </p:nvPicPr>
        <p:blipFill>
          <a:blip r:embed="rId1"/>
          <a:srcRect l="0" t="0" r="0" b="15367"/>
          <a:stretch/>
        </p:blipFill>
        <p:spPr>
          <a:xfrm>
            <a:off x="5148360" y="549360"/>
            <a:ext cx="3457440" cy="439236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3" name="Rectangle 7"/>
          <p:cNvSpPr/>
          <p:nvPr/>
        </p:nvSpPr>
        <p:spPr>
          <a:xfrm>
            <a:off x="4716360" y="5084640"/>
            <a:ext cx="39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00"/>
                </a:solidFill>
                <a:latin typeface="Times New Roman"/>
              </a:rPr>
              <a:t>Памятник поэту в Овстуге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95280" y="1047960"/>
            <a:ext cx="46083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Не рассуждай, не хлопочи!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Безумство ищет, глупость судит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невные раны сном лечи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А завтра быть чему, то будет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Живя, умей все пережить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Печаль, и радость, и тревогу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Чего желать? О чем тужи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День пережит - и слава богу!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76720" y="40428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Памятник </a:t>
            </a:r>
            <a:br>
              <a:rPr sz="4000"/>
            </a:br>
            <a:r>
              <a:rPr b="1" i="1" lang="ru-RU" sz="4000" spc="-1" strike="noStrike">
                <a:solidFill>
                  <a:srgbClr val="996633"/>
                </a:solidFill>
                <a:latin typeface="Tahoma"/>
              </a:rPr>
              <a:t>в Брянс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3" descr="памятник"/>
          <p:cNvPicPr/>
          <p:nvPr/>
        </p:nvPicPr>
        <p:blipFill>
          <a:blip r:embed="rId1"/>
          <a:stretch/>
        </p:blipFill>
        <p:spPr>
          <a:xfrm>
            <a:off x="755640" y="692280"/>
            <a:ext cx="4103640" cy="53290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5076720" y="2205000"/>
            <a:ext cx="388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Открыт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7 июля 2003 г.,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священ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200-летию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Arial"/>
              </a:rPr>
              <a:t>поэт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44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.Н.Толст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ru-RU" sz="6000" spc="-1" strike="noStrike">
                <a:solidFill>
                  <a:srgbClr val="ffffff"/>
                </a:solidFill>
                <a:latin typeface="Monotype Corsiva"/>
              </a:rPr>
              <a:t>«Без него жить нельзя»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tutchev1_0"/>
          <p:cNvPicPr/>
          <p:nvPr/>
        </p:nvPicPr>
        <p:blipFill>
          <a:blip r:embed="rId1"/>
          <a:stretch/>
        </p:blipFill>
        <p:spPr>
          <a:xfrm>
            <a:off x="1116000" y="2060640"/>
            <a:ext cx="2741760" cy="40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О Пушкин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PC110196_0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716360" y="1125360"/>
            <a:ext cx="3735360" cy="4508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172" name="Picture 6" descr="tutchev3_0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26920" y="1557360"/>
            <a:ext cx="2870280" cy="38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aphicFrame>
        <p:nvGraphicFramePr>
          <p:cNvPr id="173" name="Object 7"/>
          <p:cNvGraphicFramePr/>
          <p:nvPr/>
        </p:nvGraphicFramePr>
        <p:xfrm>
          <a:off x="3419640" y="5734080"/>
          <a:ext cx="12571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9640" y="5734080"/>
                    <a:ext cx="1257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Tahoma"/>
              </a:rPr>
              <a:t>Три периода творчества Тютчева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314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1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  начальный, 10-е — начало 20-х гг. ( юношеские стихи, архаичные по стилю и близкие к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1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2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2-я пол. 20-х — 30-е гг., начиная со стихотворения «Проблеск» (заметны уже черты оригинальной поэтики: сплав русской одической поэзии 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Tahoma"/>
                <a:hlinkClick r:id="rId2"/>
              </a:rPr>
              <a:t>XVIII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века и традиции европейского романтизм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В десятилетие 40-х годов  Тютчев почти не </a:t>
            </a:r>
            <a:r>
              <a:rPr b="0" i="1" lang="ru-RU" sz="2400" spc="-1" strike="noStrike">
                <a:solidFill>
                  <a:srgbClr val="cc9900"/>
                </a:solidFill>
                <a:latin typeface="Tahoma"/>
              </a:rPr>
              <a:t>пишет стих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Tahoma"/>
              </a:rPr>
              <a:t>3)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50-е — нач. 70-х гг. ( создаются многочисленные политические стихотворения, стихотворения «на случай» и пронзительный 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«денисьевский цикл»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tutfatt"/>
          <p:cNvPicPr/>
          <p:nvPr/>
        </p:nvPicPr>
        <p:blipFill>
          <a:blip r:embed="rId1"/>
          <a:stretch/>
        </p:blipFill>
        <p:spPr>
          <a:xfrm>
            <a:off x="971640" y="3500280"/>
            <a:ext cx="2254320" cy="280836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0" name="Picture 3" descr="tutmott"/>
          <p:cNvPicPr/>
          <p:nvPr/>
        </p:nvPicPr>
        <p:blipFill>
          <a:blip r:embed="rId2"/>
          <a:stretch/>
        </p:blipFill>
        <p:spPr>
          <a:xfrm>
            <a:off x="611280" y="836640"/>
            <a:ext cx="2219400" cy="2448000"/>
          </a:xfrm>
          <a:prstGeom prst="rect">
            <a:avLst/>
          </a:prstGeom>
          <a:ln w="57240">
            <a:solidFill>
              <a:srgbClr val="f8f8f8"/>
            </a:solidFill>
            <a:miter/>
          </a:ln>
        </p:spPr>
      </p:pic>
      <p:pic>
        <p:nvPicPr>
          <p:cNvPr id="121" name="Picture 4" descr="7"/>
          <p:cNvPicPr/>
          <p:nvPr/>
        </p:nvPicPr>
        <p:blipFill>
          <a:blip r:embed="rId3"/>
          <a:stretch/>
        </p:blipFill>
        <p:spPr>
          <a:xfrm>
            <a:off x="6084720" y="3716280"/>
            <a:ext cx="242748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8"/>
          <p:cNvPicPr/>
          <p:nvPr/>
        </p:nvPicPr>
        <p:blipFill>
          <a:blip r:embed="rId4"/>
          <a:stretch/>
        </p:blipFill>
        <p:spPr>
          <a:xfrm>
            <a:off x="6372360" y="765000"/>
            <a:ext cx="2296800" cy="266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68360" y="40464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7164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6633"/>
                </a:solidFill>
                <a:latin typeface="Arial"/>
              </a:rPr>
              <a:t>Родители Тютчева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203640" y="1484280"/>
            <a:ext cx="2448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Е. А. Тютчева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мать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76-186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635280" y="4149720"/>
            <a:ext cx="22320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И. Н. Тютчев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Arial"/>
              </a:rPr>
              <a:t>отец поэт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Book Antiqua"/>
              </a:rPr>
              <a:t>1768-184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Дом. Задани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Биография Тютчева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Философские взгляды, восприятие истории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Tahoma"/>
              </a:rPr>
              <a:t>Учить наиз. стих-я (к понед. 14 дек.)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ютчев в детств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003640" y="1557360"/>
            <a:ext cx="3267360" cy="408636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pic>
        <p:nvPicPr>
          <p:cNvPr id="129" name="Picture 5" descr="12"/>
          <p:cNvPicPr/>
          <p:nvPr/>
        </p:nvPicPr>
        <p:blipFill>
          <a:blip r:embed="rId2"/>
          <a:stretch/>
        </p:blipFill>
        <p:spPr>
          <a:xfrm>
            <a:off x="684360" y="1484280"/>
            <a:ext cx="3448080" cy="415944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380520"/>
            <a:ext cx="8964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Усадьба Овстуг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Брянского уезда </a:t>
            </a:r>
            <a:br>
              <a:rPr sz="3600"/>
            </a:br>
            <a:r>
              <a:rPr b="1" lang="ru-RU" sz="3600" spc="-1" strike="noStrike">
                <a:solidFill>
                  <a:srgbClr val="996600"/>
                </a:solidFill>
                <a:latin typeface="Arial"/>
              </a:rPr>
              <a:t> Орловской губер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mtut5s"/>
          <p:cNvPicPr/>
          <p:nvPr/>
        </p:nvPicPr>
        <p:blipFill>
          <a:blip r:embed="rId1"/>
          <a:stretch/>
        </p:blipFill>
        <p:spPr>
          <a:xfrm>
            <a:off x="395280" y="2565360"/>
            <a:ext cx="4248000" cy="28796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pic>
        <p:nvPicPr>
          <p:cNvPr id="132" name="Picture 6" descr="OSOBN"/>
          <p:cNvPicPr/>
          <p:nvPr/>
        </p:nvPicPr>
        <p:blipFill>
          <a:blip r:embed="rId2"/>
          <a:stretch/>
        </p:blipFill>
        <p:spPr>
          <a:xfrm>
            <a:off x="4859280" y="2492280"/>
            <a:ext cx="3770280" cy="362268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1191614"/>
          <p:cNvPicPr/>
          <p:nvPr/>
        </p:nvPicPr>
        <p:blipFill>
          <a:blip r:embed="rId1"/>
          <a:stretch/>
        </p:blipFill>
        <p:spPr>
          <a:xfrm>
            <a:off x="1116000" y="549360"/>
            <a:ext cx="6912000" cy="492444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468360" y="56833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ahoma"/>
              </a:rPr>
              <a:t>Усадьба была разрушена в 1914г., восстановлена в 1986 г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Городская усадьба Тютчевых в Москве"/>
          <p:cNvPicPr/>
          <p:nvPr/>
        </p:nvPicPr>
        <p:blipFill>
          <a:blip r:embed="rId1"/>
          <a:srcRect l="0" t="22123" r="0" b="0"/>
          <a:stretch/>
        </p:blipFill>
        <p:spPr>
          <a:xfrm>
            <a:off x="900000" y="1628640"/>
            <a:ext cx="7417080" cy="471348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Городская усадьба Тютчевых</a:t>
            </a:r>
            <a:br>
              <a:rPr sz="4000"/>
            </a:b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 в Армянском переулке в Москв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Памятник Тютчеву в Москве"/>
          <p:cNvPicPr/>
          <p:nvPr/>
        </p:nvPicPr>
        <p:blipFill>
          <a:blip r:embed="rId1"/>
          <a:stretch/>
        </p:blipFill>
        <p:spPr>
          <a:xfrm>
            <a:off x="1619280" y="476280"/>
            <a:ext cx="6048360" cy="5829120"/>
          </a:xfrm>
          <a:prstGeom prst="rect">
            <a:avLst/>
          </a:prstGeom>
          <a:ln w="7632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858920" y="404280"/>
            <a:ext cx="3816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Образ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tutchev6_0"/>
          <p:cNvPicPr/>
          <p:nvPr/>
        </p:nvPicPr>
        <p:blipFill>
          <a:blip r:embed="rId1"/>
          <a:stretch/>
        </p:blipFill>
        <p:spPr>
          <a:xfrm>
            <a:off x="755640" y="1341360"/>
            <a:ext cx="3666960" cy="4680000"/>
          </a:xfrm>
          <a:prstGeom prst="rect">
            <a:avLst/>
          </a:prstGeom>
          <a:ln w="76320">
            <a:solidFill>
              <a:srgbClr val="cc9900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4932360" y="1700280"/>
            <a:ext cx="364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ловесное отделение Московского университет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51280" y="333360"/>
            <a:ext cx="2966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Tahoma"/>
              </a:rPr>
              <a:t>Служб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tutchev4_0"/>
          <p:cNvPicPr/>
          <p:nvPr/>
        </p:nvPicPr>
        <p:blipFill>
          <a:blip r:embed="rId1"/>
          <a:srcRect l="4124" t="7850" r="2379" b="5520"/>
          <a:stretch/>
        </p:blipFill>
        <p:spPr>
          <a:xfrm>
            <a:off x="684360" y="1125360"/>
            <a:ext cx="360036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427640" y="1268280"/>
            <a:ext cx="4716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 1822 г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оллегии иностранных де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Германии, Италии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1:20:24Z</dcterms:created>
  <dc:creator>user</dc:creator>
  <dc:description/>
  <dc:language>en-US</dc:language>
  <cp:lastModifiedBy>LEGION</cp:lastModifiedBy>
  <dcterms:modified xsi:type="dcterms:W3CDTF">2015-01-20T08:18:02Z</dcterms:modified>
  <cp:revision>23</cp:revision>
  <dc:subject/>
  <dc:title>Слайд 1</dc:title>
</cp:coreProperties>
</file>