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A2E10-3C3A-4141-B88E-83255ABA4CF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biographer.ru/biographies/144.html" TargetMode="External"/><Relationship Id="rId2" Type="http://schemas.openxmlformats.org/officeDocument/2006/relationships/slide" Target="../slides/slide4.xml"/><Relationship Id="rId3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«Нежней мы любим и суеверней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Любовная лирика Тютче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D392D-275B-49E9-81C5-9099CE8D740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Эрнестина Пфеффель, вторая жена поэта. Художник Ф. Дюрк. Начало 1840-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1839 год 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– Тютчев женится на баронессе Дернгейм. В этом же году за самовольный отъезд в Швейцарию (чтобы заключить брак) он отставлен со службы и лишен звания камергера. Тютчев с женой переезжают в Мюнхе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42BE9-EF7D-417D-8F68-1A739DCE642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Calibri"/>
              </a:rPr>
              <a:t>Эрнестина Дёрнберг. Литография Г. Бодмера с портрета работы Й. Штилера. Мюнхен. 183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Люблю глаза твои, мой друг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 игрой их пламенно-чудесной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Когда их приподымешь вдруг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, словно молнией небесной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кинешь бегло целый круг… Но есть сильней очарованья: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Глаза потупленные ниц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 минуты страстного лобзанья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 сквозь опущенных ресниц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Угрюмый, тусклый огнь желан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125E9-0881-4A00-A8D1-7B3FCF89DA5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Посвящается Эрнестине Тютчевой. </a:t>
            </a:r>
            <a:br>
              <a:rPr sz="1200"/>
            </a:b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(Некоторые исследователи творчества Тютчева считают, что стихи посвящены </a:t>
            </a:r>
            <a:br>
              <a:rPr sz="1200"/>
            </a:b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Е. Денисьево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на сидела на полу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 груду писем разбирала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, как остывшую золу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Брала их в руки и бросала.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Брала знакомые листы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 чудно так на них глядела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Как души смотрят с высоты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а ими брошенное тело...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, сколько жизни было тут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евозвратимо пережитой!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, сколько горестных минут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Любви и радости убитой!..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тоял я молча в стороне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 пасть готов был на колени,-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 страшно грустно стало мне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Как от присущей милой т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FEF29-2B6E-497E-BE33-9190744A2F5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Calibri"/>
              </a:rPr>
              <a:t>Эрнестина Федоровна Тютчева. Петербург. Фото 186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е знаю я, коснется ль благод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Моей души болезненно-греховно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Удастся ль ей воскреснуть и восста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ойдет ли обморок духовны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о если бы душа мог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Здесь, на земле, найти успокоень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Мне благодатью ты б была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Ты, ты, мое земное провиден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0255D-1715-45CC-B53E-E8283F4C956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Эрнестина Федоровна Тютчева (справа) с дочерью Марией Федоровн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Петербург. Фото 186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DB4D7-53D0-4C77-A1C6-EFFA89314B6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Елена Денисьева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(1826 – 186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54C3F-E8C9-4BED-ABCC-62871160388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В 1850  начинается сближение Тютчева с  Денисьевой. Она училась в  Смольном институте с дочерьми Тютчева. Всей душой  они полюбили друг друга и четырнадцать лет открыто были связаны узами гражданского брака и двумя детьми. В глазах высшего света петербургского света их открытая связь была вызывающе скандальной, причем вся тяжесть осуждения пала на плечи Денисьевой. С официальной своей семьей Тютчев не порывал, тем не менее в гостиных Петербурга и окрестностей его нещадно поносили - ему не могли простить этот роман на стороне, потому что здесь была подлинная страсть, не таимая от света, отличавшаяся постоянством. На  Денисьеву было воздвигнуто общественное гонение. Трудны и тяжелы были для Тютчева и сцены, нередко происходившие между ним и Денисьевой. Мы знаем о ней мало, помимо стихов, посвященных ей Тютчевым. Отрывочные сведения, дошедшие до нас, рисуют нам Денисьеву с чертами иных героинь Достоевского, душевно растерзанных, способных к самым мрачным выходк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7D532-B6A4-412D-BE67-97DF76610B8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Calibri"/>
              </a:rPr>
              <a:t>Е.А. Денисьева. </a:t>
            </a:r>
            <a:br>
              <a:rPr sz="1000"/>
            </a:br>
            <a:r>
              <a:rPr b="0" lang="ru-RU" sz="1000" spc="-1" strike="noStrike">
                <a:solidFill>
                  <a:srgbClr val="002060"/>
                </a:solidFill>
                <a:latin typeface="Calibri"/>
              </a:rPr>
              <a:t>Фото начала 1860-х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«Денисьевский» цикл - это собрание стихотворений Ф.И. Тютчева, в которых говорится о его любви к Елене Денисьевой. Отношения поэта с Денисьевой были более чем драматичными, однако продолжались в течение четырнадцати лет. Общество с трудом мирилось с их связью: во-первых, Тютчев был женат, во-вторых, возлюбленная годилась ему в дочери. Но, несмотря ни на что, отношения продолжались.</a:t>
            </a:r>
            <a:r>
              <a:rPr b="1" lang="ru-RU" sz="1400" spc="-1" strike="noStrike">
                <a:solidFill>
                  <a:srgbClr val="632523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66C86-8D1C-4EFF-8626-850D1F933C7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Е.И. Денисьева с дочерью Еленой Тютчевой. Фото 1862–186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6DB5B-DF5A-4B01-8499-DAE512D4796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Calibri"/>
              </a:rPr>
              <a:t>Е.И. Денисьева.</a:t>
            </a:r>
            <a:br>
              <a:rPr sz="1000"/>
            </a:br>
            <a:r>
              <a:rPr b="0" lang="ru-RU" sz="1000" spc="-1" strike="noStrike">
                <a:solidFill>
                  <a:srgbClr val="002060"/>
                </a:solidFill>
                <a:latin typeface="Calibri"/>
              </a:rPr>
              <a:t> Художник Иванов. 1850-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О, как на склоне наших лет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Нежней мы любим и суеверней…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Сияй, сияй, прощальный свет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Любви последней, зари вечерней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Полнеба обхватила тень,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Лишь там, на западе, бродит сиянье, -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Помедли, помедли, вечерний день,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Продлись, продлись очаровань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Пускай скудеет в жилах кровь,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Но в сердце не скудеет нежность…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О ты, последняя любовь!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Ты и блаженство и безнадеж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D434D-21D7-4BB5-93DB-D1930F4C5BB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Выдающимся явлением в русской и мировой литературе была любовная лирика Тютчева, отличающаяся глубиной мысли, поэтической силой в передаче человеческих чувств и ярко индивидуализированным лирическим образом женщины, любящей “наперекор и людям, и судьбе”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23BB9-F2D2-4303-B059-E59E69A0B5D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Амалия фон Лерхенфельд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(1808 – 1888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5180F-39B2-493D-B011-C4E4DFFE1B2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Calibri"/>
              </a:rPr>
              <a:t>Амалия Адлерберг. </a:t>
            </a:r>
            <a:br>
              <a:rPr sz="1000"/>
            </a:br>
            <a:r>
              <a:rPr b="0" lang="ru-RU" sz="1000" spc="-1" strike="noStrike">
                <a:solidFill>
                  <a:srgbClr val="002060"/>
                </a:solidFill>
                <a:latin typeface="Calibri"/>
              </a:rPr>
              <a:t>Художник А. Цебенс. 186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Весной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1823 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года Тютчев влюбился в совсем ещё юную Амалию фон Лерхенфельд. Амалия лишь считалась дочерью видного мюнхенского дипломата графа Максимилиана фон Лерхенфельд-Кеферинга. На самом деле она была внебрачной дочерью прусского короля Фридриха-Вильгельма III и княгини Турн-и-Таксис (и являлась, таким образом, побочной сестрой другой дочери этого короля-русской императрицы Александры Федоровны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F4CC9-9B36-43ED-A680-4B85A71FD7D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Королевская дочь, ослепительной красоты, Амалия явно стремилась добиться как можно более высокого положения в обществе. И это ей удалось. За время отъезда Тютчева в отпуск Амалия обвенчалась с его сослуживцем, бароном Александром Сергеевичем Крюндером. Неизвестно, когда точно Тютчев узнал о свадьбе Амалии, но легко представить себе его тогдашнюю боль и отчаянье. Шли годы, и в 1870 г. Тютчеву довелось вновь встретить уже и немолодую Амалию Максимилиановну в Карсбаде, куда поэт приехал лечиться.. Тогда-то и было написано стихотворение «Я встретил вас…». Но, несмотря на обиды, взаимоотношения Амалии с Тютчевым продолжались целых полвека, несмотря на то, что он был женат на другой, он посвятил ей стих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4B569-22C3-4FFF-94C0-D5B7B3A4A58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Calibri"/>
              </a:rPr>
              <a:t>Ф.И. Тютчев.</a:t>
            </a:r>
            <a:br>
              <a:rPr sz="1100"/>
            </a:br>
            <a:r>
              <a:rPr b="0" lang="ru-RU" sz="1100" spc="-1" strike="noStrike">
                <a:solidFill>
                  <a:srgbClr val="002060"/>
                </a:solidFill>
                <a:latin typeface="Calibri"/>
              </a:rPr>
              <a:t> Неизвестный художник. 1819–182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Я помню время золотое,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Я помню сердцу милый край.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День вечерел; мы были двое;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Внизу, в тени, шумел Дунай. И на холму, там, где, белея,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Руина замка вдаль глядит,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Стояла ты, младая фея,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На мшистый опершись гранит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Ногой младенческой касаясь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Обломков груды вековой;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И солнце медлило, прощаясь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С холмом, и с замком, и тобой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И ветер тихий мимолетом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Твоей одеждою играл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И с диких яблонь цвет за цветом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На плечи юные свевал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Ты беззаботно вдаль глядела…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Край неба дымно гас в лучах;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День догорал; звучнее пела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Река в померкших берегах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И ты с веселостью беспечной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Счастливый провожала день;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И сладко жизни быстротечной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Над нами пролетала тень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096B3-CDBC-4E01-AE8E-4E3BAA9FDD1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Calibri"/>
              </a:rPr>
              <a:t>Амалия Крюденер. </a:t>
            </a:r>
            <a:br>
              <a:rPr sz="1100"/>
            </a:br>
            <a:r>
              <a:rPr b="0" lang="ru-RU" sz="1100" spc="-1" strike="noStrike">
                <a:solidFill>
                  <a:srgbClr val="002060"/>
                </a:solidFill>
                <a:latin typeface="Calibri"/>
              </a:rPr>
              <a:t>Фотография с</a:t>
            </a:r>
            <a:br>
              <a:rPr sz="1100"/>
            </a:br>
            <a:r>
              <a:rPr b="0" lang="ru-RU" sz="1100" spc="-1" strike="noStrike">
                <a:solidFill>
                  <a:srgbClr val="002060"/>
                </a:solidFill>
                <a:latin typeface="Calibri"/>
              </a:rPr>
              <a:t>портрета маслом работы</a:t>
            </a:r>
            <a:br>
              <a:rPr sz="1100"/>
            </a:br>
            <a:r>
              <a:rPr b="0" lang="ru-RU" sz="1100" spc="-1" strike="noStrike">
                <a:solidFill>
                  <a:srgbClr val="002060"/>
                </a:solidFill>
                <a:latin typeface="Calibri"/>
              </a:rPr>
              <a:t>художника И.Штилера. 1838 г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Твой милый взор, невинной страсти полный,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Златой рассвет небесных чувств твоих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Не мог - увы! умилостивить их -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Он служит им укорою безмолв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Сии сердца, в которых правды нет,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Они, о друг, бегут, как приговора,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Твоей любви младенческого взора. 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Он страшен им, как память детских л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Но для меня сей взор благодеянье;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Как жизни ключ, в душевной глубине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Твой взор живет и будет жить во мне: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Он нужен ей, как небо и дыхань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Таков горе - духов блаженный свет;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Лишь в небесах сияет он, небесный;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В ночи греха, на дне ужасной бездны,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Сей чистый огнь, как пламень адский, жжет.</a:t>
            </a:r>
            <a:br>
              <a:rPr sz="14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18FE0-0FC0-4342-B62E-0B6C04B4857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К. Б.</a:t>
            </a:r>
            <a:br>
              <a:rPr sz="16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Я встретил вас - и все былое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 отжившем сердце ожило;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Я вспомнил время золотое -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 сердцу стало так тепло...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Как поздней осени порою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Бывают дни, бывает час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Когда повеет вдруг весною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 что-то встрепенется в нас,-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Так, весь обвеян духовеньем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Тех лет душевной полноты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 давно забытым упоеньем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мотрю на милые черты...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Как после вековой разлуки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Гляжу на вас, как бы во сне,-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 вот - слышнее стали звуки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е умолкавшие во мне...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Тут не одно воспоминанье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Тут жизнь заговорила вновь,-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 то же в нас очарованье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 та ж в душе моей любовь!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011B1-DC01-4F61-861E-7E824AE2270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Нам не дано предугадать,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Как слово наше отзовется, -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И нам сочувствие дается,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Как нам дается благод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1AF12-F819-43A9-A080-BD092B14854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е то, что мните вы, приро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е слепок, не бездушный лик —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 ней есть душа, в ней есть свобод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 ней есть любовь, в ней есть язык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D0BB5-77B7-4B07-872E-6958A3DB06E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ff"/>
                </a:solidFill>
                <a:latin typeface="Arial"/>
              </a:rPr>
              <a:t>Список литератур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70000"/>
              </a:lnSpc>
              <a:spcBef>
                <a:spcPts val="71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1. Анализ лирики в старших классах: 10-11/ И.Е.Каплан.-М.: Экзамен, 2005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70000"/>
              </a:lnSpc>
              <a:spcBef>
                <a:spcPts val="71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2. Литература учит: 10кл.: книга для учащихся. М.: Просвещение, 1990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70000"/>
              </a:lnSpc>
              <a:spcBef>
                <a:spcPts val="71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3. Поурочные разработки по литературе 19 в. 10 кл. М.:Вако, 2004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70000"/>
              </a:lnSpc>
              <a:spcBef>
                <a:spcPts val="71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.http://window.edu.ru/window_catalog/redir?id=28079&amp;file=prosv016.pdf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70000"/>
              </a:lnSpc>
              <a:spcBef>
                <a:spcPts val="71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5. Технологии успеха. 1001 совет школьнику/ И.Л.Добротворский. М.:ВЛАДОС,2006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70000"/>
              </a:lnSpc>
              <a:spcBef>
                <a:spcPts val="71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6.Исцеляющий цвет/ Г.Сташевская.- СПб.:ИК «Комплект», 1997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7.  "Арт-Терапия в подготовке специалистов помогающих профессий"/В.Л.Кокоренко.- СПб.: Речь,2008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A0C26-9F11-4059-94C1-D878D3920DE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рцева Ольга Владимировн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дагог-психолог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валификационная категор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У «СОШ №5» г. Усть-Илим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исюк Лариса Серафим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валификационная катего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У «СОШ №5» г. Усть-Илим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C6D74-BBD4-45AC-B5F0-68783DAFBE3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Элеонора Петерсон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(1799 – 1838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95E13-2075-4E2E-95E4-C7940F926CE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Calibri"/>
              </a:rPr>
              <a:t>Элеонора Ботмер, первая жена Ф.И. Тютчева. Миниатюра И. Щелера. 1830-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1826 год – 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Тютчев женится на графине Ботмер. Их семью посещает вся баварская интеллигенция. Тютчев переводит на русский язык стихотворение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Гейне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 «С чужой стороны». Перевод произведения назывался «Сосны» и годом позже был напечатан в «Аонидах». Известно также, что Федор Иванович спорил с немецким философом Шеллинг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DE808-946C-42E4-BD97-25982B62EEC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Это был во многих отношениях необычный, странный брак. Двадцатидвухлетний Тютчев тайно обвенчался с совсем недавно овдовевшей женщиной, матерью четырёх сыновей в возрасте от одного до семи лет, к тому же с женщиной на четыре года старше. Еще и через два года многие в Мюнхене, по свидетельству Генриха Гейне, не знали об этой свадьбе. «Серьёзные умственные запросы были ей чужды», но однако бесконечна очаровательная, обаятельная - писал биограф поэта К.В. Пигарев об Элеоно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9DBF3-F656-4035-B2DA-CADC9136A6C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Можно предположить, что Тютчев решился на женитьбу главным образом ради спасения от мук и унижения, вызванных утратой истинной своей возлюбленной. Но, так или иначе, Тютчев не совершил ошибки. Элеонора беспредельно полюбила его. Она сумела создать уютный и гостеприимный дом. Тютчев прожил с Элеонорой 12 лет. От этого брака у него было три дочери: Анна, Дарья, Екатерина.</a:t>
            </a:r>
            <a:r>
              <a:rPr b="1" lang="ru-RU" sz="1400" spc="-1" strike="noStrike">
                <a:solidFill>
                  <a:srgbClr val="632523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20B9E-BBFE-43D9-BB2C-260975C437C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Calibri"/>
              </a:rPr>
              <a:t>Элеонора Тютчева, первая жена поэта. Художник И. Штилер. 1830-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Ещё томлюсь тоской желани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Ещё стремлюсь к тебе душой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И в сумраке воспомин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Ещё ловлю я образ твой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Твой милый образ, незабвенны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Он предо мной везде, всегд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Недостижимый, неизменны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Как ночью на небе звезда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184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06463-3582-4965-9F0F-84865B5FE7C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Calibri"/>
              </a:rPr>
              <a:t>Ф.И. Тютчев. </a:t>
            </a:r>
            <a:br>
              <a:rPr sz="1000"/>
            </a:br>
            <a:r>
              <a:rPr b="0" lang="ru-RU" sz="1000" spc="-1" strike="noStrike">
                <a:solidFill>
                  <a:srgbClr val="002060"/>
                </a:solidFill>
                <a:latin typeface="Calibri"/>
              </a:rPr>
              <a:t>Художник И. Рехберг. 183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В часы, когда бывает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Так тяжко на груди,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И сердце изнывает,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И тьма лишь впереди;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Без сил и без движенья,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Мы так удручены,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Что даже утешенья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Друзей нам не смешны, –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Вдруг солнца луч приветный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Войдет украдкой к нам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И брызнет огнецветной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Струею по стенам;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И с тверди благосклонной,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С лазуревых высот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Вдруг воздух благовонный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В окно на нас пахнет...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Уроков и советов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Они нам не несут,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И от судьбы наветов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Они нас не спасут. </a:t>
            </a:r>
            <a:br>
              <a:rPr sz="800"/>
            </a:b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Но силу их мы чуем,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Их слышим благодать,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И меньше мы тоскуем,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И легче нам дышать...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Так мило-благодатна,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Воздушна и светла,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Душе моей стократно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Любовь твоя была.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(1858) </a:t>
            </a: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Федор Иванович Тютчев, 1838 год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01161-1C96-4FEB-B1D0-7CE2C721BCA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Эрнестина Дёрнберг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(1810 – 189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36485-E0C1-4E32-BEBA-FEBAEB26D49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2884-F203-4175-95B0-4C5D9B63A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450A-70FC-4A6E-82E9-F021BD653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FD48-00A6-49EB-A235-50EC55A96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EF7A-4960-4EFE-A724-F7D1A8021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494A-1649-4FF7-BA39-7276DEF15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A919-D410-4EFA-AC8A-F3F14EAAD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403C-A973-4687-92E4-38C69D934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6C64-FBE7-43B3-B18F-541A2572E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DD26-3F4D-449F-8817-EF6E6DB0A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FD9C-BD33-4F25-959A-CB08E7E0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D071-90D7-4622-92A9-49C54506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E1A3-B97F-4F01-8C02-CAACE76B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6F7B0-799D-404C-9D43-AEA783771B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biographer.ru/biographies/144.html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50920" y="248760"/>
            <a:ext cx="3643200" cy="59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«Нежней мы любим и суеверней…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Любовная лирика Тютчев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4071960" y="357120"/>
            <a:ext cx="4819680" cy="57150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4"/>
          <p:cNvSpPr/>
          <p:nvPr/>
        </p:nvSpPr>
        <p:spPr>
          <a:xfrm>
            <a:off x="5365440" y="6072120"/>
            <a:ext cx="255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Ф.И. Тютче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Художник М. Решетне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021_V.S.O. - With You I'm Born Again.mp3" descr=""/>
          <p:cNvPicPr/>
          <p:nvPr/>
        </p:nvPicPr>
        <p:blipFill>
          <a:blip r:embed="rId2"/>
          <a:stretch/>
        </p:blipFill>
        <p:spPr>
          <a:xfrm>
            <a:off x="17928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7965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00680" y="6215040"/>
            <a:ext cx="471456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Эрнестина Пфеффель, вторая жена поэта. Художник Ф. Дюрк. Начало 1840-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4200" y="785520"/>
            <a:ext cx="35006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1839 год </a:t>
            </a: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– Тютчев женится на баронессе Дернгейм. В этом же году за самовольный отъезд в Швейцарию (чтобы заключить брак) он отставлен со службы и лишен звания камергера. Тютчев с женой переезжают в Мюнхен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3786120" y="214200"/>
            <a:ext cx="5108760" cy="58532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57400" y="5929200"/>
            <a:ext cx="507204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Эрнестина Дёрнберг. Литография Г. Бодмера с портрета работы Й. Штилера. Мюнхен. 183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3840" y="285840"/>
            <a:ext cx="364356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Люблю глаза твои, мой друг,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С игрой их пламенно-чудесной,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Когда их приподымешь вдруг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И, словно молнией небесной,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Окинешь бегло целый круг… Но есть сильней очарованья: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Глаза потупленные ниц,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В минуты страстного лобзанья,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И сквозь опущенных ресниц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Угрюмый, тусклый огнь желань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4000680" y="285840"/>
            <a:ext cx="4933800" cy="58528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Посвящается Эрнестине Тютчевой. 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(Некоторые исследователи творчества Тютчева считают, что стихи посвящены 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Е. Денисьевой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00720" y="1213920"/>
            <a:ext cx="46432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на сидела на полу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 груду писем разбирала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, как остывшую золу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Брала их в руки и бросала.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Брала знакомые листы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 чудно так на них глядела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Как души смотрят с высоты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На ими брошенное тело...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, сколько жизни было тут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Невозвратимо пережитой!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, сколько горестных минут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Любви и радости убитой!..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Стоял я молча в стороне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 пасть готов был на колени,-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 страшно грустно стало мне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Как от присущей милой тен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214200" y="1571760"/>
            <a:ext cx="4324320" cy="43574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28760" y="5500440"/>
            <a:ext cx="364356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Эрнестина Федоровна Тютчева. Петербург. Фото 186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3840" y="642600"/>
            <a:ext cx="442908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Не знаю я, коснется ль благода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Моей души болезненно-греховно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Удастся ль ей воскреснуть и восстать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Пройдет ли обморок духовный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Но если бы душа мог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Здесь, на земле, найти успокоень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Мне благодатью ты б была 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Ты, ты, мое земное провидень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4857840" y="714240"/>
            <a:ext cx="3990960" cy="47628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1857240" y="285840"/>
            <a:ext cx="5214960" cy="52149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713880" y="5643720"/>
            <a:ext cx="757260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Эрнестина Федоровна Тютчева (справа) с дочерью Марией Федоровной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Петербург. Фото 186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7120" y="242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Елена Денисьева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(1826 – 186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6840" y="428760"/>
            <a:ext cx="825804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632523"/>
                </a:solidFill>
                <a:latin typeface="Calibri"/>
              </a:rPr>
              <a:t>В 1850  начинается сближение Тютчева с  Денисьевой. Она училась в  Смольном институте с дочерьми Тютчева. Всей душой  они полюбили друг друга и четырнадцать лет открыто были связаны узами гражданского брака и двумя детьми. В глазах высшего света петербургского света их открытая связь была вызывающе скандальной, причем вся тяжесть осуждения пала на плечи Денисьевой. С официальной своей семьей Тютчев не порывал, тем не менее в гостиных Петербурга и окрестностей его нещадно поносили - ему не могли простить этот роман на стороне, потому что здесь была подлинная страсть, не таимая от света, отличавшаяся постоянством. На  Денисьеву было воздвигнуто общественное гонение. Трудны и тяжелы были для Тютчева и сцены, нередко происходившие между ним и Денисьевой. Мы знаем о ней мало, помимо стихов, посвященных ей Тютчевым. Отрывочные сведения, дошедшие до нас, рисуют нам Денисьеву с чертами иных героинь Достоевского, душевно растерзанных, способных к самым мрачным выходка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1640" y="6071760"/>
            <a:ext cx="414324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Е.А. Денисьева. 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Фото начала 1860-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57120" y="285480"/>
            <a:ext cx="4143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632523"/>
                </a:solidFill>
                <a:latin typeface="Calibri"/>
              </a:rPr>
              <a:t>«Денисьевский» цикл - это собрание стихотворений Ф.И. Тютчева, в которых говорится о его любви к Елене Денисьевой. Отношения поэта с Денисьевой были более чем драматичными, однако продолжались в течение четырнадцати лет. Общество с трудом мирилось с их связью: во-первых, Тютчев был женат, во-вторых, возлюбленная годилась ему в дочери. Но, несмотря ни на что, отношения продолжались.</a:t>
            </a: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4714920" y="214200"/>
            <a:ext cx="3987720" cy="58532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785840" y="6000840"/>
            <a:ext cx="371484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Е.И. Денисьева с дочерью Еленой Тютчевой. Фото 1862–186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4500720" y="285840"/>
            <a:ext cx="4438440" cy="571500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3"/>
          <p:cNvSpPr/>
          <p:nvPr/>
        </p:nvSpPr>
        <p:spPr>
          <a:xfrm>
            <a:off x="285840" y="642960"/>
            <a:ext cx="40719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раз ты слышала признанье: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"Не стою я любви твоей".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ускай мое она созданье -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о как я беден перед ней… Перед любовию твоею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не больно вспомнить о себе -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ою, молчу, благоговею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 поклоняюся тебе…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гда, порой, так умиленно,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 такою верой и мольбой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вольно клонишь ты колено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ед колыбелью дорогой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де спит она - твое рожденье -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вой безымянный херувим, -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йми ж и ты мое смиренье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ед сердцем любящим твоим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86160" y="6214680"/>
            <a:ext cx="450072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Е.И. Денисьева.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 Художник Иванов. 1850-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56760" y="500040"/>
            <a:ext cx="371484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О, как на склоне наших лет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Нежней мы любим и суеверней…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Сияй, сияй, прощальный свет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Любви последней, зари вечерней!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Полнеба обхватила тень,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Лишь там, на западе, бродит сиянье, -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Помедли, помедли, вечерний день,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Продлись, продлись очаровань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Пускай скудеет в жилах кровь,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Но в сердце не скудеет нежность…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О ты, последняя любовь!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Ты и блаженство и безнадежно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4214880" y="285840"/>
            <a:ext cx="4556160" cy="58528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42920" y="357120"/>
            <a:ext cx="46432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Выдающимся явлением в русской и мировой литературе была любовная лирика Тютчева, отличающаяся глубиной мысли, поэтической силой в передаче человеческих чувств и ярко индивидуализированным лирическим образом женщины, любящей “наперекор и людям, и судьбе” .</a:t>
            </a:r>
            <a:r>
              <a:rPr b="1" lang="ru-RU" sz="2800" spc="-1" strike="noStrike">
                <a:solidFill>
                  <a:srgbClr val="632523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5000760" y="571680"/>
            <a:ext cx="3857400" cy="54291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876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Амалия фон Лерхенфельд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(1808 – 1888)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357800" y="5214600"/>
            <a:ext cx="400032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Амалия Адлерберг. 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Художник А. Цебенс. 186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14200" y="214200"/>
            <a:ext cx="357192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32523"/>
                </a:solidFill>
                <a:latin typeface="Calibri"/>
              </a:rPr>
              <a:t>Весной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1823 </a:t>
            </a:r>
            <a:r>
              <a:rPr b="1" lang="ru-RU" sz="2000" spc="-1" strike="noStrike">
                <a:solidFill>
                  <a:srgbClr val="632523"/>
                </a:solidFill>
                <a:latin typeface="Calibri"/>
              </a:rPr>
              <a:t>года Тютчев влюбился в совсем ещё юную Амалию фон Лерхенфельд. Амалия лишь считалась дочерью видного мюнхенского дипломата графа Максимилиана фон Лерхенфельд-Кеферинга. На самом деле она была внебрачной дочерью прусского короля Фридриха-Вильгельма III и княгини Турн-и-Таксис (и являлась, таким образом, побочной сестрой другой дочери этого короля-русской императрицы Александры Федоровны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3786120" y="1214280"/>
            <a:ext cx="5111640" cy="38084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500040"/>
            <a:ext cx="832968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Королевская дочь, ослепительной красоты, Амалия явно стремилась добиться как можно более высокого положения в обществе. И это ей удалось. За время отъезда Тютчева в отпуск Амалия обвенчалась с его сослуживцем, бароном Александром Сергеевичем Крюндером. Неизвестно, когда точно Тютчев узнал о свадьбе Амалии, но легко представить себе его тогдашнюю боль и отчаянье. Шли годы, и в 1870 г. Тютчеву довелось вновь встретить уже и немолодую Амалию Максимилиановну в Карсбаде, куда поэт приехал лечиться.. Тогда-то и было написано стихотворение «Я встретил вас…». Но, несмотря на обиды, взаимоотношения Амалии с Тютчевым продолжались целых полвека, несмотря на то, что он был женат на другой, он посвятил ей стихи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00680" y="6143760"/>
            <a:ext cx="471456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Ф.И. Тютчев.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 Неизвестный художник. 1819–182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14200" y="142920"/>
            <a:ext cx="37864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Я помню время золотое,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Я помню сердцу милый край.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День вечерел; мы были двое;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Внизу, в тени, шумел Дунай. И на холму, там, где, белея,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Руина замка вдаль глядит,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Стояла ты, младая фея,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На мшистый опершись гранит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Ногой младенческой касаясь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Обломков груды вековой;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И солнце медлило, прощаясь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С холмом, и с замком, и тобой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И ветер тихий мимолетом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Твоей одеждою играл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И с диких яблонь цвет за цветом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На плечи юные свевал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Ты беззаботно вдаль глядела…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Край неба дымно гас в лучах;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День догорал; звучнее пела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Река в померкших берегах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И ты с веселостью беспечной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Счастливый провожала день;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И сладко жизни быстротечной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Над нами пролетала тень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4071960" y="285840"/>
            <a:ext cx="4857840" cy="58528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500440" y="471456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Амалия Крюденер. 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Фотография с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портрета маслом работы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художника И.Штилера. 1838 г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5572080" y="514440"/>
            <a:ext cx="3214800" cy="42656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213840" y="285840"/>
            <a:ext cx="5357880" cy="63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Твой милый взор, невинной страсти полный,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Златой рассвет небесных чувств твоих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Не мог - увы! умилостивить их -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Он служит им укорою безмолвно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Сии сердца, в которых правды нет,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Они, о друг, бегут, как приговора,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Твоей любви младенческого взора. 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Он страшен им, как память детских лет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Но для меня сей взор благодеянье;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Как жизни ключ, в душевной глубине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Твой взор живет и будет жить во мне: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Он нужен ей, как небо и дыхань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Таков горе - духов блаженный свет;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Лишь в небесах сияет он, небесный;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В ночи греха, на дне ужасной бездны,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Сей чистый огнь, как пламень адский, жжет.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57200" y="285840"/>
            <a:ext cx="40384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К. Б.</a:t>
            </a:r>
            <a:br>
              <a:rPr sz="24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Я встретил вас - и все былое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В отжившем сердце ожило;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Я вспомнил время золотое -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 сердцу стало так тепло...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Как поздней осени порою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Бывают дни, бывает час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Когда повеет вдруг весною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 что-то встрепенется в нас,-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Так, весь обвеян духовеньем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Тех лет душевной полноты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С давно забытым упоеньем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Смотрю на милые черты...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Как после вековой разлуки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Гляжу на вас, как бы во сне,-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 вот - слышнее стали звуки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Не умолкавшие во мне...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Тут не одно воспоминанье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Тут жизнь заговорила вновь,-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 то же в нас очарованье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 та ж в душе моей любовь!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4643280" y="500040"/>
            <a:ext cx="4286520" cy="57866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6840" y="285480"/>
            <a:ext cx="368604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Нам не дано предугадать,</a:t>
            </a:r>
            <a:br>
              <a:rPr sz="3600"/>
            </a:b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Как слово наше отзовется, -</a:t>
            </a:r>
            <a:br>
              <a:rPr sz="3600"/>
            </a:b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И нам сочувствие дается,</a:t>
            </a:r>
            <a:br>
              <a:rPr sz="3600"/>
            </a:b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Как нам дается благодать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4357800" y="357120"/>
            <a:ext cx="4500360" cy="6143760"/>
          </a:xfrm>
          <a:prstGeom prst="rect">
            <a:avLst/>
          </a:prstGeom>
          <a:ln w="0">
            <a:noFill/>
          </a:ln>
        </p:spPr>
      </p:pic>
      <p:pic>
        <p:nvPicPr>
          <p:cNvPr id="111" name="kb_romans.mp3" descr=""/>
          <p:cNvPicPr/>
          <p:nvPr/>
        </p:nvPicPr>
        <p:blipFill>
          <a:blip r:embed="rId2"/>
          <a:stretch/>
        </p:blipFill>
        <p:spPr>
          <a:xfrm>
            <a:off x="39528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08848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14200" y="1214280"/>
            <a:ext cx="385776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Не то, что мните вы, природ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Не слепок, не бездушный лик 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В ней есть душа, в ней есть свобода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В ней есть любовь, в ней есть язык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4200480" y="357120"/>
            <a:ext cx="4756320" cy="5500800"/>
          </a:xfrm>
          <a:prstGeom prst="rect">
            <a:avLst/>
          </a:prstGeom>
          <a:ln w="0">
            <a:noFill/>
          </a:ln>
        </p:spPr>
      </p:pic>
      <p:pic>
        <p:nvPicPr>
          <p:cNvPr id="114" name="025_Dinu Radu - Einsame Hirte.mp3" descr=""/>
          <p:cNvPicPr/>
          <p:nvPr/>
        </p:nvPicPr>
        <p:blipFill>
          <a:blip r:embed="rId2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7731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Список литерату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 Анализ лирики в старших классах: 10-11/ И.Е.Каплан.-М.: Экзамен, 200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Литература учит: 10кл.: книга для учащихся. М.: Просвещение, 199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 Поурочные разработки по литературе 19 в. 10 кл. М.:Вако, 20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http://window.edu.ru/window_catalog/redir?id=28079&amp;file=prosv016.pdf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 Технологии успеха. 1001 совет школьнику/ И.Л.Добротворский. М.:ВЛАДОС,20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6.Исцеляющий цвет/ Г.Сташевская.- СПб.:ИК «Комплект», 199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7.  "Арт-Терапия в подготовке специалистов помогающих профессий"/В.Л.Кокоренко.- СПб.: Речь,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388944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рцева Ольга Владимировн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дагог-психолог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валификационная категори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СОШ №5» г. Усть-Илимс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066920" y="4941720"/>
            <a:ext cx="460836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нисюк Лариса Серафим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валификационная категор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СОШ №5» г. Усть-Илимс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4" descr="SL375905"/>
          <p:cNvPicPr/>
          <p:nvPr/>
        </p:nvPicPr>
        <p:blipFill>
          <a:blip r:embed="rId1"/>
          <a:stretch/>
        </p:blipFill>
        <p:spPr>
          <a:xfrm>
            <a:off x="1116000" y="1700280"/>
            <a:ext cx="2160720" cy="4176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IMG_2306"/>
          <p:cNvPicPr/>
          <p:nvPr/>
        </p:nvPicPr>
        <p:blipFill>
          <a:blip r:embed="rId2"/>
          <a:stretch/>
        </p:blipFill>
        <p:spPr>
          <a:xfrm>
            <a:off x="5867280" y="333360"/>
            <a:ext cx="2181240" cy="45356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8760" y="242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Элеонора Петерсон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(1799 – 1838)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57800" y="6143400"/>
            <a:ext cx="457200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Элеонора Ботмер, первая жена Ф.И. Тютчева. Миниатюра И. Щелера. 1830-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14200" y="214200"/>
            <a:ext cx="350064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1826 год – </a:t>
            </a: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Тютчев женится на графине Ботмер. Их семью посещает вся баварская интеллигенция. Тютчев переводит на русский язык стихотворение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Гейне</a:t>
            </a: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 «С чужой стороны». Перевод произведения назывался «Сосны» и годом позже был напечатан в «Аонидах». Известно также, что Федор Иванович спорил с немецким философом Шеллинго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4214880" y="214200"/>
            <a:ext cx="4641840" cy="58532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647960" y="213840"/>
            <a:ext cx="435276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632523"/>
                </a:solidFill>
                <a:latin typeface="Calibri"/>
              </a:rPr>
              <a:t>Это был во многих отношениях необычный, странный брак. Двадцатидвухлетний Тютчев тайно обвенчался с совсем недавно овдовевшей женщиной, матерью четырёх сыновей в возрасте от одного до семи лет, к тому же с женщиной на четыре года старше. Еще и через два года многие в Мюнхене, по свидетельству Генриха Гейне, не знали об этой свадьбе. «Серьёзные умственные запросы были ей чужды», но однако бесконечна очаровательная, обаятельная - писал биограф поэта К.В. Пигарев об Элеонор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214200" y="785880"/>
            <a:ext cx="4038840" cy="505944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8"/>
          <p:cNvSpPr/>
          <p:nvPr/>
        </p:nvSpPr>
        <p:spPr>
          <a:xfrm>
            <a:off x="285840" y="5929200"/>
            <a:ext cx="428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Ф.И. Тютчев. Неизвестный художник. 18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648320" y="285840"/>
            <a:ext cx="420984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632523"/>
                </a:solidFill>
                <a:latin typeface="Calibri"/>
              </a:rPr>
              <a:t>Можно предположить, что Тютчев решился на женитьбу главным образом ради спасения от мук и унижения, вызванных утратой истинной своей возлюбленной. Но, так или иначе, Тютчев не совершил ошибки. Элеонора беспредельно полюбила его. Она сумела создать уютный и гостеприимный дом. Тютчев прожил с Элеонорой 12 лет. От этого брака у него было три дочери: Анна, Дарья, Екатерина.</a:t>
            </a:r>
            <a:r>
              <a:rPr b="1" lang="ru-RU" sz="2300" spc="-1" strike="noStrike">
                <a:solidFill>
                  <a:srgbClr val="632523"/>
                </a:solidFill>
                <a:latin typeface="Calibri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642960" y="642960"/>
            <a:ext cx="3689280" cy="452592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5"/>
          <p:cNvSpPr/>
          <p:nvPr/>
        </p:nvSpPr>
        <p:spPr>
          <a:xfrm>
            <a:off x="214200" y="550080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Ф.И. Тютчев. Неизвестный художни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18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42920" y="6072120"/>
            <a:ext cx="392940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Элеонора Тютчева, первая жена поэта. Художник И. Штилер. 1830-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4643280" y="142920"/>
            <a:ext cx="4013280" cy="5853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13840" y="785520"/>
            <a:ext cx="43578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Ещё томлюсь тоской желани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Ещё стремлюсь к тебе душой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И в сумраке воспомина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Ещё ловлю я образ твой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Твой милый образ, незабвенны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Он предо мной везде, всегд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Недостижимый, неизменны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Как ночью на небе звезда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184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214960" y="6072120"/>
            <a:ext cx="328608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Ф.И. Тютчев. 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Художник И. Рехберг. 183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840" y="214200"/>
            <a:ext cx="442908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 часы, когда бывает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Так тяжко на груди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И сердце изнывает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И тьма лишь впереди;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Без сил и без движенья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Мы так удручены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Что даже утешенья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Друзей нам не смешны, –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друг солнца луч приветный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ойдет украдкой к нам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И брызнет огнецветной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Струею по стенам;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И с тверди благосклонной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С лазуревых высот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друг воздух благовонный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 окно на нас пахнет...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Уроков и советов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Они нам не несут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И от судьбы наветов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Они нас не спасут. 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Но силу их мы чуем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Их слышим благодать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И меньше мы тоскуем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И легче нам дышать...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Так мило-благодатна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оздушна и светла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Душе моей стократно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Любовь твоя была.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(1858) 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Федор Иванович Тютчев, 1838 год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4857840" y="357120"/>
            <a:ext cx="3781440" cy="55911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57120" y="271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Эрнестина Дёрнберг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(1810 – 189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7T08:18:47Z</dcterms:created>
  <dc:creator>Илья</dc:creator>
  <dc:description>rusedu.ru</dc:description>
  <dc:language>en-US</dc:language>
  <cp:lastModifiedBy>LEGION</cp:lastModifiedBy>
  <dcterms:modified xsi:type="dcterms:W3CDTF">2015-01-20T08:19:02Z</dcterms:modified>
  <cp:revision>155</cp:revision>
  <dc:subject/>
  <dc:title>Биография Тютчева</dc:title>
</cp:coreProperties>
</file>