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91AA-2E3B-4273-B7E7-F12830BC7DE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Александр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DA1A-1BA5-4154-B1AC-204A9DA528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3 в «Новом мире» опубликовал 3 рассказа: «Матренин двор»(1959</a:t>
            </a:r>
            <a:r>
              <a:rPr b="1" lang="en-US" sz="1200" spc="-1" strike="noStrike">
                <a:solidFill>
                  <a:srgbClr val="262699"/>
                </a:solidFill>
                <a:latin typeface="宋体"/>
              </a:rPr>
              <a:t>)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; «Случай на станции Кочетовка» (1962) и «Для пользы дела» (1963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ябре 1969 Солженицына исключили из Союза писателей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7240-71F4-4E54-903A-2CE5557761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17CD-0A98-4592-B806-D2C76E9B8FC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97 избран действительным членом Академии наук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1784-CD57-4EDE-94FF-6722CC56F60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C46E-AFA3-42E6-A085-38D7FA7C6A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чь с 3 на 4 августа 2008 года Солженицын скончался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2186-DABB-4111-98BD-11D66EBDFD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Пир победителей" (сатирическая пьеса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Один день Ивана Денисовича" (195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атренин двор" (1959-1960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Случай на станции Кречетовк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ля пользы дел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Захар-Калита" (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В круге первом" (1955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аковый корпус" (1963-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вгуст 1914" (1971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Красное Колесо: Повествованье в отмеренных сроках в четырёх узлах" (1971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рхипелаг ГУЛАГ" (1958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Ленин в Цюрихе" (197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Бодался телёнок с дубом" (1975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Эго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 краях"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олодняк" (1995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стенька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брикосовое варенье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Угодило зёрнышко промеж двух жерновов" (1998-200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оссия в обвале" (199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вести лет вместе" (1975-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Желябугские выселки" (1999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длиг Швенкиттен " (199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D907-A454-41F1-BC7A-26663DD3B5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Мать – Таисия Захаровна Щербак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из семьи богатого землевладельца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. Отец – Исаакий Семенович Солженицын во время Первой Мировой войны пошел на фронт добровольцем и служил офицером. Он погиб до рождения сына, 15 июня 1918 года, уже после демобилизации (в результате несчастного случая на охоте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Исаакий Семенович Солженицын изображен под именем Сани Лаженицына в эпопее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F2C8-F181-4298-A185-C092606BB1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CB4A-D258-4437-8B82-D17751C278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852B-C255-4046-A141-08F29A7AC2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BF0A-0776-41DC-B195-3E4D8BC1475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оизведен в капитан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1212-443A-4DF8-B7B9-49A1C1E72B8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228E-A038-4BCA-91DA-9781E9AC99C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A24C-2268-48E3-BE73-5CA5703622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70CE-8192-42F9-ADD2-FE6928EFC9E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797-69D2-402E-9409-86FA966D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D34-F4F1-4D00-8C46-DD10C7A3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7E1-D050-455B-88BA-6CDD44D6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F43-3828-43C3-AECA-254B739E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A33F-3CD2-40E0-94F2-DD892EE9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E12C-AB29-40A4-8702-A5BDE765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5C52-5BF0-4471-892A-6EE1AF5A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AAE4-4F42-4B9A-8C96-CA4245C8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FE9F-3912-4328-9EAC-083D3BAF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DDC6-D46D-4A18-A1B3-DAFCE39D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6779-923A-4CCA-AA93-213F9B8B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4A9-5FCD-4435-86EC-F4E8212E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FFEB-3E2D-4F96-9ABB-94DA2337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CB2A-7AEC-40CE-A8B4-918715A4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59C4-DFCF-408E-9A45-ED461BBA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D721-DDE4-4FB4-9DE2-672D04FF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F06A-86B2-41F6-81B4-1CCECEEE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CD3-ABE0-4B96-95CF-7E2C6651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993-89A9-4391-A397-46B720A4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172-28A2-422D-AEAB-7E1BDF67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3B1-6929-42FC-BCFD-1A5B249D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867-2B9F-43BB-92A2-D9194D09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73E-F15E-47A6-AD8C-DD3F22B2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C99-57E0-4F39-A698-3B4ADD55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8020-8A37-45BB-9A18-9A67927D7EF1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22B5-F507-4D31-953F-D699CFEA3986}" type="slidenum">
              <a:rPr b="0" lang="zh-CN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46432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Александр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5840" y="5214960"/>
            <a:ext cx="421488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20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043640" y="2071800"/>
            <a:ext cx="253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Иса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50720" y="3571920"/>
            <a:ext cx="37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Солжениц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jzl-116.jpg"/>
          <p:cNvPicPr/>
          <p:nvPr/>
        </p:nvPicPr>
        <p:blipFill>
          <a:blip r:embed="rId1"/>
          <a:stretch/>
        </p:blipFill>
        <p:spPr>
          <a:xfrm>
            <a:off x="4643280" y="500040"/>
            <a:ext cx="4329360" cy="578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0" y="1429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3 в «Новом мире» опубликовал 3 рассказа: «Матренин двор»(1959</a:t>
            </a:r>
            <a:r>
              <a:rPr b="1" lang="en-US" sz="1800" spc="-1" strike="noStrike">
                <a:solidFill>
                  <a:srgbClr val="dd7e0e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; «Случай на станции Кочетовка» (1962) и «Для пользы дела» (196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ябре 1969 Солженицына исключили из Союза пис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42920" y="142920"/>
            <a:ext cx="40003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7e0e"/>
                </a:solidFill>
                <a:latin typeface="Arial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Рисунок6.jpg"/>
          <p:cNvPicPr/>
          <p:nvPr/>
        </p:nvPicPr>
        <p:blipFill>
          <a:blip r:embed="rId1"/>
          <a:stretch/>
        </p:blipFill>
        <p:spPr>
          <a:xfrm>
            <a:off x="4554360" y="214200"/>
            <a:ext cx="428004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571680" y="4287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27 мая 1994 Солженицын вернулся в Россию. После своего приезда Солженицын поселился под Москвой, в выделенном ему владении в деревне Троице-Лыково, где продолжил заниматься литературным тру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2" descr="Рисунок7.jpg"/>
          <p:cNvPicPr/>
          <p:nvPr/>
        </p:nvPicPr>
        <p:blipFill>
          <a:blip r:embed="rId1"/>
          <a:stretch/>
        </p:blipFill>
        <p:spPr>
          <a:xfrm>
            <a:off x="142920" y="1714680"/>
            <a:ext cx="4572000" cy="29001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" descr="jzl-103.jpg"/>
          <p:cNvPicPr/>
          <p:nvPr/>
        </p:nvPicPr>
        <p:blipFill>
          <a:blip r:embed="rId2"/>
          <a:stretch/>
        </p:blipFill>
        <p:spPr>
          <a:xfrm>
            <a:off x="4071960" y="3000240"/>
            <a:ext cx="4662360" cy="3571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214200" y="500076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97 избран действительным членом Академии наук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357120" y="35712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jzl-090.jpg"/>
          <p:cNvPicPr/>
          <p:nvPr/>
        </p:nvPicPr>
        <p:blipFill>
          <a:blip r:embed="rId1"/>
          <a:stretch/>
        </p:blipFill>
        <p:spPr>
          <a:xfrm>
            <a:off x="2357280" y="3429000"/>
            <a:ext cx="4588200" cy="3000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jzl-076.jpg"/>
          <p:cNvPicPr/>
          <p:nvPr/>
        </p:nvPicPr>
        <p:blipFill>
          <a:blip r:embed="rId2"/>
          <a:stretch/>
        </p:blipFill>
        <p:spPr>
          <a:xfrm>
            <a:off x="4789440" y="214200"/>
            <a:ext cx="42274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642960" y="214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чь с 3 на 4 августа 2008 года Солженицын сконч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857160" y="600084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Его похоронили 6 августа, в центральной части старого кладбища на территории Донского 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" descr="jzl-121.jpg"/>
          <p:cNvPicPr/>
          <p:nvPr/>
        </p:nvPicPr>
        <p:blipFill>
          <a:blip r:embed="rId1"/>
          <a:stretch/>
        </p:blipFill>
        <p:spPr>
          <a:xfrm>
            <a:off x="1357200" y="642960"/>
            <a:ext cx="6048360" cy="5262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7e0e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14200" y="785880"/>
            <a:ext cx="8715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Пир победителей" (сатирическая пье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Один день Ивана Денисовича" (19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атренин двор" (1959-196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Случай на станции Кречетовк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ля пользы дел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Захар-Калита" (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В круге первом" (1955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аковый корпус" (1963-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вгуст 1914" (197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Красное Колесо: Повествованье в отмеренных сроках в четырёх узлах" (1971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рхипелаг ГУЛАГ" (1958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Ленин в Цюрихе" (19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Бодался телёнок с дубом" (1975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Эго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 краях"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олодняк" (199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стенька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брикосовое варенье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Угодило зёрнышко промеж двух жерновов" (1998-200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оссия в обвале" (199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вести лет вместе" (1975-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Желябугские выселки" (199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длиг Швенкиттен " (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7" descr=""/>
          <p:cNvPicPr/>
          <p:nvPr/>
        </p:nvPicPr>
        <p:blipFill>
          <a:blip r:embed="rId1"/>
          <a:stretch/>
        </p:blipFill>
        <p:spPr>
          <a:xfrm>
            <a:off x="6095880" y="-30240"/>
            <a:ext cx="3017880" cy="6527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родители1.jpg"/>
          <p:cNvPicPr/>
          <p:nvPr/>
        </p:nvPicPr>
        <p:blipFill>
          <a:blip r:embed="rId2"/>
          <a:stretch/>
        </p:blipFill>
        <p:spPr>
          <a:xfrm>
            <a:off x="2306520" y="233280"/>
            <a:ext cx="3908520" cy="2481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0"/>
          <p:cNvSpPr/>
          <p:nvPr/>
        </p:nvSpPr>
        <p:spPr>
          <a:xfrm>
            <a:off x="0" y="428760"/>
            <a:ext cx="214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11" descr="дом в Кисловодске1.jpg"/>
          <p:cNvPicPr/>
          <p:nvPr/>
        </p:nvPicPr>
        <p:blipFill>
          <a:blip r:embed="rId3"/>
          <a:stretch/>
        </p:blipFill>
        <p:spPr>
          <a:xfrm>
            <a:off x="142920" y="3551400"/>
            <a:ext cx="3571920" cy="2377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Рисунок1.jpg"/>
          <p:cNvPicPr/>
          <p:nvPr/>
        </p:nvPicPr>
        <p:blipFill>
          <a:blip r:embed="rId4"/>
          <a:stretch/>
        </p:blipFill>
        <p:spPr>
          <a:xfrm>
            <a:off x="3857760" y="2928960"/>
            <a:ext cx="22748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2920" y="214200"/>
            <a:ext cx="46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1924 году - Ростов - на - Дону.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младших классах подвергался насмешкам за ношение крестика и нежелание вступать в пионеры.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Несмотря на постоянные материальные и жилищные трудности, Солженицын в 1936, закончив среднюю школу, поступил на физико-математический факультет Ростовского универс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школа.jpg"/>
          <p:cNvPicPr/>
          <p:nvPr/>
        </p:nvPicPr>
        <p:blipFill>
          <a:blip r:embed="rId1"/>
          <a:stretch/>
        </p:blipFill>
        <p:spPr>
          <a:xfrm>
            <a:off x="4929120" y="142920"/>
            <a:ext cx="401652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2500200" y="3286080"/>
            <a:ext cx="242892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dd7e0e"/>
                </a:solidFill>
                <a:latin typeface="Arial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jzl-021.jpg"/>
          <p:cNvPicPr/>
          <p:nvPr/>
        </p:nvPicPr>
        <p:blipFill>
          <a:blip r:embed="rId2"/>
          <a:stretch/>
        </p:blipFill>
        <p:spPr>
          <a:xfrm>
            <a:off x="5000760" y="3071880"/>
            <a:ext cx="3929040" cy="3521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Рисунок2.jpg"/>
          <p:cNvPicPr/>
          <p:nvPr/>
        </p:nvPicPr>
        <p:blipFill>
          <a:blip r:embed="rId3"/>
          <a:stretch/>
        </p:blipFill>
        <p:spPr>
          <a:xfrm>
            <a:off x="142920" y="3143160"/>
            <a:ext cx="2335320" cy="347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"/>
          <p:cNvSpPr/>
          <p:nvPr/>
        </p:nvSpPr>
        <p:spPr>
          <a:xfrm>
            <a:off x="285840" y="301680"/>
            <a:ext cx="5000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9" descr="Рисунок3.jpg"/>
          <p:cNvPicPr/>
          <p:nvPr/>
        </p:nvPicPr>
        <p:blipFill>
          <a:blip r:embed="rId1"/>
          <a:stretch/>
        </p:blipFill>
        <p:spPr>
          <a:xfrm>
            <a:off x="5429160" y="714240"/>
            <a:ext cx="3540240" cy="5150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357800" y="35712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jzl-024.jpg"/>
          <p:cNvPicPr/>
          <p:nvPr/>
        </p:nvPicPr>
        <p:blipFill>
          <a:blip r:embed="rId1"/>
          <a:stretch/>
        </p:blipFill>
        <p:spPr>
          <a:xfrm>
            <a:off x="428760" y="785880"/>
            <a:ext cx="369252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85840" y="357120"/>
            <a:ext cx="3500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Произведен в капит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jzl-025.jpg"/>
          <p:cNvPicPr/>
          <p:nvPr/>
        </p:nvPicPr>
        <p:blipFill>
          <a:blip r:embed="rId1"/>
          <a:stretch/>
        </p:blipFill>
        <p:spPr>
          <a:xfrm>
            <a:off x="4394160" y="571680"/>
            <a:ext cx="407988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5"/>
          <p:cNvSpPr/>
          <p:nvPr/>
        </p:nvSpPr>
        <p:spPr>
          <a:xfrm>
            <a:off x="285840" y="142920"/>
            <a:ext cx="371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857760"/>
            <a:ext cx="45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Рисунок4.jpg"/>
          <p:cNvPicPr/>
          <p:nvPr/>
        </p:nvPicPr>
        <p:blipFill>
          <a:blip r:embed="rId1"/>
          <a:stretch/>
        </p:blipFill>
        <p:spPr>
          <a:xfrm>
            <a:off x="5357880" y="214200"/>
            <a:ext cx="2423880" cy="3340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шарашка.jpg"/>
          <p:cNvPicPr/>
          <p:nvPr/>
        </p:nvPicPr>
        <p:blipFill>
          <a:blip r:embed="rId2"/>
          <a:stretch/>
        </p:blipFill>
        <p:spPr>
          <a:xfrm>
            <a:off x="428760" y="3714840"/>
            <a:ext cx="375444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14200" y="4071960"/>
            <a:ext cx="857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кок-терек.jpg"/>
          <p:cNvPicPr/>
          <p:nvPr/>
        </p:nvPicPr>
        <p:blipFill>
          <a:blip r:embed="rId1"/>
          <a:stretch/>
        </p:blipFill>
        <p:spPr>
          <a:xfrm>
            <a:off x="4143240" y="500040"/>
            <a:ext cx="4653000" cy="32576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Рисунок5.jpg"/>
          <p:cNvPicPr/>
          <p:nvPr/>
        </p:nvPicPr>
        <p:blipFill>
          <a:blip r:embed="rId2"/>
          <a:stretch/>
        </p:blipFill>
        <p:spPr>
          <a:xfrm>
            <a:off x="571680" y="214200"/>
            <a:ext cx="2500200" cy="36561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786200" y="42876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52 год – реабилитация и сельская школа недалеко от Рязани, где он учительствует и снимает с женой комнату  у Матрены Захаровой, ставшей прототипом знаменитой  хозяйки «Матрениного дво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Матренина изба.jpg"/>
          <p:cNvPicPr/>
          <p:nvPr/>
        </p:nvPicPr>
        <p:blipFill>
          <a:blip r:embed="rId1"/>
          <a:stretch/>
        </p:blipFill>
        <p:spPr>
          <a:xfrm>
            <a:off x="428760" y="428760"/>
            <a:ext cx="3857400" cy="23763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4929120" y="3000240"/>
            <a:ext cx="350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1960-е.jpg"/>
          <p:cNvPicPr/>
          <p:nvPr/>
        </p:nvPicPr>
        <p:blipFill>
          <a:blip r:embed="rId2"/>
          <a:stretch/>
        </p:blipFill>
        <p:spPr>
          <a:xfrm>
            <a:off x="857160" y="3000240"/>
            <a:ext cx="2714760" cy="354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2:34:37Z</dcterms:created>
  <dc:creator>echo</dc:creator>
  <dc:description/>
  <cp:keywords/>
  <dc:language>en-US</dc:language>
  <cp:lastModifiedBy>LEGION</cp:lastModifiedBy>
  <dcterms:modified xsi:type="dcterms:W3CDTF">2015-01-20T08:20:10Z</dcterms:modified>
  <cp:revision>38</cp:revision>
  <dc:subject/>
  <dc:title>培训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c0000000000010243100207f6000400038000</vt:lpwstr>
  </property>
  <property fmtid="{D5CDD505-2E9C-101B-9397-08002B2CF9AE}" pid="3" name="_TemplateID">
    <vt:lpwstr>TC062561682052</vt:lpwstr>
  </property>
</Properties>
</file>