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96B1-CE54-4425-A976-3331C0F6D4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Александр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C98E-A63A-4EB2-BCE8-F29263ADE9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3 в «Новом мире» опубликовал 3 рассказа: «Матренин двор»(1959</a:t>
            </a:r>
            <a:r>
              <a:rPr b="1" lang="en-US" sz="1200" spc="-1" strike="noStrike">
                <a:solidFill>
                  <a:srgbClr val="262699"/>
                </a:solidFill>
                <a:latin typeface="宋体"/>
              </a:rPr>
              <a:t>)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; «Случай на станции Кочетовка» (1962) и «Для пользы дела» (1963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ябре 1969 Солженицына исключили из Союза писателей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107C-0CB6-4B4D-B4C8-6C72F2C899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FC4B-E1DE-407C-B8E7-8B152D6068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97 избран действительным членом Академии наук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5357-3E2F-41FC-BEC6-2F6608C915D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0700-881C-40ED-B290-F31F8C975F2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ночь с 3 на 4 августа 2008 года Солженицын скончался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483E-D195-4B9E-886E-AE3952ABB12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262699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Пир победителей" (сатирическая пьеса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Один день Ивана Денисовича" (195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атренин двор" (1959-1960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Случай на станции Кречетовк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ля пользы дела" (1963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Захар-Калита" (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В круге первом" (1955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аковый корпус" (1963-1966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вгуст 1914" (1971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Красное Колесо: Повествованье в отмеренных сроках в четырёх узлах" (1971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рхипелаг ГУЛАГ" (1958-196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Ленин в Цюрихе" (197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Бодался телёнок с дубом" (1975-199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Эго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 краях"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Молодняк" (1995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Настенька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брикосовое варенье" (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Угодило зёрнышко промеж двух жерновов" (1998-2001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Россия в обвале" (1998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Двести лет вместе" (1975-1995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Желябугские выселки" (1999)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• </a:t>
            </a:r>
            <a:r>
              <a:rPr b="0" lang="ru-RU" sz="1200" spc="-1" strike="noStrike">
                <a:solidFill>
                  <a:srgbClr val="262699"/>
                </a:solidFill>
                <a:latin typeface="宋体"/>
              </a:rPr>
              <a:t>"Адлиг Швенкиттен " (1999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66F1-2AA4-4629-B29E-BDF235AB2A7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Мать – Таисия Захаровна Щербак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из семьи богатого землевладельца</a:t>
            </a: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. Отец – Исаакий Семенович Солженицын во время Первой Мировой войны пошел на фронт добровольцем и служил офицером. Он погиб до рождения сына, 15 июня 1918 года, уже после демобилизации (в результате несчастного случая на охоте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Исаакий Семенович Солженицын изображен под именем Сани Лаженицына в эпопее «Красное Колесо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E6A1-7AD0-4D0E-97D0-73B08F87BC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EE4C-E559-4D73-B994-F5AC819ABC3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D82C-FABF-45D5-B4D9-B4DE945EBD6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B842-E85C-408C-9044-4B7537BE35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оизведен в капитаны. 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0084-95C9-477C-AB55-84DD6CCE80C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BD2-5DF4-4137-B4AF-D154B638105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262699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35DE-9717-46CF-A6EC-A7DCB2C8374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62699"/>
                </a:solidFill>
                <a:latin typeface="宋体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17D5-1881-4177-BEEB-AEA515509291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66F7-9CB7-4F27-A849-DBA5F7E6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1D49-C3D9-4A66-91D0-792F670A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058-3015-4433-A705-D5701FD4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2FA-EAD7-40C6-9825-EAFFD861C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C5E22-AF9C-4AA9-B720-85EDA133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C4FA-5BF8-4C5A-A84D-C1CA35F1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FF22-AD10-4CDC-9D24-EFF91ECA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03D2-72A4-4E35-81DA-65CB1E98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1BF3-E46A-4EE0-BADA-81C3D49B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D526-1818-48B0-B4B3-92F40273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4173-ED28-46B9-9FD6-2C078BEC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0174-C8BF-4F9E-A5FB-A3F97CCE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681D-06EE-45F8-A392-CE76405B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2EE6-8B57-41FF-B807-53FD41CD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E579-A704-49E2-BE03-CA48CE3E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68A4-BA8B-4C25-841A-E9794D1B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9B63-01EA-4F56-BF0D-D442EFE1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5C40-B817-4686-A1BE-A268A937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E24D-D53F-41C4-9F83-BAEE277E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0FD-C8BE-4686-8625-2D54E5BC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9ED-198E-4C3F-852B-7BF3CAC0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23F-60D9-46C4-A4DF-B8410F26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A56-C8F7-41CB-AB5C-01753B26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D02-9202-4B48-B776-28825DFA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08DA-78D6-42FB-9B41-13D743C4B4D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fefac9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FF1D-DBC8-42DF-8F44-1E6A707BEFE6}" type="slidenum">
              <a:rPr b="0" lang="zh-CN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46432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Александр</a:t>
            </a:r>
            <a:endParaRPr b="0" lang="en-US" sz="44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5840" y="5214960"/>
            <a:ext cx="421488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d7e0e"/>
                </a:solidFill>
                <a:latin typeface="Tahoma"/>
                <a:ea typeface="Tahoma"/>
              </a:rPr>
              <a:t>(11 декабря 1918-3 августа 2008)</a:t>
            </a:r>
            <a:endParaRPr b="0" lang="en-US" sz="2000" spc="-1" strike="noStrike">
              <a:solidFill>
                <a:srgbClr val="284c6a"/>
              </a:solidFill>
              <a:latin typeface="宋体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043640" y="2071800"/>
            <a:ext cx="253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Иса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450720" y="3571920"/>
            <a:ext cx="37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dd7e0e"/>
                </a:solidFill>
                <a:uFillTx/>
                <a:latin typeface="Arial Black"/>
              </a:rPr>
              <a:t>Солженицы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5" descr="jzl-116.jpg"/>
          <p:cNvPicPr/>
          <p:nvPr/>
        </p:nvPicPr>
        <p:blipFill>
          <a:blip r:embed="rId1"/>
          <a:stretch/>
        </p:blipFill>
        <p:spPr>
          <a:xfrm>
            <a:off x="4643280" y="500040"/>
            <a:ext cx="4329360" cy="578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2"/>
          <p:cNvSpPr/>
          <p:nvPr/>
        </p:nvSpPr>
        <p:spPr>
          <a:xfrm>
            <a:off x="0" y="142920"/>
            <a:ext cx="9144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3 в «Новом мире» опубликовал 3 рассказа: «Матренин двор»(1959</a:t>
            </a:r>
            <a:r>
              <a:rPr b="1" lang="en-US" sz="1800" spc="-1" strike="noStrike">
                <a:solidFill>
                  <a:srgbClr val="dd7e0e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; «Случай на станции Кочетовка» (1962) и «Для пользы дела» (196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1 сентября 1965 сотрудники КГБ изъяли рукописи части стихов, написанных в лагере, романа «В круге первом», цикла прозаических миниатюр «Крохотки» (1958—1960), а также пьес «Пир победителей» (1951) и «Республика труда» (1954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66 «Новый мир»  опубликовал рассказ Солженицына «Захар-Калита» (1965). После этого произведения писателя не печатали в СССР 22 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ябре 1969 Солженицына исключили из Союза писа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0 Александр Исаевич Солженицын стал лауреатом Нобелевской премии в области литерату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74, после опубликования в Париже книги "Архипелаг ГУЛАГ«(1973) писатель-диссидент был арестова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12 февраля 1974 состоялся суд: Александр Солженицын был признан виновным в государственной измене, лишен гражданства и приговорен к высылке из СССР на следующий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42920" y="142920"/>
            <a:ext cx="40003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d7e0e"/>
                </a:solidFill>
                <a:latin typeface="Arial"/>
              </a:rPr>
              <a:t>В 1974—1976 Солженицын жил в Цюрихе (Швейцария). После двух лет пребывания в Цюрихе Александр с семьей переезжает в США и поселяется в штате Вермонт, где писатель завершает третий том «Архипелага ГУЛАГ» (русское издание – 1976, английское – 1978), а также продолжает работу над циклом исторических романов о русской революции, начатым «Августом четырнадцатого» и названным «Красное колесо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2" descr="Рисунок6.jpg"/>
          <p:cNvPicPr/>
          <p:nvPr/>
        </p:nvPicPr>
        <p:blipFill>
          <a:blip r:embed="rId1"/>
          <a:stretch/>
        </p:blipFill>
        <p:spPr>
          <a:xfrm>
            <a:off x="4554360" y="214200"/>
            <a:ext cx="4280040" cy="621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571680" y="42876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27 мая 1994 Солженицын вернулся в Россию. После своего приезда Солженицын поселился под Москвой, в выделенном ему владении в деревне Троице-Лыково, где продолжил заниматься литературным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Рисунок7.jpg"/>
          <p:cNvPicPr/>
          <p:nvPr/>
        </p:nvPicPr>
        <p:blipFill>
          <a:blip r:embed="rId1"/>
          <a:stretch/>
        </p:blipFill>
        <p:spPr>
          <a:xfrm>
            <a:off x="142920" y="1714680"/>
            <a:ext cx="4572000" cy="29001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3" descr="jzl-103.jpg"/>
          <p:cNvPicPr/>
          <p:nvPr/>
        </p:nvPicPr>
        <p:blipFill>
          <a:blip r:embed="rId2"/>
          <a:stretch/>
        </p:blipFill>
        <p:spPr>
          <a:xfrm>
            <a:off x="4071960" y="3000240"/>
            <a:ext cx="4662360" cy="35719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14200" y="500076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1997 избран действительным членом Академии наук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357120" y="357120"/>
            <a:ext cx="428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Солженицын был женат вторым браком (его первый брак с Натальей Решетовской распался в 1972 году). От брака со второй женой Натальей Светловой у него было трое сыновей - Степан (1973 года рождения), Игнат (1972) и Ермолай (197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2" descr="jzl-090.jpg"/>
          <p:cNvPicPr/>
          <p:nvPr/>
        </p:nvPicPr>
        <p:blipFill>
          <a:blip r:embed="rId1"/>
          <a:stretch/>
        </p:blipFill>
        <p:spPr>
          <a:xfrm>
            <a:off x="2357280" y="3429000"/>
            <a:ext cx="4588200" cy="3000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jzl-076.jpg"/>
          <p:cNvPicPr/>
          <p:nvPr/>
        </p:nvPicPr>
        <p:blipFill>
          <a:blip r:embed="rId2"/>
          <a:stretch/>
        </p:blipFill>
        <p:spPr>
          <a:xfrm>
            <a:off x="4789440" y="214200"/>
            <a:ext cx="42274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642960" y="21420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В ночь с 3 на 4 августа 2008 года Солженицын сконч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857160" y="60008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Его похоронили 6 августа, в центральной части старого кладбища на территории Донского монасты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" descr="jzl-121.jpg"/>
          <p:cNvPicPr/>
          <p:nvPr/>
        </p:nvPicPr>
        <p:blipFill>
          <a:blip r:embed="rId1"/>
          <a:stretch/>
        </p:blipFill>
        <p:spPr>
          <a:xfrm>
            <a:off x="1357200" y="642960"/>
            <a:ext cx="6048360" cy="5262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d7e0e"/>
                </a:solidFill>
                <a:uFillTx/>
                <a:latin typeface="Arial Black"/>
              </a:rPr>
              <a:t>Произведения А. И. Солженицы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14200" y="785880"/>
            <a:ext cx="8715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Пир победителей" (сатирическая пье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Один день Ивана Денисовича" (195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атренин двор" (1959-1960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Случай на станции Кречетовк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ля пользы дела" (196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Захар-Калита" (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В круге первом" (1955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аковый корпус" (1963-1966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вгуст 1914" (197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Красное Колесо: Повествованье в отмеренных сроках в четырёх узлах" (1971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рхипелаг ГУЛАГ" (1958-196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Ленин в Цюрихе" (19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Бодался телёнок с дубом" (1975-199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Эго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 краях"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Молодняк" (199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Настенька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брикосовое варенье" (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Угодило зёрнышко промеж двух жерновов" (1998-200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Россия в обвале" (1998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Двести лет вместе" (1975-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Желябугские выселки" (1999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dd7e0e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dd7e0e"/>
                </a:solidFill>
                <a:latin typeface="Arial"/>
              </a:rPr>
              <a:t>"Адлиг Швенкиттен " (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extBox 7" descr=""/>
          <p:cNvPicPr/>
          <p:nvPr/>
        </p:nvPicPr>
        <p:blipFill>
          <a:blip r:embed="rId1"/>
          <a:stretch/>
        </p:blipFill>
        <p:spPr>
          <a:xfrm>
            <a:off x="6095880" y="-30240"/>
            <a:ext cx="3017880" cy="65278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родители1.jpg"/>
          <p:cNvPicPr/>
          <p:nvPr/>
        </p:nvPicPr>
        <p:blipFill>
          <a:blip r:embed="rId2"/>
          <a:stretch/>
        </p:blipFill>
        <p:spPr>
          <a:xfrm>
            <a:off x="2306520" y="233280"/>
            <a:ext cx="3908520" cy="2481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10"/>
          <p:cNvSpPr/>
          <p:nvPr/>
        </p:nvSpPr>
        <p:spPr>
          <a:xfrm>
            <a:off x="0" y="428760"/>
            <a:ext cx="214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Александр Исаевич Солженицын родился 11 декабря 1918 года в Кисловодске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11" descr="дом в Кисловодске1.jpg"/>
          <p:cNvPicPr/>
          <p:nvPr/>
        </p:nvPicPr>
        <p:blipFill>
          <a:blip r:embed="rId3"/>
          <a:stretch/>
        </p:blipFill>
        <p:spPr>
          <a:xfrm>
            <a:off x="142920" y="3551400"/>
            <a:ext cx="3571920" cy="23778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4" descr="Рисунок1.jpg"/>
          <p:cNvPicPr/>
          <p:nvPr/>
        </p:nvPicPr>
        <p:blipFill>
          <a:blip r:embed="rId4"/>
          <a:stretch/>
        </p:blipFill>
        <p:spPr>
          <a:xfrm>
            <a:off x="3857760" y="2928960"/>
            <a:ext cx="22748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42920" y="214200"/>
            <a:ext cx="464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1924 году - Ростов - на - Дону.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младших классах подвергался насмешкам за ношение крестика и нежелание вступать в пионеры.</a:t>
            </a: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Несмотря на постоянные материальные и жилищные трудности, Солженицын в 1936, закончив среднюю школу, поступил на физико-математический факультет Ростовского универс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3" descr="школа.jpg"/>
          <p:cNvPicPr/>
          <p:nvPr/>
        </p:nvPicPr>
        <p:blipFill>
          <a:blip r:embed="rId1"/>
          <a:stretch/>
        </p:blipFill>
        <p:spPr>
          <a:xfrm>
            <a:off x="4929120" y="142920"/>
            <a:ext cx="4016520" cy="2666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500200" y="3286080"/>
            <a:ext cx="242892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dd7e0e"/>
                </a:solidFill>
                <a:latin typeface="Arial"/>
              </a:rPr>
              <a:t>В 1940 г. он женится на своей сокурснице Наталье Решетовской, а в 1941 г., получив диплом математика, заканчивает также заочное отделение Института философии, литературы и истории в Москв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7" descr="jzl-021.jpg"/>
          <p:cNvPicPr/>
          <p:nvPr/>
        </p:nvPicPr>
        <p:blipFill>
          <a:blip r:embed="rId2"/>
          <a:stretch/>
        </p:blipFill>
        <p:spPr>
          <a:xfrm>
            <a:off x="5000760" y="3071880"/>
            <a:ext cx="3929040" cy="352116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Рисунок2.jpg"/>
          <p:cNvPicPr/>
          <p:nvPr/>
        </p:nvPicPr>
        <p:blipFill>
          <a:blip r:embed="rId3"/>
          <a:stretch/>
        </p:blipFill>
        <p:spPr>
          <a:xfrm>
            <a:off x="142920" y="3143160"/>
            <a:ext cx="2335320" cy="34736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6"/>
          <p:cNvSpPr/>
          <p:nvPr/>
        </p:nvSpPr>
        <p:spPr>
          <a:xfrm>
            <a:off x="285840" y="301680"/>
            <a:ext cx="50004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кончание физико-математического факультета Ростовского университета и вступление во взрослую жизнь пришлось на 1941 год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22 июня, получив диплом, он приезжает на экзамены в Московский институт истории, философии, литературы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чередная сессия приходится на начало вой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9" descr="Рисунок3.jpg"/>
          <p:cNvPicPr/>
          <p:nvPr/>
        </p:nvPicPr>
        <p:blipFill>
          <a:blip r:embed="rId1"/>
          <a:stretch/>
        </p:blipFill>
        <p:spPr>
          <a:xfrm>
            <a:off x="5429160" y="714240"/>
            <a:ext cx="3540240" cy="5150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4357800" y="357120"/>
            <a:ext cx="457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Летом 1942 года – звание лейтенанта, а в конце – фронт: Солженицын командует звукобатареей в артиллерийской разведке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Военный опыт Александра Исаевича и работа его звукобатареи отражены в военной прозе «Желябугские выселки» и «Адмиг Швенкитте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2" descr="jzl-024.jpg"/>
          <p:cNvPicPr/>
          <p:nvPr/>
        </p:nvPicPr>
        <p:blipFill>
          <a:blip r:embed="rId1"/>
          <a:stretch/>
        </p:blipFill>
        <p:spPr>
          <a:xfrm>
            <a:off x="428760" y="785880"/>
            <a:ext cx="3692520" cy="52149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85840" y="357120"/>
            <a:ext cx="3500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Офицером-артиллеристом он проходит путь от Орла до Восточной Пруссии, награждается орденами Отечественной войны 2-й степени и Красной Звезды .</a:t>
            </a:r>
            <a:br>
              <a:rPr sz="2800"/>
            </a:br>
            <a:r>
              <a:rPr b="1" lang="ru-RU" sz="2800" spc="-1" strike="noStrike">
                <a:solidFill>
                  <a:srgbClr val="dd7e0e"/>
                </a:solidFill>
                <a:latin typeface="Arial"/>
                <a:ea typeface="Arial"/>
              </a:rPr>
              <a:t>Произведен в капит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jzl-025.jpg"/>
          <p:cNvPicPr/>
          <p:nvPr/>
        </p:nvPicPr>
        <p:blipFill>
          <a:blip r:embed="rId1"/>
          <a:stretch/>
        </p:blipFill>
        <p:spPr>
          <a:xfrm>
            <a:off x="4394160" y="571680"/>
            <a:ext cx="407988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5"/>
          <p:cNvSpPr/>
          <p:nvPr/>
        </p:nvSpPr>
        <p:spPr>
          <a:xfrm>
            <a:off x="285840" y="142920"/>
            <a:ext cx="3714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45 год – А.Солженицын арестован, лишен звания и отправлен в Москву, в следственную тюрьму на Лубянк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риговорен к 8 годам лишения свободы с последующей ссылкой в Сибирь за антисоветскую агитацию и пропаган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4286160" y="3857760"/>
            <a:ext cx="45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После ареста – лагеря: в  Новом Иерусалиме, в Москве у Калужской заставы, где математики, физики, ученые других специальностей вели секретные научные исследования, 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тюрьме № 16 в пригороде Москвы (та самая знаменитая Марфинская «шарашка», описанная в «Круге первом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Рисунок4.jpg"/>
          <p:cNvPicPr/>
          <p:nvPr/>
        </p:nvPicPr>
        <p:blipFill>
          <a:blip r:embed="rId1"/>
          <a:stretch/>
        </p:blipFill>
        <p:spPr>
          <a:xfrm>
            <a:off x="5357880" y="214200"/>
            <a:ext cx="2423880" cy="334008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шарашка.jpg"/>
          <p:cNvPicPr/>
          <p:nvPr/>
        </p:nvPicPr>
        <p:blipFill>
          <a:blip r:embed="rId2"/>
          <a:stretch/>
        </p:blipFill>
        <p:spPr>
          <a:xfrm>
            <a:off x="428760" y="3714840"/>
            <a:ext cx="375444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14200" y="4071960"/>
            <a:ext cx="857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49 года – лагерь в Экибастузе (Казахстан)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лагере для военнопленных  у Солженицына обнаружили рак желудка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Дважды Александр Исаевич лечится в Ташкенте.</a:t>
            </a: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В день выписки из больницы была задумана повесть о страшном недуге – будущий «Раковый корпус»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С 1953 года Солженицын – «вечный ссыльнопоселенец» у глухом ауле Кок-Терек  Джамбульской области, на краю пусты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кок-терек.jpg"/>
          <p:cNvPicPr/>
          <p:nvPr/>
        </p:nvPicPr>
        <p:blipFill>
          <a:blip r:embed="rId1"/>
          <a:stretch/>
        </p:blipFill>
        <p:spPr>
          <a:xfrm>
            <a:off x="4143240" y="500040"/>
            <a:ext cx="4653000" cy="325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3" descr="Рисунок5.jpg"/>
          <p:cNvPicPr/>
          <p:nvPr/>
        </p:nvPicPr>
        <p:blipFill>
          <a:blip r:embed="rId2"/>
          <a:stretch/>
        </p:blipFill>
        <p:spPr>
          <a:xfrm>
            <a:off x="571680" y="214200"/>
            <a:ext cx="2500200" cy="365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4786200" y="42876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  <a:ea typeface="Arial"/>
              </a:rPr>
              <a:t>1952 год – реабилитация и сельская школа недалеко от Рязани, где он учительствует и снимает с женой комнату  у Матрены Захаровой, ставшей прототипом знаменитой  хозяйки «Матрениного двор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Матренина изба.jpg"/>
          <p:cNvPicPr/>
          <p:nvPr/>
        </p:nvPicPr>
        <p:blipFill>
          <a:blip r:embed="rId1"/>
          <a:stretch/>
        </p:blipFill>
        <p:spPr>
          <a:xfrm>
            <a:off x="428760" y="428760"/>
            <a:ext cx="3857400" cy="23763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"/>
          <p:cNvSpPr/>
          <p:nvPr/>
        </p:nvSpPr>
        <p:spPr>
          <a:xfrm>
            <a:off x="4929120" y="3000240"/>
            <a:ext cx="3500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d7e0e"/>
                </a:solidFill>
                <a:latin typeface="Arial"/>
              </a:rPr>
              <a:t>После чего он перебрался в Рязанскую область и работал учителем, одновременно занимаясь литературным трудом. В 1962 году в журнале "Новый мир" была опубликована первая принесшая Солженицыну всемирную славу повесть "Один день Ивана Денисовича", посвященная "лагерной" тема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4" descr="1960-е.jpg"/>
          <p:cNvPicPr/>
          <p:nvPr/>
        </p:nvPicPr>
        <p:blipFill>
          <a:blip r:embed="rId2"/>
          <a:stretch/>
        </p:blipFill>
        <p:spPr>
          <a:xfrm>
            <a:off x="857160" y="3000240"/>
            <a:ext cx="2714760" cy="3543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2:34:37Z</dcterms:created>
  <dc:creator>echo</dc:creator>
  <dc:description/>
  <cp:keywords/>
  <dc:language>en-US</dc:language>
  <cp:lastModifiedBy>LEGION</cp:lastModifiedBy>
  <dcterms:modified xsi:type="dcterms:W3CDTF">2015-01-20T08:20:10Z</dcterms:modified>
  <cp:revision>38</cp:revision>
  <dc:subject/>
  <dc:title>培训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20c0000000000010243100207f6000400038000</vt:lpwstr>
  </property>
  <property fmtid="{D5CDD505-2E9C-101B-9397-08002B2CF9AE}" pid="3" name="_TemplateID">
    <vt:lpwstr>TC062561682052</vt:lpwstr>
  </property>
</Properties>
</file>