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2F165-8016-4A38-9429-4FD715BB2C2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уло Коэль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47 г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F10BB-3605-472B-8C84-8E1ED1D7356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уло Коэльо получили  множество престижных международных наград. Критики отмечают его реалистичный, полный поэзии и философии стиль. Язык символов в романах Коэльо говорит напрямую с сердцами читателей и это делает его романы популярными во всём мире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44C9C-3C22-411C-926E-3542297FD55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итатели Коэльо высоко ценят его духовность, честность, мудрость, а также его интерес к общемировым проблемам и открытость к общению с людьми в независимости от их происхождения и материального полож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1978F-8F9B-4895-810D-0778BD54FA5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уло Коэльо является Почётным советником в программе ЮНЕСКО « Межкультурные и межрелигиозные диалоги». В 2007 году ему было присвоено звание Посла доброй воли ООН, что способствовало его работе в области межкультурного диалога и защите прав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77CC-1CE2-4950-937A-8C3185B2758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2009 году Пауло Коэльо попал в Книгу Рекордов Гиннеса как автор самого переводимого в мире романа (Алхимик). Более того, на Франкфуртской Книжной Ярмарке в 2003 году, он за одну автограф сессию подписал  наибольшее количество разноязычных изданий романа Алхимик (книги на 53 языках), за что также попал в Книгу Рекордов Гиннеса.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66BC1-6039-4101-B863-6AE599AD97E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уло Коэльо родился в Рио-де-Жанейро, Бразилия, 24 августа 1947 в семье инженера. Его родители хотели, чтобы мальчик пошёл по стопам отца, но уже в юности Пауло Коэльо решил, что хочет стать писателем. Его нежелание следовать воле родителей привело к тому, что в возрасте 17 лет Пауло был определён в психиатрическую больницу (1966), где проходил лечение электрошок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CCF7F-D2A8-4BC1-9951-F3EA2F413AA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был выпущен из больницы через три года, совершив три попытки побега. Коэльо позже признался, что его родители приняли решение поместить его в лечебницу потому, что хотели защитить его и не знали, что с ним делать. Опыт и переживания, которые он получил за эти тяжёлые три года Коэльо мастерски изложил в романе «Вероника решает умереть». В юности он также отбыл тюремное заключение за выступления против правящего диктаторского режима в Бразилии (в тюрьме он не раз подвергался пыткам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717F8-96E6-4010-A03C-627165CC17D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упив желанию родителей, Коэльо поступает на юридический факультет, но уже через год он бросает учёбу, присоединяется движению хиппи и путешествует по Америке и Европе. В это же время он становится композитором и пишет песни для многих знаменитых бразильских исполните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A26CE-53C5-47F9-A793-72AC19BA5E4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же Пауло объединил силы с рок-звездой Раулем Сейхасом… Вместе они написали 120 песен (между 1973 и 1982), который революционизировали бразильскую рок-музыку; некоторые из этих песен — хиты и сегодня. Эрика Мармо описал тот период его жизни в своей книге «Песнь Волшебника: Музыкальная Карьера Пауло Коэльо», изданной в 2007 г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61475-C67C-4918-A7B1-228C8567A8E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09 году Пауло Коэльо попал в Книгу Рекордов Гиннеса как автор самого переводимого в мире романа (Алхимик). Более того, на Франкфуртской Книжной Ярмарке в 2003 году, он за одну автограф сессию подписал  наибольшее количество разноязычных изданий романа Алхимик (книги на 53 языках), за что также попал в Книгу Рекордов Гиннеса.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7C1D4-F68D-43BB-82F8-697A5E480DA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уло Коэльо совершил паломничество в 1986 году. Именно там он повторно обратился к христианству и снова обрёл веру, в которой его воспитывали отцы-иезуиты в школьные годы. Позже он описал этот опыт в своей первой книге «Дневник Мага», изданной в 1987 году. В следующем году вышла его вторая, и самая популярная книга «Алхимик». Этот роман не только принёс Коэльо мировую известность, но и обрел статус современной классики. Это история вне времени, которая не перестанет очаровывать и вдохновлять целые поколения будущих чита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9DDE7-F1A0-409F-BA01-949E89FD298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ующими книгами бы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Брида» (1990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ькирии (1992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актуб» (1994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а берегу Рио Пьедра села я и заплакала» (1994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ятая гора» (1996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Книга Воина света» (1997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ероника решает умереть» (1998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«Дьявол и сеньорита Прим» (2000).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A6411-C898-46D5-AE5B-C66AEC61DE6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последние работ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диннадцать минут» — бестселлер 2003 года-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аир» (2005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едьма с Портобелло» (2006) 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обедитель остаётся один» (2008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Алеф (2010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арте 2011 года издательство АСТ впервые на русском языке выпустило роман «Валькирии», а в конце 2011 года готовится к изданию новый роман автора «Алеф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FB9AF-1945-46A4-8D6F-CEA536B1B6E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0C75-8F01-4493-A10A-4A6F02F8B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CF93-D506-40CE-8D74-0BAD26BFB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165B-1D5F-48C9-9842-E16D29CAE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D4BA-BDE5-42A3-8164-D80950FD5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83EFB-0370-489D-B5AF-31B6C2F14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DECA0-9144-4189-A5E9-AC680ADC6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D532F-1E1C-406B-A9F7-FE1C0511B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E56E2-D10E-482D-AD7E-995E04918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BCAD1-2DF6-4C53-970E-B1721D8DD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26618-7D85-4602-A6A2-D17EB31CF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5A0DE-2767-4CA1-A8C7-4881C0C4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BD0C-F6E3-48E2-AFFC-760A05E67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8C46D-D581-4D7F-A4E9-D8417E90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B042C-F753-4600-A921-D2AC0F74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62991-23BA-46FA-8AF2-5F769C61B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79C82-0698-4B17-8486-A5441BAA9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ED362-8B46-4D6E-9650-093D131AC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D56AB1-3790-43D9-A0E6-3F54DBE2A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E5CE86-0533-46DC-9B05-2A9303187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65F5F3-B0D8-40DE-88E3-5B94DDF39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EACC63-26BB-4580-9C04-36AB64991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EFF20E-B330-4B05-8D1A-304EDDCEB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5ED6-EA00-48A8-A9A4-0F620A59B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1BEFAC-9D6E-4928-AD80-FD36A9AF5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551DC8-D81F-45F2-89BA-7F718307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34AA35-8CA7-4BE9-ACDA-C23DAEDC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5EDC14-E4C3-4CB6-A7A5-8EB11C0F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5B7F3F-2835-42D9-A344-5419B4504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C60507-EF05-4745-859B-E28CDAC3F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258BB7-D66C-4A5A-A8B2-479D4239B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19C2B0-F2CC-43CC-A74A-98EA82397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D41330-39A5-42C3-AF44-02D2A74AA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4C2828-FC3A-41C1-9A6A-EE471C896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985D-93CB-4CC3-989B-81C535388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98AF77-F739-4C34-A4CD-FA7E39483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D11A0B-C547-4B20-8E8A-301BE850A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1C9DEE-A84A-4A84-AEBA-CE381A841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46B1A4-582B-4D9F-8FE2-DA95D2CE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BD99DC-9EC2-4197-BC74-7D837525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3166C0-0BB4-47D7-A30E-180730AA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C4432C-0A6D-4F7C-81DF-29D77E894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2DFF3A-28B6-475F-AE99-AF88E6AA0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4D8D11-4298-45C5-B246-265090AE8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82962F-39F8-4A57-8697-CC812C290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CD22-69F7-4BBF-AA03-A480CE782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BCCE7D-2314-4C25-8EF6-571F6ED9E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4C0B45-71BC-4181-A050-B038B8C26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DD4AC8-326E-421B-92EB-652A32FF6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FE501E-6F79-46DF-858A-F2496CA65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A3E69B-B970-4821-AFBC-EB646B08C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8DAAFE-1B00-4F79-964B-DD200403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018E8E-C967-497E-8C02-9489B9A2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77A69D-41F7-4E02-9303-7EC07FD2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58E965-0197-4E1B-B258-409BEFEC5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E1D61E-58AB-45BF-BE39-3BD37C368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7020-5B7B-417C-8B14-DC9F5C3E2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A61B77-1A4C-445A-83E1-2427FAE5E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CABD6-8FD4-4A95-A494-8D6AC8989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40B46-2D00-4E34-9E94-39FA2E707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14C06-B722-4544-89D7-785587A4A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DDDD4-F79F-4851-B9B9-CCCB36BFA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0710E4-B4EF-49BA-9039-13F1B403F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24D3A-646A-4F7D-99E9-365F5FF26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5FFAB-4C1D-434E-A6DC-7E386F2B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057C3-E451-4059-BDF9-73B559B4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E619F-2A3D-4927-A49B-84277F7D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9195-0D36-4CB9-B185-9A01EB78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4B3DC-A97C-48CF-B1E7-E608FA729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F9E2C-08D7-4D59-AEFF-B5B626176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E8197-B597-4947-8943-2285EE0CF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AA42AC-5147-4798-BBFD-79DDE078C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0878A5-962F-4CF1-82E9-CD0277002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6C56B5-6B28-4C5A-9AD5-3DC82A71E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62A2E3-BAE4-4C91-9366-D5D79E8A6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328576-4BB6-4E9B-B8FD-C87ADB022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44A61A-5879-43F5-83B8-AC8203894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7A7860-3075-4320-B657-46CC4345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3015-A02B-4D60-A29B-7F4D15EC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2E1DFA-F71F-4400-B8F2-3FE34C81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3156E6-7EFD-4B98-92AC-3DE512EF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A58BA9-65C0-4055-A8BA-924487EE4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199701-4E3B-4487-BF3B-5F9A27868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89C56A-E781-4BF4-A7C5-FB4B7A275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ED4177-5AE0-4133-B1BF-8D99D8A8F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69148A-FC46-4A04-B76F-BC58645DC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B02EE0-4607-469A-9AF5-CDBC32041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201341-AD7C-4035-9758-5F4F8FD11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44D3FB-58F8-492C-B17B-7E372FCF6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9DB3-7AD0-41AD-9BF6-CB604E27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803610-90CD-4C70-8B77-709E35445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35FAED-BADD-4016-B779-F6AD3026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670F7F-FCBC-4097-ABDE-ED15C71C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DE1A5B-40EA-4271-ADFD-E53E2BB8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7AA6E8-5E3B-4085-8680-AA168D1B2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8FBFB6-D161-41B3-83FD-372D7B33A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096CF5-6816-40BC-BC34-49ADF6041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C0722-C262-46EF-835B-83D0EA79737E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2574D-F5E2-40CD-9113-ECCEAC77C2FA}" type="slidenum">
              <a:rPr b="1" lang="ru-RU" sz="1400" spc="-1" strike="noStrike">
                <a:solidFill>
                  <a:srgbClr val="ebddc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6BA83-F3D7-4938-866F-66B8D6B80C24}" type="slidenum">
              <a:rPr b="1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DE8AB-BFEB-4210-9BED-67B97285BEDC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54313-9D44-488A-99C0-1F1ADA00DB47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1CC03-03CD-44F9-81B4-1B3F0098FAC1}" type="slidenum">
              <a:rPr b="1" lang="ru-RU" sz="1400" spc="-1" strike="noStrike">
                <a:solidFill>
                  <a:srgbClr val="775f55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81F23-56CF-42DA-8135-367EFDF734A6}" type="slidenum">
              <a:rPr b="1" lang="ru-RU" sz="2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E41D7-7BEE-4312-B6E0-3C6C85AB7601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50560" y="1915920"/>
            <a:ext cx="464508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УЛО КОЭЛЬО</a:t>
            </a:r>
            <a:endParaRPr b="0" lang="en-US" sz="5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133200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47 г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74" name="Picture 2" descr="Файл:PAULO COELHO.jpg"/>
          <p:cNvPicPr/>
          <p:nvPr/>
        </p:nvPicPr>
        <p:blipFill>
          <a:blip r:embed="rId1"/>
          <a:stretch/>
        </p:blipFill>
        <p:spPr>
          <a:xfrm>
            <a:off x="5559480" y="1700280"/>
            <a:ext cx="3255840" cy="866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ауло Коэльо получили  множество престижных международных наград. Критики отмечают его реалистичный, полный поэзии и философии стиль. Язык символов в романах Коэльо говорит напрямую с сердцами читателей и это делает его романы популярными во всём мире. 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4" name="Picture 2" descr="F:\п. коэльо\тии.jpg"/>
          <p:cNvPicPr/>
          <p:nvPr/>
        </p:nvPicPr>
        <p:blipFill>
          <a:blip r:embed="rId1"/>
          <a:stretch/>
        </p:blipFill>
        <p:spPr>
          <a:xfrm>
            <a:off x="6786720" y="0"/>
            <a:ext cx="2357280" cy="16066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4" descr="F:\п. коэльо\хз.jpg"/>
          <p:cNvPicPr/>
          <p:nvPr/>
        </p:nvPicPr>
        <p:blipFill>
          <a:blip r:embed="rId2"/>
          <a:stretch/>
        </p:blipFill>
        <p:spPr>
          <a:xfrm>
            <a:off x="0" y="4394160"/>
            <a:ext cx="164304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очитатели Коэльо высоко ценят его духовность, честность, мудрость, а также его интерес к общемировым проблемам и открытость к общению с людьми в независимости от их происхождения и материального положения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8" name="Picture 2" descr="F:\п. коэльо\ьтт.jpg"/>
          <p:cNvPicPr/>
          <p:nvPr/>
        </p:nvPicPr>
        <p:blipFill>
          <a:blip r:embed="rId1"/>
          <a:stretch/>
        </p:blipFill>
        <p:spPr>
          <a:xfrm>
            <a:off x="6215040" y="3984480"/>
            <a:ext cx="2513160" cy="25290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" descr="F:\п. коэльо\ти.jpg"/>
          <p:cNvPicPr/>
          <p:nvPr/>
        </p:nvPicPr>
        <p:blipFill>
          <a:blip r:embed="rId2"/>
          <a:stretch/>
        </p:blipFill>
        <p:spPr>
          <a:xfrm>
            <a:off x="357120" y="4497480"/>
            <a:ext cx="257184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ауло Коэльо является Почётным советником в программе ЮНЕСКО « Межкультурные и межрелигиозные диалоги». В 2007 году ему было присвоено звание Посла доброй воли ООН, что способствовало его работе в области межкультурного диалога и защите прав детей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2" name="Picture 2" descr="F:\п. коэльо\имм.jpg"/>
          <p:cNvPicPr/>
          <p:nvPr/>
        </p:nvPicPr>
        <p:blipFill>
          <a:blip r:embed="rId1"/>
          <a:stretch/>
        </p:blipFill>
        <p:spPr>
          <a:xfrm>
            <a:off x="7215120" y="4357800"/>
            <a:ext cx="1524240" cy="22860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3" descr="F:\п. коэльо\i.jpg"/>
          <p:cNvPicPr/>
          <p:nvPr/>
        </p:nvPicPr>
        <p:blipFill>
          <a:blip r:embed="rId2"/>
          <a:stretch/>
        </p:blipFill>
        <p:spPr>
          <a:xfrm>
            <a:off x="500040" y="4572000"/>
            <a:ext cx="200016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 2009 году Пауло Коэльо попал в Книгу Рекордов Гиннеса как автор самого переводимого в мире романа (Алхимик). Более того, на Франкфуртской Книжной Ярмарке в 2003 году, он за одну автограф сессию подписал  наибольшее количество разноязычных изданий романа Алхимик (книги на 53 языках), за что также попал в Книгу Рекордов Гиннеса.  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4" descr="F:\п. коэльо\хз.jpg"/>
          <p:cNvPicPr/>
          <p:nvPr/>
        </p:nvPicPr>
        <p:blipFill>
          <a:blip r:embed="rId1"/>
          <a:stretch/>
        </p:blipFill>
        <p:spPr>
          <a:xfrm>
            <a:off x="2286000" y="285840"/>
            <a:ext cx="4145040" cy="62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0" y="155736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уло Коэльо родился в Рио-де-Жанейро, Бразилия, 24 августа 1947 в семье инженера. Его родители хотели, чтобы мальчик пошёл по стопам отца, но уже в юности Пауло Коэльо решил, что хочет стать писателем. Его нежелание следовать воле родителей привело к тому, что в возрасте 17 лет Пауло был определён в психиатрическую больницу (1966), где проходил лечение электрошоком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6" name="Picture 2" descr="F:\п. коэльо\i.jpg"/>
          <p:cNvPicPr/>
          <p:nvPr/>
        </p:nvPicPr>
        <p:blipFill>
          <a:blip r:embed="rId1"/>
          <a:stretch/>
        </p:blipFill>
        <p:spPr>
          <a:xfrm>
            <a:off x="6772320" y="0"/>
            <a:ext cx="237168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990720" y="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был выпущен из больницы через три года, совершив три попытки побега. Коэльо позже признался, что его родители приняли решение поместить его в лечебницу потому, что хотели защитить его и не знали, что с ним делать. Опыт и переживания, которые он получил за эти тяжёлые три года Коэльо мастерски изложил в романе «Вероника решает умереть». В юности он также отбыл тюремное заключение за выступления против правящего диктаторского режима в Бразилии (в тюрьме он не раз подвергался пыткам)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8" name="Picture 2" descr="F:\п. коэльо\е.jpg"/>
          <p:cNvPicPr/>
          <p:nvPr/>
        </p:nvPicPr>
        <p:blipFill>
          <a:blip r:embed="rId1"/>
          <a:stretch/>
        </p:blipFill>
        <p:spPr>
          <a:xfrm>
            <a:off x="0" y="3790800"/>
            <a:ext cx="2189160" cy="30672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3" descr="F:\п. коэльо\ти.jpg"/>
          <p:cNvPicPr/>
          <p:nvPr/>
        </p:nvPicPr>
        <p:blipFill>
          <a:blip r:embed="rId2"/>
          <a:stretch/>
        </p:blipFill>
        <p:spPr>
          <a:xfrm>
            <a:off x="3492360" y="4145040"/>
            <a:ext cx="359748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0" y="148428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упив желанию родителей, Коэльо поступает на юридический факультет, но уже через год он бросает учёбу, присоединяется движению хиппи и путешествует по Америке и Европе. В это же время он становится композитором и пишет песни для многих знаменитых бразильских исполнителей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2" name="Picture 2" descr="F:\п. коэльо\имм.jpg"/>
          <p:cNvPicPr/>
          <p:nvPr/>
        </p:nvPicPr>
        <p:blipFill>
          <a:blip r:embed="rId1"/>
          <a:stretch/>
        </p:blipFill>
        <p:spPr>
          <a:xfrm>
            <a:off x="6950160" y="3565440"/>
            <a:ext cx="2193840" cy="32925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3" descr="F:\п. коэльо\г.jpg"/>
          <p:cNvPicPr/>
          <p:nvPr/>
        </p:nvPicPr>
        <p:blipFill>
          <a:blip r:embed="rId2"/>
          <a:stretch/>
        </p:blipFill>
        <p:spPr>
          <a:xfrm>
            <a:off x="2871720" y="4127400"/>
            <a:ext cx="37483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0" y="155736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же Пауло объединил силы с рок-звездой Раулем Сейхасом… Вместе они написали 120 песен (между 1973 и 1982), который революционизировали бразильскую рок-музыку; некоторые из этих песен — хиты и сегодня. Эрика Мармо описал тот период его жизни в своей книге «Песнь Волшебника: Музыкальная Карьера Пауло Коэльо», изданной в 2007 году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6" name="Picture 2" descr="F:\п. коэльо\ти.jpg"/>
          <p:cNvPicPr/>
          <p:nvPr/>
        </p:nvPicPr>
        <p:blipFill>
          <a:blip r:embed="rId1"/>
          <a:stretch/>
        </p:blipFill>
        <p:spPr>
          <a:xfrm>
            <a:off x="5870520" y="4535640"/>
            <a:ext cx="3084480" cy="23223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" descr="F:\п. коэльо\ло.jpg"/>
          <p:cNvPicPr/>
          <p:nvPr/>
        </p:nvPicPr>
        <p:blipFill>
          <a:blip r:embed="rId2"/>
          <a:stretch/>
        </p:blipFill>
        <p:spPr>
          <a:xfrm>
            <a:off x="890640" y="4821120"/>
            <a:ext cx="2138400" cy="37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0" y="162828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09 году Пауло Коэльо попал в Книгу Рекордов Гиннеса как автор самого переводимого в мире романа (Алхимик). Более того, на Франкфуртской Книжной Ярмарке в 2003 году, он за одну автограф сессию подписал  наибольшее количество разноязычных изданий романа Алхимик (книги на 53 языках), за что также попал в Книгу Рекордов Гиннеса.  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0" name="Picture 2" descr="F:\п. коэльо\тии.jpg"/>
          <p:cNvPicPr/>
          <p:nvPr/>
        </p:nvPicPr>
        <p:blipFill>
          <a:blip r:embed="rId1"/>
          <a:stretch/>
        </p:blipFill>
        <p:spPr>
          <a:xfrm>
            <a:off x="6297480" y="4919760"/>
            <a:ext cx="2846520" cy="19382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" descr="F:\п. коэльо\ъ.jpg"/>
          <p:cNvPicPr/>
          <p:nvPr/>
        </p:nvPicPr>
        <p:blipFill>
          <a:blip r:embed="rId2"/>
          <a:stretch/>
        </p:blipFill>
        <p:spPr>
          <a:xfrm>
            <a:off x="0" y="0"/>
            <a:ext cx="27496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тво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уло Коэльо совершил паломничество в 1986 году. Именно там он повторно обратился к христианству и снова обрёл веру, в которой его воспитывали отцы-иезуиты в школьные годы. Позже он описал этот опыт в своей первой книге «Дневник Мага», изданной в 1987 году. В следующем году вышла его вторая, и самая популярная книга «Алхимик». Этот роман не только принёс Коэльо мировую известность, но и обрел статус современной классики. Это история вне времени, которая не перестанет очаровывать и вдохновлять целые поколения будущих читателей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4" name="Picture 2" descr="F:\п. коэльо\х.jpg"/>
          <p:cNvPicPr/>
          <p:nvPr/>
        </p:nvPicPr>
        <p:blipFill>
          <a:blip r:embed="rId1"/>
          <a:stretch/>
        </p:blipFill>
        <p:spPr>
          <a:xfrm>
            <a:off x="7093080" y="260280"/>
            <a:ext cx="1428480" cy="10670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3" descr="F:\п. коэльо\ьтт.jpg"/>
          <p:cNvPicPr/>
          <p:nvPr/>
        </p:nvPicPr>
        <p:blipFill>
          <a:blip r:embed="rId2"/>
          <a:stretch/>
        </p:blipFill>
        <p:spPr>
          <a:xfrm>
            <a:off x="324000" y="5229360"/>
            <a:ext cx="141912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оследующими книгами были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«Брида» (1990)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алькирии (1992)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«Мактуб» (1994)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«На берегу Рио Пьедра села я и заплакала» (1994)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«Пятая гора» (1996)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«Книга Воина света» (1997)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«Вероника решает умереть» (1998)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и «Дьявол и сеньорита Прим» (2000). 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8" name="Picture 2" descr="F:\п. коэльо\ш.jpg"/>
          <p:cNvPicPr/>
          <p:nvPr/>
        </p:nvPicPr>
        <p:blipFill>
          <a:blip r:embed="rId1"/>
          <a:stretch/>
        </p:blipFill>
        <p:spPr>
          <a:xfrm>
            <a:off x="6786720" y="3571920"/>
            <a:ext cx="200016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990720" y="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Его последние работы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«Одиннадцать минут» — бестселлер 2003 года-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«Заир» (2005)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«Ведьма с Портобелло» (2006) 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«Победитель остаётся один» (2008)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 Алеф (2010)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марте 2011 года издательство АСТ впервые на русском языке выпустило роман «Валькирии», а в конце 2011 года готовится к изданию новый роман автора «Алеф»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1" name="Picture 2" descr="F:\п. коэльо\хз.jpg"/>
          <p:cNvPicPr/>
          <p:nvPr/>
        </p:nvPicPr>
        <p:blipFill>
          <a:blip r:embed="rId1"/>
          <a:stretch/>
        </p:blipFill>
        <p:spPr>
          <a:xfrm>
            <a:off x="214200" y="4286160"/>
            <a:ext cx="160668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12:38:38Z</dcterms:created>
  <dc:creator>Женя</dc:creator>
  <dc:description/>
  <dc:language>en-US</dc:language>
  <cp:lastModifiedBy>LEGION</cp:lastModifiedBy>
  <dcterms:modified xsi:type="dcterms:W3CDTF">2015-01-20T08:20:44Z</dcterms:modified>
  <cp:revision>9</cp:revision>
  <dc:subject/>
  <dc:title>Пауло Коэльо</dc:title>
</cp:coreProperties>
</file>