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FC65-95C0-401C-B375-F4EAA500477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уло Коэль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47 г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3CE1-66B1-4B54-B89F-952D369849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ло Коэльо получили  множество престижных международных наград. Критики отмечают его реалистичный, полный поэзии и философии стиль. Язык символов в романах Коэльо говорит напрямую с сердцами читателей и это делает его романы популярными во всём мире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6880-EDF3-41CB-BB9D-CFDE0A371C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итатели Коэльо высоко ценят его духовность, честность, мудрость, а также его интерес к общемировым проблемам и открытость к общению с людьми в независимости от их происхождения и материального по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E524-3955-45AF-94DE-A27A87A370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ло Коэльо является Почётным советником в программе ЮНЕСКО « Межкультурные и межрелигиозные диалоги». В 2007 году ему было присвоено звание Посла доброй воли ООН, что способствовало его работе в области межкультурного диалога и защите пра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E629-E110-4F4C-9CE5-F0B7B3C4B6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5CF4-FA71-42D8-96DD-5A504E81E4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родился в Рио-де-Жанейро, Бразилия, 24 августа 1947 в семье инженера. Его родители хотели, чтобы мальчик пошёл по стопам отца, но уже в юности Пауло Коэльо решил, что хочет стать писателем. Его нежелание следовать воле родителей привело к тому, что в возрасте 17 лет Пауло был определён в психиатрическую больницу (1966), где проходил лечение электрошо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46B2-5094-4EAC-B14B-873287A1A5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л выпущен из больницы через три года, совершив три попытки побега. Коэльо позже признался, что его родители приняли решение поместить его в лечебницу потому, что хотели защитить его и не знали, что с ним делать. Опыт и переживания, которые он получил за эти тяжёлые три года Коэльо мастерски изложил в романе «Вероника решает умереть». В юности он также отбыл тюремное заключение за выступления против правящего диктаторского режима в Бразилии (в тюрьме он не раз подвергался пытка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24F2-7CFA-4D96-B7DE-62D13F9AEB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упив желанию родителей, Коэльо поступает на юридический факультет, но уже через год он бросает учёбу, присоединяется движению хиппи и путешествует по Америке и Европе. В это же время он становится композитором и пишет песни для многих знаменитых бразильских исполн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4D8B-2B70-4F54-8298-654C5AAD31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же Пауло объединил силы с рок-звездой Раулем Сейхасом… Вместе они написали 120 песен (между 1973 и 1982), который революционизировали бразильскую рок-музыку; некоторые из этих песен — хиты и сегодня. Эрика Мармо описал тот период его жизни в своей книге «Песнь Волшебника: Музыкальная Карьера Пауло Коэльо», изданной в 2007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D618-600E-4B1C-9AB0-7487E94483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EA65-7ECD-4821-A8F3-8BE13CDA65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совершил паломничество в 1986 году. Именно там он повторно обратился к христианству и снова обрёл веру, в которой его воспитывали отцы-иезуиты в школьные годы. Позже он описал этот опыт в своей первой книге «Дневник Мага», изданной в 1987 году. В следующем году вышла его вторая, и самая популярная книга «Алхимик». Этот роман не только принёс Коэльо мировую известность, но и обрел статус современной классики. Это история вне времени, которая не перестанет очаровывать и вдохновлять целые поколения будущих чит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1B0D-3143-46B5-BBA4-84694A3D12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ующими книгами бы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рида» (1990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ькирии (1992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ктуб» (1994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 берегу Рио Пьедра села я и заплакала» (1994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ятая гора» (1996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нига Воина света» (199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ника решает умереть» (199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«Дьявол и сеньорита Прим» (2000)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3EF4-D021-41F0-A3A8-709E0E7752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оследние рабо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диннадцать минут» — бестселлер 2003 года-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ир» (2005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дьма с Портобелло» (2006)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бедитель остаётся один» (200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леф (201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рте 2011 года издательство АСТ впервые на русском языке выпустило роман «Валькирии», а в конце 2011 года готовится к изданию новый роман автора «Алеф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20F9-4FA6-4736-9334-B40D611068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51D-D11C-477C-830F-528B862A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234D-311D-4EB5-A348-4F8385E9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D354-099E-49C1-B00B-BD1A8371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CE0-CE57-4581-8380-63600741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0C22-DCCF-48B9-9EA5-1EBAFE74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7296-480C-498E-8591-42DB9751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7A78-68DE-480A-AE7E-7056A4E3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5B16-6D6D-4F8D-801E-2C618300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DCAE-BD5A-40A6-810B-9C545D97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1ED3-CBC3-45A4-A068-B919C528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8F88-214A-4B2E-8C30-D2369A04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05CE-21AA-4DCC-9FE6-1260674F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9EB6-D60D-489D-872C-F4BB20E0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1D22-50E4-4DA5-A3A8-1078785D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9015-16B8-4091-A28F-2B0FC9DB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D492-D49E-475E-A19D-4598AF6D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5C23-CD1F-41A8-83C8-C7C879E4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D29F23-630A-4626-9D97-99F4B2AA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41EBE9-FF27-4CBD-9241-7BFE08FA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68251-BD35-4E3C-9223-EA62B531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C65208-343B-4D1D-A9B5-60BA0336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6611E-F7BE-47D3-83A5-2DC1DC6B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58E-DC2C-4A0C-A34A-B3BB0DAA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CCA0C-BDE5-4BAA-A3E2-82568654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5826B-62D4-407E-AFF2-CD622F7E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F1724F-1D86-4761-A8F0-3BCE043E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8158A-8E50-4B05-9046-1F2CBA10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E0ECD-AF34-4D1C-A1FB-B07EE7DA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C75B3-6268-42F6-9580-A903F443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1CBCA-CE25-4CFE-BD6F-C01EA7E7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399283-9080-4653-9612-55A3BDFB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BCB4BB-D75E-4848-A0F5-6CA8C11A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7B36AA-CD59-49BA-AE17-9E20AADC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7BF8-F749-4425-B751-09FCE429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8A663E-B2DC-4E5A-B604-3128FA00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733628-A4AD-4EFA-B6F6-E2669751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F9BE99-B8A1-4400-A866-885F197D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4E9A74-529A-4285-80B9-4AB6E1AC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C552C2-2F19-4E26-A1DB-FE06A133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C75A5E-18EA-4CAB-B11A-68A08DE8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DD67C5-5980-4509-941C-DAC90BD1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073661-7B30-4B5A-AB6E-35C97EBD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29D3F7-0F65-456F-A087-E72F27DC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723D6-9E71-4A4A-A9E3-E3B8029E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D58-24A3-4778-9B10-608B8B4E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6DB8C-0241-4F91-B0CE-4B9B0796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8BB647-5164-414D-8EFA-753A58E6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99D497-BE3C-482E-A44B-F0078AC8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03BB84-DB3D-4B55-922C-DE384A5A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3F7786-01EA-4949-B00D-50143166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2329AB-A5FB-465A-B01E-BF4F0A3F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E68836-D01C-4903-A63D-1A106262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F21218-8F33-448C-B73D-9CD8FB66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EC57A8-42F2-469D-9678-B3E4F3B5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61F226-9163-49CD-B697-6F2CCE31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19B-CC63-4754-895B-9E90F730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BA683-4427-4578-9B31-0AFC28D6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94EE1-79F3-4BC0-95D8-FEFA3402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58678-C105-4F8E-8A27-BC025ED5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6E917-53FF-400B-BDDC-85A24316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7DC5C-1532-4DCA-8F65-25113EC3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0C592-DA37-4D1D-9D8F-35BCB2CB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CDF19-41E9-4495-AFD6-60F1BDD1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D9887-C2B6-46A0-87EB-29330BB6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2205C-2217-4343-B945-783B8B4D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D7714-0C7C-430A-89AD-6976A2EB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65A-096B-4C24-98B0-E2F0D07F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1542C-B102-4F9C-962C-34062DFE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BE9BA-3373-4390-8659-59E91AF6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1AAA6-F343-4F0E-BC8F-4368F318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59A778-AC7E-480E-AC87-6463CD0A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DDE6B3-7F9A-4615-80F7-86D34C88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3F628C-EC26-44F0-BB7B-07C62C44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F9BD1-3532-4F70-B677-F723E6C2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FE6773-50AC-4DD0-8A85-C2AF5CA4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CAB674-60B5-4E6F-986C-7909B2BB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A7DB99-DB77-44AD-A143-E1BB299E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2FF-2FB2-4505-B4C9-1D806C8E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BC8C0A-D4CC-4599-9582-3201C830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6A2B77-7C37-4B1A-871E-E122EA59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FB3F94-CF70-4C80-9863-13A9E8E0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FD2053-AC7A-4F25-8D95-993F431C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C1E9C6-4689-492D-9FC1-CDC68CD9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12CB0-BEB5-4805-BCA8-3DD5ECC0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33C23-4B9B-47E3-A77C-334218AE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D1061-7E51-45BB-A97E-3C4BF94C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63172-C5E0-42B7-A6FF-F82AA295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53959-F65A-4787-859B-D958E606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9AD-1EE5-4AE3-9FE2-AB65EDD6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D1E90-2E07-4B24-ACA4-D3C06DF6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17091-45A7-4960-9631-BEA4D52E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ECBE8-C9BD-4C4E-8A1E-2A9B33E3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B559C-0A96-407B-BCE4-A3417919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2B0C1-35B0-444B-BDA6-3E5FBE07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97083-4B5C-4A1A-B010-148B3AE6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0E266-19F7-46BF-9D40-BBA868F6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D7D6-20D8-4153-A9FB-05B6A824DA66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0E36-815B-47A6-A0C9-668B0E2273B3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9C9D-8F2E-4F23-92F3-288228D9CAFF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D9AB-95BB-4128-80BE-77CCE34FD894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9EA1-9EAD-4CF7-8C25-0F5880CCBCC2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3689-1D35-4C2A-8D13-5B4F7817316F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AE5F-6C6F-4779-B91C-1B7EDC3232C1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E9F9-B06C-4956-AE37-AA8A546CC57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0560" y="1915920"/>
            <a:ext cx="46450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</a:t>
            </a:r>
            <a:endParaRPr b="0" lang="en-US" sz="5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7 г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4" name="Picture 2" descr="Файл:PAULO COELHO.jpg"/>
          <p:cNvPicPr/>
          <p:nvPr/>
        </p:nvPicPr>
        <p:blipFill>
          <a:blip r:embed="rId1"/>
          <a:stretch/>
        </p:blipFill>
        <p:spPr>
          <a:xfrm>
            <a:off x="5559480" y="1700280"/>
            <a:ext cx="3255840" cy="866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ауло Коэльо получили  множество престижных международных наград. Критики отмечают его реалистичный, полный поэзии и философии стиль. Язык символов в романах Коэльо говорит напрямую с сердцами читателей и это делает его романы популярными во всём мире.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2" descr="F:\п. коэльо\тии.jpg"/>
          <p:cNvPicPr/>
          <p:nvPr/>
        </p:nvPicPr>
        <p:blipFill>
          <a:blip r:embed="rId1"/>
          <a:stretch/>
        </p:blipFill>
        <p:spPr>
          <a:xfrm>
            <a:off x="6786720" y="0"/>
            <a:ext cx="2357280" cy="16066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F:\п. коэльо\хз.jpg"/>
          <p:cNvPicPr/>
          <p:nvPr/>
        </p:nvPicPr>
        <p:blipFill>
          <a:blip r:embed="rId2"/>
          <a:stretch/>
        </p:blipFill>
        <p:spPr>
          <a:xfrm>
            <a:off x="0" y="4394160"/>
            <a:ext cx="16430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читатели Коэльо высоко ценят его духовность, честность, мудрость, а также его интерес к общемировым проблемам и открытость к общению с людьми в независимости от их происхождения и материального положени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2" descr="F:\п. коэльо\ьтт.jpg"/>
          <p:cNvPicPr/>
          <p:nvPr/>
        </p:nvPicPr>
        <p:blipFill>
          <a:blip r:embed="rId1"/>
          <a:stretch/>
        </p:blipFill>
        <p:spPr>
          <a:xfrm>
            <a:off x="6215040" y="3984480"/>
            <a:ext cx="2513160" cy="2529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F:\п. коэльо\ти.jpg"/>
          <p:cNvPicPr/>
          <p:nvPr/>
        </p:nvPicPr>
        <p:blipFill>
          <a:blip r:embed="rId2"/>
          <a:stretch/>
        </p:blipFill>
        <p:spPr>
          <a:xfrm>
            <a:off x="357120" y="4497480"/>
            <a:ext cx="257184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ауло Коэльо является Почётным советником в программе ЮНЕСКО « Межкультурные и межрелигиозные диалоги». В 2007 году ему было присвоено звание Посла доброй воли ООН, что способствовало его работе в области межкультурного диалога и защите прав де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2" descr="F:\п. коэльо\имм.jpg"/>
          <p:cNvPicPr/>
          <p:nvPr/>
        </p:nvPicPr>
        <p:blipFill>
          <a:blip r:embed="rId1"/>
          <a:stretch/>
        </p:blipFill>
        <p:spPr>
          <a:xfrm>
            <a:off x="7215120" y="435780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F:\п. коэльо\i.jpg"/>
          <p:cNvPicPr/>
          <p:nvPr/>
        </p:nvPicPr>
        <p:blipFill>
          <a:blip r:embed="rId2"/>
          <a:stretch/>
        </p:blipFill>
        <p:spPr>
          <a:xfrm>
            <a:off x="500040" y="4572000"/>
            <a:ext cx="200016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F:\п. коэльо\хз.jpg"/>
          <p:cNvPicPr/>
          <p:nvPr/>
        </p:nvPicPr>
        <p:blipFill>
          <a:blip r:embed="rId1"/>
          <a:stretch/>
        </p:blipFill>
        <p:spPr>
          <a:xfrm>
            <a:off x="2286000" y="285840"/>
            <a:ext cx="414504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15573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родился в Рио-де-Жанейро, Бразилия, 24 августа 1947 в семье инженера. Его родители хотели, чтобы мальчик пошёл по стопам отца, но уже в юности Пауло Коэльо решил, что хочет стать писателем. Его нежелание следовать воле родителей привело к тому, что в возрасте 17 лет Пауло был определён в психиатрическую больницу (1966), где проходил лечение электрошоком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2" descr="F:\п. коэльо\i.jpg"/>
          <p:cNvPicPr/>
          <p:nvPr/>
        </p:nvPicPr>
        <p:blipFill>
          <a:blip r:embed="rId1"/>
          <a:stretch/>
        </p:blipFill>
        <p:spPr>
          <a:xfrm>
            <a:off x="6772320" y="0"/>
            <a:ext cx="23716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90720" y="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л выпущен из больницы через три года, совершив три попытки побега. Коэльо позже признался, что его родители приняли решение поместить его в лечебницу потому, что хотели защитить его и не знали, что с ним делать. Опыт и переживания, которые он получил за эти тяжёлые три года Коэльо мастерски изложил в романе «Вероника решает умереть». В юности он также отбыл тюремное заключение за выступления против правящего диктаторского режима в Бразилии (в тюрьме он не раз подвергался пыткам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2" descr="F:\п. коэльо\е.jpg"/>
          <p:cNvPicPr/>
          <p:nvPr/>
        </p:nvPicPr>
        <p:blipFill>
          <a:blip r:embed="rId1"/>
          <a:stretch/>
        </p:blipFill>
        <p:spPr>
          <a:xfrm>
            <a:off x="0" y="3790800"/>
            <a:ext cx="2189160" cy="30672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F:\п. коэльо\ти.jpg"/>
          <p:cNvPicPr/>
          <p:nvPr/>
        </p:nvPicPr>
        <p:blipFill>
          <a:blip r:embed="rId2"/>
          <a:stretch/>
        </p:blipFill>
        <p:spPr>
          <a:xfrm>
            <a:off x="3492360" y="4145040"/>
            <a:ext cx="35974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14842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упив желанию родителей, Коэльо поступает на юридический факультет, но уже через год он бросает учёбу, присоединяется движению хиппи и путешествует по Америке и Европе. В это же время он становится композитором и пишет песни для многих знаменитых бразильских исполнителей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F:\п. коэльо\имм.jpg"/>
          <p:cNvPicPr/>
          <p:nvPr/>
        </p:nvPicPr>
        <p:blipFill>
          <a:blip r:embed="rId1"/>
          <a:stretch/>
        </p:blipFill>
        <p:spPr>
          <a:xfrm>
            <a:off x="6950160" y="3565440"/>
            <a:ext cx="2193840" cy="3292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F:\п. коэльо\г.jpg"/>
          <p:cNvPicPr/>
          <p:nvPr/>
        </p:nvPicPr>
        <p:blipFill>
          <a:blip r:embed="rId2"/>
          <a:stretch/>
        </p:blipFill>
        <p:spPr>
          <a:xfrm>
            <a:off x="2871720" y="4127400"/>
            <a:ext cx="37483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15573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же Пауло объединил силы с рок-звездой Раулем Сейхасом… Вместе они написали 120 песен (между 1973 и 1982), который революционизировали бразильскую рок-музыку; некоторые из этих песен — хиты и сегодня. Эрика Мармо описал тот период его жизни в своей книге «Песнь Волшебника: Музыкальная Карьера Пауло Коэльо», изданной в 2007 год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2" descr="F:\п. коэльо\ти.jpg"/>
          <p:cNvPicPr/>
          <p:nvPr/>
        </p:nvPicPr>
        <p:blipFill>
          <a:blip r:embed="rId1"/>
          <a:stretch/>
        </p:blipFill>
        <p:spPr>
          <a:xfrm>
            <a:off x="5870520" y="4535640"/>
            <a:ext cx="3084480" cy="2322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F:\п. коэльо\ло.jpg"/>
          <p:cNvPicPr/>
          <p:nvPr/>
        </p:nvPicPr>
        <p:blipFill>
          <a:blip r:embed="rId2"/>
          <a:stretch/>
        </p:blipFill>
        <p:spPr>
          <a:xfrm>
            <a:off x="890640" y="4821120"/>
            <a:ext cx="213840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16282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2" descr="F:\п. коэльо\тии.jpg"/>
          <p:cNvPicPr/>
          <p:nvPr/>
        </p:nvPicPr>
        <p:blipFill>
          <a:blip r:embed="rId1"/>
          <a:stretch/>
        </p:blipFill>
        <p:spPr>
          <a:xfrm>
            <a:off x="6297480" y="4919760"/>
            <a:ext cx="2846520" cy="1938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F:\п. коэльо\ъ.jpg"/>
          <p:cNvPicPr/>
          <p:nvPr/>
        </p:nvPicPr>
        <p:blipFill>
          <a:blip r:embed="rId2"/>
          <a:stretch/>
        </p:blipFill>
        <p:spPr>
          <a:xfrm>
            <a:off x="0" y="0"/>
            <a:ext cx="27496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совершил паломничество в 1986 году. Именно там он повторно обратился к христианству и снова обрёл веру, в которой его воспитывали отцы-иезуиты в школьные годы. Позже он описал этот опыт в своей первой книге «Дневник Мага», изданной в 1987 году. В следующем году вышла его вторая, и самая популярная книга «Алхимик». Этот роман не только принёс Коэльо мировую известность, но и обрел статус современной классики. Это история вне времени, которая не перестанет очаровывать и вдохновлять целые поколения будущих читател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2" descr="F:\п. коэльо\х.jpg"/>
          <p:cNvPicPr/>
          <p:nvPr/>
        </p:nvPicPr>
        <p:blipFill>
          <a:blip r:embed="rId1"/>
          <a:stretch/>
        </p:blipFill>
        <p:spPr>
          <a:xfrm>
            <a:off x="7093080" y="26028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F:\п. коэльо\ьтт.jpg"/>
          <p:cNvPicPr/>
          <p:nvPr/>
        </p:nvPicPr>
        <p:blipFill>
          <a:blip r:embed="rId2"/>
          <a:stretch/>
        </p:blipFill>
        <p:spPr>
          <a:xfrm>
            <a:off x="324000" y="5229360"/>
            <a:ext cx="1419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ледующими книгами был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Брида» (1990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алькирии (1992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Мактуб» (1994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На берегу Рио Пьедра села я и заплакала» (1994)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Пятая гора» (1996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Книга Воина света» (1997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Вероника решает умереть» (1998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«Дьявол и сеньорита Прим» (2000). 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2" descr="F:\п. коэльо\ш.jpg"/>
          <p:cNvPicPr/>
          <p:nvPr/>
        </p:nvPicPr>
        <p:blipFill>
          <a:blip r:embed="rId1"/>
          <a:stretch/>
        </p:blipFill>
        <p:spPr>
          <a:xfrm>
            <a:off x="6786720" y="3571920"/>
            <a:ext cx="20001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90720" y="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го последние работы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Одиннадцать минут» — бестселлер 2003 года-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Заир» (2005)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Ведьма с Портобелло» (2006) 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Победитель остаётся один» (2008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Алеф (2010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марте 2011 года издательство АСТ впервые на русском языке выпустило роман «Валькирии», а в конце 2011 года готовится к изданию новый роман автора «Алеф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2" descr="F:\п. коэльо\хз.jpg"/>
          <p:cNvPicPr/>
          <p:nvPr/>
        </p:nvPicPr>
        <p:blipFill>
          <a:blip r:embed="rId1"/>
          <a:stretch/>
        </p:blipFill>
        <p:spPr>
          <a:xfrm>
            <a:off x="214200" y="4286160"/>
            <a:ext cx="16066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2:38:38Z</dcterms:created>
  <dc:creator>Женя</dc:creator>
  <dc:description/>
  <dc:language>en-US</dc:language>
  <cp:lastModifiedBy>LEGION</cp:lastModifiedBy>
  <dcterms:modified xsi:type="dcterms:W3CDTF">2015-01-20T08:20:44Z</dcterms:modified>
  <cp:revision>9</cp:revision>
  <dc:subject/>
  <dc:title>Пауло Коэльо</dc:title>
</cp:coreProperties>
</file>