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9304-DE8D-486E-B471-3D75A1FDD1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Сочетание реалистического и мист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в повести Н.В.Гоголя «В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Учитель русского языка и литературы Соловьева Т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МОУ « Лебяжьевская 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B882-4A2D-4283-B436-C0E2E8B4D1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Первый раз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Хома видит её такой :  «Перед ним лежала красавица, с растрепанною косою, с длинными, как стрелы , ресницами. Бесчувственно отбросила она на обе стороны белые нагие руки и  стонала, возведя кверху очи, полные сле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E474-B139-4AD8-91FD-D68C6769AD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о второй раз</a:t>
            </a:r>
            <a:r>
              <a:rPr b="0" lang="ru-RU" sz="11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он</a:t>
            </a:r>
            <a:r>
              <a:rPr b="0" lang="ru-RU" sz="11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идит её в доме сот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ebb"/>
                </a:solidFill>
                <a:latin typeface="Calibri"/>
              </a:rPr>
              <a:t>«Она лежала как живая. Чело прекрасное, нежное, как снег, как серебро, казалось мыслило; брови  - ночь среди солнечного дня, тонкие, ровные, горделиво приподнялись над закрытыми глазами,  а ресницы, упавшие стрелами на щеки, пылавшие жаром тайных желаний; уста - рубины, готовые усмехнуться...</a:t>
            </a:r>
            <a:r>
              <a:rPr b="0" lang="ru-RU" sz="1000" spc="-1" strike="noStrike">
                <a:solidFill>
                  <a:srgbClr val="003ebb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Он чувствовал , что душа его начинала как-то болезненно ны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-Ведьма!- вскрикнул он не своим голос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Это была та самая ведьма, которую он уби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A40B-D837-4252-9D06-654C965BC2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 церкви Хома глядит на усопшую в третий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Гоголь нагнетает ужас, портрет становится ещё </a:t>
            </a:r>
            <a:r>
              <a:rPr b="0" i="1" lang="ru-RU" sz="1200" spc="-1" strike="noStrike">
                <a:solidFill>
                  <a:srgbClr val="000000"/>
                </a:solidFill>
                <a:latin typeface="Cambria"/>
              </a:rPr>
              <a:t>более мистическим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: на щеке умершей Хома видит показавшуюся ему слезой каплю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же красота панночки была страш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, глядя на неё, Хома сразу все вспомнил и понял, что это ведь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в её красоте не было тепла , а  было что-то «страшно пронзительное», нечеловечес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Он подошел ко гробу, с робостию посмотрел в лицо умершей и не мог зажмурить, несколько вздрогнувши, своих глаз : такая страшная, сверкающая красота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149C-51FB-498E-8A1B-8D80CFCDB5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Интересно то , как Гоголь подводит читателя к  сценам  в церкви . Не только портрет панночки , но и описание  самой церкви подготавливает читателя к тому, что произойдё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«Церковь деревянная, почерневшая, убранная зеленым мохом, с тремя конусообразными куполами, уныло стояла на краю села. Заметно было, что в ней давно уже не отправлялось никакого служения... Небольшой дворик, за которым не было ни дерева и открывалось одно пустое поле да поглощенные ночным мраком луга... Высокий старинный иконостас уже показывал глубокую ветхость 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mbria"/>
              </a:rPr>
              <a:t>Какие художественные средства использует автор в описа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DCBF-BDF3-4B5C-AA5B-ECF4BAE1A8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Проследим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, как от эпизода к эпизоду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Гоголь усиливает ощущение мистического ужаса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, ожидание страшной развязк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mbria"/>
              </a:rPr>
              <a:t>Ночь первая</a:t>
            </a: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-покойница поднимает голову , садится в гробу , идет по церкви, пытается поймать Хому , гроб летает по церкви , позеленевший труп поднимается из него, раздается крик пет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F470-68CC-4343-9157-0142FC19EF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Ночь вторая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- Хома видит труп на самой черте, покойница творит заклинания , нечистая сила ломится в церковь  , но не может попасть в неё, раздается крик пет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1D1B-42C4-4747-B253-74B5835FDE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mbria"/>
              </a:rPr>
              <a:t>Ночь  третья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- мертвец встает из гроба, творит заклинания , падают иконы, бьются стёкла в окнах,  нечистая сила врывается в церковь, приводят Вия,  Хома не выдерживает и смотрит на него, Хома погибает,  петух кричит во второй раз, нечисть застревает в окнах и дверях церк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D1E3-AFD6-451C-A983-16B5D9B5CB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Кто такой Ви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Почему повесть названа «Вий», хотя сам он появляется в самом конц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Может быть ,Вий -  это та страшная сила, которая все-таки погубила Хому за его жестокость(за избиение ведьмы поленом), вызвала в его душе суеверный страх , заставивший его взглянуть в глаза чудовищу, «не выдержать»в последний мо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У древних славян- существо, насылающее ночные  кошмары, видения  и привидения. Вся сила его была в глазах, которые очень сильно заросли бровями и ресницами и совсем затемнили з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Малороссийский Вий –   мифическое существо , у которого веки опускаются до самой земли , но если поднять их вилами, уже ничто не укроется от его взора . Слово  «вии» означает рес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49CF-8A79-48ED-8BE3-88675AC3AA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мешным или страшным показалось вам это произве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окажите, что в повести удачно сочетается  реалистическое и мистичес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В повести, действительно, необыкновенно удачно сплетаются два начала : реалистическое и мистическое. Одно от другого неотделимо в художественном мире Г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Талантливый писатель соединил народные предания и свою авторскую фантаз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DAC2-1F9B-486B-AFF4-5C2B4BBD6A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mbria"/>
              </a:rPr>
              <a:t>Цель урока-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нализ тех сцен повести «Вий» , в которых преобладает мистическое  начало. Знакомство с теми эпизодами повести, которые представляют  бытовую, реалистическую стор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повести необыкновенно удачно сплетаются два начала:    реалистическое и мисти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mbria"/>
              </a:rPr>
              <a:t>Реалистическо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ие хутора, хлева,  где  философ « толкнул ногою в морду   просунувшуюся из другого хлева любопытную свинь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FC74-8183-4DA9-ACF0-67C43FFC1E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а дальнейшая судьба двух приятелей Х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Гоголь вводит в повесть двух друзей Хомы, чтобы расширить бытовое полотно , изобразить как можно больше колоритных фигур. Имена героев  представляют комическое сочетание  древнеримского  «Тиберий» и украинского «Горобец» (вороб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Эти сочетания особенно выразительны, когда к ним добавляются важные слова «философ», «ритор». Смысл прозвища  богослова Халявы - он всегда готов позавтракать, пообедать и поужинать тем, что плохо леж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9296-6C22-47C4-BD00-75A3D765F2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Богослов был рослый, плечистый мужчина и имел чрезвычайно странный нрав: всё , что ни лежало, бывало, возле него, он непременно украд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Ритор Тиберий Горобець еще не имел права носить усов…и поэтому характер его в то время  ещё  мало развивался; но, судя по  большим шишкам на лбу, с которыми он часто являлся в класс, можно было предположить, что из него будет хороший вои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056E-C6BA-4FDF-B279-F13D339EED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«Философ Хома Брут был нрава веселого. Любил очень лежать и курить люльку. Он часто пробовал крупного гороху, но совершенно с философическим равнодушием , -говоря , что чему быть, того не минова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7E86-4D27-48E5-990E-2E4C2F7243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 быт сотника, обряды , обычаи , традиции, в том числе в связи с погребением  (оплакивание  отцом умершей дочери , чтение над покойником святого  писания , прикладывание рук к горячей печи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Знание народных обычаев и традиций – одна из черт творчества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412A-0E0B-4330-A64A-23E03DC803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Мистическо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нализ сцены, когда Хома , оказавшись в роли коня у ведьм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верху смотрит на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истика- это раздел фантастики, связанный с изображением  потустороннего мира, нечистой силы, необъяснимых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Как изменяется привычный мир в глазах  Хомы , соприкоснувшегося с потусторонней сил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В каком состоянии находится сам  Хо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E502-A9B7-43CD-99FB-E809C7645F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Луга, леса ,долины-всё ,казалось, как будто спало с открытыми глазами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ир преображается: он наполняется сказочными существами, незнакомыми прелестными звуками, запахами , кра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D8EB-68A9-47FF-A61E-70DEA59981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Герой Гоголя не может понять,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сон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это или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явь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. Когда он начинает творить заклятья , всё вокруг становится привычным: «Густая трава  касалась его, и он  уже  не видел в ней ничего необыкновенног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 вот ведьма превращается в красав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Зачем Гоголю понадобилось преображать ведь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Зачем он делает её столь прекрасной и несколько раз на протяжении повести рисует её портр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Что поражает в этом портр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59B1-7A6F-40EB-BC33-7D8318E4A8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CF3A-1F2E-4017-9D60-60E893D1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6D4-01BA-499B-96FC-E040F23A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33FBD8-D7EF-4E82-95DD-BED9AB68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166DC0-D65A-4052-A40A-CD402E27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DADDA4-019B-4DDC-ACCC-606B8FB5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C65C79-BE13-47BD-89A7-3F308C9D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A2B9F3-C09F-4E09-BE2F-833F09EA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24437A-8569-4880-97D3-2093FE80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3AFD05-58C9-404F-BCFA-F638D59D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B0D510-F580-48B6-9ED0-131791CD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5E922B-9AF5-4294-ADC3-02257BC9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DCF-638F-4048-8022-701124C2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65C-E11F-4EBE-994F-37C23F39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E7500-430C-4582-A843-6E32471E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016CF-3B23-41D7-A0DA-20066925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2152D-1976-4963-8D67-FF25B8B3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D6395-B1AA-4D77-8566-485C1704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0C3EF-06DB-499E-BC59-5DF04EC6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5EEBF-E659-4016-9ECC-09F13173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595F8-D505-40D2-BA62-721CBF16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4C9-B783-4EEA-8AC9-C477D978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A1EC5-9DA7-4869-AF97-B4429303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DCA7A-3A37-461A-96F0-02A617DA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0AA5C-23CE-4503-94EB-8C278F4C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0B871-115A-49F2-9D56-A53FE012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F5E62-A781-4F03-9DB8-2661E4A4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2D892-309F-4043-B118-2EB45122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C9977-2FDB-4BDB-A1C3-B63B1494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9FD4A-B9E5-4373-B815-E83DCBE8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5445-ACED-44E4-8F60-5901CB7A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7A729-2809-48FF-A45A-98098599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414-7136-41FA-B8CE-5E6F62F9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11D8D-803A-49E4-856C-46FC3F06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617C0-3AD1-441C-93FC-36B6045E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079CA-289F-4CD9-9AA9-B8B88247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4AC19-0999-4066-97AA-F4DBD48F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6124-13F5-4F85-9527-28ADA582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27350-F699-4E01-BC63-0DC1FB56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BA80B-1D23-41CC-9F18-4BA71F8C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134183-D9E3-4D1E-A026-178FA192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4EC8E-3574-4118-86CB-EE852B95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D46D95-CA25-447A-ABB6-57BEF3E8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8F0-736F-48E4-B0DF-CB25C3A3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A983CD-F756-4B82-BC96-05EB1A70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4D8183-EDF3-4C68-8126-F4C90C67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19BB16-7D92-470C-AE60-EC648E1B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5CED24-02BB-4BEC-B645-A33726C4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BEB4F2-A1E0-4E07-807B-7A9ED041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7D3338-C305-4602-98D7-73EB2B05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78DC6D-CA5D-4DEE-82C8-D70B03B9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7AC935-9B70-44EB-A575-8C2831F8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DF3157-DD7A-4E07-8CE0-986BD598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E0C8B-D2C3-45A9-B0D1-9F2047B2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B2C8-86B5-4879-999A-E11D2E9B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8C12C-B60A-4BEB-9767-C396DF02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444DA-6B9C-4E06-8090-31CEF6A7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C3B6C-A998-45F4-8FC8-74F726C5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CAC30-C5EC-4862-BFA5-512CFFCB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3C78B-BCC0-4207-B43A-FB17CE6C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8BC4D-B7C5-4D24-A82B-90DB3FCA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3181D-8916-4374-98A5-94AE239B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31E7D-8865-4DE3-B6C1-804D2BA4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D9382-7D9C-48A6-8DFA-D93B7FC5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0D76D-A754-4015-947C-A32EF60C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AFEA-AC54-4962-AFD7-280487E2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C9797-ADE9-4954-8D56-36A7E90B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F4C3C-442F-40B6-8905-DD8B93E6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85FC1-12F1-49B0-B981-C906D4AB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CC628-1867-4D2F-AC20-8C891414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8E8D2-DD5C-48F0-B2FE-CB000241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8B44E-6294-4385-876D-B289BFF2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8778B-D319-415E-8313-ACF15CCA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8C413-967D-472A-964C-9517019F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28108-DA06-447A-A108-907DB97A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5B76A-E0AC-4D0D-B8A0-E27CB878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9E3-B181-4B95-9D82-3DCAE4A9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FE331-9562-4B39-994D-75B016AC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469CA-DB30-49D9-A5CC-301F8E80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798B7-62CF-4F06-A9CF-4CE2B0F2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8E84D-2B19-4467-89C1-054B34C9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21250-0770-4C66-B404-3B210FE3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1611F-A40E-4B96-9C5C-00C0633A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0987A-96ED-4011-AF6F-3D259F8D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840ED-42FA-4DA7-88B4-5C4B4A86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13F61-62F9-4CD5-A3F5-A8FBA615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7F057-F5D6-4E99-8391-66A7E7A4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9B0-B2EA-41A7-B8E2-5164B6D8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10CE3-56D5-4EF1-B0D4-04ABD6A6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86A0C-97C2-4670-92C4-592CADE9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73077-00B4-4247-A662-0E255BB9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27285-DD19-428B-8825-878881B2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88902-9563-4B1F-B0E3-6ED02302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D3DA46-A40C-49C5-BED2-9339BC6F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D7A6F0-E028-4C26-AAFC-A4A815AD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5FCB99-D91F-4844-A676-1A7D474E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B89980-8E5F-40DD-AAEB-CA4CCB6B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5EE4E1-86A3-4D6E-89BC-79895AEC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9431-9BFD-4D42-82DE-7156E798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90872F-4AE3-4354-84A9-155378D9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7A2A11-4CF0-41B9-95CA-30BFA13F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70650C-3649-4AF0-8996-154171F4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EED5E4-5FF9-4A8C-9FCB-7BDBEA53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51316D-93F7-438B-BC4C-16BF9730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078C96-BAA2-4A59-9AF2-FCAE8755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83A09E-4510-4BCC-9746-044E5413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7E08A5-B04A-45BB-B1B1-9D9347E7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E4F01A-0056-4A44-BC0C-AE18D6AD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7D20D5-A164-4DEA-A568-BE3D11A7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9B1D-31B2-49F3-BD5F-83280351092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B06F-24F6-476C-9C2D-B3FAD8ED20B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604A-8A26-4AC7-B56D-001F9C03D3C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763B-B8AF-4556-AD7B-B6687D30858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6262-85B4-4B98-8A58-16EC2260A48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9383-A1AA-4148-A618-BDEC48F1E09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04E4-049B-46CF-9B43-B668185B517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8CB6-3A3E-4927-9088-46EAA5CBA96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F157-5693-496D-B0E7-6DB279AEC0F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3786120" y="7128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рок литературы в 6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-428760" y="285840"/>
            <a:ext cx="99298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Сочетание реалистического и мистиче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в повести Н.В.Гоголя «В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2" descr="C:\Users\1\Desktop\viewer[2].png"/>
          <p:cNvPicPr/>
          <p:nvPr/>
        </p:nvPicPr>
        <p:blipFill>
          <a:blip r:embed="rId1"/>
          <a:stretch/>
        </p:blipFill>
        <p:spPr>
          <a:xfrm>
            <a:off x="1500120" y="1785960"/>
            <a:ext cx="5929560" cy="40719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1000080" y="592920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Учитель русского языка и литературы Соловьева Т.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МОУ « Лебяжьевская  средняя общеобразовательная шко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5" descr="Film_shot00002"/>
          <p:cNvPicPr/>
          <p:nvPr/>
        </p:nvPicPr>
        <p:blipFill>
          <a:blip r:embed="rId1">
            <a:lum bright="6000"/>
          </a:blip>
          <a:srcRect l="0" t="0" r="0" b="159"/>
          <a:stretch/>
        </p:blipFill>
        <p:spPr>
          <a:xfrm>
            <a:off x="857160" y="285840"/>
            <a:ext cx="7429680" cy="4608360"/>
          </a:xfrm>
          <a:prstGeom prst="rect">
            <a:avLst/>
          </a:prstGeom>
          <a:ln w="0">
            <a:noFill/>
          </a:ln>
        </p:spPr>
      </p:pic>
      <p:sp>
        <p:nvSpPr>
          <p:cNvPr id="443" name="TextBox 2"/>
          <p:cNvSpPr/>
          <p:nvPr/>
        </p:nvSpPr>
        <p:spPr>
          <a:xfrm>
            <a:off x="500040" y="50007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ервый раз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Хома видит её такой :  «Перед ним лежала красавица, с растрепанною косою, с длинными, как стрелы , ресницами. Бесчувственно отбросила она на обе стороны белые нагие руки и  стонала, возведя кверху очи, полные слез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1"/>
          <p:cNvSpPr/>
          <p:nvPr/>
        </p:nvSpPr>
        <p:spPr>
          <a:xfrm>
            <a:off x="571680" y="571680"/>
            <a:ext cx="76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5" descr="10cfeddb"/>
          <p:cNvPicPr/>
          <p:nvPr/>
        </p:nvPicPr>
        <p:blipFill>
          <a:blip r:embed="rId1"/>
          <a:stretch/>
        </p:blipFill>
        <p:spPr>
          <a:xfrm>
            <a:off x="357120" y="1714680"/>
            <a:ext cx="5357880" cy="33573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0" y="500040"/>
            <a:ext cx="837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eacb"/>
                </a:solidFill>
                <a:latin typeface="Cambria"/>
              </a:rPr>
              <a:t>«Она лежала как живая. Чело прекрасное, нежное, как снег, как серебро, казалось мыслило; брови  - ночь среди солнечного дня, тонкие, ровные, горделиво приподнялись над закрытыми глазами,  а ресницы, упавшие стрелами на щеки, пылавшие жаром тайных желаний; уста - рубины, готовые усмехнуться...</a:t>
            </a:r>
            <a:r>
              <a:rPr b="0" lang="ru-RU" sz="1800" spc="-1" strike="noStrike">
                <a:solidFill>
                  <a:srgbClr val="e7eacb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4"/>
          <p:cNvSpPr/>
          <p:nvPr/>
        </p:nvSpPr>
        <p:spPr>
          <a:xfrm>
            <a:off x="428760" y="21420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о второй раз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н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идит её в доме сотн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500040" y="53578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Он чувствовал , что душа его начинала как-то болезненно ныт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-Ведьма!- вскрикнул он не своим голосом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Это была та самая ведьма, которую он убил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2"/>
          <p:cNvSpPr/>
          <p:nvPr/>
        </p:nvSpPr>
        <p:spPr>
          <a:xfrm>
            <a:off x="428760" y="7128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церкви Хома глядит на усопшую в третий р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голь нагнетает ужас, портрет становится ещё </a:t>
            </a:r>
            <a:r>
              <a:rPr b="0" i="1" lang="ru-RU" sz="2000" spc="-1" strike="noStrike">
                <a:solidFill>
                  <a:srgbClr val="ffffff"/>
                </a:solidFill>
                <a:latin typeface="Cambria"/>
              </a:rPr>
              <a:t>более мистическим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: на щеке умершей Хома видит показавшуюся ему слезой каплю кров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же красота панночки была страшн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, глядя на неё, Хома сразу все вспомнил и понял, что это ведьм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в её красоте не было тепла , а  было что-то «страшно пронзительное», нечеловеческ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Месяц 3"/>
          <p:cNvSpPr/>
          <p:nvPr/>
        </p:nvSpPr>
        <p:spPr>
          <a:xfrm>
            <a:off x="142920" y="1357200"/>
            <a:ext cx="35712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Овальная выноска 4"/>
          <p:cNvSpPr/>
          <p:nvPr/>
        </p:nvSpPr>
        <p:spPr>
          <a:xfrm>
            <a:off x="5143680" y="2928960"/>
            <a:ext cx="3643200" cy="3214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5429160" y="3643200"/>
            <a:ext cx="342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Он подошел ко гробу, с робостию посмотрел в лицо умершей и не мог зажмурить, несколько вздрогнувши, своих глаз : такая страшная, сверкающая красота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1" descr="C:\Users\1\Desktop\kinopoisk.ru-Viy-1308255[1].jpg"/>
          <p:cNvPicPr/>
          <p:nvPr/>
        </p:nvPicPr>
        <p:blipFill>
          <a:blip r:embed="rId1"/>
          <a:stretch/>
        </p:blipFill>
        <p:spPr>
          <a:xfrm>
            <a:off x="285840" y="2857680"/>
            <a:ext cx="4857840" cy="367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5" descr="derevyannaya-cerkov-v-Sedneve"/>
          <p:cNvPicPr/>
          <p:nvPr/>
        </p:nvPicPr>
        <p:blipFill>
          <a:blip r:embed="rId1"/>
          <a:stretch/>
        </p:blipFill>
        <p:spPr>
          <a:xfrm>
            <a:off x="214200" y="142920"/>
            <a:ext cx="4095720" cy="614376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2"/>
          <p:cNvSpPr/>
          <p:nvPr/>
        </p:nvSpPr>
        <p:spPr>
          <a:xfrm>
            <a:off x="4357800" y="2286000"/>
            <a:ext cx="4643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Церковь деревянная, почерневшая, убранная зеленым мохом, с тремя конусообразными куполами, уныло стояла на краю села. Заметно было, что в ней давно уже не отправлялось никакого служения... Небольшой дворик, за которым не было ни дерева и открывалось одно пустое поле да поглощенные ночным мраком луга... Высокий старинный иконостас уже показывал глубокую ветхость 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3"/>
          <p:cNvSpPr/>
          <p:nvPr/>
        </p:nvSpPr>
        <p:spPr>
          <a:xfrm>
            <a:off x="4500720" y="214200"/>
            <a:ext cx="3929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тересно то , как Гоголь подводит читателя к  сценам  в церкви . Не только портрет панночки , но и описание  самой церкви подготавливает читателя к тому, что произойдё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Выноска-облако 4"/>
          <p:cNvSpPr/>
          <p:nvPr/>
        </p:nvSpPr>
        <p:spPr>
          <a:xfrm>
            <a:off x="214200" y="214200"/>
            <a:ext cx="2000520" cy="2071800"/>
          </a:xfrm>
          <a:prstGeom prst="cloudCallout">
            <a:avLst>
              <a:gd name="adj1" fmla="val -19629"/>
              <a:gd name="adj2" fmla="val 49722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5"/>
          <p:cNvSpPr/>
          <p:nvPr/>
        </p:nvSpPr>
        <p:spPr>
          <a:xfrm>
            <a:off x="500040" y="7858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Что такое описа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6"/>
          <p:cNvSpPr/>
          <p:nvPr/>
        </p:nvSpPr>
        <p:spPr>
          <a:xfrm>
            <a:off x="357120" y="621504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Cambria"/>
              </a:rPr>
              <a:t>Какие художественные средства использует автор в описан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1"/>
          <p:cNvSpPr/>
          <p:nvPr/>
        </p:nvSpPr>
        <p:spPr>
          <a:xfrm>
            <a:off x="642960" y="214200"/>
            <a:ext cx="77868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Проследим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, как от эпизода к эпизоду </a:t>
            </a:r>
            <a:r>
              <a:rPr b="1" i="1" lang="ru-RU" sz="1800" spc="-1" strike="noStrike">
                <a:solidFill>
                  <a:srgbClr val="ffffff"/>
                </a:solidFill>
                <a:latin typeface="Cambria"/>
              </a:rPr>
              <a:t>Гоголь усиливает ощущение мистического ужаса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, ожидание страшной развязк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Ночь первая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-покойница поднимает голову , садится в гробу , идет по церкви, пытается поймать Хому , гроб летает по церкви , позеленевший труп поднимается из него, раздается крик петух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1" descr="C:\Users\1\Desktop\kinopoisk.ru-Viy-1308254[1].jpg"/>
          <p:cNvPicPr/>
          <p:nvPr/>
        </p:nvPicPr>
        <p:blipFill>
          <a:blip r:embed="rId1"/>
          <a:stretch/>
        </p:blipFill>
        <p:spPr>
          <a:xfrm>
            <a:off x="928800" y="2071800"/>
            <a:ext cx="671508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2"/>
          <p:cNvSpPr/>
          <p:nvPr/>
        </p:nvSpPr>
        <p:spPr>
          <a:xfrm>
            <a:off x="428760" y="2858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очь вторая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Хома видит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труп на самой черте, покойница творит заклинания , нечистая сила ломится в церковь  , но не может попасть в неё, раздается крик петух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2" descr="C:\Users\1\Desktop\Новая папка (2)\10658_original[1].jpg"/>
          <p:cNvPicPr/>
          <p:nvPr/>
        </p:nvPicPr>
        <p:blipFill>
          <a:blip r:embed="rId1"/>
          <a:stretch/>
        </p:blipFill>
        <p:spPr>
          <a:xfrm>
            <a:off x="714240" y="2000160"/>
            <a:ext cx="3429000" cy="4229280"/>
          </a:xfrm>
          <a:prstGeom prst="rect">
            <a:avLst/>
          </a:prstGeom>
          <a:ln w="0">
            <a:noFill/>
          </a:ln>
        </p:spPr>
      </p:pic>
      <p:sp>
        <p:nvSpPr>
          <p:cNvPr id="464" name="4-конечная звезда 6"/>
          <p:cNvSpPr/>
          <p:nvPr/>
        </p:nvSpPr>
        <p:spPr>
          <a:xfrm>
            <a:off x="3357720" y="1357200"/>
            <a:ext cx="714240" cy="928800"/>
          </a:xfrm>
          <a:custGeom>
            <a:avLst/>
            <a:gdLst>
              <a:gd name="textAreaLeft" fmla="*/ 294120 w 714240"/>
              <a:gd name="textAreaRight" fmla="*/ 420120 w 714240"/>
              <a:gd name="textAreaTop" fmla="*/ 382680 h 928800"/>
              <a:gd name="textAreaBottom" fmla="*/ 54612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1" descr="C:\Users\1\Desktop\kinopoisk.ru-Viy-1135653[1].jpg"/>
          <p:cNvPicPr/>
          <p:nvPr/>
        </p:nvPicPr>
        <p:blipFill>
          <a:blip r:embed="rId2"/>
          <a:stretch/>
        </p:blipFill>
        <p:spPr>
          <a:xfrm>
            <a:off x="4143240" y="1571760"/>
            <a:ext cx="4643640" cy="461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1"/>
          <p:cNvSpPr/>
          <p:nvPr/>
        </p:nvSpPr>
        <p:spPr>
          <a:xfrm>
            <a:off x="357120" y="428760"/>
            <a:ext cx="8501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очь  третья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 мертвец встает из гроба, творит заклинания , падают иконы, бьются стёкла в окнах,  нечистая сила врывается в церковь, приводят Вия,  Хома не выдерживает и смотрит на него, Хома погибает,  петух кричит во второй раз, нечисть застревает в окнах и дверях церк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7" descr="40f23dbff6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5840" y="2071800"/>
            <a:ext cx="5500440" cy="4429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C:\Users\1\Desktop\Новая папка (2)\filejIgFcX[1].gif"/>
          <p:cNvPicPr/>
          <p:nvPr/>
        </p:nvPicPr>
        <p:blipFill>
          <a:blip r:embed="rId2"/>
          <a:stretch/>
        </p:blipFill>
        <p:spPr>
          <a:xfrm>
            <a:off x="5715000" y="3214800"/>
            <a:ext cx="3286080" cy="3429000"/>
          </a:xfrm>
          <a:prstGeom prst="rect">
            <a:avLst/>
          </a:prstGeom>
          <a:ln w="0">
            <a:noFill/>
          </a:ln>
        </p:spPr>
      </p:pic>
      <p:sp>
        <p:nvSpPr>
          <p:cNvPr id="469" name="4-конечная звезда 4"/>
          <p:cNvSpPr/>
          <p:nvPr/>
        </p:nvSpPr>
        <p:spPr>
          <a:xfrm>
            <a:off x="5286240" y="2714760"/>
            <a:ext cx="1000440" cy="1214280"/>
          </a:xfrm>
          <a:custGeom>
            <a:avLst/>
            <a:gdLst>
              <a:gd name="textAreaLeft" fmla="*/ 412200 w 1000440"/>
              <a:gd name="textAreaRight" fmla="*/ 588240 w 1000440"/>
              <a:gd name="textAreaTop" fmla="*/ 500400 h 1214280"/>
              <a:gd name="textAreaBottom" fmla="*/ 71388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C:\Users\1\Desktop\Новая папка (2)\45798633_viy_big[1].jpg"/>
          <p:cNvPicPr/>
          <p:nvPr/>
        </p:nvPicPr>
        <p:blipFill>
          <a:blip r:embed="rId1"/>
          <a:stretch/>
        </p:blipFill>
        <p:spPr>
          <a:xfrm>
            <a:off x="5286240" y="2286000"/>
            <a:ext cx="3357720" cy="43578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2"/>
          <p:cNvSpPr/>
          <p:nvPr/>
        </p:nvSpPr>
        <p:spPr>
          <a:xfrm>
            <a:off x="571680" y="214200"/>
            <a:ext cx="735804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Кто такой Ви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чему повесть названа «Вий», хотя сам он появляется в самом конц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Может быть ,Вий -  это та страшная сила, которая все-таки погубила Хому за его жестокость(за избиение ведьмы поленом), вызвала в его душе суеверный страх , заставивший его взглянуть в глаза чудовищу, «не выдержать»в последний мо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357120" y="2500200"/>
            <a:ext cx="4429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У древних славян- существо, насылающее ночные  кошмары, видения  и привидения. Вся сила его была в глазах, которые очень сильно заросли бровями и ресницами и совсем затемнили з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алороссийский Вий –   мифическое существо , у которого веки опускаются до самой земли , но если поднять их вилами, уже ничто не укроется от его взора . Слово  «вии» означает ресн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Месяц 5"/>
          <p:cNvSpPr/>
          <p:nvPr/>
        </p:nvSpPr>
        <p:spPr>
          <a:xfrm>
            <a:off x="214200" y="357120"/>
            <a:ext cx="3574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1"/>
          <p:cNvSpPr/>
          <p:nvPr/>
        </p:nvSpPr>
        <p:spPr>
          <a:xfrm>
            <a:off x="785880" y="142920"/>
            <a:ext cx="8072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Смешным или страшным показалось вам это произведен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окажите, что в повести удачно сочетается  реалистическое и мистическ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Вертикальный свиток 2"/>
          <p:cNvSpPr/>
          <p:nvPr/>
        </p:nvSpPr>
        <p:spPr>
          <a:xfrm>
            <a:off x="-142920" y="1214280"/>
            <a:ext cx="5429160" cy="5143680"/>
          </a:xfrm>
          <a:prstGeom prst="verticalScroll">
            <a:avLst>
              <a:gd name="adj" fmla="val 1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571680" y="2214720"/>
            <a:ext cx="4071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 повести, действительно, необыкновенно удачно сплетаются два начала : реалистическое и мистическое. Одно от другого неотделимо в художественном мире Гого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алантливый писатель соединил народные предания и свою авторскую фантаз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Месяц 4"/>
          <p:cNvSpPr/>
          <p:nvPr/>
        </p:nvSpPr>
        <p:spPr>
          <a:xfrm>
            <a:off x="357120" y="285840"/>
            <a:ext cx="428760" cy="64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79" y="1212"/>
                  <a:pt x="6758" y="5080"/>
                  <a:pt x="6758" y="10800"/>
                </a:cubicBezTo>
                <a:cubicBezTo>
                  <a:pt x="6758" y="16520"/>
                  <a:pt x="14179" y="2038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Picture 4" descr="1223357760_0"/>
          <p:cNvPicPr/>
          <p:nvPr/>
        </p:nvPicPr>
        <p:blipFill>
          <a:blip r:embed="rId1"/>
          <a:stretch/>
        </p:blipFill>
        <p:spPr>
          <a:xfrm>
            <a:off x="4643280" y="1928880"/>
            <a:ext cx="4143600" cy="464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1"/>
          <p:cNvSpPr/>
          <p:nvPr/>
        </p:nvSpPr>
        <p:spPr>
          <a:xfrm>
            <a:off x="642960" y="214200"/>
            <a:ext cx="8143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Цель урока-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нализ тех сцен повести «Вий» , в которых преобладает мистическое  начало. Знакомство с теми эпизодами повести, которые представляют  бытовую, реалистическую стор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642960" y="128592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повести необыкновенно удачно сплетаются два начала:    реалистическое и мистическ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571680" y="2000160"/>
            <a:ext cx="76435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Реалистическо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писание хутора, хлева,  где  философ « толкнул ногою в морду   просунувшуюся из другого хлева любопытную свинью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" descr="C:\Users\1\Desktop\viewer[1].png"/>
          <p:cNvPicPr/>
          <p:nvPr/>
        </p:nvPicPr>
        <p:blipFill>
          <a:blip r:embed="rId1"/>
          <a:stretch/>
        </p:blipFill>
        <p:spPr>
          <a:xfrm>
            <a:off x="1357200" y="3214800"/>
            <a:ext cx="6161040" cy="3429000"/>
          </a:xfrm>
          <a:prstGeom prst="rect">
            <a:avLst/>
          </a:prstGeom>
          <a:ln w="0">
            <a:noFill/>
          </a:ln>
        </p:spPr>
      </p:pic>
      <p:sp>
        <p:nvSpPr>
          <p:cNvPr id="409" name="6-конечная звезда 6"/>
          <p:cNvSpPr/>
          <p:nvPr/>
        </p:nvSpPr>
        <p:spPr>
          <a:xfrm>
            <a:off x="2357280" y="1928880"/>
            <a:ext cx="428760" cy="500040"/>
          </a:xfrm>
          <a:custGeom>
            <a:avLst/>
            <a:gdLst/>
            <a:ahLst/>
            <a:rect l="l" t="t" r="r" b="b"/>
            <a:pathLst>
              <a:path w="428625" h="500062">
                <a:moveTo>
                  <a:pt x="0" y="125016"/>
                </a:moveTo>
                <a:lnTo>
                  <a:pt x="142874" y="125013"/>
                </a:lnTo>
                <a:lnTo>
                  <a:pt x="214313" y="0"/>
                </a:lnTo>
                <a:lnTo>
                  <a:pt x="285751" y="125013"/>
                </a:lnTo>
                <a:lnTo>
                  <a:pt x="428625" y="125016"/>
                </a:lnTo>
                <a:lnTo>
                  <a:pt x="357190" y="250031"/>
                </a:lnTo>
                <a:lnTo>
                  <a:pt x="428625" y="375047"/>
                </a:lnTo>
                <a:lnTo>
                  <a:pt x="285751" y="375049"/>
                </a:lnTo>
                <a:lnTo>
                  <a:pt x="214313" y="500062"/>
                </a:lnTo>
                <a:lnTo>
                  <a:pt x="142874" y="375049"/>
                </a:lnTo>
                <a:lnTo>
                  <a:pt x="0" y="375047"/>
                </a:lnTo>
                <a:lnTo>
                  <a:pt x="71435" y="250031"/>
                </a:lnTo>
                <a:lnTo>
                  <a:pt x="0" y="12501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C:\Users\1\Desktop\Новая папка (2)\filehD6iq5[1].gif"/>
          <p:cNvPicPr/>
          <p:nvPr/>
        </p:nvPicPr>
        <p:blipFill>
          <a:blip r:embed="rId1"/>
          <a:stretch/>
        </p:blipFill>
        <p:spPr>
          <a:xfrm>
            <a:off x="4572000" y="571680"/>
            <a:ext cx="4357800" cy="57150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714240" y="0"/>
            <a:ext cx="40719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писана дальнейшая судьба двух приятелей Хо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голь вводит в повесть двух друзей Хомы, чтобы расширить бытовое полотно , изобразить как можно больше колоритных фигур. Имена героев  представляют комическое сочетание  древнеримского  «Тиберий» и украинского «Горобец» (воробе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Эти сочетания особенно выразительны, когда к ним добавляются важные слова «философ», «ритор». Смысл прозвища  богослова Халявы - он всегда готов позавтракать, пообедать и поужинать тем, что плохо леж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7-конечная звезда 4"/>
          <p:cNvSpPr/>
          <p:nvPr/>
        </p:nvSpPr>
        <p:spPr>
          <a:xfrm>
            <a:off x="285840" y="357120"/>
            <a:ext cx="571320" cy="42876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-1" y="275652"/>
                </a:moveTo>
                <a:lnTo>
                  <a:pt x="88004" y="190757"/>
                </a:lnTo>
                <a:lnTo>
                  <a:pt x="56596" y="84895"/>
                </a:lnTo>
                <a:lnTo>
                  <a:pt x="197746" y="84895"/>
                </a:lnTo>
                <a:lnTo>
                  <a:pt x="285750" y="0"/>
                </a:lnTo>
                <a:lnTo>
                  <a:pt x="373754" y="84895"/>
                </a:lnTo>
                <a:lnTo>
                  <a:pt x="514904" y="84895"/>
                </a:lnTo>
                <a:lnTo>
                  <a:pt x="483496" y="190757"/>
                </a:lnTo>
                <a:lnTo>
                  <a:pt x="571501" y="275652"/>
                </a:lnTo>
                <a:lnTo>
                  <a:pt x="444329" y="322765"/>
                </a:lnTo>
                <a:lnTo>
                  <a:pt x="412920" y="428627"/>
                </a:lnTo>
                <a:lnTo>
                  <a:pt x="285750" y="381514"/>
                </a:lnTo>
                <a:lnTo>
                  <a:pt x="158580" y="428627"/>
                </a:lnTo>
                <a:lnTo>
                  <a:pt x="127171" y="322765"/>
                </a:lnTo>
                <a:lnTo>
                  <a:pt x="-1" y="275652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Молния 5"/>
          <p:cNvSpPr/>
          <p:nvPr/>
        </p:nvSpPr>
        <p:spPr>
          <a:xfrm>
            <a:off x="7143840" y="571680"/>
            <a:ext cx="1714320" cy="1285560"/>
          </a:xfrm>
          <a:prstGeom prst="lightningBol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C:\Users\1\Desktop\kinopoisk.ru-Viy-1308247[1].jpg"/>
          <p:cNvPicPr/>
          <p:nvPr/>
        </p:nvPicPr>
        <p:blipFill>
          <a:blip r:embed="rId1"/>
          <a:stretch/>
        </p:blipFill>
        <p:spPr>
          <a:xfrm>
            <a:off x="1000080" y="2500200"/>
            <a:ext cx="5429160" cy="4145040"/>
          </a:xfrm>
          <a:prstGeom prst="rect">
            <a:avLst/>
          </a:prstGeom>
          <a:ln w="0">
            <a:noFill/>
          </a:ln>
        </p:spPr>
      </p:pic>
      <p:sp>
        <p:nvSpPr>
          <p:cNvPr id="415" name="Овальная выноска 3"/>
          <p:cNvSpPr/>
          <p:nvPr/>
        </p:nvSpPr>
        <p:spPr>
          <a:xfrm>
            <a:off x="142920" y="142920"/>
            <a:ext cx="4071960" cy="27147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928800" y="71424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Богослов был рослый, плечистый мужчина и имел чрезвычайно странный нрав: всё , что ни лежало, бывало, возле него, он непременно украде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кругленная прямоугольная выноска 5"/>
          <p:cNvSpPr/>
          <p:nvPr/>
        </p:nvSpPr>
        <p:spPr>
          <a:xfrm>
            <a:off x="5929200" y="142920"/>
            <a:ext cx="3214800" cy="3214800"/>
          </a:xfrm>
          <a:prstGeom prst="wedgeRoundRectCallout">
            <a:avLst>
              <a:gd name="adj1" fmla="val -20356"/>
              <a:gd name="adj2" fmla="val 58259"/>
              <a:gd name="adj3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5929200" y="357120"/>
            <a:ext cx="3071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Ритор Тиберий Горобець еще не имел права носить усов…и поэтому характер его в то время  ещё  мало развивался; но, судя по  большим шишкам на лбу, с которыми он часто являлся в класс, можно было предположить, что из него будет хороший воин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Вий "/>
          <p:cNvPicPr/>
          <p:nvPr/>
        </p:nvPicPr>
        <p:blipFill>
          <a:blip r:embed="rId1"/>
          <a:stretch/>
        </p:blipFill>
        <p:spPr>
          <a:xfrm>
            <a:off x="428760" y="1357200"/>
            <a:ext cx="6429240" cy="5113440"/>
          </a:xfrm>
          <a:prstGeom prst="rect">
            <a:avLst/>
          </a:prstGeom>
          <a:ln w="0">
            <a:noFill/>
          </a:ln>
        </p:spPr>
      </p:pic>
      <p:sp>
        <p:nvSpPr>
          <p:cNvPr id="420" name="Овальная выноска 4"/>
          <p:cNvSpPr/>
          <p:nvPr/>
        </p:nvSpPr>
        <p:spPr>
          <a:xfrm>
            <a:off x="4714920" y="142920"/>
            <a:ext cx="4429080" cy="4214880"/>
          </a:xfrm>
          <a:prstGeom prst="wedgeEllipseCallout">
            <a:avLst>
              <a:gd name="adj1" fmla="val -22587"/>
              <a:gd name="adj2" fmla="val 67879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6"/>
          <p:cNvSpPr/>
          <p:nvPr/>
        </p:nvSpPr>
        <p:spPr>
          <a:xfrm>
            <a:off x="5429160" y="785880"/>
            <a:ext cx="3714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Философ Хома Брут был нрава веселого. Любил очень лежать и курить люльку. Он часто пробовал крупного гороху, но совершенно с философическим равнодушием , -говоря , что чему быть, того не миновать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500040" y="714240"/>
            <a:ext cx="3929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описан быт сотника, обряды , обычаи , традиции, в том числе в связи с погребением  (оплакивание  отцом умершей дочери , чтение над покойником святого  писания , прикладывание рук к горячей печи и п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Знание народных обычаев и традиций – одна из черт творчества Гог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2" descr="C:\Users\1\Desktop\Новая папка (2)\koncovka[1].gif"/>
          <p:cNvPicPr/>
          <p:nvPr/>
        </p:nvPicPr>
        <p:blipFill>
          <a:blip r:embed="rId1"/>
          <a:stretch/>
        </p:blipFill>
        <p:spPr>
          <a:xfrm>
            <a:off x="5916600" y="214200"/>
            <a:ext cx="3013200" cy="2571840"/>
          </a:xfrm>
          <a:prstGeom prst="rect">
            <a:avLst/>
          </a:prstGeom>
          <a:ln w="0">
            <a:noFill/>
          </a:ln>
        </p:spPr>
      </p:pic>
      <p:sp>
        <p:nvSpPr>
          <p:cNvPr id="424" name="7-конечная звезда 3"/>
          <p:cNvSpPr/>
          <p:nvPr/>
        </p:nvSpPr>
        <p:spPr>
          <a:xfrm>
            <a:off x="142920" y="714240"/>
            <a:ext cx="428760" cy="500040"/>
          </a:xfrm>
          <a:custGeom>
            <a:avLst/>
            <a:gdLst/>
            <a:ahLst/>
            <a:rect l="l" t="t" r="r" b="b"/>
            <a:pathLst>
              <a:path w="428625" h="500063">
                <a:moveTo>
                  <a:pt x="-1" y="321594"/>
                </a:moveTo>
                <a:lnTo>
                  <a:pt x="66003" y="222550"/>
                </a:lnTo>
                <a:lnTo>
                  <a:pt x="42447" y="99044"/>
                </a:lnTo>
                <a:lnTo>
                  <a:pt x="148309" y="99044"/>
                </a:lnTo>
                <a:lnTo>
                  <a:pt x="214313" y="0"/>
                </a:lnTo>
                <a:lnTo>
                  <a:pt x="280316" y="99044"/>
                </a:lnTo>
                <a:lnTo>
                  <a:pt x="386178" y="99044"/>
                </a:lnTo>
                <a:lnTo>
                  <a:pt x="362622" y="222550"/>
                </a:lnTo>
                <a:lnTo>
                  <a:pt x="428626" y="321594"/>
                </a:lnTo>
                <a:lnTo>
                  <a:pt x="333247" y="376559"/>
                </a:lnTo>
                <a:lnTo>
                  <a:pt x="309690" y="500066"/>
                </a:lnTo>
                <a:lnTo>
                  <a:pt x="214313" y="445100"/>
                </a:lnTo>
                <a:lnTo>
                  <a:pt x="118935" y="500066"/>
                </a:lnTo>
                <a:lnTo>
                  <a:pt x="95378" y="376559"/>
                </a:lnTo>
                <a:lnTo>
                  <a:pt x="-1" y="321594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1" descr="C:\Users\1\Desktop\kinopoisk.ru-Viy-1308250[1].jpg"/>
          <p:cNvPicPr/>
          <p:nvPr/>
        </p:nvPicPr>
        <p:blipFill>
          <a:blip r:embed="rId2"/>
          <a:stretch/>
        </p:blipFill>
        <p:spPr>
          <a:xfrm>
            <a:off x="4214880" y="2786040"/>
            <a:ext cx="4714920" cy="3800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1"/>
          <p:cNvSpPr/>
          <p:nvPr/>
        </p:nvSpPr>
        <p:spPr>
          <a:xfrm>
            <a:off x="-71280" y="71280"/>
            <a:ext cx="9215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Мистическо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нализ сцены, когда Хома , оказавшись в роли коня у ведьм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верху смотрит на ми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2" descr="C:\Users\1\Desktop\Новая папка (2)\282[1].jpg"/>
          <p:cNvPicPr/>
          <p:nvPr/>
        </p:nvPicPr>
        <p:blipFill>
          <a:blip r:embed="rId1"/>
          <a:stretch/>
        </p:blipFill>
        <p:spPr>
          <a:xfrm>
            <a:off x="714240" y="1214280"/>
            <a:ext cx="6357960" cy="4397400"/>
          </a:xfrm>
          <a:prstGeom prst="rect">
            <a:avLst/>
          </a:prstGeom>
          <a:ln w="0">
            <a:noFill/>
          </a:ln>
        </p:spPr>
      </p:pic>
      <p:sp>
        <p:nvSpPr>
          <p:cNvPr id="428" name="4-конечная звезда 3"/>
          <p:cNvSpPr/>
          <p:nvPr/>
        </p:nvSpPr>
        <p:spPr>
          <a:xfrm>
            <a:off x="1928880" y="71280"/>
            <a:ext cx="857160" cy="571680"/>
          </a:xfrm>
          <a:custGeom>
            <a:avLst/>
            <a:gdLst>
              <a:gd name="textAreaLeft" fmla="*/ 353160 w 857160"/>
              <a:gd name="textAreaRight" fmla="*/ 504000 w 857160"/>
              <a:gd name="textAreaTop" fmla="*/ 235440 h 571680"/>
              <a:gd name="textAreaBottom" fmla="*/ 3362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642960" y="557208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изменяется привычный мир в глазах  Хомы , соприкоснувшегося с потусторонней сил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 каком состоянии находится сам  Хом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Овальная выноска 5"/>
          <p:cNvSpPr/>
          <p:nvPr/>
        </p:nvSpPr>
        <p:spPr>
          <a:xfrm>
            <a:off x="5786280" y="928800"/>
            <a:ext cx="3214800" cy="3071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6"/>
          <p:cNvSpPr/>
          <p:nvPr/>
        </p:nvSpPr>
        <p:spPr>
          <a:xfrm>
            <a:off x="6072120" y="164304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истика- это раздел фантастики, связанный с изображением  потустороннего мира, нечистой силы, необъяснимых яв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Месяц 10"/>
          <p:cNvSpPr/>
          <p:nvPr/>
        </p:nvSpPr>
        <p:spPr>
          <a:xfrm>
            <a:off x="285840" y="564372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Фильм.wmv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7929720" cy="41432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3"/>
          <p:cNvSpPr/>
          <p:nvPr/>
        </p:nvSpPr>
        <p:spPr>
          <a:xfrm>
            <a:off x="785880" y="4929120"/>
            <a:ext cx="764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Мир преображается: он наполняется сказочными существами, незнакомыми прелестными звуками, запахами , крас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Скругленная прямоугольная выноска 4"/>
          <p:cNvSpPr/>
          <p:nvPr/>
        </p:nvSpPr>
        <p:spPr>
          <a:xfrm>
            <a:off x="928800" y="928800"/>
            <a:ext cx="2643120" cy="30002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1000080" y="1357200"/>
            <a:ext cx="2643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Луга, леса ,долины-всё ,казалось, как будто спало с открытыми глазами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Users\1\Desktop\Новая папка (2)\0489e9c2fdce[1].jpg"/>
          <p:cNvPicPr/>
          <p:nvPr/>
        </p:nvPicPr>
        <p:blipFill>
          <a:blip r:embed="rId1"/>
          <a:stretch/>
        </p:blipFill>
        <p:spPr>
          <a:xfrm>
            <a:off x="4429080" y="214200"/>
            <a:ext cx="4395960" cy="58118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3"/>
          <p:cNvSpPr/>
          <p:nvPr/>
        </p:nvSpPr>
        <p:spPr>
          <a:xfrm>
            <a:off x="285840" y="214200"/>
            <a:ext cx="385740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Герой Гоголя не может понять, </a:t>
            </a:r>
            <a:r>
              <a:rPr b="1" i="1" lang="ru-RU" sz="2000" spc="-1" strike="noStrike">
                <a:solidFill>
                  <a:srgbClr val="ffffff"/>
                </a:solidFill>
                <a:latin typeface="Cambria"/>
              </a:rPr>
              <a:t>сон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это или </a:t>
            </a:r>
            <a:r>
              <a:rPr b="1" i="1" lang="ru-RU" sz="2000" spc="-1" strike="noStrike">
                <a:solidFill>
                  <a:srgbClr val="ffffff"/>
                </a:solidFill>
                <a:latin typeface="Cambria"/>
              </a:rPr>
              <a:t>явь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. Когда он начинает творить заклятья , всё вокруг становится привычным: «Густая трава  касалась его, и он  уже  не видел в ней ничего необыкновенног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И вот ведьма превращается в красавиц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чем Гоголю понадобилось преображать ведьм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чем он делает её столь прекрасной и несколько раз на протяжении повести рисует её портр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то поражает в этом портрет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Месяц 8"/>
          <p:cNvSpPr/>
          <p:nvPr/>
        </p:nvSpPr>
        <p:spPr>
          <a:xfrm>
            <a:off x="71280" y="3643200"/>
            <a:ext cx="285840" cy="5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Овальная выноска 5"/>
          <p:cNvSpPr/>
          <p:nvPr/>
        </p:nvSpPr>
        <p:spPr>
          <a:xfrm>
            <a:off x="3929040" y="4071960"/>
            <a:ext cx="2357640" cy="2143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4286160" y="442908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Что такое портр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3:41:09Z</dcterms:created>
  <dc:creator>1</dc:creator>
  <dc:description/>
  <dc:language>en-US</dc:language>
  <cp:lastModifiedBy>LEGION</cp:lastModifiedBy>
  <dcterms:modified xsi:type="dcterms:W3CDTF">2015-01-20T08:23:14Z</dcterms:modified>
  <cp:revision>67</cp:revision>
  <dc:subject/>
  <dc:title>Слайд 1</dc:title>
</cp:coreProperties>
</file>