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CD29-8B9D-487F-A358-7F4DB9548A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Сочетание реалистического и мист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в повести Н.В.Гоголя «В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Учитель русского языка и литературы Соловьева Т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МОУ « Лебяжьевская 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452D-9851-4A2D-A48A-1AAB8FA1B3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Первый раз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Хома видит её такой :  «Перед ним лежала красавица, с растрепанною косою, с длинными, как стрелы , ресницами. Бесчувственно отбросила она на обе стороны белые нагие руки и  стонала, возведя кверху очи, полные сле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2129-8528-4223-83A8-03D04BA0B9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о второй раз</a:t>
            </a:r>
            <a:r>
              <a:rPr b="0" lang="ru-RU" sz="1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он</a:t>
            </a:r>
            <a:r>
              <a:rPr b="0" lang="ru-RU" sz="1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идит её в доме сот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ebb"/>
                </a:solidFill>
                <a:latin typeface="Calibri"/>
              </a:rPr>
              <a:t>«Она лежала как живая. Чело прекрасное, нежное, как снег, как серебро, казалось мыслило; брови  - ночь среди солнечного дня, тонкие, ровные, горделиво приподнялись над закрытыми глазами,  а ресницы, упавшие стрелами на щеки, пылавшие жаром тайных желаний; уста - рубины, готовые усмехнуться...</a:t>
            </a:r>
            <a:r>
              <a:rPr b="0" lang="ru-RU" sz="1000" spc="-1" strike="noStrike">
                <a:solidFill>
                  <a:srgbClr val="003ebb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Он чувствовал , что душа его начинала как-то болезненно н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-Ведьма!- вскрикнул он не своим голос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Это была та самая ведьма, которую он уби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6842-7CED-4DC7-83B3-46C2367224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 церкви Хома глядит на усопшую в третий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Гоголь нагнетает ужас, портрет становится ещё </a:t>
            </a: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более мистическим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: на щеке умершей Хома видит показавшуюся ему слезой каплю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же красота панночки была страш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, глядя на неё, Хома сразу все вспомнил и понял, что это ведь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в её красоте не было тепла , а  было что-то «страшно пронзительное», нечеловечес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Он подошел ко гробу, с робостию посмотрел в лицо умершей и не мог зажмурить, несколько вздрогнувши, своих глаз : такая страшная, сверкающая красота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A226-B148-479C-BB2C-F81DAB0C56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Интересно то , как Гоголь подводит читателя к  сценам  в церкви . Не только портрет панночки , но и описание  самой церкви подготавливает читателя к тому, что произойдё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«Церковь деревянная, почерневшая, убранная зеленым мохом, с тремя конусообразными куполами, уныло стояла на краю села. Заметно было, что в ней давно уже не отправлялось никакого служения... Небольшой дворик, за которым не было ни дерева и открывалось одно пустое поле да поглощенные ночным мраком луга... Высокий старинный иконостас уже показывал глубокую ветхость 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mbria"/>
              </a:rPr>
              <a:t>Какие художественные средства использует автор в описа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CF46-719B-4B3E-AC3B-42617CFF26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Проследим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, как от эпизода к эпизоду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Гоголь усиливает ощущение мистического ужаса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, ожидание страшной развязк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mbria"/>
              </a:rPr>
              <a:t>Ночь первая</a:t>
            </a: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-покойница поднимает голову , садится в гробу , идет по церкви, пытается поймать Хому , гроб летает по церкви , позеленевший труп поднимается из него, раздается крик пет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1719-BD54-4C75-B292-27E04204D8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Ночь вторая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- Хома видит труп на самой черте, покойница творит заклинания , нечистая сила ломится в церковь  , но не может попасть в неё, раздается крик пет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9294-DF34-491E-8DC2-F84689BF9A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Ночь  третья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- мертвец встает из гроба, творит заклинания , падают иконы, бьются стёкла в окнах,  нечистая сила врывается в церковь, приводят Вия,  Хома не выдерживает и смотрит на него, Хома погибает,  петух кричит во второй раз, нечисть застревает в окнах и дверях церк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B17D-9A95-4CBC-8CB7-A38289237D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Кто такой Ви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Почему повесть названа «Вий», хотя сам он появляется в самом конц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Может быть ,Вий -  это та страшная сила, которая все-таки погубила Хому за его жестокость(за избиение ведьмы поленом), вызвала в его душе суеверный страх , заставивший его взглянуть в глаза чудовищу, «не выдержать»в последний мо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У древних славян- существо, насылающее ночные  кошмары, видения  и привидения. Вся сила его была в глазах, которые очень сильно заросли бровями и ресницами и совсем затемнили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Малороссийский Вий –   мифическое существо , у которого веки опускаются до самой земли , но если поднять их вилами, уже ничто не укроется от его взора . Слово  «вии» означает рес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C6FD-E199-4BA0-A2F4-90D300EE34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мешным или страшным показалось вам это произ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окажите, что в повести удачно сочетается  реалистическое и мистичес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В повести, действительно, необыкновенно удачно сплетаются два начала : реалистическое и мистическое. Одно от другого неотделимо в художественном мире Г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Талантливый писатель соединил народные предания и свою авторскую фантаз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70B9-B5C5-45D3-A643-8AC9691D23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Цель урока-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нализ тех сцен повести «Вий» , в которых преобладает мистическое  начало. Знакомство с теми эпизодами повести, которые представляют  бытовую, реалистическую стор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повести необыкновенно удачно сплетаются два начала:    реалистическое и мисти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</a:rPr>
              <a:t>Реалистическо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ие хутора, хлева,  где  философ « толкнул ногою в морду   просунувшуюся из другого хлева любопытную свинь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1E49-DBB0-4937-9554-82121307C7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а дальнейшая судьба двух приятелей Х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Гоголь вводит в повесть двух друзей Хомы, чтобы расширить бытовое полотно , изобразить как можно больше колоритных фигур. Имена героев  представляют комическое сочетание  древнеримского  «Тиберий» и украинского «Горобец» (вороб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Эти сочетания особенно выразительны, когда к ним добавляются важные слова «философ», «ритор». Смысл прозвища  богослова Халявы - он всегда готов позавтракать, пообедать и поужинать тем, что плохо леж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0EAC-EA6E-4A88-A6C0-2A54BCCDB3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Богослов был рослый, плечистый мужчина и имел чрезвычайно странный нрав: всё , что ни лежало, бывало, возле него, он непременно украд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Ритор Тиберий Горобець еще не имел права носить усов…и поэтому характер его в то время  ещё  мало развивался; но, судя по  большим шишкам на лбу, с которыми он часто являлся в класс, можно было предположить, что из него будет хороший вои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E770-E6AD-4C7C-ACDA-A70AE93BCB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«Философ Хома Брут был нрава веселого. Любил очень лежать и курить люльку. Он часто пробовал крупного гороху, но совершенно с философическим равнодушием , -говоря , что чему быть, того не минова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6380-B4EA-4BDE-8648-0139A58546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 быт сотника, обряды , обычаи , традиции, в том числе в связи с погребением  (оплакивание  отцом умершей дочери , чтение над покойником святого  писания , прикладывание рук к горячей печи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Знание народных обычаев и традиций – одна из черт творчества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05C8-5B9B-46A5-B76A-9E23A10BEF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Мистическо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нализ сцены, когда Хома , оказавшись в роли коня у ведь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верху смотрит на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истика- это раздел фантастики, связанный с изображением  потустороннего мира, нечистой силы, необъяснимых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Как изменяется привычный мир в глазах  Хомы , соприкоснувшегося с потусторонней сил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В каком состоянии находится сам  Хо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6FA1-D800-4F65-B2C6-6DA67F55D0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Луга, леса ,долины-всё ,казалось, как будто спало с открытыми глазами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ир преображается: он наполняется сказочными существами, незнакомыми прелестными звуками, запахами , кра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6540-4537-4A3F-B6AB-5B2E0EF59A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Герой Гоголя не может понять,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сон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это или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явь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. Когда он начинает творить заклятья , всё вокруг становится привычным: «Густая трава  касалась его, и он  уже  не видел в ней ничего необыкновенног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 вот ведьма превращается в красав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Зачем Гоголю понадобилось преображать ведь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Зачем он делает её столь прекрасной и несколько раз на протяжении повести рисует её портр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Что поражает в этом портр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D5F8-3CAD-4808-8667-9DB5B272C1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FCB-D279-4491-97B1-76DAC078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4E0-F11F-4AF5-98D0-84BBCD73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EBB452-FFEF-4053-A472-230F5745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A95A52-1571-4C55-A561-ACC496E4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7024ED-B56D-43F3-BE20-1A93B363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BF924F-CFA6-4126-9264-24E1A9BD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337944-5781-4CF0-834F-51015A67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B2E7C6-5230-49EA-B65A-6464DF7E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26E36D-1DCB-49E4-AB36-337C5597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4D11B3-4FE1-4669-ACD6-627B1B71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00AFD4-AA4A-4CFE-A049-82C95E9E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E97-1C48-4E1C-BD48-EDCC4B45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9AF-BCD2-4212-8084-C96E41B3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06CC4-A52A-4920-B45B-66283A04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2D93A-E5A5-4497-BEAB-EF760484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5B634-FEAA-455B-B6AC-014A4776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6B130-35FB-4A5C-8C35-C4DAFD46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BBE2E-FAEB-4E5C-8C41-B5194971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6043E-9ABA-46F1-98B1-EAC46B23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8B5C7-FC4B-4C2B-82C7-B012794B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534-E4BE-4E97-B12B-BA6286D4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4B795-8D48-490F-A364-21500EDC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5B05B-FC38-4096-B5BE-2231D267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AAA36-487F-44B5-9D2A-5EC92097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ADDBB-C00B-4168-8DBA-EAFB4D3E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2642F-FB24-45F8-902C-84F619CE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7EC82-3778-453F-9FA0-49FA5D45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C6269-B35E-44CE-9C20-97764BE5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8B6F0-B23A-4EA1-A901-A8252365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C7CC8-999E-42CF-BB0A-3AF47040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8BD00-3013-4299-BF96-ABF673AA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9F5-712F-400A-8E4E-CEC9A1F0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C1163-CED9-4D16-BD5C-F5D12653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E06D8-EBE9-4FAE-BA92-5A1F94AF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3CE54-A8D8-4578-B66F-74BAC3FF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3AF33-2E6D-4258-94D9-17EC8A6D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B186A-BE86-4645-9F51-C97D961D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38383-7A52-4A69-8CAF-DB63D638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7D81C-C1D4-4F2D-9C70-A092DDE4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6AB57F-04D5-4B82-BF1C-109439EB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263936-2056-4386-8B3E-C17AB3FD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EDB77-1000-4A31-9D22-0BA2AD39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E3C-F56C-4C0C-A2D8-CECF40E7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DC3D95-C1EC-48FC-B619-20A5BC79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DA52C-644A-403B-BE80-32933EE3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60855A-FA80-449A-8A24-6549FAD0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7A7261-AC68-45DC-BA24-F115AA3F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AE0B1C-D499-4340-9CD8-96B42ECE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9ACA9-3705-4F47-A38C-657D976E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54720-CDA0-4109-A800-D79F4C96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A17FA9-8EC9-4AF1-805C-3CEF1FBC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E693F3-820C-448F-9E15-F7D93B00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CCD2C-4D3E-4223-8FE8-8974EE8A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6C6-C33B-4F65-93CC-A80A26EE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1C1E2-5E43-403B-AA05-9BE44663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7E895-0C7D-433C-A1F8-EFF4B72B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23F08-7E80-4383-A972-7A8B8D83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2CCAD-1BB8-4BC4-8FAE-8D442F1F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4BB29-6EA2-4104-93FD-99078780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5188A-7004-4C91-AB07-05A00140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ADF6F-A742-4B6A-BB8B-125ABF3C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83435-3FC6-420F-BBA5-84FCE37B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13316-CA88-4983-9EE6-5338BFE9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B656C-7CDC-4377-8E7A-94BD3A55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93E-2BB4-4D86-85AE-D23E1D11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47436-8C77-4D8A-BC5E-B2345360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03DD0-5D59-4326-8469-271E261A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06724-E271-4909-9B18-01ED3CBB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642E7-039C-4425-A62A-93CD2960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FD2B3-4F6E-4B54-BD68-DF14A60C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FF24C-55ED-4719-83B9-2B081F74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7746F-8169-4652-AA32-8D76C6BB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4E32E-EFEC-4993-99C9-536EED32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A5982-197A-4AB7-AB49-FD727860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F4136-E791-4690-A39F-1F6B4B7A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493-6322-4FA4-B714-E3FF9F4D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FDA46-B9F0-4089-A97D-07BC0F82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D4BDE-0BE1-4C53-8863-EDA1C473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2C1A1-D11F-4EAB-B291-EF1D38DD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5FCB5-6200-4D11-8DF4-E06D70F5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A139A-59BE-4F6F-AAFF-5F5E8741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7AEE5-0CE9-4C4A-9667-AA13BC71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0D27C-8F54-4C26-9701-D04622ED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30142-5BF9-4FDA-86A5-D428858F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460B3-BE46-443E-B0C5-CCADA00E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AD482-7279-42BF-95EE-3EB59757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DEC-531B-4D47-8D83-C1785C61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79355-7FA8-48A2-BAF3-122572FF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2465D-1096-4C2A-B3F8-D234D482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394DC-B5C1-4B26-AAB1-6B4E00B0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A0E42-FFFE-465C-B073-90131199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0A7FE-E1BE-4D13-9B5C-7F22C5A8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F120B9-C716-4D75-AA40-F3B6A68F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2BC84A-E3A9-4F8A-B975-6018AEFF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C45127-4C2B-4809-8B30-176B21B2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A9451A-CB83-4E6C-A0B1-C6E43853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23CD95-FA36-4EFF-943E-E26A0CC6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9B9-80F3-437F-B87B-14FC2071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BEE370-77E0-427D-96B3-92FF43A6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74986D-B829-44E8-BC5F-1145A509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9C682F-259A-412F-AED5-2555F49F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C9B80F-CB6F-4BDC-8E69-421210F5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6662A6-0EAA-4B91-BCCE-85ADFB0B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3AB289-7EFA-4DE4-BCE0-0E6CEA37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F115F3-383F-4FF7-93E1-9AFBF051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06E857-EE86-4F60-B409-26535691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0072F8-218B-460B-93CF-F2D62534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3E6299-B0DD-4ADE-8D57-42DF6C03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8A81-6BA8-456D-9DCD-5D418940CBF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89F5-EF0C-4186-A3B5-E55C8D06904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2F70-FE65-41FB-9068-C4C89EB17EB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B696-54C1-43E3-BB26-A60765918FD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B46C-2C59-4680-B347-B9ADAB47392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8764-B6B8-47C7-A028-09596D6AF2E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6222-5BA0-4AE1-9461-D5083AB6FEE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70AA-14F0-4C3E-90FB-3C97C9F6CF4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C989-683D-48E0-AF20-8ED38B67051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786120" y="7128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рок литературы в 6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-428760" y="285840"/>
            <a:ext cx="99298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Сочетание реалистического и мистиче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в повести Н.В.Гоголя «В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2" descr="C:\Users\1\Desktop\viewer[2].png"/>
          <p:cNvPicPr/>
          <p:nvPr/>
        </p:nvPicPr>
        <p:blipFill>
          <a:blip r:embed="rId1"/>
          <a:stretch/>
        </p:blipFill>
        <p:spPr>
          <a:xfrm>
            <a:off x="1500120" y="1785960"/>
            <a:ext cx="5929560" cy="40719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1000080" y="592920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Учитель русского языка и литературы Соловьева Т.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МОУ « Лебяжьевская  средняя общеобразовательная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Film_shot00002"/>
          <p:cNvPicPr/>
          <p:nvPr/>
        </p:nvPicPr>
        <p:blipFill>
          <a:blip r:embed="rId1">
            <a:lum bright="6000"/>
          </a:blip>
          <a:srcRect l="0" t="0" r="0" b="159"/>
          <a:stretch/>
        </p:blipFill>
        <p:spPr>
          <a:xfrm>
            <a:off x="857160" y="285840"/>
            <a:ext cx="7429680" cy="4608360"/>
          </a:xfrm>
          <a:prstGeom prst="rect">
            <a:avLst/>
          </a:prstGeom>
          <a:ln w="0">
            <a:noFill/>
          </a:ln>
        </p:spPr>
      </p:pic>
      <p:sp>
        <p:nvSpPr>
          <p:cNvPr id="443" name="TextBox 2"/>
          <p:cNvSpPr/>
          <p:nvPr/>
        </p:nvSpPr>
        <p:spPr>
          <a:xfrm>
            <a:off x="500040" y="50007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рвый раз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Хома видит её такой :  «Перед ним лежала красавица, с растрепанною косою, с длинными, как стрелы , ресницами. Бесчувственно отбросила она на обе стороны белые нагие руки и  стонала, возведя кверху очи, полные слез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1"/>
          <p:cNvSpPr/>
          <p:nvPr/>
        </p:nvSpPr>
        <p:spPr>
          <a:xfrm>
            <a:off x="571680" y="571680"/>
            <a:ext cx="76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5" descr="10cfeddb"/>
          <p:cNvPicPr/>
          <p:nvPr/>
        </p:nvPicPr>
        <p:blipFill>
          <a:blip r:embed="rId1"/>
          <a:stretch/>
        </p:blipFill>
        <p:spPr>
          <a:xfrm>
            <a:off x="357120" y="1714680"/>
            <a:ext cx="5357880" cy="33573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0" y="500040"/>
            <a:ext cx="837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eacb"/>
                </a:solidFill>
                <a:latin typeface="Cambria"/>
              </a:rPr>
              <a:t>«Она лежала как живая. Чело прекрасное, нежное, как снег, как серебро, казалось мыслило; брови  - ночь среди солнечного дня, тонкие, ровные, горделиво приподнялись над закрытыми глазами,  а ресницы, упавшие стрелами на щеки, пылавшие жаром тайных желаний; уста - рубины, готовые усмехнуться...</a:t>
            </a:r>
            <a:r>
              <a:rPr b="0" lang="ru-RU" sz="1800" spc="-1" strike="noStrike">
                <a:solidFill>
                  <a:srgbClr val="e7eacb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4"/>
          <p:cNvSpPr/>
          <p:nvPr/>
        </p:nvSpPr>
        <p:spPr>
          <a:xfrm>
            <a:off x="428760" y="21420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 второй раз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н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идит её в доме сот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500040" y="53578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Он чувствовал , что душа его начинала как-то болезненно ны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-Ведьма!- вскрикнул он не своим голосом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Это была та самая ведьма, которую он убил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2"/>
          <p:cNvSpPr/>
          <p:nvPr/>
        </p:nvSpPr>
        <p:spPr>
          <a:xfrm>
            <a:off x="428760" y="7128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церкви Хома глядит на усопшую в третий р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голь нагнетает ужас, портрет становится ещё </a:t>
            </a: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более мистическим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: на щеке умершей Хома видит показавшуюся ему слезой каплю кров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же красота панночки была страшн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, глядя на неё, Хома сразу все вспомнил и понял, что это ведьм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в её красоте не было тепла , а  было что-то «страшно пронзительное», нечеловеческ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есяц 3"/>
          <p:cNvSpPr/>
          <p:nvPr/>
        </p:nvSpPr>
        <p:spPr>
          <a:xfrm>
            <a:off x="142920" y="1357200"/>
            <a:ext cx="35712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Овальная выноска 4"/>
          <p:cNvSpPr/>
          <p:nvPr/>
        </p:nvSpPr>
        <p:spPr>
          <a:xfrm>
            <a:off x="5143680" y="2928960"/>
            <a:ext cx="3643200" cy="3214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5429160" y="3643200"/>
            <a:ext cx="342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Он подошел ко гробу, с робостию посмотрел в лицо умершей и не мог зажмурить, несколько вздрогнувши, своих глаз : такая страшная, сверкающая красота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1" descr="C:\Users\1\Desktop\kinopoisk.ru-Viy-1308255[1].jpg"/>
          <p:cNvPicPr/>
          <p:nvPr/>
        </p:nvPicPr>
        <p:blipFill>
          <a:blip r:embed="rId1"/>
          <a:stretch/>
        </p:blipFill>
        <p:spPr>
          <a:xfrm>
            <a:off x="285840" y="2857680"/>
            <a:ext cx="4857840" cy="367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5" descr="derevyannaya-cerkov-v-Sedneve"/>
          <p:cNvPicPr/>
          <p:nvPr/>
        </p:nvPicPr>
        <p:blipFill>
          <a:blip r:embed="rId1"/>
          <a:stretch/>
        </p:blipFill>
        <p:spPr>
          <a:xfrm>
            <a:off x="214200" y="142920"/>
            <a:ext cx="4095720" cy="614376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2"/>
          <p:cNvSpPr/>
          <p:nvPr/>
        </p:nvSpPr>
        <p:spPr>
          <a:xfrm>
            <a:off x="4357800" y="2286000"/>
            <a:ext cx="4643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Церковь деревянная, почерневшая, убранная зеленым мохом, с тремя конусообразными куполами, уныло стояла на краю села. Заметно было, что в ней давно уже не отправлялось никакого служения... Небольшой дворик, за которым не было ни дерева и открывалось одно пустое поле да поглощенные ночным мраком луга... Высокий старинный иконостас уже показывал глубокую ветхость 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3"/>
          <p:cNvSpPr/>
          <p:nvPr/>
        </p:nvSpPr>
        <p:spPr>
          <a:xfrm>
            <a:off x="4500720" y="214200"/>
            <a:ext cx="3929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тересно то , как Гоголь подводит читателя к  сценам  в церкви . Не только портрет панночки , но и описание  самой церкви подготавливает читателя к тому, что произойдё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Выноска-облако 4"/>
          <p:cNvSpPr/>
          <p:nvPr/>
        </p:nvSpPr>
        <p:spPr>
          <a:xfrm>
            <a:off x="214200" y="214200"/>
            <a:ext cx="2000520" cy="2071800"/>
          </a:xfrm>
          <a:prstGeom prst="cloudCallout">
            <a:avLst>
              <a:gd name="adj1" fmla="val -19629"/>
              <a:gd name="adj2" fmla="val 49722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5"/>
          <p:cNvSpPr/>
          <p:nvPr/>
        </p:nvSpPr>
        <p:spPr>
          <a:xfrm>
            <a:off x="500040" y="7858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Что такое описа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357120" y="621504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ambria"/>
              </a:rPr>
              <a:t>Какие художественные средства использует автор в описан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1"/>
          <p:cNvSpPr/>
          <p:nvPr/>
        </p:nvSpPr>
        <p:spPr>
          <a:xfrm>
            <a:off x="642960" y="214200"/>
            <a:ext cx="77868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Проследим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, как от эпизода к эпизоду </a:t>
            </a:r>
            <a:r>
              <a:rPr b="1" i="1" lang="ru-RU" sz="1800" spc="-1" strike="noStrike">
                <a:solidFill>
                  <a:srgbClr val="ffffff"/>
                </a:solidFill>
                <a:latin typeface="Cambria"/>
              </a:rPr>
              <a:t>Гоголь усиливает ощущение мистического ужаса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, ожидание страшной развязк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Ночь первая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-покойница поднимает голову , садится в гробу , идет по церкви, пытается поймать Хому , гроб летает по церкви , позеленевший труп поднимается из него, раздается крик петух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1" descr="C:\Users\1\Desktop\kinopoisk.ru-Viy-1308254[1].jpg"/>
          <p:cNvPicPr/>
          <p:nvPr/>
        </p:nvPicPr>
        <p:blipFill>
          <a:blip r:embed="rId1"/>
          <a:stretch/>
        </p:blipFill>
        <p:spPr>
          <a:xfrm>
            <a:off x="928800" y="2071800"/>
            <a:ext cx="671508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2"/>
          <p:cNvSpPr/>
          <p:nvPr/>
        </p:nvSpPr>
        <p:spPr>
          <a:xfrm>
            <a:off x="42876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очь вторая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Хома видит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труп на самой черте, покойница творит заклинания , нечистая сила ломится в церковь  , но не может попасть в неё, раздается крик петух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2" descr="C:\Users\1\Desktop\Новая папка (2)\10658_original[1].jpg"/>
          <p:cNvPicPr/>
          <p:nvPr/>
        </p:nvPicPr>
        <p:blipFill>
          <a:blip r:embed="rId1"/>
          <a:stretch/>
        </p:blipFill>
        <p:spPr>
          <a:xfrm>
            <a:off x="714240" y="2000160"/>
            <a:ext cx="3429000" cy="4229280"/>
          </a:xfrm>
          <a:prstGeom prst="rect">
            <a:avLst/>
          </a:prstGeom>
          <a:ln w="0">
            <a:noFill/>
          </a:ln>
        </p:spPr>
      </p:pic>
      <p:sp>
        <p:nvSpPr>
          <p:cNvPr id="464" name="4-конечная звезда 6"/>
          <p:cNvSpPr/>
          <p:nvPr/>
        </p:nvSpPr>
        <p:spPr>
          <a:xfrm>
            <a:off x="3357720" y="1357200"/>
            <a:ext cx="714240" cy="928800"/>
          </a:xfrm>
          <a:custGeom>
            <a:avLst/>
            <a:gdLst>
              <a:gd name="textAreaLeft" fmla="*/ 294120 w 714240"/>
              <a:gd name="textAreaRight" fmla="*/ 420120 w 714240"/>
              <a:gd name="textAreaTop" fmla="*/ 382680 h 928800"/>
              <a:gd name="textAreaBottom" fmla="*/ 54612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1" descr="C:\Users\1\Desktop\kinopoisk.ru-Viy-1135653[1].jpg"/>
          <p:cNvPicPr/>
          <p:nvPr/>
        </p:nvPicPr>
        <p:blipFill>
          <a:blip r:embed="rId2"/>
          <a:stretch/>
        </p:blipFill>
        <p:spPr>
          <a:xfrm>
            <a:off x="4143240" y="1571760"/>
            <a:ext cx="4643640" cy="461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1"/>
          <p:cNvSpPr/>
          <p:nvPr/>
        </p:nvSpPr>
        <p:spPr>
          <a:xfrm>
            <a:off x="357120" y="428760"/>
            <a:ext cx="8501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очь  третья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мертвец встает из гроба, творит заклинания , падают иконы, бьются стёкла в окнах,  нечистая сила врывается в церковь, приводят Вия,  Хома не выдерживает и смотрит на него, Хома погибает,  петух кричит во второй раз, нечисть застревает в окнах и дверях церк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7" descr="40f23dbff6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5840" y="2071800"/>
            <a:ext cx="5500440" cy="4429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C:\Users\1\Desktop\Новая папка (2)\filejIgFcX[1].gif"/>
          <p:cNvPicPr/>
          <p:nvPr/>
        </p:nvPicPr>
        <p:blipFill>
          <a:blip r:embed="rId2"/>
          <a:stretch/>
        </p:blipFill>
        <p:spPr>
          <a:xfrm>
            <a:off x="5715000" y="3214800"/>
            <a:ext cx="3286080" cy="3429000"/>
          </a:xfrm>
          <a:prstGeom prst="rect">
            <a:avLst/>
          </a:prstGeom>
          <a:ln w="0">
            <a:noFill/>
          </a:ln>
        </p:spPr>
      </p:pic>
      <p:sp>
        <p:nvSpPr>
          <p:cNvPr id="469" name="4-конечная звезда 4"/>
          <p:cNvSpPr/>
          <p:nvPr/>
        </p:nvSpPr>
        <p:spPr>
          <a:xfrm>
            <a:off x="5286240" y="2714760"/>
            <a:ext cx="1000440" cy="1214280"/>
          </a:xfrm>
          <a:custGeom>
            <a:avLst/>
            <a:gdLst>
              <a:gd name="textAreaLeft" fmla="*/ 412200 w 1000440"/>
              <a:gd name="textAreaRight" fmla="*/ 588240 w 1000440"/>
              <a:gd name="textAreaTop" fmla="*/ 500400 h 1214280"/>
              <a:gd name="textAreaBottom" fmla="*/ 71388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C:\Users\1\Desktop\Новая папка (2)\45798633_viy_big[1].jpg"/>
          <p:cNvPicPr/>
          <p:nvPr/>
        </p:nvPicPr>
        <p:blipFill>
          <a:blip r:embed="rId1"/>
          <a:stretch/>
        </p:blipFill>
        <p:spPr>
          <a:xfrm>
            <a:off x="5286240" y="2286000"/>
            <a:ext cx="3357720" cy="43578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"/>
          <p:cNvSpPr/>
          <p:nvPr/>
        </p:nvSpPr>
        <p:spPr>
          <a:xfrm>
            <a:off x="571680" y="214200"/>
            <a:ext cx="73580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Кто такой Ви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чему повесть названа «Вий», хотя сам он появляется в самом конц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Может быть ,Вий -  это та страшная сила, которая все-таки погубила Хому за его жестокость(за избиение ведьмы поленом), вызвала в его душе суеверный страх , заставивший его взглянуть в глаза чудовищу, «не выдержать»в последний мо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357120" y="2500200"/>
            <a:ext cx="4429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У древних славян- существо, насылающее ночные  кошмары, видения  и привидения. Вся сила его была в глазах, которые очень сильно заросли бровями и ресницами и совсем затемнили з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алороссийский Вий –   мифическое существо , у которого веки опускаются до самой земли , но если поднять их вилами, уже ничто не укроется от его взора . Слово  «вии» означает ресн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Месяц 5"/>
          <p:cNvSpPr/>
          <p:nvPr/>
        </p:nvSpPr>
        <p:spPr>
          <a:xfrm>
            <a:off x="214200" y="357120"/>
            <a:ext cx="3574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1"/>
          <p:cNvSpPr/>
          <p:nvPr/>
        </p:nvSpPr>
        <p:spPr>
          <a:xfrm>
            <a:off x="785880" y="142920"/>
            <a:ext cx="807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мешным или страшным показалось вам это произведен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окажите, что в повести удачно сочетается  реалистическое и мистическ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Вертикальный свиток 2"/>
          <p:cNvSpPr/>
          <p:nvPr/>
        </p:nvSpPr>
        <p:spPr>
          <a:xfrm>
            <a:off x="-142920" y="1214280"/>
            <a:ext cx="5429160" cy="5143680"/>
          </a:xfrm>
          <a:prstGeom prst="verticalScroll">
            <a:avLst>
              <a:gd name="adj" fmla="val 1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571680" y="2214720"/>
            <a:ext cx="4071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 повести, действительно, необыкновенно удачно сплетаются два начала : реалистическое и мистическое. Одно от другого неотделимо в художественном мире Гого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алантливый писатель соединил народные предания и свою авторскую фантаз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Месяц 4"/>
          <p:cNvSpPr/>
          <p:nvPr/>
        </p:nvSpPr>
        <p:spPr>
          <a:xfrm>
            <a:off x="357120" y="285840"/>
            <a:ext cx="42876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79" y="1212"/>
                  <a:pt x="6758" y="5080"/>
                  <a:pt x="6758" y="10800"/>
                </a:cubicBezTo>
                <a:cubicBezTo>
                  <a:pt x="6758" y="16520"/>
                  <a:pt x="14179" y="2038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Picture 4" descr="1223357760_0"/>
          <p:cNvPicPr/>
          <p:nvPr/>
        </p:nvPicPr>
        <p:blipFill>
          <a:blip r:embed="rId1"/>
          <a:stretch/>
        </p:blipFill>
        <p:spPr>
          <a:xfrm>
            <a:off x="4643280" y="1928880"/>
            <a:ext cx="4143600" cy="464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"/>
          <p:cNvSpPr/>
          <p:nvPr/>
        </p:nvSpPr>
        <p:spPr>
          <a:xfrm>
            <a:off x="642960" y="214200"/>
            <a:ext cx="8143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Цель урока-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нализ тех сцен повести «Вий» , в которых преобладает мистическое  начало. Знакомство с теми эпизодами повести, которые представляют  бытовую, реалистическую стор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642960" y="128592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повести необыкновенно удачно сплетаются два начала:    реалистическое и мистическ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571680" y="2000160"/>
            <a:ext cx="76435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Реалистическ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писание хутора, хлева,  где  философ « толкнул ногою в морду   просунувшуюся из другого хлева любопытную свинью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C:\Users\1\Desktop\viewer[1].png"/>
          <p:cNvPicPr/>
          <p:nvPr/>
        </p:nvPicPr>
        <p:blipFill>
          <a:blip r:embed="rId1"/>
          <a:stretch/>
        </p:blipFill>
        <p:spPr>
          <a:xfrm>
            <a:off x="1357200" y="3214800"/>
            <a:ext cx="6161040" cy="3429000"/>
          </a:xfrm>
          <a:prstGeom prst="rect">
            <a:avLst/>
          </a:prstGeom>
          <a:ln w="0">
            <a:noFill/>
          </a:ln>
        </p:spPr>
      </p:pic>
      <p:sp>
        <p:nvSpPr>
          <p:cNvPr id="409" name="6-конечная звезда 6"/>
          <p:cNvSpPr/>
          <p:nvPr/>
        </p:nvSpPr>
        <p:spPr>
          <a:xfrm>
            <a:off x="2357280" y="1928880"/>
            <a:ext cx="428760" cy="500040"/>
          </a:xfrm>
          <a:custGeom>
            <a:avLst/>
            <a:gdLst/>
            <a:ahLst/>
            <a:rect l="l" t="t" r="r" b="b"/>
            <a:pathLst>
              <a:path w="428625" h="500062">
                <a:moveTo>
                  <a:pt x="0" y="125016"/>
                </a:moveTo>
                <a:lnTo>
                  <a:pt x="142874" y="125013"/>
                </a:lnTo>
                <a:lnTo>
                  <a:pt x="214313" y="0"/>
                </a:lnTo>
                <a:lnTo>
                  <a:pt x="285751" y="125013"/>
                </a:lnTo>
                <a:lnTo>
                  <a:pt x="428625" y="125016"/>
                </a:lnTo>
                <a:lnTo>
                  <a:pt x="357190" y="250031"/>
                </a:lnTo>
                <a:lnTo>
                  <a:pt x="428625" y="375047"/>
                </a:lnTo>
                <a:lnTo>
                  <a:pt x="285751" y="375049"/>
                </a:lnTo>
                <a:lnTo>
                  <a:pt x="214313" y="500062"/>
                </a:lnTo>
                <a:lnTo>
                  <a:pt x="142874" y="375049"/>
                </a:lnTo>
                <a:lnTo>
                  <a:pt x="0" y="375047"/>
                </a:lnTo>
                <a:lnTo>
                  <a:pt x="71435" y="250031"/>
                </a:lnTo>
                <a:lnTo>
                  <a:pt x="0" y="12501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:\Users\1\Desktop\Новая папка (2)\filehD6iq5[1].gif"/>
          <p:cNvPicPr/>
          <p:nvPr/>
        </p:nvPicPr>
        <p:blipFill>
          <a:blip r:embed="rId1"/>
          <a:stretch/>
        </p:blipFill>
        <p:spPr>
          <a:xfrm>
            <a:off x="4572000" y="571680"/>
            <a:ext cx="4357800" cy="57150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714240" y="0"/>
            <a:ext cx="40719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писана дальнейшая судьба двух приятелей Хо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голь вводит в повесть двух друзей Хомы, чтобы расширить бытовое полотно , изобразить как можно больше колоритных фигур. Имена героев  представляют комическое сочетание  древнеримского  «Тиберий» и украинского «Горобец» (воробе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Эти сочетания особенно выразительны, когда к ним добавляются важные слова «философ», «ритор». Смысл прозвища  богослова Халявы - он всегда готов позавтракать, пообедать и поужинать тем, что плохо леж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7-конечная звезда 4"/>
          <p:cNvSpPr/>
          <p:nvPr/>
        </p:nvSpPr>
        <p:spPr>
          <a:xfrm>
            <a:off x="285840" y="357120"/>
            <a:ext cx="571320" cy="42876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-1" y="275652"/>
                </a:moveTo>
                <a:lnTo>
                  <a:pt x="88004" y="190757"/>
                </a:lnTo>
                <a:lnTo>
                  <a:pt x="56596" y="84895"/>
                </a:lnTo>
                <a:lnTo>
                  <a:pt x="197746" y="84895"/>
                </a:lnTo>
                <a:lnTo>
                  <a:pt x="285750" y="0"/>
                </a:lnTo>
                <a:lnTo>
                  <a:pt x="373754" y="84895"/>
                </a:lnTo>
                <a:lnTo>
                  <a:pt x="514904" y="84895"/>
                </a:lnTo>
                <a:lnTo>
                  <a:pt x="483496" y="190757"/>
                </a:lnTo>
                <a:lnTo>
                  <a:pt x="571501" y="275652"/>
                </a:lnTo>
                <a:lnTo>
                  <a:pt x="444329" y="322765"/>
                </a:lnTo>
                <a:lnTo>
                  <a:pt x="412920" y="428627"/>
                </a:lnTo>
                <a:lnTo>
                  <a:pt x="285750" y="381514"/>
                </a:lnTo>
                <a:lnTo>
                  <a:pt x="158580" y="428627"/>
                </a:lnTo>
                <a:lnTo>
                  <a:pt x="127171" y="322765"/>
                </a:lnTo>
                <a:lnTo>
                  <a:pt x="-1" y="275652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Молния 5"/>
          <p:cNvSpPr/>
          <p:nvPr/>
        </p:nvSpPr>
        <p:spPr>
          <a:xfrm>
            <a:off x="7143840" y="571680"/>
            <a:ext cx="1714320" cy="1285560"/>
          </a:xfrm>
          <a:prstGeom prst="lightningBol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C:\Users\1\Desktop\kinopoisk.ru-Viy-1308247[1].jpg"/>
          <p:cNvPicPr/>
          <p:nvPr/>
        </p:nvPicPr>
        <p:blipFill>
          <a:blip r:embed="rId1"/>
          <a:stretch/>
        </p:blipFill>
        <p:spPr>
          <a:xfrm>
            <a:off x="1000080" y="2500200"/>
            <a:ext cx="5429160" cy="4145040"/>
          </a:xfrm>
          <a:prstGeom prst="rect">
            <a:avLst/>
          </a:prstGeom>
          <a:ln w="0">
            <a:noFill/>
          </a:ln>
        </p:spPr>
      </p:pic>
      <p:sp>
        <p:nvSpPr>
          <p:cNvPr id="415" name="Овальная выноска 3"/>
          <p:cNvSpPr/>
          <p:nvPr/>
        </p:nvSpPr>
        <p:spPr>
          <a:xfrm>
            <a:off x="142920" y="142920"/>
            <a:ext cx="4071960" cy="2714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928800" y="71424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Богослов был рослый, плечистый мужчина и имел чрезвычайно странный нрав: всё , что ни лежало, бывало, возле него, он непременно украде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кругленная прямоугольная выноска 5"/>
          <p:cNvSpPr/>
          <p:nvPr/>
        </p:nvSpPr>
        <p:spPr>
          <a:xfrm>
            <a:off x="5929200" y="142920"/>
            <a:ext cx="3214800" cy="3214800"/>
          </a:xfrm>
          <a:prstGeom prst="wedgeRoundRectCallout">
            <a:avLst>
              <a:gd name="adj1" fmla="val -20356"/>
              <a:gd name="adj2" fmla="val 58259"/>
              <a:gd name="adj3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5929200" y="357120"/>
            <a:ext cx="3071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Ритор Тиберий Горобець еще не имел права носить усов…и поэтому характер его в то время  ещё  мало развивался; но, судя по  большим шишкам на лбу, с которыми он часто являлся в класс, можно было предположить, что из него будет хороший воин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Вий "/>
          <p:cNvPicPr/>
          <p:nvPr/>
        </p:nvPicPr>
        <p:blipFill>
          <a:blip r:embed="rId1"/>
          <a:stretch/>
        </p:blipFill>
        <p:spPr>
          <a:xfrm>
            <a:off x="428760" y="1357200"/>
            <a:ext cx="6429240" cy="5113440"/>
          </a:xfrm>
          <a:prstGeom prst="rect">
            <a:avLst/>
          </a:prstGeom>
          <a:ln w="0">
            <a:noFill/>
          </a:ln>
        </p:spPr>
      </p:pic>
      <p:sp>
        <p:nvSpPr>
          <p:cNvPr id="420" name="Овальная выноска 4"/>
          <p:cNvSpPr/>
          <p:nvPr/>
        </p:nvSpPr>
        <p:spPr>
          <a:xfrm>
            <a:off x="4714920" y="142920"/>
            <a:ext cx="4429080" cy="4214880"/>
          </a:xfrm>
          <a:prstGeom prst="wedgeEllipseCallout">
            <a:avLst>
              <a:gd name="adj1" fmla="val -22587"/>
              <a:gd name="adj2" fmla="val 67879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6"/>
          <p:cNvSpPr/>
          <p:nvPr/>
        </p:nvSpPr>
        <p:spPr>
          <a:xfrm>
            <a:off x="5429160" y="785880"/>
            <a:ext cx="3714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Философ Хома Брут был нрава веселого. Любил очень лежать и курить люльку. Он часто пробовал крупного гороху, но совершенно с философическим равнодушием , -говоря , что чему быть, того не миновать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500040" y="714240"/>
            <a:ext cx="3929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описан быт сотника, обряды , обычаи , традиции, в том числе в связи с погребением  (оплакивание  отцом умершей дочери , чтение над покойником святого  писания , прикладывание рук к горячей печи и п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Знание народных обычаев и традиций – одна из черт творчества Гог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2" descr="C:\Users\1\Desktop\Новая папка (2)\koncovka[1].gif"/>
          <p:cNvPicPr/>
          <p:nvPr/>
        </p:nvPicPr>
        <p:blipFill>
          <a:blip r:embed="rId1"/>
          <a:stretch/>
        </p:blipFill>
        <p:spPr>
          <a:xfrm>
            <a:off x="5916600" y="214200"/>
            <a:ext cx="3013200" cy="2571840"/>
          </a:xfrm>
          <a:prstGeom prst="rect">
            <a:avLst/>
          </a:prstGeom>
          <a:ln w="0">
            <a:noFill/>
          </a:ln>
        </p:spPr>
      </p:pic>
      <p:sp>
        <p:nvSpPr>
          <p:cNvPr id="424" name="7-конечная звезда 3"/>
          <p:cNvSpPr/>
          <p:nvPr/>
        </p:nvSpPr>
        <p:spPr>
          <a:xfrm>
            <a:off x="142920" y="714240"/>
            <a:ext cx="428760" cy="500040"/>
          </a:xfrm>
          <a:custGeom>
            <a:avLst/>
            <a:gdLst/>
            <a:ahLst/>
            <a:rect l="l" t="t" r="r" b="b"/>
            <a:pathLst>
              <a:path w="428625" h="500063">
                <a:moveTo>
                  <a:pt x="-1" y="321594"/>
                </a:moveTo>
                <a:lnTo>
                  <a:pt x="66003" y="222550"/>
                </a:lnTo>
                <a:lnTo>
                  <a:pt x="42447" y="99044"/>
                </a:lnTo>
                <a:lnTo>
                  <a:pt x="148309" y="99044"/>
                </a:lnTo>
                <a:lnTo>
                  <a:pt x="214313" y="0"/>
                </a:lnTo>
                <a:lnTo>
                  <a:pt x="280316" y="99044"/>
                </a:lnTo>
                <a:lnTo>
                  <a:pt x="386178" y="99044"/>
                </a:lnTo>
                <a:lnTo>
                  <a:pt x="362622" y="222550"/>
                </a:lnTo>
                <a:lnTo>
                  <a:pt x="428626" y="321594"/>
                </a:lnTo>
                <a:lnTo>
                  <a:pt x="333247" y="376559"/>
                </a:lnTo>
                <a:lnTo>
                  <a:pt x="309690" y="500066"/>
                </a:lnTo>
                <a:lnTo>
                  <a:pt x="214313" y="445100"/>
                </a:lnTo>
                <a:lnTo>
                  <a:pt x="118935" y="500066"/>
                </a:lnTo>
                <a:lnTo>
                  <a:pt x="95378" y="376559"/>
                </a:lnTo>
                <a:lnTo>
                  <a:pt x="-1" y="321594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1" descr="C:\Users\1\Desktop\kinopoisk.ru-Viy-1308250[1].jpg"/>
          <p:cNvPicPr/>
          <p:nvPr/>
        </p:nvPicPr>
        <p:blipFill>
          <a:blip r:embed="rId2"/>
          <a:stretch/>
        </p:blipFill>
        <p:spPr>
          <a:xfrm>
            <a:off x="4214880" y="2786040"/>
            <a:ext cx="4714920" cy="380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"/>
          <p:cNvSpPr/>
          <p:nvPr/>
        </p:nvSpPr>
        <p:spPr>
          <a:xfrm>
            <a:off x="-71280" y="71280"/>
            <a:ext cx="9215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Мистическ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нализ сцены, когда Хома , оказавшись в роли коня у ведьм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верху смотрит на ми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2" descr="C:\Users\1\Desktop\Новая папка (2)\282[1].jpg"/>
          <p:cNvPicPr/>
          <p:nvPr/>
        </p:nvPicPr>
        <p:blipFill>
          <a:blip r:embed="rId1"/>
          <a:stretch/>
        </p:blipFill>
        <p:spPr>
          <a:xfrm>
            <a:off x="714240" y="1214280"/>
            <a:ext cx="6357960" cy="4397400"/>
          </a:xfrm>
          <a:prstGeom prst="rect">
            <a:avLst/>
          </a:prstGeom>
          <a:ln w="0">
            <a:noFill/>
          </a:ln>
        </p:spPr>
      </p:pic>
      <p:sp>
        <p:nvSpPr>
          <p:cNvPr id="428" name="4-конечная звезда 3"/>
          <p:cNvSpPr/>
          <p:nvPr/>
        </p:nvSpPr>
        <p:spPr>
          <a:xfrm>
            <a:off x="1928880" y="71280"/>
            <a:ext cx="857160" cy="571680"/>
          </a:xfrm>
          <a:custGeom>
            <a:avLst/>
            <a:gdLst>
              <a:gd name="textAreaLeft" fmla="*/ 353160 w 857160"/>
              <a:gd name="textAreaRight" fmla="*/ 504000 w 857160"/>
              <a:gd name="textAreaTop" fmla="*/ 235440 h 571680"/>
              <a:gd name="textAreaBottom" fmla="*/ 3362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642960" y="557208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изменяется привычный мир в глазах  Хомы , соприкоснувшегося с потусторонней сил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 каком состоянии находится сам  Хом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Овальная выноска 5"/>
          <p:cNvSpPr/>
          <p:nvPr/>
        </p:nvSpPr>
        <p:spPr>
          <a:xfrm>
            <a:off x="5786280" y="928800"/>
            <a:ext cx="3214800" cy="3071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6072120" y="164304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истика- это раздел фантастики, связанный с изображением  потустороннего мира, нечистой силы, необъяснимых я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Месяц 10"/>
          <p:cNvSpPr/>
          <p:nvPr/>
        </p:nvSpPr>
        <p:spPr>
          <a:xfrm>
            <a:off x="285840" y="564372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Фильм.wmv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7929720" cy="41432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3"/>
          <p:cNvSpPr/>
          <p:nvPr/>
        </p:nvSpPr>
        <p:spPr>
          <a:xfrm>
            <a:off x="785880" y="4929120"/>
            <a:ext cx="764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ир преображается: он наполняется сказочными существами, незнакомыми прелестными звуками, запахами , крас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Скругленная прямоугольная выноска 4"/>
          <p:cNvSpPr/>
          <p:nvPr/>
        </p:nvSpPr>
        <p:spPr>
          <a:xfrm>
            <a:off x="928800" y="928800"/>
            <a:ext cx="2643120" cy="30002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1000080" y="1357200"/>
            <a:ext cx="264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Луга, леса ,долины-всё ,казалось, как будто спало с открытыми глазами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Users\1\Desktop\Новая папка (2)\0489e9c2fdce[1].jpg"/>
          <p:cNvPicPr/>
          <p:nvPr/>
        </p:nvPicPr>
        <p:blipFill>
          <a:blip r:embed="rId1"/>
          <a:stretch/>
        </p:blipFill>
        <p:spPr>
          <a:xfrm>
            <a:off x="4429080" y="214200"/>
            <a:ext cx="4395960" cy="58118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"/>
          <p:cNvSpPr/>
          <p:nvPr/>
        </p:nvSpPr>
        <p:spPr>
          <a:xfrm>
            <a:off x="285840" y="214200"/>
            <a:ext cx="385740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Герой Гоголя не может понять, </a:t>
            </a: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сон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это или </a:t>
            </a: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явь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. Когда он начинает творить заклятья , всё вокруг становится привычным: «Густая трава  касалась его, и он  уже  не видел в ней ничего необыкновенног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И вот ведьма превращается в красавиц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чем Гоголю понадобилось преображать ведьм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чем он делает её столь прекрасной и несколько раз на протяжении повести рисует её портр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то поражает в этом портрет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есяц 8"/>
          <p:cNvSpPr/>
          <p:nvPr/>
        </p:nvSpPr>
        <p:spPr>
          <a:xfrm>
            <a:off x="71280" y="3643200"/>
            <a:ext cx="28584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Овальная выноска 5"/>
          <p:cNvSpPr/>
          <p:nvPr/>
        </p:nvSpPr>
        <p:spPr>
          <a:xfrm>
            <a:off x="3929040" y="4071960"/>
            <a:ext cx="2357640" cy="2143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4286160" y="442908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Что такое портр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3:41:09Z</dcterms:created>
  <dc:creator>1</dc:creator>
  <dc:description/>
  <dc:language>en-US</dc:language>
  <cp:lastModifiedBy>LEGION</cp:lastModifiedBy>
  <dcterms:modified xsi:type="dcterms:W3CDTF">2015-01-20T08:23:14Z</dcterms:modified>
  <cp:revision>67</cp:revision>
  <dc:subject/>
  <dc:title>Слайд 1</dc:title>
</cp:coreProperties>
</file>