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AF5C-FDE5-4E1C-92BE-99EE007C7A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Сочетание реалистического и мист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в повести Н.В.Гоголя «Ви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Учитель русского языка и литературы Соловьева Т.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mbria"/>
              </a:rPr>
              <a:t>МОУ « Лебяжьевская 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CA6E-393F-448E-AF95-FE5A2A9BAD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Первый раз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Хома видит её такой :  «Перед ним лежала красавица, с растрепанною косою, с длинными, как стрелы , ресницами. Бесчувственно отбросила она на обе стороны белые нагие руки и  стонала, возведя кверху очи, полные сле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E7F9-6573-4E3E-B2EB-14AD4738C3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о второй раз</a:t>
            </a:r>
            <a:r>
              <a:rPr b="0" lang="ru-RU" sz="11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он</a:t>
            </a:r>
            <a:r>
              <a:rPr b="0" lang="ru-RU" sz="11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идит её в доме сот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3ebb"/>
                </a:solidFill>
                <a:latin typeface="Calibri"/>
              </a:rPr>
              <a:t>«Она лежала как живая. Чело прекрасное, нежное, как снег, как серебро, казалось мыслило; брови  - ночь среди солнечного дня, тонкие, ровные, горделиво приподнялись над закрытыми глазами,  а ресницы, упавшие стрелами на щеки, пылавшие жаром тайных желаний; уста - рубины, готовые усмехнуться...</a:t>
            </a:r>
            <a:r>
              <a:rPr b="0" lang="ru-RU" sz="1000" spc="-1" strike="noStrike">
                <a:solidFill>
                  <a:srgbClr val="003ebb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Он чувствовал , что душа его начинала как-то болезненно ны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-Ведьма!- вскрикнул он не своим голосом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Это была та самая ведьма, которую он уби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4604-AA21-4DD9-85C3-98472FD6F1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В церкви Хома глядит на усопшую в третий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Гоголь нагнетает ужас, портрет становится ещё </a:t>
            </a:r>
            <a:r>
              <a:rPr b="0" i="1" lang="ru-RU" sz="1200" spc="-1" strike="noStrike">
                <a:solidFill>
                  <a:srgbClr val="000000"/>
                </a:solidFill>
                <a:latin typeface="Cambria"/>
              </a:rPr>
              <a:t>более мистическим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: на щеке умершей Хома видит показавшуюся ему слезой каплю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же красота панночки была страш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, глядя на неё, Хома сразу все вспомнил и понял, что это ведь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Почему в её красоте не было тепла , а  было что-то «страшно пронзительное», нечеловечес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Он подошел ко гробу, с робостию посмотрел в лицо умершей и не мог зажмурить, несколько вздрогнувши, своих глаз : такая страшная, сверкающая красота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67FE-C466-4C6C-BFB0-27B86A1CFAA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Интересно то , как Гоголь подводит читателя к  сценам  в церкви . Не только портрет панночки , но и описание  самой церкви подготавливает читателя к тому, что произойдё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«Церковь деревянная, почерневшая, убранная зеленым мохом, с тремя конусообразными куполами, уныло стояла на краю села. Заметно было, что в ней давно уже не отправлялось никакого служения... Небольшой дворик, за которым не было ни дерева и открывалось одно пустое поле да поглощенные ночным мраком луга... Высокий старинный иконостас уже показывал глубокую ветхость 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2d050"/>
                </a:solidFill>
                <a:latin typeface="Cambria"/>
              </a:rPr>
              <a:t>Какие художественные средства использует автор в описа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C8DF-791E-4169-B3E3-EAED20F91B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Проследим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, как от эпизода к эпизоду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Гоголь усиливает ощущение мистического ужаса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, ожидание страшной развязк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mbria"/>
              </a:rPr>
              <a:t>Ночь первая</a:t>
            </a: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-покойница поднимает голову , садится в гробу , идет по церкви, пытается поймать Хому , гроб летает по церкви , позеленевший труп поднимается из него, раздается крик пет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4AB1-E5A2-4510-8456-6C4779FD54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Ночь вторая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- Хома видит труп на самой черте, покойница творит заклинания , нечистая сила ломится в церковь  , но не может попасть в неё, раздается крик пет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2C25-B438-4D0D-9A32-5C0E632AE7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mbria"/>
              </a:rPr>
              <a:t>Ночь  третья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- мертвец встает из гроба, творит заклинания , падают иконы, бьются стёкла в окнах,  нечистая сила врывается в церковь, приводят Вия,  Хома не выдерживает и смотрит на него, Хома погибает,  петух кричит во второй раз, нечисть застревает в окнах и дверях церк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217D-C3C6-4256-AE87-C7F402D6A6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Кто такой Ви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mbria"/>
              </a:rPr>
              <a:t>Почему повесть названа «Вий», хотя сам он появляется в самом конц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Может быть ,Вий -  это та страшная сила, которая все-таки погубила Хому за его жестокость(за избиение ведьмы поленом), вызвала в его душе суеверный страх , заставивший его взглянуть в глаза чудовищу, «не выдержать»в последний мо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У древних славян- существо, насылающее ночные  кошмары, видения  и привидения. Вся сила его была в глазах, которые очень сильно заросли бровями и ресницами и совсем затемнили з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Малороссийский Вий –   мифическое существо , у которого веки опускаются до самой земли , но если поднять их вилами, уже ничто не укроется от его взора . Слово  «вии» означает рес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2F9A-00E7-42F6-BE32-6E9A11B42C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Смешным или страшным показалось вам это произве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Докажите, что в повести удачно сочетается  реалистическое и мистичес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В повести, действительно, необыкновенно удачно сплетаются два начала : реалистическое и мистическое. Одно от другого неотделимо в художественном мире Г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Талантливый писатель соединил народные предания и свою авторскую фантаз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9241-8782-4559-99C6-939DAF1B1B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mbria"/>
              </a:rPr>
              <a:t>Цель урока-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нализ тех сцен повести «Вий» , в которых преобладает мистическое  начало. Знакомство с теми эпизодами повести, которые представляют  бытовую, реалистическую стор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 повести необыкновенно удачно сплетаются два начала:    реалистическое и мисти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mbria"/>
              </a:rPr>
              <a:t>Реалистическо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ие хутора, хлева,  где  философ « толкнул ногою в морду   просунувшуюся из другого хлева любопытную свинь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F2B3-4A72-44B8-889F-B03767889D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а дальнейшая судьба двух приятелей Х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Гоголь вводит в повесть двух друзей Хомы, чтобы расширить бытовое полотно , изобразить как можно больше колоритных фигур. Имена героев  представляют комическое сочетание  древнеримского  «Тиберий» и украинского «Горобец» (вороб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Эти сочетания особенно выразительны, когда к ним добавляются важные слова «философ», «ритор». Смысл прозвища  богослова Халявы - он всегда готов позавтракать, пообедать и поужинать тем, что плохо леж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802E-4735-4C5D-9F3B-DDDC6DEA5F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Богослов был рослый, плечистый мужчина и имел чрезвычайно странный нрав: всё , что ни лежало, бывало, возле него, он непременно украд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«Ритор Тиберий Горобець еще не имел права носить усов…и поэтому характер его в то время  ещё  мало развивался; но, судя по  большим шишкам на лбу, с которыми он часто являлся в класс, можно было предположить, что из него будет хороший вои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5F03-C67F-451B-8B2C-12A2AD9E64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«Философ Хома Брут был нрава веселого. Любил очень лежать и курить люльку. Он часто пробовал крупного гороху, но совершенно с философическим равнодушием , -говоря , что чему быть, того не минова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81C8-EC48-44E6-A7A5-BF3A998BF8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описан быт сотника, обряды , обычаи , традиции, в том числе в связи с погребением  (оплакивание  отцом умершей дочери , чтение над покойником святого  писания , прикладывание рук к горячей печи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mbria"/>
              </a:rPr>
              <a:t>Знание народных обычаев и традиций – одна из черт творчества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89EF-5AF2-4D08-A77F-B7A21A4862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Cambria"/>
              </a:rPr>
              <a:t>Мистическо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Анализ сцены, когда Хома , оказавшись в роли коня у ведьм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сверху смотрит на 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истика- это раздел фантастики, связанный с изображением  потустороннего мира, нечистой силы, необъяснимых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Как изменяется привычный мир в глазах  Хомы , соприкоснувшегося с потусторонней сил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В каком состоянии находится сам  Хо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D628-6C25-403D-B23B-0291580BA7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Луга, леса ,долины-всё ,казалось, как будто спало с открытыми глазами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Мир преображается: он наполняется сказочными существами, незнакомыми прелестными звуками, запахами , крас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B30C-FF3C-4F57-A063-674530E297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Герой Гоголя не может понять,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сон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 это или </a:t>
            </a:r>
            <a:r>
              <a:rPr b="1" i="1" lang="ru-RU" sz="1200" spc="-1" strike="noStrike">
                <a:solidFill>
                  <a:srgbClr val="000000"/>
                </a:solidFill>
                <a:latin typeface="Cambria"/>
              </a:rPr>
              <a:t>явь</a:t>
            </a: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. Когда он начинает творить заклятья , всё вокруг становится привычным: «Густая трава  касалась его, и он  уже  не видел в ней ничего необыкновенног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И вот ведьма превращается в красав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Зачем Гоголю понадобилось преображать ведь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Зачем он делает её столь прекрасной и несколько раз на протяжении повести рисует её портр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mbria"/>
              </a:rPr>
              <a:t>Что поражает в этом портр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30CD-AD2A-48F3-A28F-447B8155D2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259-9A66-43F3-BC21-DA9C4621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265-38BE-4FD3-A8E7-076AFDD3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531377-630D-4184-BCE2-A8FB8F27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D817D1-A388-432B-A8A7-C65D1953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CC2375-E54D-4D04-B8BA-5C986D1E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CBC85F-081A-4BDF-AA45-604048A5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D734AB-55F2-4F73-BD60-7BB6E407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3E347D-1ECC-4697-B3DC-9117CF90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901ADA-08DF-49A7-B2C6-86E3523A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4AA5BB-D15C-4453-B46A-CC1520BF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799443-F697-4A19-8DF4-A0B8F240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2FB-48CA-49B0-B631-0AD5294B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85A-59AC-4BF3-BE9A-E40CFFFA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EBF96-AA78-47E5-895E-39E40154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4964F-3606-4E2D-A22A-874A7E02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FD59F-D28D-4EF4-B7F0-E857D313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456A9-8205-4AF6-93D7-4A01A128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D692C-2C32-4779-AE5E-5F84C0CE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1E225-7376-4EF2-94DE-5FA2D0A8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5441A-5F11-446D-96D9-0942283E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195-FDA6-4683-9E6E-DEA49B25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DC584-2014-4636-A094-7341A0A8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9788A-35A7-40E5-9A19-13A67BC3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56AB3-76B4-4B42-A0DA-6A12C130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6103A-69E6-488B-980F-C59C27F8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C7EF6-D3F0-4DCB-A7ED-D4FBEC38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7C6F5-2D85-4C89-895A-9F9F17F0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7FAAD-D0CE-48F8-A0E6-79233CF1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B1F57-3C1F-472D-84EB-1F1C6DBC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29810-2BA9-4F8E-8159-CD95869E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E2B74-0BE8-43D2-88A5-BB33ABD3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2AE-1137-4849-B657-1D35E7A1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59CC1-4696-4CA8-AE32-2E4898DC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3A74F-025B-496B-A667-B1249948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16E95-CA35-4C03-9D55-E00D5C83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B97AE-F8FE-4D09-B2B3-6D260D1D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F3150-E9A1-428C-B8EF-7CB80E10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5C146-52D4-481B-9BE8-499FA1C3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A0362-177F-4FD6-B9ED-A1E3CC50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36E77E-7210-470E-BBA6-BE968D61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867AE-75DE-4493-A247-AF80A70C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5B8327-C30D-470C-950D-23152A8C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8AF-685F-41C7-9EAD-C59043F1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6900D-BEE2-4383-B78D-81831DCF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EBFD18-A723-4607-90F1-123D39FD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1A7ECF-4343-4A36-8A89-67905A11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B55823-AA37-4C93-9C47-62054144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FDC582-7DBD-4515-8702-D2C7E4ED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69C3E0-3D49-4812-BF4A-728CA55A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1BF783-4BB8-44F1-86C1-2BDE1FB1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ADFC1C-06DC-4B61-8D85-068E0EC8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B351DD-1BCE-4C90-9AFB-8F25723E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89CD8-2A5F-4B05-A52C-5C82EA78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06C3-A3D9-41DB-A720-297B6E28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61A2F-E051-43F8-8559-64DEE4E6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5DD0B-3ED0-4037-802B-1DD11920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98E50-34F5-484C-90AC-2FA51560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91824-B646-4F12-ADFA-2A0E3875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3F26B-D8BE-4559-81CB-E5E06963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CF970-C6B7-4DBA-B9A4-82EF3911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B859A-B6D2-407F-91A4-9A734CAA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6E1BE-5735-479B-A9D0-A84ECEB9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3A8ED-BE5C-4373-9246-DE4EF6DB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2B0E5-C430-4C2A-B958-41449677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BD4-977E-406F-B896-4319E47A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5F217-DECB-4020-AE42-0D183159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CD1FA-7484-4FC1-8F49-CF60D77C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20FFF-5041-43B7-A813-18DD587F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6D888-ADE5-4E9F-B013-FC6A1895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CC0B8-978B-420A-AD3B-52B7FA43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BDC70-34F5-4A34-B213-E2732769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A3C65-3C87-4F83-9940-E89F9271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19E64-D594-48C6-96E6-187F5481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56333-3BF2-410E-BF66-335CCA65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90525-3A48-4D98-B972-9295985D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97B-5FA2-421C-AF34-D8FF640A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0200B-4D27-4990-9690-522A9AEA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72D39-69A9-4B12-927D-58E8BB1D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4FD1E-AAE0-42BE-8779-90D225F5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4E02D-3B73-491B-8D55-4177EBB6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C0C58-176E-4B92-AEAD-C2BB7AE9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351EA-03AD-4540-A029-481238D0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DF6A4-DCBA-4627-A41E-09A81284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29AA9-322F-4D71-83EE-6A82ECBC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0AA94-596C-49CC-8FFE-11DEAEB7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0664B-66DA-4E57-9FBF-1F757FC5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E6D-A721-40C3-AF66-0359E058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41E3B-6B43-41FA-B025-BF287AAF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8727B-7165-4FE8-90F5-0D1F64D6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A2F43-E224-4F4D-BA65-0F67DC8E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2EE24-94A1-4127-BEF2-366C05D3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90592-9C7A-45BC-8CF3-4837A48B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9CBF6F-0EBC-4C63-8025-6BD27189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F97286-9056-464E-A18F-675C48EE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EA9D20-7F47-418C-83B9-2E27939C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5BCB0D-5D65-4E51-8861-39F61E97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AF9379-C821-4FC6-9C8B-56CA23C5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A9D-4312-4E8C-8728-FF0FCB89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E45BEB-D745-46C1-BA6A-3142CE85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12D6DC-D2D5-40AD-BA74-6F25C914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725477-A8E1-4131-9782-69D8F3AB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C50608-0C01-49E7-8759-B4B61C26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051435-5CAF-450A-A5FC-7CFA3A4F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9A61A1-7989-407B-848B-A46C2044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D2CED0-8585-4319-A421-424AE07E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B39C83-AC95-4F2D-ABE4-990D9520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6C1709-66DE-4D22-8EE6-20217333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3B903E-80ED-4A07-9305-76C33690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225D-F7DA-479C-8EE0-B58D2FCC37F9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7E00-3FD5-4DDC-8E19-EC79F09AD6F6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2BF9-8F5F-4B84-9EB5-BDD25C86C49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6794-8A29-4829-881C-E76F874894C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F75C-1EEB-4396-8091-B788642876F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F1D5-2A8C-496E-87E4-98E5E6955A2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B3CE-D169-47F7-9049-976C5133503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AD94-40C9-4381-955B-6B6928CBB39E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6FC0-FC8B-42B9-8C00-E84BDB2A975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3786120" y="71280"/>
            <a:ext cx="521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Урок литературы в 6 клас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2"/>
          <p:cNvSpPr/>
          <p:nvPr/>
        </p:nvSpPr>
        <p:spPr>
          <a:xfrm>
            <a:off x="-428760" y="285840"/>
            <a:ext cx="99298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Сочетание реалистического и мистиче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ru-RU" sz="3200" spc="-1" strike="noStrike">
                <a:solidFill>
                  <a:srgbClr val="ff0000"/>
                </a:solidFill>
                <a:latin typeface="Cambria"/>
              </a:rPr>
              <a:t>в повести Н.В.Гоголя «Ви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2" descr="C:\Users\1\Desktop\viewer[2].png"/>
          <p:cNvPicPr/>
          <p:nvPr/>
        </p:nvPicPr>
        <p:blipFill>
          <a:blip r:embed="rId1"/>
          <a:stretch/>
        </p:blipFill>
        <p:spPr>
          <a:xfrm>
            <a:off x="1500120" y="1785960"/>
            <a:ext cx="5929560" cy="407196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1000080" y="592920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Учитель русского языка и литературы Соловьева Т.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mbria"/>
              </a:rPr>
              <a:t>МОУ « Лебяжьевская  средняя общеобразовательная школ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5" descr="Film_shot00002"/>
          <p:cNvPicPr/>
          <p:nvPr/>
        </p:nvPicPr>
        <p:blipFill>
          <a:blip r:embed="rId1">
            <a:lum bright="6000"/>
          </a:blip>
          <a:srcRect l="0" t="0" r="0" b="159"/>
          <a:stretch/>
        </p:blipFill>
        <p:spPr>
          <a:xfrm>
            <a:off x="857160" y="285840"/>
            <a:ext cx="7429680" cy="4608360"/>
          </a:xfrm>
          <a:prstGeom prst="rect">
            <a:avLst/>
          </a:prstGeom>
          <a:ln w="0">
            <a:noFill/>
          </a:ln>
        </p:spPr>
      </p:pic>
      <p:sp>
        <p:nvSpPr>
          <p:cNvPr id="443" name="TextBox 2"/>
          <p:cNvSpPr/>
          <p:nvPr/>
        </p:nvSpPr>
        <p:spPr>
          <a:xfrm>
            <a:off x="500040" y="5000760"/>
            <a:ext cx="80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ервый раз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Хома видит её такой :  «Перед ним лежала красавица, с растрепанною косою, с длинными, как стрелы , ресницами. Бесчувственно отбросила она на обе стороны белые нагие руки и  стонала, возведя кверху очи, полные слез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1"/>
          <p:cNvSpPr/>
          <p:nvPr/>
        </p:nvSpPr>
        <p:spPr>
          <a:xfrm>
            <a:off x="571680" y="571680"/>
            <a:ext cx="7643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5" name="Picture 5" descr="10cfeddb"/>
          <p:cNvPicPr/>
          <p:nvPr/>
        </p:nvPicPr>
        <p:blipFill>
          <a:blip r:embed="rId1"/>
          <a:stretch/>
        </p:blipFill>
        <p:spPr>
          <a:xfrm>
            <a:off x="357120" y="1714680"/>
            <a:ext cx="5357880" cy="33573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0" y="500040"/>
            <a:ext cx="837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eacb"/>
                </a:solidFill>
                <a:latin typeface="Cambria"/>
              </a:rPr>
              <a:t>«Она лежала как живая. Чело прекрасное, нежное, как снег, как серебро, казалось мыслило; брови  - ночь среди солнечного дня, тонкие, ровные, горделиво приподнялись над закрытыми глазами,  а ресницы, упавшие стрелами на щеки, пылавшие жаром тайных желаний; уста - рубины, готовые усмехнуться...</a:t>
            </a:r>
            <a:r>
              <a:rPr b="0" lang="ru-RU" sz="1800" spc="-1" strike="noStrike">
                <a:solidFill>
                  <a:srgbClr val="e7eacb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4"/>
          <p:cNvSpPr/>
          <p:nvPr/>
        </p:nvSpPr>
        <p:spPr>
          <a:xfrm>
            <a:off x="428760" y="21420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о второй раз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он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идит её в доме сотн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500040" y="53578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Он чувствовал , что душа его начинала как-то болезненно ныть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-Ведьма!- вскрикнул он не своим голосом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Это была та самая ведьма, которую он убил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2"/>
          <p:cNvSpPr/>
          <p:nvPr/>
        </p:nvSpPr>
        <p:spPr>
          <a:xfrm>
            <a:off x="428760" y="7128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 церкви Хома глядит на усопшую в третий р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голь нагнетает ужас, портрет становится ещё </a:t>
            </a:r>
            <a:r>
              <a:rPr b="0" i="1" lang="ru-RU" sz="2000" spc="-1" strike="noStrike">
                <a:solidFill>
                  <a:srgbClr val="ffffff"/>
                </a:solidFill>
                <a:latin typeface="Cambria"/>
              </a:rPr>
              <a:t>более мистическим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: на щеке умершей Хома видит показавшуюся ему слезой каплю кров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же красота панночки была страшн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, глядя на неё, Хома сразу все вспомнил и понял, что это ведьм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Почему в её красоте не было тепла , а  было что-то «страшно пронзительное», нечеловеческ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Месяц 3"/>
          <p:cNvSpPr/>
          <p:nvPr/>
        </p:nvSpPr>
        <p:spPr>
          <a:xfrm>
            <a:off x="142920" y="1357200"/>
            <a:ext cx="35712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Овальная выноска 4"/>
          <p:cNvSpPr/>
          <p:nvPr/>
        </p:nvSpPr>
        <p:spPr>
          <a:xfrm>
            <a:off x="5143680" y="2928960"/>
            <a:ext cx="3643200" cy="3214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5429160" y="3643200"/>
            <a:ext cx="3429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Он подошел ко гробу, с робостию посмотрел в лицо умершей и не мог зажмурить, несколько вздрогнувши, своих глаз : такая страшная, сверкающая красота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1" descr="C:\Users\1\Desktop\kinopoisk.ru-Viy-1308255[1].jpg"/>
          <p:cNvPicPr/>
          <p:nvPr/>
        </p:nvPicPr>
        <p:blipFill>
          <a:blip r:embed="rId1"/>
          <a:stretch/>
        </p:blipFill>
        <p:spPr>
          <a:xfrm>
            <a:off x="285840" y="2857680"/>
            <a:ext cx="4857840" cy="367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5" descr="derevyannaya-cerkov-v-Sedneve"/>
          <p:cNvPicPr/>
          <p:nvPr/>
        </p:nvPicPr>
        <p:blipFill>
          <a:blip r:embed="rId1"/>
          <a:stretch/>
        </p:blipFill>
        <p:spPr>
          <a:xfrm>
            <a:off x="214200" y="142920"/>
            <a:ext cx="4095720" cy="614376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2"/>
          <p:cNvSpPr/>
          <p:nvPr/>
        </p:nvSpPr>
        <p:spPr>
          <a:xfrm>
            <a:off x="4357800" y="2286000"/>
            <a:ext cx="4643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Церковь деревянная, почерневшая, убранная зеленым мохом, с тремя конусообразными куполами, уныло стояла на краю села. Заметно было, что в ней давно уже не отправлялось никакого служения... Небольшой дворик, за которым не было ни дерева и открывалось одно пустое поле да поглощенные ночным мраком луга... Высокий старинный иконостас уже показывал глубокую ветхость 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3"/>
          <p:cNvSpPr/>
          <p:nvPr/>
        </p:nvSpPr>
        <p:spPr>
          <a:xfrm>
            <a:off x="4500720" y="214200"/>
            <a:ext cx="3929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нтересно то , как Гоголь подводит читателя к  сценам  в церкви . Не только портрет панночки , но и описание  самой церкви подготавливает читателя к тому, что произойдё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Выноска-облако 4"/>
          <p:cNvSpPr/>
          <p:nvPr/>
        </p:nvSpPr>
        <p:spPr>
          <a:xfrm>
            <a:off x="214200" y="214200"/>
            <a:ext cx="2000520" cy="2071800"/>
          </a:xfrm>
          <a:prstGeom prst="cloudCallout">
            <a:avLst>
              <a:gd name="adj1" fmla="val -19629"/>
              <a:gd name="adj2" fmla="val 49722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5"/>
          <p:cNvSpPr/>
          <p:nvPr/>
        </p:nvSpPr>
        <p:spPr>
          <a:xfrm>
            <a:off x="500040" y="7858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Что такое описани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6"/>
          <p:cNvSpPr/>
          <p:nvPr/>
        </p:nvSpPr>
        <p:spPr>
          <a:xfrm>
            <a:off x="357120" y="621504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Cambria"/>
              </a:rPr>
              <a:t>Какие художественные средства использует автор в описан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1"/>
          <p:cNvSpPr/>
          <p:nvPr/>
        </p:nvSpPr>
        <p:spPr>
          <a:xfrm>
            <a:off x="642960" y="214200"/>
            <a:ext cx="77868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Проследим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, как от эпизода к эпизоду </a:t>
            </a:r>
            <a:r>
              <a:rPr b="1" i="1" lang="ru-RU" sz="1800" spc="-1" strike="noStrike">
                <a:solidFill>
                  <a:srgbClr val="ffffff"/>
                </a:solidFill>
                <a:latin typeface="Cambria"/>
              </a:rPr>
              <a:t>Гоголь усиливает ощущение мистического ужаса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, ожидание страшной развязки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Ночь первая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-покойница поднимает голову , садится в гробу , идет по церкви, пытается поймать Хому , гроб летает по церкви , позеленевший труп поднимается из него, раздается крик петух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1" descr="C:\Users\1\Desktop\kinopoisk.ru-Viy-1308254[1].jpg"/>
          <p:cNvPicPr/>
          <p:nvPr/>
        </p:nvPicPr>
        <p:blipFill>
          <a:blip r:embed="rId1"/>
          <a:stretch/>
        </p:blipFill>
        <p:spPr>
          <a:xfrm>
            <a:off x="928800" y="2071800"/>
            <a:ext cx="671508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Box 2"/>
          <p:cNvSpPr/>
          <p:nvPr/>
        </p:nvSpPr>
        <p:spPr>
          <a:xfrm>
            <a:off x="428760" y="28584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очь вторая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 Хома видит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труп на самой черте, покойница творит заклинания , нечистая сила ломится в церковь  , но не может попасть в неё, раздается крик петух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2" descr="C:\Users\1\Desktop\Новая папка (2)\10658_original[1].jpg"/>
          <p:cNvPicPr/>
          <p:nvPr/>
        </p:nvPicPr>
        <p:blipFill>
          <a:blip r:embed="rId1"/>
          <a:stretch/>
        </p:blipFill>
        <p:spPr>
          <a:xfrm>
            <a:off x="714240" y="2000160"/>
            <a:ext cx="3429000" cy="4229280"/>
          </a:xfrm>
          <a:prstGeom prst="rect">
            <a:avLst/>
          </a:prstGeom>
          <a:ln w="0">
            <a:noFill/>
          </a:ln>
        </p:spPr>
      </p:pic>
      <p:sp>
        <p:nvSpPr>
          <p:cNvPr id="464" name="4-конечная звезда 6"/>
          <p:cNvSpPr/>
          <p:nvPr/>
        </p:nvSpPr>
        <p:spPr>
          <a:xfrm>
            <a:off x="3357720" y="1357200"/>
            <a:ext cx="714240" cy="928800"/>
          </a:xfrm>
          <a:custGeom>
            <a:avLst/>
            <a:gdLst>
              <a:gd name="textAreaLeft" fmla="*/ 294120 w 714240"/>
              <a:gd name="textAreaRight" fmla="*/ 420120 w 714240"/>
              <a:gd name="textAreaTop" fmla="*/ 382680 h 928800"/>
              <a:gd name="textAreaBottom" fmla="*/ 546120 h 9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1" descr="C:\Users\1\Desktop\kinopoisk.ru-Viy-1135653[1].jpg"/>
          <p:cNvPicPr/>
          <p:nvPr/>
        </p:nvPicPr>
        <p:blipFill>
          <a:blip r:embed="rId2"/>
          <a:stretch/>
        </p:blipFill>
        <p:spPr>
          <a:xfrm>
            <a:off x="4143240" y="1571760"/>
            <a:ext cx="4643640" cy="461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1"/>
          <p:cNvSpPr/>
          <p:nvPr/>
        </p:nvSpPr>
        <p:spPr>
          <a:xfrm>
            <a:off x="357120" y="428760"/>
            <a:ext cx="8501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Ночь  третья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- мертвец встает из гроба, творит заклинания , падают иконы, бьются стёкла в окнах,  нечистая сила врывается в церковь, приводят Вия,  Хома не выдерживает и смотрит на него, Хома погибает,  петух кричит во второй раз, нечисть застревает в окнах и дверях церк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7" descr="40f23dbff6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5840" y="2071800"/>
            <a:ext cx="5500440" cy="4429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" descr="C:\Users\1\Desktop\Новая папка (2)\filejIgFcX[1].gif"/>
          <p:cNvPicPr/>
          <p:nvPr/>
        </p:nvPicPr>
        <p:blipFill>
          <a:blip r:embed="rId2"/>
          <a:stretch/>
        </p:blipFill>
        <p:spPr>
          <a:xfrm>
            <a:off x="5715000" y="3214800"/>
            <a:ext cx="3286080" cy="3429000"/>
          </a:xfrm>
          <a:prstGeom prst="rect">
            <a:avLst/>
          </a:prstGeom>
          <a:ln w="0">
            <a:noFill/>
          </a:ln>
        </p:spPr>
      </p:pic>
      <p:sp>
        <p:nvSpPr>
          <p:cNvPr id="469" name="4-конечная звезда 4"/>
          <p:cNvSpPr/>
          <p:nvPr/>
        </p:nvSpPr>
        <p:spPr>
          <a:xfrm>
            <a:off x="5286240" y="2714760"/>
            <a:ext cx="1000440" cy="1214280"/>
          </a:xfrm>
          <a:custGeom>
            <a:avLst/>
            <a:gdLst>
              <a:gd name="textAreaLeft" fmla="*/ 412200 w 1000440"/>
              <a:gd name="textAreaRight" fmla="*/ 588240 w 1000440"/>
              <a:gd name="textAreaTop" fmla="*/ 500400 h 1214280"/>
              <a:gd name="textAreaBottom" fmla="*/ 71388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C:\Users\1\Desktop\Новая папка (2)\45798633_viy_big[1].jpg"/>
          <p:cNvPicPr/>
          <p:nvPr/>
        </p:nvPicPr>
        <p:blipFill>
          <a:blip r:embed="rId1"/>
          <a:stretch/>
        </p:blipFill>
        <p:spPr>
          <a:xfrm>
            <a:off x="5286240" y="2286000"/>
            <a:ext cx="3357720" cy="4357800"/>
          </a:xfrm>
          <a:prstGeom prst="rect">
            <a:avLst/>
          </a:prstGeom>
          <a:ln w="0">
            <a:noFill/>
          </a:ln>
        </p:spPr>
      </p:pic>
      <p:sp>
        <p:nvSpPr>
          <p:cNvPr id="471" name="TextBox 2"/>
          <p:cNvSpPr/>
          <p:nvPr/>
        </p:nvSpPr>
        <p:spPr>
          <a:xfrm>
            <a:off x="571680" y="214200"/>
            <a:ext cx="735804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Кто такой Ви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чему повесть названа «Вий», хотя сам он появляется в самом конц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Может быть ,Вий -  это та страшная сила, которая все-таки погубила Хому за его жестокость(за избиение ведьмы поленом), вызвала в его душе суеверный страх , заставивший его взглянуть в глаза чудовищу, «не выдержать»в последний мо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357120" y="2500200"/>
            <a:ext cx="4429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У древних славян- существо, насылающее ночные  кошмары, видения  и привидения. Вся сила его была в глазах, которые очень сильно заросли бровями и ресницами и совсем затемнили зр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алороссийский Вий –   мифическое существо , у которого веки опускаются до самой земли , но если поднять их вилами, уже ничто не укроется от его взора . Слово  «вии» означает ресни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Месяц 5"/>
          <p:cNvSpPr/>
          <p:nvPr/>
        </p:nvSpPr>
        <p:spPr>
          <a:xfrm>
            <a:off x="214200" y="357120"/>
            <a:ext cx="357480" cy="50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1"/>
          <p:cNvSpPr/>
          <p:nvPr/>
        </p:nvSpPr>
        <p:spPr>
          <a:xfrm>
            <a:off x="785880" y="142920"/>
            <a:ext cx="8072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Смешным или страшным показалось вам это произведени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окажите, что в повести удачно сочетается  реалистическое и мистическо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Вертикальный свиток 2"/>
          <p:cNvSpPr/>
          <p:nvPr/>
        </p:nvSpPr>
        <p:spPr>
          <a:xfrm>
            <a:off x="-142920" y="1214280"/>
            <a:ext cx="5429160" cy="5143680"/>
          </a:xfrm>
          <a:prstGeom prst="verticalScroll">
            <a:avLst>
              <a:gd name="adj" fmla="val 1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571680" y="2214720"/>
            <a:ext cx="4071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В повести, действительно, необыкновенно удачно сплетаются два начала : реалистическое и мистическое. Одно от другого неотделимо в художественном мире Гого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Талантливый писатель соединил народные предания и свою авторскую фантаз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Месяц 4"/>
          <p:cNvSpPr/>
          <p:nvPr/>
        </p:nvSpPr>
        <p:spPr>
          <a:xfrm>
            <a:off x="357120" y="285840"/>
            <a:ext cx="428760" cy="64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179" y="1212"/>
                  <a:pt x="6758" y="5080"/>
                  <a:pt x="6758" y="10800"/>
                </a:cubicBezTo>
                <a:cubicBezTo>
                  <a:pt x="6758" y="16520"/>
                  <a:pt x="14179" y="2038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Picture 4" descr="1223357760_0"/>
          <p:cNvPicPr/>
          <p:nvPr/>
        </p:nvPicPr>
        <p:blipFill>
          <a:blip r:embed="rId1"/>
          <a:stretch/>
        </p:blipFill>
        <p:spPr>
          <a:xfrm>
            <a:off x="4643280" y="1928880"/>
            <a:ext cx="4143600" cy="4643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1"/>
          <p:cNvSpPr/>
          <p:nvPr/>
        </p:nvSpPr>
        <p:spPr>
          <a:xfrm>
            <a:off x="642960" y="214200"/>
            <a:ext cx="8143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Цель урока-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нализ тех сцен повести «Вий» , в которых преобладает мистическое  начало. Знакомство с теми эпизодами повести, которые представляют  бытовую, реалистическую стор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642960" y="128592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В повести необыкновенно удачно сплетаются два начала:    реалистическое и мистическо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571680" y="2000160"/>
            <a:ext cx="76435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   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Реалистическо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писание хутора, хлева,  где  философ « толкнул ногою в морду   просунувшуюся из другого хлева любопытную свинью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2" descr="C:\Users\1\Desktop\viewer[1].png"/>
          <p:cNvPicPr/>
          <p:nvPr/>
        </p:nvPicPr>
        <p:blipFill>
          <a:blip r:embed="rId1"/>
          <a:stretch/>
        </p:blipFill>
        <p:spPr>
          <a:xfrm>
            <a:off x="1357200" y="3214800"/>
            <a:ext cx="6161040" cy="3429000"/>
          </a:xfrm>
          <a:prstGeom prst="rect">
            <a:avLst/>
          </a:prstGeom>
          <a:ln w="0">
            <a:noFill/>
          </a:ln>
        </p:spPr>
      </p:pic>
      <p:sp>
        <p:nvSpPr>
          <p:cNvPr id="409" name="6-конечная звезда 6"/>
          <p:cNvSpPr/>
          <p:nvPr/>
        </p:nvSpPr>
        <p:spPr>
          <a:xfrm>
            <a:off x="2357280" y="1928880"/>
            <a:ext cx="428760" cy="500040"/>
          </a:xfrm>
          <a:custGeom>
            <a:avLst/>
            <a:gdLst/>
            <a:ahLst/>
            <a:rect l="l" t="t" r="r" b="b"/>
            <a:pathLst>
              <a:path w="428625" h="500062">
                <a:moveTo>
                  <a:pt x="0" y="125016"/>
                </a:moveTo>
                <a:lnTo>
                  <a:pt x="142874" y="125013"/>
                </a:lnTo>
                <a:lnTo>
                  <a:pt x="214313" y="0"/>
                </a:lnTo>
                <a:lnTo>
                  <a:pt x="285751" y="125013"/>
                </a:lnTo>
                <a:lnTo>
                  <a:pt x="428625" y="125016"/>
                </a:lnTo>
                <a:lnTo>
                  <a:pt x="357190" y="250031"/>
                </a:lnTo>
                <a:lnTo>
                  <a:pt x="428625" y="375047"/>
                </a:lnTo>
                <a:lnTo>
                  <a:pt x="285751" y="375049"/>
                </a:lnTo>
                <a:lnTo>
                  <a:pt x="214313" y="500062"/>
                </a:lnTo>
                <a:lnTo>
                  <a:pt x="142874" y="375049"/>
                </a:lnTo>
                <a:lnTo>
                  <a:pt x="0" y="375047"/>
                </a:lnTo>
                <a:lnTo>
                  <a:pt x="71435" y="250031"/>
                </a:lnTo>
                <a:lnTo>
                  <a:pt x="0" y="125016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C:\Users\1\Desktop\Новая папка (2)\filehD6iq5[1].gif"/>
          <p:cNvPicPr/>
          <p:nvPr/>
        </p:nvPicPr>
        <p:blipFill>
          <a:blip r:embed="rId1"/>
          <a:stretch/>
        </p:blipFill>
        <p:spPr>
          <a:xfrm>
            <a:off x="4572000" y="571680"/>
            <a:ext cx="4357800" cy="571500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714240" y="0"/>
            <a:ext cx="40719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описана дальнейшая судьба двух приятелей Хо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Гоголь вводит в повесть двух друзей Хомы, чтобы расширить бытовое полотно , изобразить как можно больше колоритных фигур. Имена героев  представляют комическое сочетание  древнеримского  «Тиберий» и украинского «Горобец» (воробе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Эти сочетания особенно выразительны, когда к ним добавляются важные слова «философ», «ритор». Смысл прозвища  богослова Халявы - он всегда готов позавтракать, пообедать и поужинать тем, что плохо лежи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7-конечная звезда 4"/>
          <p:cNvSpPr/>
          <p:nvPr/>
        </p:nvSpPr>
        <p:spPr>
          <a:xfrm>
            <a:off x="285840" y="357120"/>
            <a:ext cx="571320" cy="428760"/>
          </a:xfrm>
          <a:custGeom>
            <a:avLst/>
            <a:gdLst/>
            <a:ahLst/>
            <a:rect l="l" t="t" r="r" b="b"/>
            <a:pathLst>
              <a:path w="571500" h="428625">
                <a:moveTo>
                  <a:pt x="-1" y="275652"/>
                </a:moveTo>
                <a:lnTo>
                  <a:pt x="88004" y="190757"/>
                </a:lnTo>
                <a:lnTo>
                  <a:pt x="56596" y="84895"/>
                </a:lnTo>
                <a:lnTo>
                  <a:pt x="197746" y="84895"/>
                </a:lnTo>
                <a:lnTo>
                  <a:pt x="285750" y="0"/>
                </a:lnTo>
                <a:lnTo>
                  <a:pt x="373754" y="84895"/>
                </a:lnTo>
                <a:lnTo>
                  <a:pt x="514904" y="84895"/>
                </a:lnTo>
                <a:lnTo>
                  <a:pt x="483496" y="190757"/>
                </a:lnTo>
                <a:lnTo>
                  <a:pt x="571501" y="275652"/>
                </a:lnTo>
                <a:lnTo>
                  <a:pt x="444329" y="322765"/>
                </a:lnTo>
                <a:lnTo>
                  <a:pt x="412920" y="428627"/>
                </a:lnTo>
                <a:lnTo>
                  <a:pt x="285750" y="381514"/>
                </a:lnTo>
                <a:lnTo>
                  <a:pt x="158580" y="428627"/>
                </a:lnTo>
                <a:lnTo>
                  <a:pt x="127171" y="322765"/>
                </a:lnTo>
                <a:lnTo>
                  <a:pt x="-1" y="275652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Молния 5"/>
          <p:cNvSpPr/>
          <p:nvPr/>
        </p:nvSpPr>
        <p:spPr>
          <a:xfrm>
            <a:off x="7143840" y="571680"/>
            <a:ext cx="1714320" cy="1285560"/>
          </a:xfrm>
          <a:prstGeom prst="lightningBolt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C:\Users\1\Desktop\kinopoisk.ru-Viy-1308247[1].jpg"/>
          <p:cNvPicPr/>
          <p:nvPr/>
        </p:nvPicPr>
        <p:blipFill>
          <a:blip r:embed="rId1"/>
          <a:stretch/>
        </p:blipFill>
        <p:spPr>
          <a:xfrm>
            <a:off x="1000080" y="2500200"/>
            <a:ext cx="5429160" cy="4145040"/>
          </a:xfrm>
          <a:prstGeom prst="rect">
            <a:avLst/>
          </a:prstGeom>
          <a:ln w="0">
            <a:noFill/>
          </a:ln>
        </p:spPr>
      </p:pic>
      <p:sp>
        <p:nvSpPr>
          <p:cNvPr id="415" name="Овальная выноска 3"/>
          <p:cNvSpPr/>
          <p:nvPr/>
        </p:nvSpPr>
        <p:spPr>
          <a:xfrm>
            <a:off x="142920" y="142920"/>
            <a:ext cx="4071960" cy="27147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928800" y="71424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Богослов был рослый, плечистый мужчина и имел чрезвычайно странный нрав: всё , что ни лежало, бывало, возле него, он непременно украдет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Скругленная прямоугольная выноска 5"/>
          <p:cNvSpPr/>
          <p:nvPr/>
        </p:nvSpPr>
        <p:spPr>
          <a:xfrm>
            <a:off x="5929200" y="142920"/>
            <a:ext cx="3214800" cy="3214800"/>
          </a:xfrm>
          <a:prstGeom prst="wedgeRoundRectCallout">
            <a:avLst>
              <a:gd name="adj1" fmla="val -20356"/>
              <a:gd name="adj2" fmla="val 58259"/>
              <a:gd name="adj3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8"/>
          <p:cNvSpPr/>
          <p:nvPr/>
        </p:nvSpPr>
        <p:spPr>
          <a:xfrm>
            <a:off x="5929200" y="357120"/>
            <a:ext cx="3071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Ритор Тиберий Горобець еще не имел права носить усов…и поэтому характер его в то время  ещё  мало развивался; но, судя по  большим шишкам на лбу, с которыми он часто являлся в класс, можно было предположить, что из него будет хороший воин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Вий "/>
          <p:cNvPicPr/>
          <p:nvPr/>
        </p:nvPicPr>
        <p:blipFill>
          <a:blip r:embed="rId1"/>
          <a:stretch/>
        </p:blipFill>
        <p:spPr>
          <a:xfrm>
            <a:off x="428760" y="1357200"/>
            <a:ext cx="6429240" cy="5113440"/>
          </a:xfrm>
          <a:prstGeom prst="rect">
            <a:avLst/>
          </a:prstGeom>
          <a:ln w="0">
            <a:noFill/>
          </a:ln>
        </p:spPr>
      </p:pic>
      <p:sp>
        <p:nvSpPr>
          <p:cNvPr id="420" name="Овальная выноска 4"/>
          <p:cNvSpPr/>
          <p:nvPr/>
        </p:nvSpPr>
        <p:spPr>
          <a:xfrm>
            <a:off x="4714920" y="142920"/>
            <a:ext cx="4429080" cy="4214880"/>
          </a:xfrm>
          <a:prstGeom prst="wedgeEllipseCallout">
            <a:avLst>
              <a:gd name="adj1" fmla="val -22587"/>
              <a:gd name="adj2" fmla="val 67879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6"/>
          <p:cNvSpPr/>
          <p:nvPr/>
        </p:nvSpPr>
        <p:spPr>
          <a:xfrm>
            <a:off x="5429160" y="785880"/>
            <a:ext cx="3714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Философ Хома Брут был нрава веселого. Любил очень лежать и курить люльку. Он часто пробовал крупного гороху, но совершенно с философическим равнодушием , -говоря , что чему быть, того не миновать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500040" y="714240"/>
            <a:ext cx="3929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Реалистически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описан быт сотника, обряды , обычаи , традиции, в том числе в связи с погребением  (оплакивание  отцом умершей дочери , чтение над покойником святого  писания , прикладывание рук к горячей печи и пр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Знание народных обычаев и традиций – одна из черт творчества Гог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2" descr="C:\Users\1\Desktop\Новая папка (2)\koncovka[1].gif"/>
          <p:cNvPicPr/>
          <p:nvPr/>
        </p:nvPicPr>
        <p:blipFill>
          <a:blip r:embed="rId1"/>
          <a:stretch/>
        </p:blipFill>
        <p:spPr>
          <a:xfrm>
            <a:off x="5916600" y="214200"/>
            <a:ext cx="3013200" cy="2571840"/>
          </a:xfrm>
          <a:prstGeom prst="rect">
            <a:avLst/>
          </a:prstGeom>
          <a:ln w="0">
            <a:noFill/>
          </a:ln>
        </p:spPr>
      </p:pic>
      <p:sp>
        <p:nvSpPr>
          <p:cNvPr id="424" name="7-конечная звезда 3"/>
          <p:cNvSpPr/>
          <p:nvPr/>
        </p:nvSpPr>
        <p:spPr>
          <a:xfrm>
            <a:off x="142920" y="714240"/>
            <a:ext cx="428760" cy="500040"/>
          </a:xfrm>
          <a:custGeom>
            <a:avLst/>
            <a:gdLst/>
            <a:ahLst/>
            <a:rect l="l" t="t" r="r" b="b"/>
            <a:pathLst>
              <a:path w="428625" h="500063">
                <a:moveTo>
                  <a:pt x="-1" y="321594"/>
                </a:moveTo>
                <a:lnTo>
                  <a:pt x="66003" y="222550"/>
                </a:lnTo>
                <a:lnTo>
                  <a:pt x="42447" y="99044"/>
                </a:lnTo>
                <a:lnTo>
                  <a:pt x="148309" y="99044"/>
                </a:lnTo>
                <a:lnTo>
                  <a:pt x="214313" y="0"/>
                </a:lnTo>
                <a:lnTo>
                  <a:pt x="280316" y="99044"/>
                </a:lnTo>
                <a:lnTo>
                  <a:pt x="386178" y="99044"/>
                </a:lnTo>
                <a:lnTo>
                  <a:pt x="362622" y="222550"/>
                </a:lnTo>
                <a:lnTo>
                  <a:pt x="428626" y="321594"/>
                </a:lnTo>
                <a:lnTo>
                  <a:pt x="333247" y="376559"/>
                </a:lnTo>
                <a:lnTo>
                  <a:pt x="309690" y="500066"/>
                </a:lnTo>
                <a:lnTo>
                  <a:pt x="214313" y="445100"/>
                </a:lnTo>
                <a:lnTo>
                  <a:pt x="118935" y="500066"/>
                </a:lnTo>
                <a:lnTo>
                  <a:pt x="95378" y="376559"/>
                </a:lnTo>
                <a:lnTo>
                  <a:pt x="-1" y="321594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1" descr="C:\Users\1\Desktop\kinopoisk.ru-Viy-1308250[1].jpg"/>
          <p:cNvPicPr/>
          <p:nvPr/>
        </p:nvPicPr>
        <p:blipFill>
          <a:blip r:embed="rId2"/>
          <a:stretch/>
        </p:blipFill>
        <p:spPr>
          <a:xfrm>
            <a:off x="4214880" y="2786040"/>
            <a:ext cx="4714920" cy="3800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1"/>
          <p:cNvSpPr/>
          <p:nvPr/>
        </p:nvSpPr>
        <p:spPr>
          <a:xfrm>
            <a:off x="-71280" y="71280"/>
            <a:ext cx="9215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Мистическо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Анализ сцены, когда Хома , оказавшись в роли коня у ведьм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сверху смотрит на ми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2" descr="C:\Users\1\Desktop\Новая папка (2)\282[1].jpg"/>
          <p:cNvPicPr/>
          <p:nvPr/>
        </p:nvPicPr>
        <p:blipFill>
          <a:blip r:embed="rId1"/>
          <a:stretch/>
        </p:blipFill>
        <p:spPr>
          <a:xfrm>
            <a:off x="714240" y="1214280"/>
            <a:ext cx="6357960" cy="4397400"/>
          </a:xfrm>
          <a:prstGeom prst="rect">
            <a:avLst/>
          </a:prstGeom>
          <a:ln w="0">
            <a:noFill/>
          </a:ln>
        </p:spPr>
      </p:pic>
      <p:sp>
        <p:nvSpPr>
          <p:cNvPr id="428" name="4-конечная звезда 3"/>
          <p:cNvSpPr/>
          <p:nvPr/>
        </p:nvSpPr>
        <p:spPr>
          <a:xfrm>
            <a:off x="1928880" y="71280"/>
            <a:ext cx="857160" cy="571680"/>
          </a:xfrm>
          <a:custGeom>
            <a:avLst/>
            <a:gdLst>
              <a:gd name="textAreaLeft" fmla="*/ 353160 w 857160"/>
              <a:gd name="textAreaRight" fmla="*/ 504000 w 857160"/>
              <a:gd name="textAreaTop" fmla="*/ 235440 h 571680"/>
              <a:gd name="textAreaBottom" fmla="*/ 3362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642960" y="557208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ак изменяется привычный мир в глазах  Хомы , соприкоснувшегося с потусторонней сило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 каком состоянии находится сам  Хом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Овальная выноска 5"/>
          <p:cNvSpPr/>
          <p:nvPr/>
        </p:nvSpPr>
        <p:spPr>
          <a:xfrm>
            <a:off x="5786280" y="928800"/>
            <a:ext cx="3214800" cy="3071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6"/>
          <p:cNvSpPr/>
          <p:nvPr/>
        </p:nvSpPr>
        <p:spPr>
          <a:xfrm>
            <a:off x="6072120" y="164304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истика- это раздел фантастики, связанный с изображением  потустороннего мира, нечистой силы, необъяснимых яв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Месяц 10"/>
          <p:cNvSpPr/>
          <p:nvPr/>
        </p:nvSpPr>
        <p:spPr>
          <a:xfrm>
            <a:off x="285840" y="5643720"/>
            <a:ext cx="4572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Фильм.wmv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7929720" cy="4143240"/>
          </a:xfrm>
          <a:prstGeom prst="rect">
            <a:avLst/>
          </a:prstGeom>
          <a:ln w="0">
            <a:noFill/>
          </a:ln>
        </p:spPr>
      </p:pic>
      <p:sp>
        <p:nvSpPr>
          <p:cNvPr id="434" name="TextBox 3"/>
          <p:cNvSpPr/>
          <p:nvPr/>
        </p:nvSpPr>
        <p:spPr>
          <a:xfrm>
            <a:off x="785880" y="4929120"/>
            <a:ext cx="764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Мир преображается: он наполняется сказочными существами, незнакомыми прелестными звуками, запахами , краск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Скругленная прямоугольная выноска 4"/>
          <p:cNvSpPr/>
          <p:nvPr/>
        </p:nvSpPr>
        <p:spPr>
          <a:xfrm>
            <a:off x="928800" y="928800"/>
            <a:ext cx="2643120" cy="30002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1000080" y="1357200"/>
            <a:ext cx="2643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…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Луга, леса ,долины-всё ,казалось, как будто спало с открытыми глазами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Users\1\Desktop\Новая папка (2)\0489e9c2fdce[1].jpg"/>
          <p:cNvPicPr/>
          <p:nvPr/>
        </p:nvPicPr>
        <p:blipFill>
          <a:blip r:embed="rId1"/>
          <a:stretch/>
        </p:blipFill>
        <p:spPr>
          <a:xfrm>
            <a:off x="4429080" y="214200"/>
            <a:ext cx="4395960" cy="5811840"/>
          </a:xfrm>
          <a:prstGeom prst="rect">
            <a:avLst/>
          </a:prstGeom>
          <a:ln w="0">
            <a:noFill/>
          </a:ln>
        </p:spPr>
      </p:pic>
      <p:sp>
        <p:nvSpPr>
          <p:cNvPr id="438" name="TextBox 3"/>
          <p:cNvSpPr/>
          <p:nvPr/>
        </p:nvSpPr>
        <p:spPr>
          <a:xfrm>
            <a:off x="285840" y="214200"/>
            <a:ext cx="3857400" cy="67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Герой Гоголя не может понять, </a:t>
            </a:r>
            <a:r>
              <a:rPr b="1" i="1" lang="ru-RU" sz="2000" spc="-1" strike="noStrike">
                <a:solidFill>
                  <a:srgbClr val="ffffff"/>
                </a:solidFill>
                <a:latin typeface="Cambria"/>
              </a:rPr>
              <a:t>сон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это или </a:t>
            </a:r>
            <a:r>
              <a:rPr b="1" i="1" lang="ru-RU" sz="2000" spc="-1" strike="noStrike">
                <a:solidFill>
                  <a:srgbClr val="ffffff"/>
                </a:solidFill>
                <a:latin typeface="Cambria"/>
              </a:rPr>
              <a:t>явь</a:t>
            </a: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. Когда он начинает творить заклятья , всё вокруг становится привычным: «Густая трава  касалась его, и он  уже  не видел в ней ничего необыкновенног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И вот ведьма превращается в красавиц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чем Гоголю понадобилось преображать ведьм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Зачем он делает её столь прекрасной и несколько раз на протяжении повести рисует её портрет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то поражает в этом портрет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Месяц 8"/>
          <p:cNvSpPr/>
          <p:nvPr/>
        </p:nvSpPr>
        <p:spPr>
          <a:xfrm>
            <a:off x="71280" y="3643200"/>
            <a:ext cx="285840" cy="57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Овальная выноска 5"/>
          <p:cNvSpPr/>
          <p:nvPr/>
        </p:nvSpPr>
        <p:spPr>
          <a:xfrm>
            <a:off x="3929040" y="4071960"/>
            <a:ext cx="2357640" cy="21430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4286160" y="442908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Что такое портр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3:41:09Z</dcterms:created>
  <dc:creator>1</dc:creator>
  <dc:description/>
  <dc:language>en-US</dc:language>
  <cp:lastModifiedBy>LEGION</cp:lastModifiedBy>
  <dcterms:modified xsi:type="dcterms:W3CDTF">2015-01-20T08:23:14Z</dcterms:modified>
  <cp:revision>67</cp:revision>
  <dc:subject/>
  <dc:title>Слайд 1</dc:title>
</cp:coreProperties>
</file>