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A641-57BF-4770-8F5D-FA554DE54DA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. В. Гого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AEB0-A88F-4988-B7F6-B97920830F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н. Гимназия высших на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3FCE-E1F1-4448-AF18-CA874C22B4C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DF1B-0DCE-40DD-AD0E-8A37175415D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22EE-0BF7-4C0F-9539-ADE9AC902C2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вольство служ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7FDB-2A02-463F-9BF3-E0AB4204D39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етербургские пове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9BFD-F89F-43AD-B94C-AF494A36ED8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3914-33B2-49E5-B949-9FC92EF21BB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я, Пари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B203-3331-4863-B6AC-815D5C8F8F0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ртвые ду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е 1842 г. "Похождения Чичикова, или Мертвые души" вышли в с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6416-AA33-4710-933F-A2E68DB967B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ние соч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FB22-ADAC-4461-AA2F-F2E49097568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ыбранные мест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6038-4631-40EC-999D-8A16F088429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 В. Гоголь (1809 – 18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итература, 9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DEB1-3134-425B-881F-C07AD7D91B9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аполь, Малоро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D708-E226-4029-A833-D5E714BD7ED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DDF1-71D4-44D0-A3C8-BAA93E9C869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 №7 на Никитском бульваре. Здесь Гогол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жил свои последние пять ле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BA9E-D208-4B61-BB0E-6B46721C01E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м на Никитском бульваре в Моск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C1D1-8B34-49CC-B854-63C306F11E6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мориальные комнаты Н.В. Гоголя в  доме на Никитском бульва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4DC0-B987-44F0-8A0D-E28612D1986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ртвые души», второй 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5908-FDF6-4DB3-9AF8-D8B5F9C018A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В. Гоголь в Яновщи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7B70-0CF9-42B8-8ADF-FA076AA7AA8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меся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C40E-CDD9-4686-9807-374E55464F5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4061-7554-4109-9E99-B3B409532C5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ила Гоголя на Новодевичьем кладбищ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FA5B-43A7-4BD1-AFE8-EDE8AC68BC6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AD82-C42F-444E-8507-BB7BA5FC31D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пред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584D-BC20-4DE3-9B9D-B70F7975D76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F004-6A73-460D-A3E9-664D97CBB4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ия Ивановна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Афанасьеви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DFB9-9A5F-48DC-9276-CE4A9752623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ье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6E01-10C4-477D-B701-56AE60FB1DA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ьский дом в Васильев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74FE-05F9-4D5C-907E-23ECFDF89E1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5950-4CF4-4EFC-83A6-89DEE60049B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B1FC5-4A2E-494D-9B67-01A61C76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A5AC6-44A2-4A9C-BD90-B0994CAE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C6DB2-A846-46B8-A5AA-3FDA8F14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224DA-91BE-4813-A7EB-3A0F9F41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A380-6074-47FF-8E4B-B8A119BC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AF2C-EC89-409C-A6EA-3AF93930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4B8C-8823-4615-B817-81CF8D0A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9571-3133-45FD-8A2D-9864D118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A839-C1A2-4A44-9D7F-D2372193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906A-A522-40B5-B7D8-B98A3A12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C175-6133-44F2-BA43-1D55A8D4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DCAF9-0C4A-4D05-8295-6534E924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C80C-D111-4155-887E-754D78C9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ECE3-E7A3-47C3-8F92-6F651993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BBC0-3349-4746-A7E0-442FECD9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31F2-850A-4F59-83C5-812CAF4F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137B-43D7-453B-865D-BCE5F27B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79656-9A43-4902-AF24-658646E0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234EF-B2B7-4D95-A077-061E0016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1F358-4190-4EEB-AC2E-8D931839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689F1-218F-4FC2-AD94-B8D2BB26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D4205-EF9C-48F1-A5E7-2D6CAEBB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C553F-7085-4107-878E-03F71535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7F150-CBF2-4E34-8A5A-17567E9A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B4AE-6C0F-4770-8E12-25A83146FD2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DE97-648C-4AD1-A4A7-48882811404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filename49"/>
          <p:cNvPicPr/>
          <p:nvPr/>
        </p:nvPicPr>
        <p:blipFill>
          <a:blip r:embed="rId2"/>
          <a:srcRect l="0" t="0" r="-113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1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4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>uchportal.ru</dc:description>
  <dc:language>en-US</dc:language>
  <cp:lastModifiedBy>LEGION</cp:lastModifiedBy>
  <dcterms:modified xsi:type="dcterms:W3CDTF">2015-01-20T08:24:08Z</dcterms:modified>
  <cp:revision>16</cp:revision>
  <dc:subject/>
  <dc:title>Биография Гого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08000000000001024140</vt:lpwstr>
  </property>
</Properties>
</file>