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jpeg" ContentType="image/jpeg"/>
  <Override PartName="/ppt/media/image18.png" ContentType="image/png"/>
  <Override PartName="/ppt/media/image6.jpeg" ContentType="image/jpeg"/>
  <Override PartName="/ppt/media/image8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31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5.gif" ContentType="image/gif"/>
  <Override PartName="/ppt/media/image15.jpeg" ContentType="image/jpe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7EDC-CD26-45D9-BA09-3EB567BB6D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ергей Тимофеевич Акс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«Аленький цветоче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7344-C3F2-4F99-B30C-6AE09A21C4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1B6B-C9D7-40DB-BB4F-B809AA261A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ка сюжетных ли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Аленький цветоч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Щелкун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главной героини к гер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любовью главные героини снимают закл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ни за внешним уродством смогли рассмотреть щедрость и доброту души чуди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ст красивого и ужас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97A9-7C3C-434B-82DD-19023AD52D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лина Народных сказ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явно чувствуется народное происхож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из сказок больше напоминает народну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6ABB-EFA6-4C0F-A9CB-D0B4441583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шебный ост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D409-0717-4D21-ACB2-B5357F7F11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похожи все волшебные сказ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народных сказках ярко выражен контраст между волшебным миром и земным мир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композиция вам кажется более замысловат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характеры героев представляются вам более слож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4C29-7A53-4AB3-8742-2FC3AE16F1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C78B-2C66-48B0-B344-B4C45C1E83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тому уро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книгу новую проч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рошей, доброй, мудрой ска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аром время пров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DB8D-6725-4F2E-AA2A-64486EDEF8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зка ложь, да в неё намёк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рым молодцам у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5BE2-1DB0-49F7-B504-14FC37803B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ляемся в 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5A5F-85F5-4D2D-A332-112FF24535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о «Авторск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5B99-E515-4D08-86DC-3D58DF0F0A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аков Сергей тимофеевич (1791-18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8BAA-F5B3-46F8-BF48-D45C73593B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E086-750A-4928-A843-0D84F0F95B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«Внимательных чита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ует ли название сказки «Аленький цветочек» её содержанию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 этой сказки такой подзаголовок – «Сказка ключницы Пелаге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дочерей было у купц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собирался уезжать купе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ём он спрашивал своих дочер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одарки заказали ему доч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упец нашёл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лучилось, когда он сорвал цв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чудище поверило купцу и отпустило его домой проститься с дочерь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вы себе представляете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зошл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заканчивается сказ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7216-E45F-4538-B480-D94720C9EB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D06C-964D-4C98-BD99-C5B23C76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57C-01F7-4A61-AE01-4EE9AA7E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0EC2F-66AD-457B-BD40-8B9ECAEF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F1C52E-1DEF-477E-BDB9-C9B3E987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0B4DA-3AB8-4008-814E-733DBE97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DB70D-7E36-4C2A-A73B-2C02AF0F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DCD5B-8302-4B14-ADB5-D34E79BB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FB556-CC8C-47E1-B064-0F67C82E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1FF37-3869-47CA-88EB-BE2E21D0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AB939-BC48-4D9D-9BF6-465550535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E4D47-E5F7-4D8E-AD98-E5741147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35CC-A3B1-466E-9A9E-B2AC3C7E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235-93C5-4594-A85E-1D2E19AD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8401-5599-4CEE-BA62-671B34FF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1B49-6438-425E-A353-070F1AB1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70B8-EB3D-4550-B2C8-A54D6AA8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A5E0-C1D3-4C56-B1ED-6FA162BE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7674-F506-4E4D-BC7F-8D32D327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A9C6-1D71-4B48-8E78-9036A23F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B1F6-EB62-4C05-BEDF-B23B736B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591-9ADF-4343-ACD6-A4B0558A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0928-7F51-42A5-A6E2-BA350BCC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D0A9-5820-48E2-BA44-C0A230FA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CFC9-FE3F-4EC4-87CC-F66F2B1F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8A36-812F-48AF-B0A4-249C4F22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910A-F379-42AD-AA39-AE21051F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4BA2-F73F-471A-8DA8-5DB742D0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F96A7-17D4-4D05-A397-29F3207D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C9F6-8855-42F8-A3CB-DBC9CDEF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76C2B-D8A3-4F8B-B6BE-B8B05C06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6D3EA-5C6B-4919-911A-874B16B9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E07-791B-4A30-954B-9658DF23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468F4-320A-48D8-B54D-D81D041C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69CC5-42CA-4D60-BC7C-F07E7889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19CD-F767-4D27-BC70-F90F479D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CFDBF-DE83-4AC2-A449-85A6E5E7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A7E56-69BD-4A1B-85F7-9CCB0021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F8CED-8A8D-423B-8709-2581501A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10C99-9865-4AAA-8BD9-51931FDA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F0739-C0F6-4237-B823-2DBD585A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2EC9A-4DDE-430D-B338-9E337989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6F7D9-068B-488A-A010-76FD14D3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2E8-88B7-4066-A96D-FF28BE23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9EA9E-AADE-4FD0-9404-8454163B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B7276-3B5C-4C22-9616-7A277967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96034-7A5F-4408-8C61-C8161B25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E1443-B339-43F8-847D-162A4270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1CABB-6E21-4A76-9D1B-D23086BF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07FB7-1263-4B18-B503-C01A19C7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AAE74-8DCA-4C86-B1D0-5DD18688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E0F1C-8BD4-4BA6-B632-1186FA93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9DA1D-9CEB-4B3A-9DC8-EAFF019A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A6501-46ED-44E9-9D95-9BFC13E2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99D-5A5A-45AF-AE7F-E413CCB3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39B4A-1C00-4CD6-81FD-7CAF4D3A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96394-00C3-47A7-9A50-10A2ECC10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C1416-5109-4AEA-BC67-F7C7863E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BA5F0-D43E-4940-8636-2742893C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A3243-A112-4A4D-BADE-F93F10E5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51C63-0959-49AE-874B-2D781ADD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77779-DD41-44A0-B046-6332CC81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65D49-6704-4437-A450-FD496F7D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DB2E8-06F6-4128-81C6-6E31E17B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79418-9731-4D16-95B5-E454966E8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388-0BC6-4B1A-B936-E6647D41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B5FFF-A680-421E-893C-D29340FE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668C6-9107-4DA3-A771-3B62A96B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1933F-DE99-44F7-BB23-AF284454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9BF1B-12CB-4B13-B6BF-D367B4CC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699B0-9AA6-4A0F-8614-01EAC882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37F6A-802B-477B-BDF6-E7BCA02B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5C070-2781-4684-9B81-0D05D17B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7560B-5FBB-4C1D-906A-A33DCD95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934A1-3688-468F-A28F-11CE4F0E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017D8-D8BE-40D2-94E9-8D661DF5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83D-51DB-4EB3-925B-8538AE77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B8F32-21F1-485C-854B-940CA62F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FA784-CE41-4B9C-BBAF-579EFD68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68716-354B-4B84-85DF-10563E1C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DA56D-9194-40B2-BC7C-6103A149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623F1-DF34-43E6-A204-8D0C665E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A7C62-A96C-4FD0-BA45-989AFCBC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B10DC-869E-44D1-97F3-29A79FFB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57E1D-42B4-48C2-AE49-B2D02BF2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710F4-323D-4B68-9E81-078D7836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5999E-7BB6-4878-86B3-77BE2B21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19D-A4EE-4667-A3F8-D6247A71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89F3B-03D1-4E3D-95E6-6ABBDB6D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BCE55-A3AD-45FA-BB2B-F84D50FB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5E227-DD39-457E-A6AE-53533A6F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9E69D-A45F-4D8F-9A39-F6FA5B947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770AC-10F7-42EA-83C9-51B00584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464CA-88D2-4450-86DB-F880505B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40214-4881-4D6C-A49C-0378010A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726F0-E53D-4583-B089-BE57C2FB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2939A-AB52-4DC3-B569-ACF53F3F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5DC1A-959F-48DE-96E6-E176972A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0E7-EB83-443B-B1D5-E0BCE872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03D84-D9DE-40A4-8BC6-0B4F1CA3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57650-9867-4436-9B5C-50EA56C0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87A36-01EC-47B7-A051-2631DA07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2761F-BE83-44B7-A14C-CA6EABB1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EA4CB-A36F-4373-ABDF-641B9368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53C17-C21E-4787-9A20-0C287DBB8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4A918-7112-428A-AC45-0EDB467D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1A032-C20F-4E83-BF5B-016E6AE9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826BA-55C0-4D9A-AC0D-BC4E14A0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B717B-A2C0-4D1B-B6EB-177EBA11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1029-451F-4D87-BAD6-E31883428FE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9630-9737-4139-9ACB-68523D70232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49EC-B61D-42BE-BC9E-731F413AD61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720C-EA44-4AC1-B411-4178088200F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1816-8E80-42CD-900E-FD6BEE4A1A8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C571-63D9-4E59-BBAE-4A31017B8DB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F500-023C-4D06-8F25-0072D473D1B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E3F5-EF48-4A01-9C66-24EFFE8B08B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269B-824A-47EF-80D0-CAC2853F18E3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827C-F5B8-48F2-8A3D-17C6A2AD798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C03C-AB99-4D04-8FAB-5D8CE7595BE7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C5EF-BDDB-4F3D-BE93-C277C23A89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5188-1033-42FC-8B4B-6D5664F7FE02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61C6-7039-4AAA-B32B-4CA97608390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2523-CEA2-4522-89C3-3766C618622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1E4A-11FD-4B6E-AD78-6D4812E8A14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6536-8713-462B-9E27-5320CE43328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B22F-989E-471A-A3B3-BE45D5F7F07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go.mail.ru/frame.html?&amp;imgurl=http://img1.liveinternet.ru/images/attach/c/0/34/373/34373967_vraschayusch_roza_anime.gif&amp;pageurl=http://glausq.ru/41.php&amp;id=83047487&amp;iid=3&amp;imgwidth=400&amp;imgheight=300&amp;imgsize=9744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0" y="4668840"/>
            <a:ext cx="8839080" cy="25606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Franklin Gothic Book"/>
              </a:rPr>
              <a:t>«Аленький цветочек»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://im3-tub.mail.ru/i?id=83047487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15040" y="714240"/>
            <a:ext cx="2190600" cy="2286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262080" y="639720"/>
            <a:ext cx="8881920" cy="1000080"/>
          </a:xfrm>
          <a:prstGeom prst="rect">
            <a:avLst/>
          </a:prstGeom>
          <a:ln w="0">
            <a:noFill/>
          </a:ln>
        </p:spPr>
      </p:pic>
      <p:pic>
        <p:nvPicPr>
          <p:cNvPr id="445" name="MSSN1321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Admin\Local Settings\Temporary Internet Files\Content.IE5\19W7V82E\MCj04298030000[1].wmf"/>
          <p:cNvPicPr/>
          <p:nvPr/>
        </p:nvPicPr>
        <p:blipFill>
          <a:blip r:embed="rId3"/>
          <a:stretch/>
        </p:blipFill>
        <p:spPr>
          <a:xfrm>
            <a:off x="1500120" y="2000160"/>
            <a:ext cx="3643560" cy="400068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7" descr=""/>
          <p:cNvPicPr/>
          <p:nvPr/>
        </p:nvPicPr>
        <p:blipFill>
          <a:blip r:embed="rId4"/>
          <a:stretch/>
        </p:blipFill>
        <p:spPr>
          <a:xfrm>
            <a:off x="208080" y="2786040"/>
            <a:ext cx="9661320" cy="1541520"/>
          </a:xfrm>
          <a:prstGeom prst="rect">
            <a:avLst/>
          </a:prstGeom>
          <a:ln w="0">
            <a:noFill/>
          </a:ln>
        </p:spPr>
      </p:pic>
      <p:pic>
        <p:nvPicPr>
          <p:cNvPr id="448" name="j0211321.wav" descr=""/>
          <p:cNvPicPr/>
          <p:nvPr/>
        </p:nvPicPr>
        <p:blipFill>
          <a:blip r:embed="rId5"/>
          <a:stretch/>
        </p:blipFill>
        <p:spPr>
          <a:xfrm>
            <a:off x="0" y="6429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5649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Аленький цветоче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Щелкунчи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Любовь главной героини к герою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воей любовью главные героини снимают заклят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ероини за внешним уродством смогли рассмотреть щедрость и доброту души чудищ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онтраст красивого и ужасного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й сказке явно чувствуется народное происхождени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ая из сказок больше напоминает народную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4" descr="43ZJ3CAWDNY0BCAS0YUVRCA4YGWV4CA67E15CCA21C0CQCAKWG4CHCAEUXXJJCA804UEKCAH9Z5LVCAHS04SXCA9DT21YCA1P4QE8CA57L6LZCASX1KKTCAW7HO5QCA6M5ESZCAV3CIE3CA1ZKHRCCA1HT9EZ.jpg"/>
          <p:cNvPicPr/>
          <p:nvPr/>
        </p:nvPicPr>
        <p:blipFill>
          <a:blip r:embed="rId2"/>
          <a:stretch/>
        </p:blipFill>
        <p:spPr>
          <a:xfrm>
            <a:off x="1365120" y="1725480"/>
            <a:ext cx="3340080" cy="3407040"/>
          </a:xfrm>
          <a:prstGeom prst="rect">
            <a:avLst/>
          </a:prstGeom>
          <a:ln w="0">
            <a:noFill/>
          </a:ln>
        </p:spPr>
      </p:pic>
      <p:pic>
        <p:nvPicPr>
          <p:cNvPr id="458" name="Содержимое 6" descr="HM69HCAA6RBQCCAMB6S14CAJ3M4GACA299LJ1CAJYOGT9CA92OKQ8CATJ4IX1CA72TXH8CA6RWZKDCA2H0YAXCAQWVVOECAVYZEL4CAM7DBQMCAYU0UJWCAOH1QQTCAS0FZX5CAKCB2SACA046Q5ECAEUT19S.jpg"/>
          <p:cNvPicPr/>
          <p:nvPr/>
        </p:nvPicPr>
        <p:blipFill>
          <a:blip r:embed="rId3"/>
          <a:stretch/>
        </p:blipFill>
        <p:spPr>
          <a:xfrm>
            <a:off x="7070760" y="1500120"/>
            <a:ext cx="1255680" cy="1273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6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Чем похожи все волшебные сказк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 в народных сказках ярко выражен контраст между волшебным миром и земным миром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сказке композиция вам кажется более замысловатой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характеры героев представляются вам более сложным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262080" y="426960"/>
            <a:ext cx="8881920" cy="1000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7" name="Picture 2" descr="C:\Documents and Settings\Admin\Рабочий стол\j0236359.gif"/>
          <p:cNvPicPr/>
          <p:nvPr/>
        </p:nvPicPr>
        <p:blipFill>
          <a:blip r:embed="rId1"/>
          <a:stretch/>
        </p:blipFill>
        <p:spPr>
          <a:xfrm>
            <a:off x="3071880" y="2857680"/>
            <a:ext cx="2714400" cy="2071440"/>
          </a:xfrm>
          <a:prstGeom prst="rect">
            <a:avLst/>
          </a:prstGeom>
          <a:ln w="0">
            <a:noFill/>
          </a:ln>
        </p:spPr>
      </p:pic>
      <p:pic>
        <p:nvPicPr>
          <p:cNvPr id="468" name="j02113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товясь к этому уроку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 книгу новую проч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 хорошей, доброй, мудрой сказк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даром время прове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7" descr="C:\Documents and Settings\Admin\Local Settings\Temporary Internet Files\Content.IE5\T9QFS9SQ\MCj04404240000[1].wmf"/>
          <p:cNvPicPr/>
          <p:nvPr/>
        </p:nvPicPr>
        <p:blipFill>
          <a:blip r:embed="rId1"/>
          <a:stretch/>
        </p:blipFill>
        <p:spPr>
          <a:xfrm>
            <a:off x="714240" y="4286160"/>
            <a:ext cx="1827360" cy="1506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C:\Documents and Settings\Admin\Local Settings\Temporary Internet Files\Content.IE5\19W7V82E\MCj04379900000[1].wmf"/>
          <p:cNvPicPr/>
          <p:nvPr/>
        </p:nvPicPr>
        <p:blipFill>
          <a:blip r:embed="rId2"/>
          <a:stretch/>
        </p:blipFill>
        <p:spPr>
          <a:xfrm>
            <a:off x="5857920" y="4000680"/>
            <a:ext cx="1816200" cy="17301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4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Сказка ложь, да в неё намёк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Добрым молодцам урок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.С. Пушки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5" descr="C:\Documents and Settings\Admin\Local Settings\Temporary Internet Files\Content.IE5\02068134\MCj04334800000[1].wmf"/>
          <p:cNvPicPr/>
          <p:nvPr/>
        </p:nvPicPr>
        <p:blipFill>
          <a:blip r:embed="rId2"/>
          <a:stretch/>
        </p:blipFill>
        <p:spPr>
          <a:xfrm>
            <a:off x="1643040" y="4071960"/>
            <a:ext cx="1789200" cy="18273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Admin\Local Settings\Temporary Internet Files\Content.IE5\0K7B91OP\MCj03981430000[1].wmf"/>
          <p:cNvPicPr/>
          <p:nvPr/>
        </p:nvPicPr>
        <p:blipFill>
          <a:blip r:embed="rId2"/>
          <a:stretch/>
        </p:blipFill>
        <p:spPr>
          <a:xfrm>
            <a:off x="3000240" y="2286000"/>
            <a:ext cx="2500560" cy="271476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3" name="Содержимое 3" descr="ill12.jpg"/>
          <p:cNvPicPr/>
          <p:nvPr/>
        </p:nvPicPr>
        <p:blipFill>
          <a:blip r:embed="rId1"/>
          <a:stretch/>
        </p:blipFill>
        <p:spPr>
          <a:xfrm>
            <a:off x="0" y="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4" descr="ill09.jpg"/>
          <p:cNvPicPr/>
          <p:nvPr/>
        </p:nvPicPr>
        <p:blipFill>
          <a:blip r:embed="rId2"/>
          <a:stretch/>
        </p:blipFill>
        <p:spPr>
          <a:xfrm>
            <a:off x="3357720" y="0"/>
            <a:ext cx="2761920" cy="457200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5" descr="ill13.jpg"/>
          <p:cNvPicPr/>
          <p:nvPr/>
        </p:nvPicPr>
        <p:blipFill>
          <a:blip r:embed="rId3"/>
          <a:stretch/>
        </p:blipFill>
        <p:spPr>
          <a:xfrm>
            <a:off x="6062760" y="0"/>
            <a:ext cx="3081240" cy="411480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7" descr="ill04.jpg"/>
          <p:cNvPicPr/>
          <p:nvPr/>
        </p:nvPicPr>
        <p:blipFill>
          <a:blip r:embed="rId4"/>
          <a:stretch/>
        </p:blipFill>
        <p:spPr>
          <a:xfrm>
            <a:off x="1712880" y="3998880"/>
            <a:ext cx="4827600" cy="2719440"/>
          </a:xfrm>
          <a:prstGeom prst="rect">
            <a:avLst/>
          </a:prstGeom>
          <a:ln w="0">
            <a:noFill/>
          </a:ln>
        </p:spPr>
      </p:pic>
      <p:pic>
        <p:nvPicPr>
          <p:cNvPr id="427" name="61._Act_3._Aurore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" dur="123689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30" name="Содержимое 3" descr="50s.jpg"/>
          <p:cNvPicPr/>
          <p:nvPr/>
        </p:nvPicPr>
        <p:blipFill>
          <a:blip r:embed="rId2"/>
          <a:stretch/>
        </p:blipFill>
        <p:spPr>
          <a:xfrm>
            <a:off x="4000680" y="2000160"/>
            <a:ext cx="1857240" cy="26481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4" descr="BNRI5CAYAQ6PCCAPKPAA6CA7C5USWCA5RB0N2CAOLN5NYCAR267AWCAS5VFZDCAGV312CCAXYKSRCCA5UL726CA7XZPH5CA4TJ2GKCA0Y4UIKCAYPA16JCAMVH6L7CAKCPOWWCAWCHGEVCA14LRSICAVLKDFS.jpg"/>
          <p:cNvPicPr/>
          <p:nvPr/>
        </p:nvPicPr>
        <p:blipFill>
          <a:blip r:embed="rId3"/>
          <a:stretch/>
        </p:blipFill>
        <p:spPr>
          <a:xfrm>
            <a:off x="785880" y="1143000"/>
            <a:ext cx="1577880" cy="200016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5" descr="YQZDYCAN419L0CAVYC2E5CAD0POT9CA0ERCRBCAADOASLCAR2HCIQCALJ552MCA55C1KZCALGTE6ACAI04RRVCA2LG696CA58J4SWCAQD7A44CA3C5QG7CAKTB795CAP1VQ8HCAJNHCIKCA01UAHYCA1MTHGY.jpg"/>
          <p:cNvPicPr/>
          <p:nvPr/>
        </p:nvPicPr>
        <p:blipFill>
          <a:blip r:embed="rId4"/>
          <a:stretch/>
        </p:blipFill>
        <p:spPr>
          <a:xfrm>
            <a:off x="6572160" y="1357200"/>
            <a:ext cx="2000520" cy="264348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6" descr="HCWQCCA5G9MFOCA953K5PCAE0892DCALCNYZUCAQCYYZ9CACIC7OQCALBAM5ZCAMFE3NNCAB3NID7CAZ0ENYMCAXC6ZVVCAQCQJ9LCAV8RUFNCAOHIRTFCA1SJFZDCA8PXPWFCA80UGURCAN6HZ7YCAYZKYV5.jpg"/>
          <p:cNvPicPr/>
          <p:nvPr/>
        </p:nvPicPr>
        <p:blipFill>
          <a:blip r:embed="rId5"/>
          <a:stretch/>
        </p:blipFill>
        <p:spPr>
          <a:xfrm>
            <a:off x="785880" y="3643200"/>
            <a:ext cx="2149560" cy="221796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pic>
        <p:nvPicPr>
          <p:cNvPr id="436" name="Содержимое 7" descr="0123-065.jpg"/>
          <p:cNvPicPr/>
          <p:nvPr/>
        </p:nvPicPr>
        <p:blipFill>
          <a:blip r:embed="rId2"/>
          <a:stretch/>
        </p:blipFill>
        <p:spPr>
          <a:xfrm>
            <a:off x="2898720" y="1554120"/>
            <a:ext cx="3498840" cy="452592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оответствует ли название сказки «Аленький цветочек» её содержанию? Почему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у этой сказки такой подзаголовок – «Сказка ключницы Пелагеи»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колько дочерей было у купц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уда собирался уезжать купец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 чём он спрашивал своих дочерей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е подарки заказали ему дочер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 купец нашёл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случилось, когда он сорвал цвето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чудище поверило купцу и отпустило его домой проститься с дочерьм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м вы себе представляете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произошло дальше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м заканчивается сказк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9:53:01Z</dcterms:created>
  <dc:creator>КомпМастер</dc:creator>
  <dc:description/>
  <dc:language>en-US</dc:language>
  <cp:lastModifiedBy>LEGION</cp:lastModifiedBy>
  <dcterms:modified xsi:type="dcterms:W3CDTF">2015-01-20T11:49:15Z</dcterms:modified>
  <cp:revision>31</cp:revision>
  <dc:subject/>
  <dc:title>Сергей Тимофеевич Аксаков</dc:title>
</cp:coreProperties>
</file>