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jpeg" ContentType="image/jpeg"/>
  <Override PartName="/ppt/media/image18.png" ContentType="image/png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5.gif" ContentType="image/gif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9B11-FD99-44CB-8968-8592F86A48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ргей Тимофеевич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«Аленький цветоче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AF48-FC0A-4955-817F-1C147B6E49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ADE2-6CCE-42A7-B472-4041C733B8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ка сюжетных ли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Аленький цвето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Щелкун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главной героини к гер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любовью главные героини снимают закл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ни за внешним уродством смогли рассмотреть щедрость и доброту души чуди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ст красивого и ужас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0DE5-01D1-4C5C-A207-623C429ED0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лина Народных сказ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явно чувствуется народное происхож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казок больше напоминает народну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8158-F7ED-4593-9822-A9022A6143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шебный ост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A478-8E5F-4D6D-96B8-88199E9DBC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похожи все волшебные сказ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народных сказках ярко выражен контраст между волшебным миром и земным мир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композиция вам кажется более замысловат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характеры героев представляются вам более слож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19A5-3649-447D-9119-4F54B53F89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14BC-7956-4253-9049-4B836BBCFA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тому уро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книгу новую проч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рошей, доброй, мудрой ска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аром время пров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FEE6-BFD5-4693-9331-31970DDDC4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зка ложь, да в неё намё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ым молодцам у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456D-B3A4-4FAB-9A92-870E97EBB5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емся в 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439C-7D3E-4563-B5B3-C1BADE527A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 «Авторск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09EA-6193-4915-B23C-BBF802F4FD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аков Сергей тимофеевич (1791-18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4A9E-376D-475F-BCCA-64BB229DB7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F7BC-433C-4521-8EED-70DBA29CA5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«Внимательных чита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ли название сказки «Аленький цветочек» её содержанию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 этой сказки такой подзаголовок – «Сказка ключницы Пелаге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дочерей было у куп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собирался уезжать купе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ём он спрашивал своих дочер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одарки заказали ему доч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упец нашёл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училось, когда он сорвал цв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чудище поверило купцу и отпустило его домой проститься с дочерь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вы себе представляете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зошл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заканчивается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FFD-7D65-456C-B222-918EA45F7D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625-953F-4229-8EBC-5269AAC0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8D8-D26B-4112-B4B3-A15739FE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AD902-FC3B-4159-B14E-698A5431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8A783-9E6E-4766-9FEB-67BF718C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904EA-2B68-46AE-9C64-5B0912F6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BFAB4-802E-4509-8D79-41B56331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60866-5D00-4266-8B7B-FC022EAB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B55C6-F04A-49D7-9D58-229E3750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BAAEC-C35E-488D-9672-D12E8443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2A2AF-D95A-40C4-B604-40273551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31A0D-1B56-4097-9852-564EA214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985-FE95-4F99-B975-475102FE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EA1-7D5E-4334-9F96-D8865AEB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2E37-C5D0-4948-B9A3-050D91E7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5384-10D2-425B-95E1-9A03A53B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CFD2-C70B-40CC-B06B-5FD06DE7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774D-E674-4B5A-A1A1-D4B388D3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2F2A-92C5-4A56-AC10-38EDB7EE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A5CA-B210-4EE6-83D0-392B8E5D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0670-B70D-439A-9DDB-3290096C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EC4-DC73-4AD0-85EB-CAACAD8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ED4F-59CF-4426-BFDD-1C8E73FD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F630-4746-4E25-9322-B0F0909D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B763-0E28-4A7F-A96D-C9462C41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295F-4AEC-4B1D-89E5-C56F6B97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8BFB-413A-45AB-B306-E586D498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9FFA-C42E-4E0E-B57F-A72A62DE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E105-7F8B-41E6-A4A5-D46B01D0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5A16-2E4C-419A-B909-D3429E66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28083-53F6-4DD8-9DBC-629D06AB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5BA2-A269-4D8A-A066-65491287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29B-B70C-4D45-8E9B-27E03453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E8F4-D204-468A-9B30-966F3014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747E-187B-41D2-AF9E-4BA5E1CF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1DE8C-131C-4BB1-A1E2-67C3CBE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7868-65F7-4F56-9DED-D71E5056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0099-AE44-4054-B86B-81A5C68C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20BD-E98B-4188-A511-4C41681E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130A-AD3A-4127-A74C-8E27C0A9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305D7-20C4-4EE1-8098-DC3AC2D5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6DD4-864C-45EF-B83A-7A90C677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A759A-2C4D-49B4-B73A-3E73B59C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108-A05E-461D-880A-261FAB2B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0061-A05D-47B5-90B5-17BF0485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847BB-58ED-44E4-A67D-8EB83E09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83BDF-5AE8-43FF-B342-E605EB79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D6ECE-4C14-4E56-AA9E-D47BD5A5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3C2DD-3B9D-4FCB-928C-7E9B992C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0784-5B6A-45B1-BE04-EDCF10A2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9C09-F23A-4279-9BF6-E1E3E5C8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38E8-FF03-40AC-9DCA-590368C6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A334-C082-4392-A1EA-6986121D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24B5C-0FF0-4ADB-930B-BC559770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743-FAE0-4356-9D99-10751DA2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9EBC6-7843-41D0-B2AC-8A36848D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D3DA1-5BFF-436F-A5A8-E4B0353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FF2E9-A7AE-4423-B9F0-69DA0D5E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07191-EAF1-4E87-A79F-A09D16CA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EE4EB-F548-46B0-8FAC-01CF7C40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1C1E3-5AF4-49FA-A9D5-081E4ED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90C65-3146-41B2-ADB4-13B339EE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E9BD5-04C6-4349-BC14-808793D4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03545-2C18-43FD-9C0E-BA806FD6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73F99-498D-4C8E-B874-35023F40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5E7-AF66-4455-8EFA-8148C75E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7F45-6954-4CFC-8029-C9A8CB6C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C0F46-4A91-44CB-BA97-7E6696FB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C11F3-2B69-40FD-89C0-49D7A1FB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3F91E-A9C8-45AF-9410-919F0F4F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EB5A9-2920-4904-819B-DAE159FD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B3D8A-46A1-493C-AAAD-560F3A81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DCD60-2C7C-4235-AFDF-61F73C0A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FDACE-DB58-4846-B732-6A060512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B79AF-BF38-4482-95B1-0EE4A346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95157-274C-4323-BD5C-258A4698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51D-CABA-45FE-9DDA-00B921DC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39375-B884-41D4-8C9E-A943FD1D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B50D-D01D-4F8F-981F-2BB28BB3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A0514-F426-41C9-8E7A-7CE47730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9B893-F7ED-47D8-80C0-BCFC39BE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D12DA-5CD5-45C8-9391-D8D6436C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637C9-BEA0-4FBC-B51A-FFD8A0A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D22B1-D87F-415F-95A0-E204E656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A872-71F1-4547-99CF-9BE8A3F7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997C7-2F6F-4F10-85A5-9DBC80A5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91737-9855-4B4A-9DD9-3DA08502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C4D-4FB1-4377-AD6A-31542AC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FC700-9EAA-4A29-BC4C-68100A5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7A597-E7D0-4C70-959E-A4DBD00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E49A8-5ABE-4BF4-87EB-AC3CDDC5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03181-FCAC-485B-BEBB-76E85087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3C3E9-88CA-413B-8B45-C24B1A4C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618D7-FC2E-41BD-A85A-469FE53D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41BEE-218A-42FB-856F-C4CA4CA9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82C49-4237-4734-9910-1390F6F5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0EA40-8BBF-4B89-87DF-66DDB36A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49DCB-C9B4-4EB7-8F2A-1B9F2AB1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AAF-C2CA-4D8B-A054-C9E1EAA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38C44-341A-43F0-BC41-601B3DA6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BFC41-E776-4C73-AD86-233CA02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1FF6F-5844-4BA8-92BA-B5975E5A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A4DA7-9129-4388-8056-71AF2DD6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66FE-A3E4-4A54-B450-7B04132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FDA40-4348-40C2-AF38-624F9787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C6922-D1B1-49E2-B8AD-368D4979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6FCA1-CA6B-46C0-8BA0-C1D3437A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D6D12-5C93-4C00-914B-22FD9338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A1534-0D78-4BAC-B901-76F790C5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F12D-F338-4438-A844-9D09A933434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FB08-9E70-4DF0-80D3-5A7A7883766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DACA-C4D2-456F-8A56-63344BEFC77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044A-3C95-4DEF-92CF-6C35134C9B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1394-7E9F-4443-8428-1292D0C52AA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3FBC-BB24-4CD8-A4E4-8705D6FD4B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CFD8-1850-4A67-B73D-AC6031E8FD7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2C8A-E8B3-44EB-A49D-9E7B6084343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C669-59B4-4206-9226-F79DF6BD6EC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C51D-E117-4E1F-976C-B48CA575AC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B062-CA27-42C2-A29D-5C1FED73BA3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14B4-CE73-4260-828D-2D4324D8DD9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091C-9AC1-4A88-868D-708F1498694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A636-59C0-41DC-A84B-EF9355BC7C5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4E20-A1E4-4DD0-AD1B-E17740DD6AC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5F4E-8ABD-4D9E-867D-26C01B0EC6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8795-CAC9-4D6B-9376-BC059BD46F6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0D91-F3BE-45A3-9B64-89C6CADCB8B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o.mail.ru/frame.html?&amp;imgurl=http://img1.liveinternet.ru/images/attach/c/0/34/373/34373967_vraschayusch_roza_anime.gif&amp;pageurl=http://glausq.ru/41.php&amp;id=83047487&amp;iid=3&amp;imgwidth=400&amp;imgheight=300&amp;imgsize=974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0" y="4668840"/>
            <a:ext cx="8839080" cy="2560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«Аленький цветочек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3-tub.mail.ru/i?id=830474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5040" y="714240"/>
            <a:ext cx="219060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62080" y="639720"/>
            <a:ext cx="8881920" cy="1000080"/>
          </a:xfrm>
          <a:prstGeom prst="rect">
            <a:avLst/>
          </a:prstGeom>
          <a:ln w="0">
            <a:noFill/>
          </a:ln>
        </p:spPr>
      </p:pic>
      <p:pic>
        <p:nvPicPr>
          <p:cNvPr id="445" name="MSSN132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Admin\Local Settings\Temporary Internet Files\Content.IE5\19W7V82E\MCj04298030000[1].wmf"/>
          <p:cNvPicPr/>
          <p:nvPr/>
        </p:nvPicPr>
        <p:blipFill>
          <a:blip r:embed="rId3"/>
          <a:stretch/>
        </p:blipFill>
        <p:spPr>
          <a:xfrm>
            <a:off x="1500120" y="2000160"/>
            <a:ext cx="3643560" cy="400068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7" descr=""/>
          <p:cNvPicPr/>
          <p:nvPr/>
        </p:nvPicPr>
        <p:blipFill>
          <a:blip r:embed="rId4"/>
          <a:stretch/>
        </p:blipFill>
        <p:spPr>
          <a:xfrm>
            <a:off x="208080" y="2786040"/>
            <a:ext cx="9661320" cy="1541520"/>
          </a:xfrm>
          <a:prstGeom prst="rect">
            <a:avLst/>
          </a:prstGeom>
          <a:ln w="0">
            <a:noFill/>
          </a:ln>
        </p:spPr>
      </p:pic>
      <p:pic>
        <p:nvPicPr>
          <p:cNvPr id="448" name="j0211321.wav" descr=""/>
          <p:cNvPicPr/>
          <p:nvPr/>
        </p:nvPicPr>
        <p:blipFill>
          <a:blip r:embed="rId5"/>
          <a:stretch/>
        </p:blipFill>
        <p:spPr>
          <a:xfrm>
            <a:off x="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5649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Аленький цветоче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Щелкунч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Любовь главной героини к герою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воей любовью главные героини снимают заклят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ероини за внешним уродством смогли рассмотреть щедрость и доброту души чудищ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нтраст красивого и ужасного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й сказке явно чувствуется народное происхожден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ая из сказок больше напоминает народну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4" descr="43ZJ3CAWDNY0BCAS0YUVRCA4YGWV4CA67E15CCA21C0CQCAKWG4CHCAEUXXJJCA804UEKCAH9Z5LVCAHS04SXCA9DT21YCA1P4QE8CA57L6LZCASX1KKTCAW7HO5QCA6M5ESZCAV3CIE3CA1ZKHRCCA1HT9EZ.jpg"/>
          <p:cNvPicPr/>
          <p:nvPr/>
        </p:nvPicPr>
        <p:blipFill>
          <a:blip r:embed="rId2"/>
          <a:stretch/>
        </p:blipFill>
        <p:spPr>
          <a:xfrm>
            <a:off x="1365120" y="1725480"/>
            <a:ext cx="3340080" cy="3407040"/>
          </a:xfrm>
          <a:prstGeom prst="rect">
            <a:avLst/>
          </a:prstGeom>
          <a:ln w="0">
            <a:noFill/>
          </a:ln>
        </p:spPr>
      </p:pic>
      <p:pic>
        <p:nvPicPr>
          <p:cNvPr id="458" name="Содержимое 6" descr="HM69HCAA6RBQCCAMB6S14CAJ3M4GACA299LJ1CAJYOGT9CA92OKQ8CATJ4IX1CA72TXH8CA6RWZKDCA2H0YAXCAQWVVOECAVYZEL4CAM7DBQMCAYU0UJWCAOH1QQTCAS0FZX5CAKCB2SACA046Q5ECAEUT19S.jpg"/>
          <p:cNvPicPr/>
          <p:nvPr/>
        </p:nvPicPr>
        <p:blipFill>
          <a:blip r:embed="rId3"/>
          <a:stretch/>
        </p:blipFill>
        <p:spPr>
          <a:xfrm>
            <a:off x="7070760" y="1500120"/>
            <a:ext cx="1255680" cy="1273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м похожи все волшебные сказк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 в народных сказках ярко выражен контраст между волшебным миром и земным миром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сказке композиция вам кажется более замысловато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характеры героев представляются вам более сложным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42696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7" name="Picture 2" descr="C:\Documents and Settings\Admin\Рабочий стол\j0236359.gif"/>
          <p:cNvPicPr/>
          <p:nvPr/>
        </p:nvPicPr>
        <p:blipFill>
          <a:blip r:embed="rId1"/>
          <a:stretch/>
        </p:blipFill>
        <p:spPr>
          <a:xfrm>
            <a:off x="3071880" y="2857680"/>
            <a:ext cx="2714400" cy="2071440"/>
          </a:xfrm>
          <a:prstGeom prst="rect">
            <a:avLst/>
          </a:prstGeom>
          <a:ln w="0">
            <a:noFill/>
          </a:ln>
        </p:spPr>
      </p:pic>
      <p:pic>
        <p:nvPicPr>
          <p:cNvPr id="468" name="j02113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товясь к этому уро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книгу новую проч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хорошей, доброй, мудрой сказ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даром время пров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7" descr="C:\Documents and Settings\Admin\Local Settings\Temporary Internet Files\Content.IE5\T9QFS9SQ\MCj04404240000[1].wmf"/>
          <p:cNvPicPr/>
          <p:nvPr/>
        </p:nvPicPr>
        <p:blipFill>
          <a:blip r:embed="rId1"/>
          <a:stretch/>
        </p:blipFill>
        <p:spPr>
          <a:xfrm>
            <a:off x="714240" y="4286160"/>
            <a:ext cx="1827360" cy="150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:\Documents and Settings\Admin\Local Settings\Temporary Internet Files\Content.IE5\19W7V82E\MCj04379900000[1].wmf"/>
          <p:cNvPicPr/>
          <p:nvPr/>
        </p:nvPicPr>
        <p:blipFill>
          <a:blip r:embed="rId2"/>
          <a:stretch/>
        </p:blipFill>
        <p:spPr>
          <a:xfrm>
            <a:off x="5857920" y="4000680"/>
            <a:ext cx="1816200" cy="1730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казка ложь, да в неё намёк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Добрым молодцам урок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.С. Пушк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5" descr="C:\Documents and Settings\Admin\Local Settings\Temporary Internet Files\Content.IE5\02068134\MCj04334800000[1].wmf"/>
          <p:cNvPicPr/>
          <p:nvPr/>
        </p:nvPicPr>
        <p:blipFill>
          <a:blip r:embed="rId2"/>
          <a:stretch/>
        </p:blipFill>
        <p:spPr>
          <a:xfrm>
            <a:off x="1643040" y="4071960"/>
            <a:ext cx="1789200" cy="18273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Admin\Local Settings\Temporary Internet Files\Content.IE5\0K7B91OP\MCj03981430000[1].wmf"/>
          <p:cNvPicPr/>
          <p:nvPr/>
        </p:nvPicPr>
        <p:blipFill>
          <a:blip r:embed="rId2"/>
          <a:stretch/>
        </p:blipFill>
        <p:spPr>
          <a:xfrm>
            <a:off x="3000240" y="2286000"/>
            <a:ext cx="25005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Содержимое 3" descr="ill12.jpg"/>
          <p:cNvPicPr/>
          <p:nvPr/>
        </p:nvPicPr>
        <p:blipFill>
          <a:blip r:embed="rId1"/>
          <a:stretch/>
        </p:blipFill>
        <p:spPr>
          <a:xfrm>
            <a:off x="0" y="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ill09.jpg"/>
          <p:cNvPicPr/>
          <p:nvPr/>
        </p:nvPicPr>
        <p:blipFill>
          <a:blip r:embed="rId2"/>
          <a:stretch/>
        </p:blipFill>
        <p:spPr>
          <a:xfrm>
            <a:off x="3357720" y="0"/>
            <a:ext cx="2761920" cy="45720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5" descr="ill13.jpg"/>
          <p:cNvPicPr/>
          <p:nvPr/>
        </p:nvPicPr>
        <p:blipFill>
          <a:blip r:embed="rId3"/>
          <a:stretch/>
        </p:blipFill>
        <p:spPr>
          <a:xfrm>
            <a:off x="6062760" y="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7" descr="ill04.jpg"/>
          <p:cNvPicPr/>
          <p:nvPr/>
        </p:nvPicPr>
        <p:blipFill>
          <a:blip r:embed="rId4"/>
          <a:stretch/>
        </p:blipFill>
        <p:spPr>
          <a:xfrm>
            <a:off x="1712880" y="3998880"/>
            <a:ext cx="4827600" cy="2719440"/>
          </a:xfrm>
          <a:prstGeom prst="rect">
            <a:avLst/>
          </a:prstGeom>
          <a:ln w="0">
            <a:noFill/>
          </a:ln>
        </p:spPr>
      </p:pic>
      <p:pic>
        <p:nvPicPr>
          <p:cNvPr id="427" name="61._Act_3._Aurore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23689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50s.jpg"/>
          <p:cNvPicPr/>
          <p:nvPr/>
        </p:nvPicPr>
        <p:blipFill>
          <a:blip r:embed="rId2"/>
          <a:stretch/>
        </p:blipFill>
        <p:spPr>
          <a:xfrm>
            <a:off x="4000680" y="2000160"/>
            <a:ext cx="1857240" cy="26481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BNRI5CAYAQ6PCCAPKPAA6CA7C5USWCA5RB0N2CAOLN5NYCAR267AWCAS5VFZDCAGV312CCAXYKSRCCA5UL726CA7XZPH5CA4TJ2GKCA0Y4UIKCAYPA16JCAMVH6L7CAKCPOWWCAWCHGEVCA14LRSICAVLKDFS.jpg"/>
          <p:cNvPicPr/>
          <p:nvPr/>
        </p:nvPicPr>
        <p:blipFill>
          <a:blip r:embed="rId3"/>
          <a:stretch/>
        </p:blipFill>
        <p:spPr>
          <a:xfrm>
            <a:off x="785880" y="1143000"/>
            <a:ext cx="1577880" cy="20001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5" descr="YQZDYCAN419L0CAVYC2E5CAD0POT9CA0ERCRBCAADOASLCAR2HCIQCALJ552MCA55C1KZCALGTE6ACAI04RRVCA2LG696CA58J4SWCAQD7A44CA3C5QG7CAKTB795CAP1VQ8HCAJNHCIKCA01UAHYCA1MTHGY.jpg"/>
          <p:cNvPicPr/>
          <p:nvPr/>
        </p:nvPicPr>
        <p:blipFill>
          <a:blip r:embed="rId4"/>
          <a:stretch/>
        </p:blipFill>
        <p:spPr>
          <a:xfrm>
            <a:off x="6572160" y="1357200"/>
            <a:ext cx="2000520" cy="2643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6" descr="HCWQCCA5G9MFOCA953K5PCAE0892DCALCNYZUCAQCYYZ9CACIC7OQCALBAM5ZCAMFE3NNCAB3NID7CAZ0ENYMCAXC6ZVVCAQCQJ9LCAV8RUFNCAOHIRTFCA1SJFZDCA8PXPWFCA80UGURCAN6HZ7YCAYZKYV5.jpg"/>
          <p:cNvPicPr/>
          <p:nvPr/>
        </p:nvPicPr>
        <p:blipFill>
          <a:blip r:embed="rId5"/>
          <a:stretch/>
        </p:blipFill>
        <p:spPr>
          <a:xfrm>
            <a:off x="785880" y="3643200"/>
            <a:ext cx="2149560" cy="221796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7" descr="0123-065.jpg"/>
          <p:cNvPicPr/>
          <p:nvPr/>
        </p:nvPicPr>
        <p:blipFill>
          <a:blip r:embed="rId2"/>
          <a:stretch/>
        </p:blipFill>
        <p:spPr>
          <a:xfrm>
            <a:off x="2898720" y="1554120"/>
            <a:ext cx="3498840" cy="452592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ответствует ли название сказки «Аленький цветочек» её содержанию? Почему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у этой сказки такой подзаголовок – «Сказка ключницы Пелагеи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олько дочерей было у купц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уда собирался уезжать купец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 чём он спрашивал своих дочер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е подарки заказали ему дочер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 купец нашёл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случилось, когда он сорвал цвето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чудище поверило купцу и отпустило его домой проститься с дочерьм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м вы себе представляете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произошло дальш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м заканчивается сказк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53:01Z</dcterms:created>
  <dc:creator>КомпМастер</dc:creator>
  <dc:description/>
  <dc:language>en-US</dc:language>
  <cp:lastModifiedBy>LEGION</cp:lastModifiedBy>
  <dcterms:modified xsi:type="dcterms:W3CDTF">2015-01-20T11:49:15Z</dcterms:modified>
  <cp:revision>31</cp:revision>
  <dc:subject/>
  <dc:title>Сергей Тимофеевич Аксаков</dc:title>
</cp:coreProperties>
</file>