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wmf" ContentType="image/x-wmf"/>
  <Override PartName="/ppt/media/image24.jpeg" ContentType="image/jpeg"/>
  <Override PartName="/ppt/media/image18.png" ContentType="image/png"/>
  <Override PartName="/ppt/media/image6.jpeg" ContentType="image/jpeg"/>
  <Override PartName="/ppt/media/image8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5.png" ContentType="image/png"/>
  <Override PartName="/ppt/media/image31.png" ContentType="image/png"/>
  <Override PartName="/ppt/media/image34.png" ContentType="image/png"/>
  <Override PartName="/ppt/media/image22.jpeg" ContentType="image/jpeg"/>
  <Override PartName="/ppt/media/image9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35.gif" ContentType="image/gif"/>
  <Override PartName="/ppt/media/image15.jpeg" ContentType="image/jpe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9A74-DE66-405A-8118-8E1847F456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ергей Тимофеевич Акс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«Аленький цветочек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1146-827B-4807-B0A5-101B62EFA0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BF2D-332C-4B89-A2AB-0910C12A10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ка сюжетных ли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Аленький цветоч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Щелкун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главной героини к геро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любовью главные героини снимают закл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ни за внешним уродством смогли рассмотреть щедрость и доброту души чуди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аст красивого и ужас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72FA-8FD1-4585-9156-A06BF91707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лина Народных сказ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явно чувствуется народное происхож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те первые строчки сказок «Аленький цветочек» и «Щелкунчик и Мышиный Король». Сравни язык, которым написаны ска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из сказок больше напоминает народну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769D-5327-46AA-AFBD-0600342162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лшебный остр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0E77-7B9A-4049-A415-3574D83210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похожи все волшебные сказ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из сказок контраст между реальным и волшебным миром ярче: где реальный мир реальнее, а волшебный мир волшебне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народных сказках ярко выражен контраст между волшебным миром и земным мир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композиция вам кажется более замысловат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характеры героев представляются вам более слож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A97C-CF1F-4B11-9690-D93FAAE790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ее сложные характеры героев в авторской сказке, а в народной сказке герои характеризуются сразу и делятся на положительных и отриц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08DD-28FF-4124-8BE1-5F5348ACF1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ясь к этому уро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книгу новую проч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орошей, доброй, мудрой сказ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аром время пров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EE36-4BA5-4597-881E-2BE0A33D7D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зка ложь, да в неё намёк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рым молодцам ур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E91C-B694-45A1-BEA1-22D9BAF81C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равляемся в 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7042-EDF6-4A26-AE4A-A4FA2283F6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о «Авторск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110B-848E-4FDB-A91D-8756DD4E17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аков Сергей тимофеевич (1791-185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D6DB-60A5-412A-83C4-9E8784F6EA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зку «Аленький цветочек» записал известный русский писатель Сергей Тимофеевич Аксаков (1791–1859). Он услышал ее в детстве во время своей болезни. Писатель так рассказывает об этом в повести «Детские годы Багрова-вну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корому выздоровлению моему мешала бессонница… По совету тетушки, позвали один раз ключницу Пелагею, которая была великая мастерица сказывать сказки и которую даже покойный дедушка любил слушать… Пришла Пелагея, немолодая, но еще белая, румяная… села у печки и начала говорить, немного нараспев: „В некиим царстве, в некиим государстве…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ли говорить, что я не заснул до окончания сказки, что, напротив, я не спал долее обыкновен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ругой же день выслушал я в другой раз повесть об „Аленьком цветочке“. С этих пор, до самого моего выздоровления, Пелагея ежедневно рассказывала мне какую-нибудь из своих многочисленных сказок. Более других помню я „Царь-девицу“, „Иванушку-дурачка“, „Жар-птицу“ и „Змея Горыныча“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ие годы жизни, работая над книгой «Детские годы Багрова-внука», Сергей Тимофеевич вспомнил ключницу Пелагею, ее замечательную сказку «Аленький цветочек» и записал ее по памяти. Впервые она была напечатана в 1858 году и с тех пор стала у нас любимой сказ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A6EE-0C52-4F16-83BC-72D1EFD29E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 «Внимательных чита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ует ли название сказки «Аленький цветочек» её содержанию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у этой сказки такой подзаголовок – «Сказка ключницы Пелаге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дочерей было у купц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собирался уезжать купе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ём он спрашивал своих дочер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одарки заказали ему доче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купец нашёл аленький цвет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лучилось, когда он сорвал цв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чудище поверило купцу и отпустило его домой проститься с дочерь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вы себе представляете аленький цвет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зошл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заканчивается сказ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2410-802A-4C6C-89E5-CD826CE530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ACA6-A6DE-4BDD-ACD4-F6095CA7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A713-EBDD-46FB-B983-D91DE7C3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457FA-B993-4303-A3EA-4191A80A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EC55D-483B-4757-A119-ED11F20D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8784A-3FCE-4714-B44E-6C1F0BB2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AE498-A601-4145-818C-071D042C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E0418-A326-4118-97C1-CFD6E720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A7523-C7FE-47AE-92F5-0A1B7867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57B18-3FDB-47FE-8ADE-6CAF28EC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11EC9-4621-4721-81F7-B1872A0B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8E951-1B69-4F0D-B2C5-D49F20E7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9FF9-11E0-4ED0-AF67-1500362A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D31-532F-438C-8399-64E62741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30E7-80D3-427F-8175-EA8899BE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2088-0150-408D-A842-72199570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019A-87E1-4A6D-83E0-7E9490A2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86E6-6809-4279-91FA-D60E4B55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4C58-B454-48E5-A2D1-A74A5307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C334-EA11-427E-ACFC-21C548B9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12B8-7E18-473A-8200-497CDE93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E3D-0B4F-4EE9-BA6E-37E58E90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D8DD-051D-41FC-B5AD-9CABD6F6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E60C-6DA8-4099-B2D6-CEF2FA07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77E0-EA08-4AEC-9D5A-2776DB3D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6F33-B72D-415C-BEC6-D88985FE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5C0E-7E4F-48AB-8960-D5335BD5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46E2B-C42D-42D4-99F5-2FC62533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750DD-F54E-492A-B8A1-498A3E05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0F79F-3E80-4B09-860C-6D0FE6FB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8897E-C6F5-40E8-AC5B-10A4B864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52B1E-F93B-45CA-A087-193F969E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EAD2-F43A-4CA4-8F09-4FD65E6C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DE49C-88CB-465D-B54D-2EDCAFB6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3975F-E582-48E9-A53E-A1322806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20C2C-3E49-4BD1-93BA-32A6BE3F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48334-C838-4AF6-B50E-3863C2D5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2614C-C955-4069-B9C2-C1F97FF1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DB270-4E08-42A4-8A1D-3463B380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2D13E-AECA-4E5F-9CE2-98CD2871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B04CF-15DF-48D4-A5F5-80C86F45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D7382-E4DF-49E8-9E94-B52192B2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C3771-EBD9-4D9B-8C6B-AF8B6433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AEBC-6327-48D7-9106-4C91B76E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A99CA-93C0-4BF6-81ED-A936BD00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593A9-476E-4891-AA6A-CF64E1E7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60F39-6CDD-42E3-9060-0916307E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1EDFA-02D1-43E4-B280-3FB5D0AE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B4451-3AE9-477B-93BA-5F40C960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3882C-233F-45BD-B449-A8E317E0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D4F15-2A85-449F-B6AD-71C0BEA7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EB274-AD24-4359-B4B4-8C99AEFE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D00C1-CC59-4755-9069-45A7E18A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94F67-C1B2-49CD-8903-3E0C1AC1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74E-AEE2-47D8-AA87-AE0E80B0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A9A5D-24CE-4E14-9EFB-AA5485FF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BD755-65CC-433F-8A7A-C142ABAE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BA23A-4CA3-4767-9E5F-7DCC46D4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EE1A2-E749-4BF0-9E70-131C40A3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61F26-D862-4C01-91F7-152BF621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C33C2-A101-462D-A29D-193B0005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BCED4-10B6-45BF-A3A0-4D1528D7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679E6-70A7-4C32-9EAC-3BCF4B0E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CA64A-932D-42AE-A9B7-5449B175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CDE14-4BCC-4022-B770-71069305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B83-D2EA-40AA-8E37-556DADB2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FB845-0480-4402-8B99-65BFDCF8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0A00F-2E5C-4AE4-BF91-3E86B68A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B90A0-960E-46BB-9AA4-80C55B33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B8610-A9A8-49D7-8F7A-EE2B237D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73D1B-7C21-4AC1-8FDF-3751C679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73BFB-1312-46D4-A3FC-9759B1DB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F81D3-A979-41BA-93AD-E1E34FF6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14F58-4A3F-4A41-B184-354B149C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439C2-CDDF-4FD5-98FC-C08698BA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D0A08-0273-40E3-A988-B9B3DCA6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C53-A3D1-4A91-B2D7-94B155D0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7C9CE-629D-477F-9056-2DE97CCB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D3B20-5490-484D-8415-0E7A2421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23CC8-4452-4AEB-8AE3-A1A04FE5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AA66C-82B9-4306-B0AC-75F852A0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DCDB3-D347-4F48-8249-1B8000A2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B57D6-56B2-4AE3-990C-C325238E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0E1B3-4BE0-478E-B0EE-94716974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078BE-6D3F-4CFF-8ED3-42FF9062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36FC9-54B4-4E19-A32B-2826838D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EECE0-5744-4D4A-8CF3-30852FA7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ED4-BB85-4207-89E0-64C96830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0606C-D1F4-4228-9807-C9C6C3E7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63162-C973-4106-9B69-6D2A5434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C0BE3-5577-4B01-BA81-6249D51D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271BD-D600-46BF-AA84-A71024C9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48109-1DE0-4E6E-B9EE-F1096A2D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12732-1FD1-4AFA-8851-126263C0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0DD81-F520-4BE4-810C-104BE50A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98078-6594-4880-820E-007A4DE5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8C3D2-A28B-470E-8189-D0F2E0A9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DB1A7-2820-4788-8BD5-CB7DA7DD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645-5746-4BD1-88F0-6A27ED58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48656-8F6B-4EA5-9B2B-17ED09A4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52A3D-75A3-4523-ABEE-3708EB24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7514E-7933-4689-AC7D-8582C2E7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485BE-C504-469F-BF8E-61F69698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B36C4-7990-4B34-82A8-95E6DD6B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CC2C7-7540-46D0-9996-FBB156AD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2553B-BC22-4042-911F-721FBE6C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A35A7-F715-46A7-AB5E-440CE6D2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EAD00-7CAB-44C9-9298-1B07B54E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AD1E3-D633-475B-8B1B-9E640AAD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D498-881C-4B0F-9207-8B50E4B17B0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1F33-8B43-4114-AD76-88946E57BAC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558F-17D5-4ECD-8811-5722F82D3C4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5548-B856-41B5-8233-9DD856AD68E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DD81-F16D-460F-9E82-FF3889A61BBD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FE14-A250-4D6C-BF28-609ACF54066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ACEA-1A8F-4556-B49E-7F501ECE304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99E4-A2D1-4F13-806D-5942F4253FC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D619-92E6-4B4E-A495-4EA14795C294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5819-E862-4B8E-A186-3DC32F54906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4EE9-5939-4A3D-B668-11E30E5B8976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B4BE-877E-404A-AC4F-13749A00778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EA58-55E1-4F13-AF33-A1D008A4C996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BBB0-2F80-4FF7-8AC8-F776C2AD2FB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FC2E-EDE8-48E4-9DC8-2A87E2C16BA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F958-8E64-4D22-B628-A0C49194FCD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4C29-D4BF-46E3-B4C8-628FF89507A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9788-ACC9-4DD3-8779-CC7A75831E2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go.mail.ru/frame.html?&amp;imgurl=http://img1.liveinternet.ru/images/attach/c/0/34/373/34373967_vraschayusch_roza_anime.gif&amp;pageurl=http://glausq.ru/41.php&amp;id=83047487&amp;iid=3&amp;imgwidth=400&amp;imgheight=300&amp;imgsize=9744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0" y="4668840"/>
            <a:ext cx="8839080" cy="25606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Franklin Gothic Book"/>
              </a:rPr>
              <a:t>«Аленький цветочек»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http://im3-tub.mail.ru/i?id=83047487&amp;tov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15040" y="714240"/>
            <a:ext cx="2190600" cy="228600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262080" y="639720"/>
            <a:ext cx="8881920" cy="1000080"/>
          </a:xfrm>
          <a:prstGeom prst="rect">
            <a:avLst/>
          </a:prstGeom>
          <a:ln w="0">
            <a:noFill/>
          </a:ln>
        </p:spPr>
      </p:pic>
      <p:pic>
        <p:nvPicPr>
          <p:cNvPr id="445" name="MSSN1321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C:\Documents and Settings\Admin\Local Settings\Temporary Internet Files\Content.IE5\19W7V82E\MCj04298030000[1].wmf"/>
          <p:cNvPicPr/>
          <p:nvPr/>
        </p:nvPicPr>
        <p:blipFill>
          <a:blip r:embed="rId3"/>
          <a:stretch/>
        </p:blipFill>
        <p:spPr>
          <a:xfrm>
            <a:off x="1500120" y="2000160"/>
            <a:ext cx="3643560" cy="400068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7" descr=""/>
          <p:cNvPicPr/>
          <p:nvPr/>
        </p:nvPicPr>
        <p:blipFill>
          <a:blip r:embed="rId4"/>
          <a:stretch/>
        </p:blipFill>
        <p:spPr>
          <a:xfrm>
            <a:off x="208080" y="2786040"/>
            <a:ext cx="9661320" cy="1541520"/>
          </a:xfrm>
          <a:prstGeom prst="rect">
            <a:avLst/>
          </a:prstGeom>
          <a:ln w="0">
            <a:noFill/>
          </a:ln>
        </p:spPr>
      </p:pic>
      <p:pic>
        <p:nvPicPr>
          <p:cNvPr id="448" name="j0211321.wav" descr=""/>
          <p:cNvPicPr/>
          <p:nvPr/>
        </p:nvPicPr>
        <p:blipFill>
          <a:blip r:embed="rId5"/>
          <a:stretch/>
        </p:blipFill>
        <p:spPr>
          <a:xfrm>
            <a:off x="0" y="64292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15649" fill="hold"/>
                                        <p:tgtEl>
                                          <p:spTgt spid="4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«Аленький цветочек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«Щелкунчик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Любовь главной героини к герою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воей любовью главные героини снимают заклятие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Героини за внешним уродством смогли рассмотреть щедрость и доброту души чудищ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Контраст красивого и ужасного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кой сказке явно чувствуется народное происхождени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читайте первые строчки сказок «Аленький цветочек» и «Щелкунчик и Мышиный Король». Сравни язык, которым написаны сказ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ая из сказок больше напоминает народную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4" descr="43ZJ3CAWDNY0BCAS0YUVRCA4YGWV4CA67E15CCA21C0CQCAKWG4CHCAEUXXJJCA804UEKCAH9Z5LVCAHS04SXCA9DT21YCA1P4QE8CA57L6LZCASX1KKTCAW7HO5QCA6M5ESZCAV3CIE3CA1ZKHRCCA1HT9EZ.jpg"/>
          <p:cNvPicPr/>
          <p:nvPr/>
        </p:nvPicPr>
        <p:blipFill>
          <a:blip r:embed="rId2"/>
          <a:stretch/>
        </p:blipFill>
        <p:spPr>
          <a:xfrm>
            <a:off x="1365120" y="1725480"/>
            <a:ext cx="3340080" cy="3407040"/>
          </a:xfrm>
          <a:prstGeom prst="rect">
            <a:avLst/>
          </a:prstGeom>
          <a:ln w="0">
            <a:noFill/>
          </a:ln>
        </p:spPr>
      </p:pic>
      <p:pic>
        <p:nvPicPr>
          <p:cNvPr id="458" name="Содержимое 6" descr="HM69HCAA6RBQCCAMB6S14CAJ3M4GACA299LJ1CAJYOGT9CA92OKQ8CATJ4IX1CA72TXH8CA6RWZKDCA2H0YAXCAQWVVOECAVYZEL4CAM7DBQMCAYU0UJWCAOH1QQTCAS0FZX5CAKCB2SACA046Q5ECAEUT19S.jpg"/>
          <p:cNvPicPr/>
          <p:nvPr/>
        </p:nvPicPr>
        <p:blipFill>
          <a:blip r:embed="rId3"/>
          <a:stretch/>
        </p:blipFill>
        <p:spPr>
          <a:xfrm>
            <a:off x="7070760" y="1500120"/>
            <a:ext cx="1255680" cy="1273320"/>
          </a:xfrm>
          <a:prstGeom prst="rect">
            <a:avLst/>
          </a:prstGeom>
          <a:ln w="0">
            <a:noFill/>
          </a:ln>
        </p:spPr>
      </p:pic>
      <p:sp>
        <p:nvSpPr>
          <p:cNvPr id="45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Чем похожи все волшебные сказк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из сказок контраст между реальным и волшебным миром ярче: где реальный мир реальнее, а волшебный мир волшебнее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А в народных сказках ярко выражен контраст между волшебным миром и земным миром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сказке композиция вам кажется более замысловатой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характеры героев представляются вам более сложным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1"/>
          <a:stretch/>
        </p:blipFill>
        <p:spPr>
          <a:xfrm>
            <a:off x="262080" y="426960"/>
            <a:ext cx="8881920" cy="1000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Более сложные характеры героев в авторской сказке, а в народной сказке герои характеризуются сразу и делятся на положительных и отрицательны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9" dur="2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67" name="Picture 2" descr="C:\Documents and Settings\Admin\Рабочий стол\j0236359.gif"/>
          <p:cNvPicPr/>
          <p:nvPr/>
        </p:nvPicPr>
        <p:blipFill>
          <a:blip r:embed="rId1"/>
          <a:stretch/>
        </p:blipFill>
        <p:spPr>
          <a:xfrm>
            <a:off x="3071880" y="2857680"/>
            <a:ext cx="2714400" cy="2071440"/>
          </a:xfrm>
          <a:prstGeom prst="rect">
            <a:avLst/>
          </a:prstGeom>
          <a:ln w="0">
            <a:noFill/>
          </a:ln>
        </p:spPr>
      </p:pic>
      <p:pic>
        <p:nvPicPr>
          <p:cNvPr id="468" name="j021136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" dur="4745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товясь к этому уроку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 книгу новую проч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 хорошей, доброй, мудрой сказк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даром время прове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7" descr="C:\Documents and Settings\Admin\Local Settings\Temporary Internet Files\Content.IE5\T9QFS9SQ\MCj04404240000[1].wmf"/>
          <p:cNvPicPr/>
          <p:nvPr/>
        </p:nvPicPr>
        <p:blipFill>
          <a:blip r:embed="rId1"/>
          <a:stretch/>
        </p:blipFill>
        <p:spPr>
          <a:xfrm>
            <a:off x="714240" y="4286160"/>
            <a:ext cx="1827360" cy="1506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C:\Documents and Settings\Admin\Local Settings\Temporary Internet Files\Content.IE5\19W7V82E\MCj04379900000[1].wmf"/>
          <p:cNvPicPr/>
          <p:nvPr/>
        </p:nvPicPr>
        <p:blipFill>
          <a:blip r:embed="rId2"/>
          <a:stretch/>
        </p:blipFill>
        <p:spPr>
          <a:xfrm>
            <a:off x="5857920" y="4000680"/>
            <a:ext cx="1816200" cy="17301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Сказка ложь, да в неё намёк!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Добрым молодцам урок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.С. Пушки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5" descr="C:\Documents and Settings\Admin\Local Settings\Temporary Internet Files\Content.IE5\02068134\MCj04334800000[1].wmf"/>
          <p:cNvPicPr/>
          <p:nvPr/>
        </p:nvPicPr>
        <p:blipFill>
          <a:blip r:embed="rId2"/>
          <a:stretch/>
        </p:blipFill>
        <p:spPr>
          <a:xfrm>
            <a:off x="1643040" y="4071960"/>
            <a:ext cx="1789200" cy="182736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cuments and Settings\Admin\Local Settings\Temporary Internet Files\Content.IE5\0K7B91OP\MCj03981430000[1].wmf"/>
          <p:cNvPicPr/>
          <p:nvPr/>
        </p:nvPicPr>
        <p:blipFill>
          <a:blip r:embed="rId2"/>
          <a:stretch/>
        </p:blipFill>
        <p:spPr>
          <a:xfrm>
            <a:off x="3000240" y="2286000"/>
            <a:ext cx="2500560" cy="271476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3" name="Содержимое 3" descr="ill12.jpg"/>
          <p:cNvPicPr/>
          <p:nvPr/>
        </p:nvPicPr>
        <p:blipFill>
          <a:blip r:embed="rId1"/>
          <a:stretch/>
        </p:blipFill>
        <p:spPr>
          <a:xfrm>
            <a:off x="0" y="0"/>
            <a:ext cx="3200400" cy="411480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4" descr="ill09.jpg"/>
          <p:cNvPicPr/>
          <p:nvPr/>
        </p:nvPicPr>
        <p:blipFill>
          <a:blip r:embed="rId2"/>
          <a:stretch/>
        </p:blipFill>
        <p:spPr>
          <a:xfrm>
            <a:off x="3357720" y="0"/>
            <a:ext cx="2761920" cy="4572000"/>
          </a:xfrm>
          <a:prstGeom prst="rect">
            <a:avLst/>
          </a:prstGeom>
          <a:ln w="0">
            <a:noFill/>
          </a:ln>
        </p:spPr>
      </p:pic>
      <p:pic>
        <p:nvPicPr>
          <p:cNvPr id="425" name="Содержимое 5" descr="ill13.jpg"/>
          <p:cNvPicPr/>
          <p:nvPr/>
        </p:nvPicPr>
        <p:blipFill>
          <a:blip r:embed="rId3"/>
          <a:stretch/>
        </p:blipFill>
        <p:spPr>
          <a:xfrm>
            <a:off x="6062760" y="0"/>
            <a:ext cx="3081240" cy="4114800"/>
          </a:xfrm>
          <a:prstGeom prst="rect">
            <a:avLst/>
          </a:prstGeom>
          <a:ln w="0">
            <a:noFill/>
          </a:ln>
        </p:spPr>
      </p:pic>
      <p:pic>
        <p:nvPicPr>
          <p:cNvPr id="426" name="Содержимое 7" descr="ill04.jpg"/>
          <p:cNvPicPr/>
          <p:nvPr/>
        </p:nvPicPr>
        <p:blipFill>
          <a:blip r:embed="rId4"/>
          <a:stretch/>
        </p:blipFill>
        <p:spPr>
          <a:xfrm>
            <a:off x="1712880" y="3998880"/>
            <a:ext cx="4827600" cy="2719440"/>
          </a:xfrm>
          <a:prstGeom prst="rect">
            <a:avLst/>
          </a:prstGeom>
          <a:ln w="0">
            <a:noFill/>
          </a:ln>
        </p:spPr>
      </p:pic>
      <p:pic>
        <p:nvPicPr>
          <p:cNvPr id="427" name="61._Act_3._Aurore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23689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430" name="Содержимое 3" descr="50s.jpg"/>
          <p:cNvPicPr/>
          <p:nvPr/>
        </p:nvPicPr>
        <p:blipFill>
          <a:blip r:embed="rId2"/>
          <a:stretch/>
        </p:blipFill>
        <p:spPr>
          <a:xfrm>
            <a:off x="4000680" y="2000160"/>
            <a:ext cx="1857240" cy="264816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4" descr="BNRI5CAYAQ6PCCAPKPAA6CA7C5USWCA5RB0N2CAOLN5NYCAR267AWCAS5VFZDCAGV312CCAXYKSRCCA5UL726CA7XZPH5CA4TJ2GKCA0Y4UIKCAYPA16JCAMVH6L7CAKCPOWWCAWCHGEVCA14LRSICAVLKDFS.jpg"/>
          <p:cNvPicPr/>
          <p:nvPr/>
        </p:nvPicPr>
        <p:blipFill>
          <a:blip r:embed="rId3"/>
          <a:stretch/>
        </p:blipFill>
        <p:spPr>
          <a:xfrm>
            <a:off x="785880" y="1143000"/>
            <a:ext cx="1577880" cy="200016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5" descr="YQZDYCAN419L0CAVYC2E5CAD0POT9CA0ERCRBCAADOASLCAR2HCIQCALJ552MCA55C1KZCALGTE6ACAI04RRVCA2LG696CA58J4SWCAQD7A44CA3C5QG7CAKTB795CAP1VQ8HCAJNHCIKCA01UAHYCA1MTHGY.jpg"/>
          <p:cNvPicPr/>
          <p:nvPr/>
        </p:nvPicPr>
        <p:blipFill>
          <a:blip r:embed="rId4"/>
          <a:stretch/>
        </p:blipFill>
        <p:spPr>
          <a:xfrm>
            <a:off x="6572160" y="1357200"/>
            <a:ext cx="2000520" cy="264348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6" descr="HCWQCCA5G9MFOCA953K5PCAE0892DCALCNYZUCAQCYYZ9CACIC7OQCALBAM5ZCAMFE3NNCAB3NID7CAZ0ENYMCAXC6ZVVCAQCQJ9LCAV8RUFNCAOHIRTFCA1SJFZDCA8PXPWFCA80UGURCAN6HZ7YCAYZKYV5.jpg"/>
          <p:cNvPicPr/>
          <p:nvPr/>
        </p:nvPicPr>
        <p:blipFill>
          <a:blip r:embed="rId5"/>
          <a:stretch/>
        </p:blipFill>
        <p:spPr>
          <a:xfrm>
            <a:off x="785880" y="3643200"/>
            <a:ext cx="2149560" cy="221796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pic>
        <p:nvPicPr>
          <p:cNvPr id="436" name="Содержимое 7" descr="0123-065.jpg"/>
          <p:cNvPicPr/>
          <p:nvPr/>
        </p:nvPicPr>
        <p:blipFill>
          <a:blip r:embed="rId2"/>
          <a:stretch/>
        </p:blipFill>
        <p:spPr>
          <a:xfrm>
            <a:off x="2898720" y="1554120"/>
            <a:ext cx="3498840" cy="452592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Сказку «Аленький цветочек» записал известный русский писатель Сергей Тимофеевич Аксаков (1791–1859). Он услышал ее в детстве во время своей болезни. Писатель так рассказывает об этом в повести «Детские годы Багрова-внука»: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«Скорому выздоровлению моему мешала бессонница… По совету тетушки, позвали один раз ключницу Пелагею, которая была великая мастерица сказывать сказки и которую даже покойный дедушка любил слушать… Пришла Пелагея, немолодая, но еще белая, румяная… села у печки и начала говорить, немного нараспев: „В некиим царстве, в некиим государстве…“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Нужно ли говорить, что я не заснул до окончания сказки, что, напротив, я не спал долее обыкновенного?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На другой же день выслушал я в другой раз повесть об „Аленьком цветочке“. С этих пор, до самого моего выздоровления, Пелагея ежедневно рассказывала мне какую-нибудь из своих многочисленных сказок. Более других помню я „Царь-девицу“, „Иванушку-дурачка“, „Жар-птицу“ и „Змея Горыныча“»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В последние годы жизни, работая над книгой «Детские годы Багрова-внука», Сергей Тимофеевич вспомнил ключницу Пелагею, ее замечательную сказку «Аленький цветочек» и записал ее по памяти. Впервые она была напечатана в 1858 году и с тех пор стала у нас любимой сказкой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оответствует ли название сказки «Аленький цветочек» её содержанию? Почему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чему у этой сказки такой подзаголовок – «Сказка ключницы Пелагеи»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колько дочерей было у купц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уда собирался уезжать купец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 чём он спрашивал своих дочерей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ие подарки заказали ему дочери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 купец нашёл аленький цветоче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то случилось, когда он сорвал цвето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чему чудище поверило купцу и отпустило его домой проститься с дочерьми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им вы себе представляете аленький цветоче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то произошло дальше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м заканчивается сказк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9:53:01Z</dcterms:created>
  <dc:creator>КомпМастер</dc:creator>
  <dc:description/>
  <dc:language>en-US</dc:language>
  <cp:lastModifiedBy>LEGION</cp:lastModifiedBy>
  <dcterms:modified xsi:type="dcterms:W3CDTF">2015-01-20T11:49:15Z</dcterms:modified>
  <cp:revision>31</cp:revision>
  <dc:subject/>
  <dc:title>Сергей Тимофеевич Аксаков</dc:title>
</cp:coreProperties>
</file>