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C2D9-BE06-413B-B1DA-DD31C179BE4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Экономическая культ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Подготовила</a:t>
            </a:r>
            <a:r>
              <a:rPr b="1" lang="en-US" sz="1200" spc="-1" strike="noStrike">
                <a:solidFill>
                  <a:srgbClr val="002060"/>
                </a:solidFill>
                <a:latin typeface="Monotype Corsiva"/>
              </a:rPr>
              <a:t>:</a:t>
            </a: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Коханова Анастас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ученица 10 «А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МОУ «Лицей №18»    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74EE-55A6-4B0A-B1A3-1E63334EE0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76092"/>
                </a:solidFill>
                <a:latin typeface="Calibri"/>
              </a:rPr>
              <a:t>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Экономическая культу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структу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культур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свобода и социальная ответствен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экономической культуры и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9BD6-967F-409B-BF26-4AD8C814ECF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1F28-6005-4CCC-9F32-003A5F17E5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щность и структура эконом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6E9D-F3AE-4B8A-B0F8-27E3DB36D0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менты эконом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C41C-BC79-4785-A3A2-3240B78269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Экономические отношения и интере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ff4fd"/>
                </a:solidFill>
                <a:latin typeface="Calibri"/>
              </a:rPr>
              <a:t>Экономические отношения - </a:t>
            </a:r>
            <a:r>
              <a:rPr b="0" lang="ru-RU" sz="1200" spc="-1" strike="noStrike">
                <a:solidFill>
                  <a:srgbClr val="aff4fd"/>
                </a:solidFill>
                <a:latin typeface="Calibri"/>
              </a:rPr>
              <a:t>отношения между людьми, возникающие по поводу обмена продуктами, результатами труда или оказания услуг, осуществляемые на основе сравнительной оценки их относительной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C162-263F-469E-8CFE-2CD9A659437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кономическая свобода и социальная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65B3-645A-4779-838A-5A3FA6EBE52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cc"/>
                </a:solidFill>
                <a:latin typeface="Calibri"/>
              </a:rPr>
              <a:t>Рыноч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Недостатки</a:t>
            </a:r>
            <a:r>
              <a:rPr b="1" i="1" lang="en-US" sz="1200" spc="-1" strike="noStrike">
                <a:solidFill>
                  <a:srgbClr val="0066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Конкуренция ведет к появлению монопо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стабильность экономики: инфляция, экономический спад,безработ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 равномерное распределение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заинтересованность в охран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Достоинства</a:t>
            </a:r>
            <a:r>
              <a:rPr b="1" i="1" lang="en-US" sz="1200" spc="-1" strike="noStrike">
                <a:solidFill>
                  <a:srgbClr val="0066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ынок быстро реагирует на изменение спроса со стороны потреб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е возможен дефиц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вобода производителей и потреб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Высокие адаптационные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2ED5-67A4-412E-9F6A-646B77EF700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вязь экономической культуры и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369C-D0A2-4863-8AF3-FBD429E4B5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FD5-5E4A-46E1-BCA6-F339E7C0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B0E-D32A-46E5-A820-C8311954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D43-00E7-465B-BB91-91ABD821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095-91FB-4A0B-A744-34DEB702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D6292-E5D4-4B20-A657-59B45620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42D24-E9B5-498A-960E-97888168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63B4F-3F9D-417B-96D4-EABC1F4C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77005-4E5C-4CB5-BCFE-59982EBA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E00C8-5BA5-4D57-B09B-6F11DBA7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D6605-3375-4585-B509-5CD501DD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332ED-1B98-4EC1-B76E-72B973CD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D80-E62A-4D69-8856-249029EA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6F98C-150B-45FF-A31D-43D8C5C9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A397F-8029-4BFD-A088-6581107A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26345-E1B0-436B-8537-618AEAB9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B4DEB-F1CA-4713-A6E7-854E8BC1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B74FF-FF41-4FC9-BFB0-E99CFB23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55A-32A5-49DE-B76C-11CD0667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E20-10C2-4AF0-BA95-B435751B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242-6CB3-4FAD-95EA-7D8817FA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743-A651-4E8A-B059-E6F01B91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BDF-A999-4E60-9047-9270652B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950-A4F7-4125-BD7D-1AF9FDFE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087-0273-4EE3-9612-257F7943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552B-D5DA-4B80-9440-5B5507693E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FF4B-7503-4A5F-AE6E-6804A929C30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0160" y="1071360"/>
            <a:ext cx="51436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Экономическая культур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57520" y="3857400"/>
            <a:ext cx="34002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Подготовила</a:t>
            </a:r>
            <a:r>
              <a:rPr b="1" lang="en-US" sz="2800" spc="-1" strike="noStrike">
                <a:solidFill>
                  <a:srgbClr val="002060"/>
                </a:solidFill>
                <a:latin typeface="Monotype Corsiva"/>
              </a:rPr>
              <a:t>:</a:t>
            </a: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Коханова Анастас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ученица 10 «А»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МОУ «Лицей №18»    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ff"/>
                </a:solidFill>
                <a:latin typeface="Tahoma"/>
              </a:rPr>
              <a:t>Пла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840" y="714240"/>
            <a:ext cx="8929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" action="ppaction://hlinksldjump"/>
              </a:rPr>
              <a:t>Экономическая культур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2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3" action="ppaction://hlinksldjump"/>
              </a:rPr>
              <a:t>Сущность и структур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4" action="ppaction://hlinksldjump"/>
              </a:rPr>
              <a:t> </a:t>
            </a: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5" action="ppaction://hlinksldjump"/>
              </a:rPr>
              <a:t>экономической культуры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6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7" action="ppaction://hlinksldjump"/>
              </a:rPr>
              <a:t>Экономические отношения и интересы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8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9" action="ppaction://hlinksldjump"/>
              </a:rPr>
              <a:t>Экономическая свобода и социальная ответственность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10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1" action="ppaction://hlinksldjump"/>
              </a:rPr>
              <a:t>Рыночная экономик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12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3" action="ppaction://hlinksldjump"/>
              </a:rPr>
              <a:t>Связь экономической культуры и деятель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5"/>
          <p:cNvSpPr/>
          <p:nvPr/>
        </p:nvSpPr>
        <p:spPr>
          <a:xfrm>
            <a:off x="0" y="28584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кономическая культу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214720" y="928800"/>
            <a:ext cx="4286160" cy="6429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кономическа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Овал 6"/>
          <p:cNvSpPr/>
          <p:nvPr/>
        </p:nvSpPr>
        <p:spPr>
          <a:xfrm>
            <a:off x="214200" y="1857240"/>
            <a:ext cx="2928960" cy="9288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c"/>
                </a:solidFill>
                <a:latin typeface="Tahoma"/>
              </a:rPr>
              <a:t>Экономическая культура об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Овал 7"/>
          <p:cNvSpPr/>
          <p:nvPr/>
        </p:nvSpPr>
        <p:spPr>
          <a:xfrm>
            <a:off x="5643720" y="1928880"/>
            <a:ext cx="2928960" cy="9288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c"/>
                </a:solidFill>
                <a:latin typeface="Tahoma"/>
              </a:rPr>
              <a:t>Экономическая культура ли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0" name="Прямая со стрелкой 9"/>
          <p:cNvCxnSpPr>
            <a:stCxn id="97" idx="2"/>
            <a:endCxn id="99" idx="0"/>
          </p:cNvCxnSpPr>
          <p:nvPr/>
        </p:nvCxnSpPr>
        <p:spPr>
          <a:xfrm>
            <a:off x="4357800" y="1571760"/>
            <a:ext cx="2751840" cy="35784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01" name="Прямая со стрелкой 12"/>
          <p:cNvCxnSpPr>
            <a:stCxn id="97" idx="2"/>
            <a:endCxn id="98" idx="0"/>
          </p:cNvCxnSpPr>
          <p:nvPr/>
        </p:nvCxnSpPr>
        <p:spPr>
          <a:xfrm flipH="1">
            <a:off x="1677600" y="1571400"/>
            <a:ext cx="2680560" cy="28620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sp>
        <p:nvSpPr>
          <p:cNvPr id="102" name="Скругленный прямоугольник 15"/>
          <p:cNvSpPr/>
          <p:nvPr/>
        </p:nvSpPr>
        <p:spPr>
          <a:xfrm>
            <a:off x="142920" y="2928960"/>
            <a:ext cx="3143160" cy="3643200"/>
          </a:xfrm>
          <a:custGeom>
            <a:avLst/>
            <a:gdLst>
              <a:gd name="textAreaLeft" fmla="*/ 153360 w 3143160"/>
              <a:gd name="textAreaRight" fmla="*/ 2989800 w 3143160"/>
              <a:gd name="textAreaTop" fmla="*/ 153360 h 3643200"/>
              <a:gd name="textAreaBottom" fmla="*/ 3489840 h 3643200"/>
            </a:gdLst>
            <a:ahLst/>
            <a:rect l="textAreaLeft" t="textAreaTop" r="textAreaRight" b="textAreaBottom"/>
            <a:pathLst>
              <a:path w="21600" h="25036">
                <a:moveTo>
                  <a:pt x="3600" y="0"/>
                </a:moveTo>
                <a:arcTo wR="3600" hR="3600" stAng="16200000" swAng="-5400000"/>
                <a:lnTo>
                  <a:pt x="0" y="21436"/>
                </a:lnTo>
                <a:arcTo wR="3600" hR="3600" stAng="10800000" swAng="-5400000"/>
                <a:lnTo>
                  <a:pt x="18000" y="25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6c8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истема ценностей и мотивов хозяйственной деятельности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Уровень и качество экономических знаний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 оценок и действий человека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одержание традиций и норм, регулирующих экономические отношения и повед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Скругленный прямоугольник 16"/>
          <p:cNvSpPr/>
          <p:nvPr/>
        </p:nvSpPr>
        <p:spPr>
          <a:xfrm>
            <a:off x="5286240" y="3143160"/>
            <a:ext cx="3643560" cy="857520"/>
          </a:xfrm>
          <a:prstGeom prst="roundRect">
            <a:avLst>
              <a:gd name="adj" fmla="val 16667"/>
            </a:avLst>
          </a:prstGeom>
          <a:solidFill>
            <a:srgbClr val="b6c8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ознание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Практическая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деятель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Управляющая кнопка: домой 10">
            <a:hlinkClick r:id="rId1" action="ppaction://hlinksldjump"/>
          </p:cNvPr>
          <p:cNvSpPr/>
          <p:nvPr/>
        </p:nvSpPr>
        <p:spPr>
          <a:xfrm>
            <a:off x="8072280" y="6000840"/>
            <a:ext cx="714600" cy="642960"/>
          </a:xfrm>
          <a:custGeom>
            <a:avLst/>
            <a:gdLst>
              <a:gd name="textAreaLeft" fmla="*/ 41400 w 714600"/>
              <a:gd name="textAreaRight" fmla="*/ 673200 w 7146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4005" h="21600">
                <a:moveTo>
                  <a:pt x="0" y="0"/>
                </a:moveTo>
                <a:lnTo>
                  <a:pt x="24005" y="0"/>
                </a:lnTo>
                <a:lnTo>
                  <a:pt x="24005" y="21600"/>
                </a:lnTo>
                <a:lnTo>
                  <a:pt x="0" y="21600"/>
                </a:lnTo>
                <a:close/>
              </a:path>
              <a:path fill="lightenLess" w="24005" h="21600">
                <a:moveTo>
                  <a:pt x="0" y="0"/>
                </a:moveTo>
                <a:lnTo>
                  <a:pt x="24005" y="0"/>
                </a:lnTo>
                <a:lnTo>
                  <a:pt x="22605" y="1400"/>
                </a:lnTo>
                <a:lnTo>
                  <a:pt x="1400" y="1400"/>
                </a:lnTo>
                <a:close/>
              </a:path>
              <a:path fill="darken" w="24005" h="21600">
                <a:moveTo>
                  <a:pt x="24005" y="0"/>
                </a:moveTo>
                <a:lnTo>
                  <a:pt x="24005" y="21600"/>
                </a:lnTo>
                <a:lnTo>
                  <a:pt x="22605" y="20200"/>
                </a:lnTo>
                <a:lnTo>
                  <a:pt x="22605" y="1400"/>
                </a:lnTo>
                <a:close/>
              </a:path>
              <a:path fill="darkenLess" w="24005" h="21600">
                <a:moveTo>
                  <a:pt x="2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5" y="20200"/>
                </a:lnTo>
                <a:close/>
              </a:path>
              <a:path fill="lighten" w="2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5" h="21600">
                <a:moveTo>
                  <a:pt x="12003" y="3837"/>
                </a:moveTo>
                <a:lnTo>
                  <a:pt x="14579" y="6448"/>
                </a:ln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lnTo>
                  <a:pt x="18966" y="10800"/>
                </a:lnTo>
                <a:lnTo>
                  <a:pt x="17312" y="10800"/>
                </a:lnTo>
                <a:lnTo>
                  <a:pt x="17312" y="17989"/>
                </a:lnTo>
                <a:lnTo>
                  <a:pt x="6693" y="17989"/>
                </a:lnTo>
                <a:lnTo>
                  <a:pt x="6693" y="10800"/>
                </a:lnTo>
                <a:lnTo>
                  <a:pt x="5040" y="10800"/>
                </a:lnTo>
                <a:close/>
              </a:path>
              <a:path fill="darkenLess" w="24005" h="21600">
                <a:moveTo>
                  <a:pt x="14579" y="6448"/>
                </a:move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close/>
              </a:path>
              <a:path fill="darkenLess" w="24005" h="21600">
                <a:moveTo>
                  <a:pt x="11080" y="14299"/>
                </a:moveTo>
                <a:lnTo>
                  <a:pt x="12925" y="14299"/>
                </a:lnTo>
                <a:lnTo>
                  <a:pt x="12925" y="17989"/>
                </a:lnTo>
                <a:lnTo>
                  <a:pt x="17312" y="17989"/>
                </a:lnTo>
                <a:lnTo>
                  <a:pt x="17312" y="10800"/>
                </a:lnTo>
                <a:lnTo>
                  <a:pt x="6693" y="10800"/>
                </a:lnTo>
                <a:lnTo>
                  <a:pt x="6693" y="17989"/>
                </a:lnTo>
                <a:lnTo>
                  <a:pt x="11080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ущность и структура экономической куль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2143080" y="2500200"/>
            <a:ext cx="4000680" cy="350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e8eff"/>
              </a:gs>
              <a:gs pos="100000">
                <a:srgbClr val="ddddff"/>
              </a:gs>
            </a:gsLst>
            <a:lin ang="16200000"/>
          </a:gradFill>
          <a:ln w="9360">
            <a:solidFill>
              <a:srgbClr val="6060f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4140360" y="2492280"/>
            <a:ext cx="22888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9"/>
          <p:cNvSpPr/>
          <p:nvPr/>
        </p:nvSpPr>
        <p:spPr>
          <a:xfrm flipH="1">
            <a:off x="6143400" y="3429000"/>
            <a:ext cx="28548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428920" y="2492280"/>
            <a:ext cx="1711440" cy="17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2143080" y="4285800"/>
            <a:ext cx="28584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3850920" y="2637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3851280" y="29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9"/>
          <p:cNvSpPr/>
          <p:nvPr/>
        </p:nvSpPr>
        <p:spPr>
          <a:xfrm flipH="1">
            <a:off x="4355640" y="2637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20"/>
          <p:cNvSpPr/>
          <p:nvPr/>
        </p:nvSpPr>
        <p:spPr>
          <a:xfrm flipH="1">
            <a:off x="4142880" y="1857240"/>
            <a:ext cx="1000440" cy="635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4637520" y="15717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Нор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6"/>
          <p:cNvSpPr/>
          <p:nvPr/>
        </p:nvSpPr>
        <p:spPr>
          <a:xfrm rot="3463800">
            <a:off x="4381560" y="370512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Способы организационной деятель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Box 26"/>
          <p:cNvSpPr/>
          <p:nvPr/>
        </p:nvSpPr>
        <p:spPr>
          <a:xfrm>
            <a:off x="2714760" y="500076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Эконом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направл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 rot="17933400">
            <a:off x="1724040" y="3922560"/>
            <a:ext cx="250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Знания + практические ум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Управляющая кнопка: далее 15"/>
          <p:cNvGrpSpPr/>
          <p:nvPr/>
        </p:nvGrpSpPr>
        <p:grpSpPr>
          <a:xfrm>
            <a:off x="8016840" y="5967360"/>
            <a:ext cx="822240" cy="682560"/>
            <a:chOff x="8016840" y="5967360"/>
            <a:chExt cx="822240" cy="682560"/>
          </a:xfrm>
        </p:grpSpPr>
        <p:pic>
          <p:nvPicPr>
            <p:cNvPr id="121" name="Управляющая кнопка: далее 1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16840" y="5967360"/>
              <a:ext cx="822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8072280" y="6000840"/>
              <a:ext cx="7146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291600"/>
            <a:ext cx="840096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Элементы экономической куль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Скругленный прямоугольник 4"/>
          <p:cNvSpPr/>
          <p:nvPr/>
        </p:nvSpPr>
        <p:spPr>
          <a:xfrm>
            <a:off x="214200" y="1214280"/>
            <a:ext cx="2857680" cy="27147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Экономические знания -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окупность представлений о производстве, обмене, распределении и потреблении материальных благ, влиянии экономической жизни на развитие обще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2928960" y="4000680"/>
            <a:ext cx="2643120" cy="257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Экономическое мышление - </a:t>
            </a:r>
            <a:r>
              <a:rPr b="0" lang="ru-RU" sz="1600" spc="-1" strike="noStrike">
                <a:solidFill>
                  <a:srgbClr val="00b050"/>
                </a:solidFill>
                <a:latin typeface="Tahoma"/>
              </a:rPr>
              <a:t>познание сущности экономических явлений и процессов, оперирование усвоенными понятиями, анализ экономических ситуац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Скругленный прямоугольник 6"/>
          <p:cNvGrpSpPr/>
          <p:nvPr/>
        </p:nvGrpSpPr>
        <p:grpSpPr>
          <a:xfrm>
            <a:off x="5303880" y="1316160"/>
            <a:ext cx="3181320" cy="1787400"/>
            <a:chOff x="5303880" y="1316160"/>
            <a:chExt cx="3181320" cy="1787400"/>
          </a:xfrm>
        </p:grpSpPr>
        <p:pic>
          <p:nvPicPr>
            <p:cNvPr id="128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5303880" y="1316160"/>
              <a:ext cx="318132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433840" y="1433520"/>
              <a:ext cx="291960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Tahoma"/>
                </a:rPr>
                <a:t>Экономическая направленность -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потребности, интересы и мотивы деятельности человека в экономической сфер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0" name="TextBox 8"/>
          <p:cNvSpPr/>
          <p:nvPr/>
        </p:nvSpPr>
        <p:spPr>
          <a:xfrm>
            <a:off x="4857840" y="321480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циальная установ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6429240" y="3214800"/>
            <a:ext cx="27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оциально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значимые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ц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2" name="Прямая со стрелкой 11"/>
          <p:cNvCxnSpPr>
            <a:endCxn id="131" idx="0"/>
          </p:cNvCxnSpPr>
          <p:nvPr/>
        </p:nvCxnSpPr>
        <p:spPr>
          <a:xfrm>
            <a:off x="6893280" y="2928960"/>
            <a:ext cx="89316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33" name="Прямая со стрелкой 14"/>
          <p:cNvCxnSpPr>
            <a:endCxn id="130" idx="0"/>
          </p:cNvCxnSpPr>
          <p:nvPr/>
        </p:nvCxnSpPr>
        <p:spPr>
          <a:xfrm flipH="1">
            <a:off x="5822640" y="2928960"/>
            <a:ext cx="107208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34" name="Прямая со стрелкой 17"/>
          <p:cNvCxnSpPr>
            <a:stCxn id="124" idx="2"/>
            <a:endCxn id="125" idx="0"/>
          </p:cNvCxnSpPr>
          <p:nvPr/>
        </p:nvCxnSpPr>
        <p:spPr>
          <a:xfrm flipH="1">
            <a:off x="1642680" y="999720"/>
            <a:ext cx="2844000" cy="21492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35" name="Прямая со стрелкой 20"/>
          <p:cNvCxnSpPr>
            <a:stCxn id="124" idx="2"/>
          </p:cNvCxnSpPr>
          <p:nvPr/>
        </p:nvCxnSpPr>
        <p:spPr>
          <a:xfrm>
            <a:off x="4485240" y="1000080"/>
            <a:ext cx="2408760" cy="35784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36" name="Прямая со стрелкой 23"/>
          <p:cNvCxnSpPr>
            <a:stCxn id="124" idx="2"/>
            <a:endCxn id="126" idx="0"/>
          </p:cNvCxnSpPr>
          <p:nvPr/>
        </p:nvCxnSpPr>
        <p:spPr>
          <a:xfrm flipH="1">
            <a:off x="4249080" y="999720"/>
            <a:ext cx="237240" cy="300132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sp>
        <p:nvSpPr>
          <p:cNvPr id="137" name="Управляющая кнопка: домой 12">
            <a:hlinkClick r:id="rId2" action="ppaction://hlinksldjump"/>
          </p:cNvPr>
          <p:cNvSpPr/>
          <p:nvPr/>
        </p:nvSpPr>
        <p:spPr>
          <a:xfrm>
            <a:off x="8143920" y="60008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11997" y="3837"/>
                </a:moveTo>
                <a:lnTo>
                  <a:pt x="14573" y="6448"/>
                </a:ln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lnTo>
                  <a:pt x="18960" y="10800"/>
                </a:lnTo>
                <a:lnTo>
                  <a:pt x="17306" y="10800"/>
                </a:lnTo>
                <a:lnTo>
                  <a:pt x="17306" y="17989"/>
                </a:lnTo>
                <a:lnTo>
                  <a:pt x="6687" y="17989"/>
                </a:lnTo>
                <a:lnTo>
                  <a:pt x="6687" y="10800"/>
                </a:lnTo>
                <a:lnTo>
                  <a:pt x="5034" y="10800"/>
                </a:lnTo>
                <a:close/>
              </a:path>
              <a:path fill="darkenLess" w="23993" h="21600">
                <a:moveTo>
                  <a:pt x="14573" y="6448"/>
                </a:move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close/>
              </a:path>
              <a:path fill="darkenLess" w="23993" h="21600">
                <a:moveTo>
                  <a:pt x="11074" y="14299"/>
                </a:moveTo>
                <a:lnTo>
                  <a:pt x="12919" y="14299"/>
                </a:lnTo>
                <a:lnTo>
                  <a:pt x="12919" y="17989"/>
                </a:lnTo>
                <a:lnTo>
                  <a:pt x="17306" y="17989"/>
                </a:lnTo>
                <a:lnTo>
                  <a:pt x="17306" y="10800"/>
                </a:lnTo>
                <a:lnTo>
                  <a:pt x="6687" y="10800"/>
                </a:lnTo>
                <a:lnTo>
                  <a:pt x="6687" y="17989"/>
                </a:lnTo>
                <a:lnTo>
                  <a:pt x="11074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Экономические отношения и интере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" name="Скругленный прямоугольник 4"/>
          <p:cNvGrpSpPr/>
          <p:nvPr/>
        </p:nvGrpSpPr>
        <p:grpSpPr>
          <a:xfrm>
            <a:off x="1085760" y="987480"/>
            <a:ext cx="6637320" cy="1731960"/>
            <a:chOff x="1085760" y="987480"/>
            <a:chExt cx="6637320" cy="1731960"/>
          </a:xfrm>
        </p:grpSpPr>
        <p:pic>
          <p:nvPicPr>
            <p:cNvPr id="141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085760" y="987480"/>
              <a:ext cx="663732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2840" y="1141560"/>
              <a:ext cx="636120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aff4fd"/>
                  </a:solidFill>
                  <a:latin typeface="Tahoma"/>
                </a:rPr>
                <a:t>Экономические отношения - </a:t>
              </a:r>
              <a:r>
                <a:rPr b="0" lang="ru-RU" sz="1800" spc="-1" strike="noStrike">
                  <a:solidFill>
                    <a:srgbClr val="aff4fd"/>
                  </a:solidFill>
                  <a:latin typeface="Tahoma"/>
                </a:rPr>
                <a:t>отношения между людьми, возникающие по поводу обмена продуктами, результатами труда или оказания услуг, осуществляемые на основе сравнительной оценки их относительной ценнос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" name="Параллелограмм 8"/>
          <p:cNvSpPr/>
          <p:nvPr/>
        </p:nvSpPr>
        <p:spPr>
          <a:xfrm>
            <a:off x="214200" y="3000240"/>
            <a:ext cx="2714760" cy="1000440"/>
          </a:xfrm>
          <a:prstGeom prst="parallelogram">
            <a:avLst>
              <a:gd name="adj" fmla="val 24987"/>
            </a:avLst>
          </a:prstGeom>
          <a:solidFill>
            <a:srgbClr val="b8b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a0aff"/>
                </a:solidFill>
                <a:latin typeface="Tahoma"/>
              </a:rPr>
              <a:t>Получение прибы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Трапеция 10"/>
          <p:cNvSpPr/>
          <p:nvPr/>
        </p:nvSpPr>
        <p:spPr>
          <a:xfrm>
            <a:off x="2714760" y="4000680"/>
            <a:ext cx="3071520" cy="107136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Удовлетвор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потребнос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араллелограмм 11"/>
          <p:cNvSpPr/>
          <p:nvPr/>
        </p:nvSpPr>
        <p:spPr>
          <a:xfrm>
            <a:off x="5786280" y="3000240"/>
            <a:ext cx="3143520" cy="1071720"/>
          </a:xfrm>
          <a:prstGeom prst="parallelogram">
            <a:avLst>
              <a:gd name="adj" fmla="val 25000"/>
            </a:avLst>
          </a:prstGeom>
          <a:solidFill>
            <a:srgbClr val="b8b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Самоутвержд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6" name="Прямая со стрелкой 13"/>
          <p:cNvCxnSpPr>
            <a:endCxn id="145" idx="0"/>
          </p:cNvCxnSpPr>
          <p:nvPr/>
        </p:nvCxnSpPr>
        <p:spPr>
          <a:xfrm>
            <a:off x="4391640" y="2499840"/>
            <a:ext cx="2966040" cy="50076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47" name="Прямая со стрелкой 16"/>
          <p:cNvCxnSpPr>
            <a:endCxn id="143" idx="1"/>
          </p:cNvCxnSpPr>
          <p:nvPr/>
        </p:nvCxnSpPr>
        <p:spPr>
          <a:xfrm flipH="1">
            <a:off x="1696680" y="2499840"/>
            <a:ext cx="2696400" cy="50076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48" name="Прямая со стрелкой 19"/>
          <p:cNvCxnSpPr>
            <a:endCxn id="144" idx="5"/>
          </p:cNvCxnSpPr>
          <p:nvPr/>
        </p:nvCxnSpPr>
        <p:spPr>
          <a:xfrm flipH="1">
            <a:off x="4249080" y="2500200"/>
            <a:ext cx="143640" cy="150120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49" name="Picture 5" descr="page2"/>
          <p:cNvPicPr/>
          <p:nvPr/>
        </p:nvPicPr>
        <p:blipFill>
          <a:blip r:embed="rId2"/>
          <a:stretch/>
        </p:blipFill>
        <p:spPr>
          <a:xfrm rot="20887200">
            <a:off x="357120" y="4347720"/>
            <a:ext cx="2151000" cy="1613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img"/>
          <p:cNvPicPr/>
          <p:nvPr/>
        </p:nvPicPr>
        <p:blipFill>
          <a:blip r:embed="rId3"/>
          <a:stretch/>
        </p:blipFill>
        <p:spPr>
          <a:xfrm rot="835200">
            <a:off x="3676320" y="5364000"/>
            <a:ext cx="1373040" cy="104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4"/>
          <a:stretch/>
        </p:blipFill>
        <p:spPr>
          <a:xfrm rot="20693400">
            <a:off x="6375240" y="4398480"/>
            <a:ext cx="2160720" cy="1516320"/>
          </a:xfrm>
          <a:prstGeom prst="rect">
            <a:avLst/>
          </a:prstGeom>
          <a:ln w="0">
            <a:noFill/>
          </a:ln>
        </p:spPr>
      </p:pic>
      <p:sp>
        <p:nvSpPr>
          <p:cNvPr id="152" name="Управляющая кнопка: домой 12">
            <a:hlinkClick r:id="rId5" action="ppaction://hlinksldjump"/>
          </p:cNvPr>
          <p:cNvSpPr/>
          <p:nvPr/>
        </p:nvSpPr>
        <p:spPr>
          <a:xfrm>
            <a:off x="8286840" y="61437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23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Экономическая свобода и социальная ответствен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5" name="Прямоугольник с одним вырезанным углом 3"/>
          <p:cNvGrpSpPr/>
          <p:nvPr/>
        </p:nvGrpSpPr>
        <p:grpSpPr>
          <a:xfrm>
            <a:off x="49320" y="1755720"/>
            <a:ext cx="4863960" cy="1932120"/>
            <a:chOff x="49320" y="1755720"/>
            <a:chExt cx="4863960" cy="1932120"/>
          </a:xfrm>
        </p:grpSpPr>
        <p:pic>
          <p:nvPicPr>
            <p:cNvPr id="156" name="Прямоугольник с одним вырезанным углом 3" descr=""/>
            <p:cNvPicPr/>
            <p:nvPr/>
          </p:nvPicPr>
          <p:blipFill>
            <a:blip r:embed="rId1"/>
            <a:stretch/>
          </p:blipFill>
          <p:spPr>
            <a:xfrm>
              <a:off x="49320" y="1755720"/>
              <a:ext cx="486396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42920" y="1922400"/>
              <a:ext cx="4578480" cy="15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Право на самостоятельный выбор профиля, структуры и объема производства, условий реализации, цен на продукцию; достигается компромиссными соглашениями с другими участниками рынка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8" name="Прямоугольник с двумя вырезанными противолежащими углами 4"/>
          <p:cNvGrpSpPr/>
          <p:nvPr/>
        </p:nvGrpSpPr>
        <p:grpSpPr>
          <a:xfrm>
            <a:off x="158760" y="1096920"/>
            <a:ext cx="3895560" cy="671400"/>
            <a:chOff x="158760" y="1096920"/>
            <a:chExt cx="3895560" cy="671400"/>
          </a:xfrm>
        </p:grpSpPr>
        <p:pic>
          <p:nvPicPr>
            <p:cNvPr id="159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58760" y="1096920"/>
              <a:ext cx="389556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49120" y="1177920"/>
              <a:ext cx="37148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Tahoma"/>
                </a:rPr>
                <a:t>Экономическая свобод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161" name="Прямая со стрелкой 13"/>
          <p:cNvCxnSpPr/>
          <p:nvPr/>
        </p:nvCxnSpPr>
        <p:spPr>
          <a:xfrm>
            <a:off x="2105640" y="1571400"/>
            <a:ext cx="394200" cy="214920"/>
          </a:xfrm>
          <a:prstGeom prst="straightConnector1">
            <a:avLst/>
          </a:prstGeom>
          <a:ln w="38160">
            <a:solidFill>
              <a:srgbClr val="b6c8ff"/>
            </a:solidFill>
            <a:miter/>
            <a:tailEnd len="med" type="triangle" w="med"/>
          </a:ln>
        </p:spPr>
      </p:cxnSp>
      <p:grpSp>
        <p:nvGrpSpPr>
          <p:cNvPr id="162" name="Прямоугольник с двумя вырезанными противолежащими углами 26"/>
          <p:cNvGrpSpPr/>
          <p:nvPr/>
        </p:nvGrpSpPr>
        <p:grpSpPr>
          <a:xfrm>
            <a:off x="4700520" y="4164120"/>
            <a:ext cx="4334040" cy="676080"/>
            <a:chOff x="4700520" y="4164120"/>
            <a:chExt cx="4334040" cy="676080"/>
          </a:xfrm>
        </p:grpSpPr>
        <p:pic>
          <p:nvPicPr>
            <p:cNvPr id="163" name="Прямоугольник с двумя вырезанными противолежащими углами 26" descr=""/>
            <p:cNvPicPr/>
            <p:nvPr/>
          </p:nvPicPr>
          <p:blipFill>
            <a:blip r:embed="rId3"/>
            <a:stretch/>
          </p:blipFill>
          <p:spPr>
            <a:xfrm>
              <a:off x="4700520" y="4164120"/>
              <a:ext cx="433404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822920" y="4251240"/>
              <a:ext cx="4071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Tahoma"/>
                </a:rPr>
                <a:t>Социальная ответственность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5" name="Скругленный прямоугольник 27"/>
          <p:cNvSpPr/>
          <p:nvPr/>
        </p:nvSpPr>
        <p:spPr>
          <a:xfrm>
            <a:off x="5072040" y="1285920"/>
            <a:ext cx="1785960" cy="221436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214360"/>
              <a:gd name="textAreaBottom" fmla="*/ 2127240 h 2214360"/>
            </a:gdLst>
            <a:ahLst/>
            <a:rect l="textAreaLeft" t="textAreaTop" r="textAreaRight" b="textAreaBottom"/>
            <a:pathLst>
              <a:path w="21600" h="26780">
                <a:moveTo>
                  <a:pt x="3600" y="0"/>
                </a:moveTo>
                <a:arcTo wR="3600" hR="3600" stAng="16200000" swAng="-5400000"/>
                <a:lnTo>
                  <a:pt x="0" y="23180"/>
                </a:lnTo>
                <a:arcTo wR="3600" hR="3600" stAng="10800000" swAng="-5400000"/>
                <a:lnTo>
                  <a:pt x="18000" y="267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fbfff"/>
              </a:gs>
              <a:gs pos="100000">
                <a:srgbClr val="ebebff"/>
              </a:gs>
            </a:gsLst>
            <a:lin ang="16200000"/>
          </a:gradFill>
          <a:ln w="9360">
            <a:solidFill>
              <a:srgbClr val="b2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Стремление к максимальной прибыли и эгоистическая защита частных интерес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Скругленный прямоугольник 28"/>
          <p:cNvSpPr/>
          <p:nvPr/>
        </p:nvSpPr>
        <p:spPr>
          <a:xfrm>
            <a:off x="7000920" y="1285920"/>
            <a:ext cx="1928880" cy="2214360"/>
          </a:xfrm>
          <a:custGeom>
            <a:avLst/>
            <a:gdLst>
              <a:gd name="textAreaLeft" fmla="*/ 93960 w 1928880"/>
              <a:gd name="textAreaRight" fmla="*/ 1834920 w 1928880"/>
              <a:gd name="textAreaTop" fmla="*/ 93960 h 2214360"/>
              <a:gd name="textAreaBottom" fmla="*/ 2120400 h 2214360"/>
            </a:gdLst>
            <a:ahLst/>
            <a:rect l="textAreaLeft" t="textAreaTop" r="textAreaRight" b="textAreaBottom"/>
            <a:pathLst>
              <a:path w="21600" h="24796">
                <a:moveTo>
                  <a:pt x="3600" y="0"/>
                </a:moveTo>
                <a:arcTo wR="3600" hR="3600" stAng="16200000" swAng="-5400000"/>
                <a:lnTo>
                  <a:pt x="0" y="21196"/>
                </a:lnTo>
                <a:arcTo wR="3600" hR="3600" stAng="10800000" swAng="-5400000"/>
                <a:lnTo>
                  <a:pt x="18000" y="24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fbfff"/>
              </a:gs>
              <a:gs pos="100000">
                <a:srgbClr val="ebebff"/>
              </a:gs>
            </a:gsLst>
            <a:lin ang="16200000"/>
          </a:gradFill>
          <a:ln w="9360">
            <a:solidFill>
              <a:srgbClr val="b2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Необходимость считаться с интересами и ценностями общества -проявлять социальную ответствен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67" name="Прямая со стрелкой 30"/>
          <p:cNvCxnSpPr>
            <a:stCxn id="165" idx="2"/>
          </p:cNvCxnSpPr>
          <p:nvPr/>
        </p:nvCxnSpPr>
        <p:spPr>
          <a:xfrm>
            <a:off x="5965920" y="3499920"/>
            <a:ext cx="892800" cy="71532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8" name="Прямая со стрелкой 33"/>
          <p:cNvCxnSpPr>
            <a:stCxn id="166" idx="2"/>
          </p:cNvCxnSpPr>
          <p:nvPr/>
        </p:nvCxnSpPr>
        <p:spPr>
          <a:xfrm flipH="1">
            <a:off x="6857640" y="3499920"/>
            <a:ext cx="1108800" cy="71532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169" name="Прямоугольник с одним вырезанным углом 35"/>
          <p:cNvGrpSpPr/>
          <p:nvPr/>
        </p:nvGrpSpPr>
        <p:grpSpPr>
          <a:xfrm>
            <a:off x="3889440" y="5254560"/>
            <a:ext cx="5168880" cy="1268640"/>
            <a:chOff x="3889440" y="5254560"/>
            <a:chExt cx="5168880" cy="1268640"/>
          </a:xfrm>
        </p:grpSpPr>
        <p:pic>
          <p:nvPicPr>
            <p:cNvPr id="170" name="Прямоугольник с одним вырезанным углом 35" descr=""/>
            <p:cNvPicPr/>
            <p:nvPr/>
          </p:nvPicPr>
          <p:blipFill>
            <a:blip r:embed="rId4"/>
            <a:stretch/>
          </p:blipFill>
          <p:spPr>
            <a:xfrm>
              <a:off x="3889440" y="5254560"/>
              <a:ext cx="516888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000680" y="5375160"/>
              <a:ext cx="491148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собое социальное и морально-правовое отношение личности к обществу в целом и к другим людям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172" name="Прямая со стрелкой 37"/>
          <p:cNvCxnSpPr/>
          <p:nvPr/>
        </p:nvCxnSpPr>
        <p:spPr>
          <a:xfrm flipH="1">
            <a:off x="6500520" y="4643280"/>
            <a:ext cx="357840" cy="64332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sp>
        <p:nvSpPr>
          <p:cNvPr id="173" name="Прямоугольник с двумя вырезанными противолежащими углами 39"/>
          <p:cNvSpPr/>
          <p:nvPr/>
        </p:nvSpPr>
        <p:spPr>
          <a:xfrm>
            <a:off x="142920" y="3571920"/>
            <a:ext cx="3571920" cy="135720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Нравственный долг -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это превращение требований общественной морали в личный императив конкретного лица и добровольное его выполн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Прямоугольник с двумя вырезанными противолежащими углами 43"/>
          <p:cNvSpPr/>
          <p:nvPr/>
        </p:nvSpPr>
        <p:spPr>
          <a:xfrm>
            <a:off x="214200" y="5072040"/>
            <a:ext cx="3500640" cy="157176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Правовая норма -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общеобязательное правило поведения, регулирующее общественные отношения, закреплённое в праве и обеспеченное государств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75" name="Прямая со стрелкой 49"/>
          <p:cNvCxnSpPr>
            <a:stCxn id="173" idx="8"/>
          </p:cNvCxnSpPr>
          <p:nvPr/>
        </p:nvCxnSpPr>
        <p:spPr>
          <a:xfrm>
            <a:off x="3714480" y="4250880"/>
            <a:ext cx="1572120" cy="103572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6" name="Прямая со стрелкой 52"/>
          <p:cNvCxnSpPr/>
          <p:nvPr/>
        </p:nvCxnSpPr>
        <p:spPr>
          <a:xfrm>
            <a:off x="3428640" y="5071680"/>
            <a:ext cx="1786680" cy="21492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77" name="Управляющая кнопка: домой 57">
            <a:hlinkClick r:id="rId5" action="ppaction://hlinksldjump"/>
          </p:cNvPr>
          <p:cNvSpPr/>
          <p:nvPr/>
        </p:nvSpPr>
        <p:spPr>
          <a:xfrm>
            <a:off x="8215200" y="6143760"/>
            <a:ext cx="785880" cy="57132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9707" h="21600">
                <a:moveTo>
                  <a:pt x="0" y="0"/>
                </a:moveTo>
                <a:lnTo>
                  <a:pt x="29707" y="0"/>
                </a:lnTo>
                <a:lnTo>
                  <a:pt x="29707" y="21600"/>
                </a:lnTo>
                <a:lnTo>
                  <a:pt x="0" y="21600"/>
                </a:lnTo>
                <a:close/>
              </a:path>
              <a:path fill="lightenLess" w="29707" h="21600">
                <a:moveTo>
                  <a:pt x="0" y="0"/>
                </a:moveTo>
                <a:lnTo>
                  <a:pt x="29707" y="0"/>
                </a:lnTo>
                <a:lnTo>
                  <a:pt x="28307" y="1400"/>
                </a:lnTo>
                <a:lnTo>
                  <a:pt x="1400" y="1400"/>
                </a:lnTo>
                <a:close/>
              </a:path>
              <a:path fill="darken" w="29707" h="21600">
                <a:moveTo>
                  <a:pt x="29707" y="0"/>
                </a:moveTo>
                <a:lnTo>
                  <a:pt x="29707" y="21600"/>
                </a:lnTo>
                <a:lnTo>
                  <a:pt x="28307" y="20200"/>
                </a:lnTo>
                <a:lnTo>
                  <a:pt x="28307" y="1400"/>
                </a:lnTo>
                <a:close/>
              </a:path>
              <a:path fill="darkenLess" w="29707" h="21600">
                <a:moveTo>
                  <a:pt x="29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7" y="20200"/>
                </a:lnTo>
                <a:close/>
              </a:path>
              <a:path fill="lighten" w="29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7" h="21600">
                <a:moveTo>
                  <a:pt x="14853" y="3837"/>
                </a:moveTo>
                <a:lnTo>
                  <a:pt x="17430" y="6448"/>
                </a:ln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lnTo>
                  <a:pt x="21816" y="10800"/>
                </a:lnTo>
                <a:lnTo>
                  <a:pt x="20163" y="10800"/>
                </a:lnTo>
                <a:lnTo>
                  <a:pt x="20163" y="17989"/>
                </a:lnTo>
                <a:lnTo>
                  <a:pt x="9544" y="17989"/>
                </a:lnTo>
                <a:lnTo>
                  <a:pt x="9544" y="10800"/>
                </a:lnTo>
                <a:lnTo>
                  <a:pt x="7890" y="10800"/>
                </a:lnTo>
                <a:close/>
              </a:path>
              <a:path fill="darkenLess" w="29707" h="21600">
                <a:moveTo>
                  <a:pt x="17430" y="6448"/>
                </a:move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close/>
              </a:path>
              <a:path fill="darkenLess" w="29707" h="21600">
                <a:moveTo>
                  <a:pt x="13931" y="14299"/>
                </a:moveTo>
                <a:lnTo>
                  <a:pt x="15776" y="14299"/>
                </a:lnTo>
                <a:lnTo>
                  <a:pt x="15776" y="17989"/>
                </a:lnTo>
                <a:lnTo>
                  <a:pt x="20163" y="17989"/>
                </a:lnTo>
                <a:lnTo>
                  <a:pt x="20163" y="10800"/>
                </a:lnTo>
                <a:lnTo>
                  <a:pt x="9544" y="10800"/>
                </a:lnTo>
                <a:lnTo>
                  <a:pt x="9544" y="17989"/>
                </a:lnTo>
                <a:lnTo>
                  <a:pt x="13931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Tahoma"/>
              </a:rPr>
              <a:t>Рыночная эконом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714920" y="1357200"/>
            <a:ext cx="0" cy="4105440"/>
          </a:xfrm>
          <a:prstGeom prst="line">
            <a:avLst/>
          </a:prstGeom>
          <a:ln w="381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571680" y="1857240"/>
            <a:ext cx="7921440" cy="0"/>
          </a:xfrm>
          <a:prstGeom prst="line">
            <a:avLst/>
          </a:prstGeom>
          <a:ln w="381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Прямоугольник 5"/>
          <p:cNvSpPr/>
          <p:nvPr/>
        </p:nvSpPr>
        <p:spPr>
          <a:xfrm>
            <a:off x="571680" y="2143080"/>
            <a:ext cx="40003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Конкуренция ведет к появлению монопол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стабильность экономики: инфляция, экономический спад,безработиц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 равномерное распределение доход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заинтересованность в охране окружающей сре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857160" y="1357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ahoma"/>
              </a:rPr>
              <a:t>Недостатки</a:t>
            </a: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929120" y="1357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ahoma"/>
              </a:rPr>
              <a:t>Достоинства</a:t>
            </a: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Прямоугольник 8"/>
          <p:cNvSpPr/>
          <p:nvPr/>
        </p:nvSpPr>
        <p:spPr>
          <a:xfrm>
            <a:off x="4857840" y="2071800"/>
            <a:ext cx="38574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Рынок быстро реагирует на изменение спроса со стороны потреб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Не возможен дефици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Свобода производителей и потреб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Высокие адаптационные возмо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Управляющая кнопка: домой 9">
            <a:hlinkClick r:id="rId1" action="ppaction://hlinksldjump"/>
          </p:cNvPr>
          <p:cNvSpPr/>
          <p:nvPr/>
        </p:nvSpPr>
        <p:spPr>
          <a:xfrm>
            <a:off x="8143920" y="6072120"/>
            <a:ext cx="714240" cy="571680"/>
          </a:xfrm>
          <a:custGeom>
            <a:avLst/>
            <a:gdLst>
              <a:gd name="textAreaLeft" fmla="*/ 36720 w 714240"/>
              <a:gd name="textAreaRight" fmla="*/ 677520 w 71424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6983" h="21600">
                <a:moveTo>
                  <a:pt x="0" y="0"/>
                </a:moveTo>
                <a:lnTo>
                  <a:pt x="26983" y="0"/>
                </a:lnTo>
                <a:lnTo>
                  <a:pt x="26983" y="21600"/>
                </a:lnTo>
                <a:lnTo>
                  <a:pt x="0" y="21600"/>
                </a:lnTo>
                <a:close/>
              </a:path>
              <a:path fill="lightenLess" w="26983" h="21600">
                <a:moveTo>
                  <a:pt x="0" y="0"/>
                </a:moveTo>
                <a:lnTo>
                  <a:pt x="26983" y="0"/>
                </a:lnTo>
                <a:lnTo>
                  <a:pt x="25583" y="1400"/>
                </a:lnTo>
                <a:lnTo>
                  <a:pt x="1400" y="1400"/>
                </a:lnTo>
                <a:close/>
              </a:path>
              <a:path fill="darken" w="26983" h="21600">
                <a:moveTo>
                  <a:pt x="26983" y="0"/>
                </a:moveTo>
                <a:lnTo>
                  <a:pt x="26983" y="21600"/>
                </a:lnTo>
                <a:lnTo>
                  <a:pt x="25583" y="20200"/>
                </a:lnTo>
                <a:lnTo>
                  <a:pt x="25583" y="1400"/>
                </a:lnTo>
                <a:close/>
              </a:path>
              <a:path fill="darkenLess" w="26983" h="21600">
                <a:moveTo>
                  <a:pt x="26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3" y="20200"/>
                </a:lnTo>
                <a:close/>
              </a:path>
              <a:path fill="lighten" w="26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3" h="21600">
                <a:moveTo>
                  <a:pt x="13492" y="3837"/>
                </a:moveTo>
                <a:lnTo>
                  <a:pt x="16068" y="6448"/>
                </a:lnTo>
                <a:lnTo>
                  <a:pt x="16068" y="4707"/>
                </a:lnTo>
                <a:lnTo>
                  <a:pt x="17843" y="4707"/>
                </a:lnTo>
                <a:lnTo>
                  <a:pt x="17843" y="8224"/>
                </a:lnTo>
                <a:lnTo>
                  <a:pt x="20454" y="10800"/>
                </a:lnTo>
                <a:lnTo>
                  <a:pt x="18801" y="10800"/>
                </a:lnTo>
                <a:lnTo>
                  <a:pt x="18801" y="17989"/>
                </a:lnTo>
                <a:lnTo>
                  <a:pt x="8182" y="17989"/>
                </a:lnTo>
                <a:lnTo>
                  <a:pt x="8182" y="10800"/>
                </a:lnTo>
                <a:lnTo>
                  <a:pt x="6529" y="10800"/>
                </a:lnTo>
                <a:close/>
              </a:path>
              <a:path fill="darkenLess" w="26983" h="21600">
                <a:moveTo>
                  <a:pt x="16068" y="6448"/>
                </a:moveTo>
                <a:lnTo>
                  <a:pt x="16068" y="4707"/>
                </a:lnTo>
                <a:lnTo>
                  <a:pt x="17843" y="4707"/>
                </a:lnTo>
                <a:lnTo>
                  <a:pt x="17843" y="8224"/>
                </a:lnTo>
                <a:close/>
              </a:path>
              <a:path fill="darkenLess" w="26983" h="21600">
                <a:moveTo>
                  <a:pt x="12569" y="14299"/>
                </a:moveTo>
                <a:lnTo>
                  <a:pt x="14414" y="14299"/>
                </a:lnTo>
                <a:lnTo>
                  <a:pt x="14414" y="17989"/>
                </a:lnTo>
                <a:lnTo>
                  <a:pt x="18801" y="17989"/>
                </a:lnTo>
                <a:lnTo>
                  <a:pt x="18801" y="10800"/>
                </a:lnTo>
                <a:lnTo>
                  <a:pt x="8182" y="10800"/>
                </a:lnTo>
                <a:lnTo>
                  <a:pt x="8182" y="17989"/>
                </a:lnTo>
                <a:lnTo>
                  <a:pt x="12569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Связь экономической культуры и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9" name="Блок-схема: альтернативный процесс 3"/>
          <p:cNvGrpSpPr/>
          <p:nvPr/>
        </p:nvGrpSpPr>
        <p:grpSpPr>
          <a:xfrm>
            <a:off x="1657440" y="1255680"/>
            <a:ext cx="5468760" cy="749160"/>
            <a:chOff x="1657440" y="1255680"/>
            <a:chExt cx="5468760" cy="749160"/>
          </a:xfrm>
        </p:grpSpPr>
        <p:pic>
          <p:nvPicPr>
            <p:cNvPr id="190" name="Блок-схема: альтернативный процесс 3" descr=""/>
            <p:cNvPicPr/>
            <p:nvPr/>
          </p:nvPicPr>
          <p:blipFill>
            <a:blip r:embed="rId1"/>
            <a:stretch/>
          </p:blipFill>
          <p:spPr>
            <a:xfrm>
              <a:off x="1657440" y="1255680"/>
              <a:ext cx="5468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746360" y="1317600"/>
              <a:ext cx="5294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a0aff"/>
                  </a:solidFill>
                  <a:latin typeface="Tahoma"/>
                </a:rPr>
                <a:t>Уровень экономической культур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2" name="Прямоугольник с двумя вырезанными противолежащими углами 4"/>
          <p:cNvGrpSpPr/>
          <p:nvPr/>
        </p:nvGrpSpPr>
        <p:grpSpPr>
          <a:xfrm>
            <a:off x="1657440" y="2236680"/>
            <a:ext cx="5614920" cy="1451160"/>
            <a:chOff x="1657440" y="2236680"/>
            <a:chExt cx="5614920" cy="1451160"/>
          </a:xfrm>
        </p:grpSpPr>
        <p:pic>
          <p:nvPicPr>
            <p:cNvPr id="193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657440" y="2236680"/>
              <a:ext cx="561492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816200" y="2387520"/>
              <a:ext cx="52974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ahoma"/>
                </a:rPr>
                <a:t>Успешность выполнения социальных роле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ahoma"/>
                </a:rPr>
                <a:t>Результативность экономической деятельнос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5" name="Стрелка вниз 5"/>
          <p:cNvSpPr/>
          <p:nvPr/>
        </p:nvSpPr>
        <p:spPr>
          <a:xfrm>
            <a:off x="4214880" y="19288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Прямоугольник с одним вырезанным углом 6"/>
          <p:cNvSpPr/>
          <p:nvPr/>
        </p:nvSpPr>
        <p:spPr>
          <a:xfrm>
            <a:off x="214200" y="4286160"/>
            <a:ext cx="3214800" cy="642960"/>
          </a:xfrm>
          <a:prstGeom prst="pie">
            <a:avLst/>
          </a:prstGeom>
          <a:solidFill>
            <a:srgbClr val="b6c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ff"/>
                </a:solidFill>
                <a:latin typeface="Tahoma"/>
              </a:rPr>
              <a:t>Переход к новому способу производ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7" name="Прямоугольник с двумя скругленными противолежащими углами 7"/>
          <p:cNvGrpSpPr/>
          <p:nvPr/>
        </p:nvGrpSpPr>
        <p:grpSpPr>
          <a:xfrm>
            <a:off x="5211720" y="3614760"/>
            <a:ext cx="3346560" cy="907920"/>
            <a:chOff x="5211720" y="3614760"/>
            <a:chExt cx="3346560" cy="907920"/>
          </a:xfrm>
        </p:grpSpPr>
        <p:pic>
          <p:nvPicPr>
            <p:cNvPr id="198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5211720" y="3614760"/>
              <a:ext cx="33465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321160" y="3678120"/>
              <a:ext cx="3144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Высокая нравственность, высокий уровень культур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200" name="Прямая со стрелкой 9"/>
          <p:cNvCxnSpPr>
            <a:endCxn id="196" idx="6"/>
          </p:cNvCxnSpPr>
          <p:nvPr/>
        </p:nvCxnSpPr>
        <p:spPr>
          <a:xfrm flipH="1">
            <a:off x="3428280" y="4000680"/>
            <a:ext cx="1857960" cy="60840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1" name="Прямоугольник с одним вырезанным углом 21"/>
          <p:cNvSpPr/>
          <p:nvPr/>
        </p:nvSpPr>
        <p:spPr>
          <a:xfrm>
            <a:off x="642960" y="5786280"/>
            <a:ext cx="3214800" cy="428760"/>
          </a:xfrm>
          <a:prstGeom prst="pie">
            <a:avLst/>
          </a:prstGeom>
          <a:solidFill>
            <a:srgbClr val="b6c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ff"/>
                </a:solidFill>
                <a:latin typeface="Tahoma"/>
              </a:rPr>
              <a:t>Современный тру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2" name="Прямоугольник с двумя скругленными противолежащими углами 23"/>
          <p:cNvGrpSpPr/>
          <p:nvPr/>
        </p:nvGrpSpPr>
        <p:grpSpPr>
          <a:xfrm>
            <a:off x="6424560" y="4754520"/>
            <a:ext cx="2414520" cy="907920"/>
            <a:chOff x="6424560" y="4754520"/>
            <a:chExt cx="2414520" cy="907920"/>
          </a:xfrm>
        </p:grpSpPr>
        <p:pic>
          <p:nvPicPr>
            <p:cNvPr id="203" name="Прямоугольник с двумя скругленными противолежащими углами 23" descr=""/>
            <p:cNvPicPr/>
            <p:nvPr/>
          </p:nvPicPr>
          <p:blipFill>
            <a:blip r:embed="rId4"/>
            <a:stretch/>
          </p:blipFill>
          <p:spPr>
            <a:xfrm>
              <a:off x="6424560" y="4754520"/>
              <a:ext cx="24145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535800" y="4821120"/>
              <a:ext cx="22161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Самодисциплина, самоконтрол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205" name="Прямая со стрелкой 28"/>
          <p:cNvCxnSpPr>
            <a:endCxn id="201" idx="6"/>
          </p:cNvCxnSpPr>
          <p:nvPr/>
        </p:nvCxnSpPr>
        <p:spPr>
          <a:xfrm flipH="1">
            <a:off x="3857400" y="5142600"/>
            <a:ext cx="2643840" cy="85788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6" name="Управляющая кнопка: домой 35">
            <a:hlinkClick r:id="rId5" action="ppaction://hlinksldjump"/>
          </p:cNvPr>
          <p:cNvSpPr/>
          <p:nvPr/>
        </p:nvSpPr>
        <p:spPr>
          <a:xfrm>
            <a:off x="8286840" y="61437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5:50:30Z</dcterms:created>
  <dc:creator>LEGION</dc:creator>
  <dc:description/>
  <dc:language>en-US</dc:language>
  <cp:lastModifiedBy>LEGION</cp:lastModifiedBy>
  <dcterms:modified xsi:type="dcterms:W3CDTF">2014-11-10T08:25:41Z</dcterms:modified>
  <cp:revision>53</cp:revision>
  <dc:subject/>
  <dc:title>Экономическая культура</dc:title>
</cp:coreProperties>
</file>