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  <p:custShowLst>
    <p:custShow name="Произвольный показ 1" id="0">
      <p:sldLst>
        <p:sld r:id="rId7"/>
        <p:sld r:id="rId8"/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E828-3069-471A-BFCA-45620C0831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русского языка                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3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е по картине И.И. Шишкина «Зи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B31E-64A8-4330-949C-BAFE67CD1A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-познакомить учащихся с картиной И.И. Шишкина «Зим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чить «читать» картину, правильно и последовательно изла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вивать художественный вкус, умение сравнивать, пережи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любовь к родн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D148-4107-40EA-88EB-199974F5C4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ан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й, красивый, тихий, пустынный, спокойный, сказоч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ин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стый, серебристый, белый, голубоватый, легкий, мохнат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, новый.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чие, величавые, стройные, креп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Ё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енькие, в нарядных белых плать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шебница, чародей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ый, морозный, зимний, холодный, чуде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жий, х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604-4000-4C46-94ED-424C241D3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рошенный, властвует, редко ступ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авые, могучие, выросли на простор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ынно, чётко, различимы, стволы, повале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ыпанные, голубовато-белый массив, передн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, изобразил, вверху, переливают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0E69-BD08-4035-8539-DA9C36AA67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шла волшебница з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ремлет лес под сказк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нег, снег, снег – царство    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е отношение к карт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7725-92D2-44AD-8654-4940636E02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B20-7B58-4749-92B6-AA117B8C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B45-F9CF-4BA7-93B2-D2D82F8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072-2199-4A9F-9088-72947C1B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2AE-CB98-4C70-987F-27345D49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9DBA-D841-4752-B6BE-9B30BC20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48D5-2F85-41F0-8E80-AFA2D84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32E9-D83C-40B9-8F03-49A2CD9B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612D-8E69-4B02-9C36-A99463A6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BB32-54B2-4065-BA85-72ADA18A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B26-EC2D-4E3E-8665-72407B7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1CF9-55CC-4FCA-82F5-B0ADEA24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232-A21D-4AB4-8755-14890783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0A9D-0B15-4432-A4A9-F49B5DA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C535-1549-4B80-AC95-C456139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88D3-7A20-46A6-862E-F4A1E52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A34E-4CD1-442C-8CEA-1E8FBBCE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8CAE-E04B-41B9-86E6-F5502D67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5787-47F6-4D4B-AF09-694C2234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7FFE-A97A-47D3-971D-209045BB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45A8-0210-4F52-9AB8-136D1BBE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CD62-43D7-4147-B737-8A6DDD9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349B-DEA4-44D9-9794-552F4280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FEB-DBC7-4A63-8F60-7772438F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5C46C-3F0F-441F-91E9-64FA6C56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EAE8-23A3-4358-91E8-B5A32338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DBD2-4622-4CDC-B5DA-7FA3090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ACF6-5E5F-42A7-A248-05179F85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50163-7E0D-4DBF-8C83-85992C7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B593-06CF-4B6D-80C1-14418E95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5B14-A235-478E-8B9C-D48C7538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D7CC-AC39-4604-B7D6-2363D1C2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F1C3-6FEC-4128-9AC2-DC9B30F6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2B0F-9010-4F52-A8C7-2B2906D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4F5-E04F-4DE0-B52E-DE5D8957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CCFB-65AA-4069-8CF2-08905A63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38FCC-E5E8-42E2-AF6E-558DD29F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A264-6EFC-4299-A7FD-BDBC3F9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3ADD0-95ED-4F0C-9675-E96C8A9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5FD7C-09DC-4E2E-A96D-C4940E9F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3765-89AE-44B3-B1B0-24F1094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FD929-E442-4176-B845-7A0E3D5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AC27-DAB1-4767-83E1-7BC72F87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F0D0-590B-4177-9A64-3B9E35F9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397-50B2-4722-869E-2BFB158E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F67-3AC6-4BDC-B3A5-79496E1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1AD-84D2-4D21-8BAC-A38F7367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99F-9CEA-4054-A986-931BD8B8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942-D1F9-4CEE-8B99-B9647CD3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9CA-3248-4799-B5F9-5C1DF7610D73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2596-D9C4-402C-B300-9A59C1C3B616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4B5D-337A-4DEA-97CA-6C636F436D06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0007-4FFF-46C8-8C38-938561439FD1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173F-3F4E-43AD-9134-64B173F949F8}" type="datetime">
              <a:rPr b="0" lang="ru-RU" sz="1200" spc="-1" strike="noStrike">
                <a:solidFill>
                  <a:srgbClr val="e9dce2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8BD-B633-466B-A714-E7D619D83070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ADC7-8A63-4FB2-AC99-6DECE57F97C3}" type="datetime">
              <a:rPr b="0" lang="ru-RU" sz="1200" spc="-1" strike="noStrike">
                <a:solidFill>
                  <a:srgbClr val="a93c93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C025-5AF6-42B4-81F9-B68564F6719B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12411360" cy="2273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чинение по картине И.И. Шишкина «Зима»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-познакомить учащихся с картиной И.И. Шишкина «Зима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чить «читать» картину, правильно и последовательно излаг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ысл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вать художественный вкус, умение сравнивать, пережива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воспитывать любовь к родной природ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357280" y="357120"/>
            <a:ext cx="4286520" cy="59673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4357800" cy="36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4324680" cy="5238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Данн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Новое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Лес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й, красивый, тихий, пустынный, спокойный, сказочн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инственны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не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ушистый, серебристый, белый, голубоватый, легкий, мохнатый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истый, новый.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с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гучие, величавые, стройные, крепки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Ёлоч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аленькие, в нарядных белых плать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и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лшебница, чародейк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Ясный, морозный, зимний, холодный, чудес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вежий, холодны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брошенный, властвует, редко ступает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еличавые, могучие, выросли на простор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устынно, чётко, различимы, стволы, поваленны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засыпанные, голубовато-белый массив, передне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дим, изобразил, вверху, переливаются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1.Пришла волшебница зим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. Дремлет лес под сказку с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. Снег, снег, снег – царство     снег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. Мое отношение к карти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0:01:20Z</dcterms:created>
  <dc:creator>Loner-XP</dc:creator>
  <dc:description/>
  <dc:language>en-US</dc:language>
  <cp:lastModifiedBy>LEGION</cp:lastModifiedBy>
  <dcterms:modified xsi:type="dcterms:W3CDTF">2015-01-20T11:55:30Z</dcterms:modified>
  <cp:revision>7</cp:revision>
  <dc:subject/>
  <dc:title>          Урок русского языка                                 3 класс</dc:title>
</cp:coreProperties>
</file>