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  <p:custShowLst>
    <p:custShow name="Произвольный показ 1" id="0">
      <p:sldLst>
        <p:sld r:id="rId7"/>
        <p:sld r:id="rId8"/>
        <p:sld r:id="rId9"/>
        <p:sld r:id="rId10"/>
        <p:sld r:id="rId11"/>
        <p:sld r:id="rId12"/>
        <p:sld r:id="rId13"/>
        <p:sld r:id="rId1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11B8-7F4A-42B1-B155-94A6D2FE339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русского языка                    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3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инение по картине И.И. Шишкина «Зим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A416-61EB-4060-8D11-0224BF4591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и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-познакомить учащихся с картиной И.И. Шишкина «Зима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чить «читать» картину, правильно и последовательно излаг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с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звивать художественный вкус, умение сравнивать, пережив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спитывать любовь к родной при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1DB4-BEE5-4C56-8BFB-0AF7D45AF8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Данно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Ново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гучий, красивый, тихий, пустынный, спокойный, сказочны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инстве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шистый, серебристый, белый, голубоватый, легкий, мохнаты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, новый.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гучие, величавые, стройные, креп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Ёл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ленькие, в нарядных белых плать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и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шебница, чародей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сный, морозный, зимний, холодный, чудес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у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жий, холод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E869-B021-4704-8207-A390C28809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рошенный, властвует, редко ступа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авые, могучие, выросли на простор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ынно, чётко, различимы, стволы, поваленны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сыпанные, голубовато-белый массив, передн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им, изобразил, вверху, переливаютс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EF5C-AA38-4608-A2E9-E4B9153D68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ришла волшебница зи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ремлет лес под сказку 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нег, снег, снег – царство     сне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ое отношение к карти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61C3-879A-405D-B10A-216D8F03A5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8728-1249-4009-90A6-BB4D203AE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1A28-5758-4054-B87C-DDFE4E15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A4BE-2C29-400B-AD17-4B85C8E06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2BC8-FD8A-4DA6-A773-40D35CF2C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A51A-AD38-4614-A92A-AC31CC533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9461-F866-4F26-94F2-2D0F0FD4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016D-EFE7-45EF-99D7-51F45707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4D6F-6624-4845-8054-DBB8E9FC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974F-C95F-4A90-92F6-F9341642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6618-2C78-4BCA-99DB-15B416AB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14C0-3456-4012-9FDA-925782EE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CE91-3270-455E-9662-9CE6E9E8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12BB-8A8E-445C-BD82-A55E4CDB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BA12-E2B3-4142-B3E0-7D705ECA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0C0D-429C-46ED-9E39-F0C3685F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2FD0-791F-45B7-88E7-C2D50DBE6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12EC-2C9F-4969-A730-C50E54DB3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CBF12-B8B7-423A-9D80-F1F4EF65D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243DA-7913-439E-9476-C3943C9E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3F34E-42BD-456A-89AB-A5D52468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22B09-DA21-40D5-A133-81C14D25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6CE30-3945-489F-8224-40BC1AC2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BC69-6568-402B-B16C-922BB16E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4ED74-8690-4D10-841F-58360018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74B3E-0031-44B1-9E94-5D6B18EF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DFBAD-D12F-4BCF-B3E2-D1B33EC0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3675D-5FF1-44A3-8B17-BB504C47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1B853-C024-43C8-A146-F8DFB861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1846B-8C68-4DE4-8BDF-79DF1E15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2C098-5F95-4D8D-82DE-C33A5CC9C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E3DF6-4827-4672-BCE3-259998EF2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1C0F8-8662-400C-B22E-75AA8925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C18BF-A199-45F9-A270-84917F52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4B5E-AFF7-4DD3-955F-1338F7B4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13A34-4C97-414C-BD57-ABBD561F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DA655-9384-4CA9-B267-3D5CC0C4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0DAFA-AF9A-43D6-8DEA-647F4148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ECA24-1755-4F11-A966-B84B5D88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188C7-6D5C-42E1-9420-46707203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BA9C5-2E49-4391-8177-4E77A51E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E930B-FACA-4E2C-813A-73F7D32C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71828-D568-49DB-8DD3-97BC7C72B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2BCEE-E7DE-462B-86E5-316E084A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3E46-EFF5-4586-B959-721B6C76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1F12-9A8B-4C72-A9E9-0E1368E8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47EF-5F3E-4C89-BB67-1F7B78B9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BF78-FC05-4359-95D3-77698FA8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0B4F-40E1-4A1C-BD72-F8CD3456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2603-808C-496C-BD0F-74F988AF854D}" type="datetime">
              <a:rPr b="0" lang="ru-RU" sz="1200" spc="-1" strike="noStrike">
                <a:solidFill>
                  <a:srgbClr val="a93c93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4659-2312-4D04-B667-1BFDB393DA5D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63E3-C639-434C-AF41-AD88066ECA87}" type="datetime">
              <a:rPr b="0" lang="ru-RU" sz="1200" spc="-1" strike="noStrike">
                <a:solidFill>
                  <a:srgbClr val="e9dce2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dce2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263E-6BBB-4F4A-BF13-E7DEDFD56E36}" type="slidenum"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BFB4-1578-4384-8ADD-B62BB1C74C2C}" type="datetime">
              <a:rPr b="0" lang="ru-RU" sz="1200" spc="-1" strike="noStrike">
                <a:solidFill>
                  <a:srgbClr val="e9dce2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dce2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BC7A-E324-4621-B4BC-B1713422589F}" type="slidenum"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9631-ED37-4EF2-A790-3207423FE7D8}" type="datetime">
              <a:rPr b="0" lang="ru-RU" sz="1200" spc="-1" strike="noStrike">
                <a:solidFill>
                  <a:srgbClr val="a93c93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0FB9-7F17-46AE-BDC8-BCBEAFFF4EF6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12411360" cy="22734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очинение по картине И.И. Шишкина «Зима»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dce2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ли: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-познакомить учащихся с картиной И.И. Шишкина «Зима»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Учить «читать» картину, правильно и последовательно излага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ысл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развивать художественный вкус, умение сравнивать, пережива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воспитывать любовь к родной природ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357280" y="357120"/>
            <a:ext cx="4286520" cy="596736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0" y="428760"/>
            <a:ext cx="4357800" cy="3643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4643280" y="428760"/>
            <a:ext cx="4324680" cy="52387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85840" y="214200"/>
            <a:ext cx="84009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«Данное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«Новое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Лес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огучий, красивый, тихий, пустынный, спокойный, сказочный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аинственны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нег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ушистый, серебристый, белый, голубоватый, легкий, мохнатый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истый, новый.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сн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огучие, величавые, стройные, крепки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Ёлочк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аленькие, в нарядных белых платьях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им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олшебница, чародейк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ень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Ясный, морозный, зимний, холодный, чудесны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озду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вежий, холодны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13840"/>
            <a:ext cx="8229600" cy="61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Заброшенный, властвует, редко ступает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величавые, могучие, выросли на просторе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пустынно, чётко, различимы, стволы, поваленные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засыпанные, голубовато-белый массив, переднем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видим, изобразил, вверху, переливаются»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13840"/>
            <a:ext cx="8229600" cy="61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1.Пришла волшебница зим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2. Дремлет лес под сказку сн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3. Снег, снег, снег – царство     снег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4. Мое отношение к картине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0:01:20Z</dcterms:created>
  <dc:creator>Loner-XP</dc:creator>
  <dc:description/>
  <dc:language>en-US</dc:language>
  <cp:lastModifiedBy>LEGION</cp:lastModifiedBy>
  <dcterms:modified xsi:type="dcterms:W3CDTF">2015-01-20T11:55:30Z</dcterms:modified>
  <cp:revision>7</cp:revision>
  <dc:subject/>
  <dc:title>          Урок русского языка                                 3 класс</dc:title>
</cp:coreProperties>
</file>