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</p:sldIdLst>
  <p:sldSz cx="9144000" cy="6858000"/>
  <p:notesSz cx="6858000" cy="9144000"/>
  <p:custShowLst>
    <p:custShow name="Произвольный показ 1" id="0">
      <p:sldLst>
        <p:sld r:id="rId7"/>
        <p:sld r:id="rId8"/>
        <p:sld r:id="rId9"/>
        <p:sld r:id="rId10"/>
        <p:sld r:id="rId11"/>
        <p:sld r:id="rId12"/>
        <p:sld r:id="rId13"/>
        <p:sld r:id="rId14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4e7ed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f4e7ed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E10BB-03B7-4C93-ACB6-7314EB776D0C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к русского языка                            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3 клас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чинение по картине И.И. Шишкина «Зима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D5056-6EA0-4D32-91DC-45B45D55757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Цели: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-познакомить учащихся с картиной И.И. Шишкина «Зима»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Учить «читать» картину, правильно и последовательно излага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ысл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развивать художественный вкус, умение сравнивать, переживат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воспитывать любовь к родной природ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5A57D-0067-462C-AE05-A26FE25EB7F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«Данное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«Новое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с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гучий, красивый, тихий, пустынный, спокойный, сказочный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инственн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не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ушистый, серебристый, белый, голубоватый, легкий, мохнатый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истый, новый.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гучие, величавые, стройные, крепк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Ёлоч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ленькие, в нарядных белых платья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и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лшебница, чародей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н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сный, морозный, зимний, холодный, чудесны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ду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ежий, холодны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71996-8049-4285-8B00-7323E720911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«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брошенный, властвует, редко ступает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личавые, могучие, выросли на просторе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устынно, чётко, различимы, стволы, поваленные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сыпанные, голубовато-белый массив, переднем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им, изобразил, вверху, переливаются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B00A0-ED8F-4358-98B1-141B81E5CAB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н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Пришла волшебница зим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Дремлет лес под сказку с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Снег, снег, снег – царство     снег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Мое отношение к картин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60AD6-5CEF-411F-81F0-D4B4E9CD66C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CB085-0FB0-45BB-8E19-284DE0F2F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002AB-FD7E-4EB9-AF9D-58B759BE4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05354-3738-41E5-8D21-EEF4A442C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6E111-6871-4E0C-B9B5-CE96D3256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3C1AC-1F78-4851-9B77-29640EAF8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2359D-BFC6-4868-B198-00E5A1EA5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0F92D-1402-46F1-9AA1-7B29CADDC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A7A01-E348-4FCC-AEA0-451BD3F52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E353F-0CB7-45C0-9020-8947307AB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18BBE-F3A4-4F20-875A-D4847AA9E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13EE6-B41C-49D8-899C-EE1D7C5AC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6BE3B-523A-4154-AEDE-7323DB50E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F8875-6003-4C5B-860B-74F5526E5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EABF2-0943-408B-B2D8-74C8D6D62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C7160-F732-4EA6-BD73-A0A12F0B0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C2DB0-F884-414C-99E9-9846AEF39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B21E6-7B64-4A18-8992-731996172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143DD0-CE5B-46F7-9223-93DE03E08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6AF8A6-5634-4CAB-A9F5-083BDF9BC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A23F59-7DE5-495E-9DF0-00DCEBD3D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0892BC-9683-41A9-86B7-2AC1CF00B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9E9CC1-C55D-449F-A928-3BED938C7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BFA09-C71E-446D-919C-C47FAFB3D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793526-3A4A-4618-BD77-8CF3ED1BF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620104-B615-4DE7-9D12-49E243436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EC9B5E-F2F4-4208-AE64-14D36C2CB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F788E1-4137-4126-87FF-400239258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A77809-9EEE-4DCF-A36C-9DB1AE3C4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1803AF-0659-44DE-AB1A-77B8F84FE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8CF6F2-1996-419E-B8D5-5A0456F8F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101794-B46A-4521-B28B-351E21014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3C1F28-65A4-4777-9EE5-817A32A67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3BBF05-BD34-4261-85E6-B334E92B9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8CA36-7C22-4459-BB3D-1AB96A50C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783FDB-33E8-4A79-9B4B-E28A5C8D3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865594-6804-40A3-8392-CBFBDC3E0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E4B0DD-2C10-4C31-AB5E-EB835F234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EFC596-0A28-4737-9F03-9161766D7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E4823C-E668-4D19-B5A9-15DB2E85E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730455-B9AB-4002-BFEF-28F82CEAB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2E0BE0-14DE-4273-AADD-3DAB2BF52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B9B0F0-ECC9-4025-A038-DD408871E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49BFCC-6326-48BB-A081-92B0E52B0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B7D75-8D9A-416D-9866-B6CDC2903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9178E-13C1-43D8-B424-800A21A1B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05A83-8533-48F6-A2EA-4FB9BFF3C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AF15E-165C-46A5-A598-DA92E9CE5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32C36-79E6-4874-81D1-D523488CC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81438f">
                  <a:alpha val="45098"/>
                </a:srgbClr>
              </a:gs>
              <a:gs pos="100000">
                <a:srgbClr val="f3520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712">
                  <a:alpha val="45098"/>
                </a:srgbClr>
              </a:gs>
              <a:gs pos="100000">
                <a:srgbClr val="a14ab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b13f9a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de6c36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f9b63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93c93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C7859-719F-418F-B760-9DC9D2C075F9}" type="datetime">
              <a:rPr b="0" lang="ru-RU" sz="1200" spc="-1" strike="noStrike">
                <a:solidFill>
                  <a:srgbClr val="a93c93"/>
                </a:solidFill>
                <a:latin typeface="Constantia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93c93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93c93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93c93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22963-586B-410E-814F-2695B0FE4199}" type="slidenum">
              <a:rPr b="0" lang="ru-RU" sz="1200" spc="-1" strike="noStrike">
                <a:solidFill>
                  <a:srgbClr val="a93c93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81438f">
                  <a:alpha val="45098"/>
                </a:srgbClr>
              </a:gs>
              <a:gs pos="100000">
                <a:srgbClr val="f3520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712">
                  <a:alpha val="45098"/>
                </a:srgbClr>
              </a:gs>
              <a:gs pos="100000">
                <a:srgbClr val="a14ab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4e7ed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f4e7ed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de6c36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f9b63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9dce2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53285-42E2-435B-9DCB-35455686AD41}" type="datetime">
              <a:rPr b="0" lang="ru-RU" sz="1200" spc="-1" strike="noStrike">
                <a:solidFill>
                  <a:srgbClr val="e9dce2"/>
                </a:solidFill>
                <a:latin typeface="Constantia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9dce2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9dce2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9dce2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420F4-956D-40BC-AD32-E272AC4A4D3E}" type="slidenum">
              <a:rPr b="0" lang="ru-RU" sz="1200" spc="-1" strike="noStrike">
                <a:solidFill>
                  <a:srgbClr val="e9dce2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81438f">
                  <a:alpha val="45098"/>
                </a:srgbClr>
              </a:gs>
              <a:gs pos="100000">
                <a:srgbClr val="f3520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712">
                  <a:alpha val="45098"/>
                </a:srgbClr>
              </a:gs>
              <a:gs pos="100000">
                <a:srgbClr val="a14ab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4e7ed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f4e7ed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de6c36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f9b63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9dce2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FBAF0-0989-479D-9AB9-19C358338661}" type="datetime">
              <a:rPr b="0" lang="ru-RU" sz="1200" spc="-1" strike="noStrike">
                <a:solidFill>
                  <a:srgbClr val="e9dce2"/>
                </a:solidFill>
                <a:latin typeface="Constantia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9dce2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9dce2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9dce2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7F150-5950-4DE9-B807-C3131AA93E3A}" type="slidenum">
              <a:rPr b="0" lang="ru-RU" sz="1200" spc="-1" strike="noStrike">
                <a:solidFill>
                  <a:srgbClr val="e9dce2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81438f">
                  <a:alpha val="45098"/>
                </a:srgbClr>
              </a:gs>
              <a:gs pos="100000">
                <a:srgbClr val="f3520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712">
                  <a:alpha val="45098"/>
                </a:srgbClr>
              </a:gs>
              <a:gs pos="100000">
                <a:srgbClr val="a14ab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b13f9a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de6c36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f9b63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93c93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0C566-AE48-4101-B5DD-B4E2C405C7A9}" type="datetime">
              <a:rPr b="0" lang="ru-RU" sz="1200" spc="-1" strike="noStrike">
                <a:solidFill>
                  <a:srgbClr val="a93c93"/>
                </a:solidFill>
                <a:latin typeface="Constantia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93c93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93c93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93c93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9BB37-4967-45FB-AA58-B654213FFF69}" type="slidenum">
              <a:rPr b="0" lang="ru-RU" sz="1200" spc="-1" strike="noStrike">
                <a:solidFill>
                  <a:srgbClr val="a93c93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Заголовок 1" descr=""/>
          <p:cNvPicPr/>
          <p:nvPr/>
        </p:nvPicPr>
        <p:blipFill>
          <a:blip r:embed="rId1"/>
          <a:stretch/>
        </p:blipFill>
        <p:spPr>
          <a:xfrm>
            <a:off x="536400" y="1371600"/>
            <a:ext cx="12411360" cy="227340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Сочинение по картине И.И. Шишкина «Зима»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4" name="Місце для нижнього колонтитула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9dce2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Цели: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-познакомить учащихся с картиной И.И. Шишкина «Зима»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          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- Учить «читать» картину, правильно и последовательно излагать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           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мысли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          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- развивать художественный вкус, умение сравнивать, переживать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          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- воспитывать любовь к родной природе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7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93c93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5000" spc="-1" strike="noStrike">
              <a:solidFill>
                <a:srgbClr val="b13f9a"/>
              </a:solidFill>
              <a:latin typeface="Calibri"/>
            </a:endParaRPr>
          </a:p>
        </p:txBody>
      </p:sp>
      <p:pic>
        <p:nvPicPr>
          <p:cNvPr id="209" name="Picture 2" descr=""/>
          <p:cNvPicPr/>
          <p:nvPr/>
        </p:nvPicPr>
        <p:blipFill>
          <a:blip r:embed="rId1"/>
          <a:stretch/>
        </p:blipFill>
        <p:spPr>
          <a:xfrm>
            <a:off x="2357280" y="357120"/>
            <a:ext cx="4286520" cy="5967360"/>
          </a:xfrm>
          <a:prstGeom prst="rect">
            <a:avLst/>
          </a:prstGeom>
          <a:ln w="0">
            <a:noFill/>
          </a:ln>
        </p:spPr>
      </p:pic>
      <p:sp>
        <p:nvSpPr>
          <p:cNvPr id="210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93c93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3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5000" spc="-1" strike="noStrike">
              <a:solidFill>
                <a:srgbClr val="b13f9a"/>
              </a:solidFill>
              <a:latin typeface="Calibri"/>
            </a:endParaRPr>
          </a:p>
        </p:txBody>
      </p:sp>
      <p:pic>
        <p:nvPicPr>
          <p:cNvPr id="212" name="Picture 2" descr=""/>
          <p:cNvPicPr/>
          <p:nvPr/>
        </p:nvPicPr>
        <p:blipFill>
          <a:blip r:embed="rId1"/>
          <a:stretch/>
        </p:blipFill>
        <p:spPr>
          <a:xfrm>
            <a:off x="0" y="428760"/>
            <a:ext cx="4357800" cy="364320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3" descr=""/>
          <p:cNvPicPr/>
          <p:nvPr/>
        </p:nvPicPr>
        <p:blipFill>
          <a:blip r:embed="rId2"/>
          <a:stretch/>
        </p:blipFill>
        <p:spPr>
          <a:xfrm>
            <a:off x="4643280" y="428760"/>
            <a:ext cx="4324680" cy="5238720"/>
          </a:xfrm>
          <a:prstGeom prst="rect">
            <a:avLst/>
          </a:prstGeom>
          <a:ln w="0">
            <a:noFill/>
          </a:ln>
        </p:spPr>
      </p:pic>
      <p:sp>
        <p:nvSpPr>
          <p:cNvPr id="214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93c93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5000" spc="-1" strike="noStrike">
              <a:solidFill>
                <a:srgbClr val="b13f9a"/>
              </a:solidFill>
              <a:latin typeface="Calibri"/>
            </a:endParaRPr>
          </a:p>
        </p:txBody>
      </p:sp>
      <p:pic>
        <p:nvPicPr>
          <p:cNvPr id="21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7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93c93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285840" y="214200"/>
            <a:ext cx="840096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«Данное»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                                 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«Новое»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Лес</a:t>
            </a: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          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Могучий, красивый, тихий, пустынный, спокойный, сказочный,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таинственный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Снег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Пушистый, серебристый, белый, голубоватый, легкий, мохнатый,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чистый, новый.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Сосны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Могучие, величавые, стройные, крепкие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Ёлочки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Маленькие, в нарядных белых платьях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Зима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Волшебница, чародейка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День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Ясный, морозный, зимний, холодный, чудесный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Воздух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Свежий, холодный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93c93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213840"/>
            <a:ext cx="8229600" cy="611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901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«</a:t>
            </a: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Заброшенный, властвует, редко ступает, 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величавые, могучие, выросли на просторе, 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пустынно, чётко, различимы, стволы, поваленные, 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засыпанные, голубовато-белый массив, переднем, 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видим, изобразил, вверху, переливаются»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3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93c93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213840"/>
            <a:ext cx="8229600" cy="611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9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План: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           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1.Пришла волшебница зима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           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2. Дремлет лес под сказку сна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           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3. Снег, снег, снег – царство     снега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           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4. Мое отношение к картине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6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93c93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"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4T10:01:20Z</dcterms:created>
  <dc:creator>Loner-XP</dc:creator>
  <dc:description/>
  <dc:language>en-US</dc:language>
  <cp:lastModifiedBy>LEGION</cp:lastModifiedBy>
  <dcterms:modified xsi:type="dcterms:W3CDTF">2015-01-20T11:55:30Z</dcterms:modified>
  <cp:revision>7</cp:revision>
  <dc:subject/>
  <dc:title>          Урок русского языка                                 3 класс</dc:title>
</cp:coreProperties>
</file>