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6.jpeg" ContentType="image/jpeg"/>
  <Override PartName="/ppt/media/image5.jpeg" ContentType="image/jpeg"/>
  <Override PartName="/ppt/media/image28.jpeg" ContentType="image/jpeg"/>
  <Override PartName="/ppt/media/image18.png" ContentType="image/png"/>
  <Override PartName="/ppt/media/image7.jpeg" ContentType="image/jpeg"/>
  <Override PartName="/ppt/media/image19.jpeg" ContentType="image/jpeg"/>
  <Override PartName="/ppt/media/image6.png" ContentType="image/png"/>
  <Override PartName="/ppt/media/image31.png" ContentType="image/png"/>
  <Override PartName="/ppt/media/image12.jpeg" ContentType="image/jpeg"/>
  <Override PartName="/ppt/media/image29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15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11.png" ContentType="image/png"/>
  <Override PartName="/ppt/media/image9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6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787FC-E3E7-4803-B477-A9A0CC0E8531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hyperlink" Target="http://moikompas.ru/compas/Marshak" TargetMode="External"/><Relationship Id="rId2" Type="http://schemas.openxmlformats.org/officeDocument/2006/relationships/hyperlink" Target="http://moikompas.ru/img/compas/2008-10-18/marshak/64234286_orig.jpg" TargetMode="External"/><Relationship Id="rId3" Type="http://schemas.openxmlformats.org/officeDocument/2006/relationships/hyperlink" Target="http://russia.rin.ru/pictures/5680.jpg" TargetMode="External"/><Relationship Id="rId4" Type="http://schemas.openxmlformats.org/officeDocument/2006/relationships/hyperlink" Target="http://lib.gmsib.ru/pic/pages/52_421.jpg" TargetMode="External"/><Relationship Id="rId5" Type="http://schemas.openxmlformats.org/officeDocument/2006/relationships/hyperlink" Target="http://www.lenagold.ru/fon/clipart/v/vflo/flovin123.jpg" TargetMode="External"/><Relationship Id="rId6" Type="http://schemas.openxmlformats.org/officeDocument/2006/relationships/hyperlink" Target="http://s-marshak.ru/photo/family/family.htm" TargetMode="External"/><Relationship Id="rId7" Type="http://schemas.openxmlformats.org/officeDocument/2006/relationships/hyperlink" Target="http://www.lenagold.ru/fon/clipart/k/knig/kniga02.jpg" TargetMode="External"/><Relationship Id="rId8" Type="http://schemas.openxmlformats.org/officeDocument/2006/relationships/hyperlink" Target="http://www.lenagold.ru/fon/clipart/f/fonr/fonar01.jpg" TargetMode="External"/><Relationship Id="rId9" Type="http://schemas.openxmlformats.org/officeDocument/2006/relationships/hyperlink" Target="http://moikompas.ru/img/compas/2008-10-18/marshak/95642654_orig.jpg" TargetMode="External"/><Relationship Id="rId10" Type="http://schemas.openxmlformats.org/officeDocument/2006/relationships/slide" Target="../slides/slide23.xml"/><Relationship Id="rId11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../slides/slide3.xml"/><Relationship Id="rId3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лынкина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лена Александровна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итель начальных классов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сшая категор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 жизни и творчеств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. Я. Маршак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ля учащихся начальной шко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36396-3627-47D4-9B45-537F4DFB2AD3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.Маршак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анкт - Петербург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19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2E28D-89DD-49E8-852D-13B0ECD04CA1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.Я. Маршак (слева в верхнем ряду) в кругу родных и друзей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9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ACBA5-6B9A-40DB-AC52-4DD8D2B7E4CF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.Я. Маршак (слева) -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еник Острогожской гимназии с товарищ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9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23CAC-0DF6-4ED9-8265-5006D0951FBB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.Я. Маршак (справа) со старшим брат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исеем Яковлевичем Маршак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ето 190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89879-6A73-4366-8FEC-4BB4DFCE032F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.Я. Маршак (слева впереди) - ученик Ялтинской мужской гимназии - среди товарищей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9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66882-E9BC-4589-B1D1-E40D4162129E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.Я. Маршак с отцом и братьями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оят (слева направо): Самуил Яковлевич и Илья Яковлевич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дят: Яков Миронович и Моисей Яковлевич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9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C5541-054A-43FF-9F46-D6B644442513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София Михайловна Марш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ж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5990E-842C-4873-B565-1509CC37E66C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лева направо: сестра С.Я. Маршака Сусанна,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дочь Натанель, жена София, С.Я. Марша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нлянд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915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C1CB7-3B2F-4423-8907-B7A09BD2EEF7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ммануэль Самойлович Маршак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ын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FAC16-0A25-448C-AB93-7C09A175ECCC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Самуил Яковлевич </a:t>
            </a:r>
            <a:r>
              <a:rPr b="1" lang="ru-RU" sz="1400" spc="-1" strike="noStrike">
                <a:solidFill>
                  <a:srgbClr val="663300"/>
                </a:solidFill>
                <a:latin typeface="Calibri"/>
              </a:rPr>
              <a:t>Маршак</a:t>
            </a:r>
            <a:br>
              <a:rPr sz="1400"/>
            </a:br>
            <a:r>
              <a:rPr b="1" lang="ru-RU" sz="800" spc="-1" strike="noStrike">
                <a:solidFill>
                  <a:srgbClr val="663300"/>
                </a:solidFill>
                <a:latin typeface="Calibri"/>
              </a:rPr>
              <a:t>(1887-1964) 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985B7-5DDC-4C6D-A3AD-36CAE6F20893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1800" spc="-1" strike="noStrike">
                <a:solidFill>
                  <a:srgbClr val="663300"/>
                </a:solidFill>
                <a:latin typeface="Calibri"/>
              </a:rPr>
              <a:t>Пушкин не обидится!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Как-то Самуил Яковлевич Маршак в шутку спросил своего пятилетнего сына: «Чьи сказки тебе больше нравятся — мои или Александра Сергеевича  Пушкина?» </a:t>
            </a: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         </a:t>
            </a: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Мальчик сначала ничего не ответил. Тогда Самуил Яковлевич  сказал: «Ты может свободно высказать свое мнение, так как «Пушкин не обидится». </a:t>
            </a: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         </a:t>
            </a: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Мальчик, видимо, понял шутку, еще немного подумал и сказал: «Тогда обидишься ты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829F5-F6A4-486F-85B6-3B9E5B4EE062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Calibri"/>
              </a:rPr>
              <a:t>Дом на Чкаловской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Большая часть жизнь Самуила Яковлевича связана с Москв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Об этом напоминает памятная доска, установленная на доме № 14/16 по улице Чкалова, где он жил и работа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43618-BEE9-4067-AAFC-52B67A0C9852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амятник на могиле С.Я. Марша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С. Я. Маршак скончался 4 июля 1964 года в Москв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075E8-676B-4D62-94A5-E556CAB7DBA0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точники информаци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moikompas.ru/compas/Marshak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-  биография и фотоальбом С. Я. Марша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moikompas.ru/img/compas/2008-10-18/marshak/64234286_orig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амятник на могиле Марша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russia.rin.ru/pictures/5680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фото С. Я. Марш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lib.gmsib.ru/pic/pages/52_421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фото С. Я. Марша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www.lenagold.ru/fon/clipart/v/vflo/flovin123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жена С. Я. Маршака С. М. Марш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s-marshak.ru/photo/family/family.htm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фотоархив семьи С. Я. Марша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жегов С. И. Словарь русского языка: 70 000 слов/ Под ред. Н. Ю. Шведовой. - 22-е изд., стер.- М., Рус. яз., 199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www.lenagold.ru/fon/clipart/k/knig/kniga02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картинки угол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://www.lenagold.ru/fon/clipart/f/fonr/fonar01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- картинки угол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http://moikompas.ru/img/compas/2008-10-18/marshak/95642654_orig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фото С. Я. Марша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moikompas.ru/img/compas/2008-10-18/marshak/52380345_orig.jpg - рисунок «Папа с  сыном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s-marshak.ru/photo/leningrad/leningrad05.jpg - С. Я. Маршак, 19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s-marshak.ru/photo/molodost/molodost16.jpg - фото с отцом и брать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s-marshak.ru/photo/detstvo/detstvo02.jpg - С.Я. Маршак. Острогожск, 1899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s-marshak.ru/photo/detstvo/detstvo23.jpg - С.Я. Маршак в кругу родных и друзей. 19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s-marshak.ru/photo/detstvo/detstvo01.jpg - С.Я. Маршак. 188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s-marshak.ru/photo/detstvo/detstvo05.jpg - С.Я. Маршак ученик Острогожской гимназии с товарищ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s-marshak.ru/photo/detstvo/detstvo20.jpg - С.Я. Маршак со старшим братом Моисеем Яковлевич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s-marshak.ru/photo/detstvo/detstvo21.jpg -  С.Я. Маршак ученик Ялтинской мужской гимназии - среди товарищей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F5E96-69B5-4DAD-A899-F241A51900EF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Самуил Яковлевич Марша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родился 22.11.1887 в Воронежской губерн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63300"/>
                </a:solidFill>
                <a:latin typeface="Calibri"/>
              </a:rPr>
              <a:t>   </a:t>
            </a:r>
            <a:r>
              <a:rPr b="0" lang="ru-RU" sz="1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в семье заводского техника, талантливого изобретателя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B81C3-D1B3-4CD9-90CB-C5E8BDA6840F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Первый раз произведения Самуила Яковлевича Маршака напечатали в 1907 году. Это были лирические стихи и перев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Самуил Яковлевич по праву считается, мастером художественного перевода, замечательным драматургом и одним из создателей детской литератур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470A8-9C6A-46AB-936F-AB8EF84F1F1C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А началось всё, когда Маршаку было всего 4 года, уже тогда он пытался сочинять стихотворные строч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0C5B9-7041-41AA-B0F9-B5C3874BC89C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Самуил Яковлевич Маршак всю жизнь был добрым другом дет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В своих произведениях он учил ребят радоваться красоте поэтического слова. Показывал, что стихами можно рассказывать занимательные и поучительные истории и сказ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4BE05-FB13-4ADF-A7DD-9E2B659E1671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Первая детская книга Самуила Яковлевича Маршака называлась — «Детки в клетке» и   была выпущена в 1923 году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Его произведения для детей - это краткие рассказы в стих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Вряд ли сегодня найдётся ребёнок, незнакомый с  творчеством Самуила Яковлевича Марша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50772-F749-49C0-99BA-A4365E412936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Первые детские стихи поэт написал о самых маленьких и для самых маленьк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Герои многих произведений Самуила Яковлевича Маршака – животные. Рассказывая о них, писатель подразумевает поступки людей и взаимоотношения между ни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D994A-7EB2-4BF3-B297-E338CF4F3A8B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На творческих встречах Самуил Яковлевич Маршак любил читать детям свои стих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Его популярность может поспорить разве что со славой Корнея Ивановича Чуковск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45552-CF2B-43E5-B944-56F87EBCC085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0132-9607-4BDB-8A44-D3C993AFF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898F-DC17-40A6-B1CA-FD0EE969A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9ED1-7F28-41F5-BF8E-F0678CFE8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ADC9-5803-4145-895E-16D90BC70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0CC7-20D6-4A84-9883-5551D93D6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DB9D-4C52-4C2B-8A27-64390C1AB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C947-9851-4E0E-A0B2-1B746D586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6894-A48C-4D98-AE81-6D66C7A28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BF62-9232-4C39-A077-B824D05A0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C730-D8D8-493E-80D2-F5B709009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0992-0AA2-4457-BBF0-8A6F61F0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45E0-2CA1-4E86-8B91-8F6C2F4AA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AEFA3-5416-4E50-8C6A-9A5E0AA62B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" Target="slide3.xml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" Target="slide2.xml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moikompas.ru/compas/Marshak" TargetMode="External"/><Relationship Id="rId2" Type="http://schemas.openxmlformats.org/officeDocument/2006/relationships/hyperlink" Target="http://moikompas.ru/img/compas/2008-10-18/marshak/64234286_orig.jpg" TargetMode="External"/><Relationship Id="rId3" Type="http://schemas.openxmlformats.org/officeDocument/2006/relationships/hyperlink" Target="http://russia.rin.ru/pictures/5680.jpg" TargetMode="External"/><Relationship Id="rId4" Type="http://schemas.openxmlformats.org/officeDocument/2006/relationships/hyperlink" Target="http://lib.gmsib.ru/pic/pages/52_421.jpg" TargetMode="External"/><Relationship Id="rId5" Type="http://schemas.openxmlformats.org/officeDocument/2006/relationships/hyperlink" Target="http://www.lenagold.ru/fon/clipart/v/vflo/flovin123.jpg" TargetMode="External"/><Relationship Id="rId6" Type="http://schemas.openxmlformats.org/officeDocument/2006/relationships/hyperlink" Target="http://s-marshak.ru/photo/family/family.htm" TargetMode="External"/><Relationship Id="rId7" Type="http://schemas.openxmlformats.org/officeDocument/2006/relationships/hyperlink" Target="http://www.lenagold.ru/fon/clipart/k/knig/kniga02.jpg" TargetMode="External"/><Relationship Id="rId8" Type="http://schemas.openxmlformats.org/officeDocument/2006/relationships/hyperlink" Target="http://www.lenagold.ru/fon/clipart/f/fonr/fonar01.jpg" TargetMode="External"/><Relationship Id="rId9" Type="http://schemas.openxmlformats.org/officeDocument/2006/relationships/hyperlink" Target="http://moikompas.ru/img/compas/2008-10-18/marshak/95642654_orig.jpg" TargetMode="External"/><Relationship Id="rId10" Type="http://schemas.openxmlformats.org/officeDocument/2006/relationships/hyperlink" Target="http://moikompas.ru/img/compas/2008-10-18/marshak/52380345_orig.jpg" TargetMode="External"/><Relationship Id="rId11" Type="http://schemas.openxmlformats.org/officeDocument/2006/relationships/hyperlink" Target="http://s-marshak.ru/photo/leningrad/leningrad05.jpg" TargetMode="External"/><Relationship Id="rId12" Type="http://schemas.openxmlformats.org/officeDocument/2006/relationships/hyperlink" Target="http://s-marshak.ru/photo/molodost/molodost16.jpg" TargetMode="External"/><Relationship Id="rId13" Type="http://schemas.openxmlformats.org/officeDocument/2006/relationships/hyperlink" Target="http://s-marshak.ru/photo/detstvo/detstvo02.jpg" TargetMode="External"/><Relationship Id="rId14" Type="http://schemas.openxmlformats.org/officeDocument/2006/relationships/hyperlink" Target="http://s-marshak.ru/photo/detstvo/detstvo23.jpg" TargetMode="External"/><Relationship Id="rId15" Type="http://schemas.openxmlformats.org/officeDocument/2006/relationships/hyperlink" Target="http://s-marshak.ru/photo/detstvo/detstvo01.jpg" TargetMode="External"/><Relationship Id="rId16" Type="http://schemas.openxmlformats.org/officeDocument/2006/relationships/hyperlink" Target="http://s-marshak.ru/photo/detstvo/detstvo05.jpg" TargetMode="External"/><Relationship Id="rId17" Type="http://schemas.openxmlformats.org/officeDocument/2006/relationships/hyperlink" Target="http://s-marshak.ru/photo/detstvo/detstvo20.jpg" TargetMode="External"/><Relationship Id="rId18" Type="http://schemas.openxmlformats.org/officeDocument/2006/relationships/hyperlink" Target="http://s-marshak.ru/photo/detstvo/detstvo21.jpg" TargetMode="External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551628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лынкина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лена Александровна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сшая категория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00000" y="1628280"/>
            <a:ext cx="752184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 жизни и творчеств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. Я. Марша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для учащихся начальной шко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kniga02"/>
          <p:cNvPicPr/>
          <p:nvPr/>
        </p:nvPicPr>
        <p:blipFill>
          <a:blip r:embed="rId1"/>
          <a:stretch/>
        </p:blipFill>
        <p:spPr>
          <a:xfrm>
            <a:off x="-252360" y="0"/>
            <a:ext cx="2627280" cy="256536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12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5029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93" h="21600">
                <a:moveTo>
                  <a:pt x="0" y="0"/>
                </a:moveTo>
                <a:lnTo>
                  <a:pt x="21693" y="0"/>
                </a:lnTo>
                <a:lnTo>
                  <a:pt x="21693" y="21600"/>
                </a:lnTo>
                <a:lnTo>
                  <a:pt x="0" y="21600"/>
                </a:lnTo>
                <a:close/>
              </a:path>
              <a:path fill="lightenLess" w="21693" h="21600">
                <a:moveTo>
                  <a:pt x="0" y="0"/>
                </a:moveTo>
                <a:lnTo>
                  <a:pt x="21693" y="0"/>
                </a:lnTo>
                <a:lnTo>
                  <a:pt x="20293" y="1400"/>
                </a:lnTo>
                <a:lnTo>
                  <a:pt x="1400" y="1400"/>
                </a:lnTo>
                <a:close/>
              </a:path>
              <a:path fill="darken" w="21693" h="21600">
                <a:moveTo>
                  <a:pt x="21693" y="0"/>
                </a:moveTo>
                <a:lnTo>
                  <a:pt x="21693" y="21600"/>
                </a:lnTo>
                <a:lnTo>
                  <a:pt x="20293" y="20200"/>
                </a:lnTo>
                <a:lnTo>
                  <a:pt x="20293" y="1400"/>
                </a:lnTo>
                <a:close/>
              </a:path>
              <a:path fill="darkenLess" w="21693" h="21600">
                <a:moveTo>
                  <a:pt x="21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3" y="20200"/>
                </a:lnTo>
                <a:close/>
              </a:path>
              <a:path fill="lighten" w="21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3" h="21600">
                <a:moveTo>
                  <a:pt x="3840" y="3794"/>
                </a:moveTo>
                <a:lnTo>
                  <a:pt x="17853" y="10800"/>
                </a:lnTo>
                <a:lnTo>
                  <a:pt x="3840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8"/>
          <p:cNvSpPr/>
          <p:nvPr/>
        </p:nvSpPr>
        <p:spPr>
          <a:xfrm>
            <a:off x="2355480" y="262440"/>
            <a:ext cx="595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Государственное бюджетное общеобразовательное учреждение Самарской област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редняя общеобразовательная школ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разовательный центр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с. Александровк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муниципального района Кинель-Черкасский Самарской области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55640" y="5300640"/>
            <a:ext cx="381636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.Маршак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нкт - Петербург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19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detstvo24"/>
          <p:cNvPicPr/>
          <p:nvPr/>
        </p:nvPicPr>
        <p:blipFill>
          <a:blip r:embed="rId1"/>
          <a:srcRect l="0" t="10296" r="0" b="0"/>
          <a:stretch/>
        </p:blipFill>
        <p:spPr>
          <a:xfrm>
            <a:off x="4643280" y="620640"/>
            <a:ext cx="3670560" cy="48150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1" name="Rectangle 5"/>
          <p:cNvSpPr/>
          <p:nvPr/>
        </p:nvSpPr>
        <p:spPr>
          <a:xfrm rot="20589600">
            <a:off x="-323640" y="1628640"/>
            <a:ext cx="64436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Из фотоальбома  семьи</a:t>
            </a:r>
            <a:br>
              <a:rPr sz="1600"/>
            </a:br>
            <a:r>
              <a:rPr b="0" lang="ru-RU" sz="3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Самуила Яковлевича Маршака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6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5029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93" h="21600">
                <a:moveTo>
                  <a:pt x="0" y="0"/>
                </a:moveTo>
                <a:lnTo>
                  <a:pt x="21693" y="0"/>
                </a:lnTo>
                <a:lnTo>
                  <a:pt x="21693" y="21600"/>
                </a:lnTo>
                <a:lnTo>
                  <a:pt x="0" y="21600"/>
                </a:lnTo>
                <a:close/>
              </a:path>
              <a:path fill="lightenLess" w="21693" h="21600">
                <a:moveTo>
                  <a:pt x="0" y="0"/>
                </a:moveTo>
                <a:lnTo>
                  <a:pt x="21693" y="0"/>
                </a:lnTo>
                <a:lnTo>
                  <a:pt x="20293" y="1400"/>
                </a:lnTo>
                <a:lnTo>
                  <a:pt x="1400" y="1400"/>
                </a:lnTo>
                <a:close/>
              </a:path>
              <a:path fill="darken" w="21693" h="21600">
                <a:moveTo>
                  <a:pt x="21693" y="0"/>
                </a:moveTo>
                <a:lnTo>
                  <a:pt x="21693" y="21600"/>
                </a:lnTo>
                <a:lnTo>
                  <a:pt x="20293" y="20200"/>
                </a:lnTo>
                <a:lnTo>
                  <a:pt x="20293" y="1400"/>
                </a:lnTo>
                <a:close/>
              </a:path>
              <a:path fill="darkenLess" w="21693" h="21600">
                <a:moveTo>
                  <a:pt x="21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3" y="20200"/>
                </a:lnTo>
                <a:close/>
              </a:path>
              <a:path fill="lighten" w="21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3" h="21600">
                <a:moveTo>
                  <a:pt x="3840" y="3794"/>
                </a:moveTo>
                <a:lnTo>
                  <a:pt x="17853" y="10800"/>
                </a:lnTo>
                <a:lnTo>
                  <a:pt x="3840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0" descr="С.Я. Маршак в кругу родных и близких"/>
          <p:cNvPicPr/>
          <p:nvPr/>
        </p:nvPicPr>
        <p:blipFill>
          <a:blip r:embed="rId1"/>
          <a:srcRect l="3450" t="0" r="17235" b="-445"/>
          <a:stretch/>
        </p:blipFill>
        <p:spPr>
          <a:xfrm>
            <a:off x="1835280" y="476280"/>
            <a:ext cx="5327640" cy="44784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123640" y="5373360"/>
            <a:ext cx="4907160" cy="12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.Я. Маршак (слева в верхнем ряду) в кругу родных и друзей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9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1" descr="fonar01"/>
          <p:cNvPicPr/>
          <p:nvPr/>
        </p:nvPicPr>
        <p:blipFill>
          <a:blip r:embed="rId2"/>
          <a:stretch/>
        </p:blipFill>
        <p:spPr>
          <a:xfrm>
            <a:off x="1258920" y="3429000"/>
            <a:ext cx="1905120" cy="171468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13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5029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93" h="21600">
                <a:moveTo>
                  <a:pt x="0" y="0"/>
                </a:moveTo>
                <a:lnTo>
                  <a:pt x="21693" y="0"/>
                </a:lnTo>
                <a:lnTo>
                  <a:pt x="21693" y="21600"/>
                </a:lnTo>
                <a:lnTo>
                  <a:pt x="0" y="21600"/>
                </a:lnTo>
                <a:close/>
              </a:path>
              <a:path fill="lightenLess" w="21693" h="21600">
                <a:moveTo>
                  <a:pt x="0" y="0"/>
                </a:moveTo>
                <a:lnTo>
                  <a:pt x="21693" y="0"/>
                </a:lnTo>
                <a:lnTo>
                  <a:pt x="20293" y="1400"/>
                </a:lnTo>
                <a:lnTo>
                  <a:pt x="1400" y="1400"/>
                </a:lnTo>
                <a:close/>
              </a:path>
              <a:path fill="darken" w="21693" h="21600">
                <a:moveTo>
                  <a:pt x="21693" y="0"/>
                </a:moveTo>
                <a:lnTo>
                  <a:pt x="21693" y="21600"/>
                </a:lnTo>
                <a:lnTo>
                  <a:pt x="20293" y="20200"/>
                </a:lnTo>
                <a:lnTo>
                  <a:pt x="20293" y="1400"/>
                </a:lnTo>
                <a:close/>
              </a:path>
              <a:path fill="darkenLess" w="21693" h="21600">
                <a:moveTo>
                  <a:pt x="21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3" y="20200"/>
                </a:lnTo>
                <a:close/>
              </a:path>
              <a:path fill="lighten" w="21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3" h="21600">
                <a:moveTo>
                  <a:pt x="3840" y="3794"/>
                </a:moveTo>
                <a:lnTo>
                  <a:pt x="17853" y="10800"/>
                </a:lnTo>
                <a:lnTo>
                  <a:pt x="3840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6" descr="отец"/>
          <p:cNvPicPr/>
          <p:nvPr/>
        </p:nvPicPr>
        <p:blipFill>
          <a:blip r:embed="rId1"/>
          <a:stretch/>
        </p:blipFill>
        <p:spPr>
          <a:xfrm>
            <a:off x="755640" y="333360"/>
            <a:ext cx="3382920" cy="489600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0" name="Picture 7" descr="мать"/>
          <p:cNvPicPr/>
          <p:nvPr/>
        </p:nvPicPr>
        <p:blipFill>
          <a:blip r:embed="rId2"/>
          <a:stretch/>
        </p:blipFill>
        <p:spPr>
          <a:xfrm>
            <a:off x="4643280" y="333360"/>
            <a:ext cx="3600720" cy="482436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01" name="AutoShape 9">
            <a:hlinkClick r:id="rId3" action="ppaction://hlinksldjump"/>
          </p:cNvPr>
          <p:cNvSpPr/>
          <p:nvPr/>
        </p:nvSpPr>
        <p:spPr>
          <a:xfrm>
            <a:off x="817236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0"/>
          <p:cNvSpPr/>
          <p:nvPr/>
        </p:nvSpPr>
        <p:spPr>
          <a:xfrm>
            <a:off x="680400" y="5300640"/>
            <a:ext cx="338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ков Миронович Маршак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е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4610160" y="5275440"/>
            <a:ext cx="374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вгения Борисовна Маршак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т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23640" y="5013360"/>
            <a:ext cx="856908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.Я. Маршак (слева) -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еник Острогожской гимназии с товарищ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9" descr="detstvo05"/>
          <p:cNvPicPr/>
          <p:nvPr/>
        </p:nvPicPr>
        <p:blipFill>
          <a:blip r:embed="rId1"/>
          <a:srcRect l="0" t="6387" r="0" b="7718"/>
          <a:stretch/>
        </p:blipFill>
        <p:spPr>
          <a:xfrm>
            <a:off x="2700360" y="476280"/>
            <a:ext cx="4124160" cy="417672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7" name="Picture 10" descr="fonar01"/>
          <p:cNvPicPr/>
          <p:nvPr/>
        </p:nvPicPr>
        <p:blipFill>
          <a:blip r:embed="rId2"/>
          <a:stretch/>
        </p:blipFill>
        <p:spPr>
          <a:xfrm>
            <a:off x="2050920" y="3213000"/>
            <a:ext cx="1905120" cy="171468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11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5029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93" h="21600">
                <a:moveTo>
                  <a:pt x="0" y="0"/>
                </a:moveTo>
                <a:lnTo>
                  <a:pt x="21693" y="0"/>
                </a:lnTo>
                <a:lnTo>
                  <a:pt x="21693" y="21600"/>
                </a:lnTo>
                <a:lnTo>
                  <a:pt x="0" y="21600"/>
                </a:lnTo>
                <a:close/>
              </a:path>
              <a:path fill="lightenLess" w="21693" h="21600">
                <a:moveTo>
                  <a:pt x="0" y="0"/>
                </a:moveTo>
                <a:lnTo>
                  <a:pt x="21693" y="0"/>
                </a:lnTo>
                <a:lnTo>
                  <a:pt x="20293" y="1400"/>
                </a:lnTo>
                <a:lnTo>
                  <a:pt x="1400" y="1400"/>
                </a:lnTo>
                <a:close/>
              </a:path>
              <a:path fill="darken" w="21693" h="21600">
                <a:moveTo>
                  <a:pt x="21693" y="0"/>
                </a:moveTo>
                <a:lnTo>
                  <a:pt x="21693" y="21600"/>
                </a:lnTo>
                <a:lnTo>
                  <a:pt x="20293" y="20200"/>
                </a:lnTo>
                <a:lnTo>
                  <a:pt x="20293" y="1400"/>
                </a:lnTo>
                <a:close/>
              </a:path>
              <a:path fill="darkenLess" w="21693" h="21600">
                <a:moveTo>
                  <a:pt x="21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3" y="20200"/>
                </a:lnTo>
                <a:close/>
              </a:path>
              <a:path fill="lighten" w="21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3" h="21600">
                <a:moveTo>
                  <a:pt x="3840" y="3794"/>
                </a:moveTo>
                <a:lnTo>
                  <a:pt x="17853" y="10800"/>
                </a:lnTo>
                <a:lnTo>
                  <a:pt x="3840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539640" y="5516280"/>
            <a:ext cx="777744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.Я. Маршак (справа) со старшим брат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исеем Яковлевичем Маршак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то 190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1" descr="С.Я. Маршак и М.Я. Маршак"/>
          <p:cNvPicPr/>
          <p:nvPr/>
        </p:nvPicPr>
        <p:blipFill>
          <a:blip r:embed="rId1"/>
          <a:stretch/>
        </p:blipFill>
        <p:spPr>
          <a:xfrm>
            <a:off x="2916360" y="404640"/>
            <a:ext cx="3200400" cy="46800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12" name="Picture 12" descr="fonar01"/>
          <p:cNvPicPr/>
          <p:nvPr/>
        </p:nvPicPr>
        <p:blipFill>
          <a:blip r:embed="rId2"/>
          <a:stretch/>
        </p:blipFill>
        <p:spPr>
          <a:xfrm>
            <a:off x="2340000" y="3573360"/>
            <a:ext cx="1905120" cy="171468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13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5029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93" h="21600">
                <a:moveTo>
                  <a:pt x="0" y="0"/>
                </a:moveTo>
                <a:lnTo>
                  <a:pt x="21693" y="0"/>
                </a:lnTo>
                <a:lnTo>
                  <a:pt x="21693" y="21600"/>
                </a:lnTo>
                <a:lnTo>
                  <a:pt x="0" y="21600"/>
                </a:lnTo>
                <a:close/>
              </a:path>
              <a:path fill="lightenLess" w="21693" h="21600">
                <a:moveTo>
                  <a:pt x="0" y="0"/>
                </a:moveTo>
                <a:lnTo>
                  <a:pt x="21693" y="0"/>
                </a:lnTo>
                <a:lnTo>
                  <a:pt x="20293" y="1400"/>
                </a:lnTo>
                <a:lnTo>
                  <a:pt x="1400" y="1400"/>
                </a:lnTo>
                <a:close/>
              </a:path>
              <a:path fill="darken" w="21693" h="21600">
                <a:moveTo>
                  <a:pt x="21693" y="0"/>
                </a:moveTo>
                <a:lnTo>
                  <a:pt x="21693" y="21600"/>
                </a:lnTo>
                <a:lnTo>
                  <a:pt x="20293" y="20200"/>
                </a:lnTo>
                <a:lnTo>
                  <a:pt x="20293" y="1400"/>
                </a:lnTo>
                <a:close/>
              </a:path>
              <a:path fill="darkenLess" w="21693" h="21600">
                <a:moveTo>
                  <a:pt x="21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3" y="20200"/>
                </a:lnTo>
                <a:close/>
              </a:path>
              <a:path fill="lighten" w="21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3" h="21600">
                <a:moveTo>
                  <a:pt x="3840" y="3794"/>
                </a:moveTo>
                <a:lnTo>
                  <a:pt x="17853" y="10800"/>
                </a:lnTo>
                <a:lnTo>
                  <a:pt x="3840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24000" y="5676480"/>
            <a:ext cx="864072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.Я. Маршак (слева впереди) - ученик Ялтинской мужской гимназии - среди товарищей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9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8" descr="detstvo21"/>
          <p:cNvPicPr/>
          <p:nvPr/>
        </p:nvPicPr>
        <p:blipFill>
          <a:blip r:embed="rId1"/>
          <a:srcRect l="0" t="7204" r="0" b="0"/>
          <a:stretch/>
        </p:blipFill>
        <p:spPr>
          <a:xfrm>
            <a:off x="2627280" y="333360"/>
            <a:ext cx="4002120" cy="497844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17" name="Picture 10" descr="fonar01"/>
          <p:cNvPicPr/>
          <p:nvPr/>
        </p:nvPicPr>
        <p:blipFill>
          <a:blip r:embed="rId2"/>
          <a:stretch/>
        </p:blipFill>
        <p:spPr>
          <a:xfrm>
            <a:off x="2050920" y="3860640"/>
            <a:ext cx="1905120" cy="1714680"/>
          </a:xfrm>
          <a:prstGeom prst="rect">
            <a:avLst/>
          </a:prstGeom>
          <a:ln w="0">
            <a:noFill/>
          </a:ln>
        </p:spPr>
      </p:pic>
      <p:sp>
        <p:nvSpPr>
          <p:cNvPr id="118" name="AutoShape 11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5029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93" h="21600">
                <a:moveTo>
                  <a:pt x="0" y="0"/>
                </a:moveTo>
                <a:lnTo>
                  <a:pt x="21693" y="0"/>
                </a:lnTo>
                <a:lnTo>
                  <a:pt x="21693" y="21600"/>
                </a:lnTo>
                <a:lnTo>
                  <a:pt x="0" y="21600"/>
                </a:lnTo>
                <a:close/>
              </a:path>
              <a:path fill="lightenLess" w="21693" h="21600">
                <a:moveTo>
                  <a:pt x="0" y="0"/>
                </a:moveTo>
                <a:lnTo>
                  <a:pt x="21693" y="0"/>
                </a:lnTo>
                <a:lnTo>
                  <a:pt x="20293" y="1400"/>
                </a:lnTo>
                <a:lnTo>
                  <a:pt x="1400" y="1400"/>
                </a:lnTo>
                <a:close/>
              </a:path>
              <a:path fill="darken" w="21693" h="21600">
                <a:moveTo>
                  <a:pt x="21693" y="0"/>
                </a:moveTo>
                <a:lnTo>
                  <a:pt x="21693" y="21600"/>
                </a:lnTo>
                <a:lnTo>
                  <a:pt x="20293" y="20200"/>
                </a:lnTo>
                <a:lnTo>
                  <a:pt x="20293" y="1400"/>
                </a:lnTo>
                <a:close/>
              </a:path>
              <a:path fill="darkenLess" w="21693" h="21600">
                <a:moveTo>
                  <a:pt x="21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3" y="20200"/>
                </a:lnTo>
                <a:close/>
              </a:path>
              <a:path fill="lighten" w="21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3" h="21600">
                <a:moveTo>
                  <a:pt x="3840" y="3794"/>
                </a:moveTo>
                <a:lnTo>
                  <a:pt x="17853" y="10800"/>
                </a:lnTo>
                <a:lnTo>
                  <a:pt x="3840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0" y="5445000"/>
            <a:ext cx="8964720" cy="12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.Я. Маршак с отцом и братьями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оят (слева направо): Самуил Яковлевич и Илья Яковлевич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дят: Яков Миронович и Моисей Яковлевич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9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8" descr="С.Я. Маршак с отцом и братьями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2916360" y="476280"/>
            <a:ext cx="3456000" cy="460836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2" name="AutoShape 11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5029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93" h="21600">
                <a:moveTo>
                  <a:pt x="0" y="0"/>
                </a:moveTo>
                <a:lnTo>
                  <a:pt x="21693" y="0"/>
                </a:lnTo>
                <a:lnTo>
                  <a:pt x="21693" y="21600"/>
                </a:lnTo>
                <a:lnTo>
                  <a:pt x="0" y="21600"/>
                </a:lnTo>
                <a:close/>
              </a:path>
              <a:path fill="lightenLess" w="21693" h="21600">
                <a:moveTo>
                  <a:pt x="0" y="0"/>
                </a:moveTo>
                <a:lnTo>
                  <a:pt x="21693" y="0"/>
                </a:lnTo>
                <a:lnTo>
                  <a:pt x="20293" y="1400"/>
                </a:lnTo>
                <a:lnTo>
                  <a:pt x="1400" y="1400"/>
                </a:lnTo>
                <a:close/>
              </a:path>
              <a:path fill="darken" w="21693" h="21600">
                <a:moveTo>
                  <a:pt x="21693" y="0"/>
                </a:moveTo>
                <a:lnTo>
                  <a:pt x="21693" y="21600"/>
                </a:lnTo>
                <a:lnTo>
                  <a:pt x="20293" y="20200"/>
                </a:lnTo>
                <a:lnTo>
                  <a:pt x="20293" y="1400"/>
                </a:lnTo>
                <a:close/>
              </a:path>
              <a:path fill="darkenLess" w="21693" h="21600">
                <a:moveTo>
                  <a:pt x="21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3" y="20200"/>
                </a:lnTo>
                <a:close/>
              </a:path>
              <a:path fill="lighten" w="21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3" h="21600">
                <a:moveTo>
                  <a:pt x="3840" y="3794"/>
                </a:moveTo>
                <a:lnTo>
                  <a:pt x="17853" y="10800"/>
                </a:lnTo>
                <a:lnTo>
                  <a:pt x="3840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2" descr="fonar01"/>
          <p:cNvPicPr/>
          <p:nvPr/>
        </p:nvPicPr>
        <p:blipFill>
          <a:blip r:embed="rId2"/>
          <a:stretch/>
        </p:blipFill>
        <p:spPr>
          <a:xfrm>
            <a:off x="2340000" y="3645000"/>
            <a:ext cx="1905120" cy="171432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family09"/>
          <p:cNvPicPr/>
          <p:nvPr/>
        </p:nvPicPr>
        <p:blipFill>
          <a:blip r:embed="rId1"/>
          <a:stretch/>
        </p:blipFill>
        <p:spPr>
          <a:xfrm>
            <a:off x="2556000" y="476280"/>
            <a:ext cx="3528720" cy="4997520"/>
          </a:xfrm>
          <a:prstGeom prst="rect">
            <a:avLst/>
          </a:prstGeom>
          <a:ln w="7632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6" name="Rectangle 4"/>
          <p:cNvSpPr/>
          <p:nvPr/>
        </p:nvSpPr>
        <p:spPr>
          <a:xfrm>
            <a:off x="2630880" y="5734080"/>
            <a:ext cx="339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фия Михайловна Маршак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ен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flovin123"/>
          <p:cNvPicPr/>
          <p:nvPr/>
        </p:nvPicPr>
        <p:blipFill>
          <a:blip r:embed="rId2"/>
          <a:stretch/>
        </p:blipFill>
        <p:spPr>
          <a:xfrm>
            <a:off x="1835280" y="4005360"/>
            <a:ext cx="1619280" cy="1714320"/>
          </a:xfrm>
          <a:prstGeom prst="rect">
            <a:avLst/>
          </a:prstGeom>
          <a:ln w="0">
            <a:noFill/>
          </a:ln>
        </p:spPr>
      </p:pic>
      <p:sp>
        <p:nvSpPr>
          <p:cNvPr id="128" name="AutoShape 8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5029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93" h="21600">
                <a:moveTo>
                  <a:pt x="0" y="0"/>
                </a:moveTo>
                <a:lnTo>
                  <a:pt x="21693" y="0"/>
                </a:lnTo>
                <a:lnTo>
                  <a:pt x="21693" y="21600"/>
                </a:lnTo>
                <a:lnTo>
                  <a:pt x="0" y="21600"/>
                </a:lnTo>
                <a:close/>
              </a:path>
              <a:path fill="lightenLess" w="21693" h="21600">
                <a:moveTo>
                  <a:pt x="0" y="0"/>
                </a:moveTo>
                <a:lnTo>
                  <a:pt x="21693" y="0"/>
                </a:lnTo>
                <a:lnTo>
                  <a:pt x="20293" y="1400"/>
                </a:lnTo>
                <a:lnTo>
                  <a:pt x="1400" y="1400"/>
                </a:lnTo>
                <a:close/>
              </a:path>
              <a:path fill="darken" w="21693" h="21600">
                <a:moveTo>
                  <a:pt x="21693" y="0"/>
                </a:moveTo>
                <a:lnTo>
                  <a:pt x="21693" y="21600"/>
                </a:lnTo>
                <a:lnTo>
                  <a:pt x="20293" y="20200"/>
                </a:lnTo>
                <a:lnTo>
                  <a:pt x="20293" y="1400"/>
                </a:lnTo>
                <a:close/>
              </a:path>
              <a:path fill="darkenLess" w="21693" h="21600">
                <a:moveTo>
                  <a:pt x="21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3" y="20200"/>
                </a:lnTo>
                <a:close/>
              </a:path>
              <a:path fill="lighten" w="21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3" h="21600">
                <a:moveTo>
                  <a:pt x="3840" y="3794"/>
                </a:moveTo>
                <a:lnTo>
                  <a:pt x="17853" y="10800"/>
                </a:lnTo>
                <a:lnTo>
                  <a:pt x="3840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9" descr="molodost14"/>
          <p:cNvPicPr/>
          <p:nvPr/>
        </p:nvPicPr>
        <p:blipFill>
          <a:blip r:embed="rId1"/>
          <a:stretch/>
        </p:blipFill>
        <p:spPr>
          <a:xfrm>
            <a:off x="1547640" y="333360"/>
            <a:ext cx="6337440" cy="414648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68360" y="4869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лева направо: сестра С.Я. Маршака Сусанна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дочь Натанель, жена София, С.Я. Марша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нлянд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915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3" descr="fonar01"/>
          <p:cNvPicPr/>
          <p:nvPr/>
        </p:nvPicPr>
        <p:blipFill>
          <a:blip r:embed="rId2"/>
          <a:stretch/>
        </p:blipFill>
        <p:spPr>
          <a:xfrm>
            <a:off x="900000" y="3068640"/>
            <a:ext cx="1905120" cy="171432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5029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93" h="21600">
                <a:moveTo>
                  <a:pt x="0" y="0"/>
                </a:moveTo>
                <a:lnTo>
                  <a:pt x="21693" y="0"/>
                </a:lnTo>
                <a:lnTo>
                  <a:pt x="21693" y="21600"/>
                </a:lnTo>
                <a:lnTo>
                  <a:pt x="0" y="21600"/>
                </a:lnTo>
                <a:close/>
              </a:path>
              <a:path fill="lightenLess" w="21693" h="21600">
                <a:moveTo>
                  <a:pt x="0" y="0"/>
                </a:moveTo>
                <a:lnTo>
                  <a:pt x="21693" y="0"/>
                </a:lnTo>
                <a:lnTo>
                  <a:pt x="20293" y="1400"/>
                </a:lnTo>
                <a:lnTo>
                  <a:pt x="1400" y="1400"/>
                </a:lnTo>
                <a:close/>
              </a:path>
              <a:path fill="darken" w="21693" h="21600">
                <a:moveTo>
                  <a:pt x="21693" y="0"/>
                </a:moveTo>
                <a:lnTo>
                  <a:pt x="21693" y="21600"/>
                </a:lnTo>
                <a:lnTo>
                  <a:pt x="20293" y="20200"/>
                </a:lnTo>
                <a:lnTo>
                  <a:pt x="20293" y="1400"/>
                </a:lnTo>
                <a:close/>
              </a:path>
              <a:path fill="darkenLess" w="21693" h="21600">
                <a:moveTo>
                  <a:pt x="21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3" y="20200"/>
                </a:lnTo>
                <a:close/>
              </a:path>
              <a:path fill="lighten" w="21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3" h="21600">
                <a:moveTo>
                  <a:pt x="3840" y="3794"/>
                </a:moveTo>
                <a:lnTo>
                  <a:pt x="17853" y="10800"/>
                </a:lnTo>
                <a:lnTo>
                  <a:pt x="3840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16000" y="515736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мануэль Самойлович Маршак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ын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8" descr="family07"/>
          <p:cNvPicPr/>
          <p:nvPr/>
        </p:nvPicPr>
        <p:blipFill>
          <a:blip r:embed="rId1"/>
          <a:srcRect l="0" t="0" r="37782" b="0"/>
          <a:stretch/>
        </p:blipFill>
        <p:spPr>
          <a:xfrm>
            <a:off x="2676600" y="620640"/>
            <a:ext cx="3911400" cy="410364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37" name="AutoShape 16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5029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93" h="21600">
                <a:moveTo>
                  <a:pt x="0" y="0"/>
                </a:moveTo>
                <a:lnTo>
                  <a:pt x="21693" y="0"/>
                </a:lnTo>
                <a:lnTo>
                  <a:pt x="21693" y="21600"/>
                </a:lnTo>
                <a:lnTo>
                  <a:pt x="0" y="21600"/>
                </a:lnTo>
                <a:close/>
              </a:path>
              <a:path fill="lightenLess" w="21693" h="21600">
                <a:moveTo>
                  <a:pt x="0" y="0"/>
                </a:moveTo>
                <a:lnTo>
                  <a:pt x="21693" y="0"/>
                </a:lnTo>
                <a:lnTo>
                  <a:pt x="20293" y="1400"/>
                </a:lnTo>
                <a:lnTo>
                  <a:pt x="1400" y="1400"/>
                </a:lnTo>
                <a:close/>
              </a:path>
              <a:path fill="darken" w="21693" h="21600">
                <a:moveTo>
                  <a:pt x="21693" y="0"/>
                </a:moveTo>
                <a:lnTo>
                  <a:pt x="21693" y="21600"/>
                </a:lnTo>
                <a:lnTo>
                  <a:pt x="20293" y="20200"/>
                </a:lnTo>
                <a:lnTo>
                  <a:pt x="20293" y="1400"/>
                </a:lnTo>
                <a:close/>
              </a:path>
              <a:path fill="darkenLess" w="21693" h="21600">
                <a:moveTo>
                  <a:pt x="21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3" y="20200"/>
                </a:lnTo>
                <a:close/>
              </a:path>
              <a:path fill="lighten" w="21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3" h="21600">
                <a:moveTo>
                  <a:pt x="3840" y="3794"/>
                </a:moveTo>
                <a:lnTo>
                  <a:pt x="17853" y="10800"/>
                </a:lnTo>
                <a:lnTo>
                  <a:pt x="3840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7" descr="fonar01"/>
          <p:cNvPicPr/>
          <p:nvPr/>
        </p:nvPicPr>
        <p:blipFill>
          <a:blip r:embed="rId2"/>
          <a:stretch/>
        </p:blipFill>
        <p:spPr>
          <a:xfrm>
            <a:off x="2050920" y="3284640"/>
            <a:ext cx="1905120" cy="171432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627280" y="274680"/>
            <a:ext cx="6059520" cy="31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Самуил Яковлевич </a:t>
            </a:r>
            <a:r>
              <a:rPr b="1" lang="ru-RU" sz="4800" spc="-1" strike="noStrike">
                <a:solidFill>
                  <a:srgbClr val="663300"/>
                </a:solidFill>
                <a:latin typeface="Arial"/>
              </a:rPr>
              <a:t>Маршак</a:t>
            </a:r>
            <a:br>
              <a:rPr sz="48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(1887-1964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6" descr="5680"/>
          <p:cNvPicPr/>
          <p:nvPr/>
        </p:nvPicPr>
        <p:blipFill>
          <a:blip r:embed="rId1"/>
          <a:stretch/>
        </p:blipFill>
        <p:spPr>
          <a:xfrm>
            <a:off x="395280" y="333360"/>
            <a:ext cx="2324160" cy="3024360"/>
          </a:xfrm>
          <a:prstGeom prst="rect">
            <a:avLst/>
          </a:prstGeom>
          <a:ln w="76320">
            <a:solidFill>
              <a:srgbClr val="66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6" name="Rectangle 19"/>
          <p:cNvSpPr/>
          <p:nvPr/>
        </p:nvSpPr>
        <p:spPr>
          <a:xfrm>
            <a:off x="3132000" y="3429000"/>
            <a:ext cx="4826160" cy="22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66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русский  поэт;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66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переводчик;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66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драматург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66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литературный критик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22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5029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93" h="21600">
                <a:moveTo>
                  <a:pt x="0" y="0"/>
                </a:moveTo>
                <a:lnTo>
                  <a:pt x="21693" y="0"/>
                </a:lnTo>
                <a:lnTo>
                  <a:pt x="21693" y="21600"/>
                </a:lnTo>
                <a:lnTo>
                  <a:pt x="0" y="21600"/>
                </a:lnTo>
                <a:close/>
              </a:path>
              <a:path fill="lightenLess" w="21693" h="21600">
                <a:moveTo>
                  <a:pt x="0" y="0"/>
                </a:moveTo>
                <a:lnTo>
                  <a:pt x="21693" y="0"/>
                </a:lnTo>
                <a:lnTo>
                  <a:pt x="20293" y="1400"/>
                </a:lnTo>
                <a:lnTo>
                  <a:pt x="1400" y="1400"/>
                </a:lnTo>
                <a:close/>
              </a:path>
              <a:path fill="darken" w="21693" h="21600">
                <a:moveTo>
                  <a:pt x="21693" y="0"/>
                </a:moveTo>
                <a:lnTo>
                  <a:pt x="21693" y="21600"/>
                </a:lnTo>
                <a:lnTo>
                  <a:pt x="20293" y="20200"/>
                </a:lnTo>
                <a:lnTo>
                  <a:pt x="20293" y="1400"/>
                </a:lnTo>
                <a:close/>
              </a:path>
              <a:path fill="darkenLess" w="21693" h="21600">
                <a:moveTo>
                  <a:pt x="21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3" y="20200"/>
                </a:lnTo>
                <a:close/>
              </a:path>
              <a:path fill="lighten" w="21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3" h="21600">
                <a:moveTo>
                  <a:pt x="3840" y="3794"/>
                </a:moveTo>
                <a:lnTo>
                  <a:pt x="17853" y="10800"/>
                </a:lnTo>
                <a:lnTo>
                  <a:pt x="3840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9" descr="52380345_orig"/>
          <p:cNvPicPr/>
          <p:nvPr/>
        </p:nvPicPr>
        <p:blipFill>
          <a:blip r:embed="rId1"/>
          <a:stretch/>
        </p:blipFill>
        <p:spPr>
          <a:xfrm>
            <a:off x="6318360" y="1197000"/>
            <a:ext cx="2622600" cy="43196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195280" y="260280"/>
            <a:ext cx="67071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Пушкин не обидится!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640872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Как-то Самуил Яковлевич Маршак в шутку спросил своего пятилетнего сына: «Чьи сказки тебе больше нравятся — мои или Александра Сергеевича  Пушкина?» 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Мальчик сначала ничего не ответил. Тогда Самуил Яковлевич  сказал: «Ты может свободно высказать свое мнение, так как «Пушкин не обидится». 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Мальчик, видимо, понял шутку, еще немного подумал и сказал: «Тогда обидишься ты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2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5029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93" h="21600">
                <a:moveTo>
                  <a:pt x="0" y="0"/>
                </a:moveTo>
                <a:lnTo>
                  <a:pt x="21693" y="0"/>
                </a:lnTo>
                <a:lnTo>
                  <a:pt x="21693" y="21600"/>
                </a:lnTo>
                <a:lnTo>
                  <a:pt x="0" y="21600"/>
                </a:lnTo>
                <a:close/>
              </a:path>
              <a:path fill="lightenLess" w="21693" h="21600">
                <a:moveTo>
                  <a:pt x="0" y="0"/>
                </a:moveTo>
                <a:lnTo>
                  <a:pt x="21693" y="0"/>
                </a:lnTo>
                <a:lnTo>
                  <a:pt x="20293" y="1400"/>
                </a:lnTo>
                <a:lnTo>
                  <a:pt x="1400" y="1400"/>
                </a:lnTo>
                <a:close/>
              </a:path>
              <a:path fill="darken" w="21693" h="21600">
                <a:moveTo>
                  <a:pt x="21693" y="0"/>
                </a:moveTo>
                <a:lnTo>
                  <a:pt x="21693" y="21600"/>
                </a:lnTo>
                <a:lnTo>
                  <a:pt x="20293" y="20200"/>
                </a:lnTo>
                <a:lnTo>
                  <a:pt x="20293" y="1400"/>
                </a:lnTo>
                <a:close/>
              </a:path>
              <a:path fill="darkenLess" w="21693" h="21600">
                <a:moveTo>
                  <a:pt x="21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3" y="20200"/>
                </a:lnTo>
                <a:close/>
              </a:path>
              <a:path fill="lighten" w="21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3" h="21600">
                <a:moveTo>
                  <a:pt x="3840" y="3794"/>
                </a:moveTo>
                <a:lnTo>
                  <a:pt x="17853" y="10800"/>
                </a:lnTo>
                <a:lnTo>
                  <a:pt x="3840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4"/>
          <p:cNvSpPr/>
          <p:nvPr/>
        </p:nvSpPr>
        <p:spPr>
          <a:xfrm>
            <a:off x="250920" y="189000"/>
            <a:ext cx="244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з воспоминаний Самуила Яковлевича  Маршак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7" descr="doski02-1"/>
          <p:cNvPicPr/>
          <p:nvPr/>
        </p:nvPicPr>
        <p:blipFill>
          <a:blip r:embed="rId1"/>
          <a:stretch/>
        </p:blipFill>
        <p:spPr>
          <a:xfrm>
            <a:off x="4716360" y="692280"/>
            <a:ext cx="3510000" cy="304776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Дом на Чкаловской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doski02-2"/>
          <p:cNvPicPr/>
          <p:nvPr/>
        </p:nvPicPr>
        <p:blipFill>
          <a:blip r:embed="rId2"/>
          <a:stretch/>
        </p:blipFill>
        <p:spPr>
          <a:xfrm>
            <a:off x="250920" y="981000"/>
            <a:ext cx="4074840" cy="25272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3860280"/>
            <a:ext cx="850716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Большая часть жизнь Самуила Яковлевича связана с Москв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Об этом напоминает памятная доска, установленная на доме № 14/16 по улице Чкалова, где он жил и работа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6">
            <a:hlinkClick r:id="" action="ppaction://hlinkshowjump?jump=nextslide"/>
          </p:cNvPr>
          <p:cNvSpPr/>
          <p:nvPr/>
        </p:nvSpPr>
        <p:spPr>
          <a:xfrm>
            <a:off x="8172360" y="609300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2" h="21600">
                <a:moveTo>
                  <a:pt x="5585" y="3794"/>
                </a:moveTo>
                <a:lnTo>
                  <a:pt x="19597" y="10800"/>
                </a:lnTo>
                <a:lnTo>
                  <a:pt x="5585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53733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мятник на могиле С.Я. Марша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. Я. Маршак скончался 4 июля 1964 года в Москв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64234286_orig"/>
          <p:cNvPicPr/>
          <p:nvPr/>
        </p:nvPicPr>
        <p:blipFill>
          <a:blip r:embed="rId1"/>
          <a:stretch/>
        </p:blipFill>
        <p:spPr>
          <a:xfrm>
            <a:off x="2819520" y="333360"/>
            <a:ext cx="3203280" cy="482436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54" name="AutoShape 10">
            <a:hlinkClick r:id="rId2" action="ppaction://hlinksldjump"/>
          </p:cNvPr>
          <p:cNvSpPr/>
          <p:nvPr/>
        </p:nvSpPr>
        <p:spPr>
          <a:xfrm>
            <a:off x="395280" y="602136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12581" y="3837"/>
                </a:moveTo>
                <a:lnTo>
                  <a:pt x="15157" y="6448"/>
                </a:lnTo>
                <a:lnTo>
                  <a:pt x="15157" y="4707"/>
                </a:lnTo>
                <a:lnTo>
                  <a:pt x="16932" y="4707"/>
                </a:lnTo>
                <a:lnTo>
                  <a:pt x="16932" y="8224"/>
                </a:lnTo>
                <a:lnTo>
                  <a:pt x="19543" y="10800"/>
                </a:lnTo>
                <a:lnTo>
                  <a:pt x="17890" y="10800"/>
                </a:lnTo>
                <a:lnTo>
                  <a:pt x="17890" y="17989"/>
                </a:lnTo>
                <a:lnTo>
                  <a:pt x="7271" y="17989"/>
                </a:lnTo>
                <a:lnTo>
                  <a:pt x="7271" y="10800"/>
                </a:lnTo>
                <a:lnTo>
                  <a:pt x="5618" y="10800"/>
                </a:lnTo>
                <a:close/>
              </a:path>
              <a:path fill="darkenLess" w="25161" h="21600">
                <a:moveTo>
                  <a:pt x="15157" y="6448"/>
                </a:moveTo>
                <a:lnTo>
                  <a:pt x="15157" y="4707"/>
                </a:lnTo>
                <a:lnTo>
                  <a:pt x="16932" y="4707"/>
                </a:lnTo>
                <a:lnTo>
                  <a:pt x="16932" y="8224"/>
                </a:lnTo>
                <a:close/>
              </a:path>
              <a:path fill="darkenLess" w="25161" h="21600">
                <a:moveTo>
                  <a:pt x="11658" y="14299"/>
                </a:moveTo>
                <a:lnTo>
                  <a:pt x="13503" y="14299"/>
                </a:lnTo>
                <a:lnTo>
                  <a:pt x="13503" y="17989"/>
                </a:lnTo>
                <a:lnTo>
                  <a:pt x="17890" y="17989"/>
                </a:lnTo>
                <a:lnTo>
                  <a:pt x="17890" y="10800"/>
                </a:lnTo>
                <a:lnTo>
                  <a:pt x="7271" y="10800"/>
                </a:lnTo>
                <a:lnTo>
                  <a:pt x="7271" y="17989"/>
                </a:lnTo>
                <a:lnTo>
                  <a:pt x="11658" y="17989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1" descr="kniga02"/>
          <p:cNvPicPr/>
          <p:nvPr/>
        </p:nvPicPr>
        <p:blipFill>
          <a:blip r:embed="rId3"/>
          <a:stretch/>
        </p:blipFill>
        <p:spPr>
          <a:xfrm>
            <a:off x="6578640" y="4292640"/>
            <a:ext cx="2565360" cy="284472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сточники информаци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713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moikompas.ru/compas/Marshak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 биография и фотоальбом С. Я. Марша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moikompas.ru/img/compas/2008-10-18/marshak/64234286_orig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амятник на могиле Марша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russia.rin.ru/pictures/5680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фото С. Я. Марша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lib.gmsib.ru/pic/pages/52_421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фото С. Я. Марша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lenagold.ru/fon/clipart/v/vflo/flovin123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жена С. Я. Маршака С. М. Марша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s-marshak.ru/photo/family/family.ht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фотоархив семьи С. Я. Марша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жегов С. И. Словарь русского языка: 70 000 слов/ Под ред. Н. Ю. Шведовой. - 22-е изд., стер.- М., Рус. яз., 19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lenagold.ru/fon/clipart/k/knig/kniga02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картинки угол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lenagold.ru/fon/clipart/f/fonr/fonar01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- картинки угол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moikompas.ru/img/compas/2008-10-18/marshak/95642654_orig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фото С. Я. Марша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moikompas.ru/img/compas/2008-10-18/marshak/52380345_orig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рисунок «Папа с  сыном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s-marshak.ru/photo/leningrad/leningrad05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С. Я. Маршак, 19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://s-marshak.ru/photo/molodost/molodost16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фото с отцом и братья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http://s-marshak.ru/photo/detstvo/detstvo02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С.Я. Маршак. Острогожск, 1899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http://s-marshak.ru/photo/detstvo/detstvo23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С.Я. Маршак в кругу родных и друзей. 19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http://s-marshak.ru/photo/detstvo/detstvo01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С.Я. Маршак. 1889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http://s-marshak.ru/photo/detstvo/detstvo05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С.Я. Маршак ученик Острогожской гимназии с товарищ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http://s-marshak.ru/photo/detstvo/detstvo20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С.Я. Маршак со старшим братом Моисеем Яковлевич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http://s-marshak.ru/photo/detstvo/detstvo21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 С.Я. Маршак ученик Ялтинской мужской гимназии - среди товарищей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8" descr="52_421"/>
          <p:cNvPicPr/>
          <p:nvPr/>
        </p:nvPicPr>
        <p:blipFill>
          <a:blip r:embed="rId1"/>
          <a:stretch/>
        </p:blipFill>
        <p:spPr>
          <a:xfrm>
            <a:off x="3059280" y="260280"/>
            <a:ext cx="2350800" cy="3456000"/>
          </a:xfrm>
          <a:prstGeom prst="rect">
            <a:avLst/>
          </a:prstGeom>
          <a:ln w="57240">
            <a:solidFill>
              <a:srgbClr val="66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94920" y="3933360"/>
            <a:ext cx="84978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Самуил Яковлевич Марша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родился 22.11.1887 в Воронежской губерн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  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в семье заводского техника, талантливого изобретат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2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5029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93" h="21600">
                <a:moveTo>
                  <a:pt x="0" y="0"/>
                </a:moveTo>
                <a:lnTo>
                  <a:pt x="21693" y="0"/>
                </a:lnTo>
                <a:lnTo>
                  <a:pt x="21693" y="21600"/>
                </a:lnTo>
                <a:lnTo>
                  <a:pt x="0" y="21600"/>
                </a:lnTo>
                <a:close/>
              </a:path>
              <a:path fill="lightenLess" w="21693" h="21600">
                <a:moveTo>
                  <a:pt x="0" y="0"/>
                </a:moveTo>
                <a:lnTo>
                  <a:pt x="21693" y="0"/>
                </a:lnTo>
                <a:lnTo>
                  <a:pt x="20293" y="1400"/>
                </a:lnTo>
                <a:lnTo>
                  <a:pt x="1400" y="1400"/>
                </a:lnTo>
                <a:close/>
              </a:path>
              <a:path fill="darken" w="21693" h="21600">
                <a:moveTo>
                  <a:pt x="21693" y="0"/>
                </a:moveTo>
                <a:lnTo>
                  <a:pt x="21693" y="21600"/>
                </a:lnTo>
                <a:lnTo>
                  <a:pt x="20293" y="20200"/>
                </a:lnTo>
                <a:lnTo>
                  <a:pt x="20293" y="1400"/>
                </a:lnTo>
                <a:close/>
              </a:path>
              <a:path fill="darkenLess" w="21693" h="21600">
                <a:moveTo>
                  <a:pt x="21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3" y="20200"/>
                </a:lnTo>
                <a:close/>
              </a:path>
              <a:path fill="lighten" w="21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3" h="21600">
                <a:moveTo>
                  <a:pt x="3840" y="3794"/>
                </a:moveTo>
                <a:lnTo>
                  <a:pt x="17853" y="10800"/>
                </a:lnTo>
                <a:lnTo>
                  <a:pt x="3840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50920" y="404280"/>
            <a:ext cx="4897440" cy="590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Первый раз произведения Самуила Яковлевича Маршака напечатали в 1907 году. Это были лирические стихи и перев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Самуил Яковлевич по праву считается, мастером художественного перевода, замечательным драматургом и одним из создателей детской литератур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С.Я. Маршак. 1927 г."/>
          <p:cNvPicPr/>
          <p:nvPr/>
        </p:nvPicPr>
        <p:blipFill>
          <a:blip r:embed="rId1"/>
          <a:stretch/>
        </p:blipFill>
        <p:spPr>
          <a:xfrm>
            <a:off x="5292720" y="620640"/>
            <a:ext cx="3303720" cy="5113440"/>
          </a:xfrm>
          <a:prstGeom prst="rect">
            <a:avLst/>
          </a:prstGeom>
          <a:ln w="5724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5" name="AutoShape 8">
            <a:hlinkClick r:id="" action="ppaction://hlinkshowjump?jump=nextslide"/>
          </p:cNvPr>
          <p:cNvSpPr/>
          <p:nvPr/>
        </p:nvSpPr>
        <p:spPr>
          <a:xfrm>
            <a:off x="8028000" y="6093000"/>
            <a:ext cx="504720" cy="5029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77" h="21600">
                <a:moveTo>
                  <a:pt x="0" y="0"/>
                </a:moveTo>
                <a:lnTo>
                  <a:pt x="21677" y="0"/>
                </a:lnTo>
                <a:lnTo>
                  <a:pt x="21677" y="21600"/>
                </a:lnTo>
                <a:lnTo>
                  <a:pt x="0" y="21600"/>
                </a:lnTo>
                <a:close/>
              </a:path>
              <a:path fill="lightenLess" w="21677" h="21600">
                <a:moveTo>
                  <a:pt x="0" y="0"/>
                </a:moveTo>
                <a:lnTo>
                  <a:pt x="21677" y="0"/>
                </a:lnTo>
                <a:lnTo>
                  <a:pt x="20277" y="1400"/>
                </a:lnTo>
                <a:lnTo>
                  <a:pt x="1400" y="1400"/>
                </a:lnTo>
                <a:close/>
              </a:path>
              <a:path fill="darken" w="21677" h="21600">
                <a:moveTo>
                  <a:pt x="21677" y="0"/>
                </a:moveTo>
                <a:lnTo>
                  <a:pt x="21677" y="21600"/>
                </a:lnTo>
                <a:lnTo>
                  <a:pt x="20277" y="20200"/>
                </a:lnTo>
                <a:lnTo>
                  <a:pt x="20277" y="1400"/>
                </a:lnTo>
                <a:close/>
              </a:path>
              <a:path fill="darkenLess" w="21677" h="21600">
                <a:moveTo>
                  <a:pt x="21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7" y="20200"/>
                </a:lnTo>
                <a:close/>
              </a:path>
              <a:path fill="lighten" w="21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7" h="21600">
                <a:moveTo>
                  <a:pt x="3832" y="3794"/>
                </a:moveTo>
                <a:lnTo>
                  <a:pt x="17845" y="10800"/>
                </a:lnTo>
                <a:lnTo>
                  <a:pt x="3832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8" descr="detstvo02"/>
          <p:cNvPicPr/>
          <p:nvPr/>
        </p:nvPicPr>
        <p:blipFill>
          <a:blip r:embed="rId2"/>
          <a:stretch/>
        </p:blipFill>
        <p:spPr>
          <a:xfrm>
            <a:off x="4859280" y="2637000"/>
            <a:ext cx="3024360" cy="3673440"/>
          </a:xfrm>
          <a:prstGeom prst="rect">
            <a:avLst/>
          </a:prstGeom>
          <a:ln w="57240">
            <a:solidFill>
              <a:srgbClr val="66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851280" y="259920"/>
            <a:ext cx="496872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А началось всё, когда Маршаку было всего 4 года, уже тогда он пытался сочинять стихотворные строч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2" descr="detstvo01"/>
          <p:cNvPicPr/>
          <p:nvPr/>
        </p:nvPicPr>
        <p:blipFill>
          <a:blip r:embed="rId3"/>
          <a:srcRect l="0" t="0" r="0" b="11104"/>
          <a:stretch/>
        </p:blipFill>
        <p:spPr>
          <a:xfrm>
            <a:off x="755640" y="549360"/>
            <a:ext cx="3097080" cy="3743280"/>
          </a:xfrm>
          <a:prstGeom prst="rect">
            <a:avLst/>
          </a:prstGeom>
          <a:ln w="57240">
            <a:solidFill>
              <a:srgbClr val="6633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0" name="AutoShape 13">
            <a:hlinkClick r:id="" action="ppaction://hlinkshowjump?jump=nextslide"/>
          </p:cNvPr>
          <p:cNvSpPr/>
          <p:nvPr/>
        </p:nvSpPr>
        <p:spPr>
          <a:xfrm>
            <a:off x="8317080" y="6093000"/>
            <a:ext cx="504720" cy="5029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77" h="21600">
                <a:moveTo>
                  <a:pt x="0" y="0"/>
                </a:moveTo>
                <a:lnTo>
                  <a:pt x="21677" y="0"/>
                </a:lnTo>
                <a:lnTo>
                  <a:pt x="21677" y="21600"/>
                </a:lnTo>
                <a:lnTo>
                  <a:pt x="0" y="21600"/>
                </a:lnTo>
                <a:close/>
              </a:path>
              <a:path fill="lightenLess" w="21677" h="21600">
                <a:moveTo>
                  <a:pt x="0" y="0"/>
                </a:moveTo>
                <a:lnTo>
                  <a:pt x="21677" y="0"/>
                </a:lnTo>
                <a:lnTo>
                  <a:pt x="20277" y="1400"/>
                </a:lnTo>
                <a:lnTo>
                  <a:pt x="1400" y="1400"/>
                </a:lnTo>
                <a:close/>
              </a:path>
              <a:path fill="darken" w="21677" h="21600">
                <a:moveTo>
                  <a:pt x="21677" y="0"/>
                </a:moveTo>
                <a:lnTo>
                  <a:pt x="21677" y="21600"/>
                </a:lnTo>
                <a:lnTo>
                  <a:pt x="20277" y="20200"/>
                </a:lnTo>
                <a:lnTo>
                  <a:pt x="20277" y="1400"/>
                </a:lnTo>
                <a:close/>
              </a:path>
              <a:path fill="darkenLess" w="21677" h="21600">
                <a:moveTo>
                  <a:pt x="21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7" y="20200"/>
                </a:lnTo>
                <a:close/>
              </a:path>
              <a:path fill="lighten" w="21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7" h="21600">
                <a:moveTo>
                  <a:pt x="3832" y="3794"/>
                </a:moveTo>
                <a:lnTo>
                  <a:pt x="17845" y="10800"/>
                </a:lnTo>
                <a:lnTo>
                  <a:pt x="3832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5"/>
          <p:cNvSpPr/>
          <p:nvPr/>
        </p:nvSpPr>
        <p:spPr>
          <a:xfrm>
            <a:off x="179280" y="4508640"/>
            <a:ext cx="475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В 12 ле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Самуил Яковлевич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писал целые поэмы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1" nodeType="clickEffect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095280" y="907920"/>
            <a:ext cx="60483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Самуил Яковлевич Маршак всю жизнь был добрым другом дет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В своих произведениях он учил ребят радоваться красоте поэтического слова. Показывал, что стихами можно рассказывать занимательные и поучительные истории и сказ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95642654_orig"/>
          <p:cNvPicPr/>
          <p:nvPr/>
        </p:nvPicPr>
        <p:blipFill>
          <a:blip r:embed="rId2"/>
          <a:stretch/>
        </p:blipFill>
        <p:spPr>
          <a:xfrm>
            <a:off x="684360" y="1484280"/>
            <a:ext cx="2225520" cy="3098880"/>
          </a:xfrm>
          <a:prstGeom prst="rect">
            <a:avLst/>
          </a:prstGeom>
          <a:ln w="57240">
            <a:solidFill>
              <a:srgbClr val="6633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5" name="AutoShape 7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5029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93" h="21600">
                <a:moveTo>
                  <a:pt x="0" y="0"/>
                </a:moveTo>
                <a:lnTo>
                  <a:pt x="21693" y="0"/>
                </a:lnTo>
                <a:lnTo>
                  <a:pt x="21693" y="21600"/>
                </a:lnTo>
                <a:lnTo>
                  <a:pt x="0" y="21600"/>
                </a:lnTo>
                <a:close/>
              </a:path>
              <a:path fill="lightenLess" w="21693" h="21600">
                <a:moveTo>
                  <a:pt x="0" y="0"/>
                </a:moveTo>
                <a:lnTo>
                  <a:pt x="21693" y="0"/>
                </a:lnTo>
                <a:lnTo>
                  <a:pt x="20293" y="1400"/>
                </a:lnTo>
                <a:lnTo>
                  <a:pt x="1400" y="1400"/>
                </a:lnTo>
                <a:close/>
              </a:path>
              <a:path fill="darken" w="21693" h="21600">
                <a:moveTo>
                  <a:pt x="21693" y="0"/>
                </a:moveTo>
                <a:lnTo>
                  <a:pt x="21693" y="21600"/>
                </a:lnTo>
                <a:lnTo>
                  <a:pt x="20293" y="20200"/>
                </a:lnTo>
                <a:lnTo>
                  <a:pt x="20293" y="1400"/>
                </a:lnTo>
                <a:close/>
              </a:path>
              <a:path fill="darkenLess" w="21693" h="21600">
                <a:moveTo>
                  <a:pt x="21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3" y="20200"/>
                </a:lnTo>
                <a:close/>
              </a:path>
              <a:path fill="lighten" w="21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3" h="21600">
                <a:moveTo>
                  <a:pt x="3840" y="3794"/>
                </a:moveTo>
                <a:lnTo>
                  <a:pt x="17853" y="10800"/>
                </a:lnTo>
                <a:lnTo>
                  <a:pt x="3840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8" descr="С. Маршак Детки в клетке"/>
          <p:cNvPicPr/>
          <p:nvPr/>
        </p:nvPicPr>
        <p:blipFill>
          <a:blip r:embed="rId2"/>
          <a:stretch/>
        </p:blipFill>
        <p:spPr>
          <a:xfrm>
            <a:off x="324000" y="620640"/>
            <a:ext cx="3313080" cy="532944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814560" y="189000"/>
            <a:ext cx="532908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Первая детская книга Самуила Яковлевича Маршака называлась — «Детки в клетке» и   была выпущена в 1923 году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Его произведения для детей - это краткие рассказы в стих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Вряд ли сегодня найдётся ребёнок, незнакомый с  творчеством Самуила Яковлевича Марша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7">
            <a:hlinkClick r:id="" action="ppaction://hlinkshowjump?jump=nextslide"/>
          </p:cNvPr>
          <p:cNvSpPr/>
          <p:nvPr/>
        </p:nvSpPr>
        <p:spPr>
          <a:xfrm>
            <a:off x="8388360" y="6165720"/>
            <a:ext cx="504720" cy="5032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62" h="21600">
                <a:moveTo>
                  <a:pt x="0" y="0"/>
                </a:moveTo>
                <a:lnTo>
                  <a:pt x="21662" y="0"/>
                </a:lnTo>
                <a:lnTo>
                  <a:pt x="21662" y="21600"/>
                </a:lnTo>
                <a:lnTo>
                  <a:pt x="0" y="21600"/>
                </a:lnTo>
                <a:close/>
              </a:path>
              <a:path fill="lightenLess" w="21662" h="21600">
                <a:moveTo>
                  <a:pt x="0" y="0"/>
                </a:moveTo>
                <a:lnTo>
                  <a:pt x="21662" y="0"/>
                </a:lnTo>
                <a:lnTo>
                  <a:pt x="20262" y="1400"/>
                </a:lnTo>
                <a:lnTo>
                  <a:pt x="1400" y="1400"/>
                </a:lnTo>
                <a:close/>
              </a:path>
              <a:path fill="darken" w="21662" h="21600">
                <a:moveTo>
                  <a:pt x="21662" y="0"/>
                </a:moveTo>
                <a:lnTo>
                  <a:pt x="21662" y="21600"/>
                </a:lnTo>
                <a:lnTo>
                  <a:pt x="20262" y="20200"/>
                </a:lnTo>
                <a:lnTo>
                  <a:pt x="20262" y="1400"/>
                </a:lnTo>
                <a:close/>
              </a:path>
              <a:path fill="darkenLess" w="21662" h="21600">
                <a:moveTo>
                  <a:pt x="216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2" y="20200"/>
                </a:lnTo>
                <a:close/>
              </a:path>
              <a:path fill="lighten" w="216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2" h="21600">
                <a:moveTo>
                  <a:pt x="3824" y="3794"/>
                </a:moveTo>
                <a:lnTo>
                  <a:pt x="17837" y="10800"/>
                </a:lnTo>
                <a:lnTo>
                  <a:pt x="3824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779640" y="333360"/>
            <a:ext cx="511164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Первые детские стихи поэт написал о самых маленьких и для самых маленьки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Герои многих произведений Самуила Яковлевича Маршака – животные. Рассказывая о них, писатель подразумевает поступки людей и взаимоотношения между ни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8" descr="95980761_orig"/>
          <p:cNvPicPr/>
          <p:nvPr/>
        </p:nvPicPr>
        <p:blipFill>
          <a:blip r:embed="rId2"/>
          <a:stretch/>
        </p:blipFill>
        <p:spPr>
          <a:xfrm>
            <a:off x="250920" y="549360"/>
            <a:ext cx="3584520" cy="511308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sp>
        <p:nvSpPr>
          <p:cNvPr id="83" name="AutoShape 14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5029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93" h="21600">
                <a:moveTo>
                  <a:pt x="0" y="0"/>
                </a:moveTo>
                <a:lnTo>
                  <a:pt x="21693" y="0"/>
                </a:lnTo>
                <a:lnTo>
                  <a:pt x="21693" y="21600"/>
                </a:lnTo>
                <a:lnTo>
                  <a:pt x="0" y="21600"/>
                </a:lnTo>
                <a:close/>
              </a:path>
              <a:path fill="lightenLess" w="21693" h="21600">
                <a:moveTo>
                  <a:pt x="0" y="0"/>
                </a:moveTo>
                <a:lnTo>
                  <a:pt x="21693" y="0"/>
                </a:lnTo>
                <a:lnTo>
                  <a:pt x="20293" y="1400"/>
                </a:lnTo>
                <a:lnTo>
                  <a:pt x="1400" y="1400"/>
                </a:lnTo>
                <a:close/>
              </a:path>
              <a:path fill="darken" w="21693" h="21600">
                <a:moveTo>
                  <a:pt x="21693" y="0"/>
                </a:moveTo>
                <a:lnTo>
                  <a:pt x="21693" y="21600"/>
                </a:lnTo>
                <a:lnTo>
                  <a:pt x="20293" y="20200"/>
                </a:lnTo>
                <a:lnTo>
                  <a:pt x="20293" y="1400"/>
                </a:lnTo>
                <a:close/>
              </a:path>
              <a:path fill="darkenLess" w="21693" h="21600">
                <a:moveTo>
                  <a:pt x="21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3" y="20200"/>
                </a:lnTo>
                <a:close/>
              </a:path>
              <a:path fill="lighten" w="21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3" h="21600">
                <a:moveTo>
                  <a:pt x="3840" y="3794"/>
                </a:moveTo>
                <a:lnTo>
                  <a:pt x="17853" y="10800"/>
                </a:lnTo>
                <a:lnTo>
                  <a:pt x="3840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8" descr="16626303_orig"/>
          <p:cNvPicPr/>
          <p:nvPr/>
        </p:nvPicPr>
        <p:blipFill>
          <a:blip r:embed="rId2"/>
          <a:stretch/>
        </p:blipFill>
        <p:spPr>
          <a:xfrm>
            <a:off x="2556000" y="347760"/>
            <a:ext cx="4392360" cy="3062160"/>
          </a:xfrm>
          <a:prstGeom prst="rect">
            <a:avLst/>
          </a:prstGeom>
          <a:ln w="57240">
            <a:solidFill>
              <a:srgbClr val="66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24000" y="3500280"/>
            <a:ext cx="830088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На творческих встречах Самуил Яковлевич Маршак любил читать детям свои стих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Его популярность может поспорить разве что со славой Корнея Ивановича Чуковског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4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5029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93" h="21600">
                <a:moveTo>
                  <a:pt x="0" y="0"/>
                </a:moveTo>
                <a:lnTo>
                  <a:pt x="21693" y="0"/>
                </a:lnTo>
                <a:lnTo>
                  <a:pt x="21693" y="21600"/>
                </a:lnTo>
                <a:lnTo>
                  <a:pt x="0" y="21600"/>
                </a:lnTo>
                <a:close/>
              </a:path>
              <a:path fill="lightenLess" w="21693" h="21600">
                <a:moveTo>
                  <a:pt x="0" y="0"/>
                </a:moveTo>
                <a:lnTo>
                  <a:pt x="21693" y="0"/>
                </a:lnTo>
                <a:lnTo>
                  <a:pt x="20293" y="1400"/>
                </a:lnTo>
                <a:lnTo>
                  <a:pt x="1400" y="1400"/>
                </a:lnTo>
                <a:close/>
              </a:path>
              <a:path fill="darken" w="21693" h="21600">
                <a:moveTo>
                  <a:pt x="21693" y="0"/>
                </a:moveTo>
                <a:lnTo>
                  <a:pt x="21693" y="21600"/>
                </a:lnTo>
                <a:lnTo>
                  <a:pt x="20293" y="20200"/>
                </a:lnTo>
                <a:lnTo>
                  <a:pt x="20293" y="1400"/>
                </a:lnTo>
                <a:close/>
              </a:path>
              <a:path fill="darkenLess" w="21693" h="21600">
                <a:moveTo>
                  <a:pt x="21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3" y="20200"/>
                </a:lnTo>
                <a:close/>
              </a:path>
              <a:path fill="lighten" w="21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3" h="21600">
                <a:moveTo>
                  <a:pt x="3840" y="3794"/>
                </a:moveTo>
                <a:lnTo>
                  <a:pt x="17853" y="10800"/>
                </a:lnTo>
                <a:lnTo>
                  <a:pt x="3840" y="17806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50000">
                <a:srgbClr val="ffffcc"/>
              </a:gs>
              <a:gs pos="100000">
                <a:srgbClr val="ffcc6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1T18:41:29Z</dcterms:created>
  <dc:creator>Елена</dc:creator>
  <dc:description/>
  <dc:language>en-US</dc:language>
  <cp:lastModifiedBy>LEGION</cp:lastModifiedBy>
  <dcterms:modified xsi:type="dcterms:W3CDTF">2015-01-20T11:56:17Z</dcterms:modified>
  <cp:revision>205</cp:revision>
  <dc:subject/>
  <dc:title>Слайд 1</dc:title>
</cp:coreProperties>
</file>