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7B2D-AD60-4DCD-9B60-89C78DDEE4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slide" Target="../slides/slide19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рок литературы в 6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лавный герой рас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вана Сергеевича Турге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6278-5D23-473A-8039-320DCFFA51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ЕЙЗАЖ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 чего начинается пейзаж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 в рассказе «Бирюк» начинается с описания леса и надвигающейся г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колько моментов перехода душного вечера в грозовую ночь запечатлел авто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ушный жар внезапно см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84B8-671F-4BCA-959D-994142A628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ПРЕДЧУВСТВИЕ 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ГРОЗА ПОДЧИНЯЕТ СЕБЕ ОКРУЖАЮЩ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 внезапно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11FF-E29A-444A-BC2F-72BBAFDC88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ИНТЕРЬЕР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описание интерьер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3D20-A20C-4461-A799-224435DE2B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9394-7B7A-49C2-ADDF-EE0C16E915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ОРТР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портрет лесник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9817-684E-43FA-BCEF-4AFBD922D2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A0F7-CA74-4155-8D23-C1252FD8F9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астерство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039B-B085-4B9E-A1C9-42E78F7EAE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Тема произвед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2. Жанр произвед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легенда; б) рассказ; в) пове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3. Кульминационная сцена произведения —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4. Суровый и нелюдимый характер Бирюка объясн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5. В отношении автора к Бирюку проявля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очувствие; б) осуждение; в) 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внение; б) антитезу; в) олицетво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7. Пейзаж в рассказах Тургенев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8710-B399-411D-8785-92D12ECC12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CDB7-1907-4FE9-8CE1-AC85DAD1B7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спользованный матери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 «Виртуальная школа Уроки литературы Кирилла и Мефо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в В. Ф. Уроки литературы в 6 классе. Поурочные планы. - М.: Экзамен,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шунова И.Н. , Липина Е.Ю. Тесты по русской литературе. – М.: Дрофа, 200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рет пис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ushkinmuseum.ru/pict/foto_vystavok/turgenev/turgenev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ское-Лутовиново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og.zvab.com/wp-content/spasskoje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писателя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im2-tub.yandex.net/i?id=245410689-4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2-tub.yandex.net/i?id=193862540-05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ка книги: http://www.libex.ru/dimg/1ef2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люстраци. Типы из «Записок охотника» И.С. Тургене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ём (Эндаурова) Елизавета Меркурьевна):  http://gallerix.ru/album/Endaurova/pic/glrx-949188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бедев К.В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turgenev.org.ru/art-gallery/zhizn-iskusstvo-vremya/153-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лабович А.Г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artnow.ru/img/612000/61277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др из к/х «Бирюк»: http://www.kino-teatr.ru/movie/kadr/543/8388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(анимация) : http://logif.ru/publ/priroda/groza_molnii_i_dozhd/14-1-0-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4DB4-3472-4237-B7D7-CD853255D4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сознать тему и идею цикла рассказов И.С.Тургенева «Записки охотник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ассказ «Бирюк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через пейзаж, интерьер и портрет понять характер главного геро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уровень знания учащимися текста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111F-64B7-4B5C-A728-774869BC17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исхождение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75F7-E8FD-4D80-AE42-B3867592E5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ки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40-50е г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 писатель создал несколько  произведений, объединённых в один сборник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иски охотн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лые образы простых мужиков, сумевших со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ник принёс автору широкую изв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B2AF-EBB9-4D35-8895-694ECBE177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Хорь и Калины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рмолай и мельничи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иновая в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ездный лека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й сосед Радил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нодворец Овсянн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ьг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жин лу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сьян с Красивой Меч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рмист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онт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ирю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ва помещ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бедя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р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в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ётр Петрович Каратае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ид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FD03-2FE8-425F-926D-DAE3EA37D3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ая тема и ид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ок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каз нравственного оскудения русского дворя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Иде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тест против крепост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32F6-8184-47B6-A3E2-9C19CFA98C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ссказ 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9307-251D-41D1-A70D-97134AA98A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лесника Фому Кузьмича прозвали Бирю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ая слава шла о нём по окрестным деревням и сё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чины замкнутости и угрюмости Бирю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ли Бирюк на самом деле человеконенавистни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 ли Бирюк своему одино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а привлекают в главном гер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4BB8-8A48-4CB6-AD53-1002C7F8FC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КОНФЛИКТ в литературном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ём заключается КОНФЛИКТ рассказа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2AE0-A64B-4E05-8A8B-B8DC8D928E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AC6-DE08-4696-951A-96255498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ACB-C1C0-42B9-99C6-EB736D0F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6DF-2F72-4BC0-84C4-37859861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4FF-6D09-466F-AD31-E8D41748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5C0-DDB8-42FA-804B-08C4C972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59F-2C39-4226-886C-77140187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B78-EA9C-4E8B-9327-AA837038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6C2-1257-4010-92DD-DEB43D75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757-9725-41B5-9FF0-11E2C245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4DB-CB9C-44E3-A61D-8E1366A2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7A2-A802-46AF-97CF-3DFD7FBD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959-DC26-4D40-B1B5-95A19193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0602-7CEE-4EDA-90A3-E3970F283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hyperlink" Target="http://www.libex.ru/dimg/1ef26.jpg" TargetMode="External"/><Relationship Id="rId6" Type="http://schemas.openxmlformats.org/officeDocument/2006/relationships/hyperlink" Target="http://gallerix.ru/album/Endaurova/pic/glrx-949188232" TargetMode="External"/><Relationship Id="rId7" Type="http://schemas.openxmlformats.org/officeDocument/2006/relationships/hyperlink" Target="http://www.turgenev.org.ru/art-gallery/zhizn-iskusstvo-vremya/153-2.jpg" TargetMode="External"/><Relationship Id="rId8" Type="http://schemas.openxmlformats.org/officeDocument/2006/relationships/hyperlink" Target="http://artnow.ru/img/612000/612770.jpg" TargetMode="External"/><Relationship Id="rId9" Type="http://schemas.openxmlformats.org/officeDocument/2006/relationships/hyperlink" Target="http://www.kino-teatr.ru/movie/kadr/543/83886.jpg" TargetMode="External"/><Relationship Id="rId10" Type="http://schemas.openxmlformats.org/officeDocument/2006/relationships/hyperlink" Target="http://logif.ru/publ/priroda/groza_molnii_i_dozhd/14-1-0-79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Автор презента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Печказ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учитель литературы МБОУ «Лицей №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Чамзинского района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0" y="0"/>
            <a:ext cx="2590920" cy="2819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4"/>
          <p:cNvSpPr txBox="1"/>
          <p:nvPr/>
        </p:nvSpPr>
        <p:spPr>
          <a:xfrm>
            <a:off x="990720" y="2590920"/>
            <a:ext cx="7381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Урок литературы в 6 классе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Главный герой рассказ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вана Сергеевича Тургенев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1828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йзаж в рассказе «Бирюк» начинается с описания леса и надвигающейся гр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ЕЙЗАЖ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 чего начинается пейзаж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9480" y="2590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колько моментов перехода душного вечера в грозовую ночь запечатлел авт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492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492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ушный жар внезапно сменился влажным холодом; тени быстро густ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04920" y="525744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priroda3"/>
          <p:cNvPicPr/>
          <p:nvPr/>
        </p:nvPicPr>
        <p:blipFill>
          <a:blip r:embed="rId1"/>
          <a:stretch/>
        </p:blipFill>
        <p:spPr>
          <a:xfrm>
            <a:off x="6458040" y="3276720"/>
            <a:ext cx="2457360" cy="32763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556 L 0.34896 -0.00556 E">
                                      <p:cBhvr>
                                        <p:cTn id="9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1143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ПРЕДЧУВСТВИЕ 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80880" y="1600200"/>
            <a:ext cx="84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04920" y="3276720"/>
            <a:ext cx="84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ный жар внезапно сменился влажным холодом; тени быстро гус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57200" y="5485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ГРОЗА ПОДЧИНЯЕТ СЕБЕ ОКРУЖАЮЩУЮ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33520" y="4114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4495680" y="2133720"/>
            <a:ext cx="4419720" cy="4114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ИНТЕРЬЕ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описание интерьер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04920" y="2209680"/>
            <a:ext cx="419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2362320" y="914400"/>
            <a:ext cx="41148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04920" y="4572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259092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ОРТР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портрет лесник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4952880" y="1981080"/>
            <a:ext cx="3733920" cy="4648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057400" y="2895480"/>
            <a:ext cx="50292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стерство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124080" y="762120"/>
            <a:ext cx="2895840" cy="3352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" y="403848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80880" y="974880"/>
            <a:ext cx="8534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Тема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2. Жанр произвед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легенда; б) рассказ; в) пов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3. Кульминационная сцена произведения —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4. Суровый и нелюдимый характер Бирюка объяс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5. В отношении автора к Бирюку про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очувствие; б) осуждение; в) безраз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равнение; б) антитезу; в) олице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7. Пейзаж в рассказах Тургене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1905120"/>
          <a:ext cx="6078600" cy="115884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8320"/>
                <a:gridCol w="868320"/>
                <a:gridCol w="868320"/>
                <a:gridCol w="868320"/>
                <a:gridCol w="868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303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30"/>
          <p:cNvSpPr/>
          <p:nvPr/>
        </p:nvSpPr>
        <p:spPr>
          <a:xfrm>
            <a:off x="2590920" y="3124080"/>
            <a:ext cx="3886200" cy="3505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80880" y="99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«Виртуальная школа Уроки литературы Кирилла и Мефо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ов В. Ф. Уроки литературы в 6 классе. Поурочные планы. - М.: Экзамен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шунова И.Н. , Липина Е.Ю. Тесты по русской литературе. – М.: Дрофа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писа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ushkinmuseum.ru/pict/foto_vystavok/turgenev/turgen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ское-Лутовиново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log.zvab.com/wp-content/spasskoj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писателя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2-tub.yandex.net/i?id=245410689-42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193862540-05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жка книги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ibex.ru/dimg/1ef2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. Типы из «Записок охотника» И.С. Турген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ём (Эндаурова) Елизавета Меркурьевна):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gallerix.ru/album/Endaurova/pic/glrx-949188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дев К.В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urgenev.org.ru/art-gallery/zhizn-iskusstvo-vremya/153-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лабович А.Г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artnow.ru/img/612000/6127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из к/х «Бирюк»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kino-teatr.ru/movie/kadr/543/83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а (анимация) 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logif.ru/publ/priroda/groza_molnii_i_dozhd/14-1-0-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спользованный материал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8"/>
          <p:cNvSpPr txBox="1"/>
          <p:nvPr/>
        </p:nvSpPr>
        <p:spPr>
          <a:xfrm>
            <a:off x="2057400" y="457200"/>
            <a:ext cx="494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Цель урока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2120" y="18288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осознать тему и идею цикла рассказов И.С.Тургенева «Записки охотни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рассказ «Бирю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учащимся через пейзаж, интерьер и портрет понять характер главного гер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уровень знания учащимися текста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57200" y="1219320"/>
            <a:ext cx="83059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21932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исхождение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6" descr="Spasskoye-Lutovinovo1"/>
          <p:cNvPicPr/>
          <p:nvPr/>
        </p:nvPicPr>
        <p:blipFill>
          <a:blip r:embed="rId1"/>
          <a:srcRect l="0" t="2782" r="0" b="8333"/>
          <a:stretch/>
        </p:blipFill>
        <p:spPr>
          <a:xfrm>
            <a:off x="1981080" y="3886200"/>
            <a:ext cx="510552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Oval 7"/>
          <p:cNvSpPr/>
          <p:nvPr/>
        </p:nvSpPr>
        <p:spPr>
          <a:xfrm>
            <a:off x="380880" y="3657600"/>
            <a:ext cx="1905120" cy="2666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6781680" y="3581280"/>
            <a:ext cx="1905120" cy="2667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981080" y="3200400"/>
            <a:ext cx="5392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 представить себе более непохожих людей, чем родители будущего пис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06360" y="6324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557400" y="62485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4"/>
          <p:cNvSpPr/>
          <p:nvPr/>
        </p:nvSpPr>
        <p:spPr>
          <a:xfrm>
            <a:off x="228600" y="1066680"/>
            <a:ext cx="1905120" cy="2590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057400" y="114300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40-50е г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писатель создал несколько  произведений, объединённых в один сборник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иски охот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ые образы простых мужиков, сумевших сохра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80880" y="36576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ник принёс автору широкую изв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1ef26"/>
          <p:cNvPicPr/>
          <p:nvPr/>
        </p:nvPicPr>
        <p:blipFill>
          <a:blip r:embed="rId2"/>
          <a:srcRect l="0" t="5178" r="0" b="7893"/>
          <a:stretch/>
        </p:blipFill>
        <p:spPr>
          <a:xfrm>
            <a:off x="7297560" y="4038480"/>
            <a:ext cx="184644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рь и Калины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рмолай и мельничи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иновая в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ездный л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й сосед Ради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дворец Овся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ьг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жин л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сьян с Красивой М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рмис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т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ирю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ва помещ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бедя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в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ётр Петрович Карата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ид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62520" y="914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тьяна Борисовна и её племя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амлет Щигровского у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топханов и Недопюск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ец Чекртопха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вые 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у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с и сте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Oval 8"/>
          <p:cNvSpPr/>
          <p:nvPr/>
        </p:nvSpPr>
        <p:spPr>
          <a:xfrm>
            <a:off x="4267080" y="2971800"/>
            <a:ext cx="4343400" cy="3886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1219320" y="3049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Основная тема и идея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ок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09480" y="1752480"/>
            <a:ext cx="79408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 нравственного оскудения русского дворя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ест против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3200400" y="3962520"/>
            <a:ext cx="2743200" cy="2590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095880" y="4114800"/>
            <a:ext cx="2743200" cy="259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04920" y="3962520"/>
            <a:ext cx="2743200" cy="2590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6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Рассказ 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09480" y="106668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3124080" y="3124080"/>
            <a:ext cx="259092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09480" y="26668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 вы понимаете значение слова БИРЮ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838080" y="5334120"/>
            <a:ext cx="7467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Бирюк - угрюмый, мрачный, нелюдимый, одинокий  человек, имеющий хмурый, сумра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олковый словарь русского язы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.Н. 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09480" y="10666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лесника Фому Кузьмича прозвали Бирю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лава шла о нём по окрестным деревням и сё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ы причины замкнутости и угрюмости Бирю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 ли Бирюк на самом деле человеконенавистни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 ли Бирюк своему одиночест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черты характера привлекают в главном гер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3520" y="5638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2971800" y="3048120"/>
            <a:ext cx="2971800" cy="2514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362320" y="2895480"/>
            <a:ext cx="419076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09480" y="19810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такое КОНФЛИКТ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106668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990720" y="4038480"/>
            <a:ext cx="70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ём заключается КОНФЛИКТ рассказа «Бирю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33520" y="49528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" y="2590920"/>
            <a:ext cx="809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7467480" y="3429000"/>
            <a:ext cx="162396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-76320" y="3505320"/>
            <a:ext cx="1676520" cy="1523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0T12:02:3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