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CE3D-5258-4F89-A231-BD4D45CA70B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У «Иваново-Эсинская общеобразовательная школа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вровского района Владимирской обла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 уроку    литературы в 11 классе на те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Шолохов – человек 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исатель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русского языка 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рко Наталья Анатолье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7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1BF8-DA16-4438-86DF-19A2C55CAF1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Александрович и Мария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3DED-7B7B-4AE7-9270-DFE499663E5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лохов с вн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4975-02D1-4614-87D5-CB2E7D98214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 жи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53A0-4843-40D2-B0D8-71D9D9D8DE7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лохов -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1D24-2B1F-4703-B278-E8000F624C0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творческого пу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ная деятельность писателя началась в 1923 году, с публикаций фельетонов в газетах Начиная с 1924 г. в журналах появляются рассказы Шолохова, объединённые впоследствии в сборники «Донские рассказы» и «Лазоревая степь» (1926). Темы ранних рассказов – гражданская война на Дону, ожесточенная классовая борьба, место человека в социальных сдвигах, происходивших в деревне. Первые рассказы «Нахалёнок», «Председатель Реввоенсовета республики» (1925), «Чужая кровь» (1926), «Червоточина» (1926). После войны Шолохов опубликовал ряд публицистических произведений: «Слово о Родине», «Борьба продолжается» (1948), «Свет и мрак» (1949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 произведений Шолохова — простые трудящиеся люди. Их думы, печали и радости, их стремление к счастью и  справедливости,  их  борьба  за  новую жизнь неизменно интересуют художника. Писатель написал немало замечательных произ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2970-5EB7-4130-8D8E-1C7627E681B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есть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«Судьба челове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вести «Судьба человека» (1956) впервые поднята тема военнопленных в Великой Отечественной войне. Сквозной жизнеутверждающий мотив рассказа - вера в доброе, человеческое, социально-прогрессивное, утверждение подвига. Повесть была написана, чтобы напомнить о тех ужасах, которые больше не должны повториться. В небольшом по объему произведении перед читателями проходит жизнь героя, вобравшая в себя судьбу стр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5C92-F52E-4638-B2D4-295095C5AE7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 главного геро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Соколов — советский человек, мирный труженик, ненавидящий войну, отнявшую у него всю семью, счастье, надежду на лучшее. Оставшись одиноким, Соколов не утратил человечность, он смог разглядеть и пригреть около себя бездомного мальчика. Писатель заканчивает рассказ уверенностью в том, что около плеча Андрея Соколова поднимется новый человек, готовый преодолеть любые испытания судьбы. Творчество Шолохова оценено по достоинств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662C-6CFB-47E7-B451-EC7957025D5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ман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Они сражались за Родину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43 году Шолохов начал работу над романом «Они сражались за Родину». Произведение повествует о тяжелых днях отступления под натиском мощной военной машины Германии, о смертельной схватке под Сталинградом, переломившей весь ход войны. Шолохов  поставил целью изобразить подвиг народа в Отечественной вой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1644-B089-4A53-9F8C-D6EE30D7200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… вся фронтовая жизнь –подвиг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мане «Они сражались за Родину» глубоко раскрыт русский национальный характер, ярко проявившийся в дни тяжелых испытаний. Героизм русских людей в романе лишен внешне блестящего проявления и предстает перед нами в ратных буднях трагически, а порой и комически. Такое изображение войны приводит читателя к выводу, что героическое не в отдельных подвигах советских солдат, а что вся фронтовая жизнь — подви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4961-CFF5-4273-BEBA-11D4819C44C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ма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Поднятая целина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 посвящён великому перелому, который произошёл в деревне в годы коллективизаци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. Основа романа – изображение процесса идейной переделки и воспитания трудящихся в духе социализма под руководством Коммунистической пар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D8BE-CD92-417B-A1DE-F27F4E7BA7D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E5F5-15CE-417C-9541-91797D4623F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ая книга романа (193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во всю силу звучал пафос социальных преобразований, крушения старых форм собственности, трудного становления новых общественных отношений. Типичные образы коммунистов Давыдова,  Размётнова и Нагульнова, их яркие, глубоко индивидуализированные характеры помогли раскрыть смысл важнейших исторических событий, участниками и творцами которых являются герои романа, осознавшие цель своей жизни в служении великому народному дел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2D07-298D-451A-A048-61B25F7C555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книга романа (195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с захватывающим лиризмом звучит "поэзия чувств». Отсюда и своеобразие сюжетных решений: внешняя замедленность действия, обилие рассказов героев о себе, пространные беседы, повышенное внимание к отношениям, в которых раскрываются интимные чувства. Умение видеть в жизни и ярко воссоздавать в искусстве не только трагическое, но и смешное составляет одну из самых драгоценных черт таланта Шолох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0065-544E-47BD-8DBE-29760E860D2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амых замечательных персонажей романа, дед Щукарь, переворачивает односторонне серьёзный смысл происходящего, сначала показывая смешные стороны страшной борьбы, но в тоже время Шолохов показывает переживания ге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14E5-F7FC-4772-B864-DE5A44A3873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-эпопея «Тихий До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ую и мировую известность Шолохову принёс роман «Тихий Дон» (тт. 1-3, 1927—1928, т. 4 1940 г.) о донском казачестве в Первой мировой и Гражданской войнах. Героем романа стал народ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9A0D-E3B9-41F7-8446-5D1D046BAD0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 Григория Мелех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горий – центральная личность в семье Мелеховых, и трагедия его судьбы переплетается с трагедией его близких, родных. На войне он видит кровь, насилие, жестокость. Постоянные политические метания, душевные муки и любовные испытания изранили душу героя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E707-29E1-4992-BB91-E18023582D1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 Аксиньи Астах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инья пронесла любовь к Григорию через всю свою трудную, исковерканную жизнь. Жизнь без Григория, без любви была для Аксиньи невыносима. Яркая, порывистая, самоотверженная Аксинья остаётся надолго в памяти чит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50A3-B4F3-45D2-B2B9-6B5DE352655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Второй мировой войны «Тихий Дон» был переведён на европейские языки и приобрёл популярность на Западе, а после войны переведён на восточные языки и нашёл широкого читателя также и на востоке, в том числе в Япо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724B-1D9E-48D2-BF72-97D38CD95A5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луги М.А. Шолох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лохов - депутат Верховного Совета СССР 1-9-го созывов. С 1934 он член правления СП СССР. Член Всемирного Совета Мира. Почётный доктор филологических наук Ростовского и Лейпцигского университетов, почётный доктор права Сент-Андрусского университета. Награжден 4 орденами Ленина, 2 другими орденами, а также медалями, иностранным орденом. Лауреат Нобелевской премии (1965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F1F8-8E61-418B-AE7B-E55AE2AB249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отивам произведений Шолохова сняты фильмы. За первую и вторую книги «Поднятой целины»  писатель  был  удостоен 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0  году  Ленинской  пре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C5C6-467C-42C7-BFEE-F7971FACF6B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65 г. в Стокгольме Михаилу Александровичу Шолохову была вручена Нобелевская премия за роман «Тихий Дон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B08B-DC8D-4335-9E30-7D28F2AFE69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Александрович Шолохов родился в 1905 г. в хуторе Кружилином станицы Вёшенской Донецкого округа в трудовой сем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6853-D56B-4625-AF11-7B8CF0436DB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Михаилу Шолохову на набережной реки Дон в городе Ростове-на-Д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BDED-1577-44B2-A9D9-C37FF812F55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– Александр Михайлович Шолохов был приказчиком, управляющим паровой мельницы. Мать – Анастасия Даниловна Черникова – дочь крепостного крестьянина, пришедшего на Дон с Черниговщ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EDE4-6DC2-4A87-89B2-8406CE5F35D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5 ноября 192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лся Шолохов сначала в церковноприходской школе, а затем до 1918 г. в гимназии. В связи с началом Первой Мировой, а затем и Гражданской войны, получил лишь четыре класса образования. В 15 лет записался добровольцем в ряды Красной Ар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E42C-2E2D-46E0-B8B5-8AF467E394B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. Шолохову 20 л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20 г. служил и мыкался по донской земле. Чтобы прокормиться работал грузчиком, разнорабочим, каменщиком. Долго был продработником. Гонялся за бандами. Так будущий писатель познавал жизнь, участвуя в борьбе народа, накапливая огромный запас наблюдений, щедро обогативший его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8412-4CB4-44F0-8047-CB19138EA15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падный фронт, 194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оды Великой Отечественной войны Шолохов — деятельный  участник  борь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ского народа против фашистских захватч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3B56-D234-4D63-9E76-8241DD2D622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Шолохов военный корреспондент «Правды». 194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ю Великую Отечественную войну писатель был военным корреспондентом. Он видел разгром фашистов под Сталингра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9296-A04B-48EB-8D2B-E07F4B0271B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ому времени он женился и стал жить в семье своего тестя, редактора областной газеты. Там с 1926 по 1938 годы у него родились старшая дочь Светлана, старший сын Александр, сын Михаил и дочь М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2450-3DA9-4847-B14B-860A110FFCB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93F-356E-46E4-9F8D-93841451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73A-620A-43D2-9260-F1D64EF1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E05-1909-4558-B684-7AD247F0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889-7E1C-46BB-824D-3E9F1CDE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A96C-83BA-4CCB-96E5-1D75A88B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11B6-8A0F-4A6B-9A64-5A0A44D2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B087-D194-4ED6-A859-D0EC2690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7434-4B69-4576-8665-549B8AE4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C061-190A-4677-949A-C892E437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2FBB-5233-4D44-9592-82EEF23F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A81D-ABBA-4ED2-8D1E-4B3C43FF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D720-3DBD-41BD-B585-362839F8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575A-95A4-4282-B6A7-98D245E2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F85C-7AA5-4506-8768-19D1FD62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EF9C-5281-4C20-A160-94560C5A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B2AE-D98E-4D5D-A2FE-EB55AF4E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B308-B070-46E7-8F35-BD31FE19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D8BD7-B087-460B-8D61-BB1D23A4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C01BD-F996-42E9-91B8-5C30FC03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8AA1B-C461-4213-9098-D716F686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EE5C3-CA19-45C9-8C0A-6723C85D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0E543-B632-47DF-8E47-354686C3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73CB-4C1A-49ED-ADDA-F1844ED7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A4992-BF5B-46BA-AF75-05730E5D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C0F03-8E5A-4A58-9119-33DDECC7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F3CFB-3AF9-493F-A6CA-22C4A5C4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576C9-BF48-4FBE-B587-540CF83B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7D3E2-DAE1-418C-B25B-3E15B0B5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27986-52E0-4DE0-9CC8-0B1B8322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EDEF6-FBF6-4ABC-A44B-444A8C31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79328-03AD-460C-BE6F-EADF741F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57F85-96B3-4830-B234-0CFB313B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DA753-F54C-4341-8153-84F9B759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6A5-3913-4ADA-848A-7BCC940F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5529E-EB3E-4A28-918C-C1582951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4FA0C-E699-4A3A-ACDC-94E93770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C7122-72A4-4AE5-ABDC-494D7BDC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1D04F-8309-4FA3-9DDD-32E87851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50D61-213F-4BED-8636-6B16A821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46E25-C7A7-40CE-AC53-53BACF69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C0BD8-2E87-46E6-8C7F-4CD792C4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EA677-A847-4355-B824-A6A5EAF9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3DE79-4130-4FD4-895A-33436BCC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4D5-7C27-43A4-AA69-25836DD6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D34-A4F6-46EE-85DF-72F5D647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0663-BAF5-44A1-98CB-4CEB6BF2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81C-2BE9-4707-9879-29037835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39A2-5C75-4B25-B9EF-C098F39D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A699-54AB-42EB-BF80-24DA8C9CD6E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8E38-9762-45FC-8D79-13E061072A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12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12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3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29C4-6D39-464E-A075-306685DDA58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74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204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5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206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207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208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217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0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EF88-9636-4DAC-9B9A-126D987F7D4A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У «Иваново-Эсинская общеобразовательная школа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вровского района Владимирской обл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51280" y="1412640"/>
            <a:ext cx="47880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Презентация к уроку    литературы в 11 классе на тему: 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«Шолохов – человек и</a:t>
            </a: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писатель»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Выполнила: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учитель русского языка и 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литературы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Бырко Наталья Анатольевна.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2007 год.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3" name="Picture 7" descr="200px-Sholokhov-1938"/>
          <p:cNvPicPr/>
          <p:nvPr/>
        </p:nvPicPr>
        <p:blipFill>
          <a:blip r:embed="rId1"/>
          <a:stretch/>
        </p:blipFill>
        <p:spPr>
          <a:xfrm>
            <a:off x="1258920" y="1484280"/>
            <a:ext cx="2952720" cy="37432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05120" y="549360"/>
            <a:ext cx="723888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Михаил Александрович и Мария Петровн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8" name="Picture 21" descr="img148"/>
          <p:cNvPicPr/>
          <p:nvPr/>
        </p:nvPicPr>
        <p:blipFill>
          <a:blip r:embed="rId1"/>
          <a:stretch/>
        </p:blipFill>
        <p:spPr>
          <a:xfrm>
            <a:off x="5003640" y="1773360"/>
            <a:ext cx="3240360" cy="4464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2" descr="img138"/>
          <p:cNvPicPr/>
          <p:nvPr/>
        </p:nvPicPr>
        <p:blipFill>
          <a:blip r:embed="rId2"/>
          <a:stretch/>
        </p:blipFill>
        <p:spPr>
          <a:xfrm>
            <a:off x="684360" y="1773360"/>
            <a:ext cx="3365280" cy="439236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987280" y="549360"/>
            <a:ext cx="367524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Шолохов с внукам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2" name="Picture 7" descr="img152"/>
          <p:cNvPicPr/>
          <p:nvPr/>
        </p:nvPicPr>
        <p:blipFill>
          <a:blip r:embed="rId1"/>
          <a:stretch/>
        </p:blipFill>
        <p:spPr>
          <a:xfrm>
            <a:off x="611280" y="1916280"/>
            <a:ext cx="3547800" cy="4546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img144"/>
          <p:cNvPicPr/>
          <p:nvPr/>
        </p:nvPicPr>
        <p:blipFill>
          <a:blip r:embed="rId2"/>
          <a:stretch/>
        </p:blipFill>
        <p:spPr>
          <a:xfrm>
            <a:off x="4859280" y="1916280"/>
            <a:ext cx="3537000" cy="453528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6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417996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бщественная жизн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6" name="Picture 6" descr="img145"/>
          <p:cNvPicPr/>
          <p:nvPr/>
        </p:nvPicPr>
        <p:blipFill>
          <a:blip r:embed="rId1"/>
          <a:stretch/>
        </p:blipFill>
        <p:spPr>
          <a:xfrm>
            <a:off x="5219640" y="836640"/>
            <a:ext cx="3635280" cy="5400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img145"/>
          <p:cNvPicPr/>
          <p:nvPr/>
        </p:nvPicPr>
        <p:blipFill>
          <a:blip r:embed="rId2"/>
          <a:stretch/>
        </p:blipFill>
        <p:spPr>
          <a:xfrm>
            <a:off x="250920" y="1557360"/>
            <a:ext cx="2735280" cy="21495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img146"/>
          <p:cNvPicPr/>
          <p:nvPr/>
        </p:nvPicPr>
        <p:blipFill>
          <a:blip r:embed="rId3"/>
          <a:stretch/>
        </p:blipFill>
        <p:spPr>
          <a:xfrm>
            <a:off x="1835280" y="4005360"/>
            <a:ext cx="3190680" cy="223344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0"/>
          <p:cNvSpPr/>
          <p:nvPr/>
        </p:nvSpPr>
        <p:spPr>
          <a:xfrm>
            <a:off x="179280" y="4365720"/>
            <a:ext cx="15843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Шолохов среди земляко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3059280" y="1700280"/>
            <a:ext cx="2016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Шолохов и первый секретарь Вёшенского райкома КПСС Н.А. Булавин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4821120" y="6338880"/>
            <a:ext cx="432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Писатель – частый гость хлеборобов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1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11280" y="40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cc"/>
                </a:solidFill>
                <a:latin typeface="Times New Roman"/>
              </a:rPr>
              <a:t>Шолохов - писатель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056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Начало творческого пут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83883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Литературная деятельность писателя началась в 1923 году, с публикаций фельетонов в газетах Начиная с 1924 г. в журналах появляются рассказы Шолохова, объединённые впоследствии в сборники «Донские рассказы» и «Лазоревая степь» (1926). Темы ранних рассказов – гражданская война на Дону, ожесточенная классовая борьба, место человека в социальных сдвигах, происходивших в деревне. Первые рассказы «Нахалёнок», «Председатель Реввоенсовета республики» (1925), «Чужая кровь» (1926), «Червоточина» (1926). После войны Шолохов опубликовал ряд публицистических произведений: «Слово о Родине», «Борьба продолжается» (1948), «Свет и мрак» (1949)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Герои произведений Шолохова — простые трудящиеся люди. Их думы, печали и радости, их стремление к счастью и  справедливости,  их  борьба  за  новую жизнь неизменно интересуют художника. Писатель написал немало замечательных произведений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3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овесть 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          «Судьба человека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повести «Судьба человека» (1956) впервые поднята тема военнопленных в Великой Отечественной войне. Сквозной жизнеутверждающий мотив рассказа - вера в доброе, человеческое, социально-прогрессивное, утверждение подвига. Повесть была написана, чтобы напомнить о тех ужасах, которые больше не должны повториться. В небольшом по объему произведении перед читателями проходит жизнь героя, вобравшая в себя судьбу страны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6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Образ главного героя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427640" y="1915920"/>
            <a:ext cx="451944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Андрей Соколов — советский человек, мирный труженик, ненавидящий войну, отнявшую у него всю семью, счастье, надежду на лучшее. Оставшись одиноким, Соколов не утратил человечность, он смог разглядеть и пригреть около себя бездомного мальчика. Писатель заканчивает рассказ уверенностью в том, что около плеча Андрея Соколова поднимется новый человек, готовый преодолеть любые испытания судьбы. Творчество Шолохова оценено по достоинству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3" name="Picture 8" descr="img134"/>
          <p:cNvPicPr/>
          <p:nvPr/>
        </p:nvPicPr>
        <p:blipFill>
          <a:blip r:embed="rId1"/>
          <a:stretch/>
        </p:blipFill>
        <p:spPr>
          <a:xfrm>
            <a:off x="324000" y="1893960"/>
            <a:ext cx="3989160" cy="405612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77052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Роман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«Они сражались за Родину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439236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1943 году Шолохов начал работу над романом «Они сражались за Родину». Произведение повествует о тяжелых днях отступления под натиском мощной военной машины Германии, о смертельной схватке под Сталинградом, переломившей весь ход войны. Шолохов  поставил целью изобразить подвиг народа в Отечественной войн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7" name="Picture 11" descr="сканирование0005"/>
          <p:cNvPicPr/>
          <p:nvPr/>
        </p:nvPicPr>
        <p:blipFill>
          <a:blip r:embed="rId1"/>
          <a:stretch/>
        </p:blipFill>
        <p:spPr>
          <a:xfrm>
            <a:off x="4932360" y="1773360"/>
            <a:ext cx="3726000" cy="46926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8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«… вся фронтовая жизнь –подвиг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00720" y="2060640"/>
            <a:ext cx="434016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романе «Они сражались за Родину» глубоко раскрыт русский национальный характер, ярко проявившийся в дни тяжелых испытаний. Героизм русских людей в романе лишен внешне блестящего проявления и предстает перед нами в ратных буднях трагически, а порой и комически. Такое изображение войны приводит читателя к выводу, что героическое не в отдельных подвигах советских солдат, а что вся фронтовая жизнь — подвиг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1" name="Picture 7" descr="Они сражались за родину"/>
          <p:cNvPicPr/>
          <p:nvPr/>
        </p:nvPicPr>
        <p:blipFill>
          <a:blip r:embed="rId1"/>
          <a:stretch/>
        </p:blipFill>
        <p:spPr>
          <a:xfrm>
            <a:off x="468360" y="1844640"/>
            <a:ext cx="3805200" cy="425124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2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770520" cy="118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Роман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«Поднятая целина».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42480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оман посвящён великому перелому, который произошёл в деревне в годы коллективизации 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х. Основа романа – изображение процесса идейной переделки и воспитания трудящихся в духе социализма под руководством Коммунистической парт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5" name="Picture 7" descr="1000338244"/>
          <p:cNvPicPr/>
          <p:nvPr/>
        </p:nvPicPr>
        <p:blipFill>
          <a:blip r:embed="rId1"/>
          <a:stretch/>
        </p:blipFill>
        <p:spPr>
          <a:xfrm>
            <a:off x="5508720" y="1773360"/>
            <a:ext cx="3203640" cy="454968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5640" y="29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ffcc"/>
                </a:solidFill>
                <a:latin typeface="Times New Roman"/>
              </a:rPr>
              <a:t>       </a:t>
            </a:r>
            <a:r>
              <a:rPr b="0" lang="ru-RU" sz="9600" spc="-1" strike="noStrike">
                <a:solidFill>
                  <a:srgbClr val="ccffcc"/>
                </a:solidFill>
                <a:latin typeface="Times New Roman"/>
              </a:rPr>
              <a:t>Биография 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3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4396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ервая книга романа (1932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00720" y="1700280"/>
            <a:ext cx="431928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Здесь во всю силу звучал пафос социальных преобразований, крушения старых форм собственности, трудного становления новых общественных отношений. Типичные образы коммунистов Давыдова,  Размётнова и Нагульнова, их яркие, глубоко индивидуализированные характеры помогли раскрыть смысл важнейших исторических событий, участниками и творцами которых являются герои романа, осознавшие цель своей жизни в служении великому народному делу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9" name="Picture 9" descr="сканирование0004"/>
          <p:cNvPicPr/>
          <p:nvPr/>
        </p:nvPicPr>
        <p:blipFill>
          <a:blip r:embed="rId1"/>
          <a:stretch/>
        </p:blipFill>
        <p:spPr>
          <a:xfrm>
            <a:off x="611280" y="1484280"/>
            <a:ext cx="3671640" cy="496908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торая книга романа (1959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412596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ней с захватывающим лиризмом звучит "поэзия чувств». Отсюда и своеобразие сюжетных решений: внешняя замедленность действия, обилие рассказов героев о себе, пространные беседы, повышенное внимание к отношениям, в которых раскрываются интимные чувства. Умение видеть в жизни и ярко воссоздавать в искусстве не только трагическое, но и смешное составляет одну из самых драгоценных черт таланта Шолохов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3" name="Picture 9" descr="сканирование0003"/>
          <p:cNvPicPr/>
          <p:nvPr/>
        </p:nvPicPr>
        <p:blipFill>
          <a:blip r:embed="rId1"/>
          <a:stretch/>
        </p:blipFill>
        <p:spPr>
          <a:xfrm>
            <a:off x="5219640" y="1916280"/>
            <a:ext cx="3381480" cy="426060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6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Один из самых замечательных персонажей романа, дед Щукарь, переворачивает односторонне серьёзный смысл происходящего, сначала показывая смешные стороны страшной борьбы, но в тоже время Шолохов показывает переживания героя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56" name="Picture 6" descr="роро"/>
          <p:cNvPicPr/>
          <p:nvPr/>
        </p:nvPicPr>
        <p:blipFill>
          <a:blip r:embed="rId1"/>
          <a:stretch/>
        </p:blipFill>
        <p:spPr>
          <a:xfrm>
            <a:off x="826920" y="1773360"/>
            <a:ext cx="7129800" cy="468000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оман-эпопея «Тихий Дон»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оссийскую и мировую известность Шолохову принёс роман «Тихий Дон» (тт. 1-3, 1927—1928, т. 4 1940 г.) о донском казачестве в Первой мировой и Гражданской войнах. Героем романа стал народ.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0" name="Picture 6" descr="img143"/>
          <p:cNvPicPr/>
          <p:nvPr/>
        </p:nvPicPr>
        <p:blipFill>
          <a:blip r:embed="rId1"/>
          <a:stretch/>
        </p:blipFill>
        <p:spPr>
          <a:xfrm>
            <a:off x="324000" y="170028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7"/>
          <p:cNvSpPr/>
          <p:nvPr/>
        </p:nvSpPr>
        <p:spPr>
          <a:xfrm>
            <a:off x="755640" y="4797360"/>
            <a:ext cx="252252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Дом в Вешенской, где Шолохов работал над «Тихим Доном»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6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713088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Образ Григория Мелехова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427280" y="1557000"/>
            <a:ext cx="43923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Григорий – центральная личность в семье Мелеховых, и трагедия его судьбы переплетается с трагедией его близких, родных. На войне он видит кровь, насилие, жестокость. Постоянные политические метания, душевные муки и любовные испытания изранили душу героя.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5" name="Picture 9" descr="img133"/>
          <p:cNvPicPr/>
          <p:nvPr/>
        </p:nvPicPr>
        <p:blipFill>
          <a:blip r:embed="rId1"/>
          <a:stretch/>
        </p:blipFill>
        <p:spPr>
          <a:xfrm>
            <a:off x="250920" y="1557360"/>
            <a:ext cx="3844800" cy="503856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5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Образ Аксиньи Астаховой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ксинья пронесла любовь к Григорию через всю свою трудную, исковерканную жизнь. Жизнь без Григория, без любви была для Аксиньи невыносима. Яркая, порывистая, самоотверженная Аксинья остаётся надолго в памяти читател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9" name="Picture 7" descr="ошог"/>
          <p:cNvPicPr/>
          <p:nvPr/>
        </p:nvPicPr>
        <p:blipFill>
          <a:blip r:embed="rId1"/>
          <a:stretch/>
        </p:blipFill>
        <p:spPr>
          <a:xfrm>
            <a:off x="4791240" y="1905120"/>
            <a:ext cx="4022640" cy="4763880"/>
          </a:xfrm>
          <a:prstGeom prst="rect">
            <a:avLst/>
          </a:prstGeom>
          <a:ln w="0">
            <a:noFill/>
          </a:ln>
        </p:spPr>
      </p:pic>
      <p:sp>
        <p:nvSpPr>
          <p:cNvPr id="37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о время Второй мировой войны «Тихий Дон» был переведён на европейские языки и приобрёл популярность на Западе, а после войны переведён на восточные языки и нашёл широкого читателя также и на востоке, в том числе в Япони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Заслуги М.А. Шолохова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419724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Шолохов - депутат Верховного Совета СССР 1-9-го созывов. С 1934 он член правления СП СССР. Член Всемирного Совета Мира. Почётный доктор филологических наук Ростовского и Лейпцигского университетов, почётный доктор права Сент-Андрусского университета. Награжден 4 орденами Ленина, 2 другими орденами, а также медалями, иностранным орденом. Лауреат Нобелевской премии (1965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5" name="Picture 10" descr="img152"/>
          <p:cNvPicPr/>
          <p:nvPr/>
        </p:nvPicPr>
        <p:blipFill>
          <a:blip r:embed="rId1"/>
          <a:stretch/>
        </p:blipFill>
        <p:spPr>
          <a:xfrm>
            <a:off x="5076720" y="1628640"/>
            <a:ext cx="3768840" cy="495324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8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 мотивам произведений Шолохова сняты фильмы. За первую и вторую книги «Поднятой целины»  писатель  был  удостоен  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1960  году  Ленинской  преми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8" name="Picture 7" descr="img147"/>
          <p:cNvPicPr/>
          <p:nvPr/>
        </p:nvPicPr>
        <p:blipFill>
          <a:blip r:embed="rId1"/>
          <a:stretch/>
        </p:blipFill>
        <p:spPr>
          <a:xfrm>
            <a:off x="250920" y="2122560"/>
            <a:ext cx="4221000" cy="335124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2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965 г. в Стокгольме Михаилу Александровичу Шолохову была вручена Нобелевская премия за роман «Тихий Дон»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1" name="Picture 7" descr="срмр"/>
          <p:cNvPicPr/>
          <p:nvPr/>
        </p:nvPicPr>
        <p:blipFill>
          <a:blip r:embed="rId1"/>
          <a:stretch/>
        </p:blipFill>
        <p:spPr>
          <a:xfrm>
            <a:off x="4572000" y="1989000"/>
            <a:ext cx="4124160" cy="397044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97128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ихаил Александрович Шолохов родился в 1905 г. в хуторе Кружилином станицы Вёшенской Донецкого округа в трудовой семье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8" name="Picture 21" descr="img155"/>
          <p:cNvPicPr/>
          <p:nvPr/>
        </p:nvPicPr>
        <p:blipFill>
          <a:blip r:embed="rId1"/>
          <a:stretch/>
        </p:blipFill>
        <p:spPr>
          <a:xfrm>
            <a:off x="5219640" y="1484280"/>
            <a:ext cx="2836800" cy="489420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7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00360" y="2491920"/>
            <a:ext cx="3809880" cy="27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амятник Михаилу Шолохову на набережной реки Дон в городе Ростове-на-Дон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4" name="Picture 7" descr="150px-Sholochov_Monument_Rostov-on-Don"/>
          <p:cNvPicPr/>
          <p:nvPr/>
        </p:nvPicPr>
        <p:blipFill>
          <a:blip r:embed="rId1"/>
          <a:stretch/>
        </p:blipFill>
        <p:spPr>
          <a:xfrm>
            <a:off x="826920" y="1557360"/>
            <a:ext cx="2800440" cy="503856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Родители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тец – Александр Михайлович Шолохов был приказчиком, управляющим паровой мельницы. Мать – Анастасия Даниловна Черникова – дочь крепостного крестьянина, пришедшего на Дон с Черниговщи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2" name="Picture 10" descr="img139"/>
          <p:cNvPicPr/>
          <p:nvPr/>
        </p:nvPicPr>
        <p:blipFill>
          <a:blip r:embed="rId1"/>
          <a:stretch/>
        </p:blipFill>
        <p:spPr>
          <a:xfrm>
            <a:off x="468360" y="2060640"/>
            <a:ext cx="4032360" cy="34560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1"/>
          <p:cNvSpPr/>
          <p:nvPr/>
        </p:nvSpPr>
        <p:spPr>
          <a:xfrm>
            <a:off x="755640" y="5589720"/>
            <a:ext cx="3313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Шолохов с родителями (1912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9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56360" y="6165360"/>
            <a:ext cx="1874880" cy="5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15 ноября 1923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Учился Шолохов сначала в церковноприходской школе, а затем до 1918 г. в гимназии. В связи с началом Первой Мировой, а затем и Гражданской войны, получил лишь четыре класса образования. В 15 лет записался добровольцем в ряды Красной Арм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7" name="Picture 18" descr="img140"/>
          <p:cNvPicPr/>
          <p:nvPr/>
        </p:nvPicPr>
        <p:blipFill>
          <a:blip r:embed="rId1"/>
          <a:stretch/>
        </p:blipFill>
        <p:spPr>
          <a:xfrm>
            <a:off x="4500720" y="836640"/>
            <a:ext cx="3095640" cy="24638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9" descr="img141"/>
          <p:cNvPicPr/>
          <p:nvPr/>
        </p:nvPicPr>
        <p:blipFill>
          <a:blip r:embed="rId2"/>
          <a:stretch/>
        </p:blipFill>
        <p:spPr>
          <a:xfrm>
            <a:off x="5508720" y="3429000"/>
            <a:ext cx="3384360" cy="27478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0"/>
          <p:cNvSpPr/>
          <p:nvPr/>
        </p:nvSpPr>
        <p:spPr>
          <a:xfrm>
            <a:off x="7812000" y="1197000"/>
            <a:ext cx="101124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Годы учёбы в гимнази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71640" y="6021000"/>
            <a:ext cx="25956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М. Шолохову 20 лет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00360" y="1557360"/>
            <a:ext cx="426852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 1920 г. служил и мыкался по донской земле. Чтобы прокормиться работал грузчиком, разнорабочим, каменщиком. Долго был продработником. Гонялся за бандами. Так будущий писатель познавал жизнь, участвуя в борьбе народа, накапливая огромный запас наблюдений, щедро обогативший его творчеств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3" name="Picture 6" descr="img149"/>
          <p:cNvPicPr/>
          <p:nvPr/>
        </p:nvPicPr>
        <p:blipFill>
          <a:blip r:embed="rId1"/>
          <a:stretch/>
        </p:blipFill>
        <p:spPr>
          <a:xfrm>
            <a:off x="684360" y="1628640"/>
            <a:ext cx="3552840" cy="42465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580000" y="3428640"/>
            <a:ext cx="23796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Западный фронт, 194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годы Великой Отечественной войны Шолохов — деятельный  участник  борьб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оветского народа против фашистских захватчиков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7" name="Picture 8" descr="img135"/>
          <p:cNvPicPr/>
          <p:nvPr/>
        </p:nvPicPr>
        <p:blipFill>
          <a:blip r:embed="rId1"/>
          <a:stretch/>
        </p:blipFill>
        <p:spPr>
          <a:xfrm>
            <a:off x="5148360" y="1125360"/>
            <a:ext cx="3502080" cy="2246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img138"/>
          <p:cNvPicPr/>
          <p:nvPr/>
        </p:nvPicPr>
        <p:blipFill>
          <a:blip r:embed="rId2"/>
          <a:stretch/>
        </p:blipFill>
        <p:spPr>
          <a:xfrm>
            <a:off x="5003640" y="4076640"/>
            <a:ext cx="3600720" cy="227664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03640" y="5960880"/>
            <a:ext cx="331488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Шолохов военный корреспондент «Правды». 194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65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сю Великую Отечественную войну писатель был военным корреспондентом. Он видел разгром фашистов под Сталинградо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2" name="Picture 7" descr="img151"/>
          <p:cNvPicPr/>
          <p:nvPr/>
        </p:nvPicPr>
        <p:blipFill>
          <a:blip r:embed="rId1"/>
          <a:stretch/>
        </p:blipFill>
        <p:spPr>
          <a:xfrm>
            <a:off x="4932360" y="1413000"/>
            <a:ext cx="3456000" cy="44622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 тому времени он женился и стал жить в семье своего тестя, редактора областной газеты. Там с 1926 по 1938 годы у него родились старшая дочь Светлана, старший сын Александр, сын Михаил и дочь Мар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5" name="Picture 11" descr="img139"/>
          <p:cNvPicPr/>
          <p:nvPr/>
        </p:nvPicPr>
        <p:blipFill>
          <a:blip r:embed="rId1"/>
          <a:stretch/>
        </p:blipFill>
        <p:spPr>
          <a:xfrm>
            <a:off x="324000" y="2133720"/>
            <a:ext cx="4392360" cy="3887640"/>
          </a:xfrm>
          <a:prstGeom prst="rect">
            <a:avLst/>
          </a:prstGeom>
          <a:ln w="0">
            <a:noFill/>
          </a:ln>
        </p:spPr>
      </p:pic>
      <p:sp>
        <p:nvSpPr>
          <p:cNvPr id="30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5:44:48Z</dcterms:created>
  <dc:creator>Родной</dc:creator>
  <dc:description/>
  <dc:language>en-US</dc:language>
  <cp:lastModifiedBy>LEGION</cp:lastModifiedBy>
  <dcterms:modified xsi:type="dcterms:W3CDTF">2015-01-20T12:03:51Z</dcterms:modified>
  <cp:revision>16</cp:revision>
  <dc:subject/>
  <dc:title>МОУ «Иваново-Эсинская общеобразовательная школа»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150000000000010250300207f7000400038000</vt:lpwstr>
  </property>
</Properties>
</file>