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0C57-B788-443D-98F1-15568BAA79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«Иваново-Эсинская общеобразовательная школа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ровского района Владимирской обла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   литературы в 11 классе на т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Шолохов – человек 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сатель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русского языка 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рко Наталья Анатолье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60F9-896B-4E7F-B990-040D043CF92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и Мария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C94B-65B8-4EF1-84B8-45965279007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с вн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D433-E970-49B8-9F82-E2EE199E2AE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8E99-2518-467D-989E-912C75A15E9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E41A-0F46-4AA4-93C9-88BCEE39655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творческ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4D23-EACC-4F8E-A34D-7566C7AD67A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сть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«Судьба челове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9A25-04F3-43FA-A0A8-DA8F3789D9D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 главного гер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AF66-D985-48AB-AFC2-B234DAAFDED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Они сражались за Родин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598B-1309-41B5-8F66-84E0652C6E1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… вся фронтовая жизнь –подвиг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390F-EB47-480F-A1BD-872C0C7767B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однятая целин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137E-5B08-45B9-A9E8-D91A0F32A59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94EE-3D10-4802-B327-70356B31890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ая книга романа (193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BA0A-6502-43F7-9A4F-50DD42B84A6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книга романа (19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04DA-971F-44EB-A1CD-0D4D00CAC12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F783-4AF3-49CA-9A9B-8908CE0E39E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-эпопея «Тихий До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39D3-2F8B-4463-8134-4CB943DDDB6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 Григория Мелех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3916-66BD-4E48-B128-0EF006CB0F1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Аксиньи Астах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FA23-D3A3-44BC-9D34-3D963A341C8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21FB-D00C-4005-818E-07FBDAB1723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луги М.А. Шолох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02F5-B231-4F18-9FA2-EEFB8B2E761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 году  Ленинской  пр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1E22-7DEA-4C32-8A42-7403B096642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CA49-5683-4956-BEE4-A90338F80D9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CC2C-0AF3-42B2-A54E-330899E8F61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Михаилу Шолохову на набережной реки Дон в городе Ростове-на-Д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AB04-D183-49DC-8E9D-E0646685CE1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B0EB-F304-43F0-9A6E-F1FF9D92F96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5 ноября 19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8821-07FB-4F76-B4A4-CB249B378E6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. Шолохову 20 л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FE0A-0808-4534-A650-BB0141FB196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падный фронт,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ы Великой Отечественной войны Шолохов — деятельный  участник 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ого народа против фашистских захватч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0D25-C27E-4997-8B0C-C612F3799DF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олохов военный корреспондент «Правды».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0F6B-E45E-422B-8746-E3AD28B1127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BA00-2D27-4F43-89B5-31DF2A66A02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CEB-647A-454A-8807-4F2172CA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9D4-E6E5-4D43-8E83-70D4109C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EC6-2029-4DA3-888F-A59E8705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525-74F5-4713-AD95-9C9429B7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EDA6-E7BB-49CE-B2C9-9028C987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C382-39EA-465C-8851-E20BC73C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1D1D-1264-4AE3-B53C-450A1F69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73E7-D6B3-4E7F-B480-E065272D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E2E5-275E-460B-A0B6-49ECD433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F119-B811-40C8-93E5-ECDADA21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C253-80C4-4808-84CE-D810AD74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680-230F-4902-8FA5-3645A3CA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65D8-74B0-4E0F-A70B-3EF89C5A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1A53-AF3E-47FC-B7CE-16403A82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8E17-4708-4538-9F5C-888B5F18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7B71-3364-46E0-800D-7451BD2B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B56D-F41D-4CC9-99CC-DB69EA29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9D5DC-DD51-4326-BD9E-2CF53716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CE76-56B9-44C7-A602-57A06828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BF3C-DE54-44DE-AF1D-2569917B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6C12-A0F5-476E-9D51-8D7E2043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132F-9842-4EE1-AB19-929BDC1D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E06-B182-49DB-B4C9-7AC22AF5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B9E96-5010-4745-86CD-73A222EA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0972-928F-4125-AFDD-456B27D0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5D33-0C6F-44D9-9EE0-7A757A1F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1FE2-095C-4060-A68B-15E09DBF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AA85-832C-490F-AA39-A019D968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315E-4AD9-42C2-8764-4CBB949B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9E5A4-13C9-4CE2-B867-2CACF750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0360-799C-4AD5-B882-3E897605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D87C4-629B-4E2E-8675-65A4852D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DC76-7962-41FD-893D-9F3D2DE8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942-27C3-41D2-A72F-978DA67E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1A1B7-52C6-4C32-967D-F5173C37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50F5D-BDD9-41E8-A654-392F5B0E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3734-B54C-4A50-BA18-C2B1B643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CF10-A641-4744-A440-0D42D502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5B53-07B9-4D37-A276-BC06A429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190F5-BDB0-4432-9E7E-FF82C080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C01C-03C8-420C-AEF7-E3D012DB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DE203-A652-4FAF-96B8-954EC6D2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6C7A8-B9B9-4161-92EE-C586F83C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C91-2674-4696-A79C-DA2913E8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1F9-0E44-4D21-9D80-4CDFF5A7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734-090B-4FD1-BE48-81C7C999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A6F-0F93-45D2-B137-69C2738E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D78-11E0-4C5D-B63F-7EE4205E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CB9F-6677-4D63-B16B-917D41646A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BB66-BD88-43F1-93CD-61F191C314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2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2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4154-7E5D-4F60-915E-A47FCB2744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74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04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5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06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07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08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17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6B65-F765-405D-9C48-08B09B4C263C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«Иваново-Эсинская общеобразовательная школа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вровского района Владимирской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51280" y="1412640"/>
            <a:ext cx="4788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Презентация к уроку    литературы в 11 классе на тему: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Шолохов – человек и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исатель»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Выполнила: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учитель русского языка и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литературы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Бырко Наталья Анатольевна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2007 год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3" name="Picture 7" descr="200px-Sholokhov-1938"/>
          <p:cNvPicPr/>
          <p:nvPr/>
        </p:nvPicPr>
        <p:blipFill>
          <a:blip r:embed="rId1"/>
          <a:stretch/>
        </p:blipFill>
        <p:spPr>
          <a:xfrm>
            <a:off x="1258920" y="1484280"/>
            <a:ext cx="295272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549360"/>
            <a:ext cx="7238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ихаил Александрович и Мария Петровн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8" name="Picture 21" descr="img148"/>
          <p:cNvPicPr/>
          <p:nvPr/>
        </p:nvPicPr>
        <p:blipFill>
          <a:blip r:embed="rId1"/>
          <a:stretch/>
        </p:blipFill>
        <p:spPr>
          <a:xfrm>
            <a:off x="5003640" y="1773360"/>
            <a:ext cx="3240360" cy="4464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2" descr="img138"/>
          <p:cNvPicPr/>
          <p:nvPr/>
        </p:nvPicPr>
        <p:blipFill>
          <a:blip r:embed="rId2"/>
          <a:stretch/>
        </p:blipFill>
        <p:spPr>
          <a:xfrm>
            <a:off x="684360" y="1773360"/>
            <a:ext cx="3365280" cy="43923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7280" y="549360"/>
            <a:ext cx="367524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Шолохов с внукам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2" name="Picture 7" descr="img152"/>
          <p:cNvPicPr/>
          <p:nvPr/>
        </p:nvPicPr>
        <p:blipFill>
          <a:blip r:embed="rId1"/>
          <a:stretch/>
        </p:blipFill>
        <p:spPr>
          <a:xfrm>
            <a:off x="611280" y="1916280"/>
            <a:ext cx="3547800" cy="4546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img144"/>
          <p:cNvPicPr/>
          <p:nvPr/>
        </p:nvPicPr>
        <p:blipFill>
          <a:blip r:embed="rId2"/>
          <a:stretch/>
        </p:blipFill>
        <p:spPr>
          <a:xfrm>
            <a:off x="4859280" y="1916280"/>
            <a:ext cx="3537000" cy="453528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41799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щественная жизн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Picture 6" descr="img145"/>
          <p:cNvPicPr/>
          <p:nvPr/>
        </p:nvPicPr>
        <p:blipFill>
          <a:blip r:embed="rId1"/>
          <a:stretch/>
        </p:blipFill>
        <p:spPr>
          <a:xfrm>
            <a:off x="5219640" y="836640"/>
            <a:ext cx="3635280" cy="5400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img145"/>
          <p:cNvPicPr/>
          <p:nvPr/>
        </p:nvPicPr>
        <p:blipFill>
          <a:blip r:embed="rId2"/>
          <a:stretch/>
        </p:blipFill>
        <p:spPr>
          <a:xfrm>
            <a:off x="250920" y="1557360"/>
            <a:ext cx="2735280" cy="2149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img146"/>
          <p:cNvPicPr/>
          <p:nvPr/>
        </p:nvPicPr>
        <p:blipFill>
          <a:blip r:embed="rId3"/>
          <a:stretch/>
        </p:blipFill>
        <p:spPr>
          <a:xfrm>
            <a:off x="1835280" y="4005360"/>
            <a:ext cx="3190680" cy="22334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"/>
          <p:cNvSpPr/>
          <p:nvPr/>
        </p:nvSpPr>
        <p:spPr>
          <a:xfrm>
            <a:off x="179280" y="4365720"/>
            <a:ext cx="1584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Шолохов среди земляко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3059280" y="1700280"/>
            <a:ext cx="201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Шолохов и первый секретарь Вёшенского райкома КПСС Н.А. Булавин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821120" y="6338880"/>
            <a:ext cx="432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исатель – частый гость хлеборобов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cc"/>
                </a:solidFill>
                <a:latin typeface="Times New Roman"/>
              </a:rPr>
              <a:t>Шолохов - писатель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056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чало творческого пут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388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весть 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«Судьба человека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раз главного геро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27640" y="1915920"/>
            <a:ext cx="451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3" name="Picture 8" descr="img134"/>
          <p:cNvPicPr/>
          <p:nvPr/>
        </p:nvPicPr>
        <p:blipFill>
          <a:blip r:embed="rId1"/>
          <a:stretch/>
        </p:blipFill>
        <p:spPr>
          <a:xfrm>
            <a:off x="324000" y="1893960"/>
            <a:ext cx="3989160" cy="40561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77052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Они сражались за Родину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39236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7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4932360" y="1773360"/>
            <a:ext cx="3726000" cy="46926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… вся фронтовая жизнь –подвиг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00720" y="2060640"/>
            <a:ext cx="434016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1" name="Picture 7" descr="Они сражались за родину"/>
          <p:cNvPicPr/>
          <p:nvPr/>
        </p:nvPicPr>
        <p:blipFill>
          <a:blip r:embed="rId1"/>
          <a:stretch/>
        </p:blipFill>
        <p:spPr>
          <a:xfrm>
            <a:off x="468360" y="1844640"/>
            <a:ext cx="3805200" cy="425124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70520" cy="11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«Поднятая целина».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42480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5" name="Picture 7" descr="1000338244"/>
          <p:cNvPicPr/>
          <p:nvPr/>
        </p:nvPicPr>
        <p:blipFill>
          <a:blip r:embed="rId1"/>
          <a:stretch/>
        </p:blipFill>
        <p:spPr>
          <a:xfrm>
            <a:off x="5508720" y="1773360"/>
            <a:ext cx="3203640" cy="4549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       </a:t>
            </a: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Биография 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439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вая книга романа (193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31928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9" name="Picture 9" descr="сканирование0004"/>
          <p:cNvPicPr/>
          <p:nvPr/>
        </p:nvPicPr>
        <p:blipFill>
          <a:blip r:embed="rId1"/>
          <a:stretch/>
        </p:blipFill>
        <p:spPr>
          <a:xfrm>
            <a:off x="611280" y="1484280"/>
            <a:ext cx="3671640" cy="496908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торая книга романа (1959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412596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3" name="Picture 9" descr="сканирование0003"/>
          <p:cNvPicPr/>
          <p:nvPr/>
        </p:nvPicPr>
        <p:blipFill>
          <a:blip r:embed="rId1"/>
          <a:stretch/>
        </p:blipFill>
        <p:spPr>
          <a:xfrm>
            <a:off x="5219640" y="1916280"/>
            <a:ext cx="3381480" cy="426060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6" name="Picture 6" descr="роро"/>
          <p:cNvPicPr/>
          <p:nvPr/>
        </p:nvPicPr>
        <p:blipFill>
          <a:blip r:embed="rId1"/>
          <a:stretch/>
        </p:blipFill>
        <p:spPr>
          <a:xfrm>
            <a:off x="826920" y="1773360"/>
            <a:ext cx="7129800" cy="468000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ман-эпопея «Тихий Дон»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0" name="Picture 6" descr="img143"/>
          <p:cNvPicPr/>
          <p:nvPr/>
        </p:nvPicPr>
        <p:blipFill>
          <a:blip r:embed="rId1"/>
          <a:stretch/>
        </p:blipFill>
        <p:spPr>
          <a:xfrm>
            <a:off x="324000" y="1700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755640" y="4797360"/>
            <a:ext cx="25225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Дом в Вешенской, где Шолохов работал над «Тихим Доном»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130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Образ Григория Мелехова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3923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5" name="Picture 9" descr="img133"/>
          <p:cNvPicPr/>
          <p:nvPr/>
        </p:nvPicPr>
        <p:blipFill>
          <a:blip r:embed="rId1"/>
          <a:stretch/>
        </p:blipFill>
        <p:spPr>
          <a:xfrm>
            <a:off x="250920" y="1557360"/>
            <a:ext cx="3844800" cy="50385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браз Аксиньи Астаховой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9" name="Picture 7" descr="ошог"/>
          <p:cNvPicPr/>
          <p:nvPr/>
        </p:nvPicPr>
        <p:blipFill>
          <a:blip r:embed="rId1"/>
          <a:stretch/>
        </p:blipFill>
        <p:spPr>
          <a:xfrm>
            <a:off x="4791240" y="1905120"/>
            <a:ext cx="4022640" cy="4763880"/>
          </a:xfrm>
          <a:prstGeom prst="rect">
            <a:avLst/>
          </a:prstGeom>
          <a:ln w="0">
            <a:noFill/>
          </a:ln>
        </p:spPr>
      </p:pic>
      <p:sp>
        <p:nvSpPr>
          <p:cNvPr id="3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аслуги М.А. Шолохова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419724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5" name="Picture 10" descr="img152"/>
          <p:cNvPicPr/>
          <p:nvPr/>
        </p:nvPicPr>
        <p:blipFill>
          <a:blip r:embed="rId1"/>
          <a:stretch/>
        </p:blipFill>
        <p:spPr>
          <a:xfrm>
            <a:off x="5076720" y="1628640"/>
            <a:ext cx="3768840" cy="49532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960  году  Ленинской  прем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8" name="Picture 7" descr="img147"/>
          <p:cNvPicPr/>
          <p:nvPr/>
        </p:nvPicPr>
        <p:blipFill>
          <a:blip r:embed="rId1"/>
          <a:stretch/>
        </p:blipFill>
        <p:spPr>
          <a:xfrm>
            <a:off x="250920" y="2122560"/>
            <a:ext cx="4221000" cy="335124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2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7" descr="срмр"/>
          <p:cNvPicPr/>
          <p:nvPr/>
        </p:nvPicPr>
        <p:blipFill>
          <a:blip r:embed="rId1"/>
          <a:stretch/>
        </p:blipFill>
        <p:spPr>
          <a:xfrm>
            <a:off x="4572000" y="1989000"/>
            <a:ext cx="4124160" cy="397044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97128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8" name="Picture 21" descr="img155"/>
          <p:cNvPicPr/>
          <p:nvPr/>
        </p:nvPicPr>
        <p:blipFill>
          <a:blip r:embed="rId1"/>
          <a:stretch/>
        </p:blipFill>
        <p:spPr>
          <a:xfrm>
            <a:off x="5219640" y="1484280"/>
            <a:ext cx="2836800" cy="48942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00360" y="2491920"/>
            <a:ext cx="380988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мятник Михаилу Шолохову на набережной реки Дон в городе Ростове-на-До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4" name="Picture 7" descr="150px-Sholochov_Monument_Rostov-on-Don"/>
          <p:cNvPicPr/>
          <p:nvPr/>
        </p:nvPicPr>
        <p:blipFill>
          <a:blip r:embed="rId1"/>
          <a:stretch/>
        </p:blipFill>
        <p:spPr>
          <a:xfrm>
            <a:off x="826920" y="1557360"/>
            <a:ext cx="2800440" cy="50385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Родители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2" name="Picture 10" descr="img139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3456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1"/>
          <p:cNvSpPr/>
          <p:nvPr/>
        </p:nvSpPr>
        <p:spPr>
          <a:xfrm>
            <a:off x="755640" y="5589720"/>
            <a:ext cx="3313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с родителями (1912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56360" y="6165360"/>
            <a:ext cx="187488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15 ноября 192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7" name="Picture 18" descr="img140"/>
          <p:cNvPicPr/>
          <p:nvPr/>
        </p:nvPicPr>
        <p:blipFill>
          <a:blip r:embed="rId1"/>
          <a:stretch/>
        </p:blipFill>
        <p:spPr>
          <a:xfrm>
            <a:off x="4500720" y="836640"/>
            <a:ext cx="3095640" cy="2463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img141"/>
          <p:cNvPicPr/>
          <p:nvPr/>
        </p:nvPicPr>
        <p:blipFill>
          <a:blip r:embed="rId2"/>
          <a:stretch/>
        </p:blipFill>
        <p:spPr>
          <a:xfrm>
            <a:off x="5508720" y="3429000"/>
            <a:ext cx="3384360" cy="27478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0"/>
          <p:cNvSpPr/>
          <p:nvPr/>
        </p:nvSpPr>
        <p:spPr>
          <a:xfrm>
            <a:off x="7812000" y="1197000"/>
            <a:ext cx="101124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Годы учёбы в гимнази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6021000"/>
            <a:ext cx="2595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. Шолохову 20 ле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00360" y="1557360"/>
            <a:ext cx="426852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3" name="Picture 6" descr="img149"/>
          <p:cNvPicPr/>
          <p:nvPr/>
        </p:nvPicPr>
        <p:blipFill>
          <a:blip r:embed="rId1"/>
          <a:stretch/>
        </p:blipFill>
        <p:spPr>
          <a:xfrm>
            <a:off x="684360" y="1628640"/>
            <a:ext cx="3552840" cy="42465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580000" y="3428640"/>
            <a:ext cx="2379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Западный фронт,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годы Великой Отечественной войны Шолохов — деятельный  участник  борьб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ветского народа против фашистских захватч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Picture 8" descr="img135"/>
          <p:cNvPicPr/>
          <p:nvPr/>
        </p:nvPicPr>
        <p:blipFill>
          <a:blip r:embed="rId1"/>
          <a:stretch/>
        </p:blipFill>
        <p:spPr>
          <a:xfrm>
            <a:off x="5148360" y="1125360"/>
            <a:ext cx="3502080" cy="224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mg138"/>
          <p:cNvPicPr/>
          <p:nvPr/>
        </p:nvPicPr>
        <p:blipFill>
          <a:blip r:embed="rId2"/>
          <a:stretch/>
        </p:blipFill>
        <p:spPr>
          <a:xfrm>
            <a:off x="5003640" y="4076640"/>
            <a:ext cx="3600720" cy="227664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03640" y="5960880"/>
            <a:ext cx="33148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военный корреспондент «Правды».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6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2" name="Picture 7" descr="img151"/>
          <p:cNvPicPr/>
          <p:nvPr/>
        </p:nvPicPr>
        <p:blipFill>
          <a:blip r:embed="rId1"/>
          <a:stretch/>
        </p:blipFill>
        <p:spPr>
          <a:xfrm>
            <a:off x="4932360" y="1413000"/>
            <a:ext cx="3456000" cy="44622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Picture 11" descr="img139"/>
          <p:cNvPicPr/>
          <p:nvPr/>
        </p:nvPicPr>
        <p:blipFill>
          <a:blip r:embed="rId1"/>
          <a:stretch/>
        </p:blipFill>
        <p:spPr>
          <a:xfrm>
            <a:off x="324000" y="2133720"/>
            <a:ext cx="4392360" cy="388764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44:48Z</dcterms:created>
  <dc:creator>Родной</dc:creator>
  <dc:description/>
  <dc:language>en-US</dc:language>
  <cp:lastModifiedBy>LEGION</cp:lastModifiedBy>
  <dcterms:modified xsi:type="dcterms:W3CDTF">2015-01-20T12:03:51Z</dcterms:modified>
  <cp:revision>16</cp:revision>
  <dc:subject/>
  <dc:title>МОУ «Иваново-Эсинская общеобразовательная школа»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50000000000010250300207f7000400038000</vt:lpwstr>
  </property>
</Properties>
</file>