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2C26-530D-4B9F-98CD-BADA21833A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ка написана 14 октября 1833года. Сюжет сказки основан на русской народной сказке «Жадная старух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1974-DF33-4CFC-8A46-F029533AE7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BA81-DB78-43D9-8B55-675251D5EB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bbb59"/>
                </a:solidFill>
                <a:latin typeface="Calibri"/>
              </a:rPr>
              <a:t>Объясни устаревши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A4E5-590A-4E60-8335-3D12B887E5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8C2E-522C-4ECC-A265-EC26201BE2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C840-03A9-4C07-82AD-AD513DBE5E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A996-CCD7-4078-9175-9A03D89571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DA3B-EC99-4856-BB1D-B98C05B0A3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90EF-0FCA-457C-8F2E-583A4B70E5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3397-EF1D-465D-9493-FECFF21889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14F-4F32-40B5-9B27-1516CC04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96C-E1A5-43A5-8B2B-37B4E28D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7C9-5FDD-42A3-9FDF-7BEB3BB2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8B8-D799-4A42-93E0-36A08617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D26-E54A-4161-88F3-29959EA0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B07-1F8A-4ED6-983E-0B1C6151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A76-F867-466F-BCEA-AD07B774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95A-32BF-486A-83DC-5C72E4D0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987-900C-4A52-9319-1120DD5D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B11-62BF-4034-9C5A-A97C920E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BD3-301C-463F-A1E4-9377EA89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EC5-1AFD-4546-AE7E-C61D4910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AF16-407A-479B-9B59-2DC709A4F5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F7A3-6BAF-4FE8-B98C-3E512A7A2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ru.wikipedia.org/wiki/%D1%EA%E0%E7%EA%E0_%EE_%F0%FB%E1%E0%EA%E5_%E8_%F0%FB%E1%EA%E5" TargetMode="External"/><Relationship Id="rId3" Type="http://schemas.openxmlformats.org/officeDocument/2006/relationships/hyperlink" Target="http://katushka.net/torrents/42543/screenshot_0.jpg" TargetMode="External"/><Relationship Id="rId4" Type="http://schemas.openxmlformats.org/officeDocument/2006/relationships/hyperlink" Target="http://katushka.net/torrents/42543/screenshot_0.jpg" TargetMode="External"/><Relationship Id="rId5" Type="http://schemas.openxmlformats.org/officeDocument/2006/relationships/hyperlink" Target="http://irina-imarkina.narod2.ru/metodicheskaya_kopilka_prezentatsii/vneklassnie_meropriyatiya_po_predmetu/pushkin_literaturnii_vecher/prezentatsiya/A.S.Pushkin_7.jpg?rand=2011810489619650" TargetMode="External"/><Relationship Id="rId6" Type="http://schemas.openxmlformats.org/officeDocument/2006/relationships/hyperlink" Target="http://s1.afisha.net/Afisha7Files/UGPhotos/090403185542/091102111633/p_F.jpg" TargetMode="External"/><Relationship Id="rId7" Type="http://schemas.openxmlformats.org/officeDocument/2006/relationships/hyperlink" Target="http://s1.afisha.net/Afisha7Files/UGPhotos/090403185542/091102111633/p_F.jpg" TargetMode="External"/><Relationship Id="rId8" Type="http://schemas.openxmlformats.org/officeDocument/2006/relationships/hyperlink" Target="http://www.knigosklad.ru/det/bd1563.jpg" TargetMode="External"/><Relationship Id="rId9" Type="http://schemas.openxmlformats.org/officeDocument/2006/relationships/hyperlink" Target="http://www.knigosklad.ru/det/bd1563.jpg" TargetMode="External"/><Relationship Id="rId10" Type="http://schemas.openxmlformats.org/officeDocument/2006/relationships/hyperlink" Target="http://mul.3dn.ru/4/skazka.o.rybake.i.rybke.0-19-15.973.jpg" TargetMode="External"/><Relationship Id="rId11" Type="http://schemas.openxmlformats.org/officeDocument/2006/relationships/hyperlink" Target="http://mul.3dn.ru/4/skazka.o.rybake.i.rybke.0-19-15.973.jpg" TargetMode="External"/><Relationship Id="rId12" Type="http://schemas.openxmlformats.org/officeDocument/2006/relationships/hyperlink" Target="http://allmults.org/images/multiki/173.jpg" TargetMode="External"/><Relationship Id="rId13" Type="http://schemas.openxmlformats.org/officeDocument/2006/relationships/hyperlink" Target="http://www.kuharka.ru/images/users/gallery/2010/08/06/b_73673.gif" TargetMode="External"/><Relationship Id="rId14" Type="http://schemas.openxmlformats.org/officeDocument/2006/relationships/hyperlink" Target="http://i002.radikal.ru/0911/f6/746328cb3d60.jpg" TargetMode="External"/><Relationship Id="rId15" Type="http://schemas.openxmlformats.org/officeDocument/2006/relationships/hyperlink" Target="http://www.old-land.ru/images/skazki/rr02.jpg" TargetMode="External"/><Relationship Id="rId16" Type="http://schemas.openxmlformats.org/officeDocument/2006/relationships/hyperlink" Target="http://imb.i-kino.com/images/screenshots/3416786/1/1.jpg" TargetMode="External"/><Relationship Id="rId17" Type="http://schemas.openxmlformats.org/officeDocument/2006/relationships/hyperlink" Target="http://media7.fast-torrent.ru/media/photologue/photos/sbornik-multfilmov-imeninyi-serdtsa-3-dvdrip_scene48.jpg" TargetMode="External"/><Relationship Id="rId18" Type="http://schemas.openxmlformats.org/officeDocument/2006/relationships/hyperlink" Target="http://free-filmy.ru/uploads/posts/2010-06/1277673973_00e552a9f20d.jpg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1.afisha.net/Afisha7Files/UGPhotos/090330195728/091102111627/p_F.jpg" TargetMode="External"/><Relationship Id="rId2" Type="http://schemas.openxmlformats.org/officeDocument/2006/relationships/hyperlink" Target="http://dcp.sovserv.ru/media/images/5/9/d/184962.jpg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оризонтальный свиток 5"/>
          <p:cNvGrpSpPr/>
          <p:nvPr/>
        </p:nvGrpSpPr>
        <p:grpSpPr>
          <a:xfrm>
            <a:off x="476280" y="2249640"/>
            <a:ext cx="8332920" cy="1066680"/>
            <a:chOff x="476280" y="2249640"/>
            <a:chExt cx="8332920" cy="1066680"/>
          </a:xfrm>
        </p:grpSpPr>
        <p:pic>
          <p:nvPicPr>
            <p:cNvPr id="49" name="Горизонтальный свиток 5" descr=""/>
            <p:cNvPicPr/>
            <p:nvPr/>
          </p:nvPicPr>
          <p:blipFill>
            <a:blip r:embed="rId1"/>
            <a:stretch/>
          </p:blipFill>
          <p:spPr>
            <a:xfrm>
              <a:off x="476280" y="2249640"/>
              <a:ext cx="83329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3"/>
            <p:cNvSpPr/>
            <p:nvPr/>
          </p:nvSpPr>
          <p:spPr>
            <a:xfrm>
              <a:off x="657360" y="2394000"/>
              <a:ext cx="8032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казка написана 14 октября 1833года. Сюжет сказки основан на русской народной сказке «Жадная старуха»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1847880" y="55440"/>
            <a:ext cx="5175360" cy="226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4703760" cy="352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 rot="419400">
            <a:off x="6835680" y="484200"/>
            <a:ext cx="1411560" cy="178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-321840" y="476280"/>
            <a:ext cx="98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767200" cy="431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255600"/>
            <a:ext cx="6248520" cy="987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179280" y="126828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u.wikipedia.org/wiki/%D1%EA%E0%E7%EA%E0_%EE_%F0%FB%E1%E0%EA%E5_%E8_%F0%FB%E1%EA%E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атериал из Википедии  интер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>
            <a:hlinkClick r:id="rId3"/>
          </p:cNvPr>
          <p:cNvSpPr/>
          <p:nvPr/>
        </p:nvSpPr>
        <p:spPr>
          <a:xfrm>
            <a:off x="179280" y="198900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tushka.net/torrents/42543/screenshot_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79280" y="227664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rina-imarkina.narod2.ru/metodicheskaya_kopilka_prezentatsii/vneklassnie_meropriyatiya_po_predmetu/pushkin_literaturnii_vecher/prezentatsiya/A.S.Pushkin_7.jpg?rand=20118104896196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ллюстр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>
            <a:hlinkClick r:id="rId6"/>
          </p:cNvPr>
          <p:cNvSpPr/>
          <p:nvPr/>
        </p:nvSpPr>
        <p:spPr>
          <a:xfrm>
            <a:off x="179280" y="2997360"/>
            <a:ext cx="77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1.afisha.net/Afisha7Files/UGPhotos/090403185542/091102111633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>
            <a:hlinkClick r:id="rId8"/>
          </p:cNvPr>
          <p:cNvSpPr/>
          <p:nvPr/>
        </p:nvSpPr>
        <p:spPr>
          <a:xfrm>
            <a:off x="261720" y="1700280"/>
            <a:ext cx="37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knigosklad.ru/det/bd156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>
            <a:hlinkClick r:id="rId10"/>
          </p:cNvPr>
          <p:cNvSpPr/>
          <p:nvPr/>
        </p:nvSpPr>
        <p:spPr>
          <a:xfrm>
            <a:off x="179280" y="3357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mul.3dn.ru/4/skazka.o.rybake.i.rybke.0-19-15.9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 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50920" y="3645000"/>
            <a:ext cx="44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allmults.org/images/multiki/1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250920" y="4005360"/>
            <a:ext cx="61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kuharka.ru/images/users/gallery/2010/08/06/b_73673.g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250920" y="43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002.radikal.ru/0911/f6/746328cb3d6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324000" y="4797360"/>
            <a:ext cx="51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old-land.ru/images/skazki/rr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250920" y="5157720"/>
            <a:ext cx="59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imb.i-kino.com/images/screenshots/3416786/1/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5"/>
          <p:cNvSpPr/>
          <p:nvPr/>
        </p:nvSpPr>
        <p:spPr>
          <a:xfrm>
            <a:off x="395280" y="544500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media7.fast-torrent.ru/media/photologue/photos/sbornik-multfilmov-imeninyi-serdtsa-3-dvdrip_scene48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6"/>
          <p:cNvSpPr/>
          <p:nvPr/>
        </p:nvSpPr>
        <p:spPr>
          <a:xfrm>
            <a:off x="1187280" y="587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ree-filmy.ru/uploads/posts/2010-06/1277673973_00e552a9f20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395280" y="1628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1.afisha.net/Afisha7Files/UGPhotos/090330195728/091102111627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213372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cp.sovserv.ru/media/images/5/9/d/18496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395280" y="2492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3.vcp.digitalaccess.ru/contents/5/9/742d57722779c1f45870947bf7730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395280" y="3068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tera-puschkin.narod.ru/images/p10_ss85242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395280" y="350028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ircash-promost.com/sc/b/50524_851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468360" y="3933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ree-lancers.net/posted_files/NCE5175F4EA9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395280" y="4292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15.nnm.ru/f/5/a/c/d/b15005c0a84b834c0d82941d5ea_prev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07640" y="5013360"/>
            <a:ext cx="90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пос. Новонежино, приморского края 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9"/>
          <p:cNvSpPr/>
          <p:nvPr/>
        </p:nvSpPr>
        <p:spPr>
          <a:xfrm>
            <a:off x="213120" y="1484280"/>
            <a:ext cx="857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ос. Новонеж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риморского к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05928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317520"/>
            <a:ext cx="7639200" cy="17924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1206360"/>
            <a:ext cx="2835000" cy="1189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4"/>
          <p:cNvSpPr/>
          <p:nvPr/>
        </p:nvSpPr>
        <p:spPr>
          <a:xfrm flipH="1">
            <a:off x="7884720" y="1341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442960" cy="273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Прямоугольник 7" descr=""/>
          <p:cNvPicPr/>
          <p:nvPr/>
        </p:nvPicPr>
        <p:blipFill>
          <a:blip r:embed="rId4"/>
          <a:stretch/>
        </p:blipFill>
        <p:spPr>
          <a:xfrm>
            <a:off x="2230560" y="1206360"/>
            <a:ext cx="297000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 flipH="1">
            <a:off x="349200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9"/>
          <p:cNvSpPr/>
          <p:nvPr/>
        </p:nvSpPr>
        <p:spPr>
          <a:xfrm flipH="1">
            <a:off x="89964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5"/>
          <a:stretch/>
        </p:blipFill>
        <p:spPr>
          <a:xfrm>
            <a:off x="4834080" y="1133640"/>
            <a:ext cx="4213080" cy="201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6"/>
          <a:stretch/>
        </p:blipFill>
        <p:spPr>
          <a:xfrm>
            <a:off x="5292720" y="3068640"/>
            <a:ext cx="345600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4" name="Прямая соединительная линия 12"/>
          <p:cNvSpPr/>
          <p:nvPr/>
        </p:nvSpPr>
        <p:spPr>
          <a:xfrm flipH="1">
            <a:off x="7093080" y="220500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3" descr=""/>
          <p:cNvPicPr/>
          <p:nvPr/>
        </p:nvPicPr>
        <p:blipFill>
          <a:blip r:embed="rId7"/>
          <a:stretch/>
        </p:blipFill>
        <p:spPr>
          <a:xfrm>
            <a:off x="4681440" y="5456160"/>
            <a:ext cx="4651560" cy="1189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4"/>
          <p:cNvSpPr/>
          <p:nvPr/>
        </p:nvSpPr>
        <p:spPr>
          <a:xfrm flipH="1">
            <a:off x="7596360" y="566100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5" descr=""/>
          <p:cNvPicPr/>
          <p:nvPr/>
        </p:nvPicPr>
        <p:blipFill>
          <a:blip r:embed="rId8"/>
          <a:stretch/>
        </p:blipFill>
        <p:spPr>
          <a:xfrm>
            <a:off x="2730600" y="3584520"/>
            <a:ext cx="2749320" cy="1189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6"/>
          <p:cNvSpPr/>
          <p:nvPr/>
        </p:nvSpPr>
        <p:spPr>
          <a:xfrm flipH="1">
            <a:off x="3780000" y="3789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ая соединительная линия 3"/>
          <p:cNvSpPr/>
          <p:nvPr/>
        </p:nvSpPr>
        <p:spPr>
          <a:xfrm flipH="1">
            <a:off x="2268000" y="62064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-195120" y="347760"/>
            <a:ext cx="627840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2809800" cy="1189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6"/>
          <p:cNvSpPr/>
          <p:nvPr/>
        </p:nvSpPr>
        <p:spPr>
          <a:xfrm flipH="1">
            <a:off x="1332000" y="148428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627280" y="1484280"/>
            <a:ext cx="368604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Прямоугольник 8" descr=""/>
          <p:cNvPicPr/>
          <p:nvPr/>
        </p:nvPicPr>
        <p:blipFill>
          <a:blip r:embed="rId4"/>
          <a:stretch/>
        </p:blipFill>
        <p:spPr>
          <a:xfrm>
            <a:off x="-201600" y="3797280"/>
            <a:ext cx="6303960" cy="1189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9"/>
          <p:cNvSpPr/>
          <p:nvPr/>
        </p:nvSpPr>
        <p:spPr>
          <a:xfrm flipH="1">
            <a:off x="1186920" y="4005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 flipH="1">
            <a:off x="3924360" y="4005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5"/>
          <a:stretch/>
        </p:blipFill>
        <p:spPr>
          <a:xfrm>
            <a:off x="5749920" y="4076640"/>
            <a:ext cx="302580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Прямоугольник 12" descr=""/>
          <p:cNvPicPr/>
          <p:nvPr/>
        </p:nvPicPr>
        <p:blipFill>
          <a:blip r:embed="rId6"/>
          <a:stretch/>
        </p:blipFill>
        <p:spPr>
          <a:xfrm>
            <a:off x="1079640" y="4883040"/>
            <a:ext cx="3790800" cy="1189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3"/>
          <p:cNvSpPr/>
          <p:nvPr/>
        </p:nvSpPr>
        <p:spPr>
          <a:xfrm flipH="1">
            <a:off x="2842920" y="5013360"/>
            <a:ext cx="730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-1630440" y="620640"/>
            <a:ext cx="123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11400" y="1484280"/>
            <a:ext cx="64324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527880" cy="48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-861840" y="333360"/>
            <a:ext cx="105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186000" cy="254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8" name="TextBox 3"/>
          <p:cNvSpPr/>
          <p:nvPr/>
        </p:nvSpPr>
        <p:spPr>
          <a:xfrm>
            <a:off x="137880" y="12682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74960" y="1413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26376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137880" y="4005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674960" y="3933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071880" cy="230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42252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53021 -0.01042 E">
                                      <p:cBhvr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93 -0.0074 L -0.44966 -0.0074 E">
                                      <p:cBhvr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85185E-006 L -0.48037 1.85185E-006 E">
                                      <p:cBhvr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4.07407E-006 L 0.48837 4.07407E-006 E">
                                      <p:cBhvr>
                                        <p:cTn id="1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-1413360" y="549360"/>
            <a:ext cx="119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5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-991080" y="549360"/>
            <a:ext cx="106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-766440" y="141300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море слегка разыгра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673560" y="206064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омутилось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675800" y="278136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не спокойн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723760" y="357336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рнел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61640" y="443700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море чёрная бу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357516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719520" cy="278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552840" cy="266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3954600" cy="260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TextBox 11"/>
          <p:cNvSpPr/>
          <p:nvPr/>
        </p:nvSpPr>
        <p:spPr>
          <a:xfrm>
            <a:off x="3392280" y="5950080"/>
            <a:ext cx="64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очему так происходи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ШУМ МОРЯ.wma" descr=""/>
          <p:cNvPicPr/>
          <p:nvPr/>
        </p:nvPicPr>
        <p:blipFill>
          <a:blip r:embed="rId5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-859320" y="549360"/>
            <a:ext cx="1135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012000" cy="424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/>
          <p:cNvSpPr/>
          <p:nvPr/>
        </p:nvSpPr>
        <p:spPr>
          <a:xfrm>
            <a:off x="-930960" y="476280"/>
            <a:ext cx="847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-1620360" y="3357720"/>
            <a:ext cx="123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захочешь – последнее потеря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-1194120" y="4221000"/>
            <a:ext cx="99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желать – добра не вид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-1173600" y="4869000"/>
            <a:ext cx="101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Жадность  всякому  горю  нач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290880" y="5661000"/>
            <a:ext cx="71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енасытному всё м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06072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5:49:53Z</dcterms:created>
  <dc:creator>Светлана</dc:creator>
  <dc:description/>
  <dc:language>en-US</dc:language>
  <cp:lastModifiedBy>LEGION</cp:lastModifiedBy>
  <dcterms:modified xsi:type="dcterms:W3CDTF">2015-01-20T13:33:28Z</dcterms:modified>
  <cp:revision>22</cp:revision>
  <dc:subject/>
  <dc:title>Слайд 1</dc:title>
</cp:coreProperties>
</file>