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A5CD-FCE0-4608-B645-8D999B2CFC2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андр Иванович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(1870-19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Страницы жизни и творчеств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215-F1CB-4114-A35E-1850571A9C3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2 – пишет о сломленных судьбою людях:«В цирке», « Болото», «На поко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F864-EBF7-4745-9A4D-8101C39CCA8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и о любв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ес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уламиф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6394-DB3C-475A-B419-31A0292406B7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атовый брас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C91E-97B1-4AB9-BC23-6E61B2DE756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эмиг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– по приглашению Бунина уезжает в Париж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3E18-B355-4D61-9E17-2E05F2F6F509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е 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учи в эмиграции, писатель тяжело заболе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августа 1938 года Куприн скончал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E3CC-5179-4DB6-8F5E-599008E65611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Н.Михай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критик, литературове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17B-8732-45D4-8F9C-93709B709098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ь из древнего рода татарских князей Куланчаковых, давно разоривш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5C24-6658-4818-87C6-C101B8333E2E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взро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484D-69E4-48D7-81AC-2C2E1904C51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тема в творче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 переломе» («Кадеты»), «Юнкера», «Дознание», «Поедин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A8B-F5CE-475A-8DB2-330A991D763F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чало творческого пу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была отягощена бездельем, попойками, мелкими интриж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37A27-9894-44CB-A3DB-399722E682BC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очарование в сл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вании подпоручика Куприн отслужил 4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22B4-81AD-4464-9EB0-0775FBE9E050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01 – приезжает в Петербург, знакомит-ся с Буниним, Чеховым, Горьк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7A2F-3FA3-48C0-92A2-D569C0668125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6 – пишет социально-психологическую повесть «Молох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лох» - обличение буржуазного общества, отражение коренных противоречий эпо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75E-9185-4B32-AACA-56E1CB579D5D}" type="slidenum">
              <a:rPr b="0" lang="uk-UA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D4D8-97C3-4650-8149-E830FBD5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78BF-588B-4F65-9944-59EF4D09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45C-8E37-4871-8910-AA88FB53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1B0E-BB7B-453A-883D-47130223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4D11-2B49-4A8E-8B64-1E214455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1330-AC5F-4D74-AF6E-00915FF1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98277-D3AA-4F24-A97C-94994EC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8A2B-3733-4147-BB4C-9DB68191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AAC5-C57F-4C71-AD99-335BD074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7F96-6244-4D96-A3F7-EB3BD59F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0DD95-91BB-4962-8577-FBAA4432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E05-68C9-4CEC-BA60-DC15414E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1DD5-DAD7-45B0-B8B4-E68779E0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450B-3CC1-4BDD-BCAD-4A7DED6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9258-3089-45F1-846C-4925A579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F3B9-05BE-488B-AA42-8D676805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BD5A-4EB7-48B1-9A68-039CBB77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29E9-15E4-4098-ACF2-2ACB5E98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78D-E0B0-48B3-AA3B-5BE5F5B8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00D-B096-4598-8162-F07E8206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2F13-8AF6-4F75-99A7-D3D6E1EE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CC57-6E56-4C38-9BCD-FDAA5999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66C-FB1C-4F9A-A2A7-CB4EF2B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4B81-C781-4304-9873-18B800F5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68E3-E146-4FB0-852D-80286C1C4C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8ECE-7D05-4100-831E-14307925358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Александр Иванович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КУПРИН (1870-1938)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257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траницы жизни и творчеств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429000" y="106668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Picture 9" descr="kyprin"/>
          <p:cNvPicPr/>
          <p:nvPr/>
        </p:nvPicPr>
        <p:blipFill>
          <a:blip r:embed="rId1"/>
          <a:stretch/>
        </p:blipFill>
        <p:spPr>
          <a:xfrm>
            <a:off x="1612800" y="2057400"/>
            <a:ext cx="3175200" cy="380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8424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2 – пишет о сломленных судьбою людях:«В цирке», « Болото», «На покое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3 – возникает новый герой, активный, борющийся с обстоятельствами. «Трус», «Конокрады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едёт активный образ жизни: организует в Киеве атлетическое общество. Вместе с известным спортсменом Сергеем Уточкиным поднимается на воздушном шаре. Летит с Иваном Заикиным на самолёте «Форман». В 43 года всерьёз начинает учиться сильному плаванию у мирового рекордсмена Л.Романенк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Повести о любв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58128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Олеся»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0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«Суламифь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2" name="Picture 15" descr="DSC01906"/>
          <p:cNvPicPr/>
          <p:nvPr/>
        </p:nvPicPr>
        <p:blipFill>
          <a:blip r:embed="rId1"/>
          <a:stretch/>
        </p:blipFill>
        <p:spPr>
          <a:xfrm rot="1243200">
            <a:off x="6248520" y="3276720"/>
            <a:ext cx="2523960" cy="3124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0005-007-Povest-Olesja-1898"/>
          <p:cNvPicPr/>
          <p:nvPr/>
        </p:nvPicPr>
        <p:blipFill>
          <a:blip r:embed="rId2"/>
          <a:stretch/>
        </p:blipFill>
        <p:spPr>
          <a:xfrm rot="1235400">
            <a:off x="4419360" y="990720"/>
            <a:ext cx="1858680" cy="533376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ранатовый брасл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19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вести о любви объединяет мысль: любовь – это великий дар, чистое и бескорыстное чувство. Оно полно испытаний и лишений.  Только любовь помогает ощутить полноту жизни, пусть короткой, но яркой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13" descr="0008-010-Ljubov-kak-vysshaja-tsennost-mira-v-rasskaze-Granatovyj-braslet"/>
          <p:cNvPicPr/>
          <p:nvPr/>
        </p:nvPicPr>
        <p:blipFill>
          <a:blip r:embed="rId1"/>
          <a:stretch/>
        </p:blipFill>
        <p:spPr>
          <a:xfrm>
            <a:off x="990720" y="1600200"/>
            <a:ext cx="2093760" cy="4114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212041_html_m689eac30"/>
          <p:cNvPicPr/>
          <p:nvPr/>
        </p:nvPicPr>
        <p:blipFill>
          <a:blip r:embed="rId2"/>
          <a:stretch/>
        </p:blipFill>
        <p:spPr>
          <a:xfrm>
            <a:off x="2743200" y="2895480"/>
            <a:ext cx="2373480" cy="358164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 эмиграци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0 – по приглашению Бунина уезжает в Париж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метился спад в творчестве, неприятие советского строя выливается в статьях, в которых Куприн критикует новые вла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927-1934 – появляются книги «Колесо времени», «Рассказы в каплях» и другие. Создаёт новеллы «Тень Наполеона», «Четверо нищих», пишет роман «Юнкера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ска по Родине настолько сильна, что Куприн признаётся: «…не могу спокойно письма написать туда, ком в горле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Последние год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9520" y="1294920"/>
            <a:ext cx="5257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уприн остро чувствовал свою вину перед Родиной. Не давала покоя мысль о возвращении и о его невозмож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Художник Билибин, получивший к тому времени разрешение вернуться в СССР, берёт на себя переговоры в посольстве, и в 1937 году писатель возвращается в Москв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Будучи в эмиграции, писатель тяжело заболел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25 августа 1938 года Куприн скончалс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5" name="Picture 11" descr="195"/>
          <p:cNvPicPr/>
          <p:nvPr/>
        </p:nvPicPr>
        <p:blipFill>
          <a:blip r:embed="rId1"/>
          <a:stretch/>
        </p:blipFill>
        <p:spPr>
          <a:xfrm>
            <a:off x="762120" y="1676520"/>
            <a:ext cx="3139920" cy="4151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21996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 мнению современников, его всегда спасает инстинкт природного здорового дарования, органический оптимизм, жизнерадостность, любовь к жизн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.Н.Михайлов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(критик, литературовед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Детство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6 августа (7 сентября) 1870 года родился в городке Наровчате Пензенской губернии, в обедневшей разночинно-демократической семь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ец -  «из детей лекарских учеников», служил в канцелярии, умер в возрасте 37 лет, когда Саше исполнился только го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ать из древнего рода татарских князей Куланчаковых, давно разоривших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Годы взрослен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8380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4 – переезд в Москву, проживание в казённом учреждении – в общей палате вдовьего дом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76 – сиротское училище. Казённая обстановка, муштра, жестокое обращение воспитательниц доставляли страд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0 – Вторая московская военная гимназия,  через два года преобразованная в кадетский корпус. «Всеобщий культ кулака» калечил детские душ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88 – Третье Александровское юнкерское училище в Москве. Занимается гимнастикой, танцами, литературо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Военная тема в творчестве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оды обучения, атмосфера казённого быта, противоречия семейного и казарменного воспитания,  истинное и мнимое понятие о чести, справедливости нашли отражение в повестях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«На переломе» («Кадеты»), «Юнкера», «Дознание», «Поединок»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2" name="Picture 9" descr="82221271_0217007235"/>
          <p:cNvPicPr/>
          <p:nvPr/>
        </p:nvPicPr>
        <p:blipFill>
          <a:blip r:embed="rId1"/>
          <a:stretch/>
        </p:blipFill>
        <p:spPr>
          <a:xfrm>
            <a:off x="990720" y="1905120"/>
            <a:ext cx="3600360" cy="41148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 Black"/>
              </a:rPr>
              <a:t>Начало творческого пути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чинает сотрудничать с журналом «Русский сатирический листок», ещё обучаясь в юнкерском училище. Получает взыскание за выступление в печати. (Рассказ «Последний дебют»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0 – назначается служить в 46-й Днепровский полк в городишко Проскуров Подольской губернии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лужба была отягощена бездельем, попойками, мелкими интрижка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Разочарование в службе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 звании подпоручика Куприн отслужил 4 г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894 – подаёт в отставку и уезжает в Киев. Работает в местных газетах, пишет рассказы, очерки, заметк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Picture 9" descr="0004-006-Povest-Poedinok-1905"/>
          <p:cNvPicPr/>
          <p:nvPr/>
        </p:nvPicPr>
        <p:blipFill>
          <a:blip r:embed="rId1"/>
          <a:stretch/>
        </p:blipFill>
        <p:spPr>
          <a:xfrm>
            <a:off x="5742000" y="1905120"/>
            <a:ext cx="2843280" cy="41148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-468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т матери Куприн унаследовал внима-тельное отношение к жизни, тонкую наблюдательность, любовь к книгам, вдумчивое чтени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Большое влияние на литературное да-рование Куприна оказал единственный талантливый учитель в кадетском кор-пусе Цуханов, который читал воспитан-никам Пушкина, Лермонтова, Гоголя, Тургене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901 – приезжает в Петербург, знакомит-ся с Буниним, Чеховым, Горьки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 Black"/>
              </a:rPr>
              <a:t>«Молох»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896 – пишет социально-психологическую повесть «Молох»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Главный персонаж Квашнин – промышленник, финансист, образ алчности, паразитизма и жесток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«Молох» - обличение буржуазного общества, отражение коренных противоречий эпох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5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0T13:34:37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