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2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5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B258-BC3E-49C6-95EE-65BC97840B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ff"/>
                </a:solidFill>
                <a:latin typeface="Monotype Corsiva"/>
              </a:rPr>
              <a:t>(06.06.1799 - 10.02.1837)</a:t>
            </a: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еличайший русский поэт и писатель, родоначальник новой русской литературы, создатель русского литературного язы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</a:rPr>
              <a:t>Автор: Маракова Е.М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586E-D2ED-48E9-AF3F-FC0AF2BBAC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праздную жизнь Александр I решил сослать Пушкина в Сибирь. Хлопотами друзей вместо Сибири Пушкина сослали на ю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00D0-0A7B-4286-8232-EBCC69640C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На Юге (1820-183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то 1820 г. Пушкин прожил на Кавказе, где начал поэму "Кавказский пленник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трех лет Пушкин жил в Кишинев на квартире у Инз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жные поэмы Пушкин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Кавказский пленник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Братья - разбойник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Бахчисарайский фонтан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Цыганы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Гаврилиада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3502-E301-4D41-B2AB-9C6C3ADAE4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Михайловское (1824-182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августа 1824 г прибыл в Михайловское , куда был выслан из-за разногласий на служ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чена работа над поэмой "Цыганы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исана шутливая поэма "Граф Нулин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6317-4DBE-4343-B61E-C4701E9952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онец двадцатых г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ентябре Пушкин с фельдъегерем был отправлен в Москву на свидание с Николаем 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 1827 года Пушкин ведет праздную жизнь, задумывается над устройством семейной жизни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1828 году он делает попытку вступить в брак с Анной Олениной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ишет неоконченный роман "Арап Петра Великого"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оэму "Полтава".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5AA4-89C6-4104-8EA7-7D936EE9AE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е 1829 г. он посватался в Москве к юной красавице Наталии Николаевне Гончаров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и годы написа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ма "Полтав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 стихотвор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ьи в журна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Роман в письмах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BAE4-CB7F-4D77-A918-B8A5812A3F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Болдинская осень 18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мая 1830 г. состоялась. наконец, помолвка Пушкина с Н.Н. Гончар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 отправился в с.Болдино, чтобы оформить дела по введению во владение имен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его стихотворения в Болдине - "Бесы" и "Элегия" (""Безумных лет угасшее веселье ..."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4A23-4309-43C1-BA67-60F6A13529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"Болдинская осень" 1830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овести Белкина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маленькие трагеди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Скупой рыцарь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Моцарт и Сальер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Каменный гость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ир во время чумы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ма "Домик в Коломне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ман "Евгений Онегин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сть "История села Горюхин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Сказка о попе и работнике его Балде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ие стать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жество стихотвор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DD2C-BB44-497D-AE93-57A5588A2E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Тридцатые 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декабря 1830 г. поэт вернулся в Моск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 февраля 1831 г. состоялось венчание с Н.Н.Гончаров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 время написана "Сказка о царе Салтане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Письмо Онегина к Татьяне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 средины октября 1831 г. и уже до конца жизни Пушкин с семьей живет в Петербург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32 рождается дочь Мария, 1833 г. - сын Александр, 1835 г. - Григорий, 1836 г. - Натал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EB9C-970D-4F58-810F-7BDF511EEB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шая дочь, Мария Александровна Пушки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32-1919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ший сын, Александр Александрович Пушк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33-1914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E867-5F62-4E1E-99CE-2049A1C363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адший сын, Григорий Александрович Пушкин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35-1913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адшая дочь, Наталья Александровна Пушкин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36-1913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9AC6-7825-4DDA-836A-87538B500E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ство и семья Пушк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ербург (1817 - 182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Юге (1820-183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хайловское (1824-182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 двадцатых г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динская осень 18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дцатые 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CBC2-76A3-49F8-9371-6BE778C7A0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рте 1836 года умерла мать Пушк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35 году появился повод к дуэли, когда молодой офицер Дантес начал ухаживать за Натальей Николаевной, чему она была не проти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3CCD-DBD3-4F49-A33F-5C3E729000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эль с Дантесом состоялась 27 января 1837 года на Черной речке у Комендантской дач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D18E-C77E-4D2D-B17C-FB3EEE8B09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 Пушкин был смертельно ранен. В 2 часа 29 января (по новому стилю 10 февраля) 1837 года он уме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февраля Пушкин был перевезен в село Михайловское и погребен у Святогорского монастыр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5197-A733-4392-8899-2C6AC79226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Детство и семья Пушкина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лся 26 мая 1799 года в Москве в дворянской помещичьей семье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 принадлежала к самой образованной части московского об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D9A5-AFA3-4C99-8C34-CA29216C30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х доме собирались поэты, художники, музыкан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его, Сергей Львович (1771 -1848 ), происходил из помещичьей, когда-то богатой семь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8F9F-7A78-46D0-A386-423054EFF6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ь Пушкина, Надежда Осиповна, происходила от Ганнибала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Пушкина Сергей Львович и мать Надежда Осиповна были дальними родственниками - троюродные брат и сест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1616-3A01-4119-8860-21CF842455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Александра у Пушкиных были дети - старшая дочь Ольга и младший сын Л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вь ему компенсировала знаменитая няня Арина Родионов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036E-E237-4D86-858A-C82DCDBFD8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Лиц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 лет Александр был отвезен учиться в Царскосельский Лицей под Петербург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 занятий в Лицее была обширной, но не столь глубоко продуман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A4F4-EA1D-4A94-B237-87597F7C49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етербург (1817 - 182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 в коллегию иностранных де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пуск (около двух месяцев) провел в Михайловском, псковском имении матер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года почти безвыездно оставался в Петербур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ет над поэмой "Руслан и Людмила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07B2-C323-430C-B91E-C9E70F0414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07A6-4EED-4658-A4A2-56340B38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9472-3B0B-4863-9367-258E5E68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96AB-C463-4ABF-B7ED-366AB32E7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9DB9-C6FC-4A48-8F18-821CAF45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8ED4-8E9F-4311-A391-0CCD35FB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5BF0-61BF-4497-8F29-E80D59C8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68E6-8E2E-4317-B316-9161D178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2BD2-6720-460A-AAD4-67D29761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03CB-AF03-4A58-BBFA-7FC3AF07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49DE-8A46-4B44-A2BD-D036ED77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3697-6C54-48D1-9193-5A13F6CF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1019-901C-4A23-84BE-04E8D264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215E-559F-404B-ABD4-C404AD3C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DE60-AE28-4A79-ABAA-69703A12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27F5-CF4E-4BA8-8947-DF313FA5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B682-3C90-4B73-B090-B3366673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7FD8-8C06-49A8-804B-8D71CCC1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A15E-ABC6-45C2-9405-0EA15E18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C4B5-6CCF-41D0-BEC3-CCB7A2AA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27E7-E12C-4CC0-8F3C-FD4CD08D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0CF8-A23A-4E39-ACB4-5FF7AE79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B198-B7ED-4C60-ACCD-738609B4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91EF-AD77-4518-B56A-09A207E2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4ACA-C370-4092-8991-87F66F1A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e6e3ac"/>
              </a:gs>
              <a:gs pos="100000">
                <a:srgbClr val="cac79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4AAB-E2FA-4F64-8F2F-1BECCADBC0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3c092"/>
                  </a:gs>
                  <a:gs pos="100000">
                    <a:srgbClr val="e6e3a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ac79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cf9c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3c09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1cf9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dba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ac7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5b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7e4af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8d6a2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8d6a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fdca7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B7B6-A57D-46D6-879E-82098314E6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ushkin.niv.ru/images/pushkin/pushkin_01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ushkin.niv.ru/images/people/pushkina_n_n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5.xml"/><Relationship Id="rId8" Type="http://schemas.openxmlformats.org/officeDocument/2006/relationships/slide" Target="slide17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7" descr="А.С. Пушки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533600"/>
            <a:ext cx="3573360" cy="4581360"/>
          </a:xfrm>
          <a:prstGeom prst="rect">
            <a:avLst/>
          </a:prstGeom>
          <a:ln w="0">
            <a:noFill/>
          </a:ln>
        </p:spPr>
      </p:pic>
      <p:sp>
        <p:nvSpPr>
          <p:cNvPr id="219" name="WordArt 8"/>
          <p:cNvSpPr txBox="1"/>
          <p:nvPr/>
        </p:nvSpPr>
        <p:spPr>
          <a:xfrm>
            <a:off x="0" y="177840"/>
            <a:ext cx="9144000" cy="14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39257">
                        <a:alpha val="55294"/>
                      </a:srgbClr>
                    </a:gs>
                    <a:gs pos="100000">
                      <a:srgbClr val="ffcc6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Александр Сергеевич 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39257">
                      <a:alpha val="55294"/>
                    </a:srgbClr>
                  </a:gs>
                  <a:gs pos="100000">
                    <a:srgbClr val="ffcc66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20" name="WordArt 9"/>
          <p:cNvSpPr txBox="1"/>
          <p:nvPr/>
        </p:nvSpPr>
        <p:spPr>
          <a:xfrm>
            <a:off x="4716360" y="1736640"/>
            <a:ext cx="3525840" cy="14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>
                    <a:alphaModFix amt="55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Пушкин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>
                  <a:alphaModFix amt="55000"/>
                </a:blip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851280" y="3294000"/>
            <a:ext cx="5113440" cy="31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6633"/>
                </a:solidFill>
                <a:latin typeface="Monotype Corsiva"/>
              </a:rPr>
              <a:t>(06.06.1799 - 10.02.1837)</a:t>
            </a:r>
            <a:r>
              <a:rPr b="0" lang="ru-RU" sz="2800" spc="-1" strike="noStrike">
                <a:solidFill>
                  <a:srgbClr val="6666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еличайший русский поэт и писатель, родоначальник новой русской литературы, создатель русского литературного язы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33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666633"/>
                </a:solidFill>
                <a:latin typeface="Times New Roman"/>
              </a:rPr>
              <a:t>Автор: Маракова Е.М.</a:t>
            </a:r>
            <a:r>
              <a:rPr b="0" lang="ru-RU" sz="3200" spc="-1" strike="noStrike">
                <a:solidFill>
                  <a:srgbClr val="d7d1b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1620000"/>
            <a:ext cx="5292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праздную жизнь Александр I решил сослать Пушкина в Сибирь. Хлопотами друзей вместо Сибири Пушкина сослали на ю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0" descr="Александр I"/>
          <p:cNvPicPr/>
          <p:nvPr/>
        </p:nvPicPr>
        <p:blipFill>
          <a:blip r:embed="rId1"/>
          <a:stretch/>
        </p:blipFill>
        <p:spPr>
          <a:xfrm>
            <a:off x="5940360" y="1125360"/>
            <a:ext cx="2595600" cy="395136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2"/>
          <p:cNvSpPr/>
          <p:nvPr/>
        </p:nvSpPr>
        <p:spPr>
          <a:xfrm>
            <a:off x="6591240" y="5084280"/>
            <a:ext cx="13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лександр 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43280" y="0"/>
            <a:ext cx="450072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39257"/>
                </a:solidFill>
                <a:latin typeface="Monotype Corsiva"/>
              </a:rPr>
              <a:t>На Юге (1820-1834)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0" y="69192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то 1820 г. Пушкин прожил на Кавказе, где начал поэму "Кавказский пленник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4140360" y="3789360"/>
            <a:ext cx="500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Южные поэмы Пушкин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Кавказский пленник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Братья - разбойники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Бахчисарайский фонтан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Цыганы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Гаврилиада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8" descr="bio_11_4"/>
          <p:cNvPicPr/>
          <p:nvPr/>
        </p:nvPicPr>
        <p:blipFill>
          <a:blip r:embed="rId1"/>
          <a:stretch/>
        </p:blipFill>
        <p:spPr>
          <a:xfrm>
            <a:off x="0" y="2276640"/>
            <a:ext cx="4084560" cy="288432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10"/>
          <p:cNvSpPr/>
          <p:nvPr/>
        </p:nvSpPr>
        <p:spPr>
          <a:xfrm>
            <a:off x="4140360" y="1844640"/>
            <a:ext cx="500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ечение трех лет Пушкин жил в Кишинев на квартире у Инз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644364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Михайловское (1824-1826)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4932360" y="1265400"/>
            <a:ext cx="4211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 августа 1824 г прибыл в Михайловское , куда был выслан из-за разногласий на служ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6" descr="mesta_12_1"/>
          <p:cNvPicPr/>
          <p:nvPr/>
        </p:nvPicPr>
        <p:blipFill>
          <a:blip r:embed="rId1"/>
          <a:stretch/>
        </p:blipFill>
        <p:spPr>
          <a:xfrm>
            <a:off x="0" y="907920"/>
            <a:ext cx="4862520" cy="308448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8"/>
          <p:cNvSpPr/>
          <p:nvPr/>
        </p:nvSpPr>
        <p:spPr>
          <a:xfrm>
            <a:off x="1695600" y="400500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хайловск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9"/>
          <p:cNvSpPr/>
          <p:nvPr/>
        </p:nvSpPr>
        <p:spPr>
          <a:xfrm>
            <a:off x="1150920" y="4652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ончена работа над поэмой "Цыганы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исана шутливая поэма "Граф Нулин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203280" y="0"/>
            <a:ext cx="594036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Конец двадцатых годов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132000" y="1484280"/>
            <a:ext cx="586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ентябре Пушкин с фельдъегерем был отправлен в Москву на свидание с Николаем I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0" y="377712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1827 года Пушкин ведет праздную жизнь, задумывается над устройством семейной жиз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28 году он делает попытку вступить в брак с Анной Олени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шет неоконченный роман "Арап Петра Великого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му "Полтава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0" descr="Николай I - Николай Павлович"/>
          <p:cNvPicPr/>
          <p:nvPr/>
        </p:nvPicPr>
        <p:blipFill>
          <a:blip r:embed="rId1"/>
          <a:stretch/>
        </p:blipFill>
        <p:spPr>
          <a:xfrm>
            <a:off x="179280" y="189000"/>
            <a:ext cx="2860920" cy="314640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11"/>
          <p:cNvSpPr/>
          <p:nvPr/>
        </p:nvSpPr>
        <p:spPr>
          <a:xfrm>
            <a:off x="975600" y="3357720"/>
            <a:ext cx="109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колай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0" y="4885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4643280" y="423720"/>
            <a:ext cx="450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ае 1829 г. он посватался в Москве к юной красавице Наталии Николаевне Гончаров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3">
            <a:hlinkClick r:id="rId1"/>
          </p:cNvPr>
          <p:cNvSpPr/>
          <p:nvPr/>
        </p:nvSpPr>
        <p:spPr>
          <a:xfrm>
            <a:off x="3857760" y="2552760"/>
            <a:ext cx="1428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5"/>
          <p:cNvSpPr/>
          <p:nvPr/>
        </p:nvSpPr>
        <p:spPr>
          <a:xfrm>
            <a:off x="3857760" y="2552760"/>
            <a:ext cx="1428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8"/>
          <p:cNvSpPr/>
          <p:nvPr/>
        </p:nvSpPr>
        <p:spPr>
          <a:xfrm>
            <a:off x="3902040" y="2712960"/>
            <a:ext cx="14288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9"/>
          <p:cNvSpPr/>
          <p:nvPr/>
        </p:nvSpPr>
        <p:spPr>
          <a:xfrm>
            <a:off x="4859280" y="2913120"/>
            <a:ext cx="428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эти годы написа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ма "Полта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о стихотвор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ьи в журн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Роман в письмах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31" descr="pushkina_n_n"/>
          <p:cNvPicPr/>
          <p:nvPr/>
        </p:nvPicPr>
        <p:blipFill>
          <a:blip r:embed="rId2"/>
          <a:stretch/>
        </p:blipFill>
        <p:spPr>
          <a:xfrm>
            <a:off x="179280" y="333360"/>
            <a:ext cx="4289400" cy="5270400"/>
          </a:xfrm>
          <a:prstGeom prst="rect">
            <a:avLst/>
          </a:prstGeom>
          <a:ln w="0">
            <a:noFill/>
          </a:ln>
        </p:spPr>
      </p:pic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276720" y="0"/>
            <a:ext cx="586728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Болдинская осень 1830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0" y="371628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 отправился в с.Болдино, чтобы оформить дела по введению во владение имени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е его стихотворения в Болдине - "Бесы" и "Элегия" (""Безумных лет угасшее веселье ..."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0" y="256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7" descr="Болдино"/>
          <p:cNvPicPr/>
          <p:nvPr/>
        </p:nvPicPr>
        <p:blipFill>
          <a:blip r:embed="rId1"/>
          <a:stretch/>
        </p:blipFill>
        <p:spPr>
          <a:xfrm>
            <a:off x="0" y="981000"/>
            <a:ext cx="1871640" cy="24940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9" descr="Болдино"/>
          <p:cNvPicPr/>
          <p:nvPr/>
        </p:nvPicPr>
        <p:blipFill>
          <a:blip r:embed="rId2"/>
          <a:stretch/>
        </p:blipFill>
        <p:spPr>
          <a:xfrm>
            <a:off x="2050920" y="907920"/>
            <a:ext cx="1871640" cy="249408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20"/>
          <p:cNvSpPr/>
          <p:nvPr/>
        </p:nvSpPr>
        <p:spPr>
          <a:xfrm>
            <a:off x="4067280" y="1268280"/>
            <a:ext cx="50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мая 1830 г. состоялась. наконец, помолвка Пушкина с Н.Н. Гончаро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1" descr="boldino_09"/>
          <p:cNvPicPr/>
          <p:nvPr/>
        </p:nvPicPr>
        <p:blipFill>
          <a:blip r:embed="rId1"/>
          <a:stretch/>
        </p:blipFill>
        <p:spPr>
          <a:xfrm>
            <a:off x="0" y="620640"/>
            <a:ext cx="2954160" cy="422136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23"/>
          <p:cNvSpPr/>
          <p:nvPr/>
        </p:nvSpPr>
        <p:spPr>
          <a:xfrm>
            <a:off x="2916360" y="260280"/>
            <a:ext cx="62276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"Болдинская осень" 1830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Повести Белкина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маленькие трагедии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Скупой рыцарь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Моцарт и Сальери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Каменный гость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Пир во время чумы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ма "Домик в Коломне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ман "Евгений Онегин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есть "История села Горюхи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Сказка о попе и работнике его Балде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итические стать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жество стихотвор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284720" y="-360"/>
            <a:ext cx="485928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Тридцатые годы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0" y="83844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 декабря 1830 г. поэт вернулся в Моск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 февраля 1831 г. состоялось венчание с Н.Н.Гончаров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это время написана "Сказка о царе Салтане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"Письмо Онегина к Татьяне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 средины октября 1831 г. и уже до конца жизни Пушкин с семьей живет в Петербург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32 рождается дочь Мария, 1833 г. - сын Александр, 1835 г. - Григорий, 1836 г. - Натал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5" descr="pushkina_m_a"/>
          <p:cNvPicPr/>
          <p:nvPr/>
        </p:nvPicPr>
        <p:blipFill>
          <a:blip r:embed="rId1"/>
          <a:stretch/>
        </p:blipFill>
        <p:spPr>
          <a:xfrm>
            <a:off x="0" y="0"/>
            <a:ext cx="2065320" cy="304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7" name="Object 15"/>
          <p:cNvGraphicFramePr/>
          <p:nvPr/>
        </p:nvGraphicFramePr>
        <p:xfrm>
          <a:off x="2050920" y="0"/>
          <a:ext cx="2428920" cy="298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8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0"/>
                    <a:ext cx="2428920" cy="29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9" name="Picture 19" descr="pushkin_a_a"/>
          <p:cNvPicPr/>
          <p:nvPr/>
        </p:nvPicPr>
        <p:blipFill>
          <a:blip r:embed="rId4"/>
          <a:stretch/>
        </p:blipFill>
        <p:spPr>
          <a:xfrm>
            <a:off x="0" y="3506760"/>
            <a:ext cx="2397240" cy="335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0" name="Object 22"/>
          <p:cNvGraphicFramePr/>
          <p:nvPr/>
        </p:nvGraphicFramePr>
        <p:xfrm>
          <a:off x="2411280" y="3300480"/>
          <a:ext cx="2422800" cy="355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1280" y="3300480"/>
                    <a:ext cx="2422800" cy="35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Rectangle 30"/>
          <p:cNvSpPr/>
          <p:nvPr/>
        </p:nvSpPr>
        <p:spPr>
          <a:xfrm>
            <a:off x="4356000" y="475920"/>
            <a:ext cx="47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ршая дочь, Мария Александровна Пушкин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32-1919г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1"/>
          <p:cNvSpPr/>
          <p:nvPr/>
        </p:nvSpPr>
        <p:spPr>
          <a:xfrm>
            <a:off x="4932360" y="3933720"/>
            <a:ext cx="421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рший сын, Александр Александрович Пушкин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33-1914г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Object 4"/>
          <p:cNvGraphicFramePr/>
          <p:nvPr/>
        </p:nvGraphicFramePr>
        <p:xfrm>
          <a:off x="0" y="4098960"/>
          <a:ext cx="2227320" cy="27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98960"/>
                    <a:ext cx="2227320" cy="27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Rectangle 6"/>
          <p:cNvSpPr/>
          <p:nvPr/>
        </p:nvSpPr>
        <p:spPr>
          <a:xfrm>
            <a:off x="2700360" y="4508280"/>
            <a:ext cx="47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ладшая дочь, Наталья Александровна Пушкин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36-1913г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7" descr="pushkin_g_a"/>
          <p:cNvPicPr/>
          <p:nvPr/>
        </p:nvPicPr>
        <p:blipFill>
          <a:blip r:embed="rId3"/>
          <a:stretch/>
        </p:blipFill>
        <p:spPr>
          <a:xfrm>
            <a:off x="6854760" y="0"/>
            <a:ext cx="2289240" cy="371160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0"/>
          <p:cNvSpPr/>
          <p:nvPr/>
        </p:nvSpPr>
        <p:spPr>
          <a:xfrm>
            <a:off x="1187280" y="404640"/>
            <a:ext cx="55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ладший сын, Григорий Александрович Пушкин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835-1913г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Содержание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1" action="ppaction://hlinksldjump"/>
              </a:rPr>
              <a:t>Детство и семья Пушки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2" action="ppaction://hlinksldjump"/>
              </a:rPr>
              <a:t>Лиц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3" action="ppaction://hlinksldjump"/>
              </a:rPr>
              <a:t>Петербург (1817 - 18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4" action="ppaction://hlinksldjump"/>
              </a:rPr>
              <a:t>На Юге (1820-183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5" action="ppaction://hlinksldjump"/>
              </a:rPr>
              <a:t>Михайловское (1824-182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6" action="ppaction://hlinksldjump"/>
              </a:rPr>
              <a:t>Конец двадцатых г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7" action="ppaction://hlinksldjump"/>
              </a:rPr>
              <a:t>Болдинская осень 18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33"/>
                </a:solidFill>
                <a:uFillTx/>
                <a:latin typeface="Arial"/>
                <a:hlinkClick r:id="rId8" action="ppaction://hlinksldjump"/>
              </a:rPr>
              <a:t>Тридцатые г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4"/>
          <p:cNvSpPr/>
          <p:nvPr/>
        </p:nvSpPr>
        <p:spPr>
          <a:xfrm>
            <a:off x="0" y="477360"/>
            <a:ext cx="536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арте 1836 года умерла мать Пуш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35 году появился повод к дуэли, когда молодой офицер Дантес начал ухаживать за Натальей Николаевной, чему она была не проти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6" descr="dantes"/>
          <p:cNvPicPr/>
          <p:nvPr/>
        </p:nvPicPr>
        <p:blipFill>
          <a:blip r:embed="rId1"/>
          <a:stretch/>
        </p:blipFill>
        <p:spPr>
          <a:xfrm>
            <a:off x="5423040" y="260280"/>
            <a:ext cx="3720960" cy="414972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9"/>
          <p:cNvSpPr/>
          <p:nvPr/>
        </p:nvSpPr>
        <p:spPr>
          <a:xfrm>
            <a:off x="5947560" y="4582080"/>
            <a:ext cx="295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нар с оригинала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известного художни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. Дантес-Геккерн. 1830-е г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4"/>
          <p:cNvSpPr/>
          <p:nvPr/>
        </p:nvSpPr>
        <p:spPr>
          <a:xfrm>
            <a:off x="1619280" y="4149360"/>
            <a:ext cx="597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уэль с Дантесом состоялась 27 января 1837 года на Черной речке у Комендантской дач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6" descr="Дуэль"/>
          <p:cNvPicPr/>
          <p:nvPr/>
        </p:nvPicPr>
        <p:blipFill>
          <a:blip r:embed="rId1"/>
          <a:stretch/>
        </p:blipFill>
        <p:spPr>
          <a:xfrm>
            <a:off x="250920" y="260280"/>
            <a:ext cx="3655800" cy="31989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Умирающий Пушкин"/>
          <p:cNvPicPr/>
          <p:nvPr/>
        </p:nvPicPr>
        <p:blipFill>
          <a:blip r:embed="rId2"/>
          <a:stretch/>
        </p:blipFill>
        <p:spPr>
          <a:xfrm>
            <a:off x="5219640" y="260280"/>
            <a:ext cx="3652920" cy="3195720"/>
          </a:xfrm>
          <a:prstGeom prst="rect">
            <a:avLst/>
          </a:prstGeom>
          <a:ln w="0">
            <a:noFill/>
          </a:ln>
        </p:spPr>
      </p:pic>
      <p:sp>
        <p:nvSpPr>
          <p:cNvPr id="3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4"/>
          <p:cNvSpPr/>
          <p:nvPr/>
        </p:nvSpPr>
        <p:spPr>
          <a:xfrm>
            <a:off x="250920" y="692280"/>
            <a:ext cx="536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м Пушкин был смертельно ранен. В 2 часа 29 января (по новому стилю 10 февраля) 1837 года он уме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 февраля Пушкин был перевезен в село Михайловское и погребен у Святогорского монастыр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5" descr="bio_4_3"/>
          <p:cNvPicPr/>
          <p:nvPr/>
        </p:nvPicPr>
        <p:blipFill>
          <a:blip r:embed="rId1"/>
          <a:stretch/>
        </p:blipFill>
        <p:spPr>
          <a:xfrm>
            <a:off x="5749920" y="404640"/>
            <a:ext cx="3394080" cy="45262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8"/>
          <p:cNvSpPr/>
          <p:nvPr/>
        </p:nvSpPr>
        <p:spPr>
          <a:xfrm>
            <a:off x="6659640" y="4941000"/>
            <a:ext cx="19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гила Пушки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709308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Детство и семья Пушкина.</a:t>
            </a:r>
            <a:r>
              <a:rPr b="0" lang="ru-RU" sz="4000" spc="-1" strike="noStrike">
                <a:solidFill>
                  <a:srgbClr val="b3925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7" name="Rectangle 22"/>
          <p:cNvSpPr/>
          <p:nvPr/>
        </p:nvSpPr>
        <p:spPr>
          <a:xfrm>
            <a:off x="250920" y="537372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савье де Местр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шкин-ребенок. 1800-1802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аллическая пластинка, мас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4"/>
          <p:cNvSpPr/>
          <p:nvPr/>
        </p:nvSpPr>
        <p:spPr>
          <a:xfrm>
            <a:off x="3564000" y="1487880"/>
            <a:ext cx="5146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ился 26 мая 1799 года в Москве в дворянской помещичьей семье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ья принадлежала к самой образованной части московского обще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179280" y="4971240"/>
            <a:ext cx="54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1"/>
          <p:cNvGraphicFramePr/>
          <p:nvPr/>
        </p:nvGraphicFramePr>
        <p:xfrm>
          <a:off x="395280" y="1197000"/>
          <a:ext cx="3048120" cy="39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304812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0" y="32007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179280" y="189000"/>
            <a:ext cx="410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их доме собирались поэты, художники, музыкан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5216400" y="2876400"/>
            <a:ext cx="34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м на Немецкой улице в Москве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де родился А.С.Пушкин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фотографии конца XIX 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2"/>
          <p:cNvSpPr/>
          <p:nvPr/>
        </p:nvSpPr>
        <p:spPr>
          <a:xfrm>
            <a:off x="3851280" y="4640400"/>
            <a:ext cx="496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ец его, Сергей Львович (1771 -1848 ), происходил из помещичьей, когда-то богатой семь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pushkin_s_l"/>
          <p:cNvPicPr/>
          <p:nvPr/>
        </p:nvPicPr>
        <p:blipFill>
          <a:blip r:embed="rId1"/>
          <a:stretch/>
        </p:blipFill>
        <p:spPr>
          <a:xfrm>
            <a:off x="179280" y="2060640"/>
            <a:ext cx="3434040" cy="43099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545760" y="6276960"/>
            <a:ext cx="202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.Кампельон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.Л. Пушкин. 182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8" descr="bio_11_1"/>
          <p:cNvPicPr/>
          <p:nvPr/>
        </p:nvPicPr>
        <p:blipFill>
          <a:blip r:embed="rId2"/>
          <a:stretch/>
        </p:blipFill>
        <p:spPr>
          <a:xfrm>
            <a:off x="4417920" y="0"/>
            <a:ext cx="4726080" cy="290988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"/>
          <p:cNvSpPr/>
          <p:nvPr/>
        </p:nvSpPr>
        <p:spPr>
          <a:xfrm>
            <a:off x="179280" y="260280"/>
            <a:ext cx="55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ь Пушкина, Надежда Осиповна, происходила от Ганнибал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Object 2"/>
          <p:cNvGraphicFramePr/>
          <p:nvPr/>
        </p:nvGraphicFramePr>
        <p:xfrm>
          <a:off x="5651640" y="620640"/>
          <a:ext cx="3328920" cy="382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620640"/>
                    <a:ext cx="3328920" cy="38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Rectangle 4"/>
          <p:cNvSpPr/>
          <p:nvPr/>
        </p:nvSpPr>
        <p:spPr>
          <a:xfrm>
            <a:off x="5731920" y="4508640"/>
            <a:ext cx="308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атюра Ксавье де Местр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.О. Пушкина. 1800-е г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324000" y="2349360"/>
            <a:ext cx="518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ец Пушкина Сергей Львович и мать Надежда Осиповна были дальними родственниками - троюродные брат и сест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4"/>
          <p:cNvSpPr/>
          <p:nvPr/>
        </p:nvSpPr>
        <p:spPr>
          <a:xfrm>
            <a:off x="2700360" y="189000"/>
            <a:ext cx="374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оме Александра у Пушкиных были дети - старшая дочь Ольга и младший сын Ле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0" y="4168800"/>
            <a:ext cx="341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овь ему компенсировала знаменитая няня Арина Родионов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" descr="pushkin_l_s"/>
          <p:cNvPicPr/>
          <p:nvPr/>
        </p:nvPicPr>
        <p:blipFill>
          <a:blip r:embed="rId1"/>
          <a:stretch/>
        </p:blipFill>
        <p:spPr>
          <a:xfrm>
            <a:off x="6578640" y="0"/>
            <a:ext cx="2565360" cy="33177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pavlischeva_o_s"/>
          <p:cNvPicPr/>
          <p:nvPr/>
        </p:nvPicPr>
        <p:blipFill>
          <a:blip r:embed="rId2"/>
          <a:stretch/>
        </p:blipFill>
        <p:spPr>
          <a:xfrm>
            <a:off x="0" y="0"/>
            <a:ext cx="2548080" cy="29224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3"/>
          <p:cNvSpPr/>
          <p:nvPr/>
        </p:nvSpPr>
        <p:spPr>
          <a:xfrm>
            <a:off x="6443640" y="3285360"/>
            <a:ext cx="284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.О.Орловский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.С. Пушкин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ая половина 1820-х г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255600" y="2925000"/>
            <a:ext cx="211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.А. Плюшар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.С. Павлищева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редина 1830-х г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0" descr="arina"/>
          <p:cNvPicPr/>
          <p:nvPr/>
        </p:nvPicPr>
        <p:blipFill>
          <a:blip r:embed="rId3"/>
          <a:stretch/>
        </p:blipFill>
        <p:spPr>
          <a:xfrm>
            <a:off x="3419640" y="2565360"/>
            <a:ext cx="2249280" cy="331488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13"/>
          <p:cNvSpPr/>
          <p:nvPr/>
        </p:nvSpPr>
        <p:spPr>
          <a:xfrm>
            <a:off x="2922840" y="5877720"/>
            <a:ext cx="312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.П. Серяков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рельеф Арины Родионовны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а по кости 1840-е г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973920" y="0"/>
            <a:ext cx="2170080" cy="70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Лицей.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3348000" y="1052640"/>
            <a:ext cx="579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2 лет Александр был отвезен учиться в Царскосельский Лицей под Петербург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9" descr="bio_4_1"/>
          <p:cNvPicPr/>
          <p:nvPr/>
        </p:nvPicPr>
        <p:blipFill>
          <a:blip r:embed="rId1"/>
          <a:stretch/>
        </p:blipFill>
        <p:spPr>
          <a:xfrm>
            <a:off x="0" y="549360"/>
            <a:ext cx="3274920" cy="487836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11"/>
          <p:cNvSpPr/>
          <p:nvPr/>
        </p:nvSpPr>
        <p:spPr>
          <a:xfrm>
            <a:off x="753840" y="537300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арское Сел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3276720" y="3644640"/>
            <a:ext cx="586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а занятий в Лицее была обширной, но не столь глубоко продуман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0" y="217440"/>
            <a:ext cx="91440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ование основывалось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уманном характер педагогических ид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имание и уважение к личности уче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ие телесных наказ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ух чести и товари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6" descr="bio_11_2"/>
          <p:cNvPicPr/>
          <p:nvPr/>
        </p:nvPicPr>
        <p:blipFill>
          <a:blip r:embed="rId1"/>
          <a:stretch/>
        </p:blipFill>
        <p:spPr>
          <a:xfrm>
            <a:off x="1763640" y="2565360"/>
            <a:ext cx="5081760" cy="320220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9"/>
          <p:cNvSpPr/>
          <p:nvPr/>
        </p:nvSpPr>
        <p:spPr>
          <a:xfrm>
            <a:off x="2994120" y="5734080"/>
            <a:ext cx="289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.А.Тон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арское Село. Лицей. 182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916000" y="0"/>
            <a:ext cx="622764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39257"/>
                </a:solidFill>
                <a:latin typeface="Monotype Corsiva"/>
              </a:rPr>
              <a:t>Петербург (1817 - 1820)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0" y="907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 в коллегию иностранных де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4572000" y="148428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пуск (около двух месяцев) провел в Михайловском, псковском имении матер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и года почти безвыездно оставался в Петербург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0" y="5734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ет над поэмой "Руслан и Людмила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9" descr="bio_11_3"/>
          <p:cNvPicPr/>
          <p:nvPr/>
        </p:nvPicPr>
        <p:blipFill>
          <a:blip r:embed="rId1"/>
          <a:stretch/>
        </p:blipFill>
        <p:spPr>
          <a:xfrm>
            <a:off x="0" y="1628640"/>
            <a:ext cx="4451400" cy="2919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11"/>
          <p:cNvSpPr/>
          <p:nvPr/>
        </p:nvSpPr>
        <p:spPr>
          <a:xfrm>
            <a:off x="690120" y="4509360"/>
            <a:ext cx="311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.А. Александров с оригинала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.С. Иванова 1837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хайловское. Вид усадьбы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05:04:45Z</dcterms:created>
  <dc:creator>MoD</dc:creator>
  <dc:description/>
  <dc:language>en-US</dc:language>
  <cp:lastModifiedBy>LEGION</cp:lastModifiedBy>
  <dcterms:modified xsi:type="dcterms:W3CDTF">2015-01-20T13:39:39Z</dcterms:modified>
  <cp:revision>10</cp:revision>
  <dc:subject/>
  <dc:title>Слайд 1</dc:title>
</cp:coreProperties>
</file>