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9340-A71E-42A3-8EBA-6F9ED605A0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ама «Гроз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CC9D-73B3-46A9-B17C-99D9F2094A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881C-33B0-40BE-A239-B7A7166E67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F7D3-C936-4E32-A656-96CF014063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литературы 10 класс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Катерина в борьбе за свои человеческие прав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5374-B400-4596-B299-E17C2AF892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7A64-97C0-4231-8B04-6FC316002B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5F9D-B882-41EA-B76D-A6C39AE17C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E7AE-159E-468D-981E-5C9C50C3E7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Жизнь Катерины в родительском доме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E55F-5768-43FB-BB19-BFDDA15722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ь Катерины в доме Кабан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A282-CA4A-4395-A56D-DF97805F9A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черты характе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48BC-F9B8-4BD0-9937-D264A70593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DBB0-FB4B-41C6-8901-FCEA6CEE88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49E-2ECE-4633-B1DE-624D3BC2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65E-DACD-485D-B911-40F073E5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FBC-315D-4AB8-A31C-ECD389D9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7A9-90AA-46F4-BA2D-BD637A57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A3C4-E7B0-4486-B97B-ECCF394B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D72A-E9B9-4E7C-B5EF-A74666DF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A6A9-71DB-4752-A237-D1371371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7912-D16E-4E99-BD7D-4486E56C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2641-118E-4274-9D81-22F52E02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BFC4-8A20-4D68-A7D3-220E845B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0AF6-57C3-445D-B97B-5F2F4276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315-2383-4599-AC76-A598CC7C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8146-E037-4AC5-8A61-FD624596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0CDF-CB1E-410B-AE9C-455B46FC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8119-EB66-4577-BF83-72C5E7CF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B08F-FEA3-44EE-A545-C4A197F7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6F40-ED64-4240-BB48-EA3B071A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CB1-30FF-487E-8E36-4D9AFFDF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B3C4-1AB7-46D9-85DC-9DD1AA93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FDE-E7F3-4C33-97E5-DD560CD6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593-F496-4200-8D43-068A3B7D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735-FAE2-4892-8A6F-37F83FE3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E81-FA7D-41DF-87DD-3921C24A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C805-D0A8-4B91-8653-CCEFD21B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2B7E-25CF-41BA-8B84-13E2DC7E94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3A94-A28D-45B1-9C71-9A3E2DDCA0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143000"/>
            <a:ext cx="8362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Драма «Гроза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lit17-18p"/>
          <p:cNvPicPr/>
          <p:nvPr/>
        </p:nvPicPr>
        <p:blipFill>
          <a:blip r:embed="rId1"/>
          <a:stretch/>
        </p:blipFill>
        <p:spPr>
          <a:xfrm>
            <a:off x="0" y="0"/>
            <a:ext cx="3276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36_2_25"/>
          <p:cNvPicPr/>
          <p:nvPr/>
        </p:nvPicPr>
        <p:blipFill>
          <a:blip r:embed="rId1"/>
          <a:stretch/>
        </p:blipFill>
        <p:spPr>
          <a:xfrm>
            <a:off x="4284720" y="2349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36_2_53"/>
          <p:cNvPicPr/>
          <p:nvPr/>
        </p:nvPicPr>
        <p:blipFill>
          <a:blip r:embed="rId2"/>
          <a:stretch/>
        </p:blipFill>
        <p:spPr>
          <a:xfrm>
            <a:off x="4500720" y="5300640"/>
            <a:ext cx="952200" cy="7714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311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Урок литературы 10 класс</a:t>
            </a:r>
            <a:br>
              <a:rPr sz="3600"/>
            </a:b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«Катерина в борьбе за свои человеческие права»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407664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 урок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lit17-10"/>
          <p:cNvPicPr/>
          <p:nvPr/>
        </p:nvPicPr>
        <p:blipFill>
          <a:blip r:embed="rId1"/>
          <a:stretch/>
        </p:blipFill>
        <p:spPr>
          <a:xfrm>
            <a:off x="1042920" y="549360"/>
            <a:ext cx="6553440" cy="4032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lit17-13p"/>
          <p:cNvPicPr/>
          <p:nvPr/>
        </p:nvPicPr>
        <p:blipFill>
          <a:blip r:embed="rId1"/>
          <a:stretch/>
        </p:blipFill>
        <p:spPr>
          <a:xfrm>
            <a:off x="4309920" y="2060640"/>
            <a:ext cx="3502080" cy="33843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. Жизнь Катерины в родительском доме. 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Жизнь Катерины в доме Кабановой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черты характер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3:31:57Z</dcterms:created>
  <dc:creator>Ewgeniy</dc:creator>
  <dc:description/>
  <dc:language>en-US</dc:language>
  <cp:lastModifiedBy>LEGION</cp:lastModifiedBy>
  <dcterms:modified xsi:type="dcterms:W3CDTF">2015-01-20T13:40:30Z</dcterms:modified>
  <cp:revision>55</cp:revision>
  <dc:subject/>
  <dc:title>Урок-обобщение по экономике для 6 классов</dc:title>
</cp:coreProperties>
</file>