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1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notesMasterIdLst>
    <p:notesMasterId r:id="rId33"/>
  </p:notesMasterIdLst>
  <p:sldIdLst>
    <p:sldId id="256" r:id="rId34"/>
    <p:sldId id="257" r:id="rId35"/>
    <p:sldId id="258" r:id="rId36"/>
    <p:sldId id="259" r:id="rId37"/>
    <p:sldId id="260" r:id="rId38"/>
    <p:sldId id="261" r:id="rId39"/>
    <p:sldId id="262" r:id="rId40"/>
    <p:sldId id="263" r:id="rId41"/>
    <p:sldId id="264" r:id="rId42"/>
    <p:sldId id="265" r:id="rId43"/>
    <p:sldId id="266" r:id="rId44"/>
    <p:sldId id="267" r:id="rId45"/>
    <p:sldId id="268" r:id="rId46"/>
    <p:sldId id="269" r:id="rId47"/>
    <p:sldId id="270" r:id="rId48"/>
    <p:sldId id="271" r:id="rId49"/>
    <p:sldId id="272" r:id="rId50"/>
    <p:sldId id="273" r:id="rId51"/>
    <p:sldId id="27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notesMaster" Target="notesMasters/notesMaster1.xml"/><Relationship Id="rId34" Type="http://schemas.openxmlformats.org/officeDocument/2006/relationships/slide" Target="slides/slide1.xml"/><Relationship Id="rId35" Type="http://schemas.openxmlformats.org/officeDocument/2006/relationships/slide" Target="slides/slide2.xml"/><Relationship Id="rId36" Type="http://schemas.openxmlformats.org/officeDocument/2006/relationships/slide" Target="slides/slide3.xml"/><Relationship Id="rId37" Type="http://schemas.openxmlformats.org/officeDocument/2006/relationships/slide" Target="slides/slide4.xml"/><Relationship Id="rId38" Type="http://schemas.openxmlformats.org/officeDocument/2006/relationships/slide" Target="slides/slide5.xml"/><Relationship Id="rId39" Type="http://schemas.openxmlformats.org/officeDocument/2006/relationships/slide" Target="slides/slide6.xml"/><Relationship Id="rId40" Type="http://schemas.openxmlformats.org/officeDocument/2006/relationships/slide" Target="slides/slide7.xml"/><Relationship Id="rId41" Type="http://schemas.openxmlformats.org/officeDocument/2006/relationships/slide" Target="slides/slide8.xml"/><Relationship Id="rId42" Type="http://schemas.openxmlformats.org/officeDocument/2006/relationships/slide" Target="slides/slide9.xml"/><Relationship Id="rId43" Type="http://schemas.openxmlformats.org/officeDocument/2006/relationships/slide" Target="slides/slide10.xml"/><Relationship Id="rId44" Type="http://schemas.openxmlformats.org/officeDocument/2006/relationships/slide" Target="slides/slide11.xml"/><Relationship Id="rId45" Type="http://schemas.openxmlformats.org/officeDocument/2006/relationships/slide" Target="slides/slide12.xml"/><Relationship Id="rId46" Type="http://schemas.openxmlformats.org/officeDocument/2006/relationships/slide" Target="slides/slide13.xml"/><Relationship Id="rId47" Type="http://schemas.openxmlformats.org/officeDocument/2006/relationships/slide" Target="slides/slide14.xml"/><Relationship Id="rId48" Type="http://schemas.openxmlformats.org/officeDocument/2006/relationships/slide" Target="slides/slide15.xml"/><Relationship Id="rId49" Type="http://schemas.openxmlformats.org/officeDocument/2006/relationships/slide" Target="slides/slide16.xml"/><Relationship Id="rId50" Type="http://schemas.openxmlformats.org/officeDocument/2006/relationships/slide" Target="slides/slide17.xml"/><Relationship Id="rId51" Type="http://schemas.openxmlformats.org/officeDocument/2006/relationships/slide" Target="slides/slide18.xml"/><Relationship Id="rId52" Type="http://schemas.openxmlformats.org/officeDocument/2006/relationships/slide" Target="slides/slide1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PlaceHolder 2"/>
          <p:cNvSpPr>
            <a:spLocks noGrp="1"/>
          </p:cNvSpPr>
          <p:nvPr>
            <p:ph type="dt" idx="9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9" name="PlaceHolder 5"/>
          <p:cNvSpPr>
            <a:spLocks noGrp="1"/>
          </p:cNvSpPr>
          <p:nvPr>
            <p:ph type="ftr" idx="9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0" name="PlaceHolder 6"/>
          <p:cNvSpPr>
            <a:spLocks noGrp="1"/>
          </p:cNvSpPr>
          <p:nvPr>
            <p:ph type="sldNum" idx="9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12A6-0410-4768-A47C-40FC4AD776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slide" Target="../slides/slide9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E3F9-CDFF-4EFB-94FC-D964AD0E34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жба навеки»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шинская площадь в Москв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B455-506F-4694-9740-F75428DC88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вторы популярных эстрадных пес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а стихи Вознесе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CEF7-3C83-4D95-8066-0EB5D7B6E3A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знь в Переделки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D13F-C64C-41CF-84FB-E0542F88325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 РФ Д.А.Медведев вручает Вознесенскому Орден «За заслуги перед Отечеством» II степе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4DE0-7794-44FA-B550-F7B10A3A80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нчался 1 июня 2010 го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1A62D-4C0F-4649-83CC-ECA9219F6B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66"/>
                </a:solidFill>
                <a:latin typeface="Calibri"/>
              </a:rPr>
              <a:t>Могила Андрея Андреевич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F517-37A0-4AB3-B972-4E4728938E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удущий поэ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 отцом Андре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Николаевиче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естрой Наталь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381F-99CA-41B7-94C9-E57F8D17AA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1957год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онч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Москов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рхитектур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нститу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CF1A3-523F-418E-A9CA-25CAA603DD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ознес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и его жена З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огуслав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2ADF-B7C9-4D2E-826E-F6FC43352D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3399"/>
                </a:solidFill>
                <a:latin typeface="Arial"/>
                <a:ea typeface="Arial"/>
              </a:rPr>
              <a:t>Первые сбор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A731-3EE9-4E10-8D93-943539F071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жар в Архитектур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ылайте широк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вники в амур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йклубы в рокок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D4A5-4B31-4642-98EF-11994AC35C3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Ушаков «Модный поэ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н сменною модой нед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гда-то пленял молодёж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ак что ж ты, цветок рукодельны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егодня не модно цветёшь?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04FD-5D1F-4EC0-AD61-A427673107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Андрей Андрее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гастролиру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104E-3464-47F6-8C84-5055AD0F72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есенский получил в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1978 году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сударственную премию СССР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A0A4-046B-44D7-9481-DDAA8A9122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9A479-8871-4497-943A-4235F9C9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8A0C5-E661-450F-955E-3E7EE378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ED70B7-F4FE-4A7D-9EE5-D06C066A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D22AE-CFE7-4D8B-87FB-595D65B4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C0152F-4CEA-41CB-BBC0-69DCE3FE8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291F9-9673-49CF-A45F-A06F9485F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6A694-D532-4BE4-98B3-C373F0070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009D7-6E14-47A7-A811-953DD36B2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71AF8-9597-460C-B25D-6DF76D5D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0B1345-A1AA-46DF-89A4-6AD94C91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A10F27-AF5A-4433-80AB-C87FE47B8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CB39C2-0A7B-47D6-9EC6-AB732BFCA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70E2D-FEC9-4636-AFDD-2CD5E24F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12528-F289-4392-B46E-3567D9EF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2E9642-3A9C-4C5E-84AD-43F6C231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35BE15-4AC2-435F-93F9-244079EA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52A87-EAF4-4CD1-BF35-159673CB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8D78EF-BF1D-46D3-B907-7AB364B5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0D3BE-58DA-4C3E-8DE2-37C97CC1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3CDD7-101C-4730-8FE0-072A6CFD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B49CA-9CAE-45B9-B52D-0140B7D0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B7411-FFF9-4114-ACB8-CE8506FF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690D8-4BA8-478B-85DC-A3534846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7F646-77BD-4F2D-86A8-E464882F3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7CC0D9-2885-4E63-A4BE-024E3F1D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52992-4AB5-4E57-B1FB-BA78B007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37C3C8-EAD5-401F-A327-58ABBCEB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A81C3-AC8F-484C-987F-B59BA62D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C36E8-8C16-4331-AFC2-7F443FE4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BDDE0-AE8C-47BE-884F-9738DC51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3D166-0223-426D-9E1B-932D40A5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41F72-BB2F-49F5-9502-059654B6D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B2025-D529-43AE-8FB1-41AC73E0E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0980EE-6BC4-4AAC-8145-402C522E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A479-BB94-4F2C-9E9B-761F41FC1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B6369-D9A3-4F72-94AA-C485B6DF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13B00-6AF0-4FAD-9445-E7CA0873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3B48E-AE47-4602-AC41-FA406B66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5E834-1114-4A9F-8B15-3ECE2412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C471A-B736-4694-96F1-07270724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A8D427-DFF3-4626-9A13-AD402DB46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19E77-D471-47B7-ADD9-E0961B0E2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89AAF8-DA6A-41C2-B80B-F5067C5C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02CB1D-CA0A-4AF9-939D-F0627949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06F315-914D-40BB-A0DE-754B01125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9F8E5-C97A-4C60-9840-1E80D247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8CA7A-4151-455A-8F32-B8C3A465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B32AE-9234-4791-ABBA-4D13B548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8C2D04-C0ED-4C73-A1D3-66637C90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2107C-C564-4DF4-A93C-013CF55D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AF3BC-6B94-4928-A930-38987680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A91EB3-2922-47AC-AE2C-7D16D1866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8F474-D7C8-4525-AEBB-CCDD2CF9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FA7F3C-29B5-40EA-B10A-8D2BA15B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05155A-B56C-4685-8FEA-6279D905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0AC06-CA12-4388-86FD-425F25F8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CD0C-BA2A-49E4-B804-DECDF91D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662D6C-1CD6-4014-9500-22C58605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5C24A7-9DA4-4BE4-9AE1-55FFFFD4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D5BAE-51CA-4565-B16B-E09E6ACA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ED72B8-6DFC-4F16-87BC-085D47D9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42460C-05E0-4513-BC7C-176AB6D71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26B90-B555-4C25-AF5B-4FD62D82D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C56EE3-93B1-47B9-BDB4-EE60A1CE0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7A1D5-7059-4AC0-8905-C6AE22541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F386CA-967C-4587-980A-2E20FD08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0B822-6992-4EBB-BC5A-13F35F10E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24B6-2B4A-4FD2-AF42-9F04FFFD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181459-3424-43E0-BD6F-C15C3AE5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7C4291-823D-4595-BBC8-1ACF4F1B5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773F3E-533E-4CCD-8C66-F2EE7DE40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2D3F6E-339E-471D-806D-84ABEE90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590AEC-6C4B-4F68-AA28-9391955E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C81D7-25BF-48DC-8E76-5B5E05EE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D7E0B8-B8D9-4B79-940E-7AF3F4F3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23CA36-7FFB-4AEF-BB02-FF65949F5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690767-99A5-486D-AA19-6A9A522B1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7F68D9-8D90-413E-987E-6E3D45E2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DE5C-D545-4CDA-854C-62555604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B47EB8-C928-40CD-9354-E47573361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1FC71-A8A5-43D9-84FD-6667DA1B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C9D001-BE69-4BE0-A791-F4449BEE4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837C56-4CC8-4AA6-B3E0-ED5398C2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604C3-C028-4E96-9958-30A3FDA3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73AED4-1B75-476A-825A-BADE9FB02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15F2E7-880D-46AA-8849-04CCBB1D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F5FD26-9E35-413B-853F-D9304F6E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C81D55-DB1B-4462-B069-C257FDC3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083D37-C521-497F-A7FE-F4132B55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10398-FE74-4C63-A9E9-E8278F8E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F50427-A175-40D6-9AD7-3F624EB9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C8F9A6-B10B-4A37-BCCD-24AB2EC2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55C232-0F00-411D-9F4F-350EA6E90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E6840E-9802-4747-9D2A-BBE1109FD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DE8384-F53A-438B-B564-3E9E0923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A276F1-8DD2-4B6C-B9EE-1CF6188A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531CCF-1530-4469-97BF-8EE6A046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114C52-129F-47FE-A028-90FBD433D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30FE94-83B6-4BE0-B7FE-84FB0748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411109-69B7-4B79-964A-C8131B0D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CCF58-C05A-4D2A-A48D-C1D30074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3BE367-9C9C-464B-8C32-369C1FAE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FAB3B5-A5D5-41F0-8B4A-9CD42157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3F7732-0C7F-4588-BDB2-186DA0B8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B378E8-8FAE-418C-A51F-AB1B7228F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429CF6-4EFD-433D-851F-DF9D23CC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3FBDC4-BF8C-4101-8884-944237E0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C3C344-0047-44DC-97FB-7852CB906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54520C-66A0-4AE2-A85B-0BEC14EB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D406BF-421D-4A92-859C-976DC0DC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7A9DAC-B5CA-4E7D-BF15-1695FBA62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609B0-F229-4CBF-B079-A2F4F0A6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98435-123C-4E80-9893-295B79FF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B6A451-5D7B-4F5C-85BD-F3A9C6D8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80F561-79B8-4E24-8605-3974A2D8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3ECAF1-9676-4814-8AA0-93EECF7E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28F162-5A6D-42D1-891B-92EA191C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4211C1-B5AF-45B7-8BD6-EFBAE473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D87DCF-8A77-47E8-A91F-724ABFC8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F81700-6294-4FF3-B32D-12E5D24B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1B6A40-228A-4E83-ADE6-BDFD1D6F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F0F971-C43F-4253-A663-7C718847F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FE7D5F-54E3-4122-8FDB-FE2B2AD3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E81B-B919-447E-8DC8-938E732D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AAE76E-67D9-483A-9CA4-5C35BCCBC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D72291-760A-44EB-8CEF-148EC862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8BE905-944A-4524-92F8-7E11B90D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60A7C2-BA47-43EA-9E22-DF71210B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CE661A-1E47-420E-94C6-CE568DAB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6DC3A2-BDA7-4C43-8291-BCA9D263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F738D4-EF07-48CF-BC16-87A9C86A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F7D535-E0D5-4067-83D5-4ADD4ED6E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178183-2558-4E81-8832-164B90C5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4FD753-F894-42D1-AC7E-67C95E86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DDBF-561E-4998-A704-C0F15472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94F5DE-5524-4A90-A924-66502602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86A15A-16A1-496B-9B3F-48BE1982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CFFFF69-5032-4610-BB79-D9AE1C37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535082-BBD7-4E89-94EC-942CE3EE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EAD0F0-216A-46BC-B47C-D8903163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F1583C-2F1E-49E2-893D-6828EAB1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408485-3A86-4A4D-9420-74384734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2A62E8-14CB-4B63-ADB3-573EC517A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A05A11-681F-4278-830D-26AD0F0B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20CB59-AA4A-4D40-B2FC-711FF469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BA85-FE90-4B03-B63C-C81CB119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B93DF8-3A3F-4C41-9473-84AB2CCA7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43B090-153E-48C5-ABBF-DAE40985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9BA2A0-3A2C-463B-AF11-54371DB0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0DF5BE-D0E4-4B9A-A709-075AD9B93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33A138-182E-4B01-959A-67D964A1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666F7E-5261-4004-BB7A-22A5A128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F7ACC9-D6FA-40FB-9298-FD8925D0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C9C13-E25F-43A5-B652-4A9B73DBD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28D2F4-CB58-4BFE-A458-F84A8D4D4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A61AF0-744A-4C86-A544-54E728E3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10CF-B81E-47BC-A5BF-0F37F9E6B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F45DF7-150A-4755-A2C9-EB6F7BFAE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2AC146-EAAE-48E9-9626-B240BB80A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CDD24B-9C5E-4700-8E85-A498E0D2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D1EFFA-B072-440C-94BB-8AE0721C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C9E31F-EC65-4636-AFA4-6F9AF01E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0971B63-7F45-4AA9-8564-A8E36A4D9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FF35A4-96D3-42D8-A486-35E4E744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BCE6E4-C28A-4923-A07F-EEEB40A9E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DE61E4-00F5-4D37-897B-656EC0D6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FDC2BA-BC67-4814-913F-CD12E94D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2A0A4-34C0-40F8-BE41-295FB9DE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A5EF037-C1C9-4DEB-BF75-081CD1A2D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31EA4B-D1A2-4B12-A3F2-C6307879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6114D2-9151-4460-9FE3-D34F18A07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32F83E-4AAB-442C-A4AE-E5AA00B40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15B60A-AE07-46E0-A3F8-3E9A6809A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884613-0551-4B40-BCFE-73A77FF7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4B3C8A-039A-43DD-94CF-CC4D46A1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C345E2-C59E-4D67-AB06-B6594D41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F0DE77-7C6C-4F70-A644-43764BDB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C31EBA-6EBA-4823-BB6B-655ACFF0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19C50-C522-4D20-9A57-3F901BB8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AC9A37-A6F1-4252-84DA-FE77D90D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EF611D3-5724-4AAF-81A3-E394532F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F0BB2B-356D-4EA4-90C3-06219B76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72E9C1-9425-4568-9F32-E3FBEA8A9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5E7BFF-8D60-4D27-9B3E-AAD8A7550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838506-21CC-4FDB-948C-366DDB39B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3214FB-0E52-4DB0-88D4-B502DC6E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F46A6B-8D25-4205-8A17-BE1B6405E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738055-5E73-491F-B2D6-D32AB9DAA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81F964-302B-4E04-9EFF-5DB8522D9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73BB1-B860-468C-95B2-20ABC7AD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DE720A-C8C7-4DE0-80B2-25F2D489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2AB84DF-2685-42B4-BF1E-4B735E64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6FB2E5-F6C3-485E-8D1C-4DE9D964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7043AC5-2419-42EB-8DDA-CC5645D10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AA4D89-BA8B-43B5-B026-863834C8A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BBD6FC-0D07-4243-A007-42A575416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F16EFF-6619-4974-981D-02FDE31B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4B2C35-3E6F-4054-84FF-B45C5AF8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CC952B-47B2-4553-B3CD-C3343634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7EE158-1AC6-4B16-97C8-19B14DE1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25B97-C51E-4634-94CA-74D57940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0B69C8-86AF-4D92-96E3-962241D7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C5E6A4-C4BB-4955-8F14-5445223A0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E801B2-09D8-4DC1-8AD3-F20BB0E9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9CCB77-94F0-4B7E-A6B6-7A56A9EE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0528BB-EBCC-4CB7-9E9B-A596CBD0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AFD012B-7DD6-41C8-BFCF-3EC7F06A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815F833-00A6-432A-8CA7-9AEC76814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0F26D2-FC93-41BD-88AD-1142BBDC1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8EA64B-8A38-4F42-BF2F-97E73569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6AE3C36-5F95-4158-9B18-17BF4D43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03DA3-0F0A-43F6-90CC-26989B05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87A786-1186-4E54-92E0-FBE01A3A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7DE8F39-16CA-45D6-AFAE-970B97B0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1DB9DEC-791E-49FE-91AB-CD11D276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FC84A7-5284-4AA1-815A-36CA60094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4EC14C-3FFE-42E5-93AB-C5496458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32AF5A-8969-4A52-9AB1-2BD548580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064478-3EF0-48B9-91EB-9F3695BF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5414A7-7502-44E5-AC5A-4290AE53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4DF6E0-D031-4258-B124-BA497F89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8337B4-4C84-40A4-AC10-0864FE042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00A2B-AE99-4DF3-B991-75199D3C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238D9-AB25-4C45-BA54-E34F8067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DC7F2B-9B92-497D-B311-6445AD47F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FFF87B-A89A-4766-B801-143F25FDA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F252D4-FA7E-420F-9472-2E41B788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8B30F6-602C-4313-8A99-9B185CE3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236E53-F8F6-4D07-8A27-EE34EA68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EC7CBD-DC57-4C5B-A101-292DCF008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995C70-4797-4F82-A6C2-CF783D51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89B816-C6C9-43CE-A36B-CA67DDC50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511269-D429-464C-A0B8-2F2E7316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43E46B-9B96-4C71-BE6F-C20CFA29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4D714A-1E06-4881-8C86-CE4D4D05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E4E9F5F-AD85-4BF2-B154-0288CC5AB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52B3F2-A04A-4DEE-99A9-D92BD19E0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391F6C-5E86-49F0-8F3F-19A8BB79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4E3BA9-88A0-46A8-854E-073FB9B27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824C5C2-5EB7-485E-956E-1A1789935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4EE058-2543-4F1F-84B3-E3B059C5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B381F82-5E6B-4B63-B03F-8356BA48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E542470-ABBB-4E74-AACC-ABEC890F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E33076-91C5-43AB-A9CD-2097B433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6A1485C-09F7-4280-94B5-EE7A15D1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A5AC4-010C-4F6E-973F-179E6CA7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B8C6ACA-C326-4D66-87F7-DF61FDF0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9B292D6-1330-4335-A581-AEE1B6C0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093194-E02A-490F-92C2-71659B0D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FA7EDC-6A5D-4DF6-AF4A-CB33A93A3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750CAD-1790-4B9E-A852-B44AB3D21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A4F545-9FFE-4FE5-9E16-341C5DAEE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66FF99-6F12-41BC-9A90-0872793D7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C6F241-96EB-483E-BC73-B8C8F187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7E5200-92C3-40BE-B32E-D1913965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A1269F-52AB-4F1F-88CC-F9B4E8D2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E7CA8-A504-4EB1-B3EF-FBF76F89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8A802B-4248-4F17-B35B-A608AA54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CF7FDE-C1BC-422D-B70E-431C543E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9E8D8E-5D82-4736-AFBD-B696BE0B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3AAFE3C-994F-4424-AE15-7AF90F86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4797EC8-DE30-4F56-B482-29FA4D8AC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F305F0-BF09-458F-9065-32E74F61D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7573C8-570B-4178-B067-D79009D8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F51362-732F-4D16-8B1E-019C0E6C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84DAAB-6264-4A0B-B126-D83BFC09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EE1BB5-84D9-471B-92BD-FEB219699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BE8BE-8F4E-4207-8105-629A4D7AF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F9B26B-AA1D-42FE-826D-38B66307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A7CBA3-0854-4908-989F-4C5474B44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12348AF-E91C-4755-B34D-A08A774A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CEC870-4861-4E90-9220-808F4EAFB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74DC959-B1BA-47F8-8B62-D83C8F7F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5B7061-9DE2-4C04-9001-DA46FB61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82D4CC-4862-4786-836B-B65DA181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6AF7E0-A6DB-431E-A193-90C98DB9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FBD1A22-3235-4163-BB57-49F571445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381EB00-9E44-4356-8346-746AEBA26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2F05A-40FF-4AF3-A43E-3A43F066D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B80D39-24F8-49C9-99B8-FCC844006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FCDC36-3A83-4F19-8C2E-7A652FD2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CFBE27C-6D3F-44E5-AC52-00FCA338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569389-CC43-4CAD-86CE-43323EBD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DC5672-89CB-4AC1-A514-E9C6F903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8F26D2-9EC7-4139-880B-76077AC2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F264A4-B76B-4AC0-A0F3-DBCFAA88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0808B6-0E82-44CD-954D-FC68DF6A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219E7B-F31D-43D6-9C94-F7275752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4D5809-783D-47E3-BD4E-E60D85CA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9E2B4-110C-43B1-97B6-4070A24C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097165-2868-4885-BDCA-D15244ED5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6392F1-02D5-4A08-8BEA-65055098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CA92C6-398A-4880-8B45-AEB07FD8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1CFA2A-283B-4DD3-BE48-CFA2130A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597540B-5E29-4248-8D4A-0E548EB8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EA1D47-1A6E-469C-9BD8-5D31BFC3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F9DC2F3-CDE0-4AE4-9518-3B258E050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C8BD80-DA08-44E2-BA36-0381CA45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38EB04-B4B9-49F2-884F-4E903CC2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9034D68-D1A6-461A-A192-9A15AB28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E93D9-477C-4AA4-88AF-2AAF698DD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C440C7-79C0-4963-A320-578D88CB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B5CBC0C-91F1-43FF-805A-150002C1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256A27-8DFF-4E61-8F29-CA661DCC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8912B-36A9-44D7-83E1-4FC9A9D0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BA5FD-D709-4982-873A-262DC90E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02255-ACAD-4EDA-B082-96DDE56C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EF57B-E744-466D-BB4B-F27C8B88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1F812-A5D2-49A6-8B79-F7B66EA9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13F89-8E3A-4C8B-B912-F3C4E659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28E25-B8E2-4444-9D61-4DE59DA4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01B65-AB19-4C2E-BBF0-59CCC5D0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B7A47-DD05-4241-94AC-0FEED553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DB93E-432E-4B92-8BDB-577BE9FDC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608C7-BE6F-4C2E-9C7F-74BCE4FC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A8449-D221-4B9B-8A19-92EFC2EB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93CDA9-0E89-4F7B-8BF1-2EC968BFF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02C14-D5EB-4F90-A766-F6772775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8610A-CFD9-464C-9F66-4E43FDB3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D0812-E000-4B2E-AFD4-E72D46B2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FB6266-0EBF-412A-BB88-92221D38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88432B-D315-4344-A54F-6EB93633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9D5BC4-CB4D-443E-890C-F9A7C7B2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C117E8-4361-4914-BE98-F83693A4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12CD2B-D328-4A1E-9B58-860437B3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19214B-4C96-4DDC-9407-D811A5BA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466D4F-D768-4568-8548-B1CB7043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B67083-A050-438A-8861-008E9365A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69176-7C62-40DD-A8C7-414B1A6C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76E90-4FEC-4C8C-AC33-339196AC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2B40E-0244-48FE-B0B5-1BFBCB1EF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CD88D-0D15-4427-B91D-8361EAB4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6526A-F4AA-4CEE-AA3B-5694F337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A228F-4852-41B4-9D13-FE225DC8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92E25-8979-404E-90E3-10D9B6F0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337CD-E94C-428B-A6C4-456FD7E3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2233A-FF30-4BBC-9438-7B8CA256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5D97B-E99B-43F6-8E2F-F14F53BAA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1DE5B-AFFF-4734-BC77-3E0DDF27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EE668-885C-482F-B942-E60EDAF5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FF8A4-77F1-4E5F-B7A1-92855A10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17F1D-06EE-4B5D-A3D3-FB4633D50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E15D2-9AE9-4253-A70E-D43A1D84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3C05C-ED60-48E8-9A63-90ED0F1DF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D4450-9EF5-46E4-A103-004C7A5B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93152-821F-486D-B326-598F0F1C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E09E6-3F55-4140-9F74-9524CFB2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C6953A-4D14-4561-8764-AE7D332C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5832C-D6A4-48F0-B054-33C7A284C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2B19C2-A8BA-489B-950D-ADC9C221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E2A72-69E1-4871-B7B7-8F403F26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C4CF6-2B61-4E92-BB7F-ACCD0225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716CA-967C-46CE-B154-C4EC972D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DC5151-BC1F-47D0-9CD9-7B3693DC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AC6DA-A345-465D-B04B-7CF9B6B6D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57A74-BFF0-4F5D-A2FB-236180A0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F0CC1C-B373-4C1E-A121-691987E02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023207-6257-4CD4-A62D-C4179D3B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6D70E0-08CE-4DD3-951F-F5D72A4A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949B3D-C27D-44A6-847E-7DD1A266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83DFF6-9697-4F83-A034-474F859A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CBBA7-CDF5-4F0A-BEEE-FFD33789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B6A11B-87C9-4E41-B795-F88A977F4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C8EEA8-765B-4FE6-B464-D814BB78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85245AF-E709-4043-92FA-C92339C9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B71204-5392-4034-9BA9-53488741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D11B5E-8CCC-4EB1-93B6-797886053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0044067-611D-4BB2-BC7E-3EF7CE83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9DFD99-4BC9-486A-91EC-EB4DD1ED9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04261-08C9-47DB-9137-5E2B4918B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4F467-5871-4589-83AE-DF41AE0A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57785-B24A-4BB7-868C-F7DB03B1D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FC73-B089-4AF6-866C-20DD21C4E6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0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61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61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3B9B-F466-4707-8CA5-7680B30115E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9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660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3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3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4A6B-988A-4C39-B334-DDCD94BDEBA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70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70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3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73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74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75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3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ftr" idx="3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sldNum" idx="3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B339-4229-47AC-83E2-3C670085D8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81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210E-60D3-47B7-9AB4-4FCA86B3A73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95508-2AD9-4022-94A1-223F2EE957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90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91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2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92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dt" idx="43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2E3F-3676-45B6-B6C3-B8FE68E066D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10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1E99-3AB2-412E-BE90-AD9773C15A8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f978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70cac6"/>
                </a:gs>
                <a:gs pos="100000">
                  <a:srgbClr val="2f97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0ca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9999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53FA-0E19-464D-A325-C0A26F8C25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0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01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2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4B05-B2CB-4B22-8C5B-52182A713D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27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AF23-06C3-4D4A-B81B-D48B49AAB0DE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2922-B363-4F36-8844-86128C81A4F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8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 type="ftr" idx="5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6391-26D4-4F2E-AECD-66BAB1F56C1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363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BC07-2B92-46D6-88C8-4BD3BDF26009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5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42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42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9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430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43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43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34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435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436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7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8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439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1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442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44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6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47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448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1451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3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1454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5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6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1457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9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1460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1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2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1463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4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5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1466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68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1469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1472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4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1475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7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1478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0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1481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2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3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48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5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6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487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8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9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490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1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2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49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4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95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496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7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8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00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501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2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3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504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5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507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8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09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510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1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2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513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4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5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516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18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519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1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522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3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4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525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7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528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9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3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53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33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1534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1535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7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8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9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0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1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4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154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6A9C-D878-4103-82C8-880C9BC2D9DB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1600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1601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3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6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607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 type="dt" idx="6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 type="ftr" idx="6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 type="sldNum" idx="6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BF45-E457-4D23-AE42-F206357D7DBE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5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1656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9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D76B-03F2-4AE6-B528-05D773E5F3A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7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85525-3C84-4A66-A96A-310FB22619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0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1761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62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1763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1767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3"/>
          <p:cNvSpPr>
            <a:spLocks noGrp="1"/>
          </p:cNvSpPr>
          <p:nvPr>
            <p:ph type="dt" idx="76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PlaceHolder 4"/>
          <p:cNvSpPr>
            <a:spLocks noGrp="1"/>
          </p:cNvSpPr>
          <p:nvPr>
            <p:ph type="ftr" idx="77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5"/>
          <p:cNvSpPr>
            <a:spLocks noGrp="1"/>
          </p:cNvSpPr>
          <p:nvPr>
            <p:ph type="sldNum" idx="7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809D-C418-44B7-A4D7-53429A5C7F2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0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811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 type="dt" idx="7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 type="ftr" idx="8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 type="sldNum" idx="8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263E-0FB6-47C3-9368-F4AE2BF951B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85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85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8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8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9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0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90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1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 type="dt" idx="8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 type="ftr" idx="8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0700-A9E6-48FC-A578-BA65001D20F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96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BF1D9-0735-4DDE-8142-EACDC8B43B6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5D6F-4BD8-4518-B79F-E8EB4ADAC2F9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8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019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020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1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2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3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4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5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6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7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8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9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0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1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2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3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34" name="Rectangle 18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5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6" name="Rectangle 20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7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8" name="Rectangle 22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9" name="Rectangle 23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0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1" name="Rectangle 25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2" name="Rectangle 26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3" name="Rectangle 27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4" name="Rectangle 28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5" name="Rectangle 29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6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7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8" name="Rectangle 32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9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0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1" name="Rectangle 35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2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3" name="Rectangle 37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4" name="Rectangle 38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5" name="Rectangle 39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6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7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8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9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0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1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2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3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4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5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6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7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8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9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0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1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2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3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4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5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6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7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8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9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0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1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2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3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4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5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6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7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8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9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0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1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2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3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4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5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6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7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8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9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0" name="Rectangle 84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1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2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3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4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5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6" name="Rectangle 90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7" name="Rectangle 91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8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9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0" name="Rectangle 94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1" name="Rectangle 95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2" name="Rectangle 96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3" name="Rectangle 97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4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5" name="Rectangle 99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6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7" name="Rectangle 101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8" name="Rectangle 102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9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0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1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2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3" name="Rectangle 107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4" name="Rectangle 108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5" name="Rectangle 109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6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7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8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9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0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1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2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3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4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5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6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7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8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9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0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1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2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3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4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5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6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7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8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9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0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1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2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3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4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5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6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7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8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9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0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1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2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3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4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5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6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7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8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1" name="PlaceHolder 3"/>
          <p:cNvSpPr>
            <a:spLocks noGrp="1"/>
          </p:cNvSpPr>
          <p:nvPr>
            <p:ph type="dt" idx="88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FF32-0911-444A-A4A8-AFB1F3B222DB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0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2211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5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0073-479E-4ED4-9168-5B7C74ED29D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62DA-19C4-4CC5-AE8C-DB15B4D00A6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7E2AD-FCCA-453E-8D8A-137766008130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7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7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8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8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8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8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9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9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9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9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0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0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0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1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1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1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1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2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2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2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3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3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3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4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4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4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4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5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5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5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6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6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6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6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7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7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7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8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8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8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8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D1C1-9769-4032-8B7E-8F42624A9BE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53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5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6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9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0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21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77B0A-952B-41D1-9593-2B7796577678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AD22-6060-4A34-AC36-1C6B422AE6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513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6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3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64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6F4B-E870-4709-9B7B-9DAFF8729F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u.wikipedia.org/wiki/1978_&#1075;&#1086;&#1076;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1" name="Picture 10" descr="paint5"/>
          <p:cNvPicPr/>
          <p:nvPr/>
        </p:nvPicPr>
        <p:blipFill>
          <a:blip r:embed="rId1"/>
          <a:stretch/>
        </p:blipFill>
        <p:spPr>
          <a:xfrm>
            <a:off x="395280" y="549360"/>
            <a:ext cx="4284720" cy="5759280"/>
          </a:xfrm>
          <a:prstGeom prst="rect">
            <a:avLst/>
          </a:prstGeom>
          <a:ln w="0">
            <a:noFill/>
          </a:ln>
        </p:spPr>
      </p:pic>
      <p:sp>
        <p:nvSpPr>
          <p:cNvPr id="2262" name="WordArt 11"/>
          <p:cNvSpPr txBox="1"/>
          <p:nvPr/>
        </p:nvSpPr>
        <p:spPr>
          <a:xfrm>
            <a:off x="4859280" y="1557360"/>
            <a:ext cx="39988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знесенски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3" name="WordArt 12"/>
          <p:cNvSpPr txBox="1"/>
          <p:nvPr/>
        </p:nvSpPr>
        <p:spPr>
          <a:xfrm>
            <a:off x="5867280" y="4869000"/>
            <a:ext cx="22100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33-2010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«Дружба навеки»</a:t>
            </a:r>
            <a:br>
              <a:rPr sz="4000"/>
            </a:br>
            <a:r>
              <a:rPr b="0" lang="ru-RU" sz="4000" spc="-1" strike="noStrike">
                <a:solidFill>
                  <a:srgbClr val="b2b2b2"/>
                </a:solidFill>
                <a:latin typeface="Arial"/>
              </a:rPr>
              <a:t>Тишинская площадь в Москве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2298" name="Picture 4" descr="unnamed"/>
          <p:cNvPicPr/>
          <p:nvPr/>
        </p:nvPicPr>
        <p:blipFill>
          <a:blip r:embed="rId1"/>
          <a:stretch/>
        </p:blipFill>
        <p:spPr>
          <a:xfrm>
            <a:off x="5651640" y="1916280"/>
            <a:ext cx="2881080" cy="3960720"/>
          </a:xfrm>
          <a:prstGeom prst="rect">
            <a:avLst/>
          </a:prstGeom>
          <a:ln w="0">
            <a:noFill/>
          </a:ln>
        </p:spPr>
      </p:pic>
      <p:pic>
        <p:nvPicPr>
          <p:cNvPr id="2299" name="Picture 5" descr="4e527de3bb212"/>
          <p:cNvPicPr/>
          <p:nvPr/>
        </p:nvPicPr>
        <p:blipFill>
          <a:blip r:embed="rId2"/>
          <a:stretch/>
        </p:blipFill>
        <p:spPr>
          <a:xfrm>
            <a:off x="1476360" y="1844640"/>
            <a:ext cx="3048120" cy="4064040"/>
          </a:xfrm>
          <a:prstGeom prst="rect">
            <a:avLst/>
          </a:prstGeom>
          <a:ln w="0">
            <a:noFill/>
          </a:ln>
        </p:spPr>
      </p:pic>
      <p:sp>
        <p:nvSpPr>
          <p:cNvPr id="23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900" fill="hold"/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1" name="Picture 7" descr="633220"/>
          <p:cNvPicPr/>
          <p:nvPr/>
        </p:nvPicPr>
        <p:blipFill>
          <a:blip r:embed="rId1"/>
          <a:stretch/>
        </p:blipFill>
        <p:spPr>
          <a:xfrm>
            <a:off x="6588000" y="333360"/>
            <a:ext cx="2411640" cy="2411280"/>
          </a:xfrm>
          <a:prstGeom prst="rect">
            <a:avLst/>
          </a:prstGeom>
          <a:ln w="0">
            <a:noFill/>
          </a:ln>
        </p:spPr>
      </p:pic>
      <p:pic>
        <p:nvPicPr>
          <p:cNvPr id="2302" name="Picture 8" descr="23ce7d125755d0044b4fb9b8d0f73d28"/>
          <p:cNvPicPr/>
          <p:nvPr/>
        </p:nvPicPr>
        <p:blipFill>
          <a:blip r:embed="rId2"/>
          <a:stretch/>
        </p:blipFill>
        <p:spPr>
          <a:xfrm>
            <a:off x="3635280" y="3357720"/>
            <a:ext cx="2363760" cy="3357360"/>
          </a:xfrm>
          <a:prstGeom prst="rect">
            <a:avLst/>
          </a:prstGeom>
          <a:ln w="0">
            <a:noFill/>
          </a:ln>
        </p:spPr>
      </p:pic>
      <p:pic>
        <p:nvPicPr>
          <p:cNvPr id="2303" name="Picture 4" descr="yap5"/>
          <p:cNvPicPr/>
          <p:nvPr/>
        </p:nvPicPr>
        <p:blipFill>
          <a:blip r:embed="rId3"/>
          <a:stretch/>
        </p:blipFill>
        <p:spPr>
          <a:xfrm>
            <a:off x="395280" y="2060640"/>
            <a:ext cx="2448000" cy="2442960"/>
          </a:xfrm>
          <a:prstGeom prst="rect">
            <a:avLst/>
          </a:prstGeom>
          <a:ln w="0">
            <a:noFill/>
          </a:ln>
        </p:spPr>
      </p:pic>
      <p:sp>
        <p:nvSpPr>
          <p:cNvPr id="2304" name="WordArt 5"/>
          <p:cNvSpPr txBox="1"/>
          <p:nvPr/>
        </p:nvSpPr>
        <p:spPr>
          <a:xfrm>
            <a:off x="1116000" y="333360"/>
            <a:ext cx="6769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вторы популярных эстрадных песе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а стихи Вознесенского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5" name="WordArt 9"/>
          <p:cNvSpPr txBox="1"/>
          <p:nvPr/>
        </p:nvSpPr>
        <p:spPr>
          <a:xfrm>
            <a:off x="468360" y="5013360"/>
            <a:ext cx="244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.Пугачёва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Миллион алых роз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6" name="WordArt 10"/>
          <p:cNvSpPr txBox="1"/>
          <p:nvPr/>
        </p:nvSpPr>
        <p:spPr>
          <a:xfrm>
            <a:off x="6335640" y="321300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Е.Осин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Плачет девуш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 автомат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07" name="AutoShape 13"/>
          <p:cNvSpPr/>
          <p:nvPr/>
        </p:nvSpPr>
        <p:spPr>
          <a:xfrm>
            <a:off x="1403280" y="4508640"/>
            <a:ext cx="43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AutoShape 14"/>
          <p:cNvSpPr/>
          <p:nvPr/>
        </p:nvSpPr>
        <p:spPr>
          <a:xfrm>
            <a:off x="7524720" y="2781360"/>
            <a:ext cx="287280" cy="288720"/>
          </a:xfrm>
          <a:prstGeom prst="downArrow">
            <a:avLst>
              <a:gd name="adj1" fmla="val 50000"/>
              <a:gd name="adj2" fmla="val 25125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9" name="WordArt 15"/>
          <p:cNvSpPr txBox="1"/>
          <p:nvPr/>
        </p:nvSpPr>
        <p:spPr>
          <a:xfrm>
            <a:off x="3708360" y="1557360"/>
            <a:ext cx="2160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.Гнатюк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"Танец н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арабане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10" name="AutoShape 16"/>
          <p:cNvSpPr/>
          <p:nvPr/>
        </p:nvSpPr>
        <p:spPr>
          <a:xfrm>
            <a:off x="4572000" y="2637000"/>
            <a:ext cx="358920" cy="2872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2" name="Picture 4" descr="79706224_voznes_kedr_pastern_royaljpg"/>
          <p:cNvPicPr/>
          <p:nvPr/>
        </p:nvPicPr>
        <p:blipFill>
          <a:blip r:embed="rId1"/>
          <a:stretch/>
        </p:blipFill>
        <p:spPr>
          <a:xfrm>
            <a:off x="5292720" y="1268280"/>
            <a:ext cx="3490920" cy="2589480"/>
          </a:xfrm>
          <a:prstGeom prst="rect">
            <a:avLst/>
          </a:prstGeom>
          <a:ln w="0">
            <a:noFill/>
          </a:ln>
        </p:spPr>
      </p:pic>
      <p:pic>
        <p:nvPicPr>
          <p:cNvPr id="2313" name="Picture 5" descr="3870"/>
          <p:cNvPicPr/>
          <p:nvPr/>
        </p:nvPicPr>
        <p:blipFill>
          <a:blip r:embed="rId2"/>
          <a:stretch/>
        </p:blipFill>
        <p:spPr>
          <a:xfrm>
            <a:off x="3203640" y="3878280"/>
            <a:ext cx="3313080" cy="2909880"/>
          </a:xfrm>
          <a:prstGeom prst="rect">
            <a:avLst/>
          </a:prstGeom>
          <a:ln w="0">
            <a:noFill/>
          </a:ln>
        </p:spPr>
      </p:pic>
      <p:pic>
        <p:nvPicPr>
          <p:cNvPr id="2314" name="Picture 6" descr="news-kedrov_200906050156412"/>
          <p:cNvPicPr/>
          <p:nvPr/>
        </p:nvPicPr>
        <p:blipFill>
          <a:blip r:embed="rId3"/>
          <a:stretch/>
        </p:blipFill>
        <p:spPr>
          <a:xfrm>
            <a:off x="468360" y="1341360"/>
            <a:ext cx="3382920" cy="2536920"/>
          </a:xfrm>
          <a:prstGeom prst="rect">
            <a:avLst/>
          </a:prstGeom>
          <a:ln w="0">
            <a:noFill/>
          </a:ln>
        </p:spPr>
      </p:pic>
      <p:sp>
        <p:nvSpPr>
          <p:cNvPr id="23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imes New Roman"/>
              </a:rPr>
              <a:t>Жизнь в Переделкино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1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178920" y="62064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Президент РФ Д.А.Медведев вручает Вознесенскому Орден «За заслуги перед Отечеством» II степени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2318" name="Picture 4" descr="poet0106"/>
          <p:cNvPicPr/>
          <p:nvPr/>
        </p:nvPicPr>
        <p:blipFill>
          <a:blip r:embed="rId1"/>
          <a:stretch/>
        </p:blipFill>
        <p:spPr>
          <a:xfrm>
            <a:off x="1979640" y="2349360"/>
            <a:ext cx="5545080" cy="4157640"/>
          </a:xfrm>
          <a:prstGeom prst="rect">
            <a:avLst/>
          </a:prstGeom>
          <a:ln w="0">
            <a:noFill/>
          </a:ln>
        </p:spPr>
      </p:pic>
      <p:sp>
        <p:nvSpPr>
          <p:cNvPr id="2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900" fill="hold"/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кончался 1 июня 2010 года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1" name="Picture 4" descr="1275473529502283"/>
          <p:cNvPicPr/>
          <p:nvPr/>
        </p:nvPicPr>
        <p:blipFill>
          <a:blip r:embed="rId1"/>
          <a:stretch/>
        </p:blipFill>
        <p:spPr>
          <a:xfrm>
            <a:off x="1692360" y="2133720"/>
            <a:ext cx="5832360" cy="3882960"/>
          </a:xfrm>
          <a:prstGeom prst="rect">
            <a:avLst/>
          </a:prstGeom>
          <a:ln w="0">
            <a:noFill/>
          </a:ln>
        </p:spPr>
      </p:pic>
      <p:sp>
        <p:nvSpPr>
          <p:cNvPr id="2322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cc66"/>
                </a:solidFill>
                <a:latin typeface="Arial"/>
              </a:rPr>
              <a:t>Могила Андрея Андреевича</a:t>
            </a:r>
            <a:r>
              <a:rPr b="0" lang="ru-RU" sz="4400" spc="-1" strike="noStrike">
                <a:solidFill>
                  <a:srgbClr val="c0c0c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4" name="Picture 4" descr="voznesenskiy-andrei3"/>
          <p:cNvPicPr/>
          <p:nvPr/>
        </p:nvPicPr>
        <p:blipFill>
          <a:blip r:embed="rId1"/>
          <a:stretch/>
        </p:blipFill>
        <p:spPr>
          <a:xfrm>
            <a:off x="4572000" y="234936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2325" name="Picture 5" descr="43116_64295_f"/>
          <p:cNvPicPr/>
          <p:nvPr/>
        </p:nvPicPr>
        <p:blipFill>
          <a:blip r:embed="rId2"/>
          <a:stretch/>
        </p:blipFill>
        <p:spPr>
          <a:xfrm>
            <a:off x="755640" y="1773360"/>
            <a:ext cx="3348000" cy="4464000"/>
          </a:xfrm>
          <a:prstGeom prst="rect">
            <a:avLst/>
          </a:prstGeom>
          <a:ln w="0">
            <a:noFill/>
          </a:ln>
        </p:spPr>
      </p:pic>
      <p:sp>
        <p:nvSpPr>
          <p:cNvPr id="2326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7" name="Picture 4" descr="Voznesenskii2"/>
          <p:cNvPicPr/>
          <p:nvPr/>
        </p:nvPicPr>
        <p:blipFill>
          <a:blip r:embed="rId1"/>
          <a:stretch/>
        </p:blipFill>
        <p:spPr>
          <a:xfrm>
            <a:off x="2124000" y="189000"/>
            <a:ext cx="4937040" cy="6408720"/>
          </a:xfrm>
          <a:prstGeom prst="rect">
            <a:avLst/>
          </a:prstGeom>
          <a:ln w="0">
            <a:noFill/>
          </a:ln>
        </p:spPr>
      </p:pic>
      <p:sp>
        <p:nvSpPr>
          <p:cNvPr id="23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9" name="Picture 4" descr="59897034_Voznesenskiy_"/>
          <p:cNvPicPr/>
          <p:nvPr/>
        </p:nvPicPr>
        <p:blipFill>
          <a:blip r:embed="rId1"/>
          <a:stretch/>
        </p:blipFill>
        <p:spPr>
          <a:xfrm>
            <a:off x="2195640" y="189000"/>
            <a:ext cx="5030640" cy="6524640"/>
          </a:xfrm>
          <a:prstGeom prst="rect">
            <a:avLst/>
          </a:prstGeom>
          <a:ln w="0">
            <a:noFill/>
          </a:ln>
        </p:spPr>
      </p:pic>
      <p:sp>
        <p:nvSpPr>
          <p:cNvPr id="23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1" name="Picture 4" descr="35-50-1b"/>
          <p:cNvPicPr/>
          <p:nvPr/>
        </p:nvPicPr>
        <p:blipFill>
          <a:blip r:embed="rId1"/>
          <a:stretch/>
        </p:blipFill>
        <p:spPr>
          <a:xfrm>
            <a:off x="1258920" y="260280"/>
            <a:ext cx="6912000" cy="6272280"/>
          </a:xfrm>
          <a:prstGeom prst="rect">
            <a:avLst/>
          </a:prstGeom>
          <a:ln w="0">
            <a:noFill/>
          </a:ln>
        </p:spPr>
      </p:pic>
      <p:sp>
        <p:nvSpPr>
          <p:cNvPr id="23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3" name="Picture 4" descr="336161768"/>
          <p:cNvPicPr/>
          <p:nvPr/>
        </p:nvPicPr>
        <p:blipFill>
          <a:blip r:embed="rId1"/>
          <a:stretch/>
        </p:blipFill>
        <p:spPr>
          <a:xfrm>
            <a:off x="2190600" y="81000"/>
            <a:ext cx="4762800" cy="6696000"/>
          </a:xfrm>
          <a:prstGeom prst="rect">
            <a:avLst/>
          </a:prstGeom>
          <a:ln w="0">
            <a:noFill/>
          </a:ln>
        </p:spPr>
      </p:pic>
      <p:sp>
        <p:nvSpPr>
          <p:cNvPr id="2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5" name="Picture 5" descr="a-voz"/>
          <p:cNvPicPr/>
          <p:nvPr/>
        </p:nvPicPr>
        <p:blipFill>
          <a:blip r:embed="rId1"/>
          <a:stretch/>
        </p:blipFill>
        <p:spPr>
          <a:xfrm>
            <a:off x="395280" y="260280"/>
            <a:ext cx="4668840" cy="6308640"/>
          </a:xfrm>
          <a:prstGeom prst="rect">
            <a:avLst/>
          </a:prstGeom>
          <a:ln w="0">
            <a:noFill/>
          </a:ln>
        </p:spPr>
      </p:pic>
      <p:sp>
        <p:nvSpPr>
          <p:cNvPr id="2266" name="WordArt 6"/>
          <p:cNvSpPr txBox="1"/>
          <p:nvPr/>
        </p:nvSpPr>
        <p:spPr>
          <a:xfrm>
            <a:off x="5219640" y="1916280"/>
            <a:ext cx="3745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удущий поэ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Вознесенски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 отцом Андрее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иколаевичем 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естрой Наталье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8" name="Picture 4" descr="001"/>
          <p:cNvPicPr/>
          <p:nvPr/>
        </p:nvPicPr>
        <p:blipFill>
          <a:blip r:embed="rId1"/>
          <a:stretch/>
        </p:blipFill>
        <p:spPr>
          <a:xfrm>
            <a:off x="4721400" y="333360"/>
            <a:ext cx="4152600" cy="6191280"/>
          </a:xfrm>
          <a:prstGeom prst="rect">
            <a:avLst/>
          </a:prstGeom>
          <a:ln w="0">
            <a:noFill/>
          </a:ln>
        </p:spPr>
      </p:pic>
      <p:sp>
        <p:nvSpPr>
          <p:cNvPr id="2269" name="WordArt 5"/>
          <p:cNvSpPr txBox="1"/>
          <p:nvPr/>
        </p:nvSpPr>
        <p:spPr>
          <a:xfrm>
            <a:off x="468360" y="1557360"/>
            <a:ext cx="417492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957год -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ончани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Московск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рхитектурн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ститут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1" name="Picture 4" descr="1287698477724448"/>
          <p:cNvPicPr/>
          <p:nvPr/>
        </p:nvPicPr>
        <p:blipFill>
          <a:blip r:embed="rId1"/>
          <a:stretch/>
        </p:blipFill>
        <p:spPr>
          <a:xfrm>
            <a:off x="611280" y="189000"/>
            <a:ext cx="3529080" cy="241776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5" descr="1077569"/>
          <p:cNvPicPr/>
          <p:nvPr/>
        </p:nvPicPr>
        <p:blipFill>
          <a:blip r:embed="rId2"/>
          <a:stretch/>
        </p:blipFill>
        <p:spPr>
          <a:xfrm>
            <a:off x="395280" y="2781360"/>
            <a:ext cx="2803680" cy="3736800"/>
          </a:xfrm>
          <a:prstGeom prst="rect">
            <a:avLst/>
          </a:prstGeom>
          <a:ln w="0">
            <a:noFill/>
          </a:ln>
        </p:spPr>
      </p:pic>
      <p:pic>
        <p:nvPicPr>
          <p:cNvPr id="2273" name="Picture 6" descr="5b8015e7"/>
          <p:cNvPicPr/>
          <p:nvPr/>
        </p:nvPicPr>
        <p:blipFill>
          <a:blip r:embed="rId3"/>
          <a:stretch/>
        </p:blipFill>
        <p:spPr>
          <a:xfrm>
            <a:off x="5076720" y="189000"/>
            <a:ext cx="3529080" cy="2363760"/>
          </a:xfrm>
          <a:prstGeom prst="rect">
            <a:avLst/>
          </a:prstGeom>
          <a:ln w="0">
            <a:noFill/>
          </a:ln>
        </p:spPr>
      </p:pic>
      <p:pic>
        <p:nvPicPr>
          <p:cNvPr id="2274" name="Picture 7" descr="voznesenskiy"/>
          <p:cNvPicPr/>
          <p:nvPr/>
        </p:nvPicPr>
        <p:blipFill>
          <a:blip r:embed="rId4"/>
          <a:stretch/>
        </p:blipFill>
        <p:spPr>
          <a:xfrm>
            <a:off x="6137280" y="2781360"/>
            <a:ext cx="2741760" cy="3787560"/>
          </a:xfrm>
          <a:prstGeom prst="rect">
            <a:avLst/>
          </a:prstGeom>
          <a:ln w="0">
            <a:noFill/>
          </a:ln>
        </p:spPr>
      </p:pic>
      <p:sp>
        <p:nvSpPr>
          <p:cNvPr id="2275" name="WordArt 8"/>
          <p:cNvSpPr txBox="1"/>
          <p:nvPr/>
        </p:nvSpPr>
        <p:spPr>
          <a:xfrm>
            <a:off x="3419640" y="2997360"/>
            <a:ext cx="2519280" cy="19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ознесенски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его жена Зо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огуславс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22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77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" dur="770" fill="hold"/>
                                        <p:tgtEl>
                                          <p:spTgt spid="22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9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" dur="770" fill="hold"/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7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70" fill="hold"/>
                                        <p:tgtEl>
                                          <p:spTgt spid="22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7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2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22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7" name="Picture 4" descr="9785264005480"/>
          <p:cNvPicPr/>
          <p:nvPr/>
        </p:nvPicPr>
        <p:blipFill>
          <a:blip r:embed="rId1"/>
          <a:stretch/>
        </p:blipFill>
        <p:spPr>
          <a:xfrm>
            <a:off x="611280" y="1125360"/>
            <a:ext cx="2347920" cy="3184560"/>
          </a:xfrm>
          <a:prstGeom prst="rect">
            <a:avLst/>
          </a:prstGeom>
          <a:ln w="0">
            <a:noFill/>
          </a:ln>
        </p:spPr>
      </p:pic>
      <p:pic>
        <p:nvPicPr>
          <p:cNvPr id="2278" name="Picture 5" descr="paint2"/>
          <p:cNvPicPr/>
          <p:nvPr/>
        </p:nvPicPr>
        <p:blipFill>
          <a:blip r:embed="rId2"/>
          <a:stretch/>
        </p:blipFill>
        <p:spPr>
          <a:xfrm>
            <a:off x="6156360" y="1268280"/>
            <a:ext cx="2617920" cy="3311640"/>
          </a:xfrm>
          <a:prstGeom prst="rect">
            <a:avLst/>
          </a:prstGeom>
          <a:ln w="0">
            <a:noFill/>
          </a:ln>
        </p:spPr>
      </p:pic>
      <p:pic>
        <p:nvPicPr>
          <p:cNvPr id="2279" name="Picture 7" descr="1002559481"/>
          <p:cNvPicPr/>
          <p:nvPr/>
        </p:nvPicPr>
        <p:blipFill>
          <a:blip r:embed="rId3"/>
          <a:stretch/>
        </p:blipFill>
        <p:spPr>
          <a:xfrm>
            <a:off x="3419640" y="2924280"/>
            <a:ext cx="2539800" cy="3543120"/>
          </a:xfrm>
          <a:prstGeom prst="rect">
            <a:avLst/>
          </a:prstGeom>
          <a:ln w="0">
            <a:noFill/>
          </a:ln>
        </p:spPr>
      </p:pic>
      <p:sp>
        <p:nvSpPr>
          <p:cNvPr id="2280" name="WordArt 8"/>
          <p:cNvSpPr txBox="1"/>
          <p:nvPr/>
        </p:nvSpPr>
        <p:spPr>
          <a:xfrm>
            <a:off x="2916360" y="260280"/>
            <a:ext cx="4032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Первые сборники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  <p:sp>
        <p:nvSpPr>
          <p:cNvPr id="2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" dur="1000" fill="hold"/>
                                        <p:tgtEl>
                                          <p:spTgt spid="2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2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2" name="Picture 4" descr="7197_voznes"/>
          <p:cNvPicPr/>
          <p:nvPr/>
        </p:nvPicPr>
        <p:blipFill>
          <a:blip r:embed="rId1"/>
          <a:stretch/>
        </p:blipFill>
        <p:spPr>
          <a:xfrm>
            <a:off x="250920" y="692280"/>
            <a:ext cx="3470040" cy="5329080"/>
          </a:xfrm>
          <a:prstGeom prst="rect">
            <a:avLst/>
          </a:prstGeom>
          <a:ln w="0">
            <a:noFill/>
          </a:ln>
        </p:spPr>
      </p:pic>
      <p:sp>
        <p:nvSpPr>
          <p:cNvPr id="2283" name="PlaceHolder 1"/>
          <p:cNvSpPr>
            <a:spLocks noGrp="1"/>
          </p:cNvSpPr>
          <p:nvPr>
            <p:ph/>
          </p:nvPr>
        </p:nvSpPr>
        <p:spPr>
          <a:xfrm>
            <a:off x="2987640" y="2268000"/>
            <a:ext cx="5905440" cy="26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ожар в Архитектурном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Пылайте широко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Коровники в амурах,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Райклубы в рококо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Николай Ушаков «Модный поэт»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/>
          </p:nvPr>
        </p:nvSpPr>
        <p:spPr>
          <a:xfrm>
            <a:off x="178920" y="2743200"/>
            <a:ext cx="59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Он сменною модой недельн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Когда-то пленял молодёж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к что ж ты, цветок рукодельный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Сегодня не модно цветёшь?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87" name="Picture 4" descr="ushakov_a00095dc"/>
          <p:cNvPicPr/>
          <p:nvPr/>
        </p:nvPicPr>
        <p:blipFill>
          <a:blip r:embed="rId1"/>
          <a:stretch/>
        </p:blipFill>
        <p:spPr>
          <a:xfrm>
            <a:off x="6156360" y="2492280"/>
            <a:ext cx="2701800" cy="3529080"/>
          </a:xfrm>
          <a:prstGeom prst="rect">
            <a:avLst/>
          </a:prstGeom>
          <a:ln w="0">
            <a:noFill/>
          </a:ln>
        </p:spPr>
      </p:pic>
      <p:sp>
        <p:nvSpPr>
          <p:cNvPr id="228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9" name="Picture 4" descr="229DA8BC1E82537AE38B415E1B6CC6"/>
          <p:cNvPicPr/>
          <p:nvPr/>
        </p:nvPicPr>
        <p:blipFill>
          <a:blip r:embed="rId1"/>
          <a:stretch/>
        </p:blipFill>
        <p:spPr>
          <a:xfrm>
            <a:off x="468360" y="189000"/>
            <a:ext cx="2298600" cy="3816360"/>
          </a:xfrm>
          <a:prstGeom prst="rect">
            <a:avLst/>
          </a:prstGeom>
          <a:ln w="0">
            <a:noFill/>
          </a:ln>
        </p:spPr>
      </p:pic>
      <p:pic>
        <p:nvPicPr>
          <p:cNvPr id="2290" name="Picture 5" descr="andrey_voznesenskiy_foto_mk_18"/>
          <p:cNvPicPr/>
          <p:nvPr/>
        </p:nvPicPr>
        <p:blipFill>
          <a:blip r:embed="rId2"/>
          <a:stretch/>
        </p:blipFill>
        <p:spPr>
          <a:xfrm>
            <a:off x="6372360" y="3284640"/>
            <a:ext cx="2409840" cy="3319200"/>
          </a:xfrm>
          <a:prstGeom prst="rect">
            <a:avLst/>
          </a:prstGeom>
          <a:ln w="0">
            <a:noFill/>
          </a:ln>
        </p:spPr>
      </p:pic>
      <p:pic>
        <p:nvPicPr>
          <p:cNvPr id="2291" name="Picture 6" descr="05f9a605d8d47b169d4aeb245e6"/>
          <p:cNvPicPr/>
          <p:nvPr/>
        </p:nvPicPr>
        <p:blipFill>
          <a:blip r:embed="rId3"/>
          <a:stretch/>
        </p:blipFill>
        <p:spPr>
          <a:xfrm>
            <a:off x="2916360" y="2205000"/>
            <a:ext cx="3262320" cy="3451320"/>
          </a:xfrm>
          <a:prstGeom prst="rect">
            <a:avLst/>
          </a:prstGeom>
          <a:ln w="0">
            <a:noFill/>
          </a:ln>
        </p:spPr>
      </p:pic>
      <p:sp>
        <p:nvSpPr>
          <p:cNvPr id="2292" name="WordArt 7"/>
          <p:cNvSpPr txBox="1"/>
          <p:nvPr/>
        </p:nvSpPr>
        <p:spPr>
          <a:xfrm>
            <a:off x="4716360" y="115920"/>
            <a:ext cx="3868920" cy="191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ндрей Андреевич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гастролирует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/>
          </p:nvPr>
        </p:nvSpPr>
        <p:spPr>
          <a:xfrm>
            <a:off x="179280" y="1844640"/>
            <a:ext cx="4176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Вознесенский получил в </a:t>
            </a:r>
            <a:r>
              <a:rPr b="0" lang="ru-RU" sz="3400" spc="-1" strike="noStrike" u="sng">
                <a:solidFill>
                  <a:srgbClr val="ff7c80"/>
                </a:solidFill>
                <a:uFillTx/>
                <a:latin typeface="Arial"/>
                <a:hlinkClick r:id="rId1"/>
              </a:rPr>
              <a:t>1978 году</a:t>
            </a:r>
            <a:r>
              <a:rPr b="0" lang="ru-RU" sz="3400" spc="-1" strike="noStrike">
                <a:solidFill>
                  <a:srgbClr val="ffffff"/>
                </a:solidFill>
                <a:latin typeface="Arial"/>
              </a:rPr>
              <a:t> Государственную премию СССР.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5" name="Picture 4" descr="1168d"/>
          <p:cNvPicPr/>
          <p:nvPr/>
        </p:nvPicPr>
        <p:blipFill>
          <a:blip r:embed="rId2"/>
          <a:stretch/>
        </p:blipFill>
        <p:spPr>
          <a:xfrm>
            <a:off x="4500720" y="981000"/>
            <a:ext cx="4309920" cy="4967280"/>
          </a:xfrm>
          <a:prstGeom prst="rect">
            <a:avLst/>
          </a:prstGeom>
          <a:ln w="0">
            <a:noFill/>
          </a:ln>
        </p:spPr>
      </p:pic>
      <p:sp>
        <p:nvSpPr>
          <p:cNvPr id="22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9T13:52:32Z</dcterms:created>
  <dc:creator>Вика</dc:creator>
  <dc:description/>
  <dc:language>en-US</dc:language>
  <cp:lastModifiedBy>LEGION</cp:lastModifiedBy>
  <dcterms:modified xsi:type="dcterms:W3CDTF">2015-01-20T13:41:14Z</dcterms:modified>
  <cp:revision>8</cp:revision>
  <dc:subject/>
  <dc:title>Слайд 1</dc:title>
</cp:coreProperties>
</file>