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dt" idx="9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ftr" idx="9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 type="sldNum" idx="9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5709-007C-446D-B7E9-DB44A743D3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0994-AC6B-4938-A96B-83AEE7F060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жба наве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шинская площадь в Моск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6834-A0B9-4856-A804-F8993F296F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вторы популярных эстрадных пес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а стихи Вознес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FFA1-78A7-492A-BDFC-2798FF3EC6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в Переделки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B89F-E15E-4110-9E47-CAF1C67EC2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РФ Д.А.Медведев вручает Вознесенскому Орден «За заслуги перед Отечеством» II степ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D7E3-9E0F-4E5E-BE30-C31FB8392E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чался 1 июня 201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4CA3-4CC3-4118-9583-8F078B5030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Могила Андрея Андрее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67A1-4D8F-40BF-8EA9-010B36A789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ущий поэ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отцом Андре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иколаевиче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естрой Наталь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49A8-4A2D-4492-8F00-FCD2E021AF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957год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осков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рхитекту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нститу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067A-A971-426F-ABD9-A9A784189B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его жена З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гуслав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4470-B152-4C56-B649-B9AB70F06C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99"/>
                </a:solidFill>
                <a:latin typeface="Arial"/>
                <a:ea typeface="Arial"/>
              </a:rPr>
              <a:t>Первые сбор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B394-6B1C-416E-875C-BBFD232A5E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 в Архитектур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лайте широ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вники в амур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клубы в роко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FB20-775B-4F74-8FE3-41225D80AB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Ушаков «Модный поэ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 сменною модой нед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гда-то пленял молодё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к что ж ты, цветок рукодель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годня не модно цветёшь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06CD-7217-4650-89A5-65F28E7268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гастрол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EBF8-EA7E-4B3C-A8E8-FDB88FF142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есенский получил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78 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ую премию ССС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D05A-FEF7-4079-A56A-A62EF4C4DC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37FB-84D7-4344-9A09-C20E199F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84BF4-0FBF-4A48-8FE4-316F34FD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F78C7-9503-486C-A7E9-C28E8E3B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F0E08-D659-4A52-964F-CFA77593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03296-77A7-45C9-8D3B-DC2AC41B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024B3-4EF3-494E-92B6-BAF1019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05D13-048F-4EDC-BE6D-B3F79AF1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5206A-34BE-4FAC-B02B-28EABC96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4BA71-36E2-4FE8-959F-05B1E445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82F0A-4241-401D-BEA5-3F9540B1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A9135-C841-4C3D-9FFA-133EFFBE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B84F7-E12A-4B1D-B393-706E87AA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73BF8-FE9A-4400-BFB2-484736A2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04B4B-78DD-4970-8CFF-B22A9530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CEBD0-9304-4EA8-A663-53AD9977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2C708-09CC-4678-B167-4A258DE4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20A83-36BF-4844-BB22-D350D321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379C2-6E3A-4739-A38E-2D12CADC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60483-BDDC-4DA3-AAFF-4368DD5D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962D9-BE46-4E4C-9CCD-9E493AD7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4CB19-1A3F-4377-B689-2F88A225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47937-EF5E-4028-AD5A-63B5D5C8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FDE0F-4638-4E14-BD83-A3603FEF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624B-6AE9-46CE-8343-AD48593E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427B6-D55B-4FEE-BCC9-6A47EADF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DB228-44D3-4516-A7AD-F8FD7187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86437-598D-4B20-B0B8-D33FD359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D31B7-96B8-4C17-AD56-3CF49498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79F0C-5D08-445F-A4BB-E0BE4D81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C95E9-C6D0-48CC-8A76-8C55BB22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83CF0-6E43-411A-8DE9-F68BBE9C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27AF1-021A-499B-ABDE-C122F5DD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00B4A-6641-4F5C-A40E-46A3CFAC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5E9CB-A5B6-400D-8232-5FB4F341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88C3-7C86-4745-9F8E-CB5FCEB0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BE978-D228-4060-AF35-032D47BE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B5A26-B8C3-465E-9BE8-CF70ACF2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8F298-CB96-442D-8F03-4B8A5721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C7D06-A877-4C9B-922D-10169EB3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C0C58-D859-4A85-988E-D7EEC031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8CC6E-15EB-48FD-8DD6-00C62498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0A0FA-80F7-4B76-A769-FF2D075E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AAF64-98F1-441D-B5FA-591BE659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61C6F-9278-4371-A2CC-1E2E86F4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3A738-A4C0-4CE6-8B02-F6ACD3AF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15C7-73A3-442F-9265-09B764AB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0CC89-5E94-4373-A163-653AA16C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F78C1-A99F-4476-934C-3AFBA843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E840B-3D3C-4E0D-B489-18473A33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4C7AC-5262-4577-B47D-F9131362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6E234-48FB-4894-AFE8-A45B03DB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59371-FCD9-4E16-9E34-76511044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54554-856E-4045-9575-C082E28F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BF5EA-6A93-4F3C-8E3C-C14D667B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776BC-7752-4E07-8492-E298A5D4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D6A75-31CD-4075-8D3A-9D058C9E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BC9D-5163-412E-BFE7-8BCBF075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5C037-0855-461A-8C9A-D62F16C5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5AC35-F014-47D1-9354-207C9B8C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B2283-4DFC-437C-8641-4973B356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C7D4E-2D2D-489F-AA62-6CC75B72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4AA86-8EBF-4AD2-97E8-AC24D6C5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1379B-0CAD-4602-ADAF-A97768A6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149CE-37FA-45DA-A954-31E53407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45DA3-C7C9-4BB2-AEEE-33079A05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0300E-2A0E-494A-BD49-E83B3BA2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331B1-4287-4C8C-9A6C-05F6503B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FDAA-0DBE-446E-A120-DE1A944B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BD55C-2BC3-41D5-ABDD-91102DB3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474D7-A32A-4F0B-8F51-5F8B5D12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683A7-25ED-49B8-8808-28B501CE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9FB3D-9E69-4921-A2D9-43520366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EEC10-CD56-424C-8C86-07A4D083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96ABA9-A8A9-4B2C-9FB1-DCBA96D2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6DAA3-0002-42EA-8E49-6C41213A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7DEB6-69EE-4945-85D5-AA22CE51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BCD38-BF45-461C-86DA-FCE4E976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68ABB-76D8-470F-85FC-36288735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14F2-EF45-4527-A2CD-F3FF9EC0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48F5A-33D5-42F0-8E26-2DEA0D3C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36942-E565-460D-9B33-B7234DBA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7F71B-BB79-4EB5-8859-066A3460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17A4F3-D57F-466B-A67E-E5B444FB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CC32B-3826-4728-A723-467CF2B7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059FC-4E9D-4BF8-B538-3B1AEC3F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7B6B8-D164-4F6A-A634-CF38ED0B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3B3A88-D91C-4CE6-9E3F-29D3F6E1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A5B06-5BA0-4C9D-BF78-4F93C756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E0146-F203-4169-9474-14DED589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D2FF-FF0E-48F1-9770-D4BA7D56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BDB99-274F-47E6-89F5-9F473BCC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1C60CF-F652-495E-AF14-FB912C2D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4FD0A-D6A5-4453-98DA-A4FC3219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338CF0-8172-492A-A390-E7B9E6DA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18B05-304D-4E73-A954-EF27D457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58F890-2411-4001-B401-3170BFBE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4EC90-6951-495E-96C4-29C2F2A7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7D168-AAD1-4E38-A9E1-1B5ECD1B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E9DB5-FA17-4810-8C83-61261469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84D589-697A-4431-AB76-68910E87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FDB3-459E-43B6-8C71-F0DB2CD2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16B8FA-28A0-4427-8B37-2E15B1C8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B2035A-34FF-4BC9-BC6A-051DBEB2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A8F66A-249B-427C-B5F2-CA1615D4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01AA6B-3C26-4394-8344-6517A0C5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84438-FD67-4456-9010-E8B75AE0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332C6-830C-4661-A1A0-9B66C2AA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959AA-706B-4B61-93BC-0D2E3C71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CFCE2F-684D-4F56-8CD9-B0967960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E6FBB-8E3A-4E97-85BA-4D450D28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2CA315-EBAD-4944-83D4-F7BACC8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592A-E21A-4CEC-BD14-C752296D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F896-0905-43F5-AAF7-C24BEE61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14E87A-EDC4-4C2A-9B86-A7619B4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A3D761-A86D-436D-BE97-251E1BC3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D033B0-EA2E-4F45-AD6B-159316A7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147E9-1BDF-43E5-9D76-F71A5B26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F30EE1-6C16-4493-86C0-C56E565B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40AD87-8441-486B-8752-1121E6C2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C5AC9-F3AC-4F05-88CE-364FA407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6F0FB1-98EE-45AA-BB8F-467C1DCC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5056F-BC3C-4733-8399-CAB424E7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1C3B68-9E58-4C77-A1ED-C41C9887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A9B2-0179-4CAF-9B58-698FAD91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95D1FA-E4EF-4718-9AA8-3E9A97A7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E9E45-D728-43A8-B155-51B8517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712B2-1A97-48D5-B826-F2D0E8C2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D876A-B965-4811-99B8-B0AC2A27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AF2F9A-1EF5-47E0-BE99-CDACAE16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DB6722-D78F-4F6A-AE46-006FAE38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C86B14-4C72-4095-A888-D8466395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F4BEC9-EE48-4E74-892A-CCBB3FDE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E62622-40EE-4A0A-B65D-FCF146FA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DA751A-C249-4756-957F-ADC84629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5D6F-4087-4490-A9D6-D81FBA7C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4AF01C-0279-40EF-88C6-2AB40229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21A3B-5C87-415A-B6A1-11B43247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44E1E-5602-4271-8DC6-EA014E32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992BE5-AD34-4431-8EF5-22E772B3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6C8428-9E15-4707-B487-4832EC2C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6BFFD1-4771-4F86-A1CD-B44C2A5F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0340EB-E20F-4D8D-8BEF-5FCB377B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5670AE-A959-44C6-8476-940F3CB3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1A5606-5B88-4896-B3E2-2EB1CE7C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A6211A-4B1B-4795-A71E-741274D0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7FD8-E699-4AB0-BED4-921F7B62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D802A4-F643-4CD5-9309-AF705396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3D677-54BA-4972-96D9-91F70E04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93B484-34D2-4AE0-925D-814BE8EC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6F688-2925-4053-8E99-76579543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CDE02C-2FDA-4239-8147-0E543D63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4460DE-BE51-459B-9590-34B6E51D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A776AA-7F7C-4FFE-8C8C-34A1E7BF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E93F59-69B3-4F32-B946-B4847235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D53B8A-051C-467C-A788-5BD78CBF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337CC-533A-43BC-9330-9DC333EA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23C0-30EC-4670-A181-920AAB02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81EE2-A6EF-40AE-859C-C0D48DBB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EDB1AB-35F9-4386-8739-F40CE11D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69267B-EE24-4237-BFD6-6B267C6B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705E03-84EF-4C28-944D-A3B9E609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C1A913-A487-4771-948C-719111ED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1AC298-98DD-4C3A-A11B-0DCEE49C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030681-18A0-466A-A8D5-04B7E870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6360DB-9F1F-483D-BC6B-B121EC7C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684112-22FD-4F66-A68E-5C4E6243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4977C6-290D-41C0-80EE-7B25AB7E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0ADC-6C22-4D3A-B25A-5A332CE5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A0554C-8635-49A4-82BD-B9C4FB9E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DD014D-B581-4048-95CC-4503BF90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C19CDB-2887-4463-9D1C-BFEA6BDF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519DF1-8E15-4BBC-8254-0F2F61A2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B74316-AF3A-40B0-91F2-7FB5C1EE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96C7FA-24A8-493C-A38F-9846B7EA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63FDC3-8E3F-4CA2-9F0D-7BA0DC75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155FAF-7B13-4CE6-A223-B640997B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829640-EC3B-452D-A0A9-75E74ADC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14624A-3844-4FC5-BD7A-F45B2C77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CF541-905E-4A69-8934-B1088402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D18314-3BF9-4966-BC66-C1E4EAC1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AAF068-A2EE-4DA7-992D-1C5BF13F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62F477-AD15-4FB1-8716-C4E87F58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F8759A-00FF-4713-8536-9D3E38B6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EF8E53-032A-4323-9662-0FD7CF9A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41C5C6-DA5B-4EBC-94A2-306371A1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125850-75F5-4626-BDE7-8FC8EA9D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D15AC4-EFE2-4EE5-BA7E-84EE9B3D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F54D5C-6660-4A6B-B9D5-FC5C9124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2CDA68-6171-48B4-9F55-FC19F40C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4DC9-785A-4DE4-9109-D1B5EBC3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C1C143-1724-47F5-A13F-36A3F1AB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FFDC2E-B415-4366-9D6E-B5B8EB60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A9FFC3-FB93-497F-A615-ACD4078E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B92851-A62C-4EC4-B861-DF631E17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53C9B7-EC53-414D-8848-326374B3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1F7CC4-8263-494D-9322-CCC5EA53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E226B5-3F60-43C9-A252-A3BBFAE1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9491E0-74D5-44DA-9053-F4274FCE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B3CF19-8C6C-4019-B2B4-29637EB9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F59475-B890-4B99-9D00-3609D888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562E3-68EF-4206-8107-8CCF8B0E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C19992-827B-47F4-AE75-D61B4B30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D4AE87-684C-41AC-977D-9631185D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1D8FB8-66A4-41BE-B206-1E860DD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C87E18-5826-4F24-9954-7299F04A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6E60A6-AA48-46ED-A1B3-79C82A38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29598D-492A-4AF0-9346-BBAD4604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0E228C-481E-4EA0-88B4-325D9824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23A737-B1C7-4E67-88A6-ADD139C4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5FFD58-3F30-4FD6-AD8E-6622C3BA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3D1497-91D3-4340-A845-B5520F8A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184B-BAFF-4225-A826-2A984781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682E3A-9437-4858-B1BC-60C3E6A1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D67449-1490-452F-BE08-1449E71B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EFA244-B91F-4BB6-9328-684A289A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0785C2-2660-44CF-B804-9BE6DDF5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0AABBF-DE82-4383-BACC-B3F91D78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16F93C-3A2D-4DFB-A48D-45FBDAA3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6749EC-3C51-4E23-B0CB-1CDF002D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C3B971-C880-4C4C-AB97-E471982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C2C179-3E2D-45AF-AF1E-141A9790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87CA17-36A3-481B-9DA4-846DECBF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52F1-C0AA-402D-A740-1A009799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5A4C8-A590-4053-B091-5DBDF968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268E2F-9305-4320-838F-989495D7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F26540-0BFA-4AC0-9EA4-32CA44B8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9A46E5-15A5-4201-B483-C3CBCFE3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B255F1-3036-4381-8757-31D7FEB8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985BAE-8C81-40B8-AD49-42D2D854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4F7ADC-CE6F-4807-954B-67D07C0B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A08BC3-B17B-4FD0-8E10-AB2D07B3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DF7D96-78C6-4E8B-95E4-A950E638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514881-1029-4465-A931-2936B93C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17AD2D-C0E9-475A-BEB2-F97B3496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5E8BC-CC24-4FB6-9125-5ADF960B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31E75A-93FE-4BED-9B02-49D3661A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B74ED7-2A79-4F00-9D94-103D40A6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D72C5C-7786-4EF5-9EBC-0AB4FB90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4305BA-7ADB-458C-9CBD-388A7603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68A4B3-3CEB-4F55-8E81-10D97C41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691298-4B7F-45AB-8094-CC6496C3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6E35A3-767D-4F7A-A61B-CD6696EB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25179A-CCE9-4BFF-8440-DEC4C8B5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77DA77-0C58-4ED0-ABE0-ADA026E9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FA03E4-C61A-43ED-82EE-4FEB26EF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B41F-4F21-44A7-B932-8F06A1B0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E97BD4-9535-4C81-AA03-F9FFD2DA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6123D3-D8E7-47DA-B9E6-1C49494F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1053FB-DFFD-4888-86DA-04F049A5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7EC88C-3C3B-4F77-A0E8-5E5956DF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B1172C-DB8E-4460-A324-50F0EF19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13C00E-CC19-4A25-AA85-9209F361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707817-0CA3-451C-9646-B667D089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7E851E-1152-4024-877E-6BC09CF0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E1C509-87F9-4D21-8A11-24F92F6F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C6DC59-3159-4627-8030-5FF40678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F5B98-C3A8-47B3-AC51-94FF738E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3F70EA-0CD6-4ACC-9FA1-4E201906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064588-AF2C-44B4-A5A8-D9E6E098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944BCA-5BEE-49AD-A815-AC8BF2A0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695278-6281-427A-80F9-05F7C1D3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3D9687-88F4-450B-837F-4DA02A69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4A0081-7614-429E-AF4D-5CFAB616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F6AB9F-A207-40B5-B0B0-F2EE31B0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7A724E-CDF4-4BF1-BAEC-D3D93C37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7183BC-E24A-420B-8209-83417D54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06B54E-CCD8-4BBF-8D34-D9A797F2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888DC-B9B4-4A95-85BC-A999442D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D47D74-15E6-4D5B-BE6B-A97B204A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3DF9B2-5CB1-4DCA-87A2-F1725BA6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7AF4DB-F544-475F-A2EA-24D2EE6B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7B5CE4-EAEC-4B4F-A553-1724CC12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4CA3B5-8297-44B8-84E2-AA6C166D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340809-2651-4A1B-A94C-32D2B734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0FC777-B886-408D-B472-357A2900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2F572C-66CE-4386-8E40-CA40683E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41C364-18CC-4105-ACF0-D39390AF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9C33AA-36AE-437B-9B8B-9F374BCA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4A1D9-7800-468B-A4FE-D3653DB3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70F446-B451-404E-A361-54F512D9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3793B2-77EE-4F16-AFD4-B5C5E7D5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0CC024-1105-4F6B-B668-2B03FF45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CBC130-50E3-4190-A91E-68C8042E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54CA6B-D35F-4994-99A9-7005746D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C8494F-D0EF-4082-BD1A-DA354D83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0E10BA-3414-49B9-9F66-EE389326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CD68DF-A0C2-4605-B371-08B41552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3C9484-B69C-47DC-80BD-240EB3C5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D5FAB1-3BE5-4CB6-9173-53190517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78A82-494F-417D-8310-BC061E59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BFA19B-1962-4B2B-BC7D-D16CE092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B1851A-ABCE-44E5-BF51-A6A2EB56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DE3CCE-4570-410C-B956-410AEC2E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F408BB-88C3-44BA-90F6-099FB085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956D9D-0819-4A35-B12E-1D4B0B24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2940C2-59B7-474B-8B22-508D1E3C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00D5D7-6D53-4BB8-BB9F-EA007852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CBD66E-87DB-4A68-BC5E-44712CA8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09C0C4-F64E-416D-A960-E40B5EDB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D9A00A-4805-43F6-A78B-8344653D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A8C3E-0581-4ED8-A850-FE8B37EE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E195D9-9154-4B2B-828C-68D57B21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67E5B5-FE24-4761-B41B-1D5638D9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5687AE-07DD-4837-9FC4-FB30D6E9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11BD-2848-4090-9612-07B4FA28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DF8F6-DA73-4583-8DC3-44A26817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3F97-DE9C-4F24-8513-104D99C9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41B40-22B8-4491-9FC9-8C588C3B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85204-B50B-426C-9165-A72EBBD1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4893B-8946-494A-860D-65699823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73C86-04BC-4581-8C79-03167043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8213A-64B6-459B-97E8-E0D4B45B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0304C-FF3A-4CCD-8DAA-8DF53E3A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3766-6100-4A16-A32C-7820CCD3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EEC2-4992-407A-9B87-BD1C4CFB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7663-0F48-42DC-B500-7456BB97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13369-C25B-48C5-8E17-9FE4D83D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6CE1-1B28-4A0B-BC72-BAB1C066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58F68-413D-4A21-A84B-9BF9CA85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67653-4A38-49D6-AF0B-A96039D2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5D56C-014E-492F-A823-08568501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0932E-E490-4B44-A63E-CBA2A307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A944C-AE11-4985-8BC5-EB072E2A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E298A-A468-414F-A106-4830F96B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18E96-7B55-4719-8518-623588AE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97C247-09D0-467A-9E3D-A6F8C51A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7428D-F486-47D2-926C-18D3C712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4328D-B0EB-4631-9005-8A5775C0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FF02-2817-4C83-AC5F-08AC6E4F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08518-542E-4BC6-A766-4AABFFD5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E4AE3-BBEE-47EF-8647-B8D1BA62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9F178-2A8F-4A3E-AEDF-B4F958B8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84EE3-402C-47A4-82CB-E28055F1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04BE6-1887-48EB-83CF-E64C6668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7102C-D678-491C-ACB2-19F3E791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90D92-50AF-4C65-BC53-AC65512B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92ED6-475F-4590-AEE1-F35ECB68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1658A-19C5-4542-A278-AAB09A8D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63AFA-494E-4100-9653-62694DBC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F244-A547-4A77-83E7-62FCDDE5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F65B3-35CB-442B-95B2-6FD366E0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51733-08E3-4918-A176-D7C0141A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20D95-A5E5-47A5-A1D0-09FAA3DA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FFDBF-872C-4CA9-9F59-F014F6BA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9FFC8-787F-45CA-B662-74578E88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2DF26-5DAB-4AE4-AB9C-4BE34139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48E17-8B4A-4EB4-8340-B1218523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1C3B6-1E37-449E-9CD8-57351BA4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46408-CA5B-4C8D-9370-74B69F9C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394D9-674F-4D71-97DE-C23EF5CF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7A02-B905-4EFF-87FB-64B22733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013A1-D527-4058-BB8F-2645ED3A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D0E3E-C3F0-4ECA-A4CE-8005A563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92B11-8621-4404-9785-BC754A95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D7E33-83FD-4CB6-9E46-FEA2F516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E4CF5-D818-48FD-AB57-51170398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869BD8-3498-47D2-9D52-5504148B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5B4ACA-33CE-4825-BCD1-02CF60CC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D51DB3-ED12-4CF6-B89A-098609AA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948A0F-9711-4495-B0C2-80A9449F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F982E2-4806-4E20-9AA1-BA69D0ED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776C-0400-4BDC-A32C-4B6DE336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EA7B04-BADC-4D3C-B657-AF4C06BB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21BBDD-3F65-41FC-B29A-BE0D4CE5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B4A636-39E3-46C6-92C1-4241B530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B98E1A-6F1F-4AA5-AD10-D469DF01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58010-A3A8-442E-8E55-CCC76853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BF650D-C243-444A-8B2C-03DF7CA2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906BA0-6142-4D33-86DC-A638C1F5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2C3F7-03FF-4F92-A240-6619C635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FE64F-019C-48EB-AD22-AB1791BE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93E79-A9EA-4D24-89B8-50BAF706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56E0-FFB8-432D-A6F8-1AF9CA9B91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1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1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9151-A742-4530-8607-E51BC211FD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F722-E26B-4B7C-A089-9FC58F432C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0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4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A8E6-87E2-44D9-82F4-C5D28E13C8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1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A3EB-5852-4A29-9263-E471557E9DA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7661-C93F-4EDB-AD48-A670A19B8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1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2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549F-2C5B-49E9-9EBF-1B98991856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1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0CA2-4B05-4D5C-9532-86D4A267B92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9461-9ACF-40FA-84FA-7FE409A4B6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0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977D-DB57-4F3A-84A7-B629F2E048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27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CE41-63A8-4755-AA56-8A622071033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AA0D-E069-437D-AB7D-967455361B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8826-DEEB-42F9-A2FE-03CDCFB3BC0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6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A526-4E4D-4C40-8F2A-8B2945958B4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42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2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430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3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3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35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36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8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39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42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4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7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48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51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3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54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6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57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9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60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2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63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4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5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66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8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69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72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4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475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7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478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0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481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2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3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48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6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87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9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90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2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9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5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96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7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8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00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01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04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07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10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13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16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19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22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4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25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28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3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534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535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54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B5E7-9DBD-4B21-8A52-A0DEC5B9A4D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600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601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3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6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607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 type="dt" idx="6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 type="ftr" idx="6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 type="sldNum" idx="6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6ABB-2113-427F-9F11-FF2963C526C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5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56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9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E94B-B65C-49EA-B826-759BF2FEDF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DCEF-4B1B-4D40-99ED-3736FD112E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6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6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6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7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7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8493-BFB0-4103-BEDE-C89814A9C4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0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811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7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8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sldNum" idx="8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AB44-D63E-4D1C-A15A-2F260C1179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5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5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8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8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0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0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dt" idx="8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 type="ftr" idx="8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09E0-F0F1-430B-832E-CE21383773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6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FF99-95EB-4136-A558-9323C8A0FB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0F79-3C2D-44C7-854A-3EE1D923277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1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2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3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 type="dt" idx="8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5542-C928-4210-BFA4-B8CCD35BD73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1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6ECF-4A91-4A20-BA2A-C39FF43DF2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C910-167A-4F5F-B617-4DDE01F454E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260E-820D-49B0-8E6D-DE0849D417C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5784-1F42-4B22-8885-7ED2D3DD8EB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53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6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5C80-E792-4E71-98B4-43631C1DC70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39E2-A0B4-4A74-96A6-6BD3ED9D76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13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D0A1-2E02-41ED-9F46-B27BC9E4DC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Picture 10" descr="paint5"/>
          <p:cNvPicPr/>
          <p:nvPr/>
        </p:nvPicPr>
        <p:blipFill>
          <a:blip r:embed="rId1"/>
          <a:stretch/>
        </p:blipFill>
        <p:spPr>
          <a:xfrm>
            <a:off x="395280" y="549360"/>
            <a:ext cx="4284720" cy="5759280"/>
          </a:xfrm>
          <a:prstGeom prst="rect">
            <a:avLst/>
          </a:prstGeom>
          <a:ln w="0">
            <a:noFill/>
          </a:ln>
        </p:spPr>
      </p:pic>
      <p:sp>
        <p:nvSpPr>
          <p:cNvPr id="2262" name="WordArt 11"/>
          <p:cNvSpPr txBox="1"/>
          <p:nvPr/>
        </p:nvSpPr>
        <p:spPr>
          <a:xfrm>
            <a:off x="4859280" y="1557360"/>
            <a:ext cx="39988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несенск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3" name="WordArt 12"/>
          <p:cNvSpPr txBox="1"/>
          <p:nvPr/>
        </p:nvSpPr>
        <p:spPr>
          <a:xfrm>
            <a:off x="5867280" y="4869000"/>
            <a:ext cx="2210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33-20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«Дружба навеки»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ишинская площадь в Москв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98" name="Picture 4" descr="unnamed"/>
          <p:cNvPicPr/>
          <p:nvPr/>
        </p:nvPicPr>
        <p:blipFill>
          <a:blip r:embed="rId1"/>
          <a:stretch/>
        </p:blipFill>
        <p:spPr>
          <a:xfrm>
            <a:off x="5651640" y="1916280"/>
            <a:ext cx="2881080" cy="396072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5" descr="4e527de3bb212"/>
          <p:cNvPicPr/>
          <p:nvPr/>
        </p:nvPicPr>
        <p:blipFill>
          <a:blip r:embed="rId2"/>
          <a:stretch/>
        </p:blipFill>
        <p:spPr>
          <a:xfrm>
            <a:off x="1476360" y="184464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2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1" name="Picture 7" descr="633220"/>
          <p:cNvPicPr/>
          <p:nvPr/>
        </p:nvPicPr>
        <p:blipFill>
          <a:blip r:embed="rId1"/>
          <a:stretch/>
        </p:blipFill>
        <p:spPr>
          <a:xfrm>
            <a:off x="6588000" y="333360"/>
            <a:ext cx="2411640" cy="241128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8" descr="23ce7d125755d0044b4fb9b8d0f73d28"/>
          <p:cNvPicPr/>
          <p:nvPr/>
        </p:nvPicPr>
        <p:blipFill>
          <a:blip r:embed="rId2"/>
          <a:stretch/>
        </p:blipFill>
        <p:spPr>
          <a:xfrm>
            <a:off x="3635280" y="3357720"/>
            <a:ext cx="2363760" cy="335736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4" descr="yap5"/>
          <p:cNvPicPr/>
          <p:nvPr/>
        </p:nvPicPr>
        <p:blipFill>
          <a:blip r:embed="rId3"/>
          <a:stretch/>
        </p:blipFill>
        <p:spPr>
          <a:xfrm>
            <a:off x="395280" y="2060640"/>
            <a:ext cx="2448000" cy="2442960"/>
          </a:xfrm>
          <a:prstGeom prst="rect">
            <a:avLst/>
          </a:prstGeom>
          <a:ln w="0">
            <a:noFill/>
          </a:ln>
        </p:spPr>
      </p:pic>
      <p:sp>
        <p:nvSpPr>
          <p:cNvPr id="2304" name="WordArt 5"/>
          <p:cNvSpPr txBox="1"/>
          <p:nvPr/>
        </p:nvSpPr>
        <p:spPr>
          <a:xfrm>
            <a:off x="1116000" y="33336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ы популярных эстрадных пес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тихи Вознесенск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5" name="WordArt 9"/>
          <p:cNvSpPr txBox="1"/>
          <p:nvPr/>
        </p:nvSpPr>
        <p:spPr>
          <a:xfrm>
            <a:off x="468360" y="5013360"/>
            <a:ext cx="244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.Пугачёва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иллион алых роз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6" name="WordArt 10"/>
          <p:cNvSpPr txBox="1"/>
          <p:nvPr/>
        </p:nvSpPr>
        <p:spPr>
          <a:xfrm>
            <a:off x="6335640" y="321300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.Осин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лачет дев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автомат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7" name="AutoShape 13"/>
          <p:cNvSpPr/>
          <p:nvPr/>
        </p:nvSpPr>
        <p:spPr>
          <a:xfrm>
            <a:off x="1403280" y="4508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AutoShape 14"/>
          <p:cNvSpPr/>
          <p:nvPr/>
        </p:nvSpPr>
        <p:spPr>
          <a:xfrm>
            <a:off x="7524720" y="278136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WordArt 15"/>
          <p:cNvSpPr txBox="1"/>
          <p:nvPr/>
        </p:nvSpPr>
        <p:spPr>
          <a:xfrm>
            <a:off x="3708360" y="1557360"/>
            <a:ext cx="21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Гнатюк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Танец 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рабан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10" name="AutoShape 16"/>
          <p:cNvSpPr/>
          <p:nvPr/>
        </p:nvSpPr>
        <p:spPr>
          <a:xfrm>
            <a:off x="4572000" y="263700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2" name="Picture 4" descr="79706224_voznes_kedr_pastern_royaljpg"/>
          <p:cNvPicPr/>
          <p:nvPr/>
        </p:nvPicPr>
        <p:blipFill>
          <a:blip r:embed="rId1"/>
          <a:stretch/>
        </p:blipFill>
        <p:spPr>
          <a:xfrm>
            <a:off x="5292720" y="1268280"/>
            <a:ext cx="3490920" cy="258948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5" descr="3870"/>
          <p:cNvPicPr/>
          <p:nvPr/>
        </p:nvPicPr>
        <p:blipFill>
          <a:blip r:embed="rId2"/>
          <a:stretch/>
        </p:blipFill>
        <p:spPr>
          <a:xfrm>
            <a:off x="3203640" y="3878280"/>
            <a:ext cx="3313080" cy="290988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6" descr="news-kedrov_200906050156412"/>
          <p:cNvPicPr/>
          <p:nvPr/>
        </p:nvPicPr>
        <p:blipFill>
          <a:blip r:embed="rId3"/>
          <a:stretch/>
        </p:blipFill>
        <p:spPr>
          <a:xfrm>
            <a:off x="468360" y="134136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Жизнь в Переделкин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зидент РФ Д.А.Медведев вручает Вознесенскому Орден «За заслуги перед Отечеством» II степени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318" name="Picture 4" descr="poet0106"/>
          <p:cNvPicPr/>
          <p:nvPr/>
        </p:nvPicPr>
        <p:blipFill>
          <a:blip r:embed="rId1"/>
          <a:stretch/>
        </p:blipFill>
        <p:spPr>
          <a:xfrm>
            <a:off x="1979640" y="234936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2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нчался 1 июня 2010 год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1" name="Picture 4" descr="1275473529502283"/>
          <p:cNvPicPr/>
          <p:nvPr/>
        </p:nvPicPr>
        <p:blipFill>
          <a:blip r:embed="rId1"/>
          <a:stretch/>
        </p:blipFill>
        <p:spPr>
          <a:xfrm>
            <a:off x="1692360" y="2133720"/>
            <a:ext cx="5832360" cy="3882960"/>
          </a:xfrm>
          <a:prstGeom prst="rect">
            <a:avLst/>
          </a:prstGeom>
          <a:ln w="0">
            <a:noFill/>
          </a:ln>
        </p:spPr>
      </p:pic>
      <p:sp>
        <p:nvSpPr>
          <p:cNvPr id="23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Arial"/>
              </a:rPr>
              <a:t>Могила Андрея Андреевича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4" name="Picture 4" descr="voznesenskiy-andrei3"/>
          <p:cNvPicPr/>
          <p:nvPr/>
        </p:nvPicPr>
        <p:blipFill>
          <a:blip r:embed="rId1"/>
          <a:stretch/>
        </p:blipFill>
        <p:spPr>
          <a:xfrm>
            <a:off x="4572000" y="2349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5" descr="43116_64295_f"/>
          <p:cNvPicPr/>
          <p:nvPr/>
        </p:nvPicPr>
        <p:blipFill>
          <a:blip r:embed="rId2"/>
          <a:stretch/>
        </p:blipFill>
        <p:spPr>
          <a:xfrm>
            <a:off x="755640" y="177336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2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4" descr="Voznesenskii2"/>
          <p:cNvPicPr/>
          <p:nvPr/>
        </p:nvPicPr>
        <p:blipFill>
          <a:blip r:embed="rId1"/>
          <a:stretch/>
        </p:blipFill>
        <p:spPr>
          <a:xfrm>
            <a:off x="2124000" y="189000"/>
            <a:ext cx="4937040" cy="6408720"/>
          </a:xfrm>
          <a:prstGeom prst="rect">
            <a:avLst/>
          </a:prstGeom>
          <a:ln w="0">
            <a:noFill/>
          </a:ln>
        </p:spPr>
      </p:pic>
      <p:sp>
        <p:nvSpPr>
          <p:cNvPr id="2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Picture 4" descr="59897034_Voznesenskiy_"/>
          <p:cNvPicPr/>
          <p:nvPr/>
        </p:nvPicPr>
        <p:blipFill>
          <a:blip r:embed="rId1"/>
          <a:stretch/>
        </p:blipFill>
        <p:spPr>
          <a:xfrm>
            <a:off x="2195640" y="189000"/>
            <a:ext cx="5030640" cy="6524640"/>
          </a:xfrm>
          <a:prstGeom prst="rect">
            <a:avLst/>
          </a:prstGeom>
          <a:ln w="0">
            <a:noFill/>
          </a:ln>
        </p:spPr>
      </p:pic>
      <p:sp>
        <p:nvSpPr>
          <p:cNvPr id="2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4" descr="35-50-1b"/>
          <p:cNvPicPr/>
          <p:nvPr/>
        </p:nvPicPr>
        <p:blipFill>
          <a:blip r:embed="rId1"/>
          <a:stretch/>
        </p:blipFill>
        <p:spPr>
          <a:xfrm>
            <a:off x="1258920" y="260280"/>
            <a:ext cx="6912000" cy="6272280"/>
          </a:xfrm>
          <a:prstGeom prst="rect">
            <a:avLst/>
          </a:prstGeom>
          <a:ln w="0">
            <a:noFill/>
          </a:ln>
        </p:spPr>
      </p:pic>
      <p:sp>
        <p:nvSpPr>
          <p:cNvPr id="2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3" name="Picture 4" descr="336161768"/>
          <p:cNvPicPr/>
          <p:nvPr/>
        </p:nvPicPr>
        <p:blipFill>
          <a:blip r:embed="rId1"/>
          <a:stretch/>
        </p:blipFill>
        <p:spPr>
          <a:xfrm>
            <a:off x="2190600" y="81000"/>
            <a:ext cx="4762800" cy="6696000"/>
          </a:xfrm>
          <a:prstGeom prst="rect">
            <a:avLst/>
          </a:prstGeom>
          <a:ln w="0">
            <a:noFill/>
          </a:ln>
        </p:spPr>
      </p:pic>
      <p:sp>
        <p:nvSpPr>
          <p:cNvPr id="2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5" name="Picture 5" descr="a-voz"/>
          <p:cNvPicPr/>
          <p:nvPr/>
        </p:nvPicPr>
        <p:blipFill>
          <a:blip r:embed="rId1"/>
          <a:stretch/>
        </p:blipFill>
        <p:spPr>
          <a:xfrm>
            <a:off x="395280" y="260280"/>
            <a:ext cx="4668840" cy="6308640"/>
          </a:xfrm>
          <a:prstGeom prst="rect">
            <a:avLst/>
          </a:prstGeom>
          <a:ln w="0">
            <a:noFill/>
          </a:ln>
        </p:spPr>
      </p:pic>
      <p:sp>
        <p:nvSpPr>
          <p:cNvPr id="2266" name="WordArt 6"/>
          <p:cNvSpPr txBox="1"/>
          <p:nvPr/>
        </p:nvSpPr>
        <p:spPr>
          <a:xfrm>
            <a:off x="5219640" y="1916280"/>
            <a:ext cx="3745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ущий 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Вознесен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отцом Андрее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колаевичем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строй Наталь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8" name="Picture 4" descr="001"/>
          <p:cNvPicPr/>
          <p:nvPr/>
        </p:nvPicPr>
        <p:blipFill>
          <a:blip r:embed="rId1"/>
          <a:stretch/>
        </p:blipFill>
        <p:spPr>
          <a:xfrm>
            <a:off x="4721400" y="333360"/>
            <a:ext cx="4152600" cy="6191280"/>
          </a:xfrm>
          <a:prstGeom prst="rect">
            <a:avLst/>
          </a:prstGeom>
          <a:ln w="0">
            <a:noFill/>
          </a:ln>
        </p:spPr>
      </p:pic>
      <p:sp>
        <p:nvSpPr>
          <p:cNvPr id="2269" name="WordArt 5"/>
          <p:cNvSpPr txBox="1"/>
          <p:nvPr/>
        </p:nvSpPr>
        <p:spPr>
          <a:xfrm>
            <a:off x="468360" y="1557360"/>
            <a:ext cx="41749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57год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нч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сковск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хитектур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ститу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1" name="Picture 4" descr="1287698477724448"/>
          <p:cNvPicPr/>
          <p:nvPr/>
        </p:nvPicPr>
        <p:blipFill>
          <a:blip r:embed="rId1"/>
          <a:stretch/>
        </p:blipFill>
        <p:spPr>
          <a:xfrm>
            <a:off x="611280" y="189000"/>
            <a:ext cx="3529080" cy="241776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5" descr="1077569"/>
          <p:cNvPicPr/>
          <p:nvPr/>
        </p:nvPicPr>
        <p:blipFill>
          <a:blip r:embed="rId2"/>
          <a:stretch/>
        </p:blipFill>
        <p:spPr>
          <a:xfrm>
            <a:off x="395280" y="2781360"/>
            <a:ext cx="2803680" cy="3736800"/>
          </a:xfrm>
          <a:prstGeom prst="rect">
            <a:avLst/>
          </a:prstGeom>
          <a:ln w="0">
            <a:noFill/>
          </a:ln>
        </p:spPr>
      </p:pic>
      <p:pic>
        <p:nvPicPr>
          <p:cNvPr id="2273" name="Picture 6" descr="5b8015e7"/>
          <p:cNvPicPr/>
          <p:nvPr/>
        </p:nvPicPr>
        <p:blipFill>
          <a:blip r:embed="rId3"/>
          <a:stretch/>
        </p:blipFill>
        <p:spPr>
          <a:xfrm>
            <a:off x="5076720" y="189000"/>
            <a:ext cx="3529080" cy="2363760"/>
          </a:xfrm>
          <a:prstGeom prst="rect">
            <a:avLst/>
          </a:prstGeom>
          <a:ln w="0">
            <a:noFill/>
          </a:ln>
        </p:spPr>
      </p:pic>
      <p:pic>
        <p:nvPicPr>
          <p:cNvPr id="2274" name="Picture 7" descr="voznesenskiy"/>
          <p:cNvPicPr/>
          <p:nvPr/>
        </p:nvPicPr>
        <p:blipFill>
          <a:blip r:embed="rId4"/>
          <a:stretch/>
        </p:blipFill>
        <p:spPr>
          <a:xfrm>
            <a:off x="6137280" y="2781360"/>
            <a:ext cx="2741760" cy="3787560"/>
          </a:xfrm>
          <a:prstGeom prst="rect">
            <a:avLst/>
          </a:prstGeom>
          <a:ln w="0">
            <a:noFill/>
          </a:ln>
        </p:spPr>
      </p:pic>
      <p:sp>
        <p:nvSpPr>
          <p:cNvPr id="2275" name="WordArt 8"/>
          <p:cNvSpPr txBox="1"/>
          <p:nvPr/>
        </p:nvSpPr>
        <p:spPr>
          <a:xfrm>
            <a:off x="3419640" y="2997360"/>
            <a:ext cx="25192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несен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его жена Зо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гуслав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2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7" name="Picture 4" descr="9785264005480"/>
          <p:cNvPicPr/>
          <p:nvPr/>
        </p:nvPicPr>
        <p:blipFill>
          <a:blip r:embed="rId1"/>
          <a:stretch/>
        </p:blipFill>
        <p:spPr>
          <a:xfrm>
            <a:off x="611280" y="1125360"/>
            <a:ext cx="2347920" cy="318456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5" descr="paint2"/>
          <p:cNvPicPr/>
          <p:nvPr/>
        </p:nvPicPr>
        <p:blipFill>
          <a:blip r:embed="rId2"/>
          <a:stretch/>
        </p:blipFill>
        <p:spPr>
          <a:xfrm>
            <a:off x="6156360" y="1268280"/>
            <a:ext cx="2617920" cy="331164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7" descr="1002559481"/>
          <p:cNvPicPr/>
          <p:nvPr/>
        </p:nvPicPr>
        <p:blipFill>
          <a:blip r:embed="rId3"/>
          <a:stretch/>
        </p:blipFill>
        <p:spPr>
          <a:xfrm>
            <a:off x="3419640" y="2924280"/>
            <a:ext cx="2539800" cy="3543120"/>
          </a:xfrm>
          <a:prstGeom prst="rect">
            <a:avLst/>
          </a:prstGeom>
          <a:ln w="0">
            <a:noFill/>
          </a:ln>
        </p:spPr>
      </p:pic>
      <p:sp>
        <p:nvSpPr>
          <p:cNvPr id="2280" name="WordArt 8"/>
          <p:cNvSpPr txBox="1"/>
          <p:nvPr/>
        </p:nvSpPr>
        <p:spPr>
          <a:xfrm>
            <a:off x="2916360" y="260280"/>
            <a:ext cx="40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Первые сборн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2" name="Picture 4" descr="7197_voznes"/>
          <p:cNvPicPr/>
          <p:nvPr/>
        </p:nvPicPr>
        <p:blipFill>
          <a:blip r:embed="rId1"/>
          <a:stretch/>
        </p:blipFill>
        <p:spPr>
          <a:xfrm>
            <a:off x="250920" y="692280"/>
            <a:ext cx="3470040" cy="5329080"/>
          </a:xfrm>
          <a:prstGeom prst="rect">
            <a:avLst/>
          </a:prstGeom>
          <a:ln w="0">
            <a:noFill/>
          </a:ln>
        </p:spPr>
      </p:pic>
      <p:sp>
        <p:nvSpPr>
          <p:cNvPr id="2283" name="PlaceHolder 1"/>
          <p:cNvSpPr>
            <a:spLocks noGrp="1"/>
          </p:cNvSpPr>
          <p:nvPr>
            <p:ph/>
          </p:nvPr>
        </p:nvSpPr>
        <p:spPr>
          <a:xfrm>
            <a:off x="2987640" y="2268000"/>
            <a:ext cx="5905440" cy="26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жар в Архитектурном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ылайте широк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ровники в амурах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Райклубы в рокок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иколай Ушаков «Модный поэт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178920" y="274320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н сменною модой недель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огда-то пленял молодёж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к что ж ты, цветок рукодель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егодня не модно цветёшь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7" name="Picture 4" descr="ushakov_a00095dc"/>
          <p:cNvPicPr/>
          <p:nvPr/>
        </p:nvPicPr>
        <p:blipFill>
          <a:blip r:embed="rId1"/>
          <a:stretch/>
        </p:blipFill>
        <p:spPr>
          <a:xfrm>
            <a:off x="6156360" y="2492280"/>
            <a:ext cx="2701800" cy="3529080"/>
          </a:xfrm>
          <a:prstGeom prst="rect">
            <a:avLst/>
          </a:prstGeom>
          <a:ln w="0">
            <a:noFill/>
          </a:ln>
        </p:spPr>
      </p:pic>
      <p:sp>
        <p:nvSpPr>
          <p:cNvPr id="228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9" name="Picture 4" descr="229DA8BC1E82537AE38B415E1B6CC6"/>
          <p:cNvPicPr/>
          <p:nvPr/>
        </p:nvPicPr>
        <p:blipFill>
          <a:blip r:embed="rId1"/>
          <a:stretch/>
        </p:blipFill>
        <p:spPr>
          <a:xfrm>
            <a:off x="468360" y="189000"/>
            <a:ext cx="2298600" cy="381636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5" descr="andrey_voznesenskiy_foto_mk_18"/>
          <p:cNvPicPr/>
          <p:nvPr/>
        </p:nvPicPr>
        <p:blipFill>
          <a:blip r:embed="rId2"/>
          <a:stretch/>
        </p:blipFill>
        <p:spPr>
          <a:xfrm>
            <a:off x="6372360" y="3284640"/>
            <a:ext cx="2409840" cy="3319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6" descr="05f9a605d8d47b169d4aeb245e6"/>
          <p:cNvPicPr/>
          <p:nvPr/>
        </p:nvPicPr>
        <p:blipFill>
          <a:blip r:embed="rId3"/>
          <a:stretch/>
        </p:blipFill>
        <p:spPr>
          <a:xfrm>
            <a:off x="2916360" y="2205000"/>
            <a:ext cx="3262320" cy="3451320"/>
          </a:xfrm>
          <a:prstGeom prst="rect">
            <a:avLst/>
          </a:prstGeom>
          <a:ln w="0">
            <a:noFill/>
          </a:ln>
        </p:spPr>
      </p:pic>
      <p:sp>
        <p:nvSpPr>
          <p:cNvPr id="2292" name="WordArt 7"/>
          <p:cNvSpPr txBox="1"/>
          <p:nvPr/>
        </p:nvSpPr>
        <p:spPr>
          <a:xfrm>
            <a:off x="4716360" y="115920"/>
            <a:ext cx="386892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стролирует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417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ознесенский получил в </a:t>
            </a:r>
            <a:r>
              <a:rPr b="0" lang="ru-RU" sz="3400" spc="-1" strike="noStrike" u="sng">
                <a:solidFill>
                  <a:srgbClr val="ff7c80"/>
                </a:solidFill>
                <a:uFillTx/>
                <a:latin typeface="Arial"/>
                <a:hlinkClick r:id="rId1"/>
              </a:rPr>
              <a:t>1978 году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Государственную премию СССР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5" name="Picture 4" descr="1168d"/>
          <p:cNvPicPr/>
          <p:nvPr/>
        </p:nvPicPr>
        <p:blipFill>
          <a:blip r:embed="rId2"/>
          <a:stretch/>
        </p:blipFill>
        <p:spPr>
          <a:xfrm>
            <a:off x="4500720" y="981000"/>
            <a:ext cx="4309920" cy="4967280"/>
          </a:xfrm>
          <a:prstGeom prst="rect">
            <a:avLst/>
          </a:prstGeom>
          <a:ln w="0">
            <a:noFill/>
          </a:ln>
        </p:spPr>
      </p:pic>
      <p:sp>
        <p:nvSpPr>
          <p:cNvPr id="2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3:52:32Z</dcterms:created>
  <dc:creator>Вика</dc:creator>
  <dc:description/>
  <dc:language>en-US</dc:language>
  <cp:lastModifiedBy>LEGION</cp:lastModifiedBy>
  <dcterms:modified xsi:type="dcterms:W3CDTF">2015-01-20T13:41:14Z</dcterms:modified>
  <cp:revision>8</cp:revision>
  <dc:subject/>
  <dc:title>Слайд 1</dc:title>
</cp:coreProperties>
</file>