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AC8CF-1FC9-4CEC-8C83-FF0C0EE5922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-былина «Садко» Римского- Корсак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цены из оп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ующие герои и персонажи оп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79C7C-A52E-4696-89D0-7DC9423843C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е геро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F1D0F-9E41-4BE2-9398-6073255E168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дко путешествен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4AE7C-7C0C-40C7-949F-D3614F806FC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рские приключения и дальние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F70AC-3131-41E9-800A-C36C69ABEF7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дне морском, во владениях  морского цар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EC8AC-A5C9-41AC-A22E-2892C7D6548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Загадочная и обворожительная Волх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54619-A1F0-4543-8312-63E99F93574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ла искус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одецкие и сердечные, грустные и веселые песни Садко покорили силы природы, подводное царство, принесли славу великому Новгор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аревна Волхова, дочь морского царя, очарована музыкой Садко. Она пробудила в царевне человеческую душу, сердце, которое любит и страда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C4DC3-1908-4ED4-AB98-602648AA23A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цены из оперы «Садк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E5BEB-AD62-448A-A2A1-6E9D792119B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цены из оперы «Садк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615E9-A2A0-4EA7-A8C9-A9CD7A24886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удо оперного жан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9F7F1-CF71-4752-B129-0919053DF89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ла искус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пере «Садко», как и в любой сказке, много чудес. Но самое главное чудо сотворило искусство , когда превратило фантастическое существо, бездушную красавицу Волхову, в чудесного доброго человека, которая горячо любит и готова отдать свою жизнь во имя счастья людей. Она спасла Садко, а сама осталась на земле и превратилась в реку Волхо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ECF99-C3B7-43A5-8A40-72A47390336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ы «Садк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18FC2-3BB4-4268-9C7D-34270EA58FE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ера «Садко» - шедевр русской классической музы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пере-былине , Садко, предстает перед нами, как  русский Орфей, который своим искусством покоряет природу, покоряет сказочных существ и даже  волшебница Волхова начинает чувствовать и переживать, как настоящих челов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AF282-6452-40BE-8DAD-6F9256908CF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лай Андреевич Римский-Корсаков   (1844 – 190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-былина «Садко» -  одно из первых значительных произведений композитора. Сначала Римский-Корсаков сочинил симфоническую картину «Садко». Позже он ее использовал для создания оперы-были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9E23F-4F26-4CF8-ABD1-FF5F2A00BF1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мпозитор - сказочни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н написал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15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опер и большинство из них на сказочные сюже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основу оперы «Садко» композитор положил северорусскую новгородскую былину про бесстрашного мореплавателя и талантливого музыканта Садко, про волшебную силу его искус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D6567-20AC-4365-81FA-A60917F621B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ва мира- реальный и сказочный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ва музыкальных лейтмотива в опер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альны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  <a:ea typeface="Arial"/>
              </a:rPr>
              <a:t>новгородский люд, жена Садко- Любава Буслаевна, Садко, Гость Варяжский, гость Индийский, гость Веденецкий(из Венеции)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казочны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Царевна Волхова, морские царевны-лебеди, золотые рыбки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-й лейтмоти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ор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-й лейтмоти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овгоро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103DE-1A7A-4E5B-A18B-BD0742E4011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 скалы грозные дробятся с ревом вол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C82FA-72F8-473F-B8EA-238071C544A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осподин Великий Новгор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ак во славном Нове-горо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Был Садко, веселый молодец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е имел он златой казн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 имел лишь гусельки  яровча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 пирам ходил-играл Садк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тешал купцов, людей посадск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A28AF-B2D1-4B4A-9BA5-CB94FDEFC4A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вствующие герои и персонаж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овгородский люд, новгородские куп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D218D-1834-4F6E-94F5-DD50A64D03B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гость хвалит свою страну. Куда отправится Садк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1639D-FA33-4211-B303-380A7BF167D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DB2B-6B34-40B7-B5B0-2CD6B3150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747D-0F07-4277-AF7D-F85500DCC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08A1-741C-4ADC-884B-00838B4D7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B4B1-445F-413E-9059-CF4A375F7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262BD-602F-4D3A-AA7E-30907463A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72DCA-5FB8-4847-8AE1-B576E383B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62705-B79E-45FB-AC21-58FC7CA39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30E45-E1FD-47F3-B459-38EF523A5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DF8F5-24F2-48EA-8084-2F35C2F25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D1B0C-8385-43AB-9978-7C0225437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A56C4-A9D3-4BFA-8509-D4A8C93C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220D-1FE5-4FB6-9E82-09C7F4555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735DA-373B-4788-81B9-684D85751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37CFF-9192-4323-9B0F-9ACCBC1DA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1AF13-F018-44C3-9428-CDF01DB07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CB034-C068-4ED5-96C3-AD0DDBA8F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4B02D-2C16-49E3-A6FE-8F79790FC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D794-8876-4DF3-B75C-4D439A9A2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1B6B-227F-4100-B87B-6DD4A283D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D0C0-D7EA-4E14-8465-21FDB782C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D174-F82B-4C8C-B2B7-38A1F2B5A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B648-D65E-45F2-AFED-7B6E97656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5F98-3C77-403F-8788-0C5C63AA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5EF2-9DC5-4040-841F-51D545A16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C6A4C-7A4E-4567-8599-FFAAF36CC17F}" type="datetime">
              <a:rPr b="0" lang="ru-RU" sz="1200" spc="-1" strike="noStrike">
                <a:solidFill>
                  <a:srgbClr val="d1eaee"/>
                </a:solidFill>
                <a:latin typeface="Constanti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FE0DB-2C18-4C46-A0AA-9330CC75A144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5BDD3-9BBC-4C4C-9E1D-062596E5891F}" type="datetime">
              <a:rPr b="0" lang="ru-RU" sz="1200" spc="-1" strike="noStrike">
                <a:solidFill>
                  <a:srgbClr val="d1eaee"/>
                </a:solidFill>
                <a:latin typeface="Constanti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EAB6E-AE0E-4C75-A6CC-01D40886D167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1" descr=""/>
          <p:cNvPicPr/>
          <p:nvPr/>
        </p:nvPicPr>
        <p:blipFill>
          <a:blip r:embed="rId1"/>
          <a:stretch/>
        </p:blipFill>
        <p:spPr>
          <a:xfrm>
            <a:off x="60480" y="1255680"/>
            <a:ext cx="8454960" cy="24382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Сцены из опер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Действующие герои и персонажи оперы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4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28560" y="285480"/>
            <a:ext cx="3900600" cy="571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dbf5f9"/>
                </a:solidFill>
                <a:latin typeface="Calibri"/>
              </a:rPr>
              <a:t>Главные герои</a:t>
            </a:r>
            <a:endParaRPr b="0" lang="en-US" sz="45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38" name="Содержимое 3" descr="садко5.jpg"/>
          <p:cNvPicPr/>
          <p:nvPr/>
        </p:nvPicPr>
        <p:blipFill>
          <a:blip r:embed="rId1"/>
          <a:stretch/>
        </p:blipFill>
        <p:spPr>
          <a:xfrm>
            <a:off x="571680" y="857160"/>
            <a:ext cx="3576600" cy="43894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39" name="TextBox 4"/>
          <p:cNvSpPr/>
          <p:nvPr/>
        </p:nvSpPr>
        <p:spPr>
          <a:xfrm>
            <a:off x="214200" y="5429160"/>
            <a:ext cx="44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Садк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купец, певец, гусляр, отважный путешественник-мореплавател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Рисунок 5" descr="Садко7 Забела-Врубель - Волхова.jpg"/>
          <p:cNvPicPr/>
          <p:nvPr/>
        </p:nvPicPr>
        <p:blipFill>
          <a:blip r:embed="rId2"/>
          <a:stretch/>
        </p:blipFill>
        <p:spPr>
          <a:xfrm>
            <a:off x="5786280" y="928800"/>
            <a:ext cx="2590920" cy="3878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41" name="TextBox 6"/>
          <p:cNvSpPr/>
          <p:nvPr/>
        </p:nvSpPr>
        <p:spPr>
          <a:xfrm>
            <a:off x="5143680" y="5072040"/>
            <a:ext cx="400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Волхов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дочь морского царя, красавица, волшебница, кудесница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142720" y="428760"/>
            <a:ext cx="628668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bf5f9"/>
                </a:solidFill>
                <a:latin typeface="Calibri"/>
              </a:rPr>
              <a:t>Садко путешественник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44" name="Содержимое 5" descr="Садко2эскиз декорация.jpg"/>
          <p:cNvPicPr/>
          <p:nvPr/>
        </p:nvPicPr>
        <p:blipFill>
          <a:blip r:embed="rId1"/>
          <a:stretch/>
        </p:blipFill>
        <p:spPr>
          <a:xfrm>
            <a:off x="1071720" y="1428840"/>
            <a:ext cx="6667200" cy="3409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45" name="TextBox 3"/>
          <p:cNvSpPr/>
          <p:nvPr/>
        </p:nvSpPr>
        <p:spPr>
          <a:xfrm>
            <a:off x="642960" y="5286240"/>
            <a:ext cx="82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 Отправился Садко в самую загадочную страну, в Веденец, за счастьем для Новгород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857840" y="928800"/>
            <a:ext cx="390024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bf5f9"/>
                </a:solidFill>
                <a:latin typeface="Calibri"/>
              </a:rPr>
              <a:t>Морские приключения и дальние страны</a:t>
            </a: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48" name="Содержимое 3" descr="Садко5 Декорации.jpg"/>
          <p:cNvPicPr/>
          <p:nvPr/>
        </p:nvPicPr>
        <p:blipFill>
          <a:blip r:embed="rId1"/>
          <a:stretch/>
        </p:blipFill>
        <p:spPr>
          <a:xfrm>
            <a:off x="142920" y="1143000"/>
            <a:ext cx="3500280" cy="2590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49" name="Рисунок 4" descr="Садко птица счастья.jpeg"/>
          <p:cNvPicPr/>
          <p:nvPr/>
        </p:nvPicPr>
        <p:blipFill>
          <a:blip r:embed="rId2"/>
          <a:stretch/>
        </p:blipFill>
        <p:spPr>
          <a:xfrm>
            <a:off x="3714840" y="3143160"/>
            <a:ext cx="5244840" cy="35197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3920" y="642960"/>
            <a:ext cx="66438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bf5f9"/>
                </a:solidFill>
                <a:latin typeface="Calibri"/>
              </a:rPr>
              <a:t>На дне морском, во владениях  морского царя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52" name="Содержимое 3" descr="Садко2.jpg"/>
          <p:cNvPicPr/>
          <p:nvPr/>
        </p:nvPicPr>
        <p:blipFill>
          <a:blip r:embed="rId1"/>
          <a:stretch/>
        </p:blipFill>
        <p:spPr>
          <a:xfrm>
            <a:off x="214200" y="1785960"/>
            <a:ext cx="3173400" cy="43894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53" name="Рисунок 5" descr="Садко11.jpg"/>
          <p:cNvPicPr/>
          <p:nvPr/>
        </p:nvPicPr>
        <p:blipFill>
          <a:blip r:embed="rId2"/>
          <a:stretch/>
        </p:blipFill>
        <p:spPr>
          <a:xfrm>
            <a:off x="3571920" y="2000160"/>
            <a:ext cx="5357880" cy="3571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56" name="Содержимое 3" descr="Волхова опера садко.jpg"/>
          <p:cNvPicPr/>
          <p:nvPr/>
        </p:nvPicPr>
        <p:blipFill>
          <a:blip r:embed="rId1"/>
          <a:stretch/>
        </p:blipFill>
        <p:spPr>
          <a:xfrm>
            <a:off x="5286240" y="214200"/>
            <a:ext cx="3392640" cy="47926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57" name="Рисунок 4" descr="Садко3 Волхова - Забела-Врубель.jpg"/>
          <p:cNvPicPr/>
          <p:nvPr/>
        </p:nvPicPr>
        <p:blipFill>
          <a:blip r:embed="rId2"/>
          <a:srcRect l="3170" t="4274" r="3338" b="16677"/>
          <a:stretch/>
        </p:blipFill>
        <p:spPr>
          <a:xfrm>
            <a:off x="571680" y="214200"/>
            <a:ext cx="4214520" cy="26434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58" name="Рисунок 5" descr="Врубель Волхова2.jpg"/>
          <p:cNvPicPr/>
          <p:nvPr/>
        </p:nvPicPr>
        <p:blipFill>
          <a:blip r:embed="rId3"/>
          <a:stretch/>
        </p:blipFill>
        <p:spPr>
          <a:xfrm>
            <a:off x="171360" y="2901960"/>
            <a:ext cx="2632320" cy="3882960"/>
          </a:xfrm>
          <a:prstGeom prst="rect">
            <a:avLst/>
          </a:prstGeom>
          <a:ln w="0">
            <a:noFill/>
          </a:ln>
        </p:spPr>
      </p:pic>
      <p:sp>
        <p:nvSpPr>
          <p:cNvPr id="159" name="TextBox 6"/>
          <p:cNvSpPr/>
          <p:nvPr/>
        </p:nvSpPr>
        <p:spPr>
          <a:xfrm>
            <a:off x="2428920" y="5214960"/>
            <a:ext cx="650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Загадочная и обворожительная Волхо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143080" y="785520"/>
            <a:ext cx="404352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Сила искусства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just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Молодецкие и сердечные, грустные и веселые песни Садко покорили силы природы, подводное царство, принесли славу великому Новгороду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 algn="just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Царевна Волхова, дочь морского царя, очарована музыкой Садко. Она пробудила в царевне человеческую душу, сердце, которое любит и страдает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28840" y="713880"/>
            <a:ext cx="675792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dbf5f9"/>
                </a:solidFill>
                <a:latin typeface="Calibri"/>
              </a:rPr>
              <a:t> </a:t>
            </a:r>
            <a:r>
              <a:rPr b="0" lang="ru-RU" sz="4500" spc="-1" strike="noStrike">
                <a:solidFill>
                  <a:srgbClr val="dbf5f9"/>
                </a:solidFill>
                <a:latin typeface="Calibri"/>
              </a:rPr>
              <a:t>Сцены из оперы «Садко»</a:t>
            </a:r>
            <a:endParaRPr b="0" lang="en-US" sz="45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65" name="Содержимое 3" descr="Садко111.jpg"/>
          <p:cNvPicPr/>
          <p:nvPr/>
        </p:nvPicPr>
        <p:blipFill>
          <a:blip r:embed="rId1"/>
          <a:stretch/>
        </p:blipFill>
        <p:spPr>
          <a:xfrm>
            <a:off x="1214280" y="1643040"/>
            <a:ext cx="6634440" cy="43894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66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85880" y="928440"/>
            <a:ext cx="79293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Сцены из оперы «Садко»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68" name="Содержимое 3" descr="Садко1.jpg"/>
          <p:cNvPicPr/>
          <p:nvPr/>
        </p:nvPicPr>
        <p:blipFill>
          <a:blip r:embed="rId1"/>
          <a:stretch/>
        </p:blipFill>
        <p:spPr>
          <a:xfrm>
            <a:off x="857160" y="1928880"/>
            <a:ext cx="6972480" cy="3556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69" name="TextBox 3"/>
          <p:cNvSpPr/>
          <p:nvPr/>
        </p:nvSpPr>
        <p:spPr>
          <a:xfrm>
            <a:off x="1500120" y="5572080"/>
            <a:ext cx="5857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Заморские чудеса или чудес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подводного ми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99760" y="928800"/>
            <a:ext cx="618660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Чудо оперного жанра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72" name="Содержимое 3" descr="Садко.jpg"/>
          <p:cNvPicPr/>
          <p:nvPr/>
        </p:nvPicPr>
        <p:blipFill>
          <a:blip r:embed="rId1"/>
          <a:stretch/>
        </p:blipFill>
        <p:spPr>
          <a:xfrm>
            <a:off x="1214280" y="1785960"/>
            <a:ext cx="6667560" cy="37623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73" name="TextBox 3"/>
          <p:cNvSpPr/>
          <p:nvPr/>
        </p:nvSpPr>
        <p:spPr>
          <a:xfrm>
            <a:off x="1000080" y="5643720"/>
            <a:ext cx="721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ылину не только можно рассказать но и спеть и даже поставить опер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356920" y="928440"/>
            <a:ext cx="418644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Сила искусства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В опере «Садко», как и в любой сказке, много чудес. Но самое главное чудо сотворило искусство , когда превратило фантастическое существо, бездушную красавицу Волхову, в чудесного доброго человека, которая горячо любит и готова отдать свою жизнь во имя счастья людей. Она спасла Садко, а сама осталась на земле и превратилась в реку Волхову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Авторы «Садко»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06" name="Picture 2" descr="F:\ПОРТРЕТЫ КОМПОЗИТОРОВ\Портреты\Портреты композиторов\rimskii-korsakov.jpg"/>
          <p:cNvPicPr/>
          <p:nvPr/>
        </p:nvPicPr>
        <p:blipFill>
          <a:blip r:embed="rId1"/>
          <a:stretch/>
        </p:blipFill>
        <p:spPr>
          <a:xfrm>
            <a:off x="214200" y="2500200"/>
            <a:ext cx="3692520" cy="31435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07" name="TextBox 5"/>
          <p:cNvSpPr/>
          <p:nvPr/>
        </p:nvSpPr>
        <p:spPr>
          <a:xfrm>
            <a:off x="4000680" y="2643120"/>
            <a:ext cx="45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Музыка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– композитор Римский Корса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4000680" y="4500720"/>
            <a:ext cx="4189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Литература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– русская  были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040" y="928440"/>
            <a:ext cx="7372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f5f9"/>
                </a:solidFill>
                <a:latin typeface="Calibri"/>
              </a:rPr>
              <a:t>Опера «Садко» - шедевр русской классической музыки</a:t>
            </a:r>
            <a:endParaRPr b="0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28760" y="2468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 опере-былине , Садко, предстает перед нами, как  русский Орфей, который своим искусством покоряет природу, покоряет сказочных существ и даже  волшебница Волхова начинает чувствовать и переживать, как настоящих человек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bf5f9"/>
                </a:solidFill>
                <a:latin typeface="Calibri"/>
              </a:rPr>
              <a:t>Николай Андреевич Римский-Корсаков   (1844 – 1908)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Опера-былина «Садко» -  одно из первых значительных произведений композитора. Сначала Римский-Корсаков сочинил симфоническую картину «Садко». Позже он ее использовал для создания оперы-былины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00080" y="713880"/>
            <a:ext cx="6114960" cy="776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f5f9"/>
                </a:solidFill>
                <a:latin typeface="Calibri"/>
              </a:rPr>
              <a:t>Композитор - сказочник</a:t>
            </a:r>
            <a:endParaRPr b="0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nstantia"/>
              </a:rPr>
              <a:t>Он написал </a:t>
            </a:r>
            <a:r>
              <a:rPr b="1" i="1" lang="ru-RU" sz="3200" spc="-1" strike="noStrike">
                <a:solidFill>
                  <a:srgbClr val="ffffff"/>
                </a:solidFill>
                <a:latin typeface="Constantia"/>
              </a:rPr>
              <a:t>15</a:t>
            </a:r>
            <a:r>
              <a:rPr b="1" lang="ru-RU" sz="3200" spc="-1" strike="noStrike">
                <a:solidFill>
                  <a:srgbClr val="ffffff"/>
                </a:solidFill>
                <a:latin typeface="Constantia"/>
              </a:rPr>
              <a:t> опер и большинство из них на сказочные сюжеты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nstantia"/>
              </a:rPr>
              <a:t>В основу оперы «Садко» композитор положил северорусскую новгородскую былину про бесстрашного мореплавателя и талантливого музыканта Садко, про волшебную силу его искусства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168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bf5f9"/>
                </a:solidFill>
                <a:latin typeface="Calibri"/>
              </a:rPr>
              <a:t>Два мира- реальный и сказочный</a:t>
            </a:r>
            <a:br>
              <a:rPr sz="3600"/>
            </a:br>
            <a:r>
              <a:rPr b="1" lang="ru-RU" sz="3600" spc="-1" strike="noStrike">
                <a:solidFill>
                  <a:srgbClr val="dbf5f9"/>
                </a:solidFill>
                <a:latin typeface="Calibri"/>
              </a:rPr>
              <a:t>Два музыкальных лейтмотива в опере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57120" y="19285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Реальный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: </a:t>
            </a:r>
            <a:r>
              <a:rPr b="0" i="1" lang="ru-RU" sz="2600" spc="-1" strike="noStrike">
                <a:solidFill>
                  <a:srgbClr val="ffffff"/>
                </a:solidFill>
                <a:latin typeface="Calibri"/>
                <a:ea typeface="Arial"/>
              </a:rPr>
              <a:t>новгородский люд, жена Садко- Любава Буслаевна, Садко, Гость Варяжский, гость Индийский, гость Веденецкий(из Венеции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Сказочный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: </a:t>
            </a:r>
            <a:r>
              <a:rPr b="0" i="1" lang="ru-RU" sz="2600" spc="-1" strike="noStrike">
                <a:solidFill>
                  <a:srgbClr val="ffffff"/>
                </a:solidFill>
                <a:latin typeface="Calibri"/>
              </a:rPr>
              <a:t>Царевна Волхова, морские царевны-лебеди, золотые рыбки</a:t>
            </a: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 algn="just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1-й лейтмотив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-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моря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2-й лейтмотив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-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Новгорода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3920" y="57132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dbf5f9"/>
                </a:solidFill>
                <a:latin typeface="Calibri"/>
              </a:rPr>
              <a:t>О скалы грозные дробятся с ревом волны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20" name="Содержимое 3" descr="Оскалы грозные.. Песнь Варяжского гостя.jpg"/>
          <p:cNvPicPr/>
          <p:nvPr/>
        </p:nvPicPr>
        <p:blipFill>
          <a:blip r:embed="rId1"/>
          <a:stretch/>
        </p:blipFill>
        <p:spPr>
          <a:xfrm>
            <a:off x="1643040" y="1857240"/>
            <a:ext cx="5715000" cy="40482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21" name="TextBox 3"/>
          <p:cNvSpPr/>
          <p:nvPr/>
        </p:nvSpPr>
        <p:spPr>
          <a:xfrm>
            <a:off x="816840" y="6072120"/>
            <a:ext cx="825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ступление в опере рисует нам образ грозного мор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9720" y="856800"/>
            <a:ext cx="690084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f5f9"/>
                </a:solidFill>
                <a:latin typeface="Calibri"/>
              </a:rPr>
              <a:t>Господин Великий Новгород</a:t>
            </a:r>
            <a:endParaRPr b="0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934640"/>
            <a:ext cx="51148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Как во славном Нове-город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Был Садко, веселый молодец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Не имел он златой казны,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А имел лишь гусельки  яровчаты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По пирам ходил-играл Садко,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Потешал купцов, людей посадских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25" name="Рисунок 3" descr="md_poster[1].jpg"/>
          <p:cNvPicPr/>
          <p:nvPr/>
        </p:nvPicPr>
        <p:blipFill>
          <a:blip r:embed="rId1"/>
          <a:stretch/>
        </p:blipFill>
        <p:spPr>
          <a:xfrm>
            <a:off x="5546880" y="1928880"/>
            <a:ext cx="3179520" cy="442908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285840"/>
            <a:ext cx="932976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bf5f9"/>
                </a:solidFill>
                <a:latin typeface="Calibri"/>
              </a:rPr>
              <a:t>Девствующие герои и персонаж</a:t>
            </a:r>
            <a:r>
              <a:rPr b="0" lang="ru-RU" sz="4000" spc="-1" strike="noStrike">
                <a:solidFill>
                  <a:srgbClr val="dbf5f9"/>
                </a:solidFill>
                <a:latin typeface="Calibri"/>
              </a:rPr>
              <a:t>и</a:t>
            </a:r>
            <a:br>
              <a:rPr sz="4000"/>
            </a:br>
            <a:r>
              <a:rPr b="1" i="1" lang="ru-RU" sz="4000" spc="-1" strike="noStrike">
                <a:solidFill>
                  <a:srgbClr val="dbf5f9"/>
                </a:solidFill>
                <a:latin typeface="Calibri"/>
              </a:rPr>
              <a:t>Новгородский люд, новгородские купцы</a:t>
            </a: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1892520" y="5929200"/>
            <a:ext cx="551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Поклон вам гости именит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Содержимое 8" descr="Садко4.jpg"/>
          <p:cNvPicPr/>
          <p:nvPr/>
        </p:nvPicPr>
        <p:blipFill>
          <a:blip r:embed="rId1"/>
          <a:stretch/>
        </p:blipFill>
        <p:spPr>
          <a:xfrm>
            <a:off x="1143000" y="1928880"/>
            <a:ext cx="6939000" cy="38304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30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bf5f9"/>
                </a:solidFill>
                <a:latin typeface="Calibri"/>
              </a:rPr>
              <a:t>Каждый гость хвалит свою страну. Куда отправится Садко?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32" name="Содержимое 3" descr="Варяжский гость из оперы Садко.jpg"/>
          <p:cNvPicPr/>
          <p:nvPr/>
        </p:nvPicPr>
        <p:blipFill>
          <a:blip r:embed="rId1"/>
          <a:stretch/>
        </p:blipFill>
        <p:spPr>
          <a:xfrm>
            <a:off x="500040" y="2214720"/>
            <a:ext cx="2752920" cy="38098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33" name="Рисунок 4" descr="Садко6 Алексеев - индийский гость.jpg"/>
          <p:cNvPicPr/>
          <p:nvPr/>
        </p:nvPicPr>
        <p:blipFill>
          <a:blip r:embed="rId2"/>
          <a:stretch/>
        </p:blipFill>
        <p:spPr>
          <a:xfrm>
            <a:off x="5786280" y="1857240"/>
            <a:ext cx="2357640" cy="3571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34" name="TextBox 5"/>
          <p:cNvSpPr/>
          <p:nvPr/>
        </p:nvSpPr>
        <p:spPr>
          <a:xfrm>
            <a:off x="269280" y="614376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Варяжский г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5432400" y="6000840"/>
            <a:ext cx="332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Индийский г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11:35:43Z</dcterms:created>
  <dc:creator>МОУ СОШ №3</dc:creator>
  <dc:description/>
  <dc:language>en-US</dc:language>
  <cp:lastModifiedBy>LEGION</cp:lastModifiedBy>
  <dcterms:modified xsi:type="dcterms:W3CDTF">2015-01-20T13:42:00Z</dcterms:modified>
  <cp:revision>44</cp:revision>
  <dc:subject/>
  <dc:title>Опера «Садко» Римского- Корсакова</dc:title>
</cp:coreProperties>
</file>