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ACB7C-9000-44C3-9E63-824BA7306BF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умма углов треугольника</a:t>
            </a:r>
            <a:br>
              <a:rPr sz="1200"/>
            </a:b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ешение задач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D3970-2FCE-46AE-8D52-DFCB432A9D48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ыполните тес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В треугольнике АВС угол А равен 90</a:t>
            </a:r>
            <a:r>
              <a:rPr b="0" lang="ru-RU" sz="1200" spc="-1" strike="noStrike" baseline="30000">
                <a:solidFill>
                  <a:srgbClr val="000000"/>
                </a:solidFill>
                <a:latin typeface="Calibri"/>
              </a:rPr>
              <a:t>0,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этом другие два угл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один острый, другой может быть прямым или тупы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оба остры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 могут быть как острыми, так и тупыми или прямы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B5ECD-86FD-4B77-A7D6-0B438756DD7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В треугольнике АВС угол В – тупой, при этом другие два угла могут быть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только острым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острыми и тупым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 острыми и прямы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D14AC-EF69-4C31-AFD1-CB571BDB3E9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В тупоугольном треугольнике могут быт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прямой и острый угл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тупой и прямой угл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 тупой и острый угл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0634D-291E-4F14-B6A9-CC9AF308369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В остроугольном треугольнике могут быт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все углы остры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один угол тупо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 один прямой уго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7D6B9-E5EF-43B5-BE37-FB9EABC2B78B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В прямоугольном треугольнике могут быт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прямой и тупой угл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два прямых угл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 два острых уг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075F9-339B-4958-B483-366C832C765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Цели урок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Ввести понятие остроугольного, прямоугольного, тупоугольного треугольни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Совершенствовать навыки решения задач на применение теоремы о сумме углов треугольн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0A82F-687A-44EE-BF67-7C50E77CB08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упоугольный треугольни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один из углов треугольника тупой, то треугольник называется тупоугольны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80F83-EA24-40CA-9649-1EEB275A664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ямоугольный треугольни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один из углов треугольника прямой, то треугольник называется прямоугольны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E0E16-0680-4308-8C17-D10034CBC8D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орона треугольника, лежащая против прямого угла называется </a:t>
            </a:r>
            <a:r>
              <a:rPr b="1" lang="ru-RU" sz="1200" spc="-1" strike="noStrike">
                <a:solidFill>
                  <a:srgbClr val="ff66ff"/>
                </a:solidFill>
                <a:latin typeface="Calibri"/>
              </a:rPr>
              <a:t>гипотенузо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а две другие называются </a:t>
            </a:r>
            <a:r>
              <a:rPr b="1" lang="ru-RU" sz="1200" spc="-1" strike="noStrike">
                <a:solidFill>
                  <a:srgbClr val="ff66ff"/>
                </a:solidFill>
                <a:latin typeface="Calibri"/>
              </a:rPr>
              <a:t>катет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FA99F-8886-4A76-9F54-F75DEE7F6EC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троугольный треугольни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все три угла треугольника острые, то треугольник называется остроугольны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2A5CD-FF0E-4841-B509-18B2D92B788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едствие из теоремы о сумме углов треугольни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Докажите, что треугольник имеет хотя бы два острых уг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E48F5-D8A3-4584-ADFE-F4E7F867CC7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йдит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C61A9-D052-4357-A751-9A0F2C4B028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йдит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BAA09-3E01-4D71-8882-EB5BE5297A0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E540E-215F-4065-865F-5BA32E5B2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F7C60-6FC4-4157-A92B-17C8F9E8C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ED0A8-E7E1-485E-8555-D2838C479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86DFA-922E-4636-9B8A-9BFAE862B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E9C5F-BEA2-43BA-96B3-7EFE58CCA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C0396-0191-4144-87DD-80409B872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8CE3C-DD01-469D-AC38-2E5C2CFE4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5B47D-B33C-4A15-A27A-001829608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F1553-5CF1-47FD-A7D3-982717D51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364C1-1B1A-4243-9B1F-807CDE6A5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3343C-8768-4615-B370-58F8EC8A8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CAC81-C49F-467E-B780-AF2BB9D13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B88A3-E6DB-4F8B-A046-EB903556D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9F9B1-4519-4A80-AE90-6573F347F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7CDCF-AAEE-4A98-9C7F-D19D17854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21B22-CD6A-4A6C-8B46-D366C36B8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48155-C4C3-47C4-A0F1-D0EA0511B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92E05-0ADB-4D6C-A5E3-6F37CC035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F92C3-6FC4-49B0-B999-4749D3E90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039E2-B811-44E6-82FA-1BA2D0D83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86473-862D-461B-ABC0-0C1C2B223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A4DDE-5E8B-42B9-80B7-A7B29B783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6D0FD-DFD6-4A0A-9CD1-358F4E8C2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F5750-4B91-4F72-8732-C23C39885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2506F-693E-4EE1-B310-4B27C93A726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E0D28-2DE2-4C49-ABEF-CD881C808B4B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52280" y="990720"/>
            <a:ext cx="8763120" cy="3124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ccecff"/>
                </a:solidFill>
                <a:latin typeface="Arial"/>
              </a:rPr>
              <a:t>Сумма углов треугольника</a:t>
            </a:r>
            <a:br>
              <a:rPr sz="5000"/>
            </a:br>
            <a:br>
              <a:rPr sz="5000"/>
            </a:br>
            <a:r>
              <a:rPr b="1" lang="ru-RU" sz="5000" spc="-1" strike="noStrike">
                <a:solidFill>
                  <a:srgbClr val="ccecff"/>
                </a:solidFill>
                <a:latin typeface="Arial"/>
              </a:rPr>
              <a:t>Решение задач</a:t>
            </a:r>
            <a:endParaRPr b="0" lang="en-US" sz="5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cecff"/>
                </a:solidFill>
                <a:latin typeface="Arial"/>
              </a:rPr>
              <a:t>Выполните тест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. В треугольнике АВС угол А равен 90</a:t>
            </a:r>
            <a:r>
              <a:rPr b="0" lang="ru-RU" sz="4000" spc="-1" strike="noStrike" baseline="30000">
                <a:solidFill>
                  <a:srgbClr val="ffffff"/>
                </a:solidFill>
                <a:latin typeface="Arial"/>
              </a:rPr>
              <a:t>0,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при этом другие два угла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а) один острый, другой может быть прямым или тупым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б) оба острые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в) могут быть как острыми, так и тупыми или прямым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1" name="Object 7"/>
              <p:cNvSpPr txBox="1"/>
              <p:nvPr/>
            </p:nvSpPr>
            <p:spPr>
              <a:xfrm>
                <a:off x="6086520" y="3938760"/>
                <a:ext cx="1158840" cy="21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/>
          </p:nvPr>
        </p:nvSpPr>
        <p:spPr>
          <a:xfrm>
            <a:off x="1066320" y="380520"/>
            <a:ext cx="7620120" cy="57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2. В треугольнике АВС угол В – тупой, при этом другие два угла могут быть…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а) только острыми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б) острыми и тупыми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в) острыми и прямыми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1142640" y="1143000"/>
            <a:ext cx="75438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3. В тупоугольном треугольнике могут быть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а) прямой и острый углы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б) тупой и прямой углы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в) тупой и острый углы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/>
          </p:nvPr>
        </p:nvSpPr>
        <p:spPr>
          <a:xfrm>
            <a:off x="990720" y="228600"/>
            <a:ext cx="7696080" cy="58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. В остроугольном треугольнике могут быть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а) все углы острые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б) один угол тупой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в) один прямой угол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/>
          </p:nvPr>
        </p:nvSpPr>
        <p:spPr>
          <a:xfrm>
            <a:off x="1142640" y="152280"/>
            <a:ext cx="7543800" cy="597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5. В прямоугольном треугольнике могут быть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а) прямой и тупой углы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б) два прямых угла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в) два острых угла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cecff"/>
                </a:solidFill>
                <a:latin typeface="Arial"/>
              </a:rPr>
              <a:t>Цели урока.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1. Ввести понятие остроугольного, прямоугольного, тупоугольного треугольников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2. Совершенствовать навыки решения задач на применение теоремы о сумме углов треугольник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Тупоугольный треугольник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Если один из углов треугольника тупой, то треугольник называется тупоугольны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5" name="Picture 4" descr=""/>
          <p:cNvPicPr/>
          <p:nvPr/>
        </p:nvPicPr>
        <p:blipFill>
          <a:blip r:embed="rId1"/>
          <a:stretch/>
        </p:blipFill>
        <p:spPr>
          <a:xfrm>
            <a:off x="4038480" y="3048120"/>
            <a:ext cx="4800600" cy="3109680"/>
          </a:xfrm>
          <a:prstGeom prst="rect">
            <a:avLst/>
          </a:prstGeom>
          <a:ln w="0">
            <a:noFill/>
          </a:ln>
        </p:spPr>
      </p:pic>
      <p:sp>
        <p:nvSpPr>
          <p:cNvPr id="22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Прямоугольный треугольник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Если один из углов треугольника прямой, то треугольник называется прямоугольны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Picture 4" descr=""/>
          <p:cNvPicPr/>
          <p:nvPr/>
        </p:nvPicPr>
        <p:blipFill>
          <a:blip r:embed="rId1"/>
          <a:stretch/>
        </p:blipFill>
        <p:spPr>
          <a:xfrm>
            <a:off x="4191120" y="2743200"/>
            <a:ext cx="3962160" cy="3929040"/>
          </a:xfrm>
          <a:prstGeom prst="rect">
            <a:avLst/>
          </a:prstGeom>
          <a:ln w="0">
            <a:noFill/>
          </a:ln>
        </p:spPr>
      </p:pic>
      <p:sp>
        <p:nvSpPr>
          <p:cNvPr id="23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609480" y="0"/>
            <a:ext cx="82296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торона треугольника, лежащая против прямого угла называется </a:t>
            </a:r>
            <a:r>
              <a:rPr b="1" lang="ru-RU" sz="3200" spc="-1" strike="noStrike">
                <a:solidFill>
                  <a:srgbClr val="ff66ff"/>
                </a:solidFill>
                <a:latin typeface="Arial"/>
              </a:rPr>
              <a:t>гипотенузой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, а две другие называются </a:t>
            </a:r>
            <a:r>
              <a:rPr b="1" lang="ru-RU" sz="3200" spc="-1" strike="noStrike">
                <a:solidFill>
                  <a:srgbClr val="ff66ff"/>
                </a:solidFill>
                <a:latin typeface="Arial"/>
              </a:rPr>
              <a:t>катетам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2" name="Picture 4" descr=""/>
          <p:cNvPicPr/>
          <p:nvPr/>
        </p:nvPicPr>
        <p:blipFill>
          <a:blip r:embed="rId1"/>
          <a:stretch/>
        </p:blipFill>
        <p:spPr>
          <a:xfrm>
            <a:off x="1752480" y="1676520"/>
            <a:ext cx="5486400" cy="4524120"/>
          </a:xfrm>
          <a:prstGeom prst="rect">
            <a:avLst/>
          </a:prstGeom>
          <a:ln w="0">
            <a:noFill/>
          </a:ln>
        </p:spPr>
      </p:pic>
      <p:sp>
        <p:nvSpPr>
          <p:cNvPr id="23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Остроугольный треугольник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Если все три угла треугольника острые, то треугольник называется остроугольны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6" name="Picture 5" descr=""/>
          <p:cNvPicPr/>
          <p:nvPr/>
        </p:nvPicPr>
        <p:blipFill>
          <a:blip r:embed="rId1"/>
          <a:srcRect l="0" t="2805" r="5130" b="0"/>
          <a:stretch/>
        </p:blipFill>
        <p:spPr>
          <a:xfrm>
            <a:off x="4495680" y="2743200"/>
            <a:ext cx="3810240" cy="3571920"/>
          </a:xfrm>
          <a:prstGeom prst="rect">
            <a:avLst/>
          </a:prstGeom>
          <a:ln w="0">
            <a:noFill/>
          </a:ln>
        </p:spPr>
      </p:pic>
      <p:sp>
        <p:nvSpPr>
          <p:cNvPr id="23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Следствие из теоремы о сумме углов треугольника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Докажите, что треугольник имеет хотя бы два острых угла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50292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Найдите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2" name="Object 4"/>
              <p:cNvSpPr txBox="1"/>
              <p:nvPr/>
            </p:nvSpPr>
            <p:spPr>
              <a:xfrm>
                <a:off x="4343400" y="152280"/>
                <a:ext cx="2451240" cy="152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А</m:t>
                    </m:r>
                    <m:r>
                      <m:t xml:space="preserve">,</m:t>
                    </m:r>
                    <m:r>
                      <m:t xml:space="preserve">∠</m:t>
                    </m:r>
                    <m:sPre>
                      <m:sub/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С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43" name="Picture 7" descr=""/>
          <p:cNvPicPr/>
          <p:nvPr/>
        </p:nvPicPr>
        <p:blipFill>
          <a:blip r:embed="rId1"/>
          <a:stretch/>
        </p:blipFill>
        <p:spPr>
          <a:xfrm>
            <a:off x="1676520" y="1295280"/>
            <a:ext cx="6019560" cy="5243760"/>
          </a:xfrm>
          <a:prstGeom prst="rect">
            <a:avLst/>
          </a:prstGeom>
          <a:ln w="0">
            <a:noFill/>
          </a:ln>
        </p:spPr>
      </p:pic>
      <p:sp>
        <p:nvSpPr>
          <p:cNvPr id="24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396252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Найдите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6" name="Object 5"/>
              <p:cNvSpPr txBox="1"/>
              <p:nvPr/>
            </p:nvSpPr>
            <p:spPr>
              <a:xfrm>
                <a:off x="3657600" y="228600"/>
                <a:ext cx="3809880" cy="15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В</m:t>
                    </m:r>
                    <m:r>
                      <m:t xml:space="preserve">,</m:t>
                    </m:r>
                    <m:r>
                      <m:t xml:space="preserve">∠</m:t>
                    </m:r>
                    <m:r>
                      <m:t xml:space="preserve">А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47" name="Picture 7" descr=""/>
          <p:cNvPicPr/>
          <p:nvPr/>
        </p:nvPicPr>
        <p:blipFill>
          <a:blip r:embed="rId1"/>
          <a:stretch/>
        </p:blipFill>
        <p:spPr>
          <a:xfrm>
            <a:off x="1905120" y="1295280"/>
            <a:ext cx="5384520" cy="5410440"/>
          </a:xfrm>
          <a:prstGeom prst="rect">
            <a:avLst/>
          </a:prstGeom>
          <a:ln w="0">
            <a:noFill/>
          </a:ln>
        </p:spPr>
      </p:pic>
      <p:sp>
        <p:nvSpPr>
          <p:cNvPr id="24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5-01-23T11:41:22Z</dcterms:modified>
  <cp:revision>1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