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77B8-1769-44BF-B992-B1E0574843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мма углов треугольник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AB9A-9AFF-4F4E-91A0-F45080FB94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те те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треугольнике АВС угол А равен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другие два уг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дин острый, другой может быть прямым или туп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ба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огут быть как острыми, так и тупыми или пря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8050-4A5B-42B2-B138-71375C5369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треугольнике АВС угол В – тупой, при этом другие два угла могут б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лько остр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стрыми и туп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стрыми 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379A-9606-43EE-886E-258475F054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туп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остры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упой и прям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тупой и острый уг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4B98-99C4-4EBC-92E9-B834E16259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остр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 углы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дин угол туп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748C-619D-4DC4-979B-CEE881038C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ям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туп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ва прямых уг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1DE5-E8F8-44C0-B436-55A0DF8A08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вести понятие остроугольного, прямоугольного, тупоугольного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D69C-707B-4560-8C1F-B73BDB0CD8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п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тупой, то треугольник называется туп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E2A6-F5DF-4E6A-B274-B9508B3AD4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прямой, 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8C5C-64C3-408E-B732-D255245366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а треугольника, лежащая против прямого угла называе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две другие называю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ате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3CEA-DDB7-4E15-BD87-15C4CCA4EF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е три угла треугольника острые, то треугольник называется остр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94BC-5B28-4A7C-B423-E56ED136E3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из теоремы о сумме углов тре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окажите, что треугольник имеет хотя бы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763B-7345-4AC5-8A3D-0712837F0C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0E89-90AD-4022-9E71-6A6E2FE463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BE13-511D-44B8-A426-7EB2E9DBED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17F-42C1-42A4-B47C-E1707924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4F5-6AA7-46BD-A40F-07A63759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A26A-013C-4CF9-9BDC-F0A81D98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DC4-6E6F-45C0-94AE-6C8F1AA2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15CD-BA8F-4AA8-8EB7-2B15753A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5DEF-C432-4644-A524-C6595B33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3B19-C931-44BD-9587-CF1C740E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5946-FC7D-49DC-B9BB-BCC1ED20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4DAA-CAEB-4289-B768-8AE115F0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4773-71F5-41DC-B6A9-3266112C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D4DA-6A49-4B5E-B274-101503CB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9AB-28EE-4CA3-8BF0-ED7C56E7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6ED1-4729-421B-9910-99A02DFD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883D-17EF-412F-BF63-8D284C9B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04E4-5FC9-4211-A19A-C292D858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7F40-E39F-4609-B861-40E4E1B6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1A15-301F-4278-B503-9937CDFE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539-CF50-41C5-BC6C-25D4A2C9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318-2DC0-4BE5-9C81-C21D4AA3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29D-73E8-4D01-984B-B25B5DD2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66D-3F2A-4D84-B06D-F96C040D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FDB-0567-407C-9578-D6DBEA8B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04CB-8594-4841-9218-9316D782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0E3-5ED8-4BAD-AF8C-51256288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6D4C-1A19-4E1E-8A39-DC482E5DD4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E0CE-7412-4669-B5AC-90C5FCC067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Сумма углов треугольника</a:t>
            </a: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ыполните тес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треугольнике АВС угол А равен 90</a:t>
            </a:r>
            <a:r>
              <a:rPr b="0" lang="ru-RU" sz="4000" spc="-1" strike="noStrike" baseline="30000">
                <a:solidFill>
                  <a:srgbClr val="ffffff"/>
                </a:solidFill>
                <a:latin typeface="Arial"/>
              </a:rPr>
              <a:t>0,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этом другие два угл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один острый, другой может быть прямым или тупы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ба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могут быть как острыми, так и тупыми или прямы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6201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В треугольнике АВС угол В – тупой, при этом другие два угла могут быт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только остр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стрыми и туп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стрыми и прям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В туп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остры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тупой и прям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тупой и острый угл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696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остр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все углы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дин угол тупо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дин прямой уго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2640" y="152280"/>
            <a:ext cx="75438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В прям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туп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два прямых угл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Цели урок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Ввести понятие остроугольного, прямоугольного, тупоугольного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уп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тупой, то треугольник называется туп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0600" cy="3109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прямой, то треугольник называется прям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3962160" cy="392904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а треугольника, лежащая против прямого угла называе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гипотенуз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 две другие называю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кате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4524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тр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все три угла треугольника острые, то треугольник называется остр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rcRect l="0" t="2805" r="5130" b="0"/>
          <a:stretch/>
        </p:blipFill>
        <p:spPr>
          <a:xfrm>
            <a:off x="4495680" y="2743200"/>
            <a:ext cx="3810240" cy="35719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едствие из теоремы о сумме углов треугольн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кажите, что треугольник имеет хотя бы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4343400" y="152280"/>
                <a:ext cx="2451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∠</m:t>
                    </m:r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52437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657600" y="228600"/>
                <a:ext cx="3809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84520" cy="541044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1:2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