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png" ContentType="image/png"/>
  <Override PartName="/ppt/media/image6.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move the slide</a:t>
            </a:r>
            <a:endParaRPr b="0" lang="en-US" sz="4400" spc="-1" strike="noStrike">
              <a:solidFill>
                <a:srgbClr val="ccecff"/>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6D88-20B9-49CB-996F-6EC23D5B620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00"/>
                </a:solidFill>
                <a:latin typeface="Calibri"/>
              </a:rPr>
              <a:t>Геометрия, 8 класс. </a:t>
            </a:r>
            <a:br>
              <a:rPr sz="1200"/>
            </a:br>
            <a:r>
              <a:rPr b="1" i="1" lang="ru-RU" sz="1200" spc="-1" strike="noStrike">
                <a:solidFill>
                  <a:srgbClr val="ffff00"/>
                </a:solidFill>
                <a:latin typeface="Calibri"/>
              </a:rPr>
              <a:t>Учитель математики</a:t>
            </a:r>
            <a:br>
              <a:rPr sz="1200"/>
            </a:br>
            <a:r>
              <a:rPr b="1" i="1" lang="ru-RU" sz="1200" spc="-1" strike="noStrike">
                <a:solidFill>
                  <a:srgbClr val="ffff00"/>
                </a:solidFill>
                <a:latin typeface="Calibri"/>
              </a:rPr>
              <a:t> Ковальчук Л.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a:t>
            </a:r>
            <a:r>
              <a:rPr b="1" i="1" lang="ru-RU" sz="1200" spc="-1" strike="noStrike">
                <a:solidFill>
                  <a:srgbClr val="000000"/>
                </a:solidFill>
                <a:latin typeface="Calibri"/>
              </a:rPr>
              <a:t>«Познать себя трудно, советовать другим легко»</a:t>
            </a:r>
            <a:r>
              <a:rPr b="1" lang="ru-RU" sz="1200" spc="-1" strike="noStrike">
                <a:solidFill>
                  <a:srgbClr val="000000"/>
                </a:solidFill>
                <a:latin typeface="Calibri"/>
              </a:rPr>
              <a:t>.</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22E0-FA3F-4B9E-8689-AFBF1AAB61B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сожалению, мудрецы смертны точно так же, как и все остальные люди, пусть даже не отмеченные печатью гения. Сохранилось предание, что во время одной из Олимпиад престарелый мудрец, он был, между прочим, страстным болельщиком, взволнованный победой не то сына, не то внука, привстал на скамье, крикнул «слава!» и упал замертво прямо на стадионе. Горожане похоронили Фалеса. Выбили на его гробнице надпись, гласящую: «Насколько мала эта гробница Фалеса, настолько велика слава этого царя астрономов в области звезд».</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E36D-A45E-4DD2-A150-2FA9C8EB93A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лес также первым вычислил высоту одной из египетских пирамид по ее тени. Открыл продолжительность года и разделил его на 365 дней. Его изречение: "Ни за кого не ручайся", которому вторит и Хилон: "Порука и несчастье всегда вместе". Наиболее известное изречение Фалеса: "Соблюдай мер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03E87-33AD-4530-AFB9-87F72F348C2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у Милетскому приписывают простой способ определения высоты пирамиды. В солнечный день он поставил свой посох там, где оканчивалась тень от пирамиды. Затем он показал, что как длина одной тени относится к длине другой тени, так и высота пирамиды относится к высоте посох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C5DC-7270-4C92-8718-0EB914B4B98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Флюэллинг Ралф Карлин. </a:t>
            </a:r>
            <a:r>
              <a:rPr b="1" i="1" lang="ru-RU" sz="1200" spc="-1" strike="noStrike">
                <a:solidFill>
                  <a:srgbClr val="ffff00"/>
                </a:solidFill>
                <a:latin typeface="Arial"/>
              </a:rPr>
              <a:t>Фалес: «Познать себя трудно, советовать другим легко»:</a:t>
            </a:r>
            <a:r>
              <a:rPr b="1" i="1" lang="ru-RU" sz="1200" spc="-1" strike="noStrike">
                <a:solidFill>
                  <a:srgbClr val="000000"/>
                </a:solidFill>
                <a:latin typeface="Arial"/>
              </a:rPr>
              <a:t> Мозаичное панно в Главном читальном зале Философской библиотеки имени Джеймса Хармона Хуза (1929, Лос-Анджелес, Университет Южной Калифорнии, Мадд-холл).</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B2CC-9718-4003-87C3-F6B485A48AA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Милетский имел титул одного из семи мудрецов Греции, он был поистине первым философом, первым математиком, астрономом и, вообще, первым по всем наукам в Греции. Он был то же для Греции, что Ломоносов для России.</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7679-92D7-44D4-81AF-1ECC7EEE27A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Фалес на греческой почтовой марке</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BB1E-3FA8-4AE9-87EE-BE815232456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Calibri"/>
              </a:rPr>
              <a:t>Взгляд на развалины Милет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EFBA-8D99-4C31-A6D4-6133896326B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йдите длину неизвестного отрезка x. </a:t>
            </a:r>
            <a:endParaRPr b="0" lang="en-US" sz="1200" spc="-1" strike="noStrike">
              <a:solidFill>
                <a:srgbClr val="000000"/>
              </a:solidFill>
              <a:latin typeface="Calibri"/>
            </a:endParaRPr>
          </a:p>
        </p:txBody>
      </p:sp>
      <p:sp>
        <p:nvSpPr>
          <p:cNvPr id="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1831-F4C1-4403-8296-59C5E75E400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Нахождение расстояния до недоступного предме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976E-2D73-436B-9E47-C1DD83F5C75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иногда бывает необходимо измерить расстояние и до недоступного предмета. Например, ширину реки. Мы это делаем следующим образ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метив на противоположном берегу реки какой-нибудь четко видимый предмет (А) (дерево, скалу), расположенный у самой воды, надо встать точно напротив него и отметить точку, положив на землю камешек или воткнув колышек (Б). Затем, идя вдоль берега по ли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96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пендикулярной к направлению между предметом на том берегу и колышком, надо отсчитать 30 шагов и воткнуть в землю палку (В). Пройдя в том же направлении еще столько же шагов, снова сделать отметку на земле (Г) и, идя от нее, повернувшись спиной к реке, считать шаги, время от времени поглядывая на намеченный на том берегу предмет. Когда палка В, воткнутая на берегу, окажется на одной линии с предметом А за рекой, то расстояние (Д - Г) от последней отметки до места конечной остановки (Д) будет равно ширине рек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C90C-7A6B-451A-A50F-CD1D4E55200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ок. 625 – ок. 547 до н. э.), древнегреческий мыслитель, родоначальник античной философии и науки, основатель милетской школы.  Причиной солнечных затмений считал Луну, которую рассматривал как темное тело, затмевающее свет от Солнца. Предсказал солнечное затмение 28 мая 585 года до н.э. Фалес открыл наклон эклиптики к экватору, определил угловую величину Луны. Стал первым, кто ввел в математику принцип математического доказательства, доказал несколько теорем геометрии. </a:t>
            </a: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6BA9-6F77-47D8-8903-75DF6C16AD5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пределение расстояния построением подобных треугольников</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 определении расстояния до недоступных предметов используют различные приемы, связанные с построением подобных треугольников.</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ение расстояния с помощью спички. Спичка - простейший дальномер. Предварительно на ней надо нанести чернилами или карандашом двухмиллиметровые деления. Необходимо также знать примерную высоту предмета, до которого определяется расстояние. </a:t>
            </a:r>
            <a:r>
              <a:rPr b="1" lang="ru-RU" sz="1100" spc="-1" strike="noStrike">
                <a:solidFill>
                  <a:srgbClr val="000000"/>
                </a:solidFill>
                <a:latin typeface="Arial"/>
              </a:rPr>
              <a:t>Так, рост человека в метрах равен 1,7, колесо велосипеда имеет высоту 0,75, всадник - 2,2, телеграфный столб - 6, одноэтажный дом без крыши - 2,5 - 4 метра.</a:t>
            </a:r>
            <a:endParaRPr b="0" lang="en-US" sz="11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пустим, надо определить расстояние до телеграфного столба. Направляем на него спичку на вытянутой руке , длина которой у взрослого человека равна приблизительно 60 см. На спичке изображение столба заняло два деления, то есть 4 миллиметра. На этих данных нетрудно составить такую пропорцию: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ина руки / расстояние до столба = отрезок спички / высота столба = 0,60/Х = 0,004 / 6,0; Х=0,60*6,0/0,004=900</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до столба 900 мет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4B66-998B-4369-8ADF-EBAB931059C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Фалес Милетский</a:t>
            </a:r>
            <a:br>
              <a:rPr sz="2000"/>
            </a:b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период с 624 по 547 год до нашей эры жил в Милете человек по имени Фалес.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ын богатого купца, он в молодые годы много путешествовал, занимался торговлей, изучал математику и астрономию у египтян, учился магии у халдеев...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рнувшись в родной город, Фалес не стал тратить время на торговлю. Он принялся давать советы, рассуждать о природе явлений и наподобие иудейских пророков проповедовать свои взгляды перед немногочисленными учениками. </a:t>
            </a: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71B3-0365-4479-9EBD-D83379C444A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обще, Фалесу приписывается масса всевозможных открытий и научных истин. Делать сегодня такие предположения тем более легко, что ни одной строки из сочинений Фалеса никто и никогда не читал. Не исключено, что он вообще ничего не писал. В те годы люди любили это занятие значительно меньше, чем сейча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8E52-998C-4E75-9C2E-61C0E4B3F93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ы называем Фалеса ученым потому, что он первым, по преданию, отказался от помощи богов в объяснении явлений природ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прочем, занимался милетский мыслитель не только рассуждениями о «высоких материях». Не гнушался он давать и практические советы.</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640C-D996-4D9B-904B-DE7A196C11A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ходил к Фалесу человек и спрашивал: «Как прожить честно?» И Фалес отвечал: «Не делай того, что считаешь постыдным для други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ходил к нему купец, не решающийся отправиться в путешествие, — мудрец и тут не ударял в грязь лицом, у него был неплохой опыт в странствиях и было что посоветовать.</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F7D3-03B4-48AD-9768-13FD7639D17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Высказывания Фалес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прекраснее всего? - Мир, ибо все, что прекрасно устроено, является его часть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Что мудрее всего? - Время, оно породило одно и породит друго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обще всем? - Надежда: ее имеют и те, у кого нет ничего другог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полезнее всего? - Добродетель, ибо благодаря ей все иное может найти применение и стать полез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амое вредное? - Порок, ибо в его присутствии портится почти вс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Что сильнее всего? - Необходимость, ибо она непреодоли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амое легкое? - То, что соответствует природе, ибо даже наслаждения часто утомляю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46B2-07CC-4D87-B0DA-C3E1B725ECA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щем, скоро авторитет Фалеса среди сограждан стал необыкновенно высоким. Но особенно он возрос после одной истор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1FB3-2B8E-47DF-B3B4-3ADBB578196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обрав астрономические сведения, полученные от египетских жрецов, воедино, Фалес отважился однажды предсказать солнечное затмение. Естественно, ему сначала не поверили. Да и не до того было милетца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менно на тот день была назначена битва мидян с лидийцами. И граждане Милета оживленно обсуждали вопрос, не вмешаться ли им в чужую драку. Фалес решительно высказался против войны. Милетцы остались до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же произошло дальше? Не успели бронзовые мечи мидян ударить по не менее бронзовым щитам лидийцев, как небо стало темнеть. На светлый лик Гелиоса — Солнца надвинулось черное пятно. Охваченные ужасом воины побросали оружие и дали тяг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А милетцы? Напуганные в основном колдовской точностью предсказания Фалеса, они все-таки нашли в себе силы заложить колесницы и выехать на поле несостоявшейся битвы. Там они нагрузили возы брошенным снаряжением, прихватили и кое-кого из не успевших убежать соседей, обратив их тут же в рабство.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сле этого события слава Фалеса возросла невероятно.</a:t>
            </a:r>
            <a:r>
              <a:rPr b="0" lang="ru-RU" sz="1000" spc="-1" strike="noStrike">
                <a:solidFill>
                  <a:srgbClr val="000000"/>
                </a:solidFill>
                <a:latin typeface="Calibri"/>
              </a:rPr>
              <a:t> </a:t>
            </a:r>
            <a:endParaRPr b="0" lang="en-US" sz="10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F6F8-7F9E-423A-A75A-2B4C241D7F6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537F9-E0F1-4A42-A04B-0A4E3FD5A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0F7D3-49B0-481D-A212-2C10C42B3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E3E03-78B2-4848-AD3F-D37A969E8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F5B6C-9D59-4322-BD59-90C7CABE4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6AD11-3E0F-41ED-866F-C1280ED66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3E30B-1DA6-44FF-8E5B-98B2BECD6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D01E6-169F-4B8F-9E33-AE0926212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A3E89-085A-45D0-94B1-2247F9902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4B5F7-1BC9-4B9A-8E12-2160541E3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8B109-3E91-456A-9B45-EFA8EB24B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F1BEA-58F4-4D28-A94A-CFE7B7470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9B462-48CC-43CF-8CB3-1E0A7B132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52019-83EA-48C4-BB84-E9235B103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2C943-92AB-440B-8391-34532B27C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E35D5-0CC1-4263-A353-92C8352A1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5E3EF-ADA4-4FA3-904E-8F03AEFDB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11428-0C87-4D66-ABDB-7B39383A1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882E9-453E-4C5E-B1F9-C6BC62487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DFEEA-2538-48B4-AA20-4762A8F61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C1713-C6C5-4FE9-A5BC-58633CE7C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08567-2E4C-4DE2-A177-198ABE016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CC011-14A8-4A08-97C0-E13FF8ACF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DD079-B7EB-48EF-B9E1-008228659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A1EA2-F906-4670-BF52-328D497EE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a"/>
                  </a:gs>
                  <a:gs pos="100000">
                    <a:srgbClr val="000076"/>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00006f"/>
                  </a:gs>
                  <a:gs pos="50000">
                    <a:srgbClr val="00007a"/>
                  </a:gs>
                  <a:gs pos="100000">
                    <a:srgbClr val="00006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C578-006C-4D46-AB20-20EC56A39C08}"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d"/>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a"/>
                  </a:gs>
                  <a:gs pos="100000">
                    <a:srgbClr val="000076"/>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00006f"/>
                  </a:gs>
                  <a:gs pos="50000">
                    <a:srgbClr val="00007a"/>
                  </a:gs>
                  <a:gs pos="100000">
                    <a:srgbClr val="00006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point.org</a:t>
            </a:r>
            <a:endParaRPr b="0" lang="en-US" sz="1000" spc="-1" strike="noStrike">
              <a:solidFill>
                <a:srgbClr val="ffffff"/>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6A62-91A1-45F2-84DF-3EFFFA4A2CBB}"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211640" y="764640"/>
            <a:ext cx="4316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Геометрия, 8 класс. </a:t>
            </a:r>
            <a:br>
              <a:rPr sz="2800"/>
            </a:br>
            <a:r>
              <a:rPr b="1" i="1" lang="ru-RU" sz="2800" spc="-1" strike="noStrike">
                <a:solidFill>
                  <a:srgbClr val="ffff00"/>
                </a:solidFill>
                <a:latin typeface="Tahoma"/>
              </a:rPr>
              <a:t>Учитель математики</a:t>
            </a:r>
            <a:br>
              <a:rPr sz="2800"/>
            </a:br>
            <a:r>
              <a:rPr b="1" i="1" lang="ru-RU" sz="2800" spc="-1" strike="noStrike">
                <a:solidFill>
                  <a:srgbClr val="ffff00"/>
                </a:solidFill>
                <a:latin typeface="Tahoma"/>
              </a:rPr>
              <a:t> Ковальчук Л.Л.</a:t>
            </a:r>
            <a:endParaRPr b="0" lang="en-US" sz="2800" spc="-1" strike="noStrike">
              <a:solidFill>
                <a:srgbClr val="ccecff"/>
              </a:solidFill>
              <a:latin typeface="Tahoma"/>
            </a:endParaRPr>
          </a:p>
        </p:txBody>
      </p:sp>
      <p:sp>
        <p:nvSpPr>
          <p:cNvPr id="392" name="PlaceHolder 2"/>
          <p:cNvSpPr>
            <a:spLocks noGrp="1"/>
          </p:cNvSpPr>
          <p:nvPr>
            <p:ph type="subTitle"/>
          </p:nvPr>
        </p:nvSpPr>
        <p:spPr>
          <a:xfrm>
            <a:off x="169236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Фалес: </a:t>
            </a:r>
            <a:r>
              <a:rPr b="1" i="1" lang="ru-RU" sz="3200" spc="-1" strike="noStrike">
                <a:solidFill>
                  <a:srgbClr val="ffffff"/>
                </a:solidFill>
                <a:latin typeface="Tahoma"/>
              </a:rPr>
              <a:t>«Познать себя трудно, советовать другим легко»</a:t>
            </a:r>
            <a:r>
              <a:rPr b="1" lang="ru-RU" sz="3200" spc="-1" strike="noStrike">
                <a:solidFill>
                  <a:srgbClr val="ffffff"/>
                </a:solidFill>
                <a:latin typeface="Tahoma"/>
              </a:rPr>
              <a:t>.</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393" name="Picture 7" descr=""/>
          <p:cNvPicPr/>
          <p:nvPr/>
        </p:nvPicPr>
        <p:blipFill>
          <a:blip r:embed="rId1"/>
          <a:srcRect l="0" t="0" r="-18" b="0"/>
          <a:stretch/>
        </p:blipFill>
        <p:spPr>
          <a:xfrm>
            <a:off x="324000" y="189000"/>
            <a:ext cx="3095640" cy="4352760"/>
          </a:xfrm>
          <a:prstGeom prst="rect">
            <a:avLst/>
          </a:prstGeom>
          <a:ln w="57240">
            <a:solidFill>
              <a:srgbClr val="ffffff"/>
            </a:solidFill>
            <a:miter/>
          </a:ln>
        </p:spPr>
      </p:pic>
      <p:sp>
        <p:nvSpPr>
          <p:cNvPr id="3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point.org</a:t>
            </a:r>
            <a:endParaRPr b="0" lang="en-US" sz="1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178920" y="259920"/>
            <a:ext cx="8541000" cy="44989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 сожалению, мудрецы смертны точно так же, как и все остальные люди, пусть даже не отмеченные печатью гения. Сохранилось предание, что во время одной из Олимпиад престарелый мудрец, он был, между прочим, страстным болельщиком, взволнованный победой не то сына, не то внука, привстал на скамье, крикнул «слава!» и упал замертво прямо на стадионе. Горожане похоронили Фалеса. Выбили на его гробнице надпись, гласящую: «Насколько мала эта гробница Фалеса, настолько велика слава этого царя астрономов в области звезд».</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24000" y="333000"/>
            <a:ext cx="8540640" cy="4498920"/>
          </a:xfrm>
          <a:prstGeom prst="rect">
            <a:avLst/>
          </a:prstGeom>
          <a:noFill/>
          <a:ln w="0">
            <a:noFill/>
          </a:ln>
        </p:spPr>
        <p:txBody>
          <a:bodyPr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Фалес также первым вычислил высоту одной из египетских пирамид по ее тени. Открыл продолжительность года и разделил его на 365 дней. Его изречение: "Ни за кого не ручайся", которому вторит и Хилон: "Порука и несчастье всегда вместе". Наиболее известное изречение Фалеса: "Соблюдай меру". </a:t>
            </a:r>
            <a:endParaRPr b="0" lang="en-US" sz="32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
          <p:cNvPicPr/>
          <p:nvPr/>
        </p:nvPicPr>
        <p:blipFill>
          <a:blip r:embed="rId1">
            <a:lum contrast="12000"/>
          </a:blip>
          <a:stretch/>
        </p:blipFill>
        <p:spPr>
          <a:xfrm>
            <a:off x="468360" y="1052640"/>
            <a:ext cx="3851280" cy="4498920"/>
          </a:xfrm>
          <a:prstGeom prst="rect">
            <a:avLst/>
          </a:prstGeom>
          <a:ln w="57240">
            <a:solidFill>
              <a:srgbClr val="ffffff"/>
            </a:solidFill>
            <a:miter/>
          </a:ln>
        </p:spPr>
      </p:pic>
      <p:sp>
        <p:nvSpPr>
          <p:cNvPr id="426" name="PlaceHolder 1"/>
          <p:cNvSpPr>
            <a:spLocks noGrp="1"/>
          </p:cNvSpPr>
          <p:nvPr>
            <p:ph/>
          </p:nvPr>
        </p:nvSpPr>
        <p:spPr>
          <a:xfrm>
            <a:off x="4572000" y="333000"/>
            <a:ext cx="4191120" cy="6048360"/>
          </a:xfrm>
          <a:prstGeom prst="rect">
            <a:avLst/>
          </a:prstGeom>
          <a:noFill/>
          <a:ln w="0">
            <a:noFill/>
          </a:ln>
        </p:spPr>
        <p:txBody>
          <a:bodyPr anchor="t">
            <a:normAutofit/>
          </a:bodyPr>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у Милетскому приписывают простой способ определения высоты пирамиды. В солнечный день он поставил свой посох там, где оканчивалась тень от пирамиды. Затем он показал, что как длина одной тени относится к длине другой тени, так и высота пирамиды относится к высоте посоха.</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3" descr=""/>
          <p:cNvPicPr/>
          <p:nvPr/>
        </p:nvPicPr>
        <p:blipFill>
          <a:blip r:embed="rId1">
            <a:lum contrast="18000"/>
          </a:blip>
          <a:stretch/>
        </p:blipFill>
        <p:spPr>
          <a:xfrm>
            <a:off x="324000" y="836640"/>
            <a:ext cx="3971880" cy="5291280"/>
          </a:xfrm>
          <a:prstGeom prst="rect">
            <a:avLst/>
          </a:prstGeom>
          <a:ln w="57240">
            <a:solidFill>
              <a:srgbClr val="ffffff"/>
            </a:solidFill>
            <a:miter/>
          </a:ln>
        </p:spPr>
      </p:pic>
      <p:sp>
        <p:nvSpPr>
          <p:cNvPr id="429" name="Rectangle 4"/>
          <p:cNvSpPr/>
          <p:nvPr/>
        </p:nvSpPr>
        <p:spPr>
          <a:xfrm>
            <a:off x="4643280" y="1192320"/>
            <a:ext cx="41767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Флюэллинг Ралф Карлин. </a:t>
            </a:r>
            <a:r>
              <a:rPr b="1" i="1" lang="ru-RU" sz="2400" spc="-1" strike="noStrike">
                <a:solidFill>
                  <a:srgbClr val="ffff00"/>
                </a:solidFill>
                <a:latin typeface="Arial"/>
              </a:rPr>
              <a:t>Фалес: «Познать себя трудно, советовать другим легко»:</a:t>
            </a:r>
            <a:r>
              <a:rPr b="1" i="1" lang="ru-RU" sz="2400" spc="-1" strike="noStrike">
                <a:solidFill>
                  <a:srgbClr val="ffffff"/>
                </a:solidFill>
                <a:latin typeface="Arial"/>
              </a:rPr>
              <a:t> Мозаичное панно в Главном читальном зале Философской библиотеки имени Джеймса Хармона Хуза (1929, Лос-Анджелес, Университет Южной Калифорнии, Мадд-холл).</a:t>
            </a:r>
            <a:r>
              <a:rPr b="0" lang="ru-RU" sz="2400" spc="-1" strike="noStrike">
                <a:solidFill>
                  <a:srgbClr val="ffffff"/>
                </a:solidFill>
                <a:latin typeface="Arial"/>
              </a:rPr>
              <a:t> </a:t>
            </a:r>
            <a:endParaRPr b="0" lang="en-US" sz="2400" spc="-1" strike="noStrike">
              <a:solidFill>
                <a:srgbClr val="ffffff"/>
              </a:solidFill>
              <a:latin typeface="Tahoma"/>
            </a:endParaRPr>
          </a:p>
        </p:txBody>
      </p:sp>
      <p:sp>
        <p:nvSpPr>
          <p:cNvPr id="4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ccecff"/>
              </a:solidFill>
              <a:latin typeface="Tahoma"/>
            </a:endParaRPr>
          </a:p>
        </p:txBody>
      </p:sp>
      <p:pic>
        <p:nvPicPr>
          <p:cNvPr id="432" name="Picture 5" descr=""/>
          <p:cNvPicPr/>
          <p:nvPr/>
        </p:nvPicPr>
        <p:blipFill>
          <a:blip r:embed="rId1"/>
          <a:stretch/>
        </p:blipFill>
        <p:spPr>
          <a:xfrm>
            <a:off x="1042920" y="1773360"/>
            <a:ext cx="2754360" cy="3085920"/>
          </a:xfrm>
          <a:prstGeom prst="rect">
            <a:avLst/>
          </a:prstGeom>
          <a:ln w="0">
            <a:noFill/>
          </a:ln>
        </p:spPr>
      </p:pic>
      <p:sp>
        <p:nvSpPr>
          <p:cNvPr id="433" name="PlaceHolder 2"/>
          <p:cNvSpPr>
            <a:spLocks noGrp="1"/>
          </p:cNvSpPr>
          <p:nvPr>
            <p:ph/>
          </p:nvPr>
        </p:nvSpPr>
        <p:spPr>
          <a:xfrm>
            <a:off x="4427280" y="1052280"/>
            <a:ext cx="4190760" cy="4498920"/>
          </a:xfrm>
          <a:prstGeom prst="rect">
            <a:avLst/>
          </a:prstGeom>
          <a:noFill/>
          <a:ln w="0">
            <a:noFill/>
          </a:ln>
        </p:spPr>
        <p:txBody>
          <a:bodyPr anchor="t">
            <a:normAutofit fontScale="92000"/>
          </a:bodyPr>
          <a:p>
            <a:pPr marL="315360" indent="-31536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 Милетский имел титул одного из семи мудрецов Греции, он был поистине первым философом, первым математиком, астрономом и, вообще, первым по всем наукам в Греции. Он был то же для Греции, что Ломоносов для России.</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ccecff"/>
              </a:solidFill>
              <a:latin typeface="Tahoma"/>
            </a:endParaRPr>
          </a:p>
        </p:txBody>
      </p:sp>
      <p:pic>
        <p:nvPicPr>
          <p:cNvPr id="436" name="Picture 5" descr=""/>
          <p:cNvPicPr/>
          <p:nvPr/>
        </p:nvPicPr>
        <p:blipFill>
          <a:blip r:embed="rId1"/>
          <a:stretch/>
        </p:blipFill>
        <p:spPr>
          <a:xfrm>
            <a:off x="826920" y="333360"/>
            <a:ext cx="5710320" cy="3554280"/>
          </a:xfrm>
          <a:prstGeom prst="rect">
            <a:avLst/>
          </a:prstGeom>
          <a:ln w="0">
            <a:noFill/>
          </a:ln>
        </p:spPr>
      </p:pic>
      <p:sp>
        <p:nvSpPr>
          <p:cNvPr id="437" name="PlaceHolder 2"/>
          <p:cNvSpPr>
            <a:spLocks noGrp="1"/>
          </p:cNvSpPr>
          <p:nvPr>
            <p:ph/>
          </p:nvPr>
        </p:nvSpPr>
        <p:spPr>
          <a:xfrm>
            <a:off x="301680" y="3924000"/>
            <a:ext cx="8540640" cy="2174760"/>
          </a:xfrm>
          <a:prstGeom prst="rect">
            <a:avLst/>
          </a:prstGeom>
          <a:noFill/>
          <a:ln w="0">
            <a:noFill/>
          </a:ln>
        </p:spPr>
        <p:txBody>
          <a:bodyPr anchor="t">
            <a:normAutofit/>
          </a:bodyPr>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Фалес на греческой почтовой марке</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8" name="Rectangle 7"/>
          <p:cNvSpPr/>
          <p:nvPr/>
        </p:nvSpPr>
        <p:spPr>
          <a:xfrm>
            <a:off x="2410920" y="6020280"/>
            <a:ext cx="6051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Невежество - тяжкое бремя" (Фалес).</a:t>
            </a: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4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000" y="188640"/>
            <a:ext cx="403236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згляд на развалины Милета</a:t>
            </a:r>
            <a:r>
              <a:rPr b="0" lang="ru-RU" sz="4000" spc="-1" strike="noStrike">
                <a:solidFill>
                  <a:srgbClr val="ccecff"/>
                </a:solidFill>
                <a:latin typeface="Tahoma"/>
              </a:rPr>
              <a:t> </a:t>
            </a:r>
            <a:endParaRPr b="0" lang="en-US" sz="4000" spc="-1" strike="noStrike">
              <a:solidFill>
                <a:srgbClr val="ccecff"/>
              </a:solidFill>
              <a:latin typeface="Tahoma"/>
            </a:endParaRPr>
          </a:p>
        </p:txBody>
      </p:sp>
      <p:pic>
        <p:nvPicPr>
          <p:cNvPr id="441" name="Picture 5" descr=""/>
          <p:cNvPicPr/>
          <p:nvPr/>
        </p:nvPicPr>
        <p:blipFill>
          <a:blip r:embed="rId1"/>
          <a:stretch/>
        </p:blipFill>
        <p:spPr>
          <a:xfrm>
            <a:off x="324000" y="1628640"/>
            <a:ext cx="4184640" cy="4438800"/>
          </a:xfrm>
          <a:prstGeom prst="rect">
            <a:avLst/>
          </a:prstGeom>
          <a:ln w="57240">
            <a:solidFill>
              <a:srgbClr val="ffffff"/>
            </a:solidFill>
            <a:miter/>
          </a:ln>
        </p:spPr>
      </p:pic>
      <p:pic>
        <p:nvPicPr>
          <p:cNvPr id="442" name="Picture 6" descr=""/>
          <p:cNvPicPr/>
          <p:nvPr/>
        </p:nvPicPr>
        <p:blipFill>
          <a:blip r:embed="rId2"/>
          <a:stretch/>
        </p:blipFill>
        <p:spPr>
          <a:xfrm>
            <a:off x="4932360" y="333360"/>
            <a:ext cx="4038480" cy="3193920"/>
          </a:xfrm>
          <a:prstGeom prst="rect">
            <a:avLst/>
          </a:prstGeom>
          <a:ln w="57240">
            <a:solidFill>
              <a:srgbClr val="ffffff"/>
            </a:solidFill>
            <a:miter/>
          </a:ln>
        </p:spPr>
      </p:pic>
      <p:pic>
        <p:nvPicPr>
          <p:cNvPr id="443" name="Picture 8" descr=""/>
          <p:cNvPicPr/>
          <p:nvPr/>
        </p:nvPicPr>
        <p:blipFill>
          <a:blip r:embed="rId3"/>
          <a:stretch/>
        </p:blipFill>
        <p:spPr>
          <a:xfrm>
            <a:off x="4788000" y="4149720"/>
            <a:ext cx="4190760" cy="2174760"/>
          </a:xfrm>
          <a:prstGeom prst="rect">
            <a:avLst/>
          </a:prstGeom>
          <a:ln w="57240">
            <a:solidFill>
              <a:srgbClr val="ffffff"/>
            </a:solidFill>
            <a:miter/>
          </a:ln>
        </p:spPr>
      </p:pic>
      <p:sp>
        <p:nvSpPr>
          <p:cNvPr id="4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Tahoma"/>
              </a:rPr>
              <a:t>Найдите длину неизвестного отрезка x. </a:t>
            </a:r>
            <a:endParaRPr b="0" lang="en-US" sz="4000" spc="-1" strike="noStrike">
              <a:solidFill>
                <a:srgbClr val="ccecff"/>
              </a:solidFill>
              <a:latin typeface="Tahoma"/>
            </a:endParaRPr>
          </a:p>
        </p:txBody>
      </p:sp>
      <p:pic>
        <p:nvPicPr>
          <p:cNvPr id="446" name="Picture 3" descr=""/>
          <p:cNvPicPr/>
          <p:nvPr/>
        </p:nvPicPr>
        <p:blipFill>
          <a:blip r:embed="rId1"/>
          <a:srcRect l="0" t="0" r="-47" b="-2437"/>
          <a:stretch/>
        </p:blipFill>
        <p:spPr>
          <a:xfrm>
            <a:off x="468360" y="1628640"/>
            <a:ext cx="7715160" cy="4637160"/>
          </a:xfrm>
          <a:prstGeom prst="rect">
            <a:avLst/>
          </a:prstGeom>
          <a:ln w="0">
            <a:noFill/>
          </a:ln>
        </p:spPr>
      </p:pic>
      <p:sp>
        <p:nvSpPr>
          <p:cNvPr id="4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ccecff"/>
                </a:solidFill>
                <a:uFillTx/>
                <a:latin typeface="Tahoma"/>
              </a:rPr>
              <a:t>Нахождение расстояния до недоступного предмета.</a:t>
            </a:r>
            <a:r>
              <a:rPr b="0" lang="ru-RU" sz="4000" spc="-1" strike="noStrike">
                <a:solidFill>
                  <a:srgbClr val="ccecff"/>
                </a:solidFill>
                <a:latin typeface="Tahoma"/>
              </a:rPr>
              <a:t> </a:t>
            </a:r>
            <a:endParaRPr b="0" lang="en-US" sz="4000" spc="-1" strike="noStrike">
              <a:solidFill>
                <a:srgbClr val="ccecff"/>
              </a:solidFill>
              <a:latin typeface="Tahoma"/>
            </a:endParaRPr>
          </a:p>
        </p:txBody>
      </p:sp>
      <p:pic>
        <p:nvPicPr>
          <p:cNvPr id="449" name="Picture 3" descr=""/>
          <p:cNvPicPr/>
          <p:nvPr/>
        </p:nvPicPr>
        <p:blipFill>
          <a:blip r:embed="rId1"/>
          <a:stretch/>
        </p:blipFill>
        <p:spPr>
          <a:xfrm>
            <a:off x="684360" y="2060640"/>
            <a:ext cx="8229600" cy="4525920"/>
          </a:xfrm>
          <a:prstGeom prst="rect">
            <a:avLst/>
          </a:prstGeom>
          <a:ln w="0">
            <a:noFill/>
          </a:ln>
        </p:spPr>
      </p:pic>
      <p:sp>
        <p:nvSpPr>
          <p:cNvPr id="4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5"/>
          <p:cNvSpPr/>
          <p:nvPr/>
        </p:nvSpPr>
        <p:spPr>
          <a:xfrm>
            <a:off x="179280" y="228240"/>
            <a:ext cx="8569440" cy="622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о иногда бывает необходимо измерить расстояние и до недоступного предмета. Например, ширину реки. Мы это делаем следующим образом.</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метив на противоположном берегу реки какой-нибудь четко видимый предмет (А) (дерево, скалу), расположенный у самой воды, надо встать точно напротив него и отметить точку, положив на землю камешек или воткнув колышек (Б). Затем, идя вдоль берега по линии,</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32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ерпендикулярной к направлению между предметом на том берегу и колышком, надо отсчитать 30 шагов и воткнуть в землю палку (В). Пройдя в том же направлении еще столько же шагов, снова сделать отметку на земле (Г) и, идя от нее, повернувшись спиной к реке, считать шаги, время от времени поглядывая на намеченный на том берегу предмет. Когда палка В, воткнутая на берегу, окажется на одной линии с предметом А за рекой, то расстояние (Д - Г) от последней отметки до места конечной остановки (Д) будет равно ширине реки.</a:t>
            </a:r>
            <a:endParaRPr b="0" lang="en-US" sz="1800" spc="-1" strike="noStrike">
              <a:solidFill>
                <a:srgbClr val="ffffff"/>
              </a:solidFill>
              <a:latin typeface="Tahoma"/>
            </a:endParaRPr>
          </a:p>
        </p:txBody>
      </p:sp>
      <p:pic>
        <p:nvPicPr>
          <p:cNvPr id="452" name="Picture 6" descr="tmp58-119.jpg"/>
          <p:cNvPicPr/>
          <p:nvPr/>
        </p:nvPicPr>
        <p:blipFill>
          <a:blip r:embed="rId1"/>
          <a:stretch/>
        </p:blipFill>
        <p:spPr>
          <a:xfrm>
            <a:off x="324000" y="2060640"/>
            <a:ext cx="2323800" cy="2095560"/>
          </a:xfrm>
          <a:prstGeom prst="rect">
            <a:avLst/>
          </a:prstGeom>
          <a:ln w="38160">
            <a:solidFill>
              <a:srgbClr val="000000"/>
            </a:solidFill>
            <a:miter/>
          </a:ln>
        </p:spPr>
      </p:pic>
      <p:sp>
        <p:nvSpPr>
          <p:cNvPr id="4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492000" y="260280"/>
            <a:ext cx="5342040" cy="6408720"/>
          </a:xfrm>
          <a:prstGeom prst="rect">
            <a:avLst/>
          </a:prstGeom>
          <a:noFill/>
          <a:ln w="0">
            <a:noFill/>
          </a:ln>
        </p:spPr>
        <p:txBody>
          <a:bodyPr anchor="t">
            <a:normAutofit fontScale="97000"/>
          </a:bodyPr>
          <a:p>
            <a:pPr marL="332640" indent="-33264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 (ок. 625 – ок. 547 до н. э.), древнегреческий мыслитель, родоначальник античной философии и науки, основатель милетской школы.  Причиной солнечных затмений считал Луну, которую рассматривал как темное тело, затмевающее свет от Солнца. Предсказал солнечное затмение 28 мая 585 года до н.э. Фалес открыл наклон эклиптики к экватору, определил угловую величину Луны. Стал первым, кто ввел в математику принцип математического доказательства, доказал несколько теорем геометрии. </a:t>
            </a:r>
            <a:endParaRPr b="0" lang="en-US" sz="2400" spc="-1" strike="noStrike">
              <a:solidFill>
                <a:srgbClr val="ffffff"/>
              </a:solidFill>
              <a:latin typeface="Tahoma"/>
            </a:endParaRPr>
          </a:p>
        </p:txBody>
      </p:sp>
      <p:pic>
        <p:nvPicPr>
          <p:cNvPr id="396" name="Picture 10" descr=""/>
          <p:cNvPicPr/>
          <p:nvPr/>
        </p:nvPicPr>
        <p:blipFill>
          <a:blip r:embed="rId1">
            <a:lum contrast="12000"/>
          </a:blip>
          <a:stretch/>
        </p:blipFill>
        <p:spPr>
          <a:xfrm>
            <a:off x="250920" y="1125360"/>
            <a:ext cx="3190680" cy="4392720"/>
          </a:xfrm>
          <a:prstGeom prst="rect">
            <a:avLst/>
          </a:prstGeom>
          <a:ln w="57240">
            <a:solidFill>
              <a:srgbClr val="ffffff"/>
            </a:solidFill>
            <a:miter/>
          </a:ln>
        </p:spPr>
      </p:pic>
      <p:sp>
        <p:nvSpPr>
          <p:cNvPr id="3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
          <p:cNvPicPr/>
          <p:nvPr/>
        </p:nvPicPr>
        <p:blipFill>
          <a:blip r:embed="rId1"/>
          <a:stretch/>
        </p:blipFill>
        <p:spPr>
          <a:xfrm>
            <a:off x="395280" y="1989000"/>
            <a:ext cx="1728720" cy="2098800"/>
          </a:xfrm>
          <a:prstGeom prst="rect">
            <a:avLst/>
          </a:prstGeom>
          <a:ln w="0">
            <a:noFill/>
          </a:ln>
        </p:spPr>
      </p:pic>
      <p:sp>
        <p:nvSpPr>
          <p:cNvPr id="455" name="Rectangle 5"/>
          <p:cNvSpPr/>
          <p:nvPr/>
        </p:nvSpPr>
        <p:spPr>
          <a:xfrm>
            <a:off x="2268360" y="-55440"/>
            <a:ext cx="6624720" cy="704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ределение расстояния построением подобных треугольников</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 определении расстояния до недоступных предметов используют различные приемы, связанные с построением подобных треугольнико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пределение расстояния с помощью спички. Спичка - простейший дальномер. Предварительно на ней надо нанести чернилами или карандашом двухмиллиметровые деления. Необходимо также знать примерную высоту предмета, до которого определяется расстояние. </a:t>
            </a:r>
            <a:r>
              <a:rPr b="1" lang="ru-RU" sz="1600" spc="-1" strike="noStrike">
                <a:solidFill>
                  <a:srgbClr val="ffffff"/>
                </a:solidFill>
                <a:latin typeface="Arial"/>
              </a:rPr>
              <a:t>Так, рост человека в метрах равен 1,7, колесо велосипеда имеет высоту 0,75, всадник - 2,2, телеграфный столб - 6, одноэтажный дом без крыши - 2,5 - 4 метр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опустим, надо определить расстояние до телеграфного столба. Направляем на него спичку на вытянутой руке , длина которой у взрослого человека равна приблизительно 60 см. На спичке изображение столба заняло два деления, то есть 4 миллиметра. На этих данных нетрудно составить такую пропорцию: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лина руки / расстояние до столба = отрезок спички / высота столба = 0,60/Х = 0,004 / 6,0; Х=0,60*6,0/0,004=900</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им образом, до столба 900 метро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4" descr=""/>
          <p:cNvPicPr/>
          <p:nvPr/>
        </p:nvPicPr>
        <p:blipFill>
          <a:blip r:embed="rId1"/>
          <a:srcRect l="0" t="0" r="-118" b="113"/>
          <a:stretch/>
        </p:blipFill>
        <p:spPr>
          <a:xfrm>
            <a:off x="1187280" y="0"/>
            <a:ext cx="6913800" cy="6858000"/>
          </a:xfrm>
          <a:prstGeom prst="rect">
            <a:avLst/>
          </a:prstGeom>
          <a:ln w="0">
            <a:noFill/>
          </a:ln>
        </p:spPr>
      </p:pic>
      <p:sp>
        <p:nvSpPr>
          <p:cNvPr id="4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4" descr=""/>
          <p:cNvPicPr/>
          <p:nvPr/>
        </p:nvPicPr>
        <p:blipFill>
          <a:blip r:embed="rId1"/>
          <a:srcRect l="0" t="0" r="-85" b="18"/>
          <a:stretch/>
        </p:blipFill>
        <p:spPr>
          <a:xfrm>
            <a:off x="1332000" y="0"/>
            <a:ext cx="6335640" cy="6858000"/>
          </a:xfrm>
          <a:prstGeom prst="rect">
            <a:avLst/>
          </a:prstGeom>
          <a:ln w="0">
            <a:noFill/>
          </a:ln>
        </p:spPr>
      </p:pic>
      <p:sp>
        <p:nvSpPr>
          <p:cNvPr id="4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Tahoma"/>
              </a:rPr>
              <a:t>Фалес Милетский</a:t>
            </a:r>
            <a:br>
              <a:rPr sz="4000"/>
            </a:br>
            <a:endParaRPr b="0" lang="en-US" sz="4000" spc="-1" strike="noStrike">
              <a:solidFill>
                <a:srgbClr val="ccecff"/>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период с 624 по 547 год до нашей эры жил в Милете человек по имени Фалес. </a:t>
            </a:r>
            <a:endParaRPr b="0" lang="en-US" sz="2400" spc="-1" strike="noStrike">
              <a:solidFill>
                <a:srgbClr val="ffffff"/>
              </a:solidFill>
              <a:latin typeface="Tahoma"/>
            </a:endParaRPr>
          </a:p>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ын богатого купца, он в молодые годы много путешествовал, занимался торговлей, изучал математику и астрономию у египтян, учился магии у халдеев... </a:t>
            </a:r>
            <a:endParaRPr b="0" lang="en-US" sz="2400" spc="-1" strike="noStrike">
              <a:solidFill>
                <a:srgbClr val="ffffff"/>
              </a:solidFill>
              <a:latin typeface="Tahoma"/>
            </a:endParaRPr>
          </a:p>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ернувшись в родной город, Фалес не стал тратить время на торговлю. Он принялся давать советы, рассуждать о природе явлений и наподобие иудейских пророков проповедовать свои взгляды перед немногочисленными учениками. </a:t>
            </a:r>
            <a:endParaRPr b="0" lang="en-US" sz="2400" spc="-1" strike="noStrike">
              <a:solidFill>
                <a:srgbClr val="ffffff"/>
              </a:solidFill>
              <a:latin typeface="Tahoma"/>
            </a:endParaRPr>
          </a:p>
        </p:txBody>
      </p:sp>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324000" y="404640"/>
            <a:ext cx="8540640" cy="4499280"/>
          </a:xfrm>
          <a:prstGeom prst="rect">
            <a:avLst/>
          </a:prstGeom>
          <a:noFill/>
          <a:ln w="0">
            <a:noFill/>
          </a:ln>
        </p:spPr>
        <p:txBody>
          <a:bodyPr anchor="t">
            <a:normAutofit/>
          </a:bodyPr>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Вообще, Фалесу приписывается масса всевозможных открытий и научных истин. Делать сегодня такие предположения тем более легко, что ни одной строки из сочинений Фалеса никто и никогда не читал. Не исключено, что он вообще ничего не писал. В те годы люди любили это занятие значительно меньше, чем сейчас. </a:t>
            </a:r>
            <a:endParaRPr b="0" lang="en-US" sz="3200" spc="-1" strike="noStrike">
              <a:solidFill>
                <a:srgbClr val="ffffff"/>
              </a:solidFill>
              <a:latin typeface="Tahoma"/>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5" descr=""/>
          <p:cNvPicPr/>
          <p:nvPr/>
        </p:nvPicPr>
        <p:blipFill>
          <a:blip r:embed="rId1"/>
          <a:stretch/>
        </p:blipFill>
        <p:spPr>
          <a:xfrm>
            <a:off x="395280" y="476280"/>
            <a:ext cx="4191120" cy="2808360"/>
          </a:xfrm>
          <a:prstGeom prst="rect">
            <a:avLst/>
          </a:prstGeom>
          <a:ln w="57240">
            <a:solidFill>
              <a:srgbClr val="ffffff"/>
            </a:solidFill>
            <a:miter/>
          </a:ln>
        </p:spPr>
      </p:pic>
      <p:sp>
        <p:nvSpPr>
          <p:cNvPr id="404" name="PlaceHolder 1"/>
          <p:cNvSpPr>
            <a:spLocks noGrp="1"/>
          </p:cNvSpPr>
          <p:nvPr>
            <p:ph/>
          </p:nvPr>
        </p:nvSpPr>
        <p:spPr>
          <a:xfrm>
            <a:off x="4643280" y="549000"/>
            <a:ext cx="4191120" cy="6119640"/>
          </a:xfrm>
          <a:prstGeom prst="rect">
            <a:avLst/>
          </a:prstGeom>
          <a:noFill/>
          <a:ln w="0">
            <a:noFill/>
          </a:ln>
        </p:spPr>
        <p:txBody>
          <a:bodyPr anchor="t">
            <a:normAutofit/>
          </a:bodyPr>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ы называем Фалеса ученым потому, что он первым, по преданию, отказался от помощи богов в объяснении явлений природы. </a:t>
            </a:r>
            <a:endParaRPr b="0" lang="en-US" sz="2400" spc="-1" strike="noStrike">
              <a:solidFill>
                <a:srgbClr val="ffffff"/>
              </a:solidFill>
              <a:latin typeface="Tahoma"/>
            </a:endParaRPr>
          </a:p>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прочем, занимался милетский мыслитель не только рассуждениями о «высоких материях». Не гнушался он давать и практические советы.</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405" name="Picture 7" descr=""/>
          <p:cNvPicPr/>
          <p:nvPr/>
        </p:nvPicPr>
        <p:blipFill>
          <a:blip r:embed="rId2"/>
          <a:stretch/>
        </p:blipFill>
        <p:spPr>
          <a:xfrm>
            <a:off x="1403280" y="3716280"/>
            <a:ext cx="2075040" cy="2305080"/>
          </a:xfrm>
          <a:prstGeom prst="rect">
            <a:avLst/>
          </a:prstGeom>
          <a:ln w="57240">
            <a:solidFill>
              <a:srgbClr val="ffffff"/>
            </a:solidFill>
            <a:miter/>
          </a:ln>
        </p:spPr>
      </p:pic>
      <p:sp>
        <p:nvSpPr>
          <p:cNvPr id="4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95280" y="691920"/>
            <a:ext cx="8540640" cy="4498920"/>
          </a:xfrm>
          <a:prstGeom prst="rect">
            <a:avLst/>
          </a:prstGeom>
          <a:noFill/>
          <a:ln w="0">
            <a:noFill/>
          </a:ln>
        </p:spPr>
        <p:txBody>
          <a:bodyPr anchor="t">
            <a:normAutofit/>
          </a:bodyPr>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Приходил к Фалесу человек и спрашивал: «Как прожить честно?» И Фалес отвечал: «Не делай того, что считаешь постыдным для других». </a:t>
            </a:r>
            <a:endParaRPr b="0" lang="en-US" sz="2800" spc="-1" strike="noStrike">
              <a:solidFill>
                <a:srgbClr val="ffffff"/>
              </a:solidFill>
              <a:latin typeface="Tahoma"/>
            </a:endParaRPr>
          </a:p>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Приходил к нему купец, не решающийся отправиться в путешествие, — мудрец и тут не ударял в грязь лицом, у него был неплохой опыт в странствиях и было что посоветовать.</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408" name="Picture 4" descr=""/>
          <p:cNvPicPr/>
          <p:nvPr/>
        </p:nvPicPr>
        <p:blipFill>
          <a:blip r:embed="rId1">
            <a:lum contrast="18000"/>
          </a:blip>
          <a:stretch/>
        </p:blipFill>
        <p:spPr>
          <a:xfrm>
            <a:off x="250920" y="4797360"/>
            <a:ext cx="2736720" cy="1646280"/>
          </a:xfrm>
          <a:prstGeom prst="rect">
            <a:avLst/>
          </a:prstGeom>
          <a:ln w="57240">
            <a:solidFill>
              <a:srgbClr val="ffffff"/>
            </a:solidFill>
            <a:miter/>
          </a:ln>
        </p:spPr>
      </p:pic>
      <p:pic>
        <p:nvPicPr>
          <p:cNvPr id="409" name="Picture 5" descr=""/>
          <p:cNvPicPr/>
          <p:nvPr/>
        </p:nvPicPr>
        <p:blipFill>
          <a:blip r:embed="rId2">
            <a:lum contrast="12000"/>
          </a:blip>
          <a:stretch/>
        </p:blipFill>
        <p:spPr>
          <a:xfrm>
            <a:off x="3203640" y="4869000"/>
            <a:ext cx="2663640" cy="1601640"/>
          </a:xfrm>
          <a:prstGeom prst="rect">
            <a:avLst/>
          </a:prstGeom>
          <a:ln w="57240">
            <a:solidFill>
              <a:srgbClr val="ffffff"/>
            </a:solidFill>
            <a:miter/>
          </a:ln>
        </p:spPr>
      </p:pic>
      <p:pic>
        <p:nvPicPr>
          <p:cNvPr id="410" name="Picture 6" descr=""/>
          <p:cNvPicPr/>
          <p:nvPr/>
        </p:nvPicPr>
        <p:blipFill>
          <a:blip r:embed="rId3"/>
          <a:stretch/>
        </p:blipFill>
        <p:spPr>
          <a:xfrm>
            <a:off x="6084720" y="4797360"/>
            <a:ext cx="2808360" cy="1689120"/>
          </a:xfrm>
          <a:prstGeom prst="rect">
            <a:avLst/>
          </a:prstGeom>
          <a:ln w="57240">
            <a:solidFill>
              <a:srgbClr val="ffffff"/>
            </a:solidFill>
            <a:miter/>
          </a:ln>
        </p:spPr>
      </p:pic>
      <p:sp>
        <p:nvSpPr>
          <p:cNvPr id="4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Высказывания Фалеса:</a:t>
            </a:r>
            <a:r>
              <a:rPr b="0" lang="ru-RU" sz="4400" spc="-1" strike="noStrike">
                <a:solidFill>
                  <a:srgbClr val="ccecff"/>
                </a:solidFill>
                <a:latin typeface="Tahoma"/>
              </a:rPr>
              <a:t> </a:t>
            </a:r>
            <a:endParaRPr b="0" lang="en-US" sz="4400" spc="-1" strike="noStrike">
              <a:solidFill>
                <a:srgbClr val="ccecff"/>
              </a:solidFill>
              <a:latin typeface="Tahoma"/>
            </a:endParaRPr>
          </a:p>
        </p:txBody>
      </p:sp>
      <p:sp>
        <p:nvSpPr>
          <p:cNvPr id="413" name="PlaceHolder 2"/>
          <p:cNvSpPr>
            <a:spLocks noGrp="1"/>
          </p:cNvSpPr>
          <p:nvPr>
            <p:ph/>
          </p:nvPr>
        </p:nvSpPr>
        <p:spPr>
          <a:xfrm>
            <a:off x="250920" y="1197000"/>
            <a:ext cx="8540640" cy="5400720"/>
          </a:xfrm>
          <a:prstGeom prst="rect">
            <a:avLst/>
          </a:prstGeom>
          <a:noFill/>
          <a:ln w="0">
            <a:noFill/>
          </a:ln>
        </p:spPr>
        <p:txBody>
          <a:bodyPr anchor="t">
            <a:normAutofit/>
          </a:bodyPr>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прекраснее всего? - Мир, ибо все, что прекрасно устроено, является его частью.</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Что мудрее всего? - Время, оно породило одно и породит другое.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обще всем? - Надежда: ее имеют и те, у кого нет ничего другого.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полезнее всего? - Добродетель, ибо благодаря ей все иное может найти применение и стать полезным.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самое вредное? - Порок, ибо в его присутствии портится почти все.</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Что сильнее всего? - Необходимость, ибо она непреодолима.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самое легкое? - То, что соответствует природе, ибо даже наслаждения часто утомляют" </a:t>
            </a:r>
            <a:endParaRPr b="0" lang="en-US" sz="2400" spc="-1" strike="noStrike">
              <a:solidFill>
                <a:srgbClr val="ffffff"/>
              </a:solidFill>
              <a:latin typeface="Tahoma"/>
            </a:endParaRPr>
          </a:p>
        </p:txBody>
      </p:sp>
      <p:sp>
        <p:nvSpPr>
          <p:cNvPr id="4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178920" y="476280"/>
            <a:ext cx="8541000" cy="2232000"/>
          </a:xfrm>
          <a:prstGeom prst="rect">
            <a:avLst/>
          </a:prstGeom>
          <a:noFill/>
          <a:ln w="0">
            <a:noFill/>
          </a:ln>
        </p:spPr>
        <p:txBody>
          <a:bodyPr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 общем, скоро авторитет Фалеса среди сограждан стал необыкновенно высоким. Но особенно он возрос после одной истории. </a:t>
            </a:r>
            <a:endParaRPr b="0" lang="en-US" sz="3200" spc="-1" strike="noStrike">
              <a:solidFill>
                <a:srgbClr val="ffffff"/>
              </a:solidFill>
              <a:latin typeface="Tahoma"/>
            </a:endParaRPr>
          </a:p>
        </p:txBody>
      </p:sp>
      <p:pic>
        <p:nvPicPr>
          <p:cNvPr id="416" name="Picture 4" descr=""/>
          <p:cNvPicPr/>
          <p:nvPr/>
        </p:nvPicPr>
        <p:blipFill>
          <a:blip r:embed="rId1"/>
          <a:stretch/>
        </p:blipFill>
        <p:spPr>
          <a:xfrm>
            <a:off x="5219640" y="2205000"/>
            <a:ext cx="3525840" cy="4248360"/>
          </a:xfrm>
          <a:prstGeom prst="rect">
            <a:avLst/>
          </a:prstGeom>
          <a:ln w="57240">
            <a:solidFill>
              <a:srgbClr val="ffffff"/>
            </a:solidFill>
            <a:miter/>
          </a:ln>
        </p:spPr>
      </p:pic>
      <p:pic>
        <p:nvPicPr>
          <p:cNvPr id="417" name="Picture 5" descr=""/>
          <p:cNvPicPr/>
          <p:nvPr/>
        </p:nvPicPr>
        <p:blipFill>
          <a:blip r:embed="rId2"/>
          <a:srcRect l="0" t="0" r="0" b="6161"/>
          <a:stretch/>
        </p:blipFill>
        <p:spPr>
          <a:xfrm>
            <a:off x="611280" y="2781360"/>
            <a:ext cx="3529080" cy="3311640"/>
          </a:xfrm>
          <a:prstGeom prst="rect">
            <a:avLst/>
          </a:prstGeom>
          <a:ln w="57240">
            <a:solidFill>
              <a:srgbClr val="ffffff"/>
            </a:solidFill>
            <a:miter/>
          </a:ln>
        </p:spPr>
      </p:pic>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01680" y="188640"/>
            <a:ext cx="8540640" cy="6553080"/>
          </a:xfrm>
          <a:prstGeom prst="rect">
            <a:avLst/>
          </a:prstGeom>
          <a:noFill/>
          <a:ln w="0">
            <a:noFill/>
          </a:ln>
        </p:spPr>
        <p:txBody>
          <a:bodyPr anchor="t">
            <a:normAutofit/>
          </a:bodyPr>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обрав астрономические сведения, полученные от египетских жрецов, воедино, Фалес отважился однажды предсказать солнечное затмение. Естественно, ему сначала не поверили. Да и не до того было милетцам.</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Именно на тот день была назначена битва мидян с лидийцами. И граждане Милета оживленно обсуждали вопрос, не вмешаться ли им в чужую драку. Фалес решительно высказался против войны. Милетцы остались дома. </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Что же произошло дальше? Не успели бронзовые мечи мидян ударить по не менее бронзовым щитам лидийцев, как небо стало темнеть. На светлый лик Гелиоса — Солнца надвинулось черное пятно. Охваченные ужасом воины побросали оружие и дали тягу.</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А милетцы? Напуганные в основном колдовской точностью предсказания Фалеса, они все-таки нашли в себе силы заложить колесницы и выехать на поле несостоявшейся битвы. Там они нагрузили возы брошенным снаряжением, прихватили и кое-кого из не успевших убежать соседей, обратив их тут же в рабство. </a:t>
            </a:r>
            <a:endParaRPr b="0" lang="en-US" sz="2000" spc="-1" strike="noStrike">
              <a:solidFill>
                <a:srgbClr val="ffffff"/>
              </a:solidFill>
              <a:latin typeface="Tahoma"/>
            </a:endParaRPr>
          </a:p>
          <a:p>
            <a:pPr marL="343080" indent="-343080">
              <a:lnSpc>
                <a:spcPct val="80000"/>
              </a:lnSpc>
              <a:spcBef>
                <a:spcPts val="34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осле этого события слава Фалеса возросла невероятно.</a:t>
            </a:r>
            <a:r>
              <a:rPr b="0" lang="ru-RU" sz="1400" spc="-1" strike="noStrike">
                <a:solidFill>
                  <a:srgbClr val="ffffff"/>
                </a:solidFill>
                <a:latin typeface="Tahoma"/>
              </a:rPr>
              <a:t> </a:t>
            </a:r>
            <a:endParaRPr b="0" lang="en-US" sz="1400" spc="-1" strike="noStrike">
              <a:solidFill>
                <a:srgbClr val="ffffff"/>
              </a:solidFill>
              <a:latin typeface="Tahoma"/>
            </a:endParaRPr>
          </a:p>
        </p:txBody>
      </p:sp>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15:38:50Z</dcterms:created>
  <dc:creator>дима</dc:creator>
  <dc:description/>
  <dc:language>en-US</dc:language>
  <cp:lastModifiedBy>LEGION</cp:lastModifiedBy>
  <dcterms:modified xsi:type="dcterms:W3CDTF">2015-01-23T11:42:59Z</dcterms:modified>
  <cp:revision>1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c09000000000001023620</vt:lpwstr>
  </property>
</Properties>
</file>