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0239-843E-4EB9-86C5-D1236C30FC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геометр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3B19-9B61-4453-8964-4E074F746D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ожим на отрез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у Е такую, ч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=BE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да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=AE.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реугольник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ол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C тупой и поэтому больше уг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E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сторо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е стороны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й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пусть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три случая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;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)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C=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по доказанному выше в пункте 2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C=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тиворечит условию. Есл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только что доказали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&l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опять противоречит условию. Остается третья возможность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С &gt;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ма доказ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AC36-5A45-42D9-AFA3-EB61138A73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Расстояние от точки до плос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стоянием от точки до плоск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 наименьшему расстоянию о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точек эт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52E-C2BA-49A6-BB69-AE9A797F7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т разных точек до плоск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прямая АВ пересекает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точке С. Тогда расстояния от точек А и В до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как отрезки АС и В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1F20-8AB7-49CD-957E-C43E45D203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два случая. В случае 1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находятся по одну сторону от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ортогональные проекции точек А и В на плоскость —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енно. Тогда пряма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ртогональной проекцией прям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проходит через точку С. В плоскости , проходящей через прям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бны, и поэтому их катеты пропорциональны гипотенуз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C3A-AE4A-4631-894C-60DC27F6C5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о расстояния от середины отрез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до плоск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мечание 2 (свойство расстояния от середины отрезка до плоскос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расстояния от точек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вны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оответственно. Тогда расстояние от середины С отрезка АВ до этой плоскости рав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если т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разные стороны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к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  если точки А 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расположены по одну сторону от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EB14-7474-43C6-BDAB-4BD48069FE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Теорема о трех перпендикуля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Calibri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перпендикуляр АВ на эту плоскость, наклонная АС, 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на ортогональной проекции В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она перпендикулярна и наклонной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 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лоскость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клон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ямая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плоскости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E3B1-060E-4E68-ADD5-1098E55F36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Угол между наклонной и плос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даны плоскость и наклонная пряма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гол между наклонной и ее ортогональной проекцией на плоскост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7748-304F-4475-A9F9-6DA20288C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ерпендикуляр, наклонная и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 образу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прямоугольный 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7424-51C3-478F-8799-63F0A5ACB7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втор: Аверкина Т.П., учитель МОУ «Тархановская СОШ» Ичалковского района 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5856-AC02-4323-9057-DB518DD383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BDF5-796A-444E-B12F-02034BC8E1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Ортогональная про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ой проекцие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фигур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анную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ит из ортогональных проекций на плоскость 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точек этой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44BB-D36B-4A28-8F33-6C8BB54397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пендикуляр и накл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через точку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надлежащую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рпендикуляром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щенным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С — произвольная точка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личная от В, назыв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клонно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той плос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отрезо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ой проекцие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9197-5D0E-4C56-8DBE-C4EF221BE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292C-9CC0-4872-946A-7BC8CBB046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азатель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сть из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плоскост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ведены перпендикуляр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две наклонны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С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тогда отрезки 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ортогональные проекции этих отрезков на плоскост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треугольник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C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й перпендикуля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этой наклонн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, и проекции В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5FC-1D5A-4489-B26B-7A73B86AF6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0066"/>
                </a:solidFill>
                <a:latin typeface="Calibri"/>
              </a:rPr>
              <a:t>Свойства ортогональной про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имеют общий катет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Если наклонны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, то прямоугольные треугольник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ы по катету и гипотенузе, и тог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=BD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о, если равны проекции ВС 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D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эти же треугольники равны по двум катетам, и тогда у них равны и гипотенуз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и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AE7A-2DAC-42B6-B8AA-53C6251E77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514E-A0B4-4359-8F85-88CE758E5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7570-E083-46BA-B2D8-199100A7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244C-1E29-4E62-AFF6-6B42F70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18DE-4353-4667-987D-9B5D16A8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842C-FD7E-4A16-9633-CB55CBAA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5BAA-2AAD-4399-AE55-EA3911F9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4FB0-67CE-49B9-ABEC-E981745F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BF42-0ED9-4C1C-A3CB-1A4403E2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E52-2E3E-4CAA-8004-14F38ACB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715-2CDC-43DF-8FF7-24CF8576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034E-96A6-4804-88C4-0BDC487B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129D-6065-4AC3-82D2-F6CA8B1C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D1A1-EB71-4993-BF39-8A63C9E2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474D-1E66-45A1-A620-8B206F4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8285-2520-4DEB-B223-7CDA4747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0818-1FF0-413B-AECD-45566D83B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F5D0-567C-4D87-B644-E5449290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D51-79E3-42F8-B238-8DAF89E2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D51-899D-4811-881B-335AB413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CEC-7998-471C-B32C-88610BD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F04-52B4-4439-BCD1-141019A0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9FCB-E445-4C99-BA1D-D914748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E0D-87B4-45F2-9752-FB51ADDE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F75-61AB-4EE7-A5B7-E4CE9AB2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56C5-40D0-473F-844F-006CAC569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53F3-6835-447C-934A-5F702BE6B7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ерпендикуляр и наклонная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 геометрии в 10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50920" y="62064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третье утверждение: одна наклонная длиннее другой тогда и только тогда, когда ортогональная проекция первой наклонной длиннее ортогональной проекции второй наклонной. Пусть, например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ожим на отрез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у Е такую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=BE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=AE.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реугольни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гол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EC тупой и поэтому больше уг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овательно, сторон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, пус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ы три случа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C=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 доказанному выше в пункте 2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=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противоречит условию. Есл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мы только что доказал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D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опять противоречит условию. Остается третья возможность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С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орема доказ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5364000" y="5013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С больш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стороны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Е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4894200" y="1413000"/>
            <a:ext cx="4249800" cy="336204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724360" y="1413000"/>
            <a:ext cx="3019680" cy="3867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1410480" y="260280"/>
            <a:ext cx="63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Расстояние от точки до плоск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684360" y="907920"/>
            <a:ext cx="48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стоянием от точки до плоск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 проходящей через эту точку) называется длина перпендикуляра, опущенного из точки на эту плоскость. Из теоремы о свойствах ортогональной проекции следует, что расстояние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о наименьшему расстоянию от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точек этой плоск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1120680" y="189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т разных точек до плоск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476360" y="1557360"/>
            <a:ext cx="633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чание 1 (свойство расстоянии от разных точек до плоскости). Пусть две точки А и В не принадлежат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а прямая АВ пересекает плоскост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С. Тогда расстояния от точек А и В до плоскост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носятся как отрезки АС и ВС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3203640" y="5229360"/>
            <a:ext cx="2520720" cy="107604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4"/>
          <p:cNvSpPr/>
          <p:nvPr/>
        </p:nvSpPr>
        <p:spPr>
          <a:xfrm>
            <a:off x="250920" y="193680"/>
            <a:ext cx="5111640" cy="61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два случая. В случае 1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находятся по одну сторону от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ортогональные проекции точек А и В на плоскость —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ветственно. Тогда пряма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ортогональной проекцией прямой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проходит через точку С. В плоскости , проходящей через прям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ы, и поэтому их катеты пропорциональны гипотенуз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116000" y="6093000"/>
            <a:ext cx="2638440" cy="7315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6"/>
          <p:cNvSpPr/>
          <p:nvPr/>
        </p:nvSpPr>
        <p:spPr>
          <a:xfrm>
            <a:off x="5724360" y="3933720"/>
            <a:ext cx="26654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ямоугольные треугольни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2"/>
          <a:stretch/>
        </p:blipFill>
        <p:spPr>
          <a:xfrm>
            <a:off x="5400720" y="620640"/>
            <a:ext cx="3743280" cy="33339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8"/>
          <p:cNvSpPr/>
          <p:nvPr/>
        </p:nvSpPr>
        <p:spPr>
          <a:xfrm>
            <a:off x="5292720" y="5157720"/>
            <a:ext cx="353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чай 2, когда точки А и В расположены по разную сторону от плоскости, разберите самостоятельно. Замечание 1 доказ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572000" y="141300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ечание 2 (свойство расстояния от середины отрезка до плоск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расстояния от точек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вны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оответственно. Тогда расстояние от середины С отрезка АВ до этой плоскости рав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694800" y="189000"/>
            <a:ext cx="795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о расстояния от середины отре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 плос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68360" y="515772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086360" cy="3400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"/>
          <p:cNvPicPr/>
          <p:nvPr/>
        </p:nvPicPr>
        <p:blipFill>
          <a:blip r:embed="rId2"/>
          <a:stretch/>
        </p:blipFill>
        <p:spPr>
          <a:xfrm>
            <a:off x="4716360" y="3429000"/>
            <a:ext cx="666720" cy="7430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3"/>
          <a:stretch/>
        </p:blipFill>
        <p:spPr>
          <a:xfrm>
            <a:off x="4643280" y="4797360"/>
            <a:ext cx="762120" cy="6955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0"/>
          <p:cNvSpPr/>
          <p:nvPr/>
        </p:nvSpPr>
        <p:spPr>
          <a:xfrm>
            <a:off x="5580000" y="342900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5651640" y="4724280"/>
            <a:ext cx="327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точ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одну сторону от   если точки А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асположены по разные стороны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3851280" y="907920"/>
            <a:ext cx="507672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Прямая, лежащая в плоскости, перпендикулярна наклонной тогда и только тогда, когда она перпендикулярна ее ортогональной прое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сть даны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перпендикуляр АВ на эту плоскость, наклонная АС, 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Нам надо доказать два взаимно обратных утверждения. Первое утверждение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наклонной АС, то она перпендикулярна и ее ортогональной проекции ВС. И обратно: если прям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на ортогональной проекции 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она перпендикулярна и наклонной 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250920" y="4797360"/>
            <a:ext cx="31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 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оск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клон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С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а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лоск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1699200" y="0"/>
            <a:ext cx="610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Теорема о трех перпендикуля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0" y="1341360"/>
            <a:ext cx="3781440" cy="31813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131080" cy="5329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2"/>
          <a:stretch/>
        </p:blipFill>
        <p:spPr>
          <a:xfrm>
            <a:off x="5343480" y="981000"/>
            <a:ext cx="3800520" cy="28861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7"/>
          <p:cNvSpPr/>
          <p:nvPr/>
        </p:nvSpPr>
        <p:spPr>
          <a:xfrm>
            <a:off x="6084720" y="4005360"/>
            <a:ext cx="285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ая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 перпендикулярна плоскости АВ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50920" y="765000"/>
            <a:ext cx="889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сть даны плоскость и наклонная прямая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глом между прямой и плоскостью называется угол между прямой и ее ортогональной проекцией на эту плоскость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ямая параллельна плоскости, то угол между ней и плоскостью считается равным нулю. Если прямая перпендикулярна плоскости, то угол между ней и плоскостью прямой, т. е. равен 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63960" y="189000"/>
            <a:ext cx="67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Угол между наклонной и плоско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471600" y="6165720"/>
            <a:ext cx="80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ол между наклонной и ее ортогональной проекцией на плоскос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1476360" y="3357720"/>
            <a:ext cx="5400720" cy="2771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5662800" cy="403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3348000" cy="20365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6084720" y="3068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рпендикуляр, наклонная и 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ртогональная проекция образ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рямоугольный 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4360" y="1412640"/>
            <a:ext cx="80071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Аверкина Т.П., учитель МОУ «Тархановская СОШ» Ичалковского района 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826920" y="189000"/>
            <a:ext cx="80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дном из предыдущих уроков вы познакомились с понятием проекции точки на данную плоскость параллельно данной пря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этом уроке вы продолжите изучение прямых и плоскостей; узнаете, как находится угол между прямой и плоскостью. Вы познакомитесь с понятием ортогональной проекции на плоскость и рассмотрите ее свойства. На уроке будут даны определения расстояния от точки до плоскости и от точки до прямой, угла между прямой и плоскостью. Будет доказана знаменитая теорема о тре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пендикуляр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25320" y="266760"/>
            <a:ext cx="7894800" cy="6324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34880" y="209520"/>
            <a:ext cx="8275680" cy="64404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2987640" y="476280"/>
            <a:ext cx="594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ой проекц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называется проекция точки на эту плоскость параллельно прямой, перпендикулярной этой плоскост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фигур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данную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из ортогональных проекций на плоскость 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х точек эт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огональная проекция часто используется для изображения пространственных тел на плоскости, особенно в технических чертежах. Она дает более реалистическое изображение, чем произвольная параллельная проекция, особенно круглы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201760" y="65160"/>
            <a:ext cx="46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ртогональная про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24955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2486160" cy="1952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253440" y="263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и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53440" y="57340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ая проек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250920" y="8366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точку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инадлежащую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оведена прямая, перпендикулярная этой плоскости и пересекающая ее в точке В. Тогд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пендикуляром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ущенным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у плоскость, а сама точка В — основанием этого перпендикуляра. Любой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С — произвольная точка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личная от В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клонн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этой плоск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что точка В в этом определении является ортогональной проекцией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трезок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ой проекцие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 Ортогональные проекции обладают всеми свойствами обычных параллельных проекций, но имеют и ряд новых свой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835280" y="260280"/>
            <a:ext cx="34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365800" y="479736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 и наклонн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4896000" y="1413000"/>
            <a:ext cx="4248000" cy="3105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39640" y="787320"/>
            <a:ext cx="8280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ь из одной точки к плоскости проведены перпендикуляр и несколько наклонных. Тогда справедливы следующие утвер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       Любая наклонная длиннее как перпендикуляра, так и ортогональной проекции наклонной на эту плоск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        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        Одна наклонная длиннее другой тогда и только тогда, когда ортогональная проекция первой наклонной длиннее ортогональной проекции второй наклон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1486800" y="18900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4000" y="76500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из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едены перпендикуля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ве наклонны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С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тогда отрезки ВС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— ортогональные проекции этих отрезков на 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ем первое утверждение: любая наклонная длиннее как перпендикуляра, так и ортогональной проекции наклонной на эту плоскость. Рассмотрим, например, наклонну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 треугольник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ный перпендикуляро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этой наклонн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и ее ортогональной проекцией ВС. Этот треугольник прямоугольный с прямым углом в вершине В и гипотенуз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, которая, как мы знаем из планиметрии, длиннее каждого из катетов, т.е. и перпендикуля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, и проекции 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497560" y="4221000"/>
            <a:ext cx="3646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очки А к плоско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 АВ и две наклонны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364000" y="1413000"/>
            <a:ext cx="3391200" cy="2571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486800" y="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Свойства ортогональной прое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780000" y="558720"/>
            <a:ext cx="5076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докажем второе утверждение, а именно: равные наклонные имеют и равные ортогональные проекции, и наоборот, наклонные, имеющие равные проекции, также рав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имеют общий кат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Если наклонн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, то прямоугольные треугольни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вны по катету и гипотенузе, и тог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=BD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тно, если равны проекции ВС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 эти же треугольники равны по двум катетам, и тогда у них равны и гипотенуз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84360" y="4581360"/>
            <a:ext cx="20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угольни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ы по катету и гипотену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8940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6:11:06Z</dcterms:created>
  <dc:creator>Надя</dc:creator>
  <dc:description/>
  <dc:language>en-US</dc:language>
  <cp:lastModifiedBy>LEGION</cp:lastModifiedBy>
  <dcterms:modified xsi:type="dcterms:W3CDTF">2015-01-23T11:45:02Z</dcterms:modified>
  <cp:revision>60</cp:revision>
  <dc:subject/>
  <dc:title>Перпендикуляр и наклонная</dc:title>
</cp:coreProperties>
</file>