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6BF4-FD09-4304-AE5C-1B17CD1737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геометр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99FA-2424-41E4-8701-451B66FA21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ожим на отрез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у Е такую, ч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=BE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=AE.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угольни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C тупой и поэтому больше уг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E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сторо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сторон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й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пу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три случая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по доказанному выше в пункте 2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=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тиворечит условию. Ес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только что доказали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пять противоречит условию. Остается третья возможность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ма доказ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6583-3133-44F1-941C-08AD236C80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Расстояние от точки до плос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стоянием от точки до плоск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 наименьшему расстоянию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точек эт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5792-0ACC-4F8E-8CD6-EA39F3C240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т разных точек до плос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ямая АВ пересекает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точке С. Тогда расстояния от точек А и В 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как отрезки АС и В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3553-CB8B-4A5B-92BB-3AA0038064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два случая. В случае 1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находятся по одну сторону о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ортогональные проекции точек А и В на плоскость —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. Тогда пряма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ртогональной проекцией прям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проходит через точку С. В плоскости , проходящей через прям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, и поэтому их катеты пропорциональны гипотенуз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9B03-49A3-468B-879C-C2303F317C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я от середины отрез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до плоск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ние 2 (свойство расстояния от середины отрезка до плоск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расстояния от точек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вны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оответственно. Тогда расстояние от середины С отрезка АВ до этой плоскости рав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разные стороны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F39B-2CE3-46A1-83C0-7F8E0FD9D7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Теорема о трех перпендику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ерпендикуляр АВ на эту плоскость, наклонная АС, 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ортогональной проекции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она перпендикулярна и наклонной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кло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ям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2B0E-7237-4B4F-B96D-40B75A7A93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Угол между наклонной и плос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и наклонная пряма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 между наклонной и ее ортогональной проекцией на плоскост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434C-8F58-4F24-8A76-72ECB47606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ерпендикуляр, наклонная и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 образ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рямоугольный 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5286-72DD-4CFE-BD36-F0746DE2FC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: Аверкина Т.П., учитель МОУ «Тархановская СОШ» Ичалковского района 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4CAC-8F95-47B3-994B-C98DF1B7F1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34A6-8512-404E-B761-9E923C9382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ой проекц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фиг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ортогональных проекций на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точек этой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2814-45B2-4A29-BAC7-636B326733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через точк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надлежащую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пендикуляром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щенным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 — произвольная точка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личная от В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клонн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ой проекцие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667E-4DC9-44F6-B27B-36BCB5E762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8099-65EC-42D7-A032-125DD9D074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ведены перпендикуля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ве наклонны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огда отрезки 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ые проекции этих отрезков на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треугольник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C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й перпендикуля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это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и проекции В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6A46-4C35-4C39-BC4F-A9FD7A883B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общий кат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Если наклонн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, то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по катету и гипотенузе, и тог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=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если равны проекции 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эти же треугольники равны по двум катетам, и тогда у них равны и гипотенуз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953E-CEEA-464E-A3D4-E7C0E602C1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609-7E10-4310-9C89-D140A3F7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ED1-3985-43D6-A0C6-8DBA5A6E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AFA-4789-437C-B6BB-0D2815C6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428-9791-4314-A819-167CDE54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7F50-4AD3-433F-B18A-5978B29A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D0A6-114A-4D41-A04F-C95B729C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D937-2F34-4F62-913D-830320A9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7C99-D196-4026-BCD7-82E41645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733E-B1D2-4703-B0E0-B37B87EB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E616-A978-44E7-844E-98B3DE58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E47F-CB49-43C4-B536-7EE6E70D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712-CF6F-41E2-B0F9-2C125C04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25AB-9925-4D90-9AF7-585FAE40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575D-7DEC-4F4E-8274-DB1867E3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14E9-12AB-4C16-A5EB-51053FC9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48FD-1CC1-4156-A627-7746C256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0BE4-01E5-45B1-838D-29349BB0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FBE-AD68-4328-A03D-B3C59FFC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6F3-F267-4B6B-B034-351659C1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45D-C682-4C72-857A-A97E8126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102-6488-49A0-AA89-B2D82551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22A-543E-4044-AA9B-E4728E6F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7D7-C3C6-40F4-A812-D4770E06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6B2-397E-43A7-B44C-CC9BCC85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8E27-3DAE-4642-B7C7-726E7728A5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C750-25B5-46A0-8F77-DA2B1721F4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LEGION</cp:lastModifiedBy>
  <dcterms:modified xsi:type="dcterms:W3CDTF">2015-01-23T11:45:02Z</dcterms:modified>
  <cp:revision>60</cp:revision>
  <dc:subject/>
  <dc:title>Перпендикуляр и наклонная</dc:title>
</cp:coreProperties>
</file>