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6.png" ContentType="image/png"/>
  <Override PartName="/ppt/media/image15.wmf" ContentType="image/x-wmf"/>
  <Override PartName="/ppt/media/image7.gif" ContentType="image/gif"/>
  <Override PartName="/ppt/media/image14.gif" ContentType="image/gif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3.png" ContentType="image/png"/>
  <Override PartName="/ppt/media/image10.gif" ContentType="image/gif"/>
  <Override PartName="/ppt/media/image8.wmf" ContentType="image/x-wmf"/>
  <Override PartName="/ppt/media/image12.jpeg" ContentType="image/jpeg"/>
  <Override PartName="/ppt/media/image9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5F3B-D0C0-4BC5-9AF7-BB402DF58E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можно успешно использовать для активизации познавательного интереса на уроках математики в 5-6 классах при устной работе или при смены деятельности на уро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1141-BE1B-47FA-9846-F30D60A324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итаем мы направо смело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еометрическое те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очтём же справа мы налево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видим разновидность др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3201-B4A1-4828-BCB8-9DA1B7C162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 «Ш» - для счёта я нуж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 «М» - обидчикам страшн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твет: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ш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ь -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D86E-31BF-4B51-832C-DCBFCFEEA1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логогрифах надо догадаться, о каком слове говорится с начало. Затем в расшифрованное слово надо вставить добавочно одну или две буквыили отбросить и получится новое сло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2869-ADBA-4B02-84C6-3A8D462CA4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Я не люблю у школьника быть в дневни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Ему из-за меня вся не мила прир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Но если внутрь меня поставить «Е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То – среди женского я 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два – д</a:t>
            </a: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44A1-0A74-4295-9D0C-03FD7E0005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Я важная деталь суд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И без меня оно по воле ветра мч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А если букву «Б» ты вставишь внутрь мен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То я – простая денежная еди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руль – ру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б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FF43-A702-4E73-BC40-DC7808E31B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Я с «Л» смягчённым - под землё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Бываю каменный и бур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с твёрдым - в комнате тво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в геометрии фиг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E764-7071-4944-B52B-3422D4713F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шараде требуется отгадать определенное слово. Каждое слово отгадывается не все сразу, а по час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В танце первый слог найде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Цифра это новый слог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Ну, а дальше вы возьм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И приставите пред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В целом – тот, кто защищ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лаву, честь страны род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траха он в бою не зн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И в труде – труда ге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вижение в танце – «п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ифра может быть любая от 1 до 9 или 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озможные предлоги: при, от, пере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методом подбора –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«патрио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775D-C8AB-43C9-8222-C40E06F694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едлог и малое числ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а ними букву скаж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в целом – ты найдешь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чти под домом кажд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По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два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264B-B2E9-4565-8CCD-F832F3897E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исло и нота рядом с ни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а букву припиши соглас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в целом – мастер есть од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н мебель делает прекрасную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сто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ля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0691-72E4-4425-A988-BA8669281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начале - двойка. Далее - мужч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ысокого он титула и ч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слово целиком - обознач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робящее на дозы обучен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ара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3361-D0D4-46AE-BE32-1D9B3D5369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метаграмме зашифровано определенное слово. Его нужно отгадать. Затем в расшифрованном слове следует одну из указанных букв заменить другой буквой, и значение слова измен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CA21-621C-499F-BEC4-AB4780BB9E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Д» - ветвист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З» - костист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К» - ребрист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твет: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з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Д»-деленье обеспе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Ц»-болезни все изле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твет: 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-ц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42B0-41CE-4771-9CB7-EE65266E5E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 «Д» - давно я мерой ста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 «Т» уж нет и выше б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1686-E3F9-42EE-AADC-179E7D5833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н – грызун не очень мелк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бо чуть побольше б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заменишь «У» на «О»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Будет круглое чис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9D46-4883-4FAE-8F1A-0B603D82E5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2AC-4BD3-407C-AD00-C2FA10AF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706C-F455-4E27-9BC5-EDAC9FDB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3DAF-9A19-4946-ADB2-3023443D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A83-780E-4738-B58F-C30DACE9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BCB1-57AB-41CF-86B6-1428B969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3AB-0B62-4C1C-B33F-3D53419D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3670-BEA7-4904-91FE-A9608AD9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F154-4482-4ABD-AEC2-ED5FE911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D575-ABCE-44D9-9CB0-0A6DBE4B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C99-8B0A-416E-B4A0-5F17C505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D97D-78B0-4AFC-AF6E-39AF230E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C931-065E-4F99-A50F-D6284A55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d8d8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57D5-5B37-4BB8-86ED-728272DBD3C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9650-255F-4198-8CCD-FD489E447F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32.wmf"/>
          <p:cNvPicPr/>
          <p:nvPr/>
        </p:nvPicPr>
        <p:blipFill>
          <a:blip r:embed="rId1"/>
          <a:stretch/>
        </p:blipFill>
        <p:spPr>
          <a:xfrm>
            <a:off x="5292720" y="3429000"/>
            <a:ext cx="3743280" cy="3122640"/>
          </a:xfrm>
          <a:prstGeom prst="rect">
            <a:avLst/>
          </a:prstGeom>
          <a:ln w="0">
            <a:noFill/>
          </a:ln>
        </p:spPr>
      </p:pic>
      <p:sp>
        <p:nvSpPr>
          <p:cNvPr id="49" name="Скругленный прямоугольник 5"/>
          <p:cNvSpPr/>
          <p:nvPr/>
        </p:nvSpPr>
        <p:spPr>
          <a:xfrm>
            <a:off x="1979640" y="3645000"/>
            <a:ext cx="360036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ле 6"/>
          <p:cNvSpPr/>
          <p:nvPr/>
        </p:nvSpPr>
        <p:spPr>
          <a:xfrm>
            <a:off x="2050920" y="3860640"/>
            <a:ext cx="34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Учитель математики МОУ Рамонская СОШ №2 Корчагина Г.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Рисунок1цыц"/>
          <p:cNvPicPr/>
          <p:nvPr/>
        </p:nvPicPr>
        <p:blipFill>
          <a:blip r:embed="rId2"/>
          <a:stretch/>
        </p:blipFill>
        <p:spPr>
          <a:xfrm>
            <a:off x="179280" y="5013360"/>
            <a:ext cx="1871640" cy="16477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WordArt 8"/>
          <p:cNvSpPr txBox="1"/>
          <p:nvPr/>
        </p:nvSpPr>
        <p:spPr>
          <a:xfrm>
            <a:off x="480960" y="706320"/>
            <a:ext cx="8094600" cy="22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504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арады,</a:t>
            </a:r>
            <a:endParaRPr b="1" lang="en-US" sz="1800" spc="1" strike="noStrike">
              <a:ln w="0">
                <a:noFill/>
              </a:ln>
              <a:solidFill>
                <a:srgbClr val="c0504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504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аграммы,логогрифы</a:t>
            </a:r>
            <a:endParaRPr b="1" lang="en-US" sz="1800" spc="1" strike="noStrike">
              <a:ln w="0">
                <a:noFill/>
              </a:ln>
              <a:solidFill>
                <a:srgbClr val="c0504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итаем мы направо смело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еометрическое те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чтём же справа мы налево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идим разновидность др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. 4"/>
          <p:cNvSpPr/>
          <p:nvPr/>
        </p:nvSpPr>
        <p:spPr>
          <a:xfrm>
            <a:off x="468360" y="3357720"/>
            <a:ext cx="46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 куб -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б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. 5"/>
          <p:cNvSpPr/>
          <p:nvPr/>
        </p:nvSpPr>
        <p:spPr>
          <a:xfrm>
            <a:off x="539640" y="4206960"/>
            <a:ext cx="596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. 6"/>
          <p:cNvSpPr/>
          <p:nvPr/>
        </p:nvSpPr>
        <p:spPr>
          <a:xfrm>
            <a:off x="755640" y="5661000"/>
            <a:ext cx="40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4" descr="32.wmf"/>
          <p:cNvPicPr/>
          <p:nvPr/>
        </p:nvPicPr>
        <p:blipFill>
          <a:blip r:embed="rId1"/>
          <a:stretch/>
        </p:blipFill>
        <p:spPr>
          <a:xfrm>
            <a:off x="5400720" y="3357720"/>
            <a:ext cx="3743280" cy="3122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8" descr="Рисунок1л"/>
          <p:cNvPicPr/>
          <p:nvPr/>
        </p:nvPicPr>
        <p:blipFill>
          <a:blip r:embed="rId2"/>
          <a:stretch/>
        </p:blipFill>
        <p:spPr>
          <a:xfrm>
            <a:off x="6156360" y="333360"/>
            <a:ext cx="1952640" cy="34369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Ш» - для счёта я нуж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М» - обидчикам страшн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ш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-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. 4"/>
          <p:cNvSpPr/>
          <p:nvPr/>
        </p:nvSpPr>
        <p:spPr>
          <a:xfrm>
            <a:off x="468360" y="3016440"/>
            <a:ext cx="58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К» - фигура без уг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Д» - дружить с тобой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. 5"/>
          <p:cNvSpPr/>
          <p:nvPr/>
        </p:nvSpPr>
        <p:spPr>
          <a:xfrm>
            <a:off x="539640" y="3860640"/>
            <a:ext cx="43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г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. 6"/>
          <p:cNvSpPr/>
          <p:nvPr/>
        </p:nvSpPr>
        <p:spPr>
          <a:xfrm>
            <a:off x="468360" y="4382640"/>
            <a:ext cx="592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частливой цифру ту счит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ри счете её применя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 «М» вот на «Т» поменял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рыбы немало пойм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е 7"/>
          <p:cNvSpPr/>
          <p:nvPr/>
        </p:nvSpPr>
        <p:spPr>
          <a:xfrm>
            <a:off x="539640" y="61135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8" descr="Рисунок112"/>
          <p:cNvPicPr/>
          <p:nvPr/>
        </p:nvPicPr>
        <p:blipFill>
          <a:blip r:embed="rId1"/>
          <a:stretch/>
        </p:blipFill>
        <p:spPr>
          <a:xfrm>
            <a:off x="6012000" y="836640"/>
            <a:ext cx="2952720" cy="26049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0" descr="202"/>
          <p:cNvPicPr/>
          <p:nvPr/>
        </p:nvPicPr>
        <p:blipFill>
          <a:blip r:embed="rId2"/>
          <a:stretch/>
        </p:blipFill>
        <p:spPr>
          <a:xfrm rot="190800">
            <a:off x="6372000" y="3645000"/>
            <a:ext cx="2211120" cy="29541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логогрифах надо догадаться, о каком слове говорится с начало. Затем в расшифрованное слово надо вставить добавочно одну или две буквыили отбросить и получится новое сл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. 4"/>
          <p:cNvSpPr/>
          <p:nvPr/>
        </p:nvSpPr>
        <p:spPr>
          <a:xfrm>
            <a:off x="684000" y="3053880"/>
            <a:ext cx="7463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рифметический я зн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 задачнике меня найдешь во многих строч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ишь «О» ты вставишь, зная к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я – географическая т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 плюс – п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ю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5" descr="Рисунок1вс"/>
          <p:cNvPicPr/>
          <p:nvPr/>
        </p:nvPicPr>
        <p:blipFill>
          <a:blip r:embed="rId1"/>
          <a:stretch/>
        </p:blipFill>
        <p:spPr>
          <a:xfrm>
            <a:off x="6227640" y="4292640"/>
            <a:ext cx="2660760" cy="24541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не люблю у школьника быть в дневник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Ему из-за меня вся не мила приро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о если внутрь меня поставить «Е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о – среди женского я р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два – д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. 4"/>
          <p:cNvSpPr/>
          <p:nvPr/>
        </p:nvSpPr>
        <p:spPr>
          <a:xfrm>
            <a:off x="468360" y="395496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– цифра – меньше деся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ня тебе легко най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о если букве «Я» прикажешь рядом вст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все – отец и ты, и дедушка, и 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семь – сем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5" descr="54474"/>
          <p:cNvPicPr/>
          <p:nvPr/>
        </p:nvPicPr>
        <p:blipFill>
          <a:blip r:embed="rId1"/>
          <a:stretch/>
        </p:blipFill>
        <p:spPr>
          <a:xfrm>
            <a:off x="6012000" y="2708280"/>
            <a:ext cx="2950920" cy="2592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важная деталь суд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без меня оно по воле ветра мчи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 если букву «Б» ты вставишь внутрь мен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о я – простая денежная единиц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руль – ру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3" descr="MONEY1.WMF"/>
          <p:cNvPicPr/>
          <p:nvPr/>
        </p:nvPicPr>
        <p:blipFill>
          <a:blip r:embed="rId1"/>
          <a:stretch/>
        </p:blipFill>
        <p:spPr>
          <a:xfrm>
            <a:off x="6316560" y="3141720"/>
            <a:ext cx="2827440" cy="33433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. 5"/>
          <p:cNvSpPr/>
          <p:nvPr/>
        </p:nvSpPr>
        <p:spPr>
          <a:xfrm>
            <a:off x="468360" y="3818520"/>
            <a:ext cx="630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ождаюсь на мебельной фабрике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в каждом хозяйстве нельзя без м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бросишь последнюю букву мою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азванье большому числу я д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 сто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Я с «Л» смягчённым - под землё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ваю каменный и бур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с твёрдым - в комнате тво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в геометрии фигу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. 4"/>
          <p:cNvSpPr/>
          <p:nvPr/>
        </p:nvSpPr>
        <p:spPr>
          <a:xfrm>
            <a:off x="395280" y="350028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ь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. 5"/>
          <p:cNvSpPr/>
          <p:nvPr/>
        </p:nvSpPr>
        <p:spPr>
          <a:xfrm>
            <a:off x="468360" y="4036320"/>
            <a:ext cx="56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буквой «Р» - с овцы стриг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нити прочные пря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без «Р» - нужна для счё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Цифрой быть - её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оле 6"/>
          <p:cNvSpPr/>
          <p:nvPr/>
        </p:nvSpPr>
        <p:spPr>
          <a:xfrm>
            <a:off x="539640" y="5896080"/>
            <a:ext cx="39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ь - ш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7" descr="1_gif"/>
          <p:cNvPicPr/>
          <p:nvPr/>
        </p:nvPicPr>
        <p:blipFill>
          <a:blip r:embed="rId1"/>
          <a:stretch/>
        </p:blipFill>
        <p:spPr>
          <a:xfrm>
            <a:off x="7524720" y="333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54474"/>
          <p:cNvPicPr/>
          <p:nvPr/>
        </p:nvPicPr>
        <p:blipFill>
          <a:blip r:embed="rId2"/>
          <a:stretch/>
        </p:blipFill>
        <p:spPr>
          <a:xfrm>
            <a:off x="5724360" y="321300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3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шараде требуется отгадать определенное слово. Каждое слово отгадывается не все сразу, а по част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 танце первый слог найдет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Цифра это новый слог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у, а дальше вы возьме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 приставите предло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 целом – тот, кто защищ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лаву, честь страны родно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траха он в бою не зн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 в труде – труда гер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вижение в танце – «па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фра может быть любая от 1 до 9 или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зможные предлоги: при, от, пере и друг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етодом подбора –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«патриот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пав"/>
          <p:cNvPicPr/>
          <p:nvPr/>
        </p:nvPicPr>
        <p:blipFill>
          <a:blip r:embed="rId1"/>
          <a:stretch/>
        </p:blipFill>
        <p:spPr>
          <a:xfrm>
            <a:off x="5148360" y="2060640"/>
            <a:ext cx="3456000" cy="31986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едлог и малое числ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 ними букву скаж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в целом – ты найдешь е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чти под домом кажд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о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ва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32.wmf"/>
          <p:cNvPicPr/>
          <p:nvPr/>
        </p:nvPicPr>
        <p:blipFill>
          <a:blip r:embed="rId1"/>
          <a:stretch/>
        </p:blipFill>
        <p:spPr>
          <a:xfrm>
            <a:off x="5003640" y="3284640"/>
            <a:ext cx="3743640" cy="3122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Рисунок1л"/>
          <p:cNvPicPr/>
          <p:nvPr/>
        </p:nvPicPr>
        <p:blipFill>
          <a:blip r:embed="rId2"/>
          <a:stretch/>
        </p:blipFill>
        <p:spPr>
          <a:xfrm>
            <a:off x="5796000" y="0"/>
            <a:ext cx="1952640" cy="3436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Рисунок1цыц"/>
          <p:cNvPicPr/>
          <p:nvPr/>
        </p:nvPicPr>
        <p:blipFill>
          <a:blip r:embed="rId3"/>
          <a:stretch/>
        </p:blipFill>
        <p:spPr>
          <a:xfrm>
            <a:off x="179280" y="5013360"/>
            <a:ext cx="1871640" cy="164772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исло и нота рядом с ни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 букву припиши согласну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в целом – мастер есть оди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 мебель делает прекрасну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то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я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4" descr="32.wmf"/>
          <p:cNvPicPr/>
          <p:nvPr/>
        </p:nvPicPr>
        <p:blipFill>
          <a:blip r:embed="rId1"/>
          <a:stretch/>
        </p:blipFill>
        <p:spPr>
          <a:xfrm>
            <a:off x="5148360" y="3357720"/>
            <a:ext cx="3743280" cy="31222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. 6"/>
          <p:cNvSpPr/>
          <p:nvPr/>
        </p:nvSpPr>
        <p:spPr>
          <a:xfrm>
            <a:off x="468360" y="4005360"/>
            <a:ext cx="660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кой музыкальный инстру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стоит из меры площад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узыкальной но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Ар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9" descr="Рисунок1л"/>
          <p:cNvPicPr/>
          <p:nvPr/>
        </p:nvPicPr>
        <p:blipFill>
          <a:blip r:embed="rId2"/>
          <a:stretch/>
        </p:blipFill>
        <p:spPr>
          <a:xfrm>
            <a:off x="6156360" y="333360"/>
            <a:ext cx="1952640" cy="34369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. 10"/>
          <p:cNvSpPr/>
          <p:nvPr/>
        </p:nvSpPr>
        <p:spPr>
          <a:xfrm>
            <a:off x="2411280" y="260280"/>
            <a:ext cx="46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начале - двойка. Далее - мужчи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ысокого он титула и ч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слово целиком - обозначень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робящее на дозы обучен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ара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гра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. 4"/>
          <p:cNvSpPr/>
          <p:nvPr/>
        </p:nvSpPr>
        <p:spPr>
          <a:xfrm>
            <a:off x="611280" y="3786840"/>
            <a:ext cx="574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едлог стоит в моём начал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конце же - загородный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целое мы все реш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у доски, и за сто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ле 5"/>
          <p:cNvSpPr/>
          <p:nvPr/>
        </p:nvSpPr>
        <p:spPr>
          <a:xfrm>
            <a:off x="611280" y="57340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6" descr="cifra2"/>
          <p:cNvPicPr/>
          <p:nvPr/>
        </p:nvPicPr>
        <p:blipFill>
          <a:blip r:embed="rId1"/>
          <a:stretch/>
        </p:blipFill>
        <p:spPr>
          <a:xfrm>
            <a:off x="5508720" y="1916280"/>
            <a:ext cx="1846080" cy="2016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Рисунок1йФ"/>
          <p:cNvPicPr/>
          <p:nvPr/>
        </p:nvPicPr>
        <p:blipFill>
          <a:blip r:embed="rId2"/>
          <a:stretch/>
        </p:blipFill>
        <p:spPr>
          <a:xfrm>
            <a:off x="7308720" y="2997360"/>
            <a:ext cx="1729080" cy="22604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8" descr="doc17"/>
          <p:cNvPicPr/>
          <p:nvPr/>
        </p:nvPicPr>
        <p:blipFill>
          <a:blip r:embed="rId3"/>
          <a:stretch/>
        </p:blipFill>
        <p:spPr>
          <a:xfrm>
            <a:off x="4859280" y="4941720"/>
            <a:ext cx="2089080" cy="17067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метаграмме зашифровано определенное слово. Его нужно отгадать. Затем в расшифрованном слове следует одну из указанных букв заменить другой буквой, и значение слова измен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. 4"/>
          <p:cNvSpPr/>
          <p:nvPr/>
        </p:nvSpPr>
        <p:spPr>
          <a:xfrm>
            <a:off x="324000" y="3583440"/>
            <a:ext cx="62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Я приношу с собою бо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Лица по форме искаж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 «Ф» на «П» заменишь ко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То я всего лишь знак с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ф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с –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5" descr="Рисунок1йФ"/>
          <p:cNvPicPr/>
          <p:nvPr/>
        </p:nvPicPr>
        <p:blipFill>
          <a:blip r:embed="rId1"/>
          <a:stretch/>
        </p:blipFill>
        <p:spPr>
          <a:xfrm>
            <a:off x="6804000" y="3860640"/>
            <a:ext cx="1946160" cy="25495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Что это так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Д» - ветвисты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З» - костисты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К» - ребристы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Ответ: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– з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– к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Д»-деленье обеспеч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Ц»-болезни все излеч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Ответ: 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-ц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Рисунок1йФ"/>
          <p:cNvPicPr/>
          <p:nvPr/>
        </p:nvPicPr>
        <p:blipFill>
          <a:blip r:embed="rId1"/>
          <a:stretch/>
        </p:blipFill>
        <p:spPr>
          <a:xfrm>
            <a:off x="5940360" y="4292640"/>
            <a:ext cx="1728720" cy="2260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Рисунок1цыцвы"/>
          <p:cNvPicPr/>
          <p:nvPr/>
        </p:nvPicPr>
        <p:blipFill>
          <a:blip r:embed="rId2"/>
          <a:stretch/>
        </p:blipFill>
        <p:spPr>
          <a:xfrm rot="1860600">
            <a:off x="5508360" y="1628640"/>
            <a:ext cx="3313080" cy="22226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Д» - давно я мерой стал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Т» уж нет и выше бал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. 4"/>
          <p:cNvSpPr/>
          <p:nvPr/>
        </p:nvSpPr>
        <p:spPr>
          <a:xfrm>
            <a:off x="179280" y="379260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де «О»-там учатся все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де «А»-приборам 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. 5"/>
          <p:cNvSpPr/>
          <p:nvPr/>
        </p:nvSpPr>
        <p:spPr>
          <a:xfrm>
            <a:off x="250920" y="51537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9" descr="202"/>
          <p:cNvPicPr/>
          <p:nvPr/>
        </p:nvPicPr>
        <p:blipFill>
          <a:blip r:embed="rId1"/>
          <a:stretch/>
        </p:blipFill>
        <p:spPr>
          <a:xfrm rot="190800">
            <a:off x="6372000" y="3645000"/>
            <a:ext cx="2211120" cy="2954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0" descr="Рисуно"/>
          <p:cNvPicPr/>
          <p:nvPr/>
        </p:nvPicPr>
        <p:blipFill>
          <a:blip r:embed="rId2"/>
          <a:stretch/>
        </p:blipFill>
        <p:spPr>
          <a:xfrm>
            <a:off x="5724360" y="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 – грызун не очень мелк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бо чуть побольше бел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заменишь «У» на «О»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удет круглое чис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. 4"/>
          <p:cNvSpPr/>
          <p:nvPr/>
        </p:nvSpPr>
        <p:spPr>
          <a:xfrm>
            <a:off x="108000" y="3477600"/>
            <a:ext cx="58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к – с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6" descr="Рисунок112"/>
          <p:cNvPicPr/>
          <p:nvPr/>
        </p:nvPicPr>
        <p:blipFill>
          <a:blip r:embed="rId1"/>
          <a:stretch/>
        </p:blipFill>
        <p:spPr>
          <a:xfrm>
            <a:off x="5796000" y="1844640"/>
            <a:ext cx="2952720" cy="26049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. 9"/>
          <p:cNvSpPr/>
          <p:nvPr/>
        </p:nvSpPr>
        <p:spPr>
          <a:xfrm>
            <a:off x="395280" y="4148280"/>
            <a:ext cx="58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К» - для продуктов годна,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М» - для сложенья нуж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. 10"/>
          <p:cNvSpPr/>
          <p:nvPr/>
        </p:nvSpPr>
        <p:spPr>
          <a:xfrm>
            <a:off x="179280" y="5229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м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к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м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1" descr="Рисунок2"/>
          <p:cNvPicPr/>
          <p:nvPr/>
        </p:nvPicPr>
        <p:blipFill>
          <a:blip r:embed="rId2"/>
          <a:stretch/>
        </p:blipFill>
        <p:spPr>
          <a:xfrm>
            <a:off x="7451640" y="5084640"/>
            <a:ext cx="1548000" cy="1511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07:58:19Z</dcterms:created>
  <dc:creator>Сорокина</dc:creator>
  <dc:description/>
  <dc:language>en-US</dc:language>
  <cp:lastModifiedBy>LEGION</cp:lastModifiedBy>
  <dcterms:modified xsi:type="dcterms:W3CDTF">2015-01-23T11:45:30Z</dcterms:modified>
  <cp:revision>40</cp:revision>
  <dc:subject/>
  <dc:title>ЗАДАЧИ   ДЛЯ   «Г И М Н А С Т И К И    У М А».</dc:title>
</cp:coreProperties>
</file>