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B41DC-0AC6-41C2-B4DD-256575ADAA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9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54A7-14BA-41F2-94E6-4210243F1D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ормы правлен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59A5-586C-4842-A27E-EC958E21EEC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Формы государственного устройст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Унитарное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единая структура гос.аппарата, власть главы государства на территории всей страны, единое гражданство, единая система прав, единая судебная система, одноканальная система налогов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Федеративно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ва уровня гос.аппарата – федеральный и республиканский, двойное гражданство, двухканальная система налогов)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онфедеративное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объединение государств на договорной основе, субъекты конфедерации являются полностью самостоятельными государствам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дружество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 объединение государств, в основе которого могут быть общие язык, права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E31B2-50C4-4DAD-944E-FCE0D0EB624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Calibri"/>
              </a:rPr>
              <a:t>Формы политического реж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ДЕМОКРАТИЧЕСКИ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народовластие, правило большинства, права человека, свободные и честные выборы, равенство перед законом, конституционные ограничения правительств, независимое судопроизводство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ТОТАЛИТАР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тираническая, диктаторская власть, тотальный контроль за поведением, деятельностью и мышлением людей, бессудные репрессии, милитаризация, внешнеполитическая агрессивнос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ВТОРИТАРНЫЙ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жесткая власть, которая не покушается на основные гражданские свободы, реально принадлежит в основном одному лицу, правление осуществляется на силовой основе, выборы проводятся нерегулярно и часто фальсифицируются, СМИ не отражают весь спектр мнений различных слоев насе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4EE22-F5AF-4264-AAEA-2C3626597F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в тетради по тем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Государство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обрести Конституцию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в тетради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: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Сумеет ли человечество когда-нибудь в будущем обходиться без государства и как? Существует л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идеальное государство»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и какое оно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F2BCF-A279-4078-9E20-813311FFF8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Что такое государ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основной институт политической системы общества, организующий, направляющий и контролирующий совместную деятельность и взаимоотношения людей, групп, страт, классов, организац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ГОСУДАРСТВО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cc3300"/>
                </a:solidFill>
                <a:latin typeface="Calibri"/>
              </a:rPr>
              <a:t>– главный институт власти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C207-7B51-4500-B9E1-60AB6E9C53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Политическая система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19AA-A6FD-4EE8-86D9-017BED78320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Теоретические подходы сущности </a:t>
            </a: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щественн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лассовы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литико-правово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E926-356A-4AD6-8A06-E739BF12BFC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знак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террито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система управления территор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ая система зако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ополия на легальное применение си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зимание на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язательность членства в государстве –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ставительство от имени общества в международных организация, переговор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верените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3D79-B803-4952-8C2F-38A61F02DB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НУТРЕННИЕ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ит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укрепление основ власти, формирование ее органов, обеспечение суверенитета государства, политической стабильности и т.д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циаль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забота о благополучии граждан, особенно о слабо защищенных, об осуществлении их социальных прав, корректировка отрицательных последствий рыночных отношений и др.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оздействие через законодательство, налоги и пошлины на экономическую жизнь страны, защита экономических прав гражда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F914D-1BBB-424C-AD85-75AACB1EFDB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авоохранительная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оддержание порядка в обществе, борьба с криминальными элементами, защита прав и свобод человека от преступных посягательст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ческ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существление природоохранных мероприятий, участие в разработке и финансировании программ по охране окружающей сред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ационально-культурна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способствование развитию национального самосознания и национальной культуры, организация и финансирование образования, науки, культур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BC00-A8FC-4664-9B01-7AF05D6F51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ункции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НЕШНИЕ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рона страны, развитие дипломатических отношений, экономическая, политическая и военная помощь другим странам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526FF-8E14-4FF5-906B-1F3ABE072B5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3300"/>
                </a:solidFill>
                <a:latin typeface="Calibri"/>
              </a:rPr>
              <a:t>Форма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6AFB-8628-454E-B10C-F3AD18EDBD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6FBD-7975-4DC3-AA0B-53911B04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D64F-104E-46C2-B798-3E65D823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682B-36F1-4E13-ABE7-58E8C696A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3F85-10B6-4D8F-A366-4A921A994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E5D6-6A57-4536-B548-5221ED29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5073-C509-4887-BFA0-E3A65E64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4E85-0BC7-45AC-91EB-9CC65F7CF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053C-4DFB-49F1-B0A7-65331D3EE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666-8B38-4097-A3E8-E325B83C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9B1B-8C5F-4273-9F47-357DA7C0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09C5-4AF3-4326-B1A2-266922561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953C-4475-433F-A90C-5FD33EB25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66E4C-3F20-438B-A696-F21481FD39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4764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ществозн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9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правления государ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611280" y="134136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 flipH="1">
            <a:off x="1186920" y="1341360"/>
            <a:ext cx="79236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6659640" y="1341360"/>
            <a:ext cx="64908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39640" y="2133720"/>
            <a:ext cx="331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4643280" y="2133720"/>
            <a:ext cx="3311640" cy="64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611280" y="21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НАРХ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4788000" y="213372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СПУБ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611280" y="3357720"/>
            <a:ext cx="324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Абсолют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Дуалистиче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арлам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211640" y="1341360"/>
            <a:ext cx="73080" cy="496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4643280" y="3357720"/>
            <a:ext cx="3600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Презид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меш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) Парламент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5"/>
          <p:cNvSpPr/>
          <p:nvPr/>
        </p:nvSpPr>
        <p:spPr>
          <a:xfrm>
            <a:off x="7812000" y="566100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10800"/>
                </a:moveTo>
                <a:lnTo>
                  <a:pt x="19773" y="3794"/>
                </a:lnTo>
                <a:lnTo>
                  <a:pt x="1977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государственного устрой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нитарное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единая структура гос.аппарата, власть главы государства на территории всей страны, единое гражданство, единая система прав, единая судебная система, одноканальная система налогов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Федеративно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два уровня гос.аппарата – федеральный и республиканский, двойное гражданство, двухканальная система налогов)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онфедеративное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объединение государств на договорной основе, субъекты конфедерации являются полностью самостоятельными государствам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дружест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 объединение государств, в основе которого могут быть общие язык, права и т.д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5"/>
          <p:cNvSpPr/>
          <p:nvPr/>
        </p:nvSpPr>
        <p:spPr>
          <a:xfrm>
            <a:off x="7812000" y="5734080"/>
            <a:ext cx="936720" cy="7905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0560"/>
              <a:gd name="textAreaBottom" fmla="*/ 739440 h 790560"/>
            </a:gdLst>
            <a:ahLst/>
            <a:rect l="textAreaLeft" t="textAreaTop" r="textAreaRight" b="textAreaBottom"/>
            <a:pathLst>
              <a:path w="25592" h="21600">
                <a:moveTo>
                  <a:pt x="0" y="0"/>
                </a:moveTo>
                <a:lnTo>
                  <a:pt x="25592" y="0"/>
                </a:lnTo>
                <a:lnTo>
                  <a:pt x="25592" y="21600"/>
                </a:lnTo>
                <a:lnTo>
                  <a:pt x="0" y="21600"/>
                </a:lnTo>
                <a:close/>
              </a:path>
              <a:path fill="lightenLess" w="25592" h="21600">
                <a:moveTo>
                  <a:pt x="0" y="0"/>
                </a:moveTo>
                <a:lnTo>
                  <a:pt x="25592" y="0"/>
                </a:lnTo>
                <a:lnTo>
                  <a:pt x="24192" y="1400"/>
                </a:lnTo>
                <a:lnTo>
                  <a:pt x="1400" y="1400"/>
                </a:lnTo>
                <a:close/>
              </a:path>
              <a:path fill="darken" w="25592" h="21600">
                <a:moveTo>
                  <a:pt x="25592" y="0"/>
                </a:moveTo>
                <a:lnTo>
                  <a:pt x="25592" y="21600"/>
                </a:lnTo>
                <a:lnTo>
                  <a:pt x="24192" y="20200"/>
                </a:lnTo>
                <a:lnTo>
                  <a:pt x="24192" y="1400"/>
                </a:lnTo>
                <a:close/>
              </a:path>
              <a:path fill="darkenLess" w="25592" h="21600">
                <a:moveTo>
                  <a:pt x="2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92" y="20200"/>
                </a:lnTo>
                <a:close/>
              </a:path>
              <a:path fill="lighten" w="2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92" h="21600">
                <a:moveTo>
                  <a:pt x="5789" y="10800"/>
                </a:moveTo>
                <a:lnTo>
                  <a:pt x="19802" y="3794"/>
                </a:lnTo>
                <a:lnTo>
                  <a:pt x="198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Формы политического реж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МОКРАТИЧЕСКИ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народовластие, правило большинства, права человека, свободные и честные выборы, равенство перед законом, конституционные ограничения правительств, независимое судопроизводство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ТАЛИТАР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тираническая, диктаторская власть, тотальный контроль за поведением, деятельностью и мышлением людей, бессудные репрессии, милитаризация, внешнеполитическая агрессивность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ИТАРНЫЙ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жесткая власть, которая не покушается на основные гражданские свободы, реально принадлежит в основном одному лицу, правление осуществляется на силовой основе, выборы проводятся нерегулярно и часто фальсифицируются, СМИ не отражают весь спектр мнений различных слоев населени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7885080" y="5950080"/>
            <a:ext cx="863640" cy="718920"/>
          </a:xfrm>
          <a:custGeom>
            <a:avLst/>
            <a:gdLst>
              <a:gd name="textAreaLeft" fmla="*/ 46440 w 863640"/>
              <a:gd name="textAreaRight" fmla="*/ 817200 w 86364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46" h="21600">
                <a:moveTo>
                  <a:pt x="0" y="0"/>
                </a:moveTo>
                <a:lnTo>
                  <a:pt x="25946" y="0"/>
                </a:lnTo>
                <a:lnTo>
                  <a:pt x="25946" y="21600"/>
                </a:lnTo>
                <a:lnTo>
                  <a:pt x="0" y="21600"/>
                </a:lnTo>
                <a:close/>
              </a:path>
              <a:path fill="lightenLess" w="25946" h="21600">
                <a:moveTo>
                  <a:pt x="0" y="0"/>
                </a:moveTo>
                <a:lnTo>
                  <a:pt x="25946" y="0"/>
                </a:lnTo>
                <a:lnTo>
                  <a:pt x="24546" y="1400"/>
                </a:lnTo>
                <a:lnTo>
                  <a:pt x="1400" y="1400"/>
                </a:lnTo>
                <a:close/>
              </a:path>
              <a:path fill="darken" w="25946" h="21600">
                <a:moveTo>
                  <a:pt x="25946" y="0"/>
                </a:moveTo>
                <a:lnTo>
                  <a:pt x="25946" y="21600"/>
                </a:lnTo>
                <a:lnTo>
                  <a:pt x="24546" y="20200"/>
                </a:lnTo>
                <a:lnTo>
                  <a:pt x="24546" y="1400"/>
                </a:lnTo>
                <a:close/>
              </a:path>
              <a:path fill="darkenLess" w="25946" h="21600">
                <a:moveTo>
                  <a:pt x="259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46" y="20200"/>
                </a:lnTo>
                <a:close/>
              </a:path>
              <a:path fill="lighten" w="259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46" h="21600">
                <a:moveTo>
                  <a:pt x="5966" y="10800"/>
                </a:moveTo>
                <a:lnTo>
                  <a:pt x="19979" y="3794"/>
                </a:lnTo>
                <a:lnTo>
                  <a:pt x="1997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кция в тетради по теме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«Государство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обрести Конституцию РФ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исьменно в тетрад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«Сумеет ли человечество когда-нибудь в будущем обходиться без государства и как? Существует л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«идеальное государство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и какое оно?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Что такое государ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9640" y="2060640"/>
            <a:ext cx="8136000" cy="38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основной институт политической системы общества, организующий, направляющий и контролирующий совместную деятельность и взаимоотношения людей, групп, страт, классов, организаций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ГОСУДАРСТ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3300"/>
                </a:solidFill>
                <a:latin typeface="Arial"/>
              </a:rPr>
              <a:t>– главный институт власт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6">
            <a:hlinkClick r:id="rId1" action="ppaction://hlinksldjump"/>
          </p:cNvPr>
          <p:cNvSpPr/>
          <p:nvPr/>
        </p:nvSpPr>
        <p:spPr>
          <a:xfrm>
            <a:off x="8172360" y="5950080"/>
            <a:ext cx="792360" cy="718920"/>
          </a:xfrm>
          <a:custGeom>
            <a:avLst/>
            <a:gdLst>
              <a:gd name="textAreaLeft" fmla="*/ 46440 w 792360"/>
              <a:gd name="textAreaRight" fmla="*/ 745920 w 79236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3805" h="21600">
                <a:moveTo>
                  <a:pt x="0" y="0"/>
                </a:moveTo>
                <a:lnTo>
                  <a:pt x="23805" y="0"/>
                </a:lnTo>
                <a:lnTo>
                  <a:pt x="23805" y="21600"/>
                </a:lnTo>
                <a:lnTo>
                  <a:pt x="0" y="21600"/>
                </a:lnTo>
                <a:close/>
              </a:path>
              <a:path fill="lightenLess" w="23805" h="21600">
                <a:moveTo>
                  <a:pt x="0" y="0"/>
                </a:moveTo>
                <a:lnTo>
                  <a:pt x="23805" y="0"/>
                </a:lnTo>
                <a:lnTo>
                  <a:pt x="22405" y="1400"/>
                </a:lnTo>
                <a:lnTo>
                  <a:pt x="1400" y="1400"/>
                </a:lnTo>
                <a:close/>
              </a:path>
              <a:path fill="darken" w="23805" h="21600">
                <a:moveTo>
                  <a:pt x="23805" y="0"/>
                </a:moveTo>
                <a:lnTo>
                  <a:pt x="23805" y="21600"/>
                </a:lnTo>
                <a:lnTo>
                  <a:pt x="22405" y="20200"/>
                </a:lnTo>
                <a:lnTo>
                  <a:pt x="22405" y="1400"/>
                </a:lnTo>
                <a:close/>
              </a:path>
              <a:path fill="darkenLess" w="23805" h="21600">
                <a:moveTo>
                  <a:pt x="238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05" y="20200"/>
                </a:lnTo>
                <a:close/>
              </a:path>
              <a:path fill="lighten" w="238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05" h="21600">
                <a:moveTo>
                  <a:pt x="4896" y="3794"/>
                </a:moveTo>
                <a:lnTo>
                  <a:pt x="18909" y="10800"/>
                </a:lnTo>
                <a:lnTo>
                  <a:pt x="489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AutoShape 6"/>
          <p:cNvSpPr/>
          <p:nvPr/>
        </p:nvSpPr>
        <p:spPr>
          <a:xfrm>
            <a:off x="3419640" y="2852640"/>
            <a:ext cx="2592360" cy="1800360"/>
          </a:xfrm>
          <a:custGeom>
            <a:avLst/>
            <a:gdLst>
              <a:gd name="textAreaLeft" fmla="*/ 259200 w 2592360"/>
              <a:gd name="textAreaRight" fmla="*/ 2333160 w 2592360"/>
              <a:gd name="textAreaTop" fmla="*/ 1028880 h 1800360"/>
              <a:gd name="textAreaBottom" fmla="*/ 1543320 h 18003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2771640" y="206064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0" y="3716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ЛА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5508720" y="3716280"/>
            <a:ext cx="39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ЛИ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Политическая система об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1">
            <a:hlinkClick r:id="rId1" action="ppaction://hlinksldjump"/>
          </p:cNvPr>
          <p:cNvSpPr/>
          <p:nvPr/>
        </p:nvSpPr>
        <p:spPr>
          <a:xfrm>
            <a:off x="8172360" y="5950080"/>
            <a:ext cx="720720" cy="718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1654" h="21600">
                <a:moveTo>
                  <a:pt x="0" y="0"/>
                </a:moveTo>
                <a:lnTo>
                  <a:pt x="21654" y="0"/>
                </a:lnTo>
                <a:lnTo>
                  <a:pt x="21654" y="21600"/>
                </a:lnTo>
                <a:lnTo>
                  <a:pt x="0" y="21600"/>
                </a:lnTo>
                <a:close/>
              </a:path>
              <a:path fill="lightenLess" w="21654" h="21600">
                <a:moveTo>
                  <a:pt x="0" y="0"/>
                </a:moveTo>
                <a:lnTo>
                  <a:pt x="21654" y="0"/>
                </a:lnTo>
                <a:lnTo>
                  <a:pt x="20254" y="1400"/>
                </a:lnTo>
                <a:lnTo>
                  <a:pt x="1400" y="1400"/>
                </a:lnTo>
                <a:close/>
              </a:path>
              <a:path fill="darken" w="21654" h="21600">
                <a:moveTo>
                  <a:pt x="21654" y="0"/>
                </a:moveTo>
                <a:lnTo>
                  <a:pt x="21654" y="21600"/>
                </a:lnTo>
                <a:lnTo>
                  <a:pt x="20254" y="20200"/>
                </a:lnTo>
                <a:lnTo>
                  <a:pt x="20254" y="1400"/>
                </a:lnTo>
                <a:close/>
              </a:path>
              <a:path fill="darkenLess" w="21654" h="21600">
                <a:moveTo>
                  <a:pt x="216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54" y="20200"/>
                </a:lnTo>
                <a:close/>
              </a:path>
              <a:path fill="lighten" w="216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54" h="21600">
                <a:moveTo>
                  <a:pt x="3821" y="3794"/>
                </a:moveTo>
                <a:lnTo>
                  <a:pt x="17834" y="10800"/>
                </a:lnTo>
                <a:lnTo>
                  <a:pt x="38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Теоретические подходы сущности </a:t>
            </a: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государст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общественный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классовый;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Arial"/>
              </a:rPr>
              <a:t>политико-правово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5">
            <a:hlinkClick r:id="rId1" action="ppaction://hlinksldjump"/>
          </p:cNvPr>
          <p:cNvSpPr/>
          <p:nvPr/>
        </p:nvSpPr>
        <p:spPr>
          <a:xfrm>
            <a:off x="7956720" y="5877000"/>
            <a:ext cx="863280" cy="792000"/>
          </a:xfrm>
          <a:custGeom>
            <a:avLst/>
            <a:gdLst>
              <a:gd name="textAreaLeft" fmla="*/ 51120 w 863280"/>
              <a:gd name="textAreaRight" fmla="*/ 812160 w 863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3543" h="21600">
                <a:moveTo>
                  <a:pt x="0" y="0"/>
                </a:moveTo>
                <a:lnTo>
                  <a:pt x="23543" y="0"/>
                </a:lnTo>
                <a:lnTo>
                  <a:pt x="23543" y="21600"/>
                </a:lnTo>
                <a:lnTo>
                  <a:pt x="0" y="21600"/>
                </a:lnTo>
                <a:close/>
              </a:path>
              <a:path fill="lightenLess" w="23543" h="21600">
                <a:moveTo>
                  <a:pt x="0" y="0"/>
                </a:moveTo>
                <a:lnTo>
                  <a:pt x="23543" y="0"/>
                </a:lnTo>
                <a:lnTo>
                  <a:pt x="22143" y="1400"/>
                </a:lnTo>
                <a:lnTo>
                  <a:pt x="1400" y="1400"/>
                </a:lnTo>
                <a:close/>
              </a:path>
              <a:path fill="darken" w="23543" h="21600">
                <a:moveTo>
                  <a:pt x="23543" y="0"/>
                </a:moveTo>
                <a:lnTo>
                  <a:pt x="23543" y="21600"/>
                </a:lnTo>
                <a:lnTo>
                  <a:pt x="22143" y="20200"/>
                </a:lnTo>
                <a:lnTo>
                  <a:pt x="22143" y="1400"/>
                </a:lnTo>
                <a:close/>
              </a:path>
              <a:path fill="darkenLess" w="23543" h="21600">
                <a:moveTo>
                  <a:pt x="235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43" y="20200"/>
                </a:lnTo>
                <a:close/>
              </a:path>
              <a:path fill="lighten" w="235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43" h="21600">
                <a:moveTo>
                  <a:pt x="4765" y="3794"/>
                </a:moveTo>
                <a:lnTo>
                  <a:pt x="18778" y="10800"/>
                </a:lnTo>
                <a:lnTo>
                  <a:pt x="47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3300"/>
                </a:solidFill>
                <a:latin typeface="Arial"/>
              </a:rPr>
              <a:t>Признак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террито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система управления территор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диная система закон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нополия на легальное применение си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о на взимание налог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язательность членства в государстве – граждан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ельство от имени общества в международных организация, переговор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веренит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6">
            <a:hlinkClick r:id="rId1" action="ppaction://hlinksldjump"/>
          </p:cNvPr>
          <p:cNvSpPr/>
          <p:nvPr/>
        </p:nvSpPr>
        <p:spPr>
          <a:xfrm>
            <a:off x="8028000" y="5950080"/>
            <a:ext cx="865080" cy="718920"/>
          </a:xfrm>
          <a:custGeom>
            <a:avLst/>
            <a:gdLst>
              <a:gd name="textAreaLeft" fmla="*/ 46440 w 865080"/>
              <a:gd name="textAreaRight" fmla="*/ 818640 w 865080"/>
              <a:gd name="textAreaTop" fmla="*/ 46440 h 718920"/>
              <a:gd name="textAreaBottom" fmla="*/ 672480 h 718920"/>
            </a:gdLst>
            <a:ahLst/>
            <a:rect l="textAreaLeft" t="textAreaTop" r="textAreaRight" b="textAreaBottom"/>
            <a:pathLst>
              <a:path w="25989" h="21600">
                <a:moveTo>
                  <a:pt x="0" y="0"/>
                </a:moveTo>
                <a:lnTo>
                  <a:pt x="25989" y="0"/>
                </a:lnTo>
                <a:lnTo>
                  <a:pt x="25989" y="21600"/>
                </a:lnTo>
                <a:lnTo>
                  <a:pt x="0" y="21600"/>
                </a:lnTo>
                <a:close/>
              </a:path>
              <a:path fill="lightenLess" w="25989" h="21600">
                <a:moveTo>
                  <a:pt x="0" y="0"/>
                </a:moveTo>
                <a:lnTo>
                  <a:pt x="25989" y="0"/>
                </a:lnTo>
                <a:lnTo>
                  <a:pt x="24589" y="1400"/>
                </a:lnTo>
                <a:lnTo>
                  <a:pt x="1400" y="1400"/>
                </a:lnTo>
                <a:close/>
              </a:path>
              <a:path fill="darken" w="25989" h="21600">
                <a:moveTo>
                  <a:pt x="25989" y="0"/>
                </a:moveTo>
                <a:lnTo>
                  <a:pt x="25989" y="21600"/>
                </a:lnTo>
                <a:lnTo>
                  <a:pt x="24589" y="20200"/>
                </a:lnTo>
                <a:lnTo>
                  <a:pt x="24589" y="1400"/>
                </a:lnTo>
                <a:close/>
              </a:path>
              <a:path fill="darkenLess" w="25989" h="21600">
                <a:moveTo>
                  <a:pt x="259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89" y="20200"/>
                </a:lnTo>
                <a:close/>
              </a:path>
              <a:path fill="lighten" w="259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89" h="21600">
                <a:moveTo>
                  <a:pt x="5988" y="3794"/>
                </a:moveTo>
                <a:lnTo>
                  <a:pt x="20001" y="10800"/>
                </a:lnTo>
                <a:lnTo>
                  <a:pt x="59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УТРЕННИЕ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ит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укрепление основ власти, формирование ее органов, обеспечение суверенитета государства, политической стабильности и т.д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циаль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забота о благополучии граждан, особенно о слабо защищенных, об осуществлении их социальных прав, корректировка отрицательных последствий рыночных отношений и др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ном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оздействие через законодательство, налоги и пошлины на экономическую жизнь страны, защита экономических прав граждан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">
            <a:hlinkClick r:id="rId1" action="ppaction://hlinksldjump"/>
          </p:cNvPr>
          <p:cNvSpPr/>
          <p:nvPr/>
        </p:nvSpPr>
        <p:spPr>
          <a:xfrm>
            <a:off x="8028000" y="5877000"/>
            <a:ext cx="936720" cy="79200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5545" h="21600">
                <a:moveTo>
                  <a:pt x="0" y="0"/>
                </a:moveTo>
                <a:lnTo>
                  <a:pt x="25545" y="0"/>
                </a:lnTo>
                <a:lnTo>
                  <a:pt x="25545" y="21600"/>
                </a:lnTo>
                <a:lnTo>
                  <a:pt x="0" y="21600"/>
                </a:lnTo>
                <a:close/>
              </a:path>
              <a:path fill="lightenLess" w="25545" h="21600">
                <a:moveTo>
                  <a:pt x="0" y="0"/>
                </a:moveTo>
                <a:lnTo>
                  <a:pt x="25545" y="0"/>
                </a:lnTo>
                <a:lnTo>
                  <a:pt x="24145" y="1400"/>
                </a:lnTo>
                <a:lnTo>
                  <a:pt x="1400" y="1400"/>
                </a:lnTo>
                <a:close/>
              </a:path>
              <a:path fill="darken" w="25545" h="21600">
                <a:moveTo>
                  <a:pt x="25545" y="0"/>
                </a:moveTo>
                <a:lnTo>
                  <a:pt x="25545" y="21600"/>
                </a:lnTo>
                <a:lnTo>
                  <a:pt x="24145" y="20200"/>
                </a:lnTo>
                <a:lnTo>
                  <a:pt x="24145" y="1400"/>
                </a:lnTo>
                <a:close/>
              </a:path>
              <a:path fill="darkenLess" w="25545" h="21600">
                <a:moveTo>
                  <a:pt x="2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45" y="20200"/>
                </a:lnTo>
                <a:close/>
              </a:path>
              <a:path fill="lighten" w="2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45" h="21600">
                <a:moveTo>
                  <a:pt x="5766" y="3794"/>
                </a:moveTo>
                <a:lnTo>
                  <a:pt x="19779" y="10800"/>
                </a:lnTo>
                <a:lnTo>
                  <a:pt x="576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авоохранительная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ддержание порядка в обществе, борьба с криминальными элементами, защита прав и свобод человека от преступных посягатель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кологическ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осуществление природоохранных мероприятий, участие в разработке и финансировании программ по охране окружающей сред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ционально-культурна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способствование развитию национального самосознания и национальной культуры, организация и финансирование образования, науки, культуры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>
            <a:hlinkClick r:id="rId1" action="ppaction://hlinksldjump"/>
          </p:cNvPr>
          <p:cNvSpPr/>
          <p:nvPr/>
        </p:nvSpPr>
        <p:spPr>
          <a:xfrm>
            <a:off x="7812000" y="5805360"/>
            <a:ext cx="936720" cy="792360"/>
          </a:xfrm>
          <a:custGeom>
            <a:avLst/>
            <a:gdLst>
              <a:gd name="textAreaLeft" fmla="*/ 51120 w 936720"/>
              <a:gd name="textAreaRight" fmla="*/ 885600 w 93672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5534" h="21600">
                <a:moveTo>
                  <a:pt x="0" y="0"/>
                </a:moveTo>
                <a:lnTo>
                  <a:pt x="25534" y="0"/>
                </a:lnTo>
                <a:lnTo>
                  <a:pt x="25534" y="21600"/>
                </a:lnTo>
                <a:lnTo>
                  <a:pt x="0" y="21600"/>
                </a:lnTo>
                <a:close/>
              </a:path>
              <a:path fill="lightenLess" w="25534" h="21600">
                <a:moveTo>
                  <a:pt x="0" y="0"/>
                </a:moveTo>
                <a:lnTo>
                  <a:pt x="25534" y="0"/>
                </a:lnTo>
                <a:lnTo>
                  <a:pt x="24134" y="1400"/>
                </a:lnTo>
                <a:lnTo>
                  <a:pt x="1400" y="1400"/>
                </a:lnTo>
                <a:close/>
              </a:path>
              <a:path fill="darken" w="25534" h="21600">
                <a:moveTo>
                  <a:pt x="25534" y="0"/>
                </a:moveTo>
                <a:lnTo>
                  <a:pt x="25534" y="21600"/>
                </a:lnTo>
                <a:lnTo>
                  <a:pt x="24134" y="20200"/>
                </a:lnTo>
                <a:lnTo>
                  <a:pt x="24134" y="1400"/>
                </a:lnTo>
                <a:close/>
              </a:path>
              <a:path fill="darkenLess" w="25534" h="21600">
                <a:moveTo>
                  <a:pt x="25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134" y="20200"/>
                </a:lnTo>
                <a:close/>
              </a:path>
              <a:path fill="lighten" w="25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534" h="21600">
                <a:moveTo>
                  <a:pt x="5760" y="3794"/>
                </a:moveTo>
                <a:lnTo>
                  <a:pt x="19773" y="10800"/>
                </a:lnTo>
                <a:lnTo>
                  <a:pt x="57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НЕШНИЕ: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орона страны, развитие дипломатических отношений, экономическая, политическая и военная помощь другим странам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ункции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7956720" y="5877000"/>
            <a:ext cx="936360" cy="720720"/>
          </a:xfrm>
          <a:custGeom>
            <a:avLst/>
            <a:gdLst>
              <a:gd name="textAreaLeft" fmla="*/ 46440 w 936360"/>
              <a:gd name="textAreaRight" fmla="*/ 889920 w 93636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8060" h="21600">
                <a:moveTo>
                  <a:pt x="0" y="0"/>
                </a:moveTo>
                <a:lnTo>
                  <a:pt x="28060" y="0"/>
                </a:lnTo>
                <a:lnTo>
                  <a:pt x="28060" y="21600"/>
                </a:lnTo>
                <a:lnTo>
                  <a:pt x="0" y="21600"/>
                </a:lnTo>
                <a:close/>
              </a:path>
              <a:path fill="lightenLess" w="28060" h="21600">
                <a:moveTo>
                  <a:pt x="0" y="0"/>
                </a:moveTo>
                <a:lnTo>
                  <a:pt x="28060" y="0"/>
                </a:lnTo>
                <a:lnTo>
                  <a:pt x="26660" y="1400"/>
                </a:lnTo>
                <a:lnTo>
                  <a:pt x="1400" y="1400"/>
                </a:lnTo>
                <a:close/>
              </a:path>
              <a:path fill="darken" w="28060" h="21600">
                <a:moveTo>
                  <a:pt x="28060" y="0"/>
                </a:moveTo>
                <a:lnTo>
                  <a:pt x="28060" y="21600"/>
                </a:lnTo>
                <a:lnTo>
                  <a:pt x="26660" y="20200"/>
                </a:lnTo>
                <a:lnTo>
                  <a:pt x="26660" y="1400"/>
                </a:lnTo>
                <a:close/>
              </a:path>
              <a:path fill="darkenLess" w="28060" h="21600">
                <a:moveTo>
                  <a:pt x="280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0" y="20200"/>
                </a:lnTo>
                <a:close/>
              </a:path>
              <a:path fill="lighten" w="280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060" h="21600">
                <a:moveTo>
                  <a:pt x="7023" y="3794"/>
                </a:moveTo>
                <a:lnTo>
                  <a:pt x="21036" y="10800"/>
                </a:lnTo>
                <a:lnTo>
                  <a:pt x="70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AutoShape 8"/>
          <p:cNvSpPr/>
          <p:nvPr/>
        </p:nvSpPr>
        <p:spPr>
          <a:xfrm>
            <a:off x="2340000" y="1557360"/>
            <a:ext cx="4249800" cy="37447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орма государств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411280" y="1628640"/>
            <a:ext cx="3961080" cy="14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 пра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то и как правит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250920" y="4365720"/>
            <a:ext cx="43210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государственного устрой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к объединено население на территории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643280" y="4292640"/>
            <a:ext cx="432144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орма политического реж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каким способом осуществляется власть в обществе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9"/>
          <p:cNvSpPr/>
          <p:nvPr/>
        </p:nvSpPr>
        <p:spPr>
          <a:xfrm>
            <a:off x="8532720" y="6308640"/>
            <a:ext cx="611280" cy="549360"/>
          </a:xfrm>
          <a:custGeom>
            <a:avLst/>
            <a:gdLst>
              <a:gd name="textAreaLeft" fmla="*/ 35280 w 611280"/>
              <a:gd name="textAreaRight" fmla="*/ 576000 w 61128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4033" h="21600">
                <a:moveTo>
                  <a:pt x="0" y="0"/>
                </a:moveTo>
                <a:lnTo>
                  <a:pt x="24033" y="0"/>
                </a:lnTo>
                <a:lnTo>
                  <a:pt x="24033" y="21600"/>
                </a:lnTo>
                <a:lnTo>
                  <a:pt x="0" y="21600"/>
                </a:lnTo>
                <a:close/>
              </a:path>
              <a:path fill="lightenLess" w="24033" h="21600">
                <a:moveTo>
                  <a:pt x="0" y="0"/>
                </a:moveTo>
                <a:lnTo>
                  <a:pt x="24033" y="0"/>
                </a:lnTo>
                <a:lnTo>
                  <a:pt x="22633" y="1400"/>
                </a:lnTo>
                <a:lnTo>
                  <a:pt x="1400" y="1400"/>
                </a:lnTo>
                <a:close/>
              </a:path>
              <a:path fill="darken" w="24033" h="21600">
                <a:moveTo>
                  <a:pt x="24033" y="0"/>
                </a:moveTo>
                <a:lnTo>
                  <a:pt x="24033" y="21600"/>
                </a:lnTo>
                <a:lnTo>
                  <a:pt x="22633" y="20200"/>
                </a:lnTo>
                <a:lnTo>
                  <a:pt x="22633" y="1400"/>
                </a:lnTo>
                <a:close/>
              </a:path>
              <a:path fill="darkenLess" w="24033" h="21600">
                <a:moveTo>
                  <a:pt x="240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3" y="20200"/>
                </a:lnTo>
                <a:close/>
              </a:path>
              <a:path fill="lighten" w="240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3" h="21600">
                <a:moveTo>
                  <a:pt x="5010" y="3794"/>
                </a:moveTo>
                <a:lnTo>
                  <a:pt x="19023" y="10800"/>
                </a:lnTo>
                <a:lnTo>
                  <a:pt x="50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4T17:24:57Z</dcterms:created>
  <dc:creator>домашний компьютер</dc:creator>
  <dc:description/>
  <dc:language>en-US</dc:language>
  <cp:lastModifiedBy>LEGION</cp:lastModifiedBy>
  <dcterms:modified xsi:type="dcterms:W3CDTF">2014-11-10T08:45:08Z</dcterms:modified>
  <cp:revision>4</cp:revision>
  <dc:subject/>
  <dc:title>Государство</dc:title>
</cp:coreProperties>
</file>