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C354-C96F-4E83-8695-81C0D08F24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Государ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E9BE-BCFD-4212-AE09-DFF999290F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Формы правления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9BE6-596C-44A5-B14D-F72162DD5F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Формы государственного устрой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нитарно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единая структура гос.аппарата, власть главы государства на территории всей страны, единое гражданство, единая система прав, единая судебная система, одноканальная система налогов)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едератив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два уровня гос.аппарата – федеральный и республиканский, двойное гражданство, двухканальная система налогов)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федератив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бъединение государств на договорной основе, субъекты конфедерации являются полностью самостоятельными государствам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ружеств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объединение государств, в основе которого могут быть общие язык, права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3FDA-F752-4DAE-99B2-537ADF35E5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Формы политического реж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МОКРАТИЧЕСК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родовластие, правило большинства, права человека, свободные и честные выборы, равенство перед законом, конституционные ограничения правительств, независимое судопроизводство и др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ТАЛИТАР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тираническая, диктаторская власть, тотальный контроль за поведением, деятельностью и мышлением людей, бессудные репрессии, милитаризация, внешнеполитическая агрессивн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ВТОРИТАР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жесткая власть, которая не покушается на основные гражданские свободы, реально принадлежит в основном одному лицу, правление осуществляется на силовой основе, выборы проводятся нерегулярно и часто фальсифицируются, СМИ не отражают весь спектр мнений различных слоев насел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B338-696B-4C8F-BB08-2B56FBD3EB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в тетради по тем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Государство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сти Конституцию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енно в тетради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Сумеет ли человечество когда-нибудь в будущем обходиться без государства и как? Существует л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идеальное государство»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и какое оно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57C0-FC7F-42FF-8947-F3F8E29854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Что такое государст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ГОСУДАРСТ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основной институт политической системы общества, организующий, направляющий и контролирующий совместную деятельность и взаимоотношения людей, групп, страт, классов, организаци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3300"/>
                </a:solidFill>
                <a:latin typeface="Calibri"/>
              </a:rPr>
              <a:t>ГОСУДАРСТВО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cc3300"/>
                </a:solidFill>
                <a:latin typeface="Calibri"/>
              </a:rPr>
              <a:t>– главный институт власти!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F5AD-D3F2-4E96-85DE-D180632AFD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Политическая система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E1DF-C936-47DE-99D5-6FF3E0B3F1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Теоретические подходы сущности </a:t>
            </a: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ественны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ассовы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итико-правов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FC70-BB57-485A-AF38-4F48B54E02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Признаки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террит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система управления территор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система зак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ополия на легальное применение си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взимание на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сть членства в государстве – 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ьство от имени общества в международных организация, перегово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верен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8824-C31A-4AE0-BCC5-347D4A171C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Функции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НУТРЕНН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итическ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укрепление основ власти, формирование ее органов, обеспечение суверенитета государства, политической стабильности и т.д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забота о благополучии граждан, особенно о слабо защищенных, об осуществлении их социальных прав, корректировка отрицательных последствий рыночных отношений и др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ческ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оздействие через законодательство, налоги и пошлины на экономическую жизнь страны, защита экономических прав гражда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ABC7-4841-480A-88E0-CF3A80AF51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Функции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охранительна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ддержание порядка в обществе, борьба с криминальными элементами, защита прав и свобод человека от преступных посягательст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ческ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существление природоохранных мероприятий, участие в разработке и финансировании программ по охране окружающей сред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ционально-культур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способствование развитию национального самосознания и национальной культуры, организация и финансирование образования, науки, культур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C57D-38CB-431B-9C02-C9CE2FD9F3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Функции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ЕШНИЕ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она страны, развитие дипломатических отношений, экономическая, политическая и военная помощь другим странам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2EDC-CB06-4E5F-B42B-9EAEEB3D40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Форма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8924-9ACC-440F-8BE1-AA7AFA63DB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C033-8172-4F53-BC3F-A8E1AF39E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557D-B361-4B9F-9EE8-1B4AE33D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2938-64B0-40EB-87E5-3E9FA697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9CA9-02FA-4E05-A804-203FCEA56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E45C-1E62-4A87-9058-6873F2B8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31DD-43E7-4A16-9F90-9CA365F4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C185-E6DB-454C-A2AF-8F235A78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B917-337A-464A-9A47-2A188A6B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2E8A-CE41-4DEB-9C47-2BCF3F00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6FFA-8D89-4717-A8A0-8CAFDE0C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651F-A7D9-4711-9C20-0B2252E2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42A8-6130-4642-B223-429060C0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0CD8-7DFC-4547-88DF-E21C60FA37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3300"/>
                </a:solidFill>
                <a:latin typeface="Arial"/>
              </a:rPr>
              <a:t>Государств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4764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ствозн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Формы правления государ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611280" y="134136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 flipH="1">
            <a:off x="1186920" y="1341360"/>
            <a:ext cx="792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6659640" y="1341360"/>
            <a:ext cx="649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39640" y="2133720"/>
            <a:ext cx="3311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4643280" y="2133720"/>
            <a:ext cx="3311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611280" y="213372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АРХ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4788000" y="213372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СПУБЛ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611280" y="3357720"/>
            <a:ext cx="3240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Абсолю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Дуалис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Парламент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"/>
          <p:cNvSpPr/>
          <p:nvPr/>
        </p:nvSpPr>
        <p:spPr>
          <a:xfrm>
            <a:off x="4211640" y="1341360"/>
            <a:ext cx="73080" cy="49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4643280" y="3357720"/>
            <a:ext cx="36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Президент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Смеш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Парламент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5"/>
          <p:cNvSpPr/>
          <p:nvPr/>
        </p:nvSpPr>
        <p:spPr>
          <a:xfrm>
            <a:off x="7812000" y="5661000"/>
            <a:ext cx="936720" cy="79236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5534" h="21600">
                <a:moveTo>
                  <a:pt x="0" y="0"/>
                </a:moveTo>
                <a:lnTo>
                  <a:pt x="25534" y="0"/>
                </a:lnTo>
                <a:lnTo>
                  <a:pt x="25534" y="21600"/>
                </a:lnTo>
                <a:lnTo>
                  <a:pt x="0" y="21600"/>
                </a:lnTo>
                <a:close/>
              </a:path>
              <a:path fill="lightenLess" w="25534" h="21600">
                <a:moveTo>
                  <a:pt x="0" y="0"/>
                </a:moveTo>
                <a:lnTo>
                  <a:pt x="25534" y="0"/>
                </a:lnTo>
                <a:lnTo>
                  <a:pt x="24134" y="1400"/>
                </a:lnTo>
                <a:lnTo>
                  <a:pt x="1400" y="1400"/>
                </a:lnTo>
                <a:close/>
              </a:path>
              <a:path fill="darken" w="25534" h="21600">
                <a:moveTo>
                  <a:pt x="25534" y="0"/>
                </a:moveTo>
                <a:lnTo>
                  <a:pt x="25534" y="21600"/>
                </a:lnTo>
                <a:lnTo>
                  <a:pt x="24134" y="20200"/>
                </a:lnTo>
                <a:lnTo>
                  <a:pt x="24134" y="1400"/>
                </a:lnTo>
                <a:close/>
              </a:path>
              <a:path fill="darkenLess" w="25534" h="21600">
                <a:moveTo>
                  <a:pt x="25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4" y="20200"/>
                </a:lnTo>
                <a:close/>
              </a:path>
              <a:path fill="lighten" w="25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4" h="21600">
                <a:moveTo>
                  <a:pt x="5760" y="10800"/>
                </a:moveTo>
                <a:lnTo>
                  <a:pt x="19773" y="3794"/>
                </a:lnTo>
                <a:lnTo>
                  <a:pt x="1977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Формы государственного устр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нитарно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единая структура гос.аппарата, власть главы государства на территории всей страны, единое гражданство, единая система прав, единая судебная система, одноканальная система налогов)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едеративн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два уровня гос.аппарата – федеральный и республиканский, двойное гражданство, двухканальная система налогов)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федератив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бъединение государств на договорной основе, субъекты конфедерации являются полностью самостоятельными государства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дружеств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 объединение государств, в основе которого могут быть общие язык, права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7812000" y="5734080"/>
            <a:ext cx="936720" cy="79056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0560"/>
              <a:gd name="textAreaBottom" fmla="*/ 739440 h 790560"/>
            </a:gdLst>
            <a:ahLst/>
            <a:rect l="textAreaLeft" t="textAreaTop" r="textAreaRight" b="textAreaBottom"/>
            <a:pathLst>
              <a:path w="25592" h="21600">
                <a:moveTo>
                  <a:pt x="0" y="0"/>
                </a:moveTo>
                <a:lnTo>
                  <a:pt x="25592" y="0"/>
                </a:lnTo>
                <a:lnTo>
                  <a:pt x="25592" y="21600"/>
                </a:lnTo>
                <a:lnTo>
                  <a:pt x="0" y="21600"/>
                </a:lnTo>
                <a:close/>
              </a:path>
              <a:path fill="lightenLess" w="25592" h="21600">
                <a:moveTo>
                  <a:pt x="0" y="0"/>
                </a:moveTo>
                <a:lnTo>
                  <a:pt x="25592" y="0"/>
                </a:lnTo>
                <a:lnTo>
                  <a:pt x="24192" y="1400"/>
                </a:lnTo>
                <a:lnTo>
                  <a:pt x="1400" y="1400"/>
                </a:lnTo>
                <a:close/>
              </a:path>
              <a:path fill="darken" w="25592" h="21600">
                <a:moveTo>
                  <a:pt x="25592" y="0"/>
                </a:moveTo>
                <a:lnTo>
                  <a:pt x="25592" y="21600"/>
                </a:lnTo>
                <a:lnTo>
                  <a:pt x="24192" y="20200"/>
                </a:lnTo>
                <a:lnTo>
                  <a:pt x="24192" y="1400"/>
                </a:lnTo>
                <a:close/>
              </a:path>
              <a:path fill="darkenLess" w="25592" h="21600">
                <a:moveTo>
                  <a:pt x="2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92" y="20200"/>
                </a:lnTo>
                <a:close/>
              </a:path>
              <a:path fill="lighten" w="2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92" h="21600">
                <a:moveTo>
                  <a:pt x="5789" y="10800"/>
                </a:moveTo>
                <a:lnTo>
                  <a:pt x="19802" y="3794"/>
                </a:lnTo>
                <a:lnTo>
                  <a:pt x="1980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Формы политического режи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МОКРАТИЧЕСКИ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ародовластие, правило большинства, права человека, свободные и честные выборы, равенство перед законом, конституционные ограничения правительств, независимое судопроизводство и др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ТАЛИТАРНЫ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тираническая, диктаторская власть, тотальный контроль за поведением, деятельностью и мышлением людей, бессудные репрессии, милитаризация, внешнеполитическая агрессив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ИТАРНЫ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жесткая власть, которая не покушается на основные гражданские свободы, реально принадлежит в основном одному лицу, правление осуществляется на силовой основе, выборы проводятся нерегулярно и часто фальсифицируются, СМИ не отражают весь спектр мнений различных слоев насел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7885080" y="595008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10800"/>
                </a:moveTo>
                <a:lnTo>
                  <a:pt x="19979" y="3794"/>
                </a:lnTo>
                <a:lnTo>
                  <a:pt x="199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кция в тетради по тем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Государство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обрести Конституцию РФ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сьменно в тетрад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Сумеет ли человечество когда-нибудь в будущем обходиться без государства и как? Существует л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идеальное государство»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 какое оно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Что такое государств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9640" y="2060640"/>
            <a:ext cx="8136000" cy="38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ГОСУДАР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основной институт политической системы общества, организующий, направляющий и контролирующий совместную деятельность и взаимоотношения людей, групп, страт, классов, организаций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ГОСУДАР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– главный институт влас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6">
            <a:hlinkClick r:id="rId1" action="ppaction://hlinksldjump"/>
          </p:cNvPr>
          <p:cNvSpPr/>
          <p:nvPr/>
        </p:nvSpPr>
        <p:spPr>
          <a:xfrm>
            <a:off x="8172360" y="5950080"/>
            <a:ext cx="792360" cy="718920"/>
          </a:xfrm>
          <a:custGeom>
            <a:avLst/>
            <a:gdLst>
              <a:gd name="textAreaLeft" fmla="*/ 46440 w 792360"/>
              <a:gd name="textAreaRight" fmla="*/ 745920 w 79236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805" h="21600">
                <a:moveTo>
                  <a:pt x="0" y="0"/>
                </a:moveTo>
                <a:lnTo>
                  <a:pt x="23805" y="0"/>
                </a:lnTo>
                <a:lnTo>
                  <a:pt x="23805" y="21600"/>
                </a:lnTo>
                <a:lnTo>
                  <a:pt x="0" y="21600"/>
                </a:lnTo>
                <a:close/>
              </a:path>
              <a:path fill="lightenLess" w="23805" h="21600">
                <a:moveTo>
                  <a:pt x="0" y="0"/>
                </a:moveTo>
                <a:lnTo>
                  <a:pt x="23805" y="0"/>
                </a:lnTo>
                <a:lnTo>
                  <a:pt x="22405" y="1400"/>
                </a:lnTo>
                <a:lnTo>
                  <a:pt x="1400" y="1400"/>
                </a:lnTo>
                <a:close/>
              </a:path>
              <a:path fill="darken" w="23805" h="21600">
                <a:moveTo>
                  <a:pt x="23805" y="0"/>
                </a:moveTo>
                <a:lnTo>
                  <a:pt x="23805" y="21600"/>
                </a:lnTo>
                <a:lnTo>
                  <a:pt x="22405" y="20200"/>
                </a:lnTo>
                <a:lnTo>
                  <a:pt x="22405" y="1400"/>
                </a:lnTo>
                <a:close/>
              </a:path>
              <a:path fill="darkenLess" w="23805" h="21600">
                <a:moveTo>
                  <a:pt x="238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05" y="20200"/>
                </a:lnTo>
                <a:close/>
              </a:path>
              <a:path fill="lighten" w="238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05" h="21600">
                <a:moveTo>
                  <a:pt x="4896" y="3794"/>
                </a:moveTo>
                <a:lnTo>
                  <a:pt x="18909" y="10800"/>
                </a:lnTo>
                <a:lnTo>
                  <a:pt x="489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6"/>
          <p:cNvSpPr/>
          <p:nvPr/>
        </p:nvSpPr>
        <p:spPr>
          <a:xfrm>
            <a:off x="3419640" y="2852640"/>
            <a:ext cx="2592360" cy="1800360"/>
          </a:xfrm>
          <a:custGeom>
            <a:avLst/>
            <a:gdLst>
              <a:gd name="textAreaLeft" fmla="*/ 259200 w 2592360"/>
              <a:gd name="textAreaRight" fmla="*/ 2333160 w 2592360"/>
              <a:gd name="textAreaTop" fmla="*/ 1028880 h 1800360"/>
              <a:gd name="textAreaBottom" fmla="*/ 1543320 h 1800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771640" y="206064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СУДАР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0" y="371628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ЛА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508720" y="371628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Политическая система об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>
            <a:hlinkClick r:id="rId1" action="ppaction://hlinksldjump"/>
          </p:cNvPr>
          <p:cNvSpPr/>
          <p:nvPr/>
        </p:nvSpPr>
        <p:spPr>
          <a:xfrm>
            <a:off x="8172360" y="595008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3821" y="3794"/>
                </a:moveTo>
                <a:lnTo>
                  <a:pt x="17834" y="10800"/>
                </a:lnTo>
                <a:lnTo>
                  <a:pt x="38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Теоретические подходы сущности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государст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общественный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классовый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олитико-правово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>
            <a:hlinkClick r:id="rId1" action="ppaction://hlinksldjump"/>
          </p:cNvPr>
          <p:cNvSpPr/>
          <p:nvPr/>
        </p:nvSpPr>
        <p:spPr>
          <a:xfrm>
            <a:off x="7956720" y="5877000"/>
            <a:ext cx="863280" cy="792000"/>
          </a:xfrm>
          <a:custGeom>
            <a:avLst/>
            <a:gdLst>
              <a:gd name="textAreaLeft" fmla="*/ 51120 w 863280"/>
              <a:gd name="textAreaRight" fmla="*/ 812160 w 8632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3543" h="21600">
                <a:moveTo>
                  <a:pt x="0" y="0"/>
                </a:moveTo>
                <a:lnTo>
                  <a:pt x="23543" y="0"/>
                </a:lnTo>
                <a:lnTo>
                  <a:pt x="23543" y="21600"/>
                </a:lnTo>
                <a:lnTo>
                  <a:pt x="0" y="21600"/>
                </a:lnTo>
                <a:close/>
              </a:path>
              <a:path fill="lightenLess" w="23543" h="21600">
                <a:moveTo>
                  <a:pt x="0" y="0"/>
                </a:moveTo>
                <a:lnTo>
                  <a:pt x="23543" y="0"/>
                </a:lnTo>
                <a:lnTo>
                  <a:pt x="22143" y="1400"/>
                </a:lnTo>
                <a:lnTo>
                  <a:pt x="1400" y="1400"/>
                </a:lnTo>
                <a:close/>
              </a:path>
              <a:path fill="darken" w="23543" h="21600">
                <a:moveTo>
                  <a:pt x="23543" y="0"/>
                </a:moveTo>
                <a:lnTo>
                  <a:pt x="23543" y="21600"/>
                </a:lnTo>
                <a:lnTo>
                  <a:pt x="22143" y="20200"/>
                </a:lnTo>
                <a:lnTo>
                  <a:pt x="22143" y="1400"/>
                </a:lnTo>
                <a:close/>
              </a:path>
              <a:path fill="darkenLess" w="23543" h="21600">
                <a:moveTo>
                  <a:pt x="23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3" y="20200"/>
                </a:lnTo>
                <a:close/>
              </a:path>
              <a:path fill="lighten" w="23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43" h="21600">
                <a:moveTo>
                  <a:pt x="4765" y="3794"/>
                </a:moveTo>
                <a:lnTo>
                  <a:pt x="18778" y="10800"/>
                </a:lnTo>
                <a:lnTo>
                  <a:pt x="47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Признаки государ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ая террит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ая система управления территор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ая система зак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ополия на легальное применение с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о на взимание нал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язательность членства в государстве – гражда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ительство от имени общества в международных организация, перегово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веренит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>
            <a:hlinkClick r:id="rId1" action="ppaction://hlinksldjump"/>
          </p:cNvPr>
          <p:cNvSpPr/>
          <p:nvPr/>
        </p:nvSpPr>
        <p:spPr>
          <a:xfrm>
            <a:off x="8028000" y="5950080"/>
            <a:ext cx="865080" cy="718920"/>
          </a:xfrm>
          <a:custGeom>
            <a:avLst/>
            <a:gdLst>
              <a:gd name="textAreaLeft" fmla="*/ 46440 w 865080"/>
              <a:gd name="textAreaRight" fmla="*/ 818640 w 865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89" h="21600">
                <a:moveTo>
                  <a:pt x="5988" y="3794"/>
                </a:moveTo>
                <a:lnTo>
                  <a:pt x="20001" y="10800"/>
                </a:lnTo>
                <a:lnTo>
                  <a:pt x="59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Функции государ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НУТРЕН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ити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укрепление основ власти, формирование ее органов, обеспечение суверенитета государства, политической стабильности и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забота о благополучии граждан, особенно о слабо защищенных, об осуществлении их социальных прав, корректировка отрицательных последствий рыночных отношений и др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номи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оздействие через законодательство, налоги и пошлины на экономическую жизнь страны, защита экономических прав граждан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7">
            <a:hlinkClick r:id="rId1" action="ppaction://hlinksldjump"/>
          </p:cNvPr>
          <p:cNvSpPr/>
          <p:nvPr/>
        </p:nvSpPr>
        <p:spPr>
          <a:xfrm>
            <a:off x="8028000" y="587700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5766" y="3794"/>
                </a:moveTo>
                <a:lnTo>
                  <a:pt x="19779" y="10800"/>
                </a:lnTo>
                <a:lnTo>
                  <a:pt x="57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охранительна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ддержание порядка в обществе, борьба с криминальными элементами, защита прав и свобод человека от преступных посягательст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логи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существление природоохранных мероприятий, участие в разработке и финансировании программ по охране окружающей сред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ционально-культур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пособствование развитию национального самосознания и национальной культуры, организация и финансирование образования, науки, культур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Функции государ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>
            <a:hlinkClick r:id="rId1" action="ppaction://hlinksldjump"/>
          </p:cNvPr>
          <p:cNvSpPr/>
          <p:nvPr/>
        </p:nvSpPr>
        <p:spPr>
          <a:xfrm>
            <a:off x="7812000" y="5805360"/>
            <a:ext cx="936720" cy="79236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5534" h="21600">
                <a:moveTo>
                  <a:pt x="0" y="0"/>
                </a:moveTo>
                <a:lnTo>
                  <a:pt x="25534" y="0"/>
                </a:lnTo>
                <a:lnTo>
                  <a:pt x="25534" y="21600"/>
                </a:lnTo>
                <a:lnTo>
                  <a:pt x="0" y="21600"/>
                </a:lnTo>
                <a:close/>
              </a:path>
              <a:path fill="lightenLess" w="25534" h="21600">
                <a:moveTo>
                  <a:pt x="0" y="0"/>
                </a:moveTo>
                <a:lnTo>
                  <a:pt x="25534" y="0"/>
                </a:lnTo>
                <a:lnTo>
                  <a:pt x="24134" y="1400"/>
                </a:lnTo>
                <a:lnTo>
                  <a:pt x="1400" y="1400"/>
                </a:lnTo>
                <a:close/>
              </a:path>
              <a:path fill="darken" w="25534" h="21600">
                <a:moveTo>
                  <a:pt x="25534" y="0"/>
                </a:moveTo>
                <a:lnTo>
                  <a:pt x="25534" y="21600"/>
                </a:lnTo>
                <a:lnTo>
                  <a:pt x="24134" y="20200"/>
                </a:lnTo>
                <a:lnTo>
                  <a:pt x="24134" y="1400"/>
                </a:lnTo>
                <a:close/>
              </a:path>
              <a:path fill="darkenLess" w="25534" h="21600">
                <a:moveTo>
                  <a:pt x="25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4" y="20200"/>
                </a:lnTo>
                <a:close/>
              </a:path>
              <a:path fill="lighten" w="25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4" h="21600">
                <a:moveTo>
                  <a:pt x="5760" y="3794"/>
                </a:moveTo>
                <a:lnTo>
                  <a:pt x="19773" y="10800"/>
                </a:lnTo>
                <a:lnTo>
                  <a:pt x="576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НЕШНИЕ: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орона страны, развитие дипломатических отношений, экономическая, политическая и военная помощь другим страна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Функции государ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7956720" y="5877000"/>
            <a:ext cx="936360" cy="720720"/>
          </a:xfrm>
          <a:custGeom>
            <a:avLst/>
            <a:gdLst>
              <a:gd name="textAreaLeft" fmla="*/ 46440 w 936360"/>
              <a:gd name="textAreaRight" fmla="*/ 889920 w 936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060" h="21600">
                <a:moveTo>
                  <a:pt x="0" y="0"/>
                </a:moveTo>
                <a:lnTo>
                  <a:pt x="28060" y="0"/>
                </a:lnTo>
                <a:lnTo>
                  <a:pt x="28060" y="21600"/>
                </a:lnTo>
                <a:lnTo>
                  <a:pt x="0" y="21600"/>
                </a:lnTo>
                <a:close/>
              </a:path>
              <a:path fill="lightenLess" w="28060" h="21600">
                <a:moveTo>
                  <a:pt x="0" y="0"/>
                </a:moveTo>
                <a:lnTo>
                  <a:pt x="28060" y="0"/>
                </a:lnTo>
                <a:lnTo>
                  <a:pt x="26660" y="1400"/>
                </a:lnTo>
                <a:lnTo>
                  <a:pt x="1400" y="1400"/>
                </a:lnTo>
                <a:close/>
              </a:path>
              <a:path fill="darken" w="28060" h="21600">
                <a:moveTo>
                  <a:pt x="28060" y="0"/>
                </a:moveTo>
                <a:lnTo>
                  <a:pt x="28060" y="21600"/>
                </a:lnTo>
                <a:lnTo>
                  <a:pt x="26660" y="20200"/>
                </a:lnTo>
                <a:lnTo>
                  <a:pt x="26660" y="1400"/>
                </a:lnTo>
                <a:close/>
              </a:path>
              <a:path fill="darkenLess" w="28060" h="21600">
                <a:moveTo>
                  <a:pt x="280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0" y="20200"/>
                </a:lnTo>
                <a:close/>
              </a:path>
              <a:path fill="lighten" w="280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60" h="21600">
                <a:moveTo>
                  <a:pt x="7023" y="3794"/>
                </a:moveTo>
                <a:lnTo>
                  <a:pt x="21036" y="10800"/>
                </a:lnTo>
                <a:lnTo>
                  <a:pt x="70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8"/>
          <p:cNvSpPr/>
          <p:nvPr/>
        </p:nvSpPr>
        <p:spPr>
          <a:xfrm>
            <a:off x="2340000" y="1557360"/>
            <a:ext cx="4249800" cy="37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Форма государ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411280" y="1628640"/>
            <a:ext cx="396108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а  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то и как правит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50920" y="4365720"/>
            <a:ext cx="432108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а государственного устр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ак объединено население на территории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643280" y="4292640"/>
            <a:ext cx="432144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а политического реж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аким способом осуществляется власть в обществе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5010" y="3794"/>
                </a:moveTo>
                <a:lnTo>
                  <a:pt x="19023" y="10800"/>
                </a:lnTo>
                <a:lnTo>
                  <a:pt x="50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7:24:57Z</dcterms:created>
  <dc:creator>домашний компьютер</dc:creator>
  <dc:description/>
  <dc:language>en-US</dc:language>
  <cp:lastModifiedBy>LEGION</cp:lastModifiedBy>
  <dcterms:modified xsi:type="dcterms:W3CDTF">2014-11-10T08:45:08Z</dcterms:modified>
  <cp:revision>4</cp:revision>
  <dc:subject/>
  <dc:title>Государство</dc:title>
</cp:coreProperties>
</file>