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88B-3C9F-40DB-85BF-9688EBB30F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D3D2-9D61-4F29-B6C3-37D5886DC3E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E32B-3311-4189-9BEA-2487E19A534A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острых уг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ого треугольника равна 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7B36-E3F2-4C06-90DE-5104098D49D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равнобедренном треугольнике острые углы равны 4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B34-C2EF-4B28-954F-2810E1435EF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в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6AF-16E9-4AA9-8364-C60105D1C3E2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343A-46E3-4EE2-99C1-BD21B96D9F88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9DE-7918-434E-8628-20459F026C4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408A-2A4C-4BD8-B916-BF2132546B4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РЯМОУГОЛЬНЫЙ </a:t>
            </a:r>
            <a:br>
              <a:rPr sz="1600"/>
            </a:b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ТРЕУГОЛЬНИК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РЕУГОЛЬНИК, В КОТОРОМ ОДИН ИЗ УГЛОВ ПРЯМОЙ (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2564-C30A-46B5-9676-F8461CD5D4F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1600"/>
            </a:b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ИПОТЕН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D091-069F-4E66-A840-719D82E4A09A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ПРИЗНАКИ </a:t>
            </a:r>
            <a:br>
              <a:rPr sz="1200"/>
            </a:b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РАВЕНСТВА ПРЯМОУГОЛЬНЫХ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6ADE-0BF9-4B38-BFB5-690F5638ED2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5DA0-2389-416B-B805-459D632408B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CC95-4315-4449-84DF-13C8AD5AD89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7986-107F-4A0A-BCC4-F4AD5068D1D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EB79-8107-4B08-AFE0-ECC1C0B9D0C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СВОЙСТВА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РЯМОУГОЛЬНО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5D32-8CE5-450F-946C-0D4C4EA0594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FB9-A7D7-48EA-870A-CA238496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318-2B5B-4553-A827-FBB77D0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69712-1F25-4BE9-836B-6BC15234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493AE-C428-4B01-9A2C-F0955DD0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517EE-03F0-46F9-BA45-EDD7741B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0F705-419D-4176-BC23-9AB069F8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102C3-417D-414B-861B-C9650119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19890-CA2C-4AB3-99EB-7CAF306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A86CB-CA7B-417F-90C9-42FF6EE1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26003-4473-4E75-892C-0F04FAC2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0783F-BFDB-4A89-BC11-FA4AC27C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F6FE6-4689-47C5-B453-FA982F58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825-981D-4426-AC2B-81DE7B00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1F8CA-F48F-4F28-A880-EBAD0488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E37BB-54E6-4EB4-B23D-754B88CD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4A274-26C6-4221-B12F-F6F41009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B2361-A520-4383-AA7E-731C080B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6F026-E67A-4A18-8249-EDB65190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4C0DA-FE28-4BC8-B4EA-3C7B79EE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83A7D-7167-4BE2-A047-7333E9FC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A18F5-F27B-4E29-8DC0-DD15140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7DF47-8962-41FE-BAFD-A508473D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93F14-5CC3-4F60-80DD-B53706AB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D28-05CD-42CB-92FB-FA0CC2BD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0B18E-C53F-4AAF-9031-0FF7A3AD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15EC-CEC1-4115-B069-40C7C886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00C6-AB40-46D2-A4E7-A7AFBD01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B96F-0970-4ED2-9B54-D3060F99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AA1D-E1D0-4F7C-9637-2E22692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2155-6B2C-4D4E-9285-F74F9AED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D18B-C798-4C2A-8502-F93AA605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0348-CEA7-4539-8E91-0BD6C6F8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E24-583B-45F9-B871-C90675EB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B5C7-E0B7-4E6E-9E46-E80B0456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BAD3-CC06-4EC1-A3B4-28C26AE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361E-A13F-433B-A8F5-C753C023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2A29-DF60-4811-A587-5F1263F4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8E18-0E40-4AEA-95A9-8BAB9A7B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5DA8-E403-42D0-ACF1-E0A4826A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9CD2-13E9-4837-9542-7FC1DF9D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45F2-9F51-42C2-99DA-0B4ED959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49CF-DFAD-465F-B5DB-ED03FB03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8542-69F3-49EB-A09D-5ACBB32D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8D0-0D5E-4C48-979D-9C3628B0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E4C7-BE2F-473F-A554-443CD0EA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DF28-8C7D-476E-836D-BD2B724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2906F-5121-4960-BBA2-CC73A014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D6CB-7DB3-4558-8892-E16F366F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B0552-BE67-49AB-8FAD-42870A8C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6AAD-DF06-4FB6-AD81-C93EF89A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5B60-BE77-43F0-A37A-EFCEC25F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A36D-E4C9-4718-AED8-5A36BB33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16198-AB81-4582-97B0-7F75E009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2DD31-0E65-4E8D-A23A-D54FB196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788-3D59-4B56-B4E4-120129A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AF6BB-A150-4C38-9AAF-DEAC702F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6D2E-F333-4C73-B22E-6225CB5F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0906-66A8-4BB7-BCE9-64F7E352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EBB7-0F1C-48D1-A764-EEFCFEAA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BFB9-CCF2-4F12-9BA3-C8CE1C64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6737-2AA5-42F8-A1FB-9466CD1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7C41C-1532-42BC-9FB7-688BA981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953E5-D3DF-472E-8C6E-81E98DFB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0A66-5058-4357-9D36-83AEE157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5973D-6DE7-4667-8E33-5F34DF6D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EEB-FC2D-44FE-BA8A-DDB8180D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DEBF9-1025-4381-8A61-E9AA3E28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F4D48-4DAF-4979-87C7-7F7E6928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7AF73-077E-4259-9B01-92F85CFB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70170-61FF-4DB9-887A-1517C0D6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803B8-77FB-4715-ACB5-2AED1BFC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979B5-6539-40BE-A72B-BF28F11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F8923-C22F-4760-81B2-8BD14DF6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49932-97F8-4CA7-B9DE-D8AB0564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C681F-1A8E-4E79-891D-0EB70505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806A2-0E17-4703-8AF2-9218D496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005-3DB9-40C0-8D51-866066E4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050B6-3D07-444F-BE6D-FDA8D15A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50B47-7266-4083-B88B-506D7224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04DD1-47DF-43BB-93AA-526F644A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48719-9122-4698-AE07-60B9D81F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A8919-E7C3-414C-9815-6A149756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5E86E-945B-47E0-8C5E-A2F6F5C5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DFC1-465C-46A6-B92E-E67CD695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4614D-237C-46D4-A690-4D508A9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C5056-E38A-49E2-9DDF-6797A83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84B69-20AA-4E1E-8606-A91D4356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DC8-F18A-4EA5-AFD2-20BCABBF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D2DBC-9708-4DBC-9A23-A9D9B0BF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2279B-C468-42DC-BDD9-57AE59D6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68719-36C1-45F3-9888-173700F8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EA34B-6532-4E81-8671-9B50238D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7EF28-4E55-4781-80BE-223A899D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89AF1-AC17-4A24-A63C-782A1613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C592-5F2C-420D-AACC-13942758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336D6-D85F-4096-A3FC-F766349F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48D09-D7F5-4B10-B158-7F09FC9C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A9074-32B7-418D-A529-9D578F0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7BB-7C97-4382-94C1-6F6110E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9AFB-0ADE-4C4D-AE03-7B241FD5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180EC-E26B-4F31-B672-5A9012B1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BB92A-F044-4126-8B6E-0405A187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C4FF9-BEBC-491B-BA3D-BC8567C4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EBB50-0F77-41C0-940E-E01C80D2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0D8A6-CB6A-4475-BF43-72A81A10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98C0D-A0F2-4266-87B2-15F7723D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F93C3-8B21-43E9-8ADE-83644E51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9DAFD-C53C-4087-AF1A-FC93F9F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AA8C4-C84B-4F09-A460-9CE220F7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903-AF5D-4ABB-8112-1415A70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8F6D8-1C95-4642-BF1A-BA811340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3AE66-F3B2-4870-8AE2-4620275E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B7C50-283C-4B8F-8898-2991DA02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74420-6803-4AF5-AE4B-E445873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94F3-E5EF-4CC6-BB8D-2FE0AB9D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FF6E3-4EA2-4120-B595-9A463BD0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95F6-4972-4683-84A3-12C814BE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09BA6-1603-495B-89C9-2506C282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42B8D-17A7-4591-8386-622C85BC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E7980-BA42-44B5-AED1-FFDD4E11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349F-1A79-45F7-9F53-B03566916D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3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45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58E9-8816-4745-869E-D1184B3D00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A673-6E13-4F8F-AABA-A738898843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5E9A-83BD-4EBE-B7AA-28B1B1C81F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7CC8-FD25-4561-97C9-27F0BF34E4D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05FB-4DE2-4ACA-8204-6A6994ADC8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45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6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01EE-8BC4-4F09-A6A1-9938038D03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9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3DBF-DF2F-45F8-9DC8-52D065FDBD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F1B7-799A-42D5-B996-C06A5BFA46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9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sp>
          <p:nvSpPr>
            <p:cNvPr id="39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D9C4-D65D-4444-9611-400BEF9A9D5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1"/>
          <p:cNvSpPr/>
          <p:nvPr/>
        </p:nvSpPr>
        <p:spPr>
          <a:xfrm rot="10800000">
            <a:off x="539280" y="1915920"/>
            <a:ext cx="8209080" cy="3673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2700360" y="213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5786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6a4076"/>
                </a:solidFill>
                <a:uFillTx/>
                <a:latin typeface="Comic Sans MS"/>
              </a:rPr>
              <a:t>ТЕОРЕМА ПИФАГОР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633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4572000" y="3284640"/>
            <a:ext cx="3529080" cy="2738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710480" y="57340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392436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572000" y="580536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4932360" y="580536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8" name="Rectangle 9"/>
          <p:cNvSpPr/>
          <p:nvPr/>
        </p:nvSpPr>
        <p:spPr>
          <a:xfrm flipV="1" rot="10800000">
            <a:off x="4065120" y="2780640"/>
            <a:ext cx="5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539640" y="4221000"/>
                <a:ext cx="3487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733400" cy="291780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6"/>
          <p:cNvSpPr/>
          <p:nvPr/>
        </p:nvSpPr>
        <p:spPr>
          <a:xfrm>
            <a:off x="2484360" y="2205000"/>
            <a:ext cx="1944720" cy="316872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Сумма острых углов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прямоугольного треугольника равна 9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0" y="2257560"/>
            <a:ext cx="302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979640" y="5300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835280" y="501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1908000" y="1916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211640" y="49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ямоугольном равнобедренном треугольнике острые углы равны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95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 rot="8098200">
            <a:off x="1389960" y="3773160"/>
            <a:ext cx="2548080" cy="2513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486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2764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484360" y="2637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7" name="AutoShape 16"/>
          <p:cNvSpPr/>
          <p:nvPr/>
        </p:nvSpPr>
        <p:spPr>
          <a:xfrm rot="3258000">
            <a:off x="6291000" y="3587760"/>
            <a:ext cx="1467000" cy="282240"/>
          </a:xfrm>
          <a:prstGeom prst="rightArrow">
            <a:avLst>
              <a:gd name="adj1" fmla="val 50000"/>
              <a:gd name="adj2" fmla="val 129943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3809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, лежащий против угла в 3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вен половине гипотену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31" name="AutoShape 13"/>
          <p:cNvSpPr/>
          <p:nvPr/>
        </p:nvSpPr>
        <p:spPr>
          <a:xfrm rot="16200000">
            <a:off x="4895640" y="2457360"/>
            <a:ext cx="4681440" cy="1871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5667840" y="5197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8056440" y="33336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8042400" y="519732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9800" y="404280"/>
            <a:ext cx="380988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6227640" y="836640"/>
            <a:ext cx="2016360" cy="446400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5739480" y="371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8129520" y="4764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08720" y="49086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1403280" y="371628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0160" y="189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7"/>
              <p:cNvSpPr txBox="1"/>
              <p:nvPr/>
            </p:nvSpPr>
            <p:spPr>
              <a:xfrm>
                <a:off x="4788000" y="3662280"/>
                <a:ext cx="3179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Н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6" name="Line 9"/>
          <p:cNvSpPr/>
          <p:nvPr/>
        </p:nvSpPr>
        <p:spPr>
          <a:xfrm flipV="1">
            <a:off x="1403280" y="4147920"/>
            <a:ext cx="9367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7" name="Line 10"/>
          <p:cNvSpPr/>
          <p:nvPr/>
        </p:nvSpPr>
        <p:spPr>
          <a:xfrm flipH="1">
            <a:off x="2484000" y="429264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8" name="Line 11"/>
          <p:cNvSpPr/>
          <p:nvPr/>
        </p:nvSpPr>
        <p:spPr>
          <a:xfrm flipH="1" flipV="1">
            <a:off x="2195640" y="443664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84360" y="5372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755640" y="306864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2067480" y="339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5798160" y="537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1476360" y="378936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 flipV="1">
            <a:off x="1476360" y="4221000"/>
            <a:ext cx="936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 flipH="1">
            <a:off x="2557080" y="4365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8" name="Line 8"/>
          <p:cNvSpPr/>
          <p:nvPr/>
        </p:nvSpPr>
        <p:spPr>
          <a:xfrm flipH="1" flipV="1">
            <a:off x="2268000" y="450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57080" y="5445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828720" y="314172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2140560" y="34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6086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"/>
              <p:cNvSpPr txBox="1"/>
              <p:nvPr/>
            </p:nvSpPr>
            <p:spPr>
              <a:xfrm>
                <a:off x="3924360" y="3213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5" name="Rectangle 16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5724360" y="4076640"/>
                <a:ext cx="302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ПРЯМОУГОЛЬНЫЙ </a:t>
            </a:r>
            <a:br>
              <a:rPr sz="4000"/>
            </a:b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ТРЕУГОЛЬНИК-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71280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О ТРЕУГОЛЬНИК, В КОТОРОМ ОДИН ИЗ УГЛОВ ПРЯМОЙ (90</a:t>
            </a:r>
            <a:r>
              <a:rPr b="1" lang="ru-RU" sz="3200" spc="-1" strike="noStrike">
                <a:solidFill>
                  <a:srgbClr val="336699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2843280" y="4869000"/>
            <a:ext cx="4608360" cy="107928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843280" y="5661000"/>
            <a:ext cx="28728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132000" y="5661000"/>
            <a:ext cx="0" cy="28908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3100"/>
            </a:b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3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63640" y="2997360"/>
            <a:ext cx="3097440" cy="2738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ГИПОТЕНУЗА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-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227640" y="1916280"/>
            <a:ext cx="2160720" cy="345744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14" name="Diagram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15" name="Rectangle 23"/>
          <p:cNvSpPr/>
          <p:nvPr/>
        </p:nvSpPr>
        <p:spPr>
          <a:xfrm>
            <a:off x="5651640" y="13701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831708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796000" y="5157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227640" y="5157720"/>
            <a:ext cx="216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602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ПРИЗНАКИ </a:t>
            </a:r>
            <a:br>
              <a:rPr sz="5700"/>
            </a:b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РАВЕНСТВА ПРЯМОУГОЛЬНЫХ ТРЕУГОЛЬНИКОВ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2920" y="404640"/>
            <a:ext cx="4210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6" name="Line 23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9" name="Line 26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7164360" y="61657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29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7" name="Line 20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8" name="Arc 23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9" name="Arc 25"/>
          <p:cNvSpPr/>
          <p:nvPr/>
        </p:nvSpPr>
        <p:spPr>
          <a:xfrm rot="5400000">
            <a:off x="7165080" y="472356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066920" y="189000"/>
            <a:ext cx="460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4" name="Line 28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7" name="Arc 34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8" name="Arc 35"/>
          <p:cNvSpPr/>
          <p:nvPr/>
        </p:nvSpPr>
        <p:spPr>
          <a:xfrm rot="5400000">
            <a:off x="6949080" y="458064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293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4619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6948360" y="602136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13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НЕКОТОРЫЕ СВОЙСТВА </a:t>
            </a: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ПРЯМОУГОЛЬНОГО</a:t>
            </a: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 ТРЕУГОЛЬН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4:31Z</dcterms:created>
  <dc:creator>Alexey Kuptzov</dc:creator>
  <dc:description/>
  <dc:language>en-US</dc:language>
  <cp:lastModifiedBy>LEGION</cp:lastModifiedBy>
  <dcterms:modified xsi:type="dcterms:W3CDTF">2015-01-23T11:48:18Z</dcterms:modified>
  <cp:revision>25</cp:revision>
  <dc:subject/>
  <dc:title>ПРЯМОУГОЛЬНЫЙ  ТРЕУГОЛЬНИК-</dc:title>
</cp:coreProperties>
</file>