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30FA-8394-4338-A924-DAAAFB3070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разработана учителем математики МОУ «Корниловская средняя школа» Купцовой Е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49E6-0957-4AD8-9318-AC82DFEBD059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ТЕОРЕМА ПИФАГО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квадрат гипотенузы равен сумме квадратов кат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D8BF-3E30-4AAD-A3C5-5055A0A9DC2E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острых уг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ого треугольника равна 9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=9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9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5A6C-BA14-483C-AD88-FC24C6B9F9ED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ямоугольном равнобедренном треугольнике острые углы равны 45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= 90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45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=45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D25D-C0B9-4EC5-825F-6BFBD0C3D611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, лежащий против угла в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вен половине гипотену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=АВ/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6ED5-3590-4E92-BA9A-8C2ED5BE97B3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=АВ/2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A58F-D85A-4D7F-9662-F8907C4F55B5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та прямоугольного треугольника, проведённая из вершины прямого угла, есть среднее пропорциональное для отрезков, на которые делится гипотенуза высо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9A92-3D9B-401D-B007-9B9D209C8CA5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 есть среднее пропорциональное  для гипотенузы и отрезка гипотенузы, заключённого между катетом и высотой, проведённой из вершины прямого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2440-EC40-4095-8100-B1D1633AF978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ПРЯМОУГОЛЬНЫЙ </a:t>
            </a:r>
            <a:br>
              <a:rPr sz="1600"/>
            </a:b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ТРЕУГОЛЬНИК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РЕУГОЛЬНИК, В КОТОРОМ ОДИН ИЗ УГЛОВ ПРЯМОЙ (9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B0A7-AF30-44E0-8066-F31BCF7DF21C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ccff"/>
                </a:solidFill>
                <a:uFillTx/>
                <a:latin typeface="Comic Sans MS"/>
              </a:rPr>
              <a:t>СТОРОНЫ </a:t>
            </a:r>
            <a:br>
              <a:rPr sz="1600"/>
            </a:br>
            <a:r>
              <a:rPr b="1" i="1" lang="ru-RU" sz="1600" spc="-1" strike="noStrike" u="sng">
                <a:solidFill>
                  <a:srgbClr val="33ccff"/>
                </a:solidFill>
                <a:uFillTx/>
                <a:latin typeface="Comic Sans MS"/>
              </a:rPr>
              <a:t>ПРЯМОУГОЛЬНОГО ТРЕУГОЛЬН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ИПОТЕН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А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КА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CA45-B9A8-408E-BF03-CC2D259B4FF6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66ff"/>
                </a:solidFill>
                <a:latin typeface="Calibri"/>
              </a:rPr>
              <a:t>ПРИЗНАКИ </a:t>
            </a:r>
            <a:br>
              <a:rPr sz="1200"/>
            </a:br>
            <a:r>
              <a:rPr b="1" i="1" lang="ru-RU" sz="1200" spc="-1" strike="noStrike">
                <a:solidFill>
                  <a:srgbClr val="6666ff"/>
                </a:solidFill>
                <a:latin typeface="Calibri"/>
              </a:rPr>
              <a:t>РАВЕНСТВА ПРЯМОУГОЛЬНЫХ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7E64-170F-470B-B09D-A8D43274B323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Если катеты одного прямоугольного треугольника соответственно равны катетам другого прямоугольного треугольника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CD5C-EE67-4B72-9FB4-7D6954042845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4988-D150-479B-8F58-7BD91CBF6104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B199-3BC4-48F3-9FCC-CD46E22522BB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Если гипотенуза и катет одного прямоугольного треугольника соответственно равны гипотенузе и катет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1638-7916-4A67-84EE-45CCA45E8E8D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КОТОРЫЕ СВОЙСТВА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ПРЯМОУГОЛЬНО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921B-B3C1-4123-A519-3BD448DEE038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A5B-F675-4CE3-9B20-005DFC41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648-7353-4BC9-B7C1-CBCC60BA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5B483-0CAC-4BBA-97AD-E955C477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189B8-1A0A-4551-9CD9-4C66B949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41C34-D988-4462-A349-1A1BA9CD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3BF50-A01C-41B4-A1C4-66C002DF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48A4F-9181-4BD5-9412-F45D48F1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E445D-72C4-4095-A9F5-32FDC703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82DD3-FD06-46C0-B796-EABE2118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12560-C299-4F6E-9981-5AFB3225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A2095-171C-41AE-BCED-64199DE8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90B9B-F343-4053-9B9A-2074CBC7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E4C-6CC0-4CF7-90C0-9206F217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09642-F483-4214-9863-2B6C3C4B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18E7E-A76F-4D70-A177-8A2267A9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E798D-E7B2-4820-8A9A-4BDDAF77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E6922-DF02-4ED9-B20E-33BD21E1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F2EBB-61FA-453E-B2BA-4E2519B8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67908-8234-4923-921B-F5D46D0E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B12EA-81A7-40CA-9509-D37E4077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130B5-DC10-42A1-BB01-9874EE3E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30003-B465-4E46-9E19-476E6706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8CA49-321C-49CA-9498-D224EFB7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3A2-1847-4540-BA9C-C87995C5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A1220-D597-4B83-BFB3-2CD868F2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5564-82E1-449C-A150-60EA3593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09DF-29E1-4CD0-8A11-06635EEE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A41B-858C-4267-98DF-EE695F7F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24DD-BC39-41A5-AB7F-645720AF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E5BB-7D62-437B-92B3-512F832B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D80F-D91B-45E5-8155-43750D67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BF14-A962-4521-A79B-D23FA082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DAD-F059-46E6-BE7C-5E4AA9D9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12CE-DFD9-4C77-BBF0-CEABC7C7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1B14-A51E-484C-B7D7-DF62A9AE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FABD-5332-471F-866B-E4C79B15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73D7-2C0A-4A77-8CC0-876FF5D1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1671-D3B7-4994-84EE-C8F6AF66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EC6AC-8082-4E78-AC58-E0F6E953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8A915-A2EB-4C73-B753-FCDC3E93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9D1A0-2BD3-41DB-BD1B-6F5D1731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8B280-D031-4FEE-8540-BFC6DB48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40B60-0D24-4C98-9398-A25DB028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D89-3259-41CB-992E-DDCB3263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DC7FB-5361-47D2-9DBB-84FFB270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896D7-11A7-4F39-9BC7-382CAA65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8FE8D-E356-4C29-A846-560E4D0C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5EC94-EDA4-44E8-96E7-237E7300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1FDE8-4A14-437B-B642-96B29AA4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7459B-517E-4216-8DC7-36F1292B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2B521-1AD2-4051-897A-6D0B7578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05A48-F85D-4805-8F1A-63B4D2B6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34932-D1D8-4B33-8499-400AB49A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CE2D9-D01E-4684-8581-8984961E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735-9F44-4209-BCBA-54B5F227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75EBA-2C0E-4850-A4D5-568A9235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C91CC-6B38-480F-836C-F5B2F098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84A5D-7848-41FA-B6B0-3417892E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07FFD-6F73-4F97-A5D6-1DA5247A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AE06A-00B1-4240-B7FF-059DDD6F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DDD4F-D76A-47F7-B9AB-156465B0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EE1FB-C27D-4C85-B9B8-049A12A0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A5CC4-053B-40AE-A4B7-EEBAECB7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3D357-CE2B-49F6-9AAC-C4F77897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66824-3C87-44A4-920D-9BFFBD50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480-D012-478A-AB36-6F136AE2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5DAD16-76A8-48B2-89AC-A313DEE0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20F0A4-DBE9-46C3-81B9-29218561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8533AB-2AA0-4C0B-9FE6-BC9D9C79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E02DE-B3B5-4AFA-A5BE-4671FA04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0D03D1-B6AA-47AC-ABB7-33FCE7ED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FBBC35-9CD4-4BD1-82A8-25749FCC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231D0-4916-42C2-8B3C-7831A5AF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E2E6B-3097-4E91-B934-3908BA5C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E893E5-94F2-4126-AA4D-FD8ADE50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650743-9F2A-4D39-99A6-71075274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9D2-A0B5-4A3E-8468-183C42DB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44B483-7924-4DFC-A13E-D668F161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E32C4-63F2-4E05-A4FD-69B0820D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947DC-99A8-4989-B7FB-52D76B2D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91CF9-9429-481F-98F6-DB6B9EE0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13BC2-41ED-4981-862F-512F6B8E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2AA83-3B97-4FDF-BE87-345651F7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0396C-57A6-4587-8087-84A8F3AA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55616-6FA3-4FEB-94B0-8A8F0928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FF248-CD3C-4E8B-97AF-2915E10C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FE4B2-0F50-4C98-A561-6644751F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457-9D9E-4187-9F43-07FFD2D4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A987F-5CEF-479B-9E0C-80EE6541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50F84-BD1C-49F1-9D1C-173A4795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93B7C-5D18-41DF-A762-924BE3BF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1BF75-AE58-4AA1-884F-45C8BD9E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19733-924D-475B-AF72-631EA52F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A88A6-4632-40BC-98A6-0742514B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BE2CA-2E03-42B4-A15C-3CD71882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9B987-434D-4F9A-BF49-F8C441F9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08313-28B1-4FA8-95B7-B539B377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AD9F6-1980-441E-818F-867324D4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4C1-8D2A-4D15-AD03-8A2CAB0F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5C051-1D53-449B-B635-2427D595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52084-CC2F-457F-B3BD-CCED1991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62F48-71BF-40DD-9B53-FD4F160A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5A20A-BE43-4119-9C45-98CFA323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69CB1-4B5E-462E-B54F-9B9977A8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F209C-7354-4801-8D1E-9A7612DC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3E236-E2E7-46A4-8D81-4EFA27AA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75496-B94D-4C6B-BA23-B41DCB81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522D0-763F-4003-8FC0-3A010317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1A41A-56D2-4D99-967D-CF7FB883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4A4-F10F-49F7-AE05-44318B4E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7F1DD-55AA-4E7B-BB25-A4BA7803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3BE80-D400-4120-9E92-C231740E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8E829-5B5B-4091-B09B-F616346F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ED70A-F6AF-4CD4-9150-23E4F7FE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7D499-2778-44D1-A16D-728597AC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B6C78-2D05-447B-AAD0-B4BB7C3C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E21A3-E5BC-49A3-A379-D927C996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FCC47-5079-45C0-B50E-37847597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05103-EF9F-4D71-9E49-7A416897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9EE84-5931-486A-B36E-B0D2CB9D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33B8-F71E-4148-96C2-17C76AB33E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43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3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5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5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45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E839-2252-4B83-AD1E-F22BD03D79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C3AC-83B0-41B7-B97A-E83C77238D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9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60E1-7785-469F-A32B-AAB8220CDC8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DAAF-BE66-4527-A2CB-1D88692BD60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C5C6-D7E1-4E99-9976-EA2F8C209D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94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7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0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1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2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3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4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5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6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0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45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6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7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8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CBE3-2611-4FFC-97AC-C959872DBA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9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4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7ECF-2AAA-4121-81B6-8957068993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3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grpSp>
          <p:nvGrpSpPr>
            <p:cNvPr id="33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3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grpSp>
          <p:nvGrpSpPr>
            <p:cNvPr id="34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4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A49C-E6FF-4C55-9E6B-F183C109A4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8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8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8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grpSp>
          <p:nvGrpSpPr>
            <p:cNvPr id="39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9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9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sp>
          <p:nvSpPr>
            <p:cNvPr id="39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BC12-4D55-4545-AD25-7D9CD95DE3D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11"/>
          <p:cNvSpPr/>
          <p:nvPr/>
        </p:nvSpPr>
        <p:spPr>
          <a:xfrm rot="10800000">
            <a:off x="539280" y="1915920"/>
            <a:ext cx="8209080" cy="367344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2" name="Text Box 12"/>
          <p:cNvSpPr/>
          <p:nvPr/>
        </p:nvSpPr>
        <p:spPr>
          <a:xfrm>
            <a:off x="2700360" y="2133720"/>
            <a:ext cx="64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ПРЯМОУГОЛЬНЫЙ ТРЕУГОЛЬНИК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14200" y="5143680"/>
            <a:ext cx="5786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я разработана учителем математики МОУ «Корниловская средняя школа» Купцовой Е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6a4076"/>
                </a:solidFill>
                <a:uFillTx/>
                <a:latin typeface="Comic Sans MS"/>
              </a:rPr>
              <a:t>ТЕОРЕМА ПИФАГОР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63356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рямоугольном треугольнике квадрат гипотенузы равен сумме квадратов кате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4572000" y="3284640"/>
            <a:ext cx="3529080" cy="273816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7710480" y="573408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3924360" y="587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6" name="Line 7"/>
          <p:cNvSpPr/>
          <p:nvPr/>
        </p:nvSpPr>
        <p:spPr>
          <a:xfrm>
            <a:off x="4572000" y="5805360"/>
            <a:ext cx="352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7" name="Line 8"/>
          <p:cNvSpPr/>
          <p:nvPr/>
        </p:nvSpPr>
        <p:spPr>
          <a:xfrm>
            <a:off x="4932360" y="5805360"/>
            <a:ext cx="32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8" name="Rectangle 9"/>
          <p:cNvSpPr/>
          <p:nvPr/>
        </p:nvSpPr>
        <p:spPr>
          <a:xfrm flipV="1" rot="10800000">
            <a:off x="4065120" y="2780640"/>
            <a:ext cx="5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11"/>
              <p:cNvSpPr txBox="1"/>
              <p:nvPr/>
            </p:nvSpPr>
            <p:spPr>
              <a:xfrm>
                <a:off x="539640" y="4221000"/>
                <a:ext cx="3487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11" name="Picture 13" descr=""/>
          <p:cNvPicPr/>
          <p:nvPr/>
        </p:nvPicPr>
        <p:blipFill>
          <a:blip r:embed="rId1"/>
          <a:stretch/>
        </p:blipFill>
        <p:spPr>
          <a:xfrm>
            <a:off x="6732720" y="1268280"/>
            <a:ext cx="1733400" cy="2917800"/>
          </a:xfrm>
          <a:prstGeom prst="rect">
            <a:avLst/>
          </a:prstGeom>
          <a:ln w="0">
            <a:noFill/>
          </a:ln>
        </p:spPr>
      </p:pic>
      <p:sp>
        <p:nvSpPr>
          <p:cNvPr id="6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3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6"/>
          <p:cNvSpPr/>
          <p:nvPr/>
        </p:nvSpPr>
        <p:spPr>
          <a:xfrm>
            <a:off x="2484360" y="2205000"/>
            <a:ext cx="1944720" cy="316872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a4076"/>
                </a:solidFill>
                <a:latin typeface="Tahoma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Сумма острых углов 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прямоугольного треугольника равна 90</a:t>
            </a:r>
            <a:r>
              <a:rPr b="0" lang="ru-RU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0" y="2257560"/>
            <a:ext cx="3024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=9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9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1979640" y="53006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1835280" y="5013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8" name="Text Box 12"/>
          <p:cNvSpPr/>
          <p:nvPr/>
        </p:nvSpPr>
        <p:spPr>
          <a:xfrm>
            <a:off x="1908000" y="1916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4211640" y="49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рямоугольном равнобедренном треугольнике острые углы равны 45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858920" y="2133720"/>
            <a:ext cx="40957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= 9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С=В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=45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=45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AutoShape 8"/>
          <p:cNvSpPr/>
          <p:nvPr/>
        </p:nvSpPr>
        <p:spPr>
          <a:xfrm rot="8098200">
            <a:off x="1389960" y="3773160"/>
            <a:ext cx="2548080" cy="251316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395280" y="4869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4427640" y="4941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2484360" y="2637000"/>
            <a:ext cx="5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7" name="AutoShape 16"/>
          <p:cNvSpPr/>
          <p:nvPr/>
        </p:nvSpPr>
        <p:spPr>
          <a:xfrm rot="3258000">
            <a:off x="6291000" y="3587760"/>
            <a:ext cx="1467000" cy="282240"/>
          </a:xfrm>
          <a:prstGeom prst="rightArrow">
            <a:avLst>
              <a:gd name="adj1" fmla="val 50000"/>
              <a:gd name="adj2" fmla="val 129943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1369800" y="549000"/>
            <a:ext cx="38098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тет прямоугольного треугольника, лежащий против угла в 30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равен половине гипотенуз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С=АВ/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0" name="Diagram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31" name="AutoShape 13"/>
          <p:cNvSpPr/>
          <p:nvPr/>
        </p:nvSpPr>
        <p:spPr>
          <a:xfrm rot="16200000">
            <a:off x="4895640" y="2457360"/>
            <a:ext cx="4681440" cy="1871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5667840" y="51973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8056440" y="33336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8042400" y="5197320"/>
            <a:ext cx="7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20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2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20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1369800" y="404280"/>
            <a:ext cx="3809880" cy="53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ru-RU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С=АВ/2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AutoShape 7"/>
          <p:cNvSpPr/>
          <p:nvPr/>
        </p:nvSpPr>
        <p:spPr>
          <a:xfrm>
            <a:off x="6227640" y="836640"/>
            <a:ext cx="2016360" cy="446400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5739480" y="3715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8129520" y="47642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508720" y="49086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9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3" dur="2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7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AutoShape 4"/>
          <p:cNvSpPr/>
          <p:nvPr/>
        </p:nvSpPr>
        <p:spPr>
          <a:xfrm>
            <a:off x="1403280" y="3716280"/>
            <a:ext cx="4535640" cy="2087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1370160" y="189360"/>
            <a:ext cx="777384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сота прямоугольного треугольника, проведённая из вершины прямого угла, есть среднее пропорциональное для отрезков, на которые делится гипотенуза высот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7"/>
              <p:cNvSpPr txBox="1"/>
              <p:nvPr/>
            </p:nvSpPr>
            <p:spPr>
              <a:xfrm>
                <a:off x="4788000" y="3662280"/>
                <a:ext cx="31795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Н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НВ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46" name="Line 9"/>
          <p:cNvSpPr/>
          <p:nvPr/>
        </p:nvSpPr>
        <p:spPr>
          <a:xfrm flipV="1">
            <a:off x="1403280" y="4147920"/>
            <a:ext cx="93672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7" name="Line 10"/>
          <p:cNvSpPr/>
          <p:nvPr/>
        </p:nvSpPr>
        <p:spPr>
          <a:xfrm flipH="1">
            <a:off x="2484000" y="429264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8" name="Line 11"/>
          <p:cNvSpPr/>
          <p:nvPr/>
        </p:nvSpPr>
        <p:spPr>
          <a:xfrm flipH="1" flipV="1">
            <a:off x="2195640" y="4436640"/>
            <a:ext cx="28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684360" y="537228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0" name="Text Box 13"/>
          <p:cNvSpPr/>
          <p:nvPr/>
        </p:nvSpPr>
        <p:spPr>
          <a:xfrm>
            <a:off x="755640" y="306864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2067480" y="3392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5798160" y="5372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77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0" dur="770" fill="hold"/>
                                        <p:tgtEl>
                                          <p:spTgt spid="6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2" dur="77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4" dur="77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1370160" y="333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тет прямоугольного треугольника есть среднее пропорциональное  для гипотенузы и отрезка гипотенузы, заключённого между катетом и высотой, проведённой из вершины прямого уг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1476360" y="3789360"/>
            <a:ext cx="4535640" cy="2087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6" name="Line 6"/>
          <p:cNvSpPr/>
          <p:nvPr/>
        </p:nvSpPr>
        <p:spPr>
          <a:xfrm flipV="1">
            <a:off x="1476360" y="4221000"/>
            <a:ext cx="9367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7" name="Line 7"/>
          <p:cNvSpPr/>
          <p:nvPr/>
        </p:nvSpPr>
        <p:spPr>
          <a:xfrm flipH="1">
            <a:off x="2557080" y="43657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8" name="Line 8"/>
          <p:cNvSpPr/>
          <p:nvPr/>
        </p:nvSpPr>
        <p:spPr>
          <a:xfrm flipH="1" flipV="1">
            <a:off x="2268000" y="450972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757080" y="5445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828720" y="314172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2140560" y="3465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2" name="Text Box 12"/>
          <p:cNvSpPr/>
          <p:nvPr/>
        </p:nvSpPr>
        <p:spPr>
          <a:xfrm>
            <a:off x="6086880" y="5516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3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13"/>
              <p:cNvSpPr txBox="1"/>
              <p:nvPr/>
            </p:nvSpPr>
            <p:spPr>
              <a:xfrm>
                <a:off x="3924360" y="3213000"/>
                <a:ext cx="280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5" name="Rectangle 16"/>
          <p:cNvSpPr/>
          <p:nvPr/>
        </p:nvSpPr>
        <p:spPr>
          <a:xfrm>
            <a:off x="324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15"/>
              <p:cNvSpPr txBox="1"/>
              <p:nvPr/>
            </p:nvSpPr>
            <p:spPr>
              <a:xfrm>
                <a:off x="5724360" y="4076640"/>
                <a:ext cx="3024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056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66ff"/>
                </a:solidFill>
                <a:uFillTx/>
                <a:latin typeface="Comic Sans MS"/>
              </a:rPr>
              <a:t>ПРЯМОУГОЛЬНЫЙ </a:t>
            </a:r>
            <a:br>
              <a:rPr sz="4000"/>
            </a:br>
            <a:r>
              <a:rPr b="1" i="1" lang="ru-RU" sz="4000" spc="-1" strike="noStrike" u="sng">
                <a:solidFill>
                  <a:srgbClr val="0066ff"/>
                </a:solidFill>
                <a:uFillTx/>
                <a:latin typeface="Comic Sans MS"/>
              </a:rPr>
              <a:t>ТРЕУГОЛЬНИК-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476360" y="2637000"/>
            <a:ext cx="712800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ЭТО ТРЕУГОЛЬНИК, В КОТОРОМ ОДИН ИЗ УГЛОВ ПРЯМОЙ (90</a:t>
            </a:r>
            <a:r>
              <a:rPr b="1" lang="ru-RU" sz="3200" spc="-1" strike="noStrike">
                <a:solidFill>
                  <a:srgbClr val="336699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2843280" y="4869000"/>
            <a:ext cx="4608360" cy="107928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2843280" y="5661000"/>
            <a:ext cx="28728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3132000" y="5661000"/>
            <a:ext cx="0" cy="28908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2004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33ccff"/>
                </a:solidFill>
                <a:uFillTx/>
                <a:latin typeface="Comic Sans MS"/>
              </a:rPr>
              <a:t>СТОРОНЫ </a:t>
            </a:r>
            <a:br>
              <a:rPr sz="3100"/>
            </a:br>
            <a:r>
              <a:rPr b="1" i="1" lang="ru-RU" sz="3100" spc="-1" strike="noStrike" u="sng">
                <a:solidFill>
                  <a:srgbClr val="33ccff"/>
                </a:solidFill>
                <a:uFillTx/>
                <a:latin typeface="Comic Sans MS"/>
              </a:rPr>
              <a:t>ПРЯМОУГОЛЬНОГО ТРЕУГОЛЬНИКА</a:t>
            </a:r>
            <a:endParaRPr b="0" lang="en-US" sz="31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763640" y="2997360"/>
            <a:ext cx="3097440" cy="2738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– ГИПОТЕНУЗА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– КАТЕТ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 - КАТЕТ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3" name="AutoShape 10"/>
          <p:cNvSpPr/>
          <p:nvPr/>
        </p:nvSpPr>
        <p:spPr>
          <a:xfrm>
            <a:off x="6227640" y="1916280"/>
            <a:ext cx="2160720" cy="345744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514" name="Diagram 1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15" name="Rectangle 23"/>
          <p:cNvSpPr/>
          <p:nvPr/>
        </p:nvSpPr>
        <p:spPr>
          <a:xfrm>
            <a:off x="5651640" y="137016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6" name="Text Box 24"/>
          <p:cNvSpPr/>
          <p:nvPr/>
        </p:nvSpPr>
        <p:spPr>
          <a:xfrm>
            <a:off x="8317080" y="508464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7" name="Text Box 25"/>
          <p:cNvSpPr/>
          <p:nvPr/>
        </p:nvSpPr>
        <p:spPr>
          <a:xfrm>
            <a:off x="5796000" y="5157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8" name="Line 26"/>
          <p:cNvSpPr/>
          <p:nvPr/>
        </p:nvSpPr>
        <p:spPr>
          <a:xfrm>
            <a:off x="6227640" y="5157720"/>
            <a:ext cx="2160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9" name="Line 27"/>
          <p:cNvSpPr/>
          <p:nvPr/>
        </p:nvSpPr>
        <p:spPr>
          <a:xfrm>
            <a:off x="6443640" y="5157720"/>
            <a:ext cx="0" cy="216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8920" y="1341000"/>
            <a:ext cx="86029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6666ff"/>
                </a:solidFill>
                <a:latin typeface="Times New Roman"/>
              </a:rPr>
              <a:t>ПРИЗНАКИ </a:t>
            </a:r>
            <a:br>
              <a:rPr sz="5700"/>
            </a:br>
            <a:r>
              <a:rPr b="1" i="1" lang="ru-RU" sz="5700" spc="-1" strike="noStrike">
                <a:solidFill>
                  <a:srgbClr val="6666ff"/>
                </a:solidFill>
                <a:latin typeface="Times New Roman"/>
              </a:rPr>
              <a:t>РАВЕНСТВА ПРЯМОУГОЛЬНЫХ ТРЕУГОЛЬНИКОВ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914040" y="2491920"/>
            <a:ext cx="3809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Если катеты одного прямоугольного треугольника соответственно равны катетам другого прямоугольного треугольника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642920" y="404640"/>
            <a:ext cx="42102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9" name="Line 10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1" name="AutoShape 18"/>
          <p:cNvSpPr/>
          <p:nvPr/>
        </p:nvSpPr>
        <p:spPr>
          <a:xfrm>
            <a:off x="7164360" y="422100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6588000" y="40035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817236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6516720" y="5877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5" name="Line 22"/>
          <p:cNvSpPr/>
          <p:nvPr/>
        </p:nvSpPr>
        <p:spPr>
          <a:xfrm>
            <a:off x="7164360" y="594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6" name="Line 23"/>
          <p:cNvSpPr/>
          <p:nvPr/>
        </p:nvSpPr>
        <p:spPr>
          <a:xfrm>
            <a:off x="7380360" y="594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7" name="Line 24"/>
          <p:cNvSpPr/>
          <p:nvPr/>
        </p:nvSpPr>
        <p:spPr>
          <a:xfrm>
            <a:off x="5219640" y="112536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8" name="Line 25"/>
          <p:cNvSpPr/>
          <p:nvPr/>
        </p:nvSpPr>
        <p:spPr>
          <a:xfrm>
            <a:off x="7164360" y="422100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9" name="Line 26"/>
          <p:cNvSpPr/>
          <p:nvPr/>
        </p:nvSpPr>
        <p:spPr>
          <a:xfrm>
            <a:off x="5219640" y="306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0" name="Line 27"/>
          <p:cNvSpPr/>
          <p:nvPr/>
        </p:nvSpPr>
        <p:spPr>
          <a:xfrm>
            <a:off x="7164360" y="616572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297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0" y="260280"/>
            <a:ext cx="4114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0" name="Line 12"/>
          <p:cNvSpPr/>
          <p:nvPr/>
        </p:nvSpPr>
        <p:spPr>
          <a:xfrm>
            <a:off x="5219640" y="112536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64360" y="422100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2" name="Rectangle 15"/>
          <p:cNvSpPr/>
          <p:nvPr/>
        </p:nvSpPr>
        <p:spPr>
          <a:xfrm>
            <a:off x="6588000" y="40035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817236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4" name="Text Box 17"/>
          <p:cNvSpPr/>
          <p:nvPr/>
        </p:nvSpPr>
        <p:spPr>
          <a:xfrm>
            <a:off x="6516720" y="5877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5" name="Line 18"/>
          <p:cNvSpPr/>
          <p:nvPr/>
        </p:nvSpPr>
        <p:spPr>
          <a:xfrm>
            <a:off x="7164360" y="594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6" name="Line 19"/>
          <p:cNvSpPr/>
          <p:nvPr/>
        </p:nvSpPr>
        <p:spPr>
          <a:xfrm>
            <a:off x="7380360" y="594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7" name="Line 20"/>
          <p:cNvSpPr/>
          <p:nvPr/>
        </p:nvSpPr>
        <p:spPr>
          <a:xfrm>
            <a:off x="7164360" y="422100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8" name="Arc 23"/>
          <p:cNvSpPr/>
          <p:nvPr/>
        </p:nvSpPr>
        <p:spPr>
          <a:xfrm rot="5400000">
            <a:off x="5220360" y="162792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9" name="Arc 25"/>
          <p:cNvSpPr/>
          <p:nvPr/>
        </p:nvSpPr>
        <p:spPr>
          <a:xfrm rot="5400000">
            <a:off x="7165080" y="472356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971280" y="1557360"/>
            <a:ext cx="309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066920" y="189000"/>
            <a:ext cx="4608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8" name="Line 12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9" name="AutoShape 23"/>
          <p:cNvSpPr/>
          <p:nvPr/>
        </p:nvSpPr>
        <p:spPr>
          <a:xfrm>
            <a:off x="6948360" y="407664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0" name="Rectangle 24"/>
          <p:cNvSpPr/>
          <p:nvPr/>
        </p:nvSpPr>
        <p:spPr>
          <a:xfrm>
            <a:off x="6372360" y="38592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7956720" y="573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2" name="Text Box 26"/>
          <p:cNvSpPr/>
          <p:nvPr/>
        </p:nvSpPr>
        <p:spPr>
          <a:xfrm>
            <a:off x="6300720" y="5732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3" name="Line 27"/>
          <p:cNvSpPr/>
          <p:nvPr/>
        </p:nvSpPr>
        <p:spPr>
          <a:xfrm>
            <a:off x="6948360" y="580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4" name="Line 28"/>
          <p:cNvSpPr/>
          <p:nvPr/>
        </p:nvSpPr>
        <p:spPr>
          <a:xfrm>
            <a:off x="7164360" y="580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5" name="Line 31"/>
          <p:cNvSpPr/>
          <p:nvPr/>
        </p:nvSpPr>
        <p:spPr>
          <a:xfrm>
            <a:off x="5219640" y="112536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6" name="Line 32"/>
          <p:cNvSpPr/>
          <p:nvPr/>
        </p:nvSpPr>
        <p:spPr>
          <a:xfrm>
            <a:off x="6948360" y="407664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7" name="Arc 34"/>
          <p:cNvSpPr/>
          <p:nvPr/>
        </p:nvSpPr>
        <p:spPr>
          <a:xfrm rot="5400000">
            <a:off x="5220360" y="162792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8" name="Arc 35"/>
          <p:cNvSpPr/>
          <p:nvPr/>
        </p:nvSpPr>
        <p:spPr>
          <a:xfrm rot="5400000">
            <a:off x="6949080" y="458064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l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2936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Если гипотенуза и катет одного прямоугольного треугольника соответственно равны гипотенузе и катет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067280" y="259920"/>
            <a:ext cx="4619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6" name="Line 11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7" name="Line 12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8" name="AutoShape 15"/>
          <p:cNvSpPr/>
          <p:nvPr/>
        </p:nvSpPr>
        <p:spPr>
          <a:xfrm>
            <a:off x="6948360" y="407664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9" name="Rectangle 16"/>
          <p:cNvSpPr/>
          <p:nvPr/>
        </p:nvSpPr>
        <p:spPr>
          <a:xfrm>
            <a:off x="6372360" y="38592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7956720" y="573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6300720" y="5732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2" name="Line 19"/>
          <p:cNvSpPr/>
          <p:nvPr/>
        </p:nvSpPr>
        <p:spPr>
          <a:xfrm>
            <a:off x="6948360" y="580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3" name="Line 20"/>
          <p:cNvSpPr/>
          <p:nvPr/>
        </p:nvSpPr>
        <p:spPr>
          <a:xfrm>
            <a:off x="7164360" y="580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4" name="Line 21"/>
          <p:cNvSpPr/>
          <p:nvPr/>
        </p:nvSpPr>
        <p:spPr>
          <a:xfrm>
            <a:off x="5219640" y="112536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5" name="Line 23"/>
          <p:cNvSpPr/>
          <p:nvPr/>
        </p:nvSpPr>
        <p:spPr>
          <a:xfrm>
            <a:off x="6948360" y="407664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6" name="Line 24"/>
          <p:cNvSpPr/>
          <p:nvPr/>
        </p:nvSpPr>
        <p:spPr>
          <a:xfrm>
            <a:off x="5219640" y="306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7" name="Line 25"/>
          <p:cNvSpPr/>
          <p:nvPr/>
        </p:nvSpPr>
        <p:spPr>
          <a:xfrm>
            <a:off x="6948360" y="602136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4000" y="1844640"/>
            <a:ext cx="8135640" cy="39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НЕКОТОРЫЕ СВОЙСТВА </a:t>
            </a:r>
            <a:r>
              <a:rPr b="1" i="1" lang="ru-RU" sz="5400" spc="-1" strike="noStrike">
                <a:solidFill>
                  <a:srgbClr val="333399"/>
                </a:solidFill>
                <a:latin typeface="Tahoma"/>
              </a:rPr>
              <a:t>ПРЯМОУГОЛЬНОГО</a:t>
            </a: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 ТРЕУГОЛЬН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0:14:31Z</dcterms:created>
  <dc:creator>Alexey Kuptzov</dc:creator>
  <dc:description/>
  <dc:language>en-US</dc:language>
  <cp:lastModifiedBy>LEGION</cp:lastModifiedBy>
  <dcterms:modified xsi:type="dcterms:W3CDTF">2015-01-23T11:48:18Z</dcterms:modified>
  <cp:revision>25</cp:revision>
  <dc:subject/>
  <dc:title>ПРЯМОУГОЛЬНЫЙ  ТРЕУГОЛЬНИК-</dc:title>
</cp:coreProperties>
</file>