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3CD2-0ACC-4149-9F1C-C6398CD7011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реподаватель ФГОУ  СПО «СТК» Л.Г.Якимч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C899-D235-4C2A-908F-B08CDF9FD9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3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F267-C444-475B-B586-DBA27A5D8D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&lt; 90</a:t>
            </a:r>
            <a:r>
              <a:rPr b="0" i="1" lang="en-US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BF3B-8D6C-42CE-AC38-B6B8CE1F4B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не меня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5A4A-4A76-4A11-B646-B21C2F13CD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А 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меняется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на сход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EACB-6AA1-40FF-8F84-FF16CF7407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4E44-237E-4FB2-84AD-7E0EB7BE7F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165D-8D5D-4E47-8CF7-E079D6694C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апишите формулы при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0949-197E-4A2C-B8E8-F2053F4524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Выразите тригонометрические функции через угол меньше 45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7F37-8E10-4655-B4BC-624925CD02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2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7868-05B0-4EDE-9139-41012C61A4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00A-FEAD-434D-B93B-E330D5B3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673-974E-4E4A-9627-BEADD1E6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F47-C08A-4295-9CB2-B4F2401F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027-08E3-4C06-8A47-D1703F8B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F3D7-08D5-433D-8A50-CEDF9F26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97A2-491D-4F17-927B-FFF35C49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AB0D-826C-4986-B413-3C5F108C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13DE-BCEE-4871-B9F9-E69FCD49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0CD6-D0B2-4C20-8DF2-B74A6529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1521-3D33-4A44-9D85-D711959E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9077-C0E1-4756-AC22-9DC1BEFB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5C6-C2BE-437B-AD0E-2968A0BA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D763-A696-49C5-88C0-9A1EF1E9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DB66-FC74-4834-A02E-FB6F477F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FB3F-283A-4371-B817-0BABC8BA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AA70-ED8C-45B8-8C7A-79730579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062D-67BD-4A28-9832-91AF2B66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BEEAC-538F-44A0-9D04-982DC8B0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4C380-5A07-4536-A42E-B5EF1BC5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2AF98-C290-4B78-842A-70D9FDAA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560A3-5A79-4128-8F9E-24C87DE7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F6764-E792-4E1F-BABC-FEB9CAD9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322E-08C6-48AC-B4E4-8B766DC5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FB743-F055-4A0D-9F96-F73BD3E4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D8942-9251-4B28-BFB2-39C1AED0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091CD-E8FD-4DBC-A751-511E8E5A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534DD-DE64-4908-B645-B08D966F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68D42-8C24-4C4A-8749-6BA858BD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140E0-3F5C-4592-939F-5F6B6381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6B97B-2D8D-4023-9EDE-D4ED28C8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6DCB4-FDEE-4EF2-B967-7CD8D751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C10A8-235A-466F-8CC2-69B372AC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476F9-444F-4AAF-AD0C-AEE6FC73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D3C-6AA6-4C83-A91E-00684BA0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0501C-9B89-4A58-B63F-843C5685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B16CC-52B4-4F6F-89D4-2B97BFF0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C1A3A-8AF7-4111-B75B-2B6B3FCB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04DB5-32B8-423E-9689-FE7E3FAA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E5DBB-8BF9-4A9C-8811-9FA1EF52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9CC28-D9CE-4B02-9F96-715A6090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4971F-B2DC-4CF6-9660-046F83CA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DE7AD-E9CA-4B50-91CA-61FBA78D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1EE17-016F-4E67-BCD6-D2DC3D9B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CCF26-2864-42A3-A452-513C11EF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C30-C5BE-46A4-B3FF-8EE99A12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78DCD-3637-46F7-9213-2984756E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02565-6FCD-4225-8828-29C48BEA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2C8A6-F218-4BF7-A254-7C3A9303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C56E2-F2DE-47E8-AA26-50674F5E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296AE-F42E-41E2-9B4E-FFA06BBF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B82AD-9E7D-40DA-9535-DB5D078D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89EED0-3AA4-49D8-AD27-BA4E1A0F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CE647-0CF6-4AD6-8769-2A174FD1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B638F-7F5C-4C37-906B-91DAFDCC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326DC-2541-425D-BF6B-776428D9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DBC-E616-4B23-B868-F0A82AA8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9F5772-9D90-41D6-92F5-A76D474C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CA105-26EA-45E8-912E-7D290BDC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A6ADDF-1834-4747-99BB-0EE3E600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F34F0-7E79-4A7C-82A3-176E465E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6BAFFF-EF28-4D65-AFB4-31F66E80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BBFF7-22D1-402E-A4CF-A6694342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141829-BC64-4249-9E15-F699550E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B73CE-FAFF-4E96-8AC9-C7591F16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ACC1D-D5E9-459A-8969-B0D4851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A5DA3-32E5-4EBD-B78B-365D302E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A97-FEDF-4F37-9E6D-BEF2C3E7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658856-0214-4A19-AAB2-996DE49F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BC4CC-5E12-4E43-B944-B0B0D6C3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C97CCD-5154-4843-8D5E-45BF99A4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38D527-B42B-428A-9B6A-D35DF3F8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693E5-E4E2-4E60-8326-6E6C3934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6ED010-FC49-4D28-9F52-F17252C5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B603C-6FA7-440A-8F7C-66B295F5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7E9505-3095-4471-859D-7E52A1AB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23DEF-9AAF-4F66-B26A-56B1B732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835AE-3F01-41D9-90D5-4A85AA16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864-6B1C-45D1-8C50-839A2BCB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2DF50-3ED5-4933-9EE2-4712FC66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482575-0434-410B-AC7B-78201EA4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C61788-62DF-4FDA-A4D7-42AFF815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5FA238-8206-4223-ADC3-5877E8DE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4CCF7-DF20-4864-A085-0ABE4202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F34-3F1D-44C4-A0B4-034375B3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E74D-53E4-4EFD-9AA1-5425E6ED705E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BBA7-3B4E-4185-8542-253CD6D351B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7B34-730F-4163-8796-7A814979DAB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63C3-1F6A-40D2-841F-84E6D71F586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6194-75FF-4114-8099-312D6BE6DDB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1F06-ED06-469B-B81A-570938DD120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B0FA-1B7B-4556-A99C-7F9453880132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4A8C-5AD9-4380-8041-E54911D9B9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CC48-6AED-46AB-B4B5-5BFC59A9E66D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6555-8AE6-4E26-BEDE-8186B8494B9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6507-45F2-4B90-B3D5-D0AC57C005A4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82B6-8AF2-441B-A627-5B2FD0C04A9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51E8-7B5F-4EFD-97B7-2A7C771C71F4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4D34-9919-4EFE-9FAB-8A04581BC4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4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4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5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6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77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0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Місце для нижнього колонтитула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2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3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4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25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57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8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9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61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2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8:44Z</dcterms:modified>
  <cp:revision>21</cp:revision>
  <dc:subject/>
  <dc:title>Слайд 1</dc:title>
</cp:coreProperties>
</file>