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21C9-0FED-4E1E-A56C-C2666E8C314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76092"/>
                </a:solidFill>
                <a:latin typeface="Calibri"/>
              </a:rPr>
              <a:t>ФОРМУЛЫ ПРИ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Преподаватель ФГОУ  СПО «СТК» Л.Г.Якимч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1E97-D2AC-4680-9373-3E52EFE3FC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Задание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3.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Упростите вы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9E17-0813-4888-B31B-687A509B1B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ФОРМУЛЫ ПРИВЕ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это формулы, позволяющие выражать значения тригонометрических функций любого угла через функции угла первой четверти, т.е. 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&lt; 90</a:t>
            </a:r>
            <a:r>
              <a:rPr b="0" i="1" lang="en-US" sz="1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°</a:t>
            </a:r>
            <a:r>
              <a:rPr b="0" i="1" lang="ru-RU" sz="1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AFC2-79D1-4E72-8132-3F2E66D2AB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1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Если угол     откладывают от оси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О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,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то наименование функции не меня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0D32-D7B4-48E3-81B5-0FC23F1D5C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1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А если угол     откладывают от оси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О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,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то наименование функции меняется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на сходн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BB65-0191-45F2-8C47-EF682BAB93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2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Знак в правой части формулы определяется по знаку функции в лево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B5DB-C4EE-48E1-9913-0B146BCC89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2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Знак в правой части формулы определяется по знаку функции в лево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9F7C-6B53-43D1-A2F5-106F99F2ED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Запишите формулы при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EBAF-6801-43C0-B392-A80570F8E1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Задание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1.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Выразите тригонометрические функции через угол меньше 45</a:t>
            </a:r>
            <a:r>
              <a:rPr b="0" i="1" lang="ru-RU" sz="1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3791-5178-4992-8F25-1D929031DD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Задание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2.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Упростите вы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3292-1367-48DF-83DA-684903F55F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EF43-2B81-4747-AF21-4402ECAE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42C7-187E-4618-95D2-2BE06B7A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F790-003C-4A23-96BE-E446B285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1356-AF8B-493A-A262-862F77DA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11DF-4F62-484D-9DB6-3C40B12E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CF33-3405-4330-8023-743BA7D7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D437-5C96-48E4-ADD6-E5DCE394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F592-7CD7-4F66-AF54-E312DF7F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F4F2-54DE-4582-AA7B-8CE61CC0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BAE7-1620-4E4B-B285-590C0C63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79D9-9948-414F-8C5A-9C3B1BF8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9DED-3977-4C62-B822-C83F525A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08A5-5361-4823-B84E-FAA92185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01FD-CD42-4A2F-993F-1CFBEFBE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D7F7-1F4C-4545-BB28-69D6C690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2229-D785-4D9C-B531-3E3011E6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14A3-49EC-498C-BF9D-A23C0B96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5CB05D-6644-4677-93B1-1346807A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DCC97-9D8B-4C49-A82B-CECC5D8B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BD077F-E1EE-4290-86BB-80FE3318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D3CFF4-3316-4D5A-AACE-A7B490B5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94D6EE-F31C-407E-BF62-4A4F0A3D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5B73-3938-4797-95F2-FE868AA7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E6F4E-C6D9-417E-9B6A-D12D9A6E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A726EB-406E-4AFC-A1C7-1A71EC4D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7F99B7-6E65-4B22-90D9-EE32AACC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C96ACF-DE9F-4E60-841C-77B27CC3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53E1C1-B649-4A06-AC4A-6D72E17E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8FA946-9FE8-4653-9ABA-2434E3D3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4E2620-BD93-499F-B3DC-9D579AE6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CAB65-36C5-47F5-BCB0-A95B37BC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1F07A-7FC9-4F00-B896-40A9F464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BFB49-4408-4601-BDC8-378958AA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F127-8163-486D-B3E5-0467D049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87C4D-D709-4F0B-A89B-9F95B97D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E9677-D894-4318-AF45-0A98B081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96797-3D5A-48ED-9A90-D8A589EC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91E01-77E9-490A-8F66-F4969A79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AA5B7-2A5E-4AD7-A181-E9EDFE4C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65CCF-5B84-449C-B544-507B78AA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04C62-BF3E-4D6B-9B75-52CB9ADD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7218B-5266-484D-B61B-43F419EF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E1E8A-A064-4E70-B42D-0044903C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1F941E-44C8-444C-B42A-0337F1CC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0BDD-4025-4068-913E-C2AACDA7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8BA1B5-7A0F-4760-830F-4BEFD99E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3FA4C5-9D69-4518-8406-9DE2B29F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44ED8A-08C7-463F-8094-39EB8CC6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30D948-D1BF-48DB-90A6-B079592A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BE1A86-6EB0-4AAE-B6A7-C11069F7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1FF853-ED5C-470B-BFCA-6077CDAC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05EEFF-243F-4534-B36C-2C41CAA9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03CFA9-1247-48B2-A298-DF0CB338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2EFA32-CBB3-47FF-83A7-38A8E04B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90F0DD-210B-48C9-B8AC-158738AD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9216-8907-444B-9E2D-CEF66987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DFB1D1-2066-4856-AE8F-7EF9DE30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805AE1-0A40-4A30-A79C-CE326B03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78ACA3-72E9-4C84-90D0-435B8FBC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110479-11DD-4019-AE5D-F60193EC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CEB03F-BC01-4431-8DC2-0563C5BC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16BAA6-777E-4347-BA06-760A08AD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A6E270-7A9B-410F-9AAF-EBE8A11D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D8CD4C-5BEC-41E2-915C-1E60EFC6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4CDDF1-9138-4F59-B99C-8B8F2ACF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FF3E55-6C3F-46C0-929C-0D5E14DB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588E-9B97-434A-9738-42ADC171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41B519-1BBF-4777-A2B7-2D5BBAF2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2A6F7C-B467-40B1-BA33-CC5F0FF9B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DFDA0B-047C-4408-9405-D5D2B6F1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34398B-AF1A-4E32-914E-BB66772D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D31367-940E-4B60-80E6-D25C3D39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34C8A5-4039-49B5-95A6-8ECB3648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F29379-7996-4B13-BD17-8BAB8D50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BDCEA6-3CC8-40B5-9B9E-3A4B0839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1499A6-4E14-4411-BD3D-D1593CAA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226AA8-11F7-4B3E-A788-9779C351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C06E-8756-488C-BB25-22AF8128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2D196A-F574-4CA0-B337-6F75919B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53D3B8-2068-456C-98DC-DADD80B3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7D61F2-FF7B-42FD-9E42-14151362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0D5A56-DADE-436F-999D-942CA413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D95B7F-87D1-4843-9E45-9BB84276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2793-C8CD-4233-809C-C765D340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2ECE-78A6-46F2-9A58-A1C29A2DEF9F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5C9B-600A-457F-BE69-3430369BC6E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6A0E-2C41-418C-9059-C95CA00915FF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6A55-46D2-469D-9EA0-3E62C89F3ED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8D66-5F14-4D15-8649-66C2E522551E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FAD3-92BC-4AAF-834F-D51F54F3B7E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796A-5213-4BEF-953B-6A59D679DFE4}" type="datetime"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969D-7B9D-4912-B692-F8A3EF860F6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4633-D7FD-4166-B8F1-95D62A696B6B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3907-B786-459B-9115-70BC06E0F2F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7B61-EEBB-4F73-942C-A873966BB1D9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9050-D152-4CA8-B82D-2341324A934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B042-D874-4E25-9215-7F8422465A44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761E-99FC-4B4F-97DE-AE74445E618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6000" y="2642760"/>
            <a:ext cx="65008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643720"/>
            <a:ext cx="617220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68c4"/>
                </a:solidFill>
                <a:latin typeface="Century Schoolbook"/>
              </a:rPr>
              <a:t>Преподаватель ФГОУ  СПО «СТК» Л.Г.Якимчу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Місце для нижнього колонтитула 3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3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2"/>
              <p:cNvSpPr txBox="1"/>
              <p:nvPr/>
            </p:nvSpPr>
            <p:spPr>
              <a:xfrm>
                <a:off x="1571760" y="1643040"/>
                <a:ext cx="49291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8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9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3"/>
              <p:cNvSpPr txBox="1"/>
              <p:nvPr/>
            </p:nvSpPr>
            <p:spPr>
              <a:xfrm>
                <a:off x="500040" y="3000240"/>
                <a:ext cx="80503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4"/>
              <p:cNvSpPr txBox="1"/>
              <p:nvPr/>
            </p:nvSpPr>
            <p:spPr>
              <a:xfrm>
                <a:off x="1992240" y="4000680"/>
                <a:ext cx="40863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5"/>
              <p:cNvSpPr txBox="1"/>
              <p:nvPr/>
            </p:nvSpPr>
            <p:spPr>
              <a:xfrm>
                <a:off x="2759040" y="5322960"/>
                <a:ext cx="29973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509" name="Picture 4" descr=""/>
          <p:cNvPicPr/>
          <p:nvPr/>
        </p:nvPicPr>
        <p:blipFill>
          <a:blip r:embed="rId1"/>
          <a:stretch/>
        </p:blipFill>
        <p:spPr>
          <a:xfrm>
            <a:off x="6357960" y="50007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10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2071800"/>
            <a:ext cx="746748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i="1" lang="ru-RU" sz="2800" spc="-1" strike="noStrike">
                <a:solidFill>
                  <a:srgbClr val="3668c4"/>
                </a:solidFill>
                <a:latin typeface="Century Schoolbook"/>
              </a:rPr>
              <a:t>это формулы, позволяющие выражать значения тригонометрических функций любого угла через функции угла первой четверти, т.е. </a:t>
            </a:r>
            <a:r>
              <a:rPr b="0" i="1" lang="en-US" sz="2800" spc="-1" strike="noStrike">
                <a:solidFill>
                  <a:srgbClr val="3668c4"/>
                </a:solidFill>
                <a:latin typeface="Century Schoolbook"/>
              </a:rPr>
              <a:t>&lt; 90</a:t>
            </a:r>
            <a:r>
              <a:rPr b="0" i="1" lang="en-US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</a:t>
            </a:r>
            <a:r>
              <a:rPr b="0" i="1" lang="ru-RU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2"/>
              <p:cNvSpPr txBox="1"/>
              <p:nvPr/>
            </p:nvSpPr>
            <p:spPr>
              <a:xfrm>
                <a:off x="2857680" y="4572000"/>
                <a:ext cx="18954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4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X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НЕ МЕНЯЕТСЯ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Прямая со стрелкой 2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74" name="Прямая со стрелкой 30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75" name="Прямая со стрелкой 31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76" name="Прямая со стрелкой 32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377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7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8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9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10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11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2"/>
              <p:cNvSpPr txBox="1"/>
              <p:nvPr/>
            </p:nvSpPr>
            <p:spPr>
              <a:xfrm>
                <a:off x="4500720" y="500040"/>
                <a:ext cx="434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3"/>
              <p:cNvSpPr txBox="1"/>
              <p:nvPr/>
            </p:nvSpPr>
            <p:spPr>
              <a:xfrm>
                <a:off x="219240" y="3675240"/>
                <a:ext cx="2379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4"/>
              <p:cNvSpPr txBox="1"/>
              <p:nvPr/>
            </p:nvSpPr>
            <p:spPr>
              <a:xfrm>
                <a:off x="5286240" y="1928880"/>
                <a:ext cx="1643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15"/>
              <p:cNvSpPr txBox="1"/>
              <p:nvPr/>
            </p:nvSpPr>
            <p:spPr>
              <a:xfrm>
                <a:off x="5560920" y="3313080"/>
                <a:ext cx="1378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А 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Y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МЕНЯЕТСЯ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НА СХОДНОЕ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1857240" y="5715000"/>
                <a:ext cx="411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4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5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6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7"/>
              <p:cNvSpPr txBox="1"/>
              <p:nvPr/>
            </p:nvSpPr>
            <p:spPr>
              <a:xfrm>
                <a:off x="4786200" y="500040"/>
                <a:ext cx="435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8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9"/>
              <p:cNvSpPr txBox="1"/>
              <p:nvPr/>
            </p:nvSpPr>
            <p:spPr>
              <a:xfrm>
                <a:off x="5643720" y="2571840"/>
                <a:ext cx="135720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10"/>
              <p:cNvSpPr txBox="1"/>
              <p:nvPr/>
            </p:nvSpPr>
            <p:spPr>
              <a:xfrm>
                <a:off x="5643720" y="4000680"/>
                <a:ext cx="1380960" cy="13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06" name="Прямая со стрелкой 40"/>
          <p:cNvCxnSpPr/>
          <p:nvPr/>
        </p:nvCxnSpPr>
        <p:spPr>
          <a:xfrm flipH="1">
            <a:off x="1213560" y="2000160"/>
            <a:ext cx="71532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07" name="Прямая со стрелкой 44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08" name="Прямая со стрелкой 46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09" name="Прямая со стрелкой 48"/>
          <p:cNvCxnSpPr/>
          <p:nvPr/>
        </p:nvCxnSpPr>
        <p:spPr>
          <a:xfrm flipH="1" flipV="1">
            <a:off x="1071720" y="5428440"/>
            <a:ext cx="64332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10" name="Object 11"/>
              <p:cNvSpPr txBox="1"/>
              <p:nvPr/>
            </p:nvSpPr>
            <p:spPr>
              <a:xfrm>
                <a:off x="4098960" y="1285920"/>
                <a:ext cx="3732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12"/>
              <p:cNvSpPr txBox="1"/>
              <p:nvPr/>
            </p:nvSpPr>
            <p:spPr>
              <a:xfrm>
                <a:off x="4643280" y="1785960"/>
                <a:ext cx="2428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Місце для нижнього колонтитула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"/>
          <p:cNvSpPr/>
          <p:nvPr/>
        </p:nvSpPr>
        <p:spPr>
          <a:xfrm>
            <a:off x="228600" y="3930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5410080" y="394488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Прямая со стрелкой 1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22" name="Прямая со стрелкой 21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23" name="Прямая со стрелкой 23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24" name="Прямая со стрелкой 25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425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2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3"/>
              <p:cNvSpPr txBox="1"/>
              <p:nvPr/>
            </p:nvSpPr>
            <p:spPr>
              <a:xfrm>
                <a:off x="214200" y="3643200"/>
                <a:ext cx="2383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4"/>
              <p:cNvSpPr txBox="1"/>
              <p:nvPr/>
            </p:nvSpPr>
            <p:spPr>
              <a:xfrm>
                <a:off x="4714920" y="1428840"/>
                <a:ext cx="1843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5"/>
              <p:cNvSpPr txBox="1"/>
              <p:nvPr/>
            </p:nvSpPr>
            <p:spPr>
              <a:xfrm>
                <a:off x="6572160" y="1428840"/>
                <a:ext cx="1135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6"/>
              <p:cNvSpPr txBox="1"/>
              <p:nvPr/>
            </p:nvSpPr>
            <p:spPr>
              <a:xfrm>
                <a:off x="4863960" y="2071800"/>
                <a:ext cx="1629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7"/>
              <p:cNvSpPr txBox="1"/>
              <p:nvPr/>
            </p:nvSpPr>
            <p:spPr>
              <a:xfrm>
                <a:off x="6600960" y="2143080"/>
                <a:ext cx="946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8"/>
              <p:cNvSpPr txBox="1"/>
              <p:nvPr/>
            </p:nvSpPr>
            <p:spPr>
              <a:xfrm>
                <a:off x="5076720" y="4286160"/>
                <a:ext cx="14623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9"/>
              <p:cNvSpPr txBox="1"/>
              <p:nvPr/>
            </p:nvSpPr>
            <p:spPr>
              <a:xfrm>
                <a:off x="6643800" y="4286160"/>
                <a:ext cx="5713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10"/>
              <p:cNvSpPr txBox="1"/>
              <p:nvPr/>
            </p:nvSpPr>
            <p:spPr>
              <a:xfrm>
                <a:off x="4786200" y="2928960"/>
                <a:ext cx="18576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11"/>
              <p:cNvSpPr txBox="1"/>
              <p:nvPr/>
            </p:nvSpPr>
            <p:spPr>
              <a:xfrm>
                <a:off x="6643800" y="2928960"/>
                <a:ext cx="9428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1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1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1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16"/>
              <p:cNvSpPr txBox="1"/>
              <p:nvPr/>
            </p:nvSpPr>
            <p:spPr>
              <a:xfrm>
                <a:off x="4929120" y="5000760"/>
                <a:ext cx="17416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17"/>
              <p:cNvSpPr txBox="1"/>
              <p:nvPr/>
            </p:nvSpPr>
            <p:spPr>
              <a:xfrm>
                <a:off x="6643800" y="5000760"/>
                <a:ext cx="922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6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57" name="Прямая со стрелкой 16"/>
          <p:cNvCxnSpPr/>
          <p:nvPr/>
        </p:nvCxnSpPr>
        <p:spPr>
          <a:xfrm flipH="1">
            <a:off x="114264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58" name="Прямая со стрелкой 17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59" name="Прямая со стрелкой 18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60" name="Object 7"/>
              <p:cNvSpPr txBox="1"/>
              <p:nvPr/>
            </p:nvSpPr>
            <p:spPr>
              <a:xfrm>
                <a:off x="1857240" y="5715000"/>
                <a:ext cx="428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61" name="Прямая со стрелкой 22"/>
          <p:cNvCxnSpPr/>
          <p:nvPr/>
        </p:nvCxnSpPr>
        <p:spPr>
          <a:xfrm flipH="1" flipV="1">
            <a:off x="928080" y="5285520"/>
            <a:ext cx="85788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62" name="Object 16"/>
              <p:cNvSpPr txBox="1"/>
              <p:nvPr/>
            </p:nvSpPr>
            <p:spPr>
              <a:xfrm>
                <a:off x="4786200" y="1849320"/>
                <a:ext cx="178596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17"/>
              <p:cNvSpPr txBox="1"/>
              <p:nvPr/>
            </p:nvSpPr>
            <p:spPr>
              <a:xfrm>
                <a:off x="6702480" y="2181240"/>
                <a:ext cx="74124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18"/>
              <p:cNvSpPr txBox="1"/>
              <p:nvPr/>
            </p:nvSpPr>
            <p:spPr>
              <a:xfrm>
                <a:off x="4786200" y="2643120"/>
                <a:ext cx="1990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19"/>
              <p:cNvSpPr txBox="1"/>
              <p:nvPr/>
            </p:nvSpPr>
            <p:spPr>
              <a:xfrm>
                <a:off x="6715080" y="2857680"/>
                <a:ext cx="12034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20"/>
              <p:cNvSpPr txBox="1"/>
              <p:nvPr/>
            </p:nvSpPr>
            <p:spPr>
              <a:xfrm>
                <a:off x="5000760" y="3643200"/>
                <a:ext cx="168120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21"/>
              <p:cNvSpPr txBox="1"/>
              <p:nvPr/>
            </p:nvSpPr>
            <p:spPr>
              <a:xfrm>
                <a:off x="6697800" y="3962520"/>
                <a:ext cx="920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22"/>
              <p:cNvSpPr txBox="1"/>
              <p:nvPr/>
            </p:nvSpPr>
            <p:spPr>
              <a:xfrm>
                <a:off x="6946920" y="4890960"/>
                <a:ext cx="6969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23"/>
              <p:cNvSpPr txBox="1"/>
              <p:nvPr/>
            </p:nvSpPr>
            <p:spPr>
              <a:xfrm>
                <a:off x="4786200" y="4643280"/>
                <a:ext cx="19717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668c4"/>
                </a:solidFill>
                <a:latin typeface="Century Schoolbook"/>
              </a:rPr>
              <a:t>ЗАПИШИТЕ ФОРМУЛЫ ПРИВЕДЕН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1857240" y="1643040"/>
                <a:ext cx="1970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1928880" y="2214720"/>
                <a:ext cx="2165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2000160" y="292896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5"/>
              <p:cNvSpPr txBox="1"/>
              <p:nvPr/>
            </p:nvSpPr>
            <p:spPr>
              <a:xfrm>
                <a:off x="1928880" y="3786120"/>
                <a:ext cx="2214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6"/>
              <p:cNvSpPr txBox="1"/>
              <p:nvPr/>
            </p:nvSpPr>
            <p:spPr>
              <a:xfrm>
                <a:off x="2000160" y="478620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7"/>
              <p:cNvSpPr txBox="1"/>
              <p:nvPr/>
            </p:nvSpPr>
            <p:spPr>
              <a:xfrm>
                <a:off x="1916280" y="5572080"/>
                <a:ext cx="2170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8"/>
              <p:cNvSpPr txBox="1"/>
              <p:nvPr/>
            </p:nvSpPr>
            <p:spPr>
              <a:xfrm>
                <a:off x="4071960" y="1785960"/>
                <a:ext cx="858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9"/>
              <p:cNvSpPr txBox="1"/>
              <p:nvPr/>
            </p:nvSpPr>
            <p:spPr>
              <a:xfrm>
                <a:off x="4143240" y="235728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10"/>
              <p:cNvSpPr txBox="1"/>
              <p:nvPr/>
            </p:nvSpPr>
            <p:spPr>
              <a:xfrm>
                <a:off x="4071960" y="3000240"/>
                <a:ext cx="828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11"/>
              <p:cNvSpPr txBox="1"/>
              <p:nvPr/>
            </p:nvSpPr>
            <p:spPr>
              <a:xfrm>
                <a:off x="4214880" y="392904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12"/>
              <p:cNvSpPr txBox="1"/>
              <p:nvPr/>
            </p:nvSpPr>
            <p:spPr>
              <a:xfrm>
                <a:off x="4156200" y="4889520"/>
                <a:ext cx="1003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3"/>
              <p:cNvSpPr txBox="1"/>
              <p:nvPr/>
            </p:nvSpPr>
            <p:spPr>
              <a:xfrm>
                <a:off x="4071960" y="5643720"/>
                <a:ext cx="100332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2700" spc="-1" strike="noStrike">
                <a:solidFill>
                  <a:srgbClr val="e75c01"/>
                </a:solidFill>
                <a:latin typeface="Century Schoolbook"/>
              </a:rPr>
              <a:t>1.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ВЫРАЗИТЕ ТРИГОНОМЕТРИЧЕСКИЕ ФУНКЦИИ ЧЕРЕЗ УГОЛ МЕНЬШЕ 45</a:t>
            </a:r>
            <a:r>
              <a:rPr b="0" i="1" lang="ru-RU" sz="27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2"/>
              <p:cNvSpPr txBox="1"/>
              <p:nvPr/>
            </p:nvSpPr>
            <p:spPr>
              <a:xfrm>
                <a:off x="1143000" y="1673280"/>
                <a:ext cx="12682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3"/>
              <p:cNvSpPr txBox="1"/>
              <p:nvPr/>
            </p:nvSpPr>
            <p:spPr>
              <a:xfrm>
                <a:off x="2500200" y="1643040"/>
                <a:ext cx="2884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4"/>
              <p:cNvSpPr txBox="1"/>
              <p:nvPr/>
            </p:nvSpPr>
            <p:spPr>
              <a:xfrm>
                <a:off x="1071720" y="2357280"/>
                <a:ext cx="12934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5"/>
              <p:cNvSpPr txBox="1"/>
              <p:nvPr/>
            </p:nvSpPr>
            <p:spPr>
              <a:xfrm>
                <a:off x="2500200" y="2357280"/>
                <a:ext cx="3033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6"/>
              <p:cNvSpPr txBox="1"/>
              <p:nvPr/>
            </p:nvSpPr>
            <p:spPr>
              <a:xfrm>
                <a:off x="1143000" y="3071880"/>
                <a:ext cx="1119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8"/>
              <p:cNvSpPr txBox="1"/>
              <p:nvPr/>
            </p:nvSpPr>
            <p:spPr>
              <a:xfrm>
                <a:off x="1158840" y="5475240"/>
                <a:ext cx="169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9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5"/>
              <p:cNvSpPr txBox="1"/>
              <p:nvPr/>
            </p:nvSpPr>
            <p:spPr>
              <a:xfrm>
                <a:off x="2571840" y="3143160"/>
                <a:ext cx="2560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10"/>
              <p:cNvSpPr txBox="1"/>
              <p:nvPr/>
            </p:nvSpPr>
            <p:spPr>
              <a:xfrm>
                <a:off x="1214280" y="3929040"/>
                <a:ext cx="1144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6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11"/>
              <p:cNvSpPr txBox="1"/>
              <p:nvPr/>
            </p:nvSpPr>
            <p:spPr>
              <a:xfrm>
                <a:off x="2571840" y="3929040"/>
                <a:ext cx="25858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13"/>
              <p:cNvSpPr txBox="1"/>
              <p:nvPr/>
            </p:nvSpPr>
            <p:spPr>
              <a:xfrm>
                <a:off x="2857680" y="4572000"/>
                <a:ext cx="3406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14"/>
              <p:cNvSpPr txBox="1"/>
              <p:nvPr/>
            </p:nvSpPr>
            <p:spPr>
              <a:xfrm>
                <a:off x="1143000" y="4572000"/>
                <a:ext cx="1666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15"/>
              <p:cNvSpPr txBox="1"/>
              <p:nvPr/>
            </p:nvSpPr>
            <p:spPr>
              <a:xfrm>
                <a:off x="2867040" y="5500800"/>
                <a:ext cx="3157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8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2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2"/>
              <p:cNvSpPr txBox="1"/>
              <p:nvPr/>
            </p:nvSpPr>
            <p:spPr>
              <a:xfrm>
                <a:off x="214200" y="2071800"/>
                <a:ext cx="8433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3"/>
              <p:cNvSpPr txBox="1"/>
              <p:nvPr/>
            </p:nvSpPr>
            <p:spPr>
              <a:xfrm>
                <a:off x="1071720" y="3286080"/>
                <a:ext cx="65005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3643200" y="4572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03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3T11:48:44Z</dcterms:modified>
  <cp:revision>21</cp:revision>
  <dc:subject/>
  <dc:title>Слайд 1</dc:title>
</cp:coreProperties>
</file>