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7F5F-2EA8-4EAD-9C7A-ACC8DA0A42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«НЕСТАНДАРТН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875-09D4-466B-8039-CF17B6220527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3399"/>
                </a:solidFill>
                <a:latin typeface="Arial"/>
                <a:ea typeface="Arial"/>
              </a:rPr>
              <a:t>молод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27BF-9609-4BC0-853A-6E2514A5E0FF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DCB7-8D1A-4B41-AB66-1209B6B19C6F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квадратных уравнений с применением циркуля и линей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и квадратного 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с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0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≠ 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рассматри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абсциссы точе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се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ружности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-     ;         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щей через точку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; 1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8DC7-0F8B-44D9-97AE-C7252AB886AF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пересекает ось О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вух точках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 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ни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2377-31D1-4B9B-AE95-125A8F09B0D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=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кас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чке  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рень 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58F5-A198-46EE-ADAD-A8D4C57C406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&lt;         ,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окруж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ет общи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к с осью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корн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BA37-723D-4847-A20C-6D74187BCC2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чень тем сообще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решали квадратные уравнения в дре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и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ециальны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свойства коэффициентов квадратного у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«переброски» старшего коэф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752B-FCD0-4A71-BAEC-846D5975C13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8A2F-AE50-4CEC-8702-054799F7C8D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квадрата двуч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 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- 39 – 25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64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 – 8)(х + 5 + 8) = 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– 8 = 0  ил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+ 8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3.                    х =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1A53-901F-4EA6-9734-D388CAAB0F5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хаммед  Бен Муса  Аль-Хорез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+ 10х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0х 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6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+ 5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787-ок.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3768-4B9A-49D3-B0A1-4AD3FF7E6977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в. до н. э.)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в древних китайски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и японских трактатах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ру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ревнегрече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матика Евкл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6068-AB32-43F8-954A-E28D601DBD4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н. э. квадратное уравнени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х + 96 = 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обращения к геометр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ил великий древнегреческий математик Диоф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889A-2E79-4D05-A59A-7CA1CC19291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реш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2B44-D946-40DC-B0DB-2BF7D9063EC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менно с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591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г. мы пользуемся формулами при решении квадратных уравн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591 г. Ф. Виет вывел      формулы, выражающие зависимость корней квадратного уравнения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т его коэффициентов и сформулировал свою знаменитую теор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56FF-B91E-4D47-A70A-403E9138982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2D9-68A2-415F-A47E-DFBA09F6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7CD-4EE4-4B8E-8799-E95FB445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8CB-CA32-4B3C-B6C1-2012D002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3E3-4773-43B6-8F08-1B806299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8645-5C85-4B37-BD31-30A3CE81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FD29-5366-4501-B631-B40E159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DDD8-81A1-43BB-B524-DCE3F05C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4A78-2843-4218-9736-70EF2669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30AC-8400-4BCA-BAF7-C6D87275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172A-4264-4961-9A78-08F02EFC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2655-6B2D-4735-8B84-3F734518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997-FF5F-4F71-AE87-C4E575FA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4BC9-5DED-43E7-8712-7C2DF49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CA6-53A4-40E0-89DE-817E45C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4010-FF84-4599-8FB3-AF49BF75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A8D1-51E7-458A-AF1E-70576B18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052C-E500-46F7-87DE-8246FA87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55B-9D1B-40B2-859E-CB1D7C8E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D86-E6E6-4069-91EE-275932F0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2F5-8EB5-4A7E-AD83-F52EF0C1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19D-7FB5-4A89-A6A9-1DF2AB69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7E6-B472-40DA-84CF-9056E255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7C9-DAA5-4061-9E0C-7DBE612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882-61E2-4FEB-8E80-9AB27CE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3F27-B8A2-49A8-94B4-9801B886D6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1BEC-A047-40EB-B7E5-3A0EDE68840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" Target="slide8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4498920" y="212760"/>
            <a:ext cx="4237200" cy="4683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542916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«НЕСТАНДАРТНЫЕ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1187280" y="213372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48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52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53" name="Picture 6" descr="AG0037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9567200">
            <a:off x="5300640" y="4228920"/>
            <a:ext cx="2232000" cy="21459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5344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Графический способ решения квадратных уравнений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2213" t="2276" r="8583" b="53601"/>
          <a:stretch/>
        </p:blipFill>
        <p:spPr>
          <a:xfrm>
            <a:off x="785880" y="171468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rcRect l="52213" t="53035" r="8504" b="4352"/>
          <a:stretch/>
        </p:blipFill>
        <p:spPr>
          <a:xfrm>
            <a:off x="3357720" y="1785960"/>
            <a:ext cx="2643120" cy="44290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"/>
          <p:cNvPicPr/>
          <p:nvPr/>
        </p:nvPicPr>
        <p:blipFill>
          <a:blip r:embed="rId3"/>
          <a:srcRect l="7069" t="51883" r="52660" b="4560"/>
          <a:stretch/>
        </p:blipFill>
        <p:spPr>
          <a:xfrm>
            <a:off x="6072120" y="17146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6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479920" y="386820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шение квадратных уравнений с применением циркуля и линей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9720" y="164268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орни квадратного уравн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с =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0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 ≠ 0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жно рассматривать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ак абсциссы точек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пересеч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кружности с центром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(-     ;         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проходящей через точку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(О; 1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 оси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х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215040" y="4000680"/>
            <a:ext cx="357120" cy="731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6858000" y="4071960"/>
            <a:ext cx="714240" cy="6364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45344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пересекает ось Ох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двух точках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  и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орни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3085" t="5296" r="53137" b="49815"/>
          <a:stretch/>
        </p:blipFill>
        <p:spPr>
          <a:xfrm>
            <a:off x="5572080" y="2286000"/>
            <a:ext cx="3571920" cy="3786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4857840" y="214200"/>
            <a:ext cx="1071360" cy="9558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1720" y="304920"/>
            <a:ext cx="7572240" cy="576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=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касаетс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и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точке  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,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корень 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.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072040" y="571680"/>
            <a:ext cx="1071720" cy="955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"/>
          <p:cNvPicPr/>
          <p:nvPr/>
        </p:nvPicPr>
        <p:blipFill>
          <a:blip r:embed="rId2"/>
          <a:srcRect l="54668" t="5296" r="4720" b="50628"/>
          <a:stretch/>
        </p:blipFill>
        <p:spPr>
          <a:xfrm>
            <a:off x="5500800" y="2714760"/>
            <a:ext cx="3376440" cy="37861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85560" y="304920"/>
            <a:ext cx="709596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&lt;         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 окружность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 имеет общих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чек с осью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,</a:t>
            </a:r>
            <a:br>
              <a:rPr sz="4400"/>
            </a:b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у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т корней.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5463" t="49384" r="28802" b="6814"/>
          <a:stretch/>
        </p:blipFill>
        <p:spPr>
          <a:xfrm>
            <a:off x="6000840" y="3000240"/>
            <a:ext cx="3143160" cy="307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071720" cy="9558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4825800" y="3768480"/>
            <a:ext cx="1000080" cy="9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Перечень тем сообщений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13880" y="785520"/>
            <a:ext cx="821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Как решали квадратные уравнения в древ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бщи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пециальны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спользование свойства коэффициентов квадратного уравнен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од «переброски» старшего коэффици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Графический способ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400" y="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ыделение квадрата двучлена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8480" y="178596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 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- 39 – 25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64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 – 8)(х + 5 + 8) = 0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– 8 = 0  ил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+ 8 = 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= 3.                    х = -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rcRect l="12890" t="0" r="9724" b="12829"/>
          <a:stretch/>
        </p:blipFill>
        <p:spPr>
          <a:xfrm>
            <a:off x="5572080" y="1071720"/>
            <a:ext cx="31672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ухаммед  Бен Муса  Аль-Хорезм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14240" y="2000160"/>
            <a:ext cx="78962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+ 10х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10х +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(х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= 64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+ 5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8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3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787-ок.85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4297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в. до н. э.),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249984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древних китайских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 японских трактатах,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 трудах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древнегреческого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математика Евклид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в. до н.э.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rcRect l="0" t="0" r="0" b="11909"/>
          <a:stretch/>
        </p:blipFill>
        <p:spPr>
          <a:xfrm>
            <a:off x="6215040" y="257184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57360" y="785520"/>
            <a:ext cx="550044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в. н. э. квадратное уравнение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20х + 96 = 0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без обращения к геометрии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ешил великий древнегреческий математик Диофант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0" r="16079" b="0"/>
          <a:stretch/>
        </p:blipFill>
        <p:spPr>
          <a:xfrm>
            <a:off x="214200" y="571680"/>
            <a:ext cx="3643560" cy="4000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1026000" y="4714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офант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39290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28800" y="499680"/>
            <a:ext cx="31813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Как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решал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уравнения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древност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4802"/>
          <a:stretch/>
        </p:blipFill>
        <p:spPr>
          <a:xfrm>
            <a:off x="214200" y="0"/>
            <a:ext cx="4714920" cy="650088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27860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4857480"/>
            <a:ext cx="85010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Именно с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1591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г. мы пользуемся формулами при решении квадратных уравнений. 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43200" y="499680"/>
            <a:ext cx="55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В 1591 г. Ф. Виет вывел      формулы, выражающие зависимость корней квадратного уравнения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т его коэффициентов и сформулировал свою знаменитую теорем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2"/>
          <a:srcRect l="0" t="0" r="9655" b="13077"/>
          <a:stretch/>
        </p:blipFill>
        <p:spPr>
          <a:xfrm>
            <a:off x="428760" y="428760"/>
            <a:ext cx="3357360" cy="41385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36:35Z</dcterms:created>
  <dc:creator>User</dc:creator>
  <dc:description/>
  <dc:language>en-US</dc:language>
  <cp:lastModifiedBy>LEGION</cp:lastModifiedBy>
  <dcterms:modified xsi:type="dcterms:W3CDTF">2015-01-23T13:20:10Z</dcterms:modified>
  <cp:revision>68</cp:revision>
  <dc:subject/>
  <dc:title>НЕСТАНДАРТНЫЕ  ПРИЕМЫ РЕШЕНИЯ  КВАДРАТНЫХ УРАВНЕНИЙ».</dc:title>
</cp:coreProperties>
</file>