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gif" ContentType="image/gi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0106-AD3D-4842-B436-64DF4DB1BF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«НЕСТАНДАРТНЫ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ИЕМЫ РЕШЕНИЯ  КВАДРАТНЫХ УРАВНЕНИЙ»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55E1-84F5-4A18-9F8F-37F16C38417D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3399"/>
                </a:solidFill>
                <a:latin typeface="Arial"/>
                <a:ea typeface="Arial"/>
              </a:rPr>
              <a:t>молод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5BA9-8659-42F6-8261-F83F92D4AB99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ческий способ решения квадратных уравнени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DB82-C930-498C-BC4C-94FF4CAD8361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шение квадратных уравнений с применением циркуля и линей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ни квадратного урав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х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с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0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 ≠ 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жно рассматри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абсциссы точе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есе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ружности с цент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-     ;         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ходящей через точку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; 1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си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х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950D-1EF4-4F22-8FE3-73E112ACD2DA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если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пересекает ось Ох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вух точках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(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0)  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0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е име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ни 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2AB4-F600-4E65-B1B7-26605B9CD155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если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=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касае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и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чке  М(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0)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е име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рень  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664D-7862-4F27-8DD5-5C348BF347FC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&lt;         ,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окруж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меет общи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к с осью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х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корне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DBD4-3ED9-4C9B-AADB-87CF20BCCB5C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ечень тем сообщени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решали квадратные уравнения в дре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ие методы решения квадратных урав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ециальные методы решения квадратных урав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свойства коэффициентов квадратного урав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«переброски» старшего коэффи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рафический способ решения квадратных урав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6A17-D68F-4021-8081-76B0B8A93DFC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Человеку, изучающему алгебру, часто полезнее решить одну и ту же задачу  различными способами, чем решать три-четыре различные задачи. Решая одну задачу различными способами, можно путем сравнения выяснить, какой из них короче и эффективнее. Так вырабатывается опыт».   У. У. Сой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F57F-6F94-480C-A8A9-908B4FED384E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квадрата двучл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10х  = 39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10х + 25 = 39 + 25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10х + 25 - 39 – 25 = 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х + 5)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64 = 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х + 5 – 8)(х + 5 + 8) = 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5 – 8 = 0  ил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5 + 8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= 3.                    х = -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0E7C-B872-4CA8-8ECB-A8201911D58C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хаммед  Бен Муса  Аль-Хорезм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+ 10х= 39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0х +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= 39 + 25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5)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64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 + 5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787-ок.85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AEDD-9DB8-4726-BC93-A8B6C17062DA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етоды решения квадратных уравнений  излагались в вавилонских рукописях царя Хаммурапи 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в. до н. э.)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в древних китайских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и японских трактатах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 труд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древнегрече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математика Евкл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              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D759-7E53-402D-8E03-D16EBB463D91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. н. э. квадратное уравнение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0х + 96 = 0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 обращения к геометр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ил великий древнегреческий математик Диоф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8AF0-46F2-4738-A19F-5DD23E42357D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реш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урав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дре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49D8-E9A7-4026-BAA9-3D560064F8D6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менно с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1591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г. мы пользуемся формулами при решении квадратных уравне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591 г. Ф. Виет вывел      формулы, выражающие зависимость корней квадратного уравнения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т его коэффициентов и сформулировал свою знаменитую теор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8656-930A-499B-BFA3-E6AAAC77E53C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F145-1E37-4DF5-8DD4-8AC5B9A7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485B-232C-4EAC-9D55-B01ADA47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21C0-0562-4388-B655-8DCAB7E5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DFF-A830-475D-A2A1-D1F1238B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A6B4-A1F1-4BE4-A43B-18C8BA50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BB9D-4648-4FD5-A18E-878B0EF3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AE9E-5234-4FC4-9575-ED439D87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553F-92C1-4349-9428-FA56C057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6CCB-2CC7-4D86-B84E-A6FE30E8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4CB9-8887-48C3-8249-E85157BA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891D-0D9B-4383-AFAB-DAD219BF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B7A6-ED17-4740-B36D-C2415321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D20E-4C6E-43CC-84FB-5831B962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F87F-1DDD-4E48-9294-579E5EEC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DACA-6396-48CF-9C52-62B53810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A1F4-684A-4F1A-A3F4-A43CBF05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EEA4-0805-4D05-AFD9-661D431D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B0A-CCA9-4315-9CC1-E57FDCEC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4DE-CE6A-4E75-AFC5-74E543FD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B1E-A80D-4FC5-BAC0-3ACE56DF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7EB-6E42-4152-9EB5-D3A7BE6C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CB84-442D-4597-A9F6-DAEAFCFD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CD5-8E11-49CF-9273-8261F6EC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FE8-D2B0-442C-A025-01A9F988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D444-7613-46D8-8E32-39BA8BA0CD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5DB2-C963-4B44-B970-6C50C6C8F69C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" Target="slide8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" descr=""/>
          <p:cNvPicPr/>
          <p:nvPr/>
        </p:nvPicPr>
        <p:blipFill>
          <a:blip r:embed="rId1"/>
          <a:stretch/>
        </p:blipFill>
        <p:spPr>
          <a:xfrm>
            <a:off x="4498920" y="212760"/>
            <a:ext cx="4237200" cy="46832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2600" y="1999800"/>
            <a:ext cx="5429160" cy="44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 Black"/>
              </a:rPr>
              <a:t>«НЕСТАНДАРТНЫЕ 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Arial Black"/>
              </a:rPr>
              <a:t>ПРИЕМЫ РЕШЕНИЯ  КВАДРАТНЫХ УРАВНЕНИЙ»</a:t>
            </a: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4"/>
          <p:cNvSpPr txBox="1"/>
          <p:nvPr/>
        </p:nvSpPr>
        <p:spPr>
          <a:xfrm>
            <a:off x="1187280" y="213372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248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5148360" y="4076280"/>
            <a:ext cx="2232000" cy="21463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5148360" y="4076280"/>
            <a:ext cx="2232000" cy="2146320"/>
          </a:xfrm>
          <a:prstGeom prst="rect">
            <a:avLst/>
          </a:prstGeom>
          <a:ln w="0">
            <a:noFill/>
          </a:ln>
        </p:spPr>
      </p:pic>
      <p:sp>
        <p:nvSpPr>
          <p:cNvPr id="252" name="WordArt 4"/>
          <p:cNvSpPr txBox="1"/>
          <p:nvPr/>
        </p:nvSpPr>
        <p:spPr>
          <a:xfrm>
            <a:off x="1339920" y="228600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253" name="Picture 6" descr="AG00373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19567200">
            <a:off x="5300640" y="4228920"/>
            <a:ext cx="2232000" cy="214596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45344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Графический способ решения квадратных уравнений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6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52213" t="2276" r="8583" b="53601"/>
          <a:stretch/>
        </p:blipFill>
        <p:spPr>
          <a:xfrm>
            <a:off x="785880" y="1714680"/>
            <a:ext cx="2428920" cy="44290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"/>
          <p:cNvPicPr/>
          <p:nvPr/>
        </p:nvPicPr>
        <p:blipFill>
          <a:blip r:embed="rId2"/>
          <a:srcRect l="52213" t="53035" r="8504" b="4352"/>
          <a:stretch/>
        </p:blipFill>
        <p:spPr>
          <a:xfrm>
            <a:off x="3357720" y="1785960"/>
            <a:ext cx="2643120" cy="442908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5" descr=""/>
          <p:cNvPicPr/>
          <p:nvPr/>
        </p:nvPicPr>
        <p:blipFill>
          <a:blip r:embed="rId3"/>
          <a:srcRect l="7069" t="51883" r="52660" b="4560"/>
          <a:stretch/>
        </p:blipFill>
        <p:spPr>
          <a:xfrm>
            <a:off x="6072120" y="1714680"/>
            <a:ext cx="2857680" cy="442908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1339920" y="228600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261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5479920" y="3868200"/>
            <a:ext cx="2232000" cy="214632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Решение квадратных уравнений с применением циркуля и линейк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9720" y="1642680"/>
            <a:ext cx="782964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Корни квадратного уравнения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ах</a:t>
            </a:r>
            <a:r>
              <a:rPr b="1" i="1" lang="ru-RU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+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х + с = 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0 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а ≠ 0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можно рассматривать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как абсциссы точек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пересечения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окружности с центром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 (-     ;         )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проходящей через точку 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(О; 1)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и оси 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Ох 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6215040" y="4000680"/>
            <a:ext cx="357120" cy="7315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6858000" y="4071960"/>
            <a:ext cx="714240" cy="63648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7453440" cy="612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1) если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A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&gt;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, то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кружность пересекает ось Ох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 двух точках 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М(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0)   и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(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0)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равнение имеет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орни 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3085" t="5296" r="53137" b="49815"/>
          <a:stretch/>
        </p:blipFill>
        <p:spPr>
          <a:xfrm>
            <a:off x="5572080" y="2286000"/>
            <a:ext cx="3571920" cy="37861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4857840" y="214200"/>
            <a:ext cx="1071360" cy="95580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1720" y="304920"/>
            <a:ext cx="7572240" cy="576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2) если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A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=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, то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кружность касается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си  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Ох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 точке  М(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0),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равнение имеет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корень  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.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5072040" y="571680"/>
            <a:ext cx="1071720" cy="9554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9" descr=""/>
          <p:cNvPicPr/>
          <p:nvPr/>
        </p:nvPicPr>
        <p:blipFill>
          <a:blip r:embed="rId2"/>
          <a:srcRect l="54668" t="5296" r="4720" b="50628"/>
          <a:stretch/>
        </p:blipFill>
        <p:spPr>
          <a:xfrm>
            <a:off x="5500800" y="2714760"/>
            <a:ext cx="3376440" cy="37861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85560" y="304920"/>
            <a:ext cx="7095960" cy="612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если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A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&lt;         ,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о окружность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 имеет общих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очек с осью  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Ох,</a:t>
            </a:r>
            <a:br>
              <a:rPr sz="4400"/>
            </a:b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 у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равнения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т корней.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0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25463" t="49384" r="28802" b="6814"/>
          <a:stretch/>
        </p:blipFill>
        <p:spPr>
          <a:xfrm>
            <a:off x="6000840" y="3000240"/>
            <a:ext cx="3143160" cy="3071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4786200" y="857160"/>
            <a:ext cx="1071720" cy="95580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4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4825800" y="3768480"/>
            <a:ext cx="1000080" cy="961920"/>
          </a:xfrm>
          <a:prstGeom prst="rect">
            <a:avLst/>
          </a:prstGeom>
          <a:ln w="0">
            <a:noFill/>
          </a:ln>
        </p:spPr>
      </p:pic>
      <p:sp>
        <p:nvSpPr>
          <p:cNvPr id="285" name="WordArt 4"/>
          <p:cNvSpPr txBox="1"/>
          <p:nvPr/>
        </p:nvSpPr>
        <p:spPr>
          <a:xfrm>
            <a:off x="1339920" y="228600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58c"/>
                </a:solidFill>
                <a:latin typeface="Tahoma"/>
              </a:rPr>
              <a:t>Перечень тем сообщений</a:t>
            </a: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13880" y="785520"/>
            <a:ext cx="8215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Как решали квадратные уравнения в древност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Общие методы решения квадратных уравнени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Специальные методы решения квадратных уравнени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Использование свойства коэффициентов квадратного уравнения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Метод «переброски» старшего коэффициент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Графический способ решения квадратных уравнени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3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28400" y="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«Человеку, изучающему алгебру, часто полезнее решить одну и ту же задачу  различными способами, чем решать три-четыре различные задачи. Решая одну задачу различными способами, можно путем сравнения выяснить, какой из них короче и эффективнее. Так вырабатывается опыт».   У. У. Сойер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ыделение квадрата двучлена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428480" y="1785960"/>
            <a:ext cx="771516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+ 10х  = 39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+ 10х + 25 = 39 + 25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+ 10х + 25 - 39 – 25 = 0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х + 5)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64 = 0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х + 5 – 8)(х + 5 + 8) = 0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 + 5 – 8 = 0  ил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 + 5 + 8 = 0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 = 3.                    х = -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4" descr=""/>
          <p:cNvPicPr/>
          <p:nvPr/>
        </p:nvPicPr>
        <p:blipFill>
          <a:blip r:embed="rId1"/>
          <a:srcRect l="12890" t="0" r="9724" b="12829"/>
          <a:stretch/>
        </p:blipFill>
        <p:spPr>
          <a:xfrm>
            <a:off x="5572080" y="1071720"/>
            <a:ext cx="3167280" cy="41432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71720" y="2858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Мухаммед  Бен Муса  Аль-Хорезми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14240" y="2000160"/>
            <a:ext cx="789624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i="1" lang="ru-RU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+ 10х= 39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i="1" lang="ru-RU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+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10х +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25 = 39 + 25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(х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+ 5)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= 64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 + 5 =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8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 =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3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(787-ок.850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842976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Методы решения квадратных уравнений  излагались в вавилонских рукописях царя Хаммурапи  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(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XX</a:t>
            </a: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в. до н. э.),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680" y="2499840"/>
            <a:ext cx="85723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в древних китайских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и японских трактатах,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в трудах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древнегреческого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математика Евклида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                             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II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в. до н.э.)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Рисунок 3" descr=""/>
          <p:cNvPicPr/>
          <p:nvPr/>
        </p:nvPicPr>
        <p:blipFill>
          <a:blip r:embed="rId1"/>
          <a:srcRect l="0" t="0" r="0" b="11909"/>
          <a:stretch/>
        </p:blipFill>
        <p:spPr>
          <a:xfrm>
            <a:off x="6215040" y="257184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57360" y="785520"/>
            <a:ext cx="550044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В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III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 в. н. э. квадратное уравнение </a:t>
            </a:r>
            <a:br>
              <a:rPr sz="3600"/>
            </a:br>
            <a:r>
              <a:rPr b="1" i="1" lang="ru-RU" sz="3600" spc="-1" strike="noStrike">
                <a:solidFill>
                  <a:srgbClr val="660066"/>
                </a:solidFill>
                <a:latin typeface="Tahoma"/>
              </a:rPr>
              <a:t>х</a:t>
            </a:r>
            <a:r>
              <a:rPr b="1" i="1" lang="ru-RU" sz="36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r>
              <a:rPr b="1" i="1" lang="ru-RU" sz="3600" spc="-1" strike="noStrike">
                <a:solidFill>
                  <a:srgbClr val="660066"/>
                </a:solidFill>
                <a:latin typeface="Tahoma"/>
              </a:rPr>
              <a:t> – 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20х + 96 = 0 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без обращения к геометрии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решил великий древнегреческий математик Диофант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5" name="Рисунок 2" descr=""/>
          <p:cNvPicPr/>
          <p:nvPr/>
        </p:nvPicPr>
        <p:blipFill>
          <a:blip r:embed="rId1"/>
          <a:srcRect l="0" t="0" r="16079" b="0"/>
          <a:stretch/>
        </p:blipFill>
        <p:spPr>
          <a:xfrm>
            <a:off x="214200" y="571680"/>
            <a:ext cx="3643560" cy="4000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3"/>
          <p:cNvSpPr/>
          <p:nvPr/>
        </p:nvSpPr>
        <p:spPr>
          <a:xfrm>
            <a:off x="1026000" y="471492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иофант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в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3929040" cy="61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428800" y="499680"/>
            <a:ext cx="318132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Как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решали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уравнения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в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древности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0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0" r="0" b="34802"/>
          <a:stretch/>
        </p:blipFill>
        <p:spPr>
          <a:xfrm>
            <a:off x="214200" y="0"/>
            <a:ext cx="4714920" cy="650088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27860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8760" y="4857480"/>
            <a:ext cx="850104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Именно с </a:t>
            </a: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1591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г. мы пользуемся формулами при решении квадратных уравнений. </a:t>
            </a:r>
            <a:br>
              <a:rPr sz="3200"/>
            </a:b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643200" y="499680"/>
            <a:ext cx="5500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В 1591 г. Ф. Виет вывел      формулы, выражающие зависимость корней квадратного уравнения 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от его коэффициентов и сформулировал свою знаменитую теорему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Рисунок 5" descr=""/>
          <p:cNvPicPr/>
          <p:nvPr/>
        </p:nvPicPr>
        <p:blipFill>
          <a:blip r:embed="rId2"/>
          <a:srcRect l="0" t="0" r="9655" b="13077"/>
          <a:stretch/>
        </p:blipFill>
        <p:spPr>
          <a:xfrm>
            <a:off x="428760" y="428760"/>
            <a:ext cx="3357360" cy="41385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1:36:35Z</dcterms:created>
  <dc:creator>User</dc:creator>
  <dc:description/>
  <dc:language>en-US</dc:language>
  <cp:lastModifiedBy>LEGION</cp:lastModifiedBy>
  <dcterms:modified xsi:type="dcterms:W3CDTF">2015-01-23T13:20:10Z</dcterms:modified>
  <cp:revision>68</cp:revision>
  <dc:subject/>
  <dc:title>НЕСТАНДАРТНЫЕ  ПРИЕМЫ РЕШЕНИЯ  КВАДРАТНЫХ УРАВНЕНИЙ».</dc:title>
</cp:coreProperties>
</file>