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0E3A-2D47-4BDA-8959-E26042E31E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Bookman Old Style"/>
              </a:rPr>
              <a:t>Десятичные дроби и действия над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1DDE-7419-4B83-8FB5-E681FAC204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щное млекопитающее семейства медвежьих. Белый медведь — самый крупный наземный представитель млекопитающих отряда хищных. Его длина достигает 3 м, масса до 1000 к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C139-F513-4308-B7A4-321C46353A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ина хвоста тигра 90 см, что составляет 40% от длины всего тела. Найди длину тела тиг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FEFA-4C3F-4A58-B1CC-F663C88193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АМУРСКИЙ ТИГ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кий подвид, сохранившийся только на территории России. Интенсивное истребление этих хищников, сопровождавшееся сокращением их местообитаний под влиянием хозяйственной деятельности человека, привело к тому, что в начале прошлого столетия численность тигров начала резко падать. К концу 30-х гг. амурский тигр оказался на грани исчезновения - оставалось всего 20-30 особей. Поэтому он занесен в Красную книгу и находится под защито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5136-FE65-4224-8C5E-2C79D3BBDE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БАЙКАЛЬСКАЯ НЕР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па - это единственный в мире тюлень, который живет в пресной воде. Распространена нерпа по всему Байкалу, но особенно широко - в его северной и средней частях. Предполагается, что нерпа проникла в Байкал из Ледовитого океана через систему рек Енисей - Ангара в ледниковую эпо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    байкальским омул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па питается непромысловой рыбой (голомянка, бычок). В год она съедает около тонны рыбы. В поисках пищи нерпа ныряет на глубину до 200 м и остается под водой 20-25 мин. Самцы достигают 130-150 кг, и длина их бывает до 1,8 м, самки по размерам меньше. Максимальная скорость плавания у нерпы составляет 20-25 км/час. Живут нерпы максимум 55-5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BE5F-4C68-4441-8C8A-4A55ACAF94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енышей нерпа рождает на льду в снежном логове. Большая часть нерпят рождается в середине марта. Детеныши имеют мех белого цвета, что позволяет им в первые недели жизни, пока они питаются молоком матери, оставаться почти незаметными на сне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085A-A665-404E-B30C-ED7CD13813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книге 50 страниц. Оля прочитала 46% всей книги. Сколько страниц прочитала Оля?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28 : 100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уристы прошли 122 км, что составляет 20% всего пут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длина всего пути?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руглить до сотых: 0,2753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0,72 : 4,5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,4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,6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2 + 3,8 – 4,5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 4,36 :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8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,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4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3  + 7,7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руглить до десятых:  43,6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ыбрать наименьшее число:  0,436 и 0,5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2,5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0,32 :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D887-009D-40D3-9480-98B0F94FCC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руппа А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ак называют молодого нерпенка-детёныш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7CDB-9A11-4A9D-9B68-A115073C40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руппа В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ак называют нерпенка, впервые полинявше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D6B6-605E-468F-BE58-859C78C869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асная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книга Российской Федерации (ККРФ) является основным государственным документом, учрежденным в целях выявления редких и находящихся под угрозой исчезновения диких животных, дикорастущих растений и грибов, а также некоторых подвидов и локальных популяций. Она необходима для организации исследований и слежения за состоянием этих животных и растений и их местообитаний, для разработки и осуществления особых мер по их охране, восстановлению и научно обоснованному использов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6B08-4DAD-4350-9587-93ED256F3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ервом столбике найдите наимен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тором столбике найдите наибол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ретьем столбике найдите не наибольшее и не наимен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03A6-2C80-428D-9CB2-63E2AA665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РЕЧНОЙ БОБ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итают на речках и ручьях, берущих начало в болотах. Кормовые ресурсы бобров ограничены, что определяет мозаику и нестабильность во времени их поселений. Заселяют водоемы с высотой берегов 1.5-2.5 м с березой в береговом растительном комплексе. Особенно благоприятно сочетание заболоченного березняка на одном берегу и бора на противоположном возвышенном, удобном для норения в период зимовки. В питании большую роль играет береза, хотя по кормовой ценности бобрам предпочтительны осина, ива и др. Основной тип жилищ - норы и полухатки, плотины строит редко.  Врагами являются медведи, росомаха, волк, рысь и бродячие собаки; молодняку опасны щуки и выд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DA80-4069-421E-999F-80D3614F4F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колько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кг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пищи съедает белый медведь за одну кормеж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5,34 – 0,5у = 15,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9D8C-FEA1-4380-8DA0-D79E551FC9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его раз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тонн весит белый медвед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 – 1,9m = 0,25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длина тела белого медвед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метрах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(m – 1,2) = 61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C0AB-3966-4CCD-BA1F-226E46AACD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BF6-CE92-472A-A4FB-C92C8C02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741-7B27-445B-95C1-C005CCBE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977-4294-4F10-8728-A1A558B8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ACA-F26A-4973-A86F-2FFF0F13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A77-5043-45BF-8053-644B62A4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0C3-8A5D-47BB-9FD3-83AE89F0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9BE-3AF0-4E14-9B67-0486327A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90C-3C67-408B-BE6A-A403C3BE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60E-485D-48A6-847E-676A4A6C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085-1930-4DC5-8164-4CFD0C5A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3E5-7030-4C1F-ADA5-802A18F6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5E8-EA88-4C5E-BE94-4B937177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23F6-B50C-4B5F-83BE-E156E12FF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aikalvisa.ru/foto/baikal_world_of_nature/489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2349360"/>
            <a:ext cx="565128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Bookman Old Style"/>
              </a:rPr>
              <a:t>Десятичные дроби и действия над ни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27"/>
          <p:cNvPicPr/>
          <p:nvPr/>
        </p:nvPicPr>
        <p:blipFill>
          <a:blip r:embed="rId1"/>
          <a:stretch/>
        </p:blipFill>
        <p:spPr>
          <a:xfrm>
            <a:off x="395280" y="1484280"/>
            <a:ext cx="3301920" cy="4089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13200" y="1886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БЕЛЫЙ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" descr="180px-Polar_Bears_Play_fight"/>
          <p:cNvPicPr/>
          <p:nvPr/>
        </p:nvPicPr>
        <p:blipFill>
          <a:blip r:embed="rId1"/>
          <a:stretch/>
        </p:blipFill>
        <p:spPr>
          <a:xfrm>
            <a:off x="250920" y="189000"/>
            <a:ext cx="4643280" cy="407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3280" y="1483920"/>
            <a:ext cx="414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ищное млекопитающее семейства медвежьих. Белый медведь — самый крупный наземный представитель млекопитающих отряда хищных. Его длина достигает 3 м, масса до 1000 к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оле 6"/>
          <p:cNvSpPr/>
          <p:nvPr/>
        </p:nvSpPr>
        <p:spPr>
          <a:xfrm>
            <a:off x="179280" y="4221000"/>
            <a:ext cx="8640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смотря на кажущуюся неповоротливость, белые медведи даже на суше быстры и ловки, а в воде легко плавают и ныряют. Очень густая, плотная шерсть защищает тело медведя от холода и намокания в ледяной воде. Важную приспособительную роль играет мощный слой подкожного жира. Белая окраска способствует маскировке хищника. Хорошо развиты обоняние, слух и зрение — свою добычу медведь может увидеть за несколько кило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ле 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ина хвоста тигра 90 см, что составляет 40% от длины всего тела. Найди длину тела тиг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6" descr=""/>
          <p:cNvPicPr/>
          <p:nvPr/>
        </p:nvPicPr>
        <p:blipFill>
          <a:blip r:embed="rId1"/>
          <a:srcRect l="0" t="16719" r="12035" b="16126"/>
          <a:stretch/>
        </p:blipFill>
        <p:spPr>
          <a:xfrm>
            <a:off x="1619280" y="2924280"/>
            <a:ext cx="6337440" cy="3473280"/>
          </a:xfrm>
          <a:prstGeom prst="rect">
            <a:avLst/>
          </a:prstGeom>
          <a:ln w="0">
            <a:noFill/>
          </a:ln>
        </p:spPr>
      </p:pic>
      <p:sp>
        <p:nvSpPr>
          <p:cNvPr id="132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АМУРСКИЙ Т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подвид, сохранившийся только на территории России. Интенсивное истребление этих хищников, сопровождавшееся сокращением их местообитаний под влиянием хозяйственной деятельности человека, привело к тому, что в начале прошлого столетия численность тигров начала резко падать. К концу 30-х гг. амурский тигр оказался на грани исчезновения - оставалось всего 20-30 особей. Поэтому он занесен в Красную книгу и находится под защитой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6" descr="27"/>
          <p:cNvPicPr/>
          <p:nvPr/>
        </p:nvPicPr>
        <p:blipFill>
          <a:blip r:embed="rId1"/>
          <a:stretch/>
        </p:blipFill>
        <p:spPr>
          <a:xfrm>
            <a:off x="179280" y="189000"/>
            <a:ext cx="1230480" cy="1523880"/>
          </a:xfrm>
          <a:prstGeom prst="rect">
            <a:avLst/>
          </a:prstGeom>
          <a:ln w="0">
            <a:noFill/>
          </a:ln>
        </p:spPr>
      </p:pic>
      <p:sp>
        <p:nvSpPr>
          <p:cNvPr id="137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БАЙКАЛЬСКАЯ НЕР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па - это единственный в мире тюлень, который живет в пресной воде. Распространена нерпа по всему Байкалу, но особенно широко - в его северной и средней частях. Предполагается, что нерпа проникла в Байкал из Ледовитого океана через систему рек Енисей - Ангара в ледниковую эпох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временно с     байкальским омул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па питается непромысловой рыбой (голомянка, бычок). В год она съедает около тонны рыбы. В поисках пищи нерпа ныряет на глубину до 200 м и остается под водой 20-25 мин. Самцы достигают 130-150 кг, и длина их бывает до 1,8 м, самки по размерам меньше. Максимальная скорость плавания у нерпы составляет 20-25 км/час. Живут нерпы максимум 55-5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27"/>
          <p:cNvPicPr/>
          <p:nvPr/>
        </p:nvPicPr>
        <p:blipFill>
          <a:blip r:embed="rId1"/>
          <a:stretch/>
        </p:blipFill>
        <p:spPr>
          <a:xfrm>
            <a:off x="179280" y="5229360"/>
            <a:ext cx="1149480" cy="1423800"/>
          </a:xfrm>
          <a:prstGeom prst="rect">
            <a:avLst/>
          </a:prstGeom>
          <a:ln w="0">
            <a:noFill/>
          </a:ln>
        </p:spPr>
      </p:pic>
      <p:sp>
        <p:nvSpPr>
          <p:cNvPr id="142" name="Поле 5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4" descr="нерп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5040360" cy="3325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56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енышей нерпа рождает на льду в снежном логове. Большая часть нерпят рождается в середине марта. Детеныши имеют мех белого цвета, что позволяет им в первые недели жизни, пока они питаются молоком матери, оставаться почти незаметными на сне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. 12"/>
          <p:cNvSpPr/>
          <p:nvPr/>
        </p:nvSpPr>
        <p:spPr>
          <a:xfrm>
            <a:off x="5292720" y="3141720"/>
            <a:ext cx="349236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ереходом на самостоятельное питание рыбой нерпята линяют: мех постепенно изменяет цвет на серебристо-серый, а затем и на буро-коричны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е 13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09656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книге 50 страниц. Оля прочитала 46% всей книги. Сколько страниц прочитала Оля?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8 : 100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уристы прошли 122 км, что составляет 20% всего пу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длина всего пути?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руглить до сотых: 0,2753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0,72 : 4,5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4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6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2 + 3,8 – 4,5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05520" y="1125360"/>
            <a:ext cx="40384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4,36 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,8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0,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4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,3  + 7,7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руглить до десятых:  43,6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брать наименьшее число:  0,436 и 0,5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,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0,32 :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е 6"/>
          <p:cNvSpPr/>
          <p:nvPr/>
        </p:nvSpPr>
        <p:spPr>
          <a:xfrm>
            <a:off x="1763640" y="62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е 7"/>
          <p:cNvSpPr/>
          <p:nvPr/>
        </p:nvSpPr>
        <p:spPr>
          <a:xfrm>
            <a:off x="5940360" y="62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Линия 8"/>
          <p:cNvSpPr/>
          <p:nvPr/>
        </p:nvSpPr>
        <p:spPr>
          <a:xfrm>
            <a:off x="4716360" y="549360"/>
            <a:ext cx="0" cy="63086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оле 9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5689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а А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называют молодого нерпенка-детёныш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ле 7"/>
          <p:cNvSpPr/>
          <p:nvPr/>
        </p:nvSpPr>
        <p:spPr>
          <a:xfrm>
            <a:off x="3419640" y="57340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убу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0" descr="фото тюленей"/>
          <p:cNvPicPr/>
          <p:nvPr/>
        </p:nvPicPr>
        <p:blipFill>
          <a:blip r:embed="rId1"/>
          <a:stretch/>
        </p:blipFill>
        <p:spPr>
          <a:xfrm>
            <a:off x="1763640" y="1844640"/>
            <a:ext cx="5376960" cy="3679920"/>
          </a:xfrm>
          <a:prstGeom prst="rect">
            <a:avLst/>
          </a:prstGeom>
          <a:ln w="0">
            <a:noFill/>
          </a:ln>
        </p:spPr>
      </p:pic>
      <p:sp>
        <p:nvSpPr>
          <p:cNvPr id="160" name="Поле 11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97672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а В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называют нерпенка, впервые полинявш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е 5"/>
          <p:cNvSpPr/>
          <p:nvPr/>
        </p:nvSpPr>
        <p:spPr>
          <a:xfrm>
            <a:off x="3348000" y="5734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уматк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7" descr="фото тюленей"/>
          <p:cNvPicPr/>
          <p:nvPr/>
        </p:nvPicPr>
        <p:blipFill>
          <a:blip r:embed="rId1"/>
          <a:stretch/>
        </p:blipFill>
        <p:spPr>
          <a:xfrm>
            <a:off x="2124000" y="2133720"/>
            <a:ext cx="5113440" cy="3600360"/>
          </a:xfrm>
          <a:prstGeom prst="rect">
            <a:avLst/>
          </a:prstGeom>
          <a:ln w="0">
            <a:noFill/>
          </a:ln>
        </p:spPr>
      </p:pic>
      <p:sp>
        <p:nvSpPr>
          <p:cNvPr id="165" name="Поле 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4" descr="красная книга2"/>
          <p:cNvPicPr/>
          <p:nvPr/>
        </p:nvPicPr>
        <p:blipFill>
          <a:blip r:embed="rId1"/>
          <a:stretch/>
        </p:blipFill>
        <p:spPr>
          <a:xfrm>
            <a:off x="330120" y="404640"/>
            <a:ext cx="1940040" cy="251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55640" y="188640"/>
            <a:ext cx="45579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КРАС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е 52"/>
          <p:cNvSpPr/>
          <p:nvPr/>
        </p:nvSpPr>
        <p:spPr>
          <a:xfrm>
            <a:off x="468360" y="238428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на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нига Российской Федерации (ККРФ) является основным государственным документом, учрежденным в целях выявления редких и находящихся под угрозой исчезновения диких животных, дикорастущих растений и грибов, а также некоторых подвидов и локальных популяций. Она необходима для организации исследований и слежения за состоянием этих животных и растений и их местообитаний, для разработки и осуществления особых мер по их охране, восстановлению и научно обоснованному использ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е 5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907920"/>
          <a:ext cx="3971880" cy="2835360"/>
        </p:xfrm>
        <a:graphic>
          <a:graphicData uri="http://schemas.openxmlformats.org/drawingml/2006/table">
            <a:tbl>
              <a:tblPr/>
              <a:tblGrid>
                <a:gridCol w="1373040"/>
                <a:gridCol w="1298880"/>
                <a:gridCol w="129996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5,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6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4,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оле 74"/>
          <p:cNvSpPr/>
          <p:nvPr/>
        </p:nvSpPr>
        <p:spPr>
          <a:xfrm>
            <a:off x="4716360" y="0"/>
            <a:ext cx="41752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ервом столбике найдите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втором столбике найдите наибол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ретьем столбике найдите не наибольшее и не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е 75"/>
          <p:cNvSpPr/>
          <p:nvPr/>
        </p:nvSpPr>
        <p:spPr>
          <a:xfrm>
            <a:off x="1474920" y="544500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ле 76"/>
          <p:cNvSpPr/>
          <p:nvPr/>
        </p:nvSpPr>
        <p:spPr>
          <a:xfrm>
            <a:off x="3132000" y="5445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е 77"/>
          <p:cNvSpPr/>
          <p:nvPr/>
        </p:nvSpPr>
        <p:spPr>
          <a:xfrm>
            <a:off x="4714920" y="5445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е 78"/>
          <p:cNvSpPr/>
          <p:nvPr/>
        </p:nvSpPr>
        <p:spPr>
          <a:xfrm>
            <a:off x="2556000" y="5445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е 79"/>
          <p:cNvSpPr/>
          <p:nvPr/>
        </p:nvSpPr>
        <p:spPr>
          <a:xfrm>
            <a:off x="421164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ле 80"/>
          <p:cNvSpPr/>
          <p:nvPr/>
        </p:nvSpPr>
        <p:spPr>
          <a:xfrm>
            <a:off x="579600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оле 81"/>
          <p:cNvSpPr/>
          <p:nvPr/>
        </p:nvSpPr>
        <p:spPr>
          <a:xfrm>
            <a:off x="6443640" y="5445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оле 124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374"/>
          <p:cNvPicPr/>
          <p:nvPr/>
        </p:nvPicPr>
        <p:blipFill>
          <a:blip r:embed="rId1"/>
          <a:stretch/>
        </p:blipFill>
        <p:spPr>
          <a:xfrm>
            <a:off x="1187280" y="1557360"/>
            <a:ext cx="6840720" cy="4246560"/>
          </a:xfrm>
          <a:prstGeom prst="rect">
            <a:avLst/>
          </a:prstGeom>
          <a:ln w="0">
            <a:noFill/>
          </a:ln>
        </p:spPr>
      </p:pic>
      <p:sp>
        <p:nvSpPr>
          <p:cNvPr id="69" name="Линия 5"/>
          <p:cNvSpPr/>
          <p:nvPr/>
        </p:nvSpPr>
        <p:spPr>
          <a:xfrm flipV="1">
            <a:off x="1692360" y="1052640"/>
            <a:ext cx="79200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6"/>
          <p:cNvSpPr/>
          <p:nvPr/>
        </p:nvSpPr>
        <p:spPr>
          <a:xfrm flipV="1">
            <a:off x="5867280" y="2133720"/>
            <a:ext cx="79236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7"/>
          <p:cNvSpPr/>
          <p:nvPr/>
        </p:nvSpPr>
        <p:spPr>
          <a:xfrm>
            <a:off x="2411280" y="1197000"/>
            <a:ext cx="4176720" cy="1079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ле 8"/>
          <p:cNvSpPr/>
          <p:nvPr/>
        </p:nvSpPr>
        <p:spPr>
          <a:xfrm rot="788400">
            <a:off x="3634560" y="1052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0 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е 1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Овал 12"/>
          <p:cNvSpPr/>
          <p:nvPr/>
        </p:nvSpPr>
        <p:spPr>
          <a:xfrm rot="21451800">
            <a:off x="177480" y="612360"/>
            <a:ext cx="138276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Автофигура 11"/>
          <p:cNvSpPr/>
          <p:nvPr/>
        </p:nvSpPr>
        <p:spPr>
          <a:xfrm>
            <a:off x="3419640" y="62064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Автофигура 9"/>
          <p:cNvSpPr/>
          <p:nvPr/>
        </p:nvSpPr>
        <p:spPr>
          <a:xfrm>
            <a:off x="250920" y="181764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. 4"/>
          <p:cNvSpPr/>
          <p:nvPr/>
        </p:nvSpPr>
        <p:spPr>
          <a:xfrm>
            <a:off x="2987640" y="5229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Автофигура 10"/>
          <p:cNvSpPr/>
          <p:nvPr/>
        </p:nvSpPr>
        <p:spPr>
          <a:xfrm>
            <a:off x="3132000" y="1989000"/>
            <a:ext cx="1727280" cy="655920"/>
          </a:xfrm>
          <a:prstGeom prst="parallelogram">
            <a:avLst>
              <a:gd name="adj" fmla="val 1536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. 7"/>
          <p:cNvSpPr/>
          <p:nvPr/>
        </p:nvSpPr>
        <p:spPr>
          <a:xfrm>
            <a:off x="250920" y="2970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8"/>
          <p:cNvSpPr/>
          <p:nvPr/>
        </p:nvSpPr>
        <p:spPr>
          <a:xfrm rot="21451800">
            <a:off x="3347640" y="2852280"/>
            <a:ext cx="138276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6"/>
          <p:cNvSpPr/>
          <p:nvPr/>
        </p:nvSpPr>
        <p:spPr>
          <a:xfrm>
            <a:off x="324000" y="412128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5"/>
          <p:cNvSpPr/>
          <p:nvPr/>
        </p:nvSpPr>
        <p:spPr>
          <a:xfrm>
            <a:off x="3348000" y="422100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. 13"/>
          <p:cNvSpPr/>
          <p:nvPr/>
        </p:nvSpPr>
        <p:spPr>
          <a:xfrm>
            <a:off x="57240" y="-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-46440" bIns="-113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. 14"/>
          <p:cNvSpPr/>
          <p:nvPr/>
        </p:nvSpPr>
        <p:spPr>
          <a:xfrm>
            <a:off x="1738440" y="619560"/>
            <a:ext cx="12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13,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. 15"/>
          <p:cNvSpPr/>
          <p:nvPr/>
        </p:nvSpPr>
        <p:spPr>
          <a:xfrm>
            <a:off x="1835280" y="1770480"/>
            <a:ext cx="145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: 0,4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. 16"/>
          <p:cNvSpPr/>
          <p:nvPr/>
        </p:nvSpPr>
        <p:spPr>
          <a:xfrm>
            <a:off x="1729440" y="2995920"/>
            <a:ext cx="111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+ 1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. 17"/>
          <p:cNvSpPr/>
          <p:nvPr/>
        </p:nvSpPr>
        <p:spPr>
          <a:xfrm>
            <a:off x="1835280" y="3930480"/>
            <a:ext cx="14572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0,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. 18"/>
          <p:cNvSpPr/>
          <p:nvPr/>
        </p:nvSpPr>
        <p:spPr>
          <a:xfrm>
            <a:off x="826920" y="5083560"/>
            <a:ext cx="23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88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0,8 </a:t>
            </a:r>
            <a:r>
              <a:rPr b="1" lang="el-GR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0,5 =</a:t>
            </a:r>
            <a:r>
              <a:rPr b="1" lang="ru-RU" sz="5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е 19"/>
          <p:cNvSpPr/>
          <p:nvPr/>
        </p:nvSpPr>
        <p:spPr>
          <a:xfrm>
            <a:off x="6227640" y="333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. 20"/>
          <p:cNvSpPr/>
          <p:nvPr/>
        </p:nvSpPr>
        <p:spPr>
          <a:xfrm>
            <a:off x="6372360" y="1125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Автофигура 21"/>
          <p:cNvSpPr/>
          <p:nvPr/>
        </p:nvSpPr>
        <p:spPr>
          <a:xfrm>
            <a:off x="6372360" y="234936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Автофигура 22"/>
          <p:cNvSpPr/>
          <p:nvPr/>
        </p:nvSpPr>
        <p:spPr>
          <a:xfrm>
            <a:off x="6443640" y="342900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Автофигура 23"/>
          <p:cNvSpPr/>
          <p:nvPr/>
        </p:nvSpPr>
        <p:spPr>
          <a:xfrm>
            <a:off x="6227640" y="4508640"/>
            <a:ext cx="1727280" cy="655560"/>
          </a:xfrm>
          <a:prstGeom prst="parallelogram">
            <a:avLst>
              <a:gd name="adj" fmla="val 1536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4"/>
          <p:cNvSpPr/>
          <p:nvPr/>
        </p:nvSpPr>
        <p:spPr>
          <a:xfrm rot="21451800">
            <a:off x="6372000" y="5516280"/>
            <a:ext cx="138240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е 25"/>
          <p:cNvSpPr/>
          <p:nvPr/>
        </p:nvSpPr>
        <p:spPr>
          <a:xfrm>
            <a:off x="6372360" y="1197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е 26"/>
          <p:cNvSpPr/>
          <p:nvPr/>
        </p:nvSpPr>
        <p:spPr>
          <a:xfrm>
            <a:off x="6300720" y="5805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ле 27"/>
          <p:cNvSpPr/>
          <p:nvPr/>
        </p:nvSpPr>
        <p:spPr>
          <a:xfrm>
            <a:off x="6012000" y="3716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оле 28"/>
          <p:cNvSpPr/>
          <p:nvPr/>
        </p:nvSpPr>
        <p:spPr>
          <a:xfrm>
            <a:off x="6229440" y="24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оле 29"/>
          <p:cNvSpPr/>
          <p:nvPr/>
        </p:nvSpPr>
        <p:spPr>
          <a:xfrm>
            <a:off x="6300720" y="450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е 3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1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104" name="Поле 12"/>
          <p:cNvSpPr/>
          <p:nvPr/>
        </p:nvSpPr>
        <p:spPr>
          <a:xfrm>
            <a:off x="6443640" y="270828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30 к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ле 13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               </a:t>
            </a: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РЕЧНОЙ БОБ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т на речках и ручьях, берущих начало в болотах. Кормовые ресурсы бобров ограничены, что определяет мозаику и нестабильность во времени их поселений. Заселяют водоемы с высотой берегов 1.5-2.5 м с березой в береговом растительном комплексе. Особенно благоприятно сочетание заболоченного березняка на одном берегу и бора на противоположном возвышенном, удобном для норения в период зимовки. В питании большую роль играет береза, хотя по кормовой ценности бобрам предпочтительны осина, ива и др. Основной тип жилищ - норы и полухатки, плотины строит редко.  Врагами являются медведи, росомаха, волк, рысь и бродячие собаки; молодняку опасны щуки и вы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374"/>
          <p:cNvPicPr/>
          <p:nvPr/>
        </p:nvPicPr>
        <p:blipFill>
          <a:blip r:embed="rId1"/>
          <a:stretch/>
        </p:blipFill>
        <p:spPr>
          <a:xfrm>
            <a:off x="395280" y="115920"/>
            <a:ext cx="3097080" cy="2233440"/>
          </a:xfrm>
          <a:prstGeom prst="rect">
            <a:avLst/>
          </a:prstGeom>
          <a:ln w="0">
            <a:noFill/>
          </a:ln>
        </p:spPr>
      </p:pic>
      <p:sp>
        <p:nvSpPr>
          <p:cNvPr id="110" name="Поле 5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колько </a:t>
            </a: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кг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пищи съедает белый медведь за одну кормеж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25,34 – 0,5у = 15,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AN022"/>
          <p:cNvPicPr/>
          <p:nvPr/>
        </p:nvPicPr>
        <p:blipFill>
          <a:blip r:embed="rId1"/>
          <a:stretch/>
        </p:blipFill>
        <p:spPr>
          <a:xfrm>
            <a:off x="2700360" y="2852640"/>
            <a:ext cx="4154400" cy="3478320"/>
          </a:xfrm>
          <a:prstGeom prst="rect">
            <a:avLst/>
          </a:prstGeom>
          <a:ln w="0">
            <a:noFill/>
          </a:ln>
        </p:spPr>
      </p:pic>
      <p:sp>
        <p:nvSpPr>
          <p:cNvPr id="115" name="Поле 5"/>
          <p:cNvSpPr/>
          <p:nvPr/>
        </p:nvSpPr>
        <p:spPr>
          <a:xfrm>
            <a:off x="2195640" y="530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0 к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е 6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им его раз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тонн весит белый медве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 – 1,9m = 0,25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длина тела белого медве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 метрах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(m – 1,2) = 6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46:32Z</dcterms:created>
  <dc:creator>Асламовы</dc:creator>
  <dc:description/>
  <dc:language>en-US</dc:language>
  <cp:lastModifiedBy>LEGION</cp:lastModifiedBy>
  <dcterms:modified xsi:type="dcterms:W3CDTF">2015-01-23T13:20:43Z</dcterms:modified>
  <cp:revision>13</cp:revision>
  <dc:subject/>
  <dc:title>Десятичные дроби и действия над ними</dc:title>
</cp:coreProperties>
</file>