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5BE4-82D2-4D2D-B6A5-F08B91BA6B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010-43FA-48F4-868E-49FBA579CFB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E2AE-DE2F-42D5-8362-B289DB1C26F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BAFB-5332-451D-8D84-97E252B3EA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5BB2-92BB-4BD5-B83E-8C7612B853E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D04B-4377-4365-B4DF-BE8647E1280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DEF-F017-4A80-97E6-EB2471DD22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DC4B-3EAC-436E-A690-23B8E678FB5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A207-2E0C-4245-984E-9C1734B9416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973A-3E68-4D1D-9DEC-499936A8AE1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8AA2-CDA3-4A47-BA99-D02C12CB7CF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ADA-8EC3-4245-BB89-D74FBF47682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5ED5-211A-4825-BDBB-F6D7E452EB6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A02-8697-4BC5-A1E6-B6E181B3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82C-A62B-4CB1-9E8F-DC44E47D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FB9-D1AC-4406-ADA6-1AC4575F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16E-0D76-41E2-9A76-E716AEE5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9A3E-19AE-45C6-A23F-CAA0E821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2BC7-8B13-4973-98F1-5F0D65D3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8059-F854-4BEF-9A83-7BF8D033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E8A4-2F64-4601-A75B-04CBBE8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91CB-3C11-4DA2-8E82-5E9AE3B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6F28-CE17-4679-BC31-A2BC6B50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2EE6-C8FB-4C2D-A95E-2CF5091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0BC-2BAC-4A51-8826-C070CA14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A1B0-7C1E-4A42-8BB8-3769F8E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970D-270A-439E-859C-4F32219E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EDD-E19B-4B12-ACF0-BB55A1EF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1E7F-45E0-4838-8612-E49F51C0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5A4-60DE-4A47-9451-23343754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F44-B33B-4222-9845-A336E62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281-505F-4F7A-8C39-14E05113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D71-F7C5-45A3-9A56-D2FD5F87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C86-ED6E-44A4-BE1A-47A2A0B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931-DE51-4109-B21E-8791057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3BC-AA9E-4462-83D3-C4AC25C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B7C-F327-4ECB-BB6F-047B191A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FC8E-78C3-412C-A5B2-29BE1DF19CEC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91CB-97F0-431B-8958-7912B38BE1EC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0920" y="2491920"/>
            <a:ext cx="86421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Cj02900400000[1]"/>
          <p:cNvPicPr/>
          <p:nvPr/>
        </p:nvPicPr>
        <p:blipFill>
          <a:blip r:embed="rId1"/>
          <a:stretch/>
        </p:blipFill>
        <p:spPr>
          <a:xfrm>
            <a:off x="5940360" y="836640"/>
            <a:ext cx="2684520" cy="486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700280"/>
          <a:ext cx="8229600" cy="386244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65120"/>
                <a:gridCol w="13780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8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52: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6+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48-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0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0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MSSN2837.wav" descr=""/>
          <p:cNvPicPr/>
          <p:nvPr/>
        </p:nvPicPr>
        <p:blipFill>
          <a:blip r:embed="rId4"/>
          <a:stretch/>
        </p:blipFill>
        <p:spPr>
          <a:xfrm>
            <a:off x="5724360" y="321300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08" name="MSSN2838.wav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09" name="MSSN2839.wav" descr=""/>
          <p:cNvPicPr/>
          <p:nvPr/>
        </p:nvPicPr>
        <p:blipFill>
          <a:blip r:embed="rId6"/>
          <a:stretch/>
        </p:blipFill>
        <p:spPr>
          <a:xfrm>
            <a:off x="709308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0" name="MSSN2840.wav" descr=""/>
          <p:cNvPicPr/>
          <p:nvPr/>
        </p:nvPicPr>
        <p:blipFill>
          <a:blip r:embed="rId7"/>
          <a:stretch/>
        </p:blipFill>
        <p:spPr>
          <a:xfrm>
            <a:off x="83883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1" name="MSSN2853.wav" descr=""/>
          <p:cNvPicPr/>
          <p:nvPr/>
        </p:nvPicPr>
        <p:blipFill>
          <a:blip r:embed="rId8"/>
          <a:stretch/>
        </p:blipFill>
        <p:spPr>
          <a:xfrm>
            <a:off x="4427640" y="321156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MSSN2854.wav" descr=""/>
          <p:cNvPicPr/>
          <p:nvPr/>
        </p:nvPicPr>
        <p:blipFill>
          <a:blip r:embed="rId9"/>
          <a:stretch/>
        </p:blipFill>
        <p:spPr>
          <a:xfrm>
            <a:off x="7164360" y="3213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MSSN2855.wav" descr=""/>
          <p:cNvPicPr/>
          <p:nvPr/>
        </p:nvPicPr>
        <p:blipFill>
          <a:blip r:embed="rId10"/>
          <a:stretch/>
        </p:blipFill>
        <p:spPr>
          <a:xfrm>
            <a:off x="8459640" y="313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MSSN2856.wav" descr=""/>
          <p:cNvPicPr/>
          <p:nvPr/>
        </p:nvPicPr>
        <p:blipFill>
          <a:blip r:embed="rId11"/>
          <a:stretch/>
        </p:blipFill>
        <p:spPr>
          <a:xfrm>
            <a:off x="5796000" y="386064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15" name="MSSN2857.wav" descr=""/>
          <p:cNvPicPr/>
          <p:nvPr/>
        </p:nvPicPr>
        <p:blipFill>
          <a:blip r:embed="rId12"/>
          <a:stretch/>
        </p:blipFill>
        <p:spPr>
          <a:xfrm>
            <a:off x="7093080" y="378936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6" name="MSSN2858.wav" descr=""/>
          <p:cNvPicPr/>
          <p:nvPr/>
        </p:nvPicPr>
        <p:blipFill>
          <a:blip r:embed="rId13"/>
          <a:stretch/>
        </p:blipFill>
        <p:spPr>
          <a:xfrm>
            <a:off x="8459640" y="378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MSSN2859.wav" descr=""/>
          <p:cNvPicPr/>
          <p:nvPr/>
        </p:nvPicPr>
        <p:blipFill>
          <a:blip r:embed="rId14"/>
          <a:stretch/>
        </p:blipFill>
        <p:spPr>
          <a:xfrm>
            <a:off x="4356000" y="45100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MSSN2860.wav" descr=""/>
          <p:cNvPicPr/>
          <p:nvPr/>
        </p:nvPicPr>
        <p:blipFill>
          <a:blip r:embed="rId15"/>
          <a:stretch/>
        </p:blipFill>
        <p:spPr>
          <a:xfrm>
            <a:off x="579600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9" name="MSSN2861.wav" descr=""/>
          <p:cNvPicPr/>
          <p:nvPr/>
        </p:nvPicPr>
        <p:blipFill>
          <a:blip r:embed="rId16"/>
          <a:stretch/>
        </p:blipFill>
        <p:spPr>
          <a:xfrm>
            <a:off x="8459640" y="4579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0" name="MSSN2862.wav" descr=""/>
          <p:cNvPicPr/>
          <p:nvPr/>
        </p:nvPicPr>
        <p:blipFill>
          <a:blip r:embed="rId17"/>
          <a:stretch/>
        </p:blipFill>
        <p:spPr>
          <a:xfrm>
            <a:off x="4356000" y="530064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21" name="MSSN2863.wav" descr=""/>
          <p:cNvPicPr/>
          <p:nvPr/>
        </p:nvPicPr>
        <p:blipFill>
          <a:blip r:embed="rId18"/>
          <a:stretch/>
        </p:blipFill>
        <p:spPr>
          <a:xfrm>
            <a:off x="5724360" y="53020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22" name="MSSN2864.wav" descr=""/>
          <p:cNvPicPr/>
          <p:nvPr/>
        </p:nvPicPr>
        <p:blipFill>
          <a:blip r:embed="rId19"/>
          <a:stretch/>
        </p:blipFill>
        <p:spPr>
          <a:xfrm>
            <a:off x="7093080" y="53020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64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64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64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4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4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4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4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4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4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43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4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4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5113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BBERASER"/>
          <p:cNvPicPr/>
          <p:nvPr/>
        </p:nvPicPr>
        <p:blipFill>
          <a:blip r:embed="rId1"/>
          <a:stretch/>
        </p:blipFill>
        <p:spPr>
          <a:xfrm>
            <a:off x="5130720" y="1700280"/>
            <a:ext cx="3695760" cy="38894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78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981000"/>
          <a:ext cx="4176720" cy="5400720"/>
        </p:xfrm>
        <a:graphic>
          <a:graphicData uri="http://schemas.openxmlformats.org/drawingml/2006/table">
            <a:tbl>
              <a:tblPr/>
              <a:tblGrid>
                <a:gridCol w="522360"/>
                <a:gridCol w="520560"/>
                <a:gridCol w="522360"/>
                <a:gridCol w="523800"/>
                <a:gridCol w="522360"/>
                <a:gridCol w="522360"/>
                <a:gridCol w="520560"/>
                <a:gridCol w="522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Picture 5" descr="MCj04044750000[1]"/>
          <p:cNvPicPr/>
          <p:nvPr/>
        </p:nvPicPr>
        <p:blipFill>
          <a:blip r:embed="rId1"/>
          <a:stretch/>
        </p:blipFill>
        <p:spPr>
          <a:xfrm>
            <a:off x="468360" y="1557360"/>
            <a:ext cx="5091120" cy="489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484280"/>
          <a:ext cx="4687920" cy="4897440"/>
        </p:xfrm>
        <a:graphic>
          <a:graphicData uri="http://schemas.openxmlformats.org/drawingml/2006/table">
            <a:tbl>
              <a:tblPr/>
              <a:tblGrid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5860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8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pandadreams"/>
          <p:cNvPicPr/>
          <p:nvPr/>
        </p:nvPicPr>
        <p:blipFill>
          <a:blip r:embed="rId1"/>
          <a:stretch/>
        </p:blipFill>
        <p:spPr>
          <a:xfrm>
            <a:off x="826920" y="973080"/>
            <a:ext cx="7632720" cy="5399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2:11:42Z</dcterms:created>
  <dc:creator>Алина</dc:creator>
  <dc:description/>
  <dc:language>en-US</dc:language>
  <cp:lastModifiedBy>LEGION</cp:lastModifiedBy>
  <dcterms:modified xsi:type="dcterms:W3CDTF">2015-01-23T13:21:10Z</dcterms:modified>
  <cp:revision>23</cp:revision>
  <dc:subject/>
  <dc:title>Слайд 1</dc:title>
</cp:coreProperties>
</file>