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9.wmf" ContentType="image/x-wmf"/>
  <Override PartName="/ppt/media/image21.gif" ContentType="image/gif"/>
  <Override PartName="/ppt/media/image14.png" ContentType="image/png"/>
  <Override PartName="/ppt/media/image8.png" ContentType="image/png"/>
  <Override PartName="/ppt/media/image30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27.gif" ContentType="image/gif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B706-BA0D-448A-B3E3-9BBA5B6BBB18}" type="datetime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1D03-2C3A-4FC5-98C7-8587F46129AE}" type="slidenum"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1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12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632-99CB-40FC-B75B-14E756D5A79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3BF-9C80-4AE3-B3C8-1C9A17A8E52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AA35-5A33-42C8-A3BE-E28F316D556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976E-1A26-490B-90BD-05FD10C74D3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73F-7B48-49F6-AE0F-FD3AF92CF5C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943-1D93-48C0-8544-FAB443556A7C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9B3-D805-4576-93A1-E413957B447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B183-3431-4304-B038-AFE5BE4BB6A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0" i="1" lang="ru-RU" sz="12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0" i="1" lang="en-US" sz="12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0" i="1" lang="en-US" sz="12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синусои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DFB0-8E89-4389-B4D1-EF1B08AFC07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4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350F-DBDD-43A7-B127-5B4C8287B077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1E88-155A-403A-89F2-FB8DEEE0DCD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F7C1-56E2-444F-85EF-BBC3733C93C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C387-FBAA-4F54-A12E-C9E6E7E94476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5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5ABF-2C7A-485B-A481-43D82CCACD64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42F1-D56E-400F-A1C0-3B559A9749CF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B329-7087-438B-86CE-6B4499F96CE9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409-5A31-4FD7-8377-63A919B43C8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CD01-096C-48F9-A12D-EB4B027B595D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A35A-96BF-4C00-A9D2-DC7B810D3E50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6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BA7B-06BC-4591-B7F2-F85EA6D22EF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BD23-F301-467A-A561-B67D135605AC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374F-D019-425A-B3D4-7F9CE3BCB5C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C4D5-0EA2-4888-97C0-8AF10D0727E1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7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672F-BB39-4D04-9B0A-FB3B4EF5F568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249A-A0E2-458A-81CA-99D48B97051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32CA-BDFC-4E8A-A39A-D146F15CFA4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3A68-5753-4D4B-A850-A76FF811B9F7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844-DAFF-4A54-B0FA-B397904490A1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Для любознательных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9A78-22A9-4B38-BB4E-CF4F09A12F7E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8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5CD1-FCF2-4DD3-9FCD-94D8DFDFB275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BE1-F87D-43C7-9296-754303FD1528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F957-1335-468C-B370-0C939E756422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14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B606-13C3-4372-A2A7-80A1CFB8EB74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16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60D-302B-4BAB-B5CA-99DF0248D4C0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2302-2597-4E46-AD8A-E8E7AA2E90EA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0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70E4-CE99-433F-B07D-6E5875E7F7CE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12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2FB9-977E-4475-9948-94569BEDDF4B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4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3D6F-7278-455D-97C7-0C35EE823473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1400"/>
            </a:br>
            <a:r>
              <a:rPr b="1" i="1" lang="ru-RU" sz="1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12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B9FF-F67B-4854-924A-02A37CF958D3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28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074-713E-4F68-8028-F7C80EDE3166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дати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5F9-74C1-42D3-BA3F-0EE3E213B63D}" type="datetime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32" name="Місце для номера слайда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AF1B-4DCC-4DF5-9F68-0D8980CF67BB}" type="slidenum"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0CA-BE50-4FA8-9818-6BE00A2E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08E-11E5-4036-8AC7-C5D5F41B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0B0-6A1E-41DC-809F-BFC9F32B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EF6-F68C-496C-AE88-5158EF6B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A988-C0D0-49FC-AD9F-F0DEC1DC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2B86-590D-4687-BF55-3144CEC4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D481-86AD-4A50-A7F1-3D1C20E7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EE26-2273-4E80-BD44-6710360E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AD36-842F-44A8-B328-1AA15F91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2571-9979-4A2B-B81E-996E25AA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4524-8019-43C5-9056-F0EFFB0D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9387-1DE9-4739-97AC-43C6C861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37D-8D4A-4C2F-A0BA-43E9B87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9326-243C-490B-AD93-4DC4A93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610C-380F-48D0-8DE4-2474E65F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B63-E203-4748-A647-817D7545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9FB9-C80D-4B7E-AA5F-48A020BC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CA3-3A3B-422D-9C91-F2974265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6CA-1169-49CC-A7C1-24EFA153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A8A-95CE-4BA3-B040-FDE3AA8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7A9-E9A8-43C6-8B0F-E617193A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67F-F7FC-4EC8-914C-B4B691C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17AB-BAEF-4829-A3DE-6DFA99E4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E76-844B-42B9-B086-D604847E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10C2-10D3-4F81-A38E-1C14AD6AEBD9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13131b"/>
                </a:solidFill>
                <a:latin typeface="Arial Unicode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545472"/>
                </a:solidFill>
                <a:latin typeface="Times New Roman"/>
              </a:rPr>
              <a:t>тригонометрические фун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0FE-8C29-495A-9FFC-44D96C826F0E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Графики тригонометрических</a:t>
            </a:r>
            <a:r>
              <a:rPr b="0" lang="ru-RU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ru-RU" sz="3200" spc="-1" strike="noStrike" u="sng">
                <a:solidFill>
                  <a:srgbClr val="ff66ff"/>
                </a:solidFill>
                <a:uFillTx/>
                <a:latin typeface="Times New Roman"/>
              </a:rPr>
              <a:t>функций</a:t>
            </a:r>
            <a:r>
              <a:rPr b="0" lang="ru-RU" sz="44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228600" y="2671920"/>
          <a:ext cx="2438280" cy="23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71920"/>
                    <a:ext cx="243828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6"/>
          <p:cNvSpPr/>
          <p:nvPr/>
        </p:nvSpPr>
        <p:spPr>
          <a:xfrm>
            <a:off x="3048120" y="2133720"/>
            <a:ext cx="586728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4" action="ppaction://hlinksldjump"/>
              </a:rPr>
              <a:t>Функция у =</a:t>
            </a:r>
            <a:r>
              <a:rPr b="1" lang="en-US" sz="2400" spc="-1" strike="noStrike" u="sng">
                <a:solidFill>
                  <a:srgbClr val="0000e8"/>
                </a:solidFill>
                <a:uFillTx/>
                <a:latin typeface="Arial Unicode MS"/>
                <a:hlinkClick r:id="rId5" action="ppaction://hlinksldjump"/>
              </a:rPr>
              <a:t> sin x,</a:t>
            </a:r>
            <a:r>
              <a:rPr b="1" lang="ru-RU" sz="2400" spc="-1" strike="noStrike" u="sng">
                <a:solidFill>
                  <a:srgbClr val="0000e8"/>
                </a:solidFill>
                <a:uFillTx/>
                <a:latin typeface="Arial Unicode MS"/>
                <a:hlinkClick r:id="rId6" action="ppaction://hlinksldjump"/>
              </a:rPr>
              <a:t> ее свойств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функций путем параллельного перенос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Преобразование графиков тригонометрических      функций путем сжатия и расширения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19f5"/>
                </a:solidFill>
                <a:latin typeface="Arial Unicode MS"/>
              </a:rPr>
              <a:t>Для любознательных…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705720" cy="4113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5562720" y="2971800"/>
            <a:ext cx="129528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1447920" y="167652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1828800" y="2286000"/>
            <a:ext cx="1447920" cy="609480"/>
          </a:xfrm>
          <a:prstGeom prst="rect">
            <a:avLst/>
          </a:prstGeom>
          <a:solidFill>
            <a:srgbClr val="f0f6f8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1295280" y="1494000"/>
            <a:ext cx="6400800" cy="4479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8"/>
          <p:cNvSpPr/>
          <p:nvPr/>
        </p:nvSpPr>
        <p:spPr>
          <a:xfrm>
            <a:off x="1600200" y="1703520"/>
            <a:ext cx="1676520" cy="88740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829160" y="2071800"/>
            <a:ext cx="114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1523880" y="170352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       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867280" y="3124080"/>
            <a:ext cx="1143000" cy="30492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sin (x -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6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6"/>
          <p:cNvSpPr/>
          <p:nvPr/>
        </p:nvSpPr>
        <p:spPr>
          <a:xfrm>
            <a:off x="7620120" y="5362560"/>
            <a:ext cx="151596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5105520" cy="8384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2" name="Picture 103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00800" cy="4419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31"/>
          <p:cNvSpPr/>
          <p:nvPr/>
        </p:nvSpPr>
        <p:spPr>
          <a:xfrm>
            <a:off x="5794200" y="207000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Arial Unicode MS"/>
              </a:rPr>
              <a:t>y= sin x 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4" name="Text Box 1032"/>
          <p:cNvSpPr/>
          <p:nvPr/>
        </p:nvSpPr>
        <p:spPr>
          <a:xfrm>
            <a:off x="1660680" y="5194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5" name="Rectangle 1033"/>
          <p:cNvSpPr/>
          <p:nvPr/>
        </p:nvSpPr>
        <p:spPr>
          <a:xfrm>
            <a:off x="1660680" y="5194440"/>
            <a:ext cx="2057400" cy="609480"/>
          </a:xfrm>
          <a:prstGeom prst="rect">
            <a:avLst/>
          </a:prstGeom>
          <a:solidFill>
            <a:srgbClr val="d5f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: 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(x + 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2)</a:t>
            </a: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6" name="Text Box 1034"/>
          <p:cNvSpPr/>
          <p:nvPr/>
        </p:nvSpPr>
        <p:spPr>
          <a:xfrm>
            <a:off x="7621560" y="536256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7" name="AutoShape 1035"/>
          <p:cNvSpPr/>
          <p:nvPr/>
        </p:nvSpPr>
        <p:spPr>
          <a:xfrm>
            <a:off x="8678880" y="5499000"/>
            <a:ext cx="457200" cy="344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344520"/>
              <a:gd name="textAreaBottom" fmla="*/ 322200 h 344520"/>
            </a:gdLst>
            <a:ahLst/>
            <a:rect l="textAreaLeft" t="textAreaTop" r="textAreaRight" b="textAreaBottom"/>
            <a:pathLst>
              <a:path w="28657" h="21600">
                <a:moveTo>
                  <a:pt x="0" y="0"/>
                </a:moveTo>
                <a:lnTo>
                  <a:pt x="28657" y="0"/>
                </a:lnTo>
                <a:lnTo>
                  <a:pt x="28657" y="21600"/>
                </a:lnTo>
                <a:lnTo>
                  <a:pt x="0" y="21600"/>
                </a:lnTo>
                <a:close/>
              </a:path>
              <a:path fill="lightenLess" w="28657" h="21600">
                <a:moveTo>
                  <a:pt x="0" y="0"/>
                </a:moveTo>
                <a:lnTo>
                  <a:pt x="28657" y="0"/>
                </a:lnTo>
                <a:lnTo>
                  <a:pt x="27257" y="1400"/>
                </a:lnTo>
                <a:lnTo>
                  <a:pt x="1400" y="1400"/>
                </a:lnTo>
                <a:close/>
              </a:path>
              <a:path fill="darken" w="28657" h="21600">
                <a:moveTo>
                  <a:pt x="28657" y="0"/>
                </a:moveTo>
                <a:lnTo>
                  <a:pt x="28657" y="21600"/>
                </a:lnTo>
                <a:lnTo>
                  <a:pt x="27257" y="20200"/>
                </a:lnTo>
                <a:lnTo>
                  <a:pt x="27257" y="1400"/>
                </a:lnTo>
                <a:close/>
              </a:path>
              <a:path fill="darkenLess" w="28657" h="21600">
                <a:moveTo>
                  <a:pt x="28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7" y="20200"/>
                </a:lnTo>
                <a:close/>
              </a:path>
              <a:path fill="lighten" w="28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657" h="21600">
                <a:moveTo>
                  <a:pt x="7322" y="10800"/>
                </a:moveTo>
                <a:lnTo>
                  <a:pt x="21335" y="3794"/>
                </a:lnTo>
                <a:lnTo>
                  <a:pt x="2133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996840" y="914400"/>
            <a:ext cx="718380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cos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ко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609480" y="4343400"/>
            <a:ext cx="3048120" cy="70380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ечислите свойства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и у =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305240" cy="4305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609480" y="2633760"/>
            <a:ext cx="2835360" cy="398880"/>
          </a:xfrm>
          <a:prstGeom prst="rect">
            <a:avLst/>
          </a:prstGeom>
          <a:solidFill>
            <a:srgbClr val="aceffa"/>
          </a:solidFill>
          <a:ln w="1260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i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)=cos x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3" name="AutoShape 9">
            <a:hlinkClick r:id="" action="ppaction://hlinkshowjump?jump=firstslide"/>
          </p:cNvPr>
          <p:cNvSpPr/>
          <p:nvPr/>
        </p:nvSpPr>
        <p:spPr>
          <a:xfrm>
            <a:off x="2362320" y="6324480"/>
            <a:ext cx="320400" cy="381240"/>
          </a:xfrm>
          <a:custGeom>
            <a:avLst/>
            <a:gdLst>
              <a:gd name="textAreaLeft" fmla="*/ 20520 w 320400"/>
              <a:gd name="textAreaRight" fmla="*/ 299880 w 320400"/>
              <a:gd name="textAreaTop" fmla="*/ 20520 h 381240"/>
              <a:gd name="textAreaBottom" fmla="*/ 360720 h 381240"/>
            </a:gdLst>
            <a:ahLst/>
            <a:rect l="textAreaLeft" t="textAreaTop" r="textAreaRight" b="textAreaBottom"/>
            <a:pathLst>
              <a:path w="21600" h="25697">
                <a:moveTo>
                  <a:pt x="0" y="0"/>
                </a:moveTo>
                <a:lnTo>
                  <a:pt x="21600" y="0"/>
                </a:lnTo>
                <a:lnTo>
                  <a:pt x="21600" y="25697"/>
                </a:lnTo>
                <a:lnTo>
                  <a:pt x="0" y="25697"/>
                </a:lnTo>
                <a:close/>
              </a:path>
              <a:path fill="lightenLess" w="21600" h="25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97">
                <a:moveTo>
                  <a:pt x="21600" y="0"/>
                </a:moveTo>
                <a:lnTo>
                  <a:pt x="21600" y="25697"/>
                </a:lnTo>
                <a:lnTo>
                  <a:pt x="20200" y="24297"/>
                </a:lnTo>
                <a:lnTo>
                  <a:pt x="20200" y="1400"/>
                </a:lnTo>
                <a:close/>
              </a:path>
              <a:path fill="darkenLess" w="21600" h="25697">
                <a:moveTo>
                  <a:pt x="21600" y="25697"/>
                </a:moveTo>
                <a:lnTo>
                  <a:pt x="0" y="25697"/>
                </a:lnTo>
                <a:lnTo>
                  <a:pt x="1400" y="24297"/>
                </a:lnTo>
                <a:lnTo>
                  <a:pt x="20200" y="24297"/>
                </a:lnTo>
                <a:close/>
              </a:path>
              <a:path fill="lighten" w="21600" h="25697">
                <a:moveTo>
                  <a:pt x="0" y="25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97"/>
                </a:lnTo>
                <a:close/>
              </a:path>
              <a:path fill="darken" w="21600" h="25697">
                <a:moveTo>
                  <a:pt x="3794" y="12848"/>
                </a:moveTo>
                <a:lnTo>
                  <a:pt x="17806" y="5842"/>
                </a:lnTo>
                <a:lnTo>
                  <a:pt x="17806" y="19855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095880" cy="13716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69960" y="2556000"/>
            <a:ext cx="7772400" cy="25905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ординат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27" name="Picture 8" descr="bd15354_"/>
          <p:cNvPicPr/>
          <p:nvPr/>
        </p:nvPicPr>
        <p:blipFill>
          <a:blip r:embed="rId4"/>
          <a:stretch/>
        </p:blipFill>
        <p:spPr>
          <a:xfrm>
            <a:off x="669960" y="10666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9">
            <a:hlinkClick r:id="" action="ppaction://hlinkshowjump?jump=previousslide"/>
          </p:cNvPr>
          <p:cNvSpPr/>
          <p:nvPr/>
        </p:nvSpPr>
        <p:spPr>
          <a:xfrm>
            <a:off x="36504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"/>
          <p:cNvSpPr/>
          <p:nvPr/>
        </p:nvSpPr>
        <p:spPr>
          <a:xfrm>
            <a:off x="7315200" y="5715000"/>
            <a:ext cx="137952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669960" y="1763640"/>
            <a:ext cx="7543800" cy="39513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166440" y="301320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bb80e"/>
                </a:solidFill>
                <a:latin typeface="Times New Roman"/>
              </a:rPr>
              <a:t>y=sin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396400" y="19810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4ff6"/>
                </a:solidFill>
                <a:latin typeface="Times New Roman"/>
              </a:rPr>
              <a:t>y=sin4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7071840" y="40496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a0c9d"/>
                </a:solidFill>
                <a:latin typeface="Times New Roman"/>
              </a:rPr>
              <a:t>Y=sin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316640" y="571500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8373960" y="5715000"/>
            <a:ext cx="320760" cy="293760"/>
          </a:xfrm>
          <a:custGeom>
            <a:avLst/>
            <a:gdLst>
              <a:gd name="textAreaLeft" fmla="*/ 18720 w 320760"/>
              <a:gd name="textAreaRight" fmla="*/ 302040 w 32076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3583" h="21600">
                <a:moveTo>
                  <a:pt x="0" y="0"/>
                </a:moveTo>
                <a:lnTo>
                  <a:pt x="23583" y="0"/>
                </a:lnTo>
                <a:lnTo>
                  <a:pt x="23583" y="21600"/>
                </a:lnTo>
                <a:lnTo>
                  <a:pt x="0" y="21600"/>
                </a:lnTo>
                <a:close/>
              </a:path>
              <a:path fill="lightenLess" w="23583" h="21600">
                <a:moveTo>
                  <a:pt x="0" y="0"/>
                </a:moveTo>
                <a:lnTo>
                  <a:pt x="23583" y="0"/>
                </a:lnTo>
                <a:lnTo>
                  <a:pt x="22183" y="1400"/>
                </a:lnTo>
                <a:lnTo>
                  <a:pt x="1400" y="1400"/>
                </a:lnTo>
                <a:close/>
              </a:path>
              <a:path fill="darken" w="23583" h="21600">
                <a:moveTo>
                  <a:pt x="23583" y="0"/>
                </a:moveTo>
                <a:lnTo>
                  <a:pt x="23583" y="21600"/>
                </a:lnTo>
                <a:lnTo>
                  <a:pt x="22183" y="20200"/>
                </a:lnTo>
                <a:lnTo>
                  <a:pt x="22183" y="1400"/>
                </a:lnTo>
                <a:close/>
              </a:path>
              <a:path fill="darkenLess" w="23583" h="21600">
                <a:moveTo>
                  <a:pt x="23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83" y="20200"/>
                </a:lnTo>
                <a:close/>
              </a:path>
              <a:path fill="lighten" w="23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83" h="21600">
                <a:moveTo>
                  <a:pt x="4785" y="10800"/>
                </a:moveTo>
                <a:lnTo>
                  <a:pt x="18798" y="3794"/>
                </a:lnTo>
                <a:lnTo>
                  <a:pt x="18798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8800" y="990720"/>
            <a:ext cx="5943600" cy="12189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получается из графика функции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43" name="Picture 5" descr="BD15018_"/>
          <p:cNvPicPr/>
          <p:nvPr/>
        </p:nvPicPr>
        <p:blipFill>
          <a:blip r:embed="rId4"/>
          <a:stretch/>
        </p:blipFill>
        <p:spPr>
          <a:xfrm>
            <a:off x="939960" y="3352680"/>
            <a:ext cx="171360" cy="171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BD15018_"/>
          <p:cNvPicPr/>
          <p:nvPr/>
        </p:nvPicPr>
        <p:blipFill>
          <a:blip r:embed="rId5"/>
          <a:stretch/>
        </p:blipFill>
        <p:spPr>
          <a:xfrm>
            <a:off x="939960" y="39625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bd15354_"/>
          <p:cNvPicPr/>
          <p:nvPr/>
        </p:nvPicPr>
        <p:blipFill>
          <a:blip r:embed="rId6"/>
          <a:stretch/>
        </p:blipFill>
        <p:spPr>
          <a:xfrm>
            <a:off x="762120" y="1249200"/>
            <a:ext cx="388800" cy="64008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5851440" y="6297480"/>
            <a:ext cx="1285920" cy="45720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5943600" cy="114300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0" name="Picture 8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05720" cy="40399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9"/>
          <p:cNvSpPr/>
          <p:nvPr/>
        </p:nvSpPr>
        <p:spPr>
          <a:xfrm>
            <a:off x="6257520" y="3211560"/>
            <a:ext cx="88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2dca"/>
                </a:solidFill>
                <a:latin typeface="Times New Roman"/>
              </a:rPr>
              <a:t>y = 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6257520" y="4430880"/>
            <a:ext cx="105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cos 0.5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5853240" y="629748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6910560" y="6450120"/>
            <a:ext cx="226800" cy="304560"/>
          </a:xfrm>
          <a:custGeom>
            <a:avLst/>
            <a:gdLst>
              <a:gd name="textAreaLeft" fmla="*/ 14400 w 226800"/>
              <a:gd name="textAreaRight" fmla="*/ 212400 w 226800"/>
              <a:gd name="textAreaTop" fmla="*/ 14400 h 304560"/>
              <a:gd name="textAreaBottom" fmla="*/ 290160 h 304560"/>
            </a:gdLst>
            <a:ahLst/>
            <a:rect l="textAreaLeft" t="textAreaTop" r="textAreaRight" b="textAreaBottom"/>
            <a:pathLst>
              <a:path w="21600" h="28994">
                <a:moveTo>
                  <a:pt x="0" y="0"/>
                </a:moveTo>
                <a:lnTo>
                  <a:pt x="21600" y="0"/>
                </a:lnTo>
                <a:lnTo>
                  <a:pt x="21600" y="28994"/>
                </a:lnTo>
                <a:lnTo>
                  <a:pt x="0" y="28994"/>
                </a:lnTo>
                <a:close/>
              </a:path>
              <a:path fill="lightenLess" w="21600" h="28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994">
                <a:moveTo>
                  <a:pt x="21600" y="0"/>
                </a:moveTo>
                <a:lnTo>
                  <a:pt x="21600" y="28994"/>
                </a:lnTo>
                <a:lnTo>
                  <a:pt x="20200" y="27594"/>
                </a:lnTo>
                <a:lnTo>
                  <a:pt x="20200" y="1400"/>
                </a:lnTo>
                <a:close/>
              </a:path>
              <a:path fill="darkenLess" w="21600" h="28994">
                <a:moveTo>
                  <a:pt x="21600" y="28994"/>
                </a:moveTo>
                <a:lnTo>
                  <a:pt x="0" y="28994"/>
                </a:lnTo>
                <a:lnTo>
                  <a:pt x="1400" y="27594"/>
                </a:lnTo>
                <a:lnTo>
                  <a:pt x="20200" y="27594"/>
                </a:lnTo>
                <a:close/>
              </a:path>
              <a:path fill="lighten" w="21600" h="28994">
                <a:moveTo>
                  <a:pt x="0" y="28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594"/>
                </a:lnTo>
                <a:close/>
              </a:path>
              <a:path fill="darken" w="21600" h="28994">
                <a:moveTo>
                  <a:pt x="3794" y="14497"/>
                </a:moveTo>
                <a:lnTo>
                  <a:pt x="17806" y="7491"/>
                </a:lnTo>
                <a:lnTo>
                  <a:pt x="17806" y="21503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5943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669960" y="274320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и функций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-f (k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 и у=-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f(x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ются из графиков функций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k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y= k 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оответственно   путем их зеркального отображения относительно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синус – функция нечетная, поэтому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sin(-kx) = - sin 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косинус –функция четная, значит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cos(-kx) = cos(k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58" name="Picture 8" descr="bd13742_"/>
          <p:cNvPicPr/>
          <p:nvPr/>
        </p:nvPicPr>
        <p:blipFill>
          <a:blip r:embed="rId3"/>
          <a:stretch/>
        </p:blipFill>
        <p:spPr>
          <a:xfrm>
            <a:off x="658800" y="164628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9">
            <a:hlinkClick r:id="" action="ppaction://hlinkshowjump?jump=previousslide"/>
          </p:cNvPr>
          <p:cNvSpPr/>
          <p:nvPr/>
        </p:nvSpPr>
        <p:spPr>
          <a:xfrm>
            <a:off x="353880" y="57913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6" h="21600">
                <a:moveTo>
                  <a:pt x="3806" y="7493"/>
                </a:moveTo>
                <a:lnTo>
                  <a:pt x="7314" y="7493"/>
                </a:lnTo>
                <a:lnTo>
                  <a:pt x="7314" y="12828"/>
                </a:lnTo>
                <a:cubicBezTo>
                  <a:pt x="7314" y="13751"/>
                  <a:pt x="8115" y="14482"/>
                  <a:pt x="9150" y="14482"/>
                </a:cubicBezTo>
                <a:lnTo>
                  <a:pt x="10813" y="14482"/>
                </a:lnTo>
                <a:cubicBezTo>
                  <a:pt x="11848" y="14482"/>
                  <a:pt x="12649" y="13751"/>
                  <a:pt x="12649" y="12828"/>
                </a:cubicBezTo>
                <a:lnTo>
                  <a:pt x="12649" y="7493"/>
                </a:lnTo>
                <a:lnTo>
                  <a:pt x="10813" y="7493"/>
                </a:lnTo>
                <a:lnTo>
                  <a:pt x="14320" y="3985"/>
                </a:lnTo>
                <a:lnTo>
                  <a:pt x="17993" y="7493"/>
                </a:lnTo>
                <a:lnTo>
                  <a:pt x="16157" y="7493"/>
                </a:lnTo>
                <a:lnTo>
                  <a:pt x="16157" y="12828"/>
                </a:lnTo>
                <a:cubicBezTo>
                  <a:pt x="16157" y="15596"/>
                  <a:pt x="13581" y="18155"/>
                  <a:pt x="10813" y="18155"/>
                </a:cubicBezTo>
                <a:lnTo>
                  <a:pt x="9150" y="18155"/>
                </a:lnTo>
                <a:cubicBezTo>
                  <a:pt x="6383" y="18155"/>
                  <a:pt x="3806" y="15596"/>
                  <a:pt x="3806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1"/>
          <p:cNvSpPr/>
          <p:nvPr/>
        </p:nvSpPr>
        <p:spPr>
          <a:xfrm>
            <a:off x="6208560" y="6172200"/>
            <a:ext cx="1463760" cy="522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418680"/>
            <a:ext cx="64008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990720" y="1763640"/>
            <a:ext cx="7238880" cy="43704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7"/>
          <p:cNvSpPr/>
          <p:nvPr/>
        </p:nvSpPr>
        <p:spPr>
          <a:xfrm>
            <a:off x="6507720" y="236232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y = </a:t>
            </a:r>
            <a:r>
              <a:rPr b="1" lang="ru-RU" sz="1400" spc="-1" strike="noStrike">
                <a:solidFill>
                  <a:srgbClr val="0725a5"/>
                </a:solidFill>
                <a:latin typeface="Times New Roman"/>
              </a:rPr>
              <a:t>-</a:t>
            </a:r>
            <a:r>
              <a:rPr b="1" lang="en-US" sz="1400" spc="-1" strike="noStrike">
                <a:solidFill>
                  <a:srgbClr val="0725a5"/>
                </a:solidFill>
                <a:latin typeface="Times New Roman"/>
              </a:rPr>
              <a:t>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6508080" y="51926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Times New Roman"/>
              </a:rPr>
              <a:t>y =  sin3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234120" y="6134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7291440" y="6188040"/>
            <a:ext cx="380880" cy="293760"/>
          </a:xfrm>
          <a:custGeom>
            <a:avLst/>
            <a:gdLst>
              <a:gd name="textAreaLeft" fmla="*/ 18720 w 380880"/>
              <a:gd name="textAreaRight" fmla="*/ 362160 w 380880"/>
              <a:gd name="textAreaTop" fmla="*/ 18720 h 293760"/>
              <a:gd name="textAreaBottom" fmla="*/ 275040 h 293760"/>
            </a:gdLst>
            <a:ahLst/>
            <a:rect l="textAreaLeft" t="textAreaTop" r="textAreaRight" b="textAreaBottom"/>
            <a:pathLst>
              <a:path w="27998" h="21600">
                <a:moveTo>
                  <a:pt x="0" y="0"/>
                </a:moveTo>
                <a:lnTo>
                  <a:pt x="27998" y="0"/>
                </a:lnTo>
                <a:lnTo>
                  <a:pt x="27998" y="21600"/>
                </a:lnTo>
                <a:lnTo>
                  <a:pt x="0" y="21600"/>
                </a:lnTo>
                <a:close/>
              </a:path>
              <a:path fill="lightenLess" w="27998" h="21600">
                <a:moveTo>
                  <a:pt x="0" y="0"/>
                </a:moveTo>
                <a:lnTo>
                  <a:pt x="27998" y="0"/>
                </a:lnTo>
                <a:lnTo>
                  <a:pt x="26598" y="1400"/>
                </a:lnTo>
                <a:lnTo>
                  <a:pt x="1400" y="1400"/>
                </a:lnTo>
                <a:close/>
              </a:path>
              <a:path fill="darken" w="27998" h="21600">
                <a:moveTo>
                  <a:pt x="27998" y="0"/>
                </a:moveTo>
                <a:lnTo>
                  <a:pt x="27998" y="21600"/>
                </a:lnTo>
                <a:lnTo>
                  <a:pt x="26598" y="20200"/>
                </a:lnTo>
                <a:lnTo>
                  <a:pt x="26598" y="1400"/>
                </a:lnTo>
                <a:close/>
              </a:path>
              <a:path fill="darkenLess" w="27998" h="21600">
                <a:moveTo>
                  <a:pt x="27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98" y="20200"/>
                </a:lnTo>
                <a:close/>
              </a:path>
              <a:path fill="lighten" w="27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98" h="21600">
                <a:moveTo>
                  <a:pt x="6993" y="10800"/>
                </a:moveTo>
                <a:lnTo>
                  <a:pt x="21006" y="3794"/>
                </a:lnTo>
                <a:lnTo>
                  <a:pt x="210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996840" y="914400"/>
            <a:ext cx="6843960" cy="459720"/>
          </a:xfrm>
          <a:prstGeom prst="rect">
            <a:avLst/>
          </a:prstGeom>
          <a:solidFill>
            <a:srgbClr val="95e3eb"/>
          </a:solidFill>
          <a:ln w="9360">
            <a:solidFill>
              <a:srgbClr val="420a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Графиком функции </a:t>
            </a:r>
            <a:r>
              <a:rPr b="1" i="1" lang="ru-RU" sz="2400" spc="-1" strike="noStrike">
                <a:solidFill>
                  <a:srgbClr val="420a16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420a16"/>
                </a:solidFill>
                <a:latin typeface="Times New Roman"/>
              </a:rPr>
              <a:t>sin x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является </a:t>
            </a:r>
            <a:r>
              <a:rPr b="1" i="1" lang="ru-RU" sz="2400" spc="-1" strike="noStrike">
                <a:solidFill>
                  <a:srgbClr val="13131b"/>
                </a:solidFill>
                <a:latin typeface="Times New Roman"/>
              </a:rPr>
              <a:t>синусоида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9480" y="2590920"/>
            <a:ext cx="3810240" cy="1923480"/>
          </a:xfrm>
          <a:prstGeom prst="rect">
            <a:avLst/>
          </a:prstGeom>
          <a:solidFill>
            <a:srgbClr val="aceffa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Свойства функци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D(y) =R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ериодическая (Т=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ечетная 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(-x)=-sin x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buClr>
                <a:srgbClr val="545472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Нули функции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=0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sin x=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х 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49" name="Object 1024"/>
          <p:cNvGraphicFramePr/>
          <p:nvPr/>
        </p:nvGraphicFramePr>
        <p:xfrm>
          <a:off x="4648320" y="1752480"/>
          <a:ext cx="403848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52480"/>
                    <a:ext cx="403848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9"/>
          <p:cNvSpPr/>
          <p:nvPr/>
        </p:nvSpPr>
        <p:spPr>
          <a:xfrm>
            <a:off x="7505640" y="3160800"/>
            <a:ext cx="7066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564660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1"/>
          <a:stretch/>
        </p:blipFill>
        <p:spPr>
          <a:xfrm>
            <a:off x="838080" y="1606680"/>
            <a:ext cx="6934320" cy="41083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226920" y="25146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19f5"/>
                </a:solidFill>
                <a:latin typeface="Times New Roman"/>
              </a:rPr>
              <a:t>y=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6226920" y="441972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-2cos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6548400" y="5715000"/>
            <a:ext cx="1452600" cy="4953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6549840" y="56498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543800" y="5715000"/>
            <a:ext cx="457200" cy="343080"/>
          </a:xfrm>
          <a:custGeom>
            <a:avLst/>
            <a:gdLst>
              <a:gd name="textAreaLeft" fmla="*/ 21960 w 457200"/>
              <a:gd name="textAreaRight" fmla="*/ 435240 w 45720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28777" h="21600">
                <a:moveTo>
                  <a:pt x="0" y="0"/>
                </a:moveTo>
                <a:lnTo>
                  <a:pt x="28777" y="0"/>
                </a:lnTo>
                <a:lnTo>
                  <a:pt x="28777" y="21600"/>
                </a:lnTo>
                <a:lnTo>
                  <a:pt x="0" y="21600"/>
                </a:lnTo>
                <a:close/>
              </a:path>
              <a:path fill="lightenLess" w="28777" h="21600">
                <a:moveTo>
                  <a:pt x="0" y="0"/>
                </a:moveTo>
                <a:lnTo>
                  <a:pt x="28777" y="0"/>
                </a:lnTo>
                <a:lnTo>
                  <a:pt x="27377" y="1400"/>
                </a:lnTo>
                <a:lnTo>
                  <a:pt x="1400" y="1400"/>
                </a:lnTo>
                <a:close/>
              </a:path>
              <a:path fill="darken" w="28777" h="21600">
                <a:moveTo>
                  <a:pt x="28777" y="0"/>
                </a:moveTo>
                <a:lnTo>
                  <a:pt x="28777" y="21600"/>
                </a:lnTo>
                <a:lnTo>
                  <a:pt x="27377" y="20200"/>
                </a:lnTo>
                <a:lnTo>
                  <a:pt x="27377" y="1400"/>
                </a:lnTo>
                <a:close/>
              </a:path>
              <a:path fill="darkenLess" w="28777" h="21600">
                <a:moveTo>
                  <a:pt x="28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7" y="20200"/>
                </a:lnTo>
                <a:close/>
              </a:path>
              <a:path fill="lighten" w="28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7" h="21600">
                <a:moveTo>
                  <a:pt x="7382" y="10800"/>
                </a:moveTo>
                <a:lnTo>
                  <a:pt x="21395" y="3794"/>
                </a:lnTo>
                <a:lnTo>
                  <a:pt x="21395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76160" y="1218960"/>
            <a:ext cx="609588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66996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762120" y="289548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у =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kx+b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получается из графика функци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утем его параллельного переноса на </a:t>
            </a:r>
            <a:r>
              <a:rPr b="1" lang="ru-RU" sz="2000" spc="-1" strike="noStrike">
                <a:solidFill>
                  <a:srgbClr val="f54129"/>
                </a:solidFill>
                <a:latin typeface="Times New Roman"/>
              </a:rPr>
              <a:t>(-в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/k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единиц вдоль оси абсцисс и путем сжат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раз (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&gt;1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или растяжения в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k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раз ( при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0&lt;k&lt;1)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вдоль оси абсцисс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54129"/>
                </a:solidFill>
                <a:latin typeface="Times New Roman"/>
              </a:rPr>
              <a:t>f ( kx+b) = f ( k( x+b/k))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280" name="Picture 7" descr="bd15361_"/>
          <p:cNvPicPr/>
          <p:nvPr/>
        </p:nvPicPr>
        <p:blipFill>
          <a:blip r:embed="rId3"/>
          <a:stretch/>
        </p:blipFill>
        <p:spPr>
          <a:xfrm>
            <a:off x="762120" y="172260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>
            <a:hlinkClick r:id="" action="ppaction://hlinkshowjump?jump=previousslide"/>
          </p:cNvPr>
          <p:cNvSpPr/>
          <p:nvPr/>
        </p:nvSpPr>
        <p:spPr>
          <a:xfrm>
            <a:off x="289080" y="57913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7"/>
          <p:cNvSpPr/>
          <p:nvPr/>
        </p:nvSpPr>
        <p:spPr>
          <a:xfrm>
            <a:off x="6497640" y="6221520"/>
            <a:ext cx="1366920" cy="56016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5851440" cy="11430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утем сжатия и растяжения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380880" y="163836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2"/>
          <a:stretch/>
        </p:blipFill>
        <p:spPr>
          <a:xfrm>
            <a:off x="4800600" y="163836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8"/>
          <p:cNvSpPr/>
          <p:nvPr/>
        </p:nvSpPr>
        <p:spPr>
          <a:xfrm>
            <a:off x="27417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874600" y="3056040"/>
            <a:ext cx="116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(x+</a:t>
            </a:r>
            <a:r>
              <a:rPr b="1" lang="ru-RU" sz="1400" spc="-1" strike="noStrike">
                <a:solidFill>
                  <a:srgbClr val="0000a8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/6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9112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5086800" y="2217600"/>
            <a:ext cx="141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y= cos(2(x+</a:t>
            </a:r>
            <a:r>
              <a:rPr b="1" lang="ru-RU" sz="1400" spc="-1" strike="noStrike">
                <a:solidFill>
                  <a:srgbClr val="010000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010000"/>
                </a:solidFill>
                <a:latin typeface="Times New Roman"/>
              </a:rPr>
              <a:t>/6)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7221960" y="4275000"/>
            <a:ext cx="133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Y= cos(2x+</a:t>
            </a:r>
            <a:r>
              <a:rPr b="1" lang="ru-RU" sz="1400" spc="-1" strike="noStrike">
                <a:solidFill>
                  <a:srgbClr val="f54129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f54129"/>
                </a:solidFill>
                <a:latin typeface="Times New Roman"/>
              </a:rPr>
              <a:t>/3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543080" y="3059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cos2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3" name="AutoShape 14">
            <a:hlinkClick r:id="" action="ppaction://hlinkshowjump?jump=firstslide"/>
          </p:cNvPr>
          <p:cNvSpPr/>
          <p:nvPr/>
        </p:nvSpPr>
        <p:spPr>
          <a:xfrm>
            <a:off x="2647800" y="64008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4" name="AutoShape 15">
            <a:hlinkClick r:id="" action="ppaction://hlinkshowjump?jump=firstslide"/>
          </p:cNvPr>
          <p:cNvSpPr/>
          <p:nvPr/>
        </p:nvSpPr>
        <p:spPr>
          <a:xfrm>
            <a:off x="7543800" y="6400800"/>
            <a:ext cx="320760" cy="304920"/>
          </a:xfrm>
          <a:custGeom>
            <a:avLst/>
            <a:gdLst>
              <a:gd name="textAreaLeft" fmla="*/ 19440 w 320760"/>
              <a:gd name="textAreaRight" fmla="*/ 301320 w 320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2721" h="21600">
                <a:moveTo>
                  <a:pt x="0" y="0"/>
                </a:moveTo>
                <a:lnTo>
                  <a:pt x="22721" y="0"/>
                </a:lnTo>
                <a:lnTo>
                  <a:pt x="22721" y="21600"/>
                </a:lnTo>
                <a:lnTo>
                  <a:pt x="0" y="21600"/>
                </a:lnTo>
                <a:close/>
              </a:path>
              <a:path fill="lightenLess" w="22721" h="21600">
                <a:moveTo>
                  <a:pt x="0" y="0"/>
                </a:moveTo>
                <a:lnTo>
                  <a:pt x="22721" y="0"/>
                </a:lnTo>
                <a:lnTo>
                  <a:pt x="21321" y="1400"/>
                </a:lnTo>
                <a:lnTo>
                  <a:pt x="1400" y="1400"/>
                </a:lnTo>
                <a:close/>
              </a:path>
              <a:path fill="darken" w="22721" h="21600">
                <a:moveTo>
                  <a:pt x="22721" y="0"/>
                </a:moveTo>
                <a:lnTo>
                  <a:pt x="22721" y="21600"/>
                </a:lnTo>
                <a:lnTo>
                  <a:pt x="21321" y="20200"/>
                </a:lnTo>
                <a:lnTo>
                  <a:pt x="21321" y="1400"/>
                </a:lnTo>
                <a:close/>
              </a:path>
              <a:path fill="darkenLess" w="22721" h="21600">
                <a:moveTo>
                  <a:pt x="22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1" y="20200"/>
                </a:lnTo>
                <a:close/>
              </a:path>
              <a:path fill="lighten" w="22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1" h="21600">
                <a:moveTo>
                  <a:pt x="4354" y="10800"/>
                </a:moveTo>
                <a:lnTo>
                  <a:pt x="18367" y="3794"/>
                </a:lnTo>
                <a:lnTo>
                  <a:pt x="18367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6486480" y="622152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5640" y="334440"/>
            <a:ext cx="5334120" cy="692280"/>
          </a:xfrm>
          <a:prstGeom prst="rect">
            <a:avLst/>
          </a:prstGeom>
          <a:solidFill>
            <a:srgbClr val="96daea"/>
          </a:solidFill>
          <a:ln w="9360">
            <a:solidFill>
              <a:srgbClr val="55a4b1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c58d3"/>
                </a:solidFill>
                <a:latin typeface="Times New Roman"/>
              </a:rPr>
              <a:t>Для любознательных…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219320" y="111132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осмотрите как выглядят графики  некоторых других триг. функций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: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964520" y="5726160"/>
            <a:ext cx="20113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 = 1 / cos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x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 или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y=sec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         </a:t>
            </a:r>
            <a:r>
              <a:rPr b="1" lang="en-US" sz="1400" spc="-1" strike="noStrike">
                <a:solidFill>
                  <a:srgbClr val="0000a8"/>
                </a:solidFill>
                <a:latin typeface="Times New Roman"/>
              </a:rPr>
              <a:t>(</a:t>
            </a:r>
            <a:r>
              <a:rPr b="1" lang="ru-RU" sz="1400" spc="-1" strike="noStrike">
                <a:solidFill>
                  <a:srgbClr val="0000a8"/>
                </a:solidFill>
                <a:latin typeface="Times New Roman"/>
              </a:rPr>
              <a:t>читается секонс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300" name="Picture 8" descr="j0076138"/>
          <p:cNvPicPr/>
          <p:nvPr/>
        </p:nvPicPr>
        <p:blipFill>
          <a:blip r:embed="rId1"/>
          <a:stretch/>
        </p:blipFill>
        <p:spPr>
          <a:xfrm>
            <a:off x="152280" y="334800"/>
            <a:ext cx="971640" cy="13716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2"/>
          <a:stretch/>
        </p:blipFill>
        <p:spPr>
          <a:xfrm>
            <a:off x="609480" y="1706400"/>
            <a:ext cx="3856320" cy="38563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"/>
          <p:cNvPicPr/>
          <p:nvPr/>
        </p:nvPicPr>
        <p:blipFill>
          <a:blip r:embed="rId3"/>
          <a:stretch/>
        </p:blipFill>
        <p:spPr>
          <a:xfrm>
            <a:off x="4800600" y="1706400"/>
            <a:ext cx="3733920" cy="385632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1"/>
          <p:cNvSpPr/>
          <p:nvPr/>
        </p:nvSpPr>
        <p:spPr>
          <a:xfrm>
            <a:off x="5713560" y="5470560"/>
            <a:ext cx="2160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 = cosec x </a:t>
            </a: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или </a:t>
            </a:r>
            <a:r>
              <a:rPr b="1" lang="en-US" sz="1400" spc="-1" strike="noStrike">
                <a:solidFill>
                  <a:srgbClr val="f80e2a"/>
                </a:solidFill>
                <a:latin typeface="Times New Roman"/>
              </a:rPr>
              <a:t>y= 1/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80e2a"/>
                </a:solidFill>
                <a:latin typeface="Times New Roman"/>
              </a:rPr>
              <a:t>читается косеконс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2" nodeType="afterEffect" fill="hold" presetClass="entr" presetID="23" presetSubtype="28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830960" y="879480"/>
            <a:ext cx="3902400" cy="459720"/>
          </a:xfrm>
          <a:prstGeom prst="rect">
            <a:avLst/>
          </a:prstGeom>
          <a:solidFill>
            <a:srgbClr val="95e3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 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1" lang="en-US" sz="2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7120" y="2895480"/>
            <a:ext cx="4493520" cy="13136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знакопостоянств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g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&lt;0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и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x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545472"/>
                </a:solidFill>
                <a:latin typeface="MS Shell Dlg"/>
              </a:rPr>
              <a:t>(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0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), 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55" name="Object 1024"/>
          <p:cNvGraphicFramePr/>
          <p:nvPr/>
        </p:nvGraphicFramePr>
        <p:xfrm>
          <a:off x="7505640" y="1523880"/>
          <a:ext cx="114480" cy="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5640" y="1523880"/>
                    <a:ext cx="114480" cy="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025"/>
          <p:cNvGraphicFramePr/>
          <p:nvPr/>
        </p:nvGraphicFramePr>
        <p:xfrm>
          <a:off x="5029200" y="1752480"/>
          <a:ext cx="3849840" cy="380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84984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8"/>
          <p:cNvSpPr/>
          <p:nvPr/>
        </p:nvSpPr>
        <p:spPr>
          <a:xfrm>
            <a:off x="7569360" y="304812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510516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0" y="25909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6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возрастает на промежутках 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4724280" y="1905120"/>
          <a:ext cx="411480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05120"/>
                    <a:ext cx="411480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7"/>
          <p:cNvSpPr/>
          <p:nvPr/>
        </p:nvSpPr>
        <p:spPr>
          <a:xfrm>
            <a:off x="7813800" y="3332160"/>
            <a:ext cx="785880" cy="276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Arial Unicode MS"/>
              </a:rPr>
              <a:t>y = 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66600" y="990360"/>
            <a:ext cx="5715000" cy="5331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</a:rPr>
              <a:t> x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0" y="2819520"/>
            <a:ext cx="4495680" cy="10087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Промежутки монотонности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функция убывает на промежутках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вида: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2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;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r>
              <a:rPr b="1" lang="en-US" sz="2000" spc="-1" strike="noStrike">
                <a:solidFill>
                  <a:srgbClr val="545472"/>
                </a:solidFill>
                <a:latin typeface="Symbol"/>
                <a:ea typeface="Symbol"/>
              </a:rPr>
              <a:t>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24280" y="1752480"/>
            <a:ext cx="4229280" cy="4229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>
            <a:off x="7848360" y="309888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=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680" y="834840"/>
            <a:ext cx="4724640" cy="46332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920" y="2362320"/>
            <a:ext cx="2670840" cy="109224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7. Точки экстремума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ах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Х</a:t>
            </a:r>
            <a:r>
              <a:rPr b="1" lang="ru-RU" sz="2000" spc="-1" strike="noStrike" baseline="-25000">
                <a:solidFill>
                  <a:srgbClr val="545472"/>
                </a:solidFill>
                <a:latin typeface="Times New Roman"/>
              </a:rPr>
              <a:t>м</a:t>
            </a:r>
            <a:r>
              <a:rPr b="1" lang="en-US" sz="2000" spc="-1" strike="noStrike" baseline="-25000">
                <a:solidFill>
                  <a:srgbClr val="545472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-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/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2 +2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74" name="Object 7"/>
          <p:cNvGraphicFramePr/>
          <p:nvPr/>
        </p:nvGraphicFramePr>
        <p:xfrm>
          <a:off x="4343400" y="1828800"/>
          <a:ext cx="395928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828800"/>
                    <a:ext cx="395928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7316280" y="320040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3131b"/>
                </a:solidFill>
                <a:latin typeface="Times New Roman"/>
              </a:rPr>
              <a:t>y=sin x</a:t>
            </a:r>
            <a:endParaRPr b="1" lang="en-US" sz="12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360" y="914400"/>
            <a:ext cx="4784760" cy="4572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войства функции у =</a:t>
            </a:r>
            <a:r>
              <a:rPr b="1" i="1" lang="en-US" sz="2400" spc="-1" strike="noStrike">
                <a:solidFill>
                  <a:srgbClr val="ff0066"/>
                </a:solidFill>
                <a:latin typeface="Times New Roman"/>
              </a:rPr>
              <a:t>sin x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63920" y="2362320"/>
            <a:ext cx="2626920" cy="7038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45472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Область значений: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Е(у) = 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545472"/>
                </a:solidFill>
                <a:latin typeface="Times New Roman"/>
              </a:rPr>
              <a:t>-1;1</a:t>
            </a:r>
            <a:r>
              <a:rPr b="1" lang="ru-RU" sz="2000" spc="-1" strike="noStrike">
                <a:solidFill>
                  <a:srgbClr val="545472"/>
                </a:solidFill>
                <a:latin typeface="Symbol"/>
                <a:ea typeface="Symbol"/>
              </a:rPr>
              <a:t></a:t>
            </a: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graphicFrame>
        <p:nvGraphicFramePr>
          <p:cNvPr id="180" name="Object 8"/>
          <p:cNvGraphicFramePr/>
          <p:nvPr/>
        </p:nvGraphicFramePr>
        <p:xfrm>
          <a:off x="3989520" y="1752480"/>
          <a:ext cx="43923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9520" y="1752480"/>
                    <a:ext cx="43923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9"/>
          <p:cNvSpPr/>
          <p:nvPr/>
        </p:nvSpPr>
        <p:spPr>
          <a:xfrm>
            <a:off x="7324560" y="3211560"/>
            <a:ext cx="8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y = sin x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3" name="AutoShape 12">
            <a:hlinkClick r:id="" action="ppaction://hlinkshowjump?jump=firstslide"/>
          </p:cNvPr>
          <p:cNvSpPr/>
          <p:nvPr/>
        </p:nvSpPr>
        <p:spPr>
          <a:xfrm>
            <a:off x="2438280" y="6400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1219320"/>
            <a:ext cx="5715000" cy="76176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</a:t>
            </a:r>
            <a:br>
              <a:rPr sz="2400"/>
            </a:b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057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+в)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-в) единиц вдоль оси абсцисс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График функции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 (x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)+а получается из графика функции  у = </a:t>
            </a:r>
            <a:r>
              <a:rPr b="1" lang="en-US" sz="2000" spc="-1" strike="noStrike">
                <a:solidFill>
                  <a:srgbClr val="13131b"/>
                </a:solidFill>
                <a:latin typeface="Times New Roman"/>
              </a:rPr>
              <a:t>f(x) </a:t>
            </a:r>
            <a:r>
              <a:rPr b="1" lang="ru-RU" sz="2000" spc="-1" strike="noStrike">
                <a:solidFill>
                  <a:srgbClr val="13131b"/>
                </a:solidFill>
                <a:latin typeface="Times New Roman"/>
              </a:rPr>
              <a:t>параллельным переносом на (а) единиц вдоль оси ординат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AutoShape 4">
            <a:hlinkClick r:id="" action="ppaction://hlinkshowjump?jump=previousslide"/>
          </p:cNvPr>
          <p:cNvSpPr/>
          <p:nvPr/>
        </p:nvSpPr>
        <p:spPr>
          <a:xfrm>
            <a:off x="3808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7493"/>
                </a:moveTo>
                <a:lnTo>
                  <a:pt x="10001" y="7493"/>
                </a:lnTo>
                <a:lnTo>
                  <a:pt x="10001" y="12828"/>
                </a:lnTo>
                <a:cubicBezTo>
                  <a:pt x="10001" y="13751"/>
                  <a:pt x="10802" y="14482"/>
                  <a:pt x="11838" y="14482"/>
                </a:cubicBezTo>
                <a:lnTo>
                  <a:pt x="13500" y="14482"/>
                </a:lnTo>
                <a:cubicBezTo>
                  <a:pt x="14536" y="14482"/>
                  <a:pt x="15336" y="13751"/>
                  <a:pt x="15336" y="12828"/>
                </a:cubicBezTo>
                <a:lnTo>
                  <a:pt x="15336" y="7493"/>
                </a:lnTo>
                <a:lnTo>
                  <a:pt x="13500" y="7493"/>
                </a:lnTo>
                <a:lnTo>
                  <a:pt x="17008" y="3985"/>
                </a:lnTo>
                <a:lnTo>
                  <a:pt x="20681" y="7493"/>
                </a:lnTo>
                <a:lnTo>
                  <a:pt x="18844" y="7493"/>
                </a:lnTo>
                <a:lnTo>
                  <a:pt x="18844" y="12828"/>
                </a:lnTo>
                <a:cubicBezTo>
                  <a:pt x="18844" y="15596"/>
                  <a:pt x="16268" y="18155"/>
                  <a:pt x="13500" y="18155"/>
                </a:cubicBezTo>
                <a:lnTo>
                  <a:pt x="11838" y="18155"/>
                </a:lnTo>
                <a:cubicBezTo>
                  <a:pt x="9070" y="18155"/>
                  <a:pt x="6494" y="15596"/>
                  <a:pt x="6494" y="12828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pic>
        <p:nvPicPr>
          <p:cNvPr id="188" name="Picture 5" descr="bd13742_"/>
          <p:cNvPicPr/>
          <p:nvPr/>
        </p:nvPicPr>
        <p:blipFill>
          <a:blip r:embed="rId3"/>
          <a:stretch/>
        </p:blipFill>
        <p:spPr>
          <a:xfrm>
            <a:off x="990720" y="1219320"/>
            <a:ext cx="388800" cy="639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7302600" y="5867280"/>
            <a:ext cx="1547640" cy="560520"/>
          </a:xfrm>
          <a:prstGeom prst="rect">
            <a:avLst/>
          </a:prstGeom>
          <a:solidFill>
            <a:srgbClr val="d5f4f7"/>
          </a:solidFill>
          <a:ln w="9360">
            <a:solidFill>
              <a:srgbClr val="0000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953240" cy="914400"/>
          </a:xfrm>
          <a:prstGeom prst="rect">
            <a:avLst/>
          </a:prstGeom>
          <a:solidFill>
            <a:srgbClr val="95e3eb"/>
          </a:solidFill>
          <a:ln w="9360">
            <a:solidFill>
              <a:srgbClr val="0000e8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Преобразование графиков тригонометрических функций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066680" y="1496880"/>
            <a:ext cx="7010640" cy="43704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4"/>
          <p:cNvSpPr/>
          <p:nvPr/>
        </p:nvSpPr>
        <p:spPr>
          <a:xfrm>
            <a:off x="8458200" y="5867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13131b"/>
              </a:buClr>
              <a:buSzPct val="9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1600" y="1828800"/>
            <a:ext cx="2362320" cy="609480"/>
          </a:xfrm>
          <a:prstGeom prst="rect">
            <a:avLst/>
          </a:prstGeom>
          <a:solidFill>
            <a:srgbClr val="d5f4f7"/>
          </a:solidFill>
          <a:ln w="28440">
            <a:solidFill>
              <a:srgbClr val="cd0f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Постройте график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45472"/>
                </a:solidFill>
                <a:latin typeface="Times New Roman"/>
              </a:rPr>
              <a:t>Функции у =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sin(x+</a:t>
            </a:r>
            <a:r>
              <a:rPr b="1" lang="ru-RU" sz="1400" spc="-1" strike="noStrike">
                <a:solidFill>
                  <a:srgbClr val="545472"/>
                </a:solidFill>
                <a:latin typeface="Symbol"/>
                <a:ea typeface="Symbol"/>
              </a:rPr>
              <a:t></a:t>
            </a:r>
            <a:r>
              <a:rPr b="1" lang="en-US" sz="1400" spc="-1" strike="noStrike">
                <a:solidFill>
                  <a:srgbClr val="545472"/>
                </a:solidFill>
                <a:latin typeface="Times New Roman"/>
              </a:rPr>
              <a:t>/4)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7400880" y="5891040"/>
            <a:ext cx="1055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вспомнить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13131b"/>
                </a:solidFill>
                <a:latin typeface="Times New Roman"/>
              </a:rPr>
              <a:t>правила 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13131b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6:55:35Z</dcterms:created>
  <dc:creator>Слушатель Центра Интернет-образование</dc:creator>
  <dc:description/>
  <dc:language>en-US</dc:language>
  <cp:lastModifiedBy>LEGION</cp:lastModifiedBy>
  <dcterms:modified xsi:type="dcterms:W3CDTF">2015-01-23T13:21:50Z</dcterms:modified>
  <cp:revision>21</cp:revision>
  <dc:subject/>
  <dc:title>Графики тригонометрических функций </dc:title>
</cp:coreProperties>
</file>