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wmf" ContentType="image/x-wmf"/>
  <Override PartName="/ppt/media/image21.gif" ContentType="image/gif"/>
  <Override PartName="/ppt/media/image14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7.wmf" ContentType="image/x-wmf"/>
  <Override PartName="/ppt/media/image12.png" ContentType="image/png"/>
  <Override PartName="/ppt/media/image27.gif" ContentType="image/gif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B3CB-976C-4A9A-85CA-D12921F70782}" type="datetime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11D2-034C-4AC1-8E5C-F469DAA68FEE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05CD-BAC9-4C1A-BCF9-5E6361652775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CFCE-59CA-4618-A0D7-8064D343AB7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7506-14FD-4F88-8FBE-B507ED5E1958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1664-0A98-44F7-9ED6-D857999FA132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F1D8-414D-4358-A742-6C31756ECA9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3FF8-F99C-4B39-8120-B75D357311DD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30C1-37DF-417E-A94E-3CDD36EB8F66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6172-951D-488D-A1B0-E76E889BF4F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0" i="1" lang="ru-RU" sz="12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0" i="1" lang="en-US" sz="12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0" i="1" lang="en-US" sz="1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синусои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BC08-0FB6-46DA-A08F-390ADCE1146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3E2A-DE54-41A0-80DB-65020BFE17F5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9CA5-36D5-4EAC-8267-F71FB9615EB2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37F9-996C-4068-8579-04776F7114B5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55C4-407D-48BE-BFA2-20EED579FBC8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7DCE-E636-423F-81B1-3872E5A0E53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9C5D-458B-487D-8DA4-DC75F9060B82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1891-DAFC-42CB-A58D-239C8FC63E83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A8CD-B8F5-455B-A276-490224D3A0A4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998A-2DD0-4793-8721-3933B4930626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3388-66F1-45CF-9FFE-6FDBEC79540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BE99-1D66-4999-A961-1F25E5C9782A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B932-91F1-405E-841C-2A982B976DD3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CB8A-BA79-4EC7-BF70-D6E1E3BAE5A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E9BE-4F33-47F9-8852-A149B1BA8C77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7B46-72BE-46D9-9CD0-034BFF825EB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3E9A-1A0E-4E54-99B9-8E8D4F7DB13C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0D02-B1D3-4C8D-9134-3404FEBEA54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7DDF-FADB-44EA-9804-BB5A09E69180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3D35-9E53-4717-86BF-31CC327A33E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2b2b2"/>
                </a:solidFill>
                <a:latin typeface="Times New Roman"/>
              </a:rPr>
              <a:t>Для любознательных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4D88-B7C4-4CE6-96B9-AC0B1428007A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3082-0A4F-465A-A770-6C35F123779A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C3CA-F394-4D90-9818-BB5AE41B0386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158B-3FEF-48B8-92EA-C2ECBB90CBF4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14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8D96-1C59-4B9F-92A8-475C415F814A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3A6F-B3BE-48B4-B557-4BBC0D4001C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8619-581C-4ADA-AD29-F375779E17E4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1F91-DC3B-46BB-94A8-70F90E0170F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9B10-5445-4D20-83A6-8A886E41C9D0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9077-6F81-425C-9769-5E9CB0DA6DF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1400"/>
            </a:b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A301-9969-43AA-A655-0BC3D58DE8E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F28B-F661-42D4-AAC1-A051FC221CE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21ED-BF9F-49A3-A5DD-7FDC95E172D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0707-5D90-4D28-8356-C61750A646F4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491-5592-45D4-8D30-92EA9AD2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19A-2396-45F7-A276-118CC2E1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DFE-0795-4838-AC0F-DB41D433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F78-A1B4-4BF0-B3C5-ECCAF0A2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6D40-0CBB-455A-A82D-C7A0464D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594D-93B3-41F3-BEC7-60F6E838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46DE-B77D-4FF0-98A0-4074E00B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458E-52F2-4D5C-8201-B991EFF0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4FC4-5A37-41B2-89E9-C39F1CBF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144C-FE31-4FA8-8598-69CF77F5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8653-5EC0-4EB3-9957-83FABC65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A79-4F4D-4183-8EAB-4A8C0515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B43E-BF19-492E-8E60-3EFEAA9A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9BA2-887A-4520-A8D9-19018FA4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B5FB-395A-4A6C-914D-60B4D800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6190-1BAE-4FD6-BC4D-4438A75F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D23D-A38E-443B-9825-631D8061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BB3-C4C1-4C9B-A162-3216C366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845-5BC3-4746-AFB2-DCEDABA2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08B-C66D-4263-8541-1779C32C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4EE-D7D7-488B-A970-8BF5E735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CF9-4125-4D94-9B9E-17C5BCE2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F81-1E26-47B9-96E5-E7AC8A21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34E-8C8B-4CEE-8C86-204B15B3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C437-B575-42F6-8591-9D9DF1B84872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86E8-68CD-4D38-9B75-2A827D99C59D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44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228600" y="2671920"/>
          <a:ext cx="2438280" cy="23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71920"/>
                    <a:ext cx="243828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6"/>
          <p:cNvSpPr/>
          <p:nvPr/>
        </p:nvSpPr>
        <p:spPr>
          <a:xfrm>
            <a:off x="3048120" y="2133720"/>
            <a:ext cx="58672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4" action="ppaction://hlinksldjump"/>
              </a:rPr>
              <a:t>Функция у =</a:t>
            </a:r>
            <a:r>
              <a:rPr b="1" lang="en-US" sz="2400" spc="-1" strike="noStrike" u="sng">
                <a:solidFill>
                  <a:srgbClr val="0000e8"/>
                </a:solidFill>
                <a:uFillTx/>
                <a:latin typeface="Arial Unicode MS"/>
                <a:hlinkClick r:id="rId5" action="ppaction://hlinksldjump"/>
              </a:rPr>
              <a:t> sin x,</a:t>
            </a: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6" action="ppaction://hlinksldjump"/>
              </a:rPr>
              <a:t> ее свойств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функций путем параллельного перенос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 функций путем сжатия и расширения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Для любознательных…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705720" cy="4113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5562720" y="2971800"/>
            <a:ext cx="129528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447920" y="167652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1828800" y="2286000"/>
            <a:ext cx="1447920" cy="609480"/>
          </a:xfrm>
          <a:prstGeom prst="rect">
            <a:avLst/>
          </a:prstGeom>
          <a:solidFill>
            <a:srgbClr val="f0f6f8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295280" y="1494000"/>
            <a:ext cx="6400800" cy="4479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1600200" y="1703520"/>
            <a:ext cx="1676520" cy="88740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829160" y="2071800"/>
            <a:ext cx="11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523880" y="17035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867280" y="3124080"/>
            <a:ext cx="114300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36"/>
          <p:cNvSpPr/>
          <p:nvPr/>
        </p:nvSpPr>
        <p:spPr>
          <a:xfrm>
            <a:off x="7620120" y="5362560"/>
            <a:ext cx="151596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2" name="Picture 1030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0800" cy="4419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31"/>
          <p:cNvSpPr/>
          <p:nvPr/>
        </p:nvSpPr>
        <p:spPr>
          <a:xfrm>
            <a:off x="5794200" y="2070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Arial Unicode MS"/>
              </a:rPr>
              <a:t>y= sin x 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4" name="Text Box 1032"/>
          <p:cNvSpPr/>
          <p:nvPr/>
        </p:nvSpPr>
        <p:spPr>
          <a:xfrm>
            <a:off x="1660680" y="5194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5" name="Rectangle 1033"/>
          <p:cNvSpPr/>
          <p:nvPr/>
        </p:nvSpPr>
        <p:spPr>
          <a:xfrm>
            <a:off x="1660680" y="519444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2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6" name="Text Box 1034"/>
          <p:cNvSpPr/>
          <p:nvPr/>
        </p:nvSpPr>
        <p:spPr>
          <a:xfrm>
            <a:off x="7621560" y="536256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7" name="AutoShape 1035"/>
          <p:cNvSpPr/>
          <p:nvPr/>
        </p:nvSpPr>
        <p:spPr>
          <a:xfrm>
            <a:off x="8678880" y="5499000"/>
            <a:ext cx="457200" cy="344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4520"/>
              <a:gd name="textAreaBottom" fmla="*/ 322200 h 344520"/>
            </a:gdLst>
            <a:ahLst/>
            <a:rect l="textAreaLeft" t="textAreaTop" r="textAreaRight" b="textAreaBottom"/>
            <a:pathLst>
              <a:path w="28657" h="21600">
                <a:moveTo>
                  <a:pt x="0" y="0"/>
                </a:moveTo>
                <a:lnTo>
                  <a:pt x="28657" y="0"/>
                </a:lnTo>
                <a:lnTo>
                  <a:pt x="28657" y="21600"/>
                </a:lnTo>
                <a:lnTo>
                  <a:pt x="0" y="21600"/>
                </a:lnTo>
                <a:close/>
              </a:path>
              <a:path fill="lightenLess" w="28657" h="21600">
                <a:moveTo>
                  <a:pt x="0" y="0"/>
                </a:moveTo>
                <a:lnTo>
                  <a:pt x="28657" y="0"/>
                </a:lnTo>
                <a:lnTo>
                  <a:pt x="27257" y="1400"/>
                </a:lnTo>
                <a:lnTo>
                  <a:pt x="1400" y="1400"/>
                </a:lnTo>
                <a:close/>
              </a:path>
              <a:path fill="darken" w="28657" h="21600">
                <a:moveTo>
                  <a:pt x="28657" y="0"/>
                </a:moveTo>
                <a:lnTo>
                  <a:pt x="28657" y="21600"/>
                </a:lnTo>
                <a:lnTo>
                  <a:pt x="27257" y="20200"/>
                </a:lnTo>
                <a:lnTo>
                  <a:pt x="27257" y="1400"/>
                </a:lnTo>
                <a:close/>
              </a:path>
              <a:path fill="darkenLess" w="28657" h="21600">
                <a:moveTo>
                  <a:pt x="28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7" y="20200"/>
                </a:lnTo>
                <a:close/>
              </a:path>
              <a:path fill="lighten" w="28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7" h="21600">
                <a:moveTo>
                  <a:pt x="7322" y="10800"/>
                </a:moveTo>
                <a:lnTo>
                  <a:pt x="21335" y="3794"/>
                </a:lnTo>
                <a:lnTo>
                  <a:pt x="2133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96840" y="914400"/>
            <a:ext cx="718380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ко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4343400"/>
            <a:ext cx="3048120" cy="70380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ечислите свойства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и у =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305240" cy="4305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609480" y="2633760"/>
            <a:ext cx="2835360" cy="398880"/>
          </a:xfrm>
          <a:prstGeom prst="rect">
            <a:avLst/>
          </a:prstGeom>
          <a:solidFill>
            <a:srgbClr val="aceffa"/>
          </a:solidFill>
          <a:ln w="1260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i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)=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3" name="AutoShape 9">
            <a:hlinkClick r:id="" action="ppaction://hlinkshowjump?jump=firstslide"/>
          </p:cNvPr>
          <p:cNvSpPr/>
          <p:nvPr/>
        </p:nvSpPr>
        <p:spPr>
          <a:xfrm>
            <a:off x="2362320" y="6324480"/>
            <a:ext cx="320400" cy="381240"/>
          </a:xfrm>
          <a:custGeom>
            <a:avLst/>
            <a:gdLst>
              <a:gd name="textAreaLeft" fmla="*/ 20520 w 320400"/>
              <a:gd name="textAreaRight" fmla="*/ 299880 w 320400"/>
              <a:gd name="textAreaTop" fmla="*/ 20520 h 381240"/>
              <a:gd name="textAreaBottom" fmla="*/ 360720 h 38124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  <a:path fill="darken" w="21600" h="25697">
                <a:moveTo>
                  <a:pt x="3794" y="12848"/>
                </a:moveTo>
                <a:lnTo>
                  <a:pt x="17806" y="5842"/>
                </a:lnTo>
                <a:lnTo>
                  <a:pt x="17806" y="19855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095880" cy="13716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69960" y="2556000"/>
            <a:ext cx="7772400" cy="25905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7" name="Picture 8" descr="bd15354_"/>
          <p:cNvPicPr/>
          <p:nvPr/>
        </p:nvPicPr>
        <p:blipFill>
          <a:blip r:embed="rId4"/>
          <a:stretch/>
        </p:blipFill>
        <p:spPr>
          <a:xfrm>
            <a:off x="669960" y="10666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>
            <a:hlinkClick r:id="" action="ppaction://hlinkshowjump?jump=previousslide"/>
          </p:cNvPr>
          <p:cNvSpPr/>
          <p:nvPr/>
        </p:nvSpPr>
        <p:spPr>
          <a:xfrm>
            <a:off x="36504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1"/>
          <p:cNvSpPr/>
          <p:nvPr/>
        </p:nvSpPr>
        <p:spPr>
          <a:xfrm>
            <a:off x="7315200" y="5715000"/>
            <a:ext cx="137952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669960" y="1763640"/>
            <a:ext cx="7543800" cy="39513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166440" y="301320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b80e"/>
                </a:solidFill>
                <a:latin typeface="Times New Roman"/>
              </a:rPr>
              <a:t>y=sin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396400" y="19810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ff6"/>
                </a:solidFill>
                <a:latin typeface="Times New Roman"/>
              </a:rPr>
              <a:t>y=sin4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7071840" y="404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a0c9d"/>
                </a:solidFill>
                <a:latin typeface="Times New Roman"/>
              </a:rPr>
              <a:t>Y=sin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7316640" y="571500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8373960" y="5715000"/>
            <a:ext cx="320760" cy="293760"/>
          </a:xfrm>
          <a:custGeom>
            <a:avLst/>
            <a:gdLst>
              <a:gd name="textAreaLeft" fmla="*/ 18720 w 320760"/>
              <a:gd name="textAreaRight" fmla="*/ 302040 w 32076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3583" h="21600">
                <a:moveTo>
                  <a:pt x="0" y="0"/>
                </a:moveTo>
                <a:lnTo>
                  <a:pt x="23583" y="0"/>
                </a:lnTo>
                <a:lnTo>
                  <a:pt x="23583" y="21600"/>
                </a:lnTo>
                <a:lnTo>
                  <a:pt x="0" y="21600"/>
                </a:lnTo>
                <a:close/>
              </a:path>
              <a:path fill="lightenLess" w="23583" h="21600">
                <a:moveTo>
                  <a:pt x="0" y="0"/>
                </a:moveTo>
                <a:lnTo>
                  <a:pt x="23583" y="0"/>
                </a:lnTo>
                <a:lnTo>
                  <a:pt x="22183" y="1400"/>
                </a:lnTo>
                <a:lnTo>
                  <a:pt x="1400" y="1400"/>
                </a:lnTo>
                <a:close/>
              </a:path>
              <a:path fill="darken" w="23583" h="21600">
                <a:moveTo>
                  <a:pt x="23583" y="0"/>
                </a:moveTo>
                <a:lnTo>
                  <a:pt x="23583" y="21600"/>
                </a:lnTo>
                <a:lnTo>
                  <a:pt x="22183" y="20200"/>
                </a:lnTo>
                <a:lnTo>
                  <a:pt x="22183" y="1400"/>
                </a:lnTo>
                <a:close/>
              </a:path>
              <a:path fill="darkenLess" w="23583" h="21600">
                <a:moveTo>
                  <a:pt x="23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3" y="20200"/>
                </a:lnTo>
                <a:close/>
              </a:path>
              <a:path fill="lighten" w="23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3" h="21600">
                <a:moveTo>
                  <a:pt x="4785" y="10800"/>
                </a:moveTo>
                <a:lnTo>
                  <a:pt x="18798" y="3794"/>
                </a:lnTo>
                <a:lnTo>
                  <a:pt x="18798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943600" cy="12189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43" name="Picture 5" descr="BD15018_"/>
          <p:cNvPicPr/>
          <p:nvPr/>
        </p:nvPicPr>
        <p:blipFill>
          <a:blip r:embed="rId4"/>
          <a:stretch/>
        </p:blipFill>
        <p:spPr>
          <a:xfrm>
            <a:off x="939960" y="3352680"/>
            <a:ext cx="171360" cy="171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BD15018_"/>
          <p:cNvPicPr/>
          <p:nvPr/>
        </p:nvPicPr>
        <p:blipFill>
          <a:blip r:embed="rId5"/>
          <a:stretch/>
        </p:blipFill>
        <p:spPr>
          <a:xfrm>
            <a:off x="939960" y="39625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bd15354_"/>
          <p:cNvPicPr/>
          <p:nvPr/>
        </p:nvPicPr>
        <p:blipFill>
          <a:blip r:embed="rId6"/>
          <a:stretch/>
        </p:blipFill>
        <p:spPr>
          <a:xfrm>
            <a:off x="762120" y="1249200"/>
            <a:ext cx="388800" cy="6400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3"/>
          <p:cNvSpPr/>
          <p:nvPr/>
        </p:nvSpPr>
        <p:spPr>
          <a:xfrm>
            <a:off x="5851440" y="6297480"/>
            <a:ext cx="1285920" cy="45720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943600" cy="114300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4039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6257520" y="3211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2dca"/>
                </a:solidFill>
                <a:latin typeface="Times New Roman"/>
              </a:rPr>
              <a:t>y = 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257520" y="443088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cos 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5853240" y="629748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6910560" y="6450120"/>
            <a:ext cx="226800" cy="304560"/>
          </a:xfrm>
          <a:custGeom>
            <a:avLst/>
            <a:gdLst>
              <a:gd name="textAreaLeft" fmla="*/ 14400 w 226800"/>
              <a:gd name="textAreaRight" fmla="*/ 212400 w 226800"/>
              <a:gd name="textAreaTop" fmla="*/ 14400 h 304560"/>
              <a:gd name="textAreaBottom" fmla="*/ 290160 h 304560"/>
            </a:gdLst>
            <a:ahLst/>
            <a:rect l="textAreaLeft" t="textAreaTop" r="textAreaRight" b="textAreaBottom"/>
            <a:pathLst>
              <a:path w="21600" h="28994">
                <a:moveTo>
                  <a:pt x="0" y="0"/>
                </a:moveTo>
                <a:lnTo>
                  <a:pt x="21600" y="0"/>
                </a:lnTo>
                <a:lnTo>
                  <a:pt x="21600" y="28994"/>
                </a:lnTo>
                <a:lnTo>
                  <a:pt x="0" y="28994"/>
                </a:lnTo>
                <a:close/>
              </a:path>
              <a:path fill="lightenLess" w="21600" h="28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94">
                <a:moveTo>
                  <a:pt x="21600" y="0"/>
                </a:moveTo>
                <a:lnTo>
                  <a:pt x="21600" y="28994"/>
                </a:lnTo>
                <a:lnTo>
                  <a:pt x="20200" y="27594"/>
                </a:lnTo>
                <a:lnTo>
                  <a:pt x="20200" y="1400"/>
                </a:lnTo>
                <a:close/>
              </a:path>
              <a:path fill="darkenLess" w="21600" h="28994">
                <a:moveTo>
                  <a:pt x="21600" y="28994"/>
                </a:moveTo>
                <a:lnTo>
                  <a:pt x="0" y="28994"/>
                </a:lnTo>
                <a:lnTo>
                  <a:pt x="1400" y="27594"/>
                </a:lnTo>
                <a:lnTo>
                  <a:pt x="20200" y="27594"/>
                </a:lnTo>
                <a:close/>
              </a:path>
              <a:path fill="lighten" w="21600" h="28994">
                <a:moveTo>
                  <a:pt x="0" y="28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94"/>
                </a:lnTo>
                <a:close/>
              </a:path>
              <a:path fill="darken" w="21600" h="28994">
                <a:moveTo>
                  <a:pt x="3794" y="14497"/>
                </a:moveTo>
                <a:lnTo>
                  <a:pt x="17806" y="7491"/>
                </a:lnTo>
                <a:lnTo>
                  <a:pt x="17806" y="21503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669960" y="274320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и функций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-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и у=-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(x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ются из графиков функций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k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y= k 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оответственно   путем их зеркального отображения относительно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инус – функция нечетная, поэтому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sin(-kx) = - sin 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косинус –функция четная, значит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cos(-kx) = cos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58" name="Picture 8" descr="bd13742_"/>
          <p:cNvPicPr/>
          <p:nvPr/>
        </p:nvPicPr>
        <p:blipFill>
          <a:blip r:embed="rId3"/>
          <a:stretch/>
        </p:blipFill>
        <p:spPr>
          <a:xfrm>
            <a:off x="658800" y="16462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9">
            <a:hlinkClick r:id="" action="ppaction://hlinkshowjump?jump=previousslide"/>
          </p:cNvPr>
          <p:cNvSpPr/>
          <p:nvPr/>
        </p:nvSpPr>
        <p:spPr>
          <a:xfrm>
            <a:off x="3538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1"/>
          <p:cNvSpPr/>
          <p:nvPr/>
        </p:nvSpPr>
        <p:spPr>
          <a:xfrm>
            <a:off x="6208560" y="6172200"/>
            <a:ext cx="1463760" cy="522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418680"/>
            <a:ext cx="64008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990720" y="1763640"/>
            <a:ext cx="7238880" cy="4370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6507720" y="236232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y = </a:t>
            </a:r>
            <a:r>
              <a:rPr b="1" lang="ru-RU" sz="1400" spc="-1" strike="noStrike">
                <a:solidFill>
                  <a:srgbClr val="0725a5"/>
                </a:solidFill>
                <a:latin typeface="Times New Roman"/>
              </a:rPr>
              <a:t>-</a:t>
            </a: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508080" y="51926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 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234120" y="6134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7291440" y="6188040"/>
            <a:ext cx="380880" cy="293760"/>
          </a:xfrm>
          <a:custGeom>
            <a:avLst/>
            <a:gdLst>
              <a:gd name="textAreaLeft" fmla="*/ 18720 w 380880"/>
              <a:gd name="textAreaRight" fmla="*/ 362160 w 38088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98" h="21600">
                <a:moveTo>
                  <a:pt x="6993" y="10800"/>
                </a:moveTo>
                <a:lnTo>
                  <a:pt x="21006" y="3794"/>
                </a:lnTo>
                <a:lnTo>
                  <a:pt x="210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996840" y="914400"/>
            <a:ext cx="684396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sin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9480" y="2590920"/>
            <a:ext cx="3810240" cy="192348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Свойства функци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D(y) =R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иодическая (Т=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ечетная 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-x)=-sin 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ули функции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=0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 x=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х 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49" name="Object 1024"/>
          <p:cNvGraphicFramePr/>
          <p:nvPr/>
        </p:nvGraphicFramePr>
        <p:xfrm>
          <a:off x="4648320" y="1752480"/>
          <a:ext cx="403848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52480"/>
                    <a:ext cx="40384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9"/>
          <p:cNvSpPr/>
          <p:nvPr/>
        </p:nvSpPr>
        <p:spPr>
          <a:xfrm>
            <a:off x="7505640" y="3160800"/>
            <a:ext cx="7066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5646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838080" y="1606680"/>
            <a:ext cx="6934320" cy="41083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6226920" y="25146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19f5"/>
                </a:solidFill>
                <a:latin typeface="Times New Roman"/>
              </a:rPr>
              <a:t>y=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6226920" y="44197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-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6548400" y="5715000"/>
            <a:ext cx="1452600" cy="495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549840" y="56498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7543800" y="5715000"/>
            <a:ext cx="457200" cy="343080"/>
          </a:xfrm>
          <a:custGeom>
            <a:avLst/>
            <a:gdLst>
              <a:gd name="textAreaLeft" fmla="*/ 21960 w 457200"/>
              <a:gd name="textAreaRight" fmla="*/ 435240 w 45720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28777" h="21600">
                <a:moveTo>
                  <a:pt x="0" y="0"/>
                </a:moveTo>
                <a:lnTo>
                  <a:pt x="28777" y="0"/>
                </a:lnTo>
                <a:lnTo>
                  <a:pt x="28777" y="21600"/>
                </a:lnTo>
                <a:lnTo>
                  <a:pt x="0" y="21600"/>
                </a:lnTo>
                <a:close/>
              </a:path>
              <a:path fill="lightenLess" w="28777" h="21600">
                <a:moveTo>
                  <a:pt x="0" y="0"/>
                </a:moveTo>
                <a:lnTo>
                  <a:pt x="28777" y="0"/>
                </a:lnTo>
                <a:lnTo>
                  <a:pt x="27377" y="1400"/>
                </a:lnTo>
                <a:lnTo>
                  <a:pt x="1400" y="1400"/>
                </a:lnTo>
                <a:close/>
              </a:path>
              <a:path fill="darken" w="28777" h="21600">
                <a:moveTo>
                  <a:pt x="28777" y="0"/>
                </a:moveTo>
                <a:lnTo>
                  <a:pt x="28777" y="21600"/>
                </a:lnTo>
                <a:lnTo>
                  <a:pt x="27377" y="20200"/>
                </a:lnTo>
                <a:lnTo>
                  <a:pt x="27377" y="1400"/>
                </a:lnTo>
                <a:close/>
              </a:path>
              <a:path fill="darkenLess" w="28777" h="21600">
                <a:moveTo>
                  <a:pt x="28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7" y="20200"/>
                </a:lnTo>
                <a:close/>
              </a:path>
              <a:path fill="lighten" w="28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7" h="21600">
                <a:moveTo>
                  <a:pt x="7382" y="10800"/>
                </a:moveTo>
                <a:lnTo>
                  <a:pt x="21395" y="3794"/>
                </a:lnTo>
                <a:lnTo>
                  <a:pt x="2139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1218960"/>
            <a:ext cx="609588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у =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kx+b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параллельного переноса на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(-в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/k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единиц вдоль оси абсцисс и путем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ли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 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 kx+b) = f ( k( x+b/k)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80" name="Picture 7" descr="bd15361_"/>
          <p:cNvPicPr/>
          <p:nvPr/>
        </p:nvPicPr>
        <p:blipFill>
          <a:blip r:embed="rId3"/>
          <a:stretch/>
        </p:blipFill>
        <p:spPr>
          <a:xfrm>
            <a:off x="762120" y="172260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7"/>
          <p:cNvSpPr/>
          <p:nvPr/>
        </p:nvSpPr>
        <p:spPr>
          <a:xfrm>
            <a:off x="6497640" y="6221520"/>
            <a:ext cx="1366920" cy="5601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585144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380880" y="163836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4800600" y="16383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8"/>
          <p:cNvSpPr/>
          <p:nvPr/>
        </p:nvSpPr>
        <p:spPr>
          <a:xfrm>
            <a:off x="27417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874600" y="3056040"/>
            <a:ext cx="116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(x+</a:t>
            </a:r>
            <a:r>
              <a:rPr b="1" lang="ru-RU" sz="1400" spc="-1" strike="noStrike">
                <a:solidFill>
                  <a:srgbClr val="0000a8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/6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9112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08680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72219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543080" y="3059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3" name="AutoShape 14">
            <a:hlinkClick r:id="" action="ppaction://hlinkshowjump?jump=firstslide"/>
          </p:cNvPr>
          <p:cNvSpPr/>
          <p:nvPr/>
        </p:nvSpPr>
        <p:spPr>
          <a:xfrm>
            <a:off x="2647800" y="640080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4" name="AutoShape 15">
            <a:hlinkClick r:id="" action="ppaction://hlinkshowjump?jump=firstslide"/>
          </p:cNvPr>
          <p:cNvSpPr/>
          <p:nvPr/>
        </p:nvSpPr>
        <p:spPr>
          <a:xfrm>
            <a:off x="7543800" y="6400800"/>
            <a:ext cx="320760" cy="304920"/>
          </a:xfrm>
          <a:custGeom>
            <a:avLst/>
            <a:gdLst>
              <a:gd name="textAreaLeft" fmla="*/ 19440 w 320760"/>
              <a:gd name="textAreaRight" fmla="*/ 301320 w 320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721" h="21600">
                <a:moveTo>
                  <a:pt x="0" y="0"/>
                </a:moveTo>
                <a:lnTo>
                  <a:pt x="22721" y="0"/>
                </a:lnTo>
                <a:lnTo>
                  <a:pt x="22721" y="21600"/>
                </a:lnTo>
                <a:lnTo>
                  <a:pt x="0" y="21600"/>
                </a:lnTo>
                <a:close/>
              </a:path>
              <a:path fill="lightenLess" w="22721" h="21600">
                <a:moveTo>
                  <a:pt x="0" y="0"/>
                </a:moveTo>
                <a:lnTo>
                  <a:pt x="22721" y="0"/>
                </a:lnTo>
                <a:lnTo>
                  <a:pt x="21321" y="1400"/>
                </a:lnTo>
                <a:lnTo>
                  <a:pt x="1400" y="1400"/>
                </a:lnTo>
                <a:close/>
              </a:path>
              <a:path fill="darken" w="22721" h="21600">
                <a:moveTo>
                  <a:pt x="22721" y="0"/>
                </a:moveTo>
                <a:lnTo>
                  <a:pt x="22721" y="21600"/>
                </a:lnTo>
                <a:lnTo>
                  <a:pt x="21321" y="20200"/>
                </a:lnTo>
                <a:lnTo>
                  <a:pt x="21321" y="1400"/>
                </a:lnTo>
                <a:close/>
              </a:path>
              <a:path fill="darkenLess" w="22721" h="21600">
                <a:moveTo>
                  <a:pt x="22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21" y="20200"/>
                </a:lnTo>
                <a:close/>
              </a:path>
              <a:path fill="lighten" w="22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21" h="21600">
                <a:moveTo>
                  <a:pt x="4354" y="10800"/>
                </a:moveTo>
                <a:lnTo>
                  <a:pt x="18367" y="3794"/>
                </a:lnTo>
                <a:lnTo>
                  <a:pt x="18367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6486480" y="622152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5640" y="334440"/>
            <a:ext cx="5334120" cy="692280"/>
          </a:xfrm>
          <a:prstGeom prst="rect">
            <a:avLst/>
          </a:prstGeom>
          <a:solidFill>
            <a:srgbClr val="96daea"/>
          </a:solidFill>
          <a:ln w="9360">
            <a:solidFill>
              <a:srgbClr val="55a4b1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c58d3"/>
                </a:solidFill>
                <a:latin typeface="Times New Roman"/>
              </a:rPr>
              <a:t>Для любознательных…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219320" y="11113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осмотрите как выглядят графики  некоторых других триг. функций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964520" y="5726160"/>
            <a:ext cx="20113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 = 1 / cos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или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sec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        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читается секонс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300" name="Picture 8" descr="j0076138"/>
          <p:cNvPicPr/>
          <p:nvPr/>
        </p:nvPicPr>
        <p:blipFill>
          <a:blip r:embed="rId1"/>
          <a:stretch/>
        </p:blipFill>
        <p:spPr>
          <a:xfrm>
            <a:off x="152280" y="334800"/>
            <a:ext cx="971640" cy="1371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/>
          <p:cNvPicPr/>
          <p:nvPr/>
        </p:nvPicPr>
        <p:blipFill>
          <a:blip r:embed="rId2"/>
          <a:stretch/>
        </p:blipFill>
        <p:spPr>
          <a:xfrm>
            <a:off x="609480" y="1706400"/>
            <a:ext cx="3856320" cy="3856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"/>
          <p:cNvPicPr/>
          <p:nvPr/>
        </p:nvPicPr>
        <p:blipFill>
          <a:blip r:embed="rId3"/>
          <a:stretch/>
        </p:blipFill>
        <p:spPr>
          <a:xfrm>
            <a:off x="4800600" y="1706400"/>
            <a:ext cx="3733920" cy="38563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1"/>
          <p:cNvSpPr/>
          <p:nvPr/>
        </p:nvSpPr>
        <p:spPr>
          <a:xfrm>
            <a:off x="5713560" y="5470560"/>
            <a:ext cx="2160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 = cosec x </a:t>
            </a: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или </a:t>
            </a: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= 1/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читается косеконс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830960" y="879480"/>
            <a:ext cx="3902400" cy="45972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7120" y="2895480"/>
            <a:ext cx="4493520" cy="13136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знакопостоянств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g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l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x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545472"/>
                </a:solidFill>
                <a:latin typeface="MS Shell Dlg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)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55" name="Object 1024"/>
          <p:cNvGraphicFramePr/>
          <p:nvPr/>
        </p:nvGraphicFramePr>
        <p:xfrm>
          <a:off x="7505640" y="1523880"/>
          <a:ext cx="114480" cy="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5640" y="1523880"/>
                    <a:ext cx="11448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025"/>
          <p:cNvGraphicFramePr/>
          <p:nvPr/>
        </p:nvGraphicFramePr>
        <p:xfrm>
          <a:off x="5029200" y="1752480"/>
          <a:ext cx="3849840" cy="380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752480"/>
                    <a:ext cx="384984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8"/>
          <p:cNvSpPr/>
          <p:nvPr/>
        </p:nvSpPr>
        <p:spPr>
          <a:xfrm>
            <a:off x="7569360" y="30481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10516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25909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возрастает на промежутках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4724280" y="1905120"/>
          <a:ext cx="41148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05120"/>
                    <a:ext cx="41148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7"/>
          <p:cNvSpPr/>
          <p:nvPr/>
        </p:nvSpPr>
        <p:spPr>
          <a:xfrm>
            <a:off x="7813800" y="3332160"/>
            <a:ext cx="7858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 = 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66600" y="990360"/>
            <a:ext cx="571500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28195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убывает на промежутках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229280" cy="4229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7848360" y="30988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09680" y="834840"/>
            <a:ext cx="4724640" cy="4633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3920" y="2362320"/>
            <a:ext cx="2670840" cy="10922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7. Точки экстремум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ах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imes New Roman"/>
              </a:rPr>
              <a:t>i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74" name="Object 7"/>
          <p:cNvGraphicFramePr/>
          <p:nvPr/>
        </p:nvGraphicFramePr>
        <p:xfrm>
          <a:off x="4343400" y="1828800"/>
          <a:ext cx="39592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28800"/>
                    <a:ext cx="39592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7316280" y="32004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4784760" cy="4572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3920" y="2362320"/>
            <a:ext cx="2626920" cy="7038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545472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Область значений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Е(у) =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1;1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80" name="Object 8"/>
          <p:cNvGraphicFramePr/>
          <p:nvPr/>
        </p:nvGraphicFramePr>
        <p:xfrm>
          <a:off x="3989520" y="1752480"/>
          <a:ext cx="43923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9520" y="1752480"/>
                    <a:ext cx="43923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9"/>
          <p:cNvSpPr/>
          <p:nvPr/>
        </p:nvSpPr>
        <p:spPr>
          <a:xfrm>
            <a:off x="7324560" y="321156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3" name="AutoShape 12">
            <a:hlinkClick r:id="" action="ppaction://hlinkshowjump?jump=firstslide"/>
          </p:cNvPr>
          <p:cNvSpPr/>
          <p:nvPr/>
        </p:nvSpPr>
        <p:spPr>
          <a:xfrm>
            <a:off x="24382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12193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AutoShape 4">
            <a:hlinkClick r:id="" action="ppaction://hlinkshowjump?jump=previousslide"/>
          </p:cNvPr>
          <p:cNvSpPr/>
          <p:nvPr/>
        </p:nvSpPr>
        <p:spPr>
          <a:xfrm>
            <a:off x="3808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7493"/>
                </a:moveTo>
                <a:lnTo>
                  <a:pt x="10001" y="7493"/>
                </a:lnTo>
                <a:lnTo>
                  <a:pt x="10001" y="12828"/>
                </a:lnTo>
                <a:cubicBezTo>
                  <a:pt x="10001" y="13751"/>
                  <a:pt x="10802" y="14482"/>
                  <a:pt x="11838" y="14482"/>
                </a:cubicBezTo>
                <a:lnTo>
                  <a:pt x="13500" y="14482"/>
                </a:lnTo>
                <a:cubicBezTo>
                  <a:pt x="14536" y="14482"/>
                  <a:pt x="15336" y="13751"/>
                  <a:pt x="15336" y="12828"/>
                </a:cubicBezTo>
                <a:lnTo>
                  <a:pt x="15336" y="7493"/>
                </a:lnTo>
                <a:lnTo>
                  <a:pt x="13500" y="7493"/>
                </a:lnTo>
                <a:lnTo>
                  <a:pt x="17008" y="3985"/>
                </a:lnTo>
                <a:lnTo>
                  <a:pt x="20681" y="7493"/>
                </a:lnTo>
                <a:lnTo>
                  <a:pt x="18844" y="7493"/>
                </a:lnTo>
                <a:lnTo>
                  <a:pt x="18844" y="12828"/>
                </a:lnTo>
                <a:cubicBezTo>
                  <a:pt x="18844" y="15596"/>
                  <a:pt x="16268" y="18155"/>
                  <a:pt x="13500" y="18155"/>
                </a:cubicBezTo>
                <a:lnTo>
                  <a:pt x="11838" y="18155"/>
                </a:lnTo>
                <a:cubicBezTo>
                  <a:pt x="9070" y="18155"/>
                  <a:pt x="6494" y="15596"/>
                  <a:pt x="6494" y="12828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88" name="Picture 5" descr="bd13742_"/>
          <p:cNvPicPr/>
          <p:nvPr/>
        </p:nvPicPr>
        <p:blipFill>
          <a:blip r:embed="rId3"/>
          <a:stretch/>
        </p:blipFill>
        <p:spPr>
          <a:xfrm>
            <a:off x="990720" y="121932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7302600" y="5867280"/>
            <a:ext cx="154764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4953240" cy="914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066680" y="1496880"/>
            <a:ext cx="7010640" cy="4370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4"/>
          <p:cNvSpPr/>
          <p:nvPr/>
        </p:nvSpPr>
        <p:spPr>
          <a:xfrm>
            <a:off x="8458200" y="5867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371600" y="1828800"/>
            <a:ext cx="2362320" cy="609480"/>
          </a:xfrm>
          <a:prstGeom prst="rect">
            <a:avLst/>
          </a:prstGeom>
          <a:solidFill>
            <a:srgbClr val="d5f4f7"/>
          </a:solidFill>
          <a:ln w="28440">
            <a:solidFill>
              <a:srgbClr val="cd0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 у =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400880" y="5891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6:55:35Z</dcterms:created>
  <dc:creator>Слушатель Центра Интернет-образование</dc:creator>
  <dc:description/>
  <dc:language>en-US</dc:language>
  <cp:lastModifiedBy>LEGION</cp:lastModifiedBy>
  <dcterms:modified xsi:type="dcterms:W3CDTF">2015-01-23T13:21:50Z</dcterms:modified>
  <cp:revision>21</cp:revision>
  <dc:subject/>
  <dc:title>Графики тригонометрических функций </dc:title>
</cp:coreProperties>
</file>