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2DE8-1833-4DFC-B814-6914EEF1284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Приемы устного сч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Бадюк Ольга Ярослав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МКОУ «Москаленский лиц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2986-8A30-4F92-B949-C531F16A9D4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2. Из уменьшаемого вычитают последовательно разряды вычитаемого, начиная с высш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  684 – 45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648 – 458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684 – ( 400 + 50 + 8)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684 – 400 – 50 – 8 = 2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1E58-BFE0-4092-A3F6-A05EB270A9C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3. Если вычитаемое близко к круглому числу, то его заменяем разностью между круглым числом и дополнен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     953 – 1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953 – 197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953 – (200 – 3 )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953 – 200 + 3 = 75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9000-5FFA-4977-BE4D-C1AB03B62E1D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4. Если уменьшаемое и вычитаемое близки к круглому числу, то их заменяют разностью между круглым числом и дополн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   395 – 9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395 -  98 = ( 400 - 5)- (100 - 2)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400 – 100 – 5 + 2 = 2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3CED-0BF4-4DD8-82A7-F9732AE64FE6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ычисли устн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78 – 43=                             182 – 99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587 – 253=                         743 – 198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84 – 35 =                            476 – 94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483 – 126 =                        593 – 294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674 – 138 =                        2538 – 994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3586 – 2168 =                    3560 – 357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922F-A883-45FC-876B-4CD56458C6A9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Литерату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И.И. Чевелев «Приемы устного счета и вычисления на счетных прибора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дательство «просвещение» Москва 196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Виленкин Н.Я,  Жохов В.И, Чесноков А.С, Шварцбурд С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тематика  5 кла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52CF-53DB-4B6B-B4A1-E269AE0AC5C9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Приемы устного слож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1.К первому слагаемому последовательно прибавляют разряды другого слагаемого, начиная с высш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     435 + 35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357 = 300 + 50 +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олучим 435 + 300 + 50 + 7 = 735 + 50 + 7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785 + 7 = 79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оследовательно считаем устно 735, 785, 79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0FE4-6749-401B-B17C-A6A28A48B86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2. К разрядам одного слагаемого прибавляют соответствующие разряды друг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  524 + 26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зобьем на слагаемые 524 = 500 + 20 + 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263 = 200 + 60 + 3      Прибавляем    соответствующие разряды.(500 + 200)+ (20 + 60) + (4 + 3) = 700 + 80 + 7 = 78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оследовательно считаем устно: 700, 780, 78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7220-D8F1-4FC7-A16F-1328BC6597B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3. Пользуясь сочетательным законом сложения, слагаемые разбивают на такие группы, которые в сумме дают круглые чис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42 + 25 + 8 + 5 + 13 + 1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(42 + 8) + ( 25 + 5) + (13 + 17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50 + 30 + 30 = 1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оследовательно считаем устно: 50, 80,1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A661-738B-4B68-94CD-4F1E14743D2D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4. Чтобы прибавить к какому-нибудь числу сумму чисел, можно прибавить к данному числу каждое слагаемое отдель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Пример     863 + ( 346 + 137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863 + 346 + 137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                 </a:t>
            </a: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= 863 + 137 + 346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                                       </a:t>
            </a: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= 1000 + 346 = 134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EC64-81AB-4937-B361-6F0D0F14FE4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5. Если одно слагаемое близко к круглому числу, то его заменяют разностью между круглым числом и дополн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 549 + 9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94 = 100 –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549 + 94 = 549 + ( 100 – 6 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549 + 100 – 6 = 64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D950-5164-44D7-AAE7-B30EDA4B2F2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6. Когда оба слагаемых близки к круглым числам, то их заменяют разностью между круглым числом и дополн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1.    298 + 39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298 + 397 = (300 – 2 ) + ( 400 - 3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300 + 400 – 2 – 3 = 700 – 5 = 6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2.  504 + 49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(500 + 4)+ (500- 3)=500 + 500 + 4 – 3 = 1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F061-3C11-46D5-A55E-04018880E8A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ычисли ус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536 +  532 =                   674 + 97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427 + 268 =                    538 + 298 =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636 + 249 =                    97 + 95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524 + 389 =                    396 + 453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35 + 28 + 5 + 2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135 + 67 + 65 + 23 + 10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640D-7500-4CD0-ACEB-660A3D466239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ычита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Если в уменьшаемом число единиц каждого разряда больше единиц соответствующего разряда вычитаемого, то вычитание выполняется поразряд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Пример 678 – 5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678 – 564 = (600 - 500) + (70 – 60 )+ (8 - 4)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= 100 + 10 + 4 = 11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BD41-BBCB-4E77-98C8-F14B99D9F3B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F2D6-6F55-40FA-BA00-F2B41D70C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758D-BCBD-43B7-91E6-FE43BA9D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1C3A-84EF-4D6E-A284-9DCD57BE4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3662-FC08-4899-B1EA-6AE728FE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AE59-09AC-491E-AF60-ACCB09DF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D8AE-42D5-4150-86E1-C46FCC50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7544-EFEE-445A-8283-EBAD525C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7782-715B-4EA3-9C00-8AA51070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61C6-0385-4212-880C-29DED768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8D05-9D71-4542-95F6-EB0D6CE7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3114-6929-4080-8965-201E561C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50CC-20DD-4FCC-A15C-C0D8E75B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8AFC-183D-4504-89F1-C7FB8166221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EFA7-3BE7-4D58-BD09-0017E1E286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Приемы устного счет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Учитель матема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Бадюк Ольга Ярославн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КОУ «Москаленский лице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2. Из уменьшаемого вычитают последовательно разряды вычитаемого, начиная с высш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  684 – 45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648 – 458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684 – ( 400 + 50 + 8)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684 – 400 – 50 – 8 = 22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Users\user\Downloads\i (2).jpg"/>
          <p:cNvPicPr/>
          <p:nvPr/>
        </p:nvPicPr>
        <p:blipFill>
          <a:blip r:embed="rId1"/>
          <a:stretch/>
        </p:blipFill>
        <p:spPr>
          <a:xfrm>
            <a:off x="684360" y="3716280"/>
            <a:ext cx="1774800" cy="180036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3. Если вычитаемое близко к круглому числу, то его заменяем разностью между круглым числом и дополнение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     953 – 19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953 – 197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953 – (200 – 3 )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953 – 200 + 3 = 75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C:\Users\user\Downloads\i (4).jpg"/>
          <p:cNvPicPr/>
          <p:nvPr/>
        </p:nvPicPr>
        <p:blipFill>
          <a:blip r:embed="rId1"/>
          <a:stretch/>
        </p:blipFill>
        <p:spPr>
          <a:xfrm>
            <a:off x="639720" y="3789360"/>
            <a:ext cx="1862280" cy="17272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4. Если уменьшаемое и вычитаемое близки к круглому числу, то их заменяют разностью между круглым числом и дополнени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   395 – 9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395 -  98 = ( 400 - 5)- (100 - 2)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400 – 100 – 5 + 2 = 29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Вычисли уст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78 – 43=                             182 – 99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587 – 253=                         743 – 198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84 – 35 =                            476 – 94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483 – 126 =                        593 – 294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674 – 138 =                        2538 – 994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3586 – 2168 =                    3560 – 357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Скругленный прямоугольник 3"/>
          <p:cNvSpPr/>
          <p:nvPr/>
        </p:nvSpPr>
        <p:spPr>
          <a:xfrm>
            <a:off x="2916360" y="1484280"/>
            <a:ext cx="1439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3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кругленный прямоугольник 4"/>
          <p:cNvSpPr/>
          <p:nvPr/>
        </p:nvSpPr>
        <p:spPr>
          <a:xfrm>
            <a:off x="2914560" y="218448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33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Скругленный прямоугольник 5"/>
          <p:cNvSpPr/>
          <p:nvPr/>
        </p:nvSpPr>
        <p:spPr>
          <a:xfrm>
            <a:off x="2895480" y="291312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4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Скругленный прямоугольник 6"/>
          <p:cNvSpPr/>
          <p:nvPr/>
        </p:nvSpPr>
        <p:spPr>
          <a:xfrm>
            <a:off x="2916360" y="3727440"/>
            <a:ext cx="1439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35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Скругленный прямоугольник 7"/>
          <p:cNvSpPr/>
          <p:nvPr/>
        </p:nvSpPr>
        <p:spPr>
          <a:xfrm>
            <a:off x="2916360" y="4521240"/>
            <a:ext cx="1439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53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Скругленный прямоугольник 8"/>
          <p:cNvSpPr/>
          <p:nvPr/>
        </p:nvSpPr>
        <p:spPr>
          <a:xfrm>
            <a:off x="2933640" y="5326200"/>
            <a:ext cx="144144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141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Скругленный прямоугольник 9"/>
          <p:cNvSpPr/>
          <p:nvPr/>
        </p:nvSpPr>
        <p:spPr>
          <a:xfrm>
            <a:off x="6951600" y="150804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8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Скругленный прямоугольник 10"/>
          <p:cNvSpPr/>
          <p:nvPr/>
        </p:nvSpPr>
        <p:spPr>
          <a:xfrm>
            <a:off x="6954840" y="2268360"/>
            <a:ext cx="1440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54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кругленный прямоугольник 11"/>
          <p:cNvSpPr/>
          <p:nvPr/>
        </p:nvSpPr>
        <p:spPr>
          <a:xfrm>
            <a:off x="6943680" y="2973240"/>
            <a:ext cx="14414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38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Скругленный прямоугольник 12"/>
          <p:cNvSpPr/>
          <p:nvPr/>
        </p:nvSpPr>
        <p:spPr>
          <a:xfrm>
            <a:off x="6943680" y="3701880"/>
            <a:ext cx="14414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29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Скругленный прямоугольник 13"/>
          <p:cNvSpPr/>
          <p:nvPr/>
        </p:nvSpPr>
        <p:spPr>
          <a:xfrm>
            <a:off x="6975360" y="4516560"/>
            <a:ext cx="144144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154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Скругленный прямоугольник 14"/>
          <p:cNvSpPr/>
          <p:nvPr/>
        </p:nvSpPr>
        <p:spPr>
          <a:xfrm>
            <a:off x="7012080" y="5294160"/>
            <a:ext cx="14414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320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Литератур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И.И. Чевелев «Приемы устного счета и вычисления на счетных приборах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дательство «просвещение» Москва 196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Виленкин Н.Я,  Жохов В.И, Чесноков А.С, Шварцбурд С.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тематика  5 клас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Приемы устного слож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360" y="1341360"/>
            <a:ext cx="836280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1.К первому слагаемому последовательно прибавляют разряды другого слагаемого, начиная с высш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     435 + 35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357 = 300 + 50 +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олучим 435 + 300 + 50 + 7 = 735 + 50 + 7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785 + 7 = 79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оследовательно считаем устно 735, 785, 79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3640" y="981000"/>
            <a:ext cx="85690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2. К разрядам одного слагаемого прибавляют соответствующие разряды друг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  524 + 26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Разобьем на слагаемые 524 = 500 + 20 + 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263 = 200 + 60 + 3      Прибавляем    соответствующие разряды.(500 + 200)+ (20 + 60) + (4 + 3) = 700 + 80 + 7 = 78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оследовательно считаем устно: 700, 780, 78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3. Пользуясь сочетательным законом сложения, слагаемые разбивают на такие группы, которые в сумме дают круглые чис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42 + 25 + 8 + 5 + 13 + 1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(42 + 8) + ( 25 + 5) + (13 + 17)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50 + 30 + 30 = 1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оследовательно считаем устно: 50, 80,1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4. Чтобы прибавить к какому-нибудь числу сумму чисел, можно прибавить к данному числу каждое слагаемое отдельн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Пример     863 + ( 346 + 137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         </a:t>
            </a: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863 + 346 + 137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                 </a:t>
            </a: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= 863 + 137 + 346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                                       </a:t>
            </a: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= 1000 + 346 = 134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5. Если одно слагаемое близко к круглому числу, то его заменяют разностью между круглым числом и дополнени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 549 + 9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94 = 100 – 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549 + 94 = 549 + ( 100 – 6 )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             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549 + 100 – 6 = 64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user\Downloads\i (3).jpg"/>
          <p:cNvPicPr/>
          <p:nvPr/>
        </p:nvPicPr>
        <p:blipFill>
          <a:blip r:embed="rId1"/>
          <a:stretch/>
        </p:blipFill>
        <p:spPr>
          <a:xfrm>
            <a:off x="468360" y="3716280"/>
            <a:ext cx="1871640" cy="18734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6. Когда оба слагаемых близки к круглым числам, то их заменяют разностью между круглым числом и дополнени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1.    298 + 39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298 + 397 = (300 – 2 ) + ( 400 - 3)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300 + 400 – 2 – 3 = 700 – 5 = 69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2.  504 + 49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(500 + 4)+ (500- 3)=500 + 500 + 4 – 3 = 100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Вычисли уст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</a:rPr>
              <a:t>536 +  532 =                   674 + 97 =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</a:rPr>
              <a:t>427 + 268 =                    538 + 298 =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</a:rPr>
              <a:t>636 + 249 =                    97 + 95 =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</a:rPr>
              <a:t>524 + 389 =                    396 + 453 =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</a:rPr>
              <a:t>35 + 28 + 5 + 2 =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</a:rPr>
              <a:t>135 + 67 + 65 + 23 + 10 =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2916360" y="145728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106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2916360" y="215100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69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2913120" y="2924280"/>
            <a:ext cx="129528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88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Скругленный прямоугольник 6"/>
          <p:cNvSpPr/>
          <p:nvPr/>
        </p:nvSpPr>
        <p:spPr>
          <a:xfrm>
            <a:off x="2900520" y="3652920"/>
            <a:ext cx="129672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9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Скругленный прямоугольник 7"/>
          <p:cNvSpPr/>
          <p:nvPr/>
        </p:nvSpPr>
        <p:spPr>
          <a:xfrm>
            <a:off x="6732720" y="141120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77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8"/>
          <p:cNvSpPr/>
          <p:nvPr/>
        </p:nvSpPr>
        <p:spPr>
          <a:xfrm>
            <a:off x="6732720" y="215748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83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Скругленный прямоугольник 9"/>
          <p:cNvSpPr/>
          <p:nvPr/>
        </p:nvSpPr>
        <p:spPr>
          <a:xfrm>
            <a:off x="6759720" y="297504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1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Скругленный прямоугольник 10"/>
          <p:cNvSpPr/>
          <p:nvPr/>
        </p:nvSpPr>
        <p:spPr>
          <a:xfrm>
            <a:off x="6759720" y="376236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84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кругленный прямоугольник 11"/>
          <p:cNvSpPr/>
          <p:nvPr/>
        </p:nvSpPr>
        <p:spPr>
          <a:xfrm>
            <a:off x="3995640" y="4381560"/>
            <a:ext cx="12970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7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Скругленный прямоугольник 12"/>
          <p:cNvSpPr/>
          <p:nvPr/>
        </p:nvSpPr>
        <p:spPr>
          <a:xfrm>
            <a:off x="5091120" y="5110200"/>
            <a:ext cx="129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Вычита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Если в уменьшаемом число единиц каждого разряда больше единиц соответствующего разряда вычитаемого, то вычитание выполняется поразряд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Пример 678 – 56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678 – 564 = (600 - 500) + (70 – 60 )+ (8 - 4)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= 100 + 10 + 4 = 11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1:44:26Z</dcterms:created>
  <dc:creator>user</dc:creator>
  <dc:description/>
  <dc:language>en-US</dc:language>
  <cp:lastModifiedBy>LEGION</cp:lastModifiedBy>
  <dcterms:modified xsi:type="dcterms:W3CDTF">2015-01-23T13:23:35Z</dcterms:modified>
  <cp:revision>19</cp:revision>
  <dc:subject/>
  <dc:title>Приемы устного счета</dc:title>
</cp:coreProperties>
</file>