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AF0B-0F0A-4C3C-B23D-F562AEBC22B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D261-39D6-489D-B59E-6B5FC2C5481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2ADF-B8A9-4326-A4FA-12913345120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F2D1-E353-4245-A165-7A9EB87366E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AE8-0858-4912-90C7-329A07D48AA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AD3A-63B7-4A9E-8691-779C1F61496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69F-19EA-4F9F-AC60-8000B35D7D1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777F-70D1-479B-8309-D96DDD75D43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C493-1852-4A02-94D4-EE051C33280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6DD3-3A35-4446-AB44-EFCB58A502E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12B9-F9EE-419E-B7A7-6C2F2909807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D4CD-BE78-497B-B00C-50DBF98AE26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E26-B084-4243-ACA2-4305DC0DD6B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9434-9B8C-4015-8AE6-94DAF843920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BAA2-C982-4747-91BA-D647960A415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697-27ED-40CB-A650-020B8CF9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345-EA23-45A9-AE18-7FD61BD1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F8F-75F5-46CF-A043-6EF86F47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E2E-B512-4CF5-A03B-D5F4E6BD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4CF-AE7F-4795-95CB-B076543A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4C6-9E4C-4C41-9404-75D0A198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E02-6068-4BFE-9FFA-49471AFA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5DB-AFB4-452E-875D-4A0CDDF6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D2D-F28B-4886-8E87-8FEEF7C0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9CF-4184-447D-911B-206A4158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158-CE5E-400B-BE17-D7FC632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141-676B-400C-82C9-0B168496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C50F-5FAE-4558-A740-582031E4BD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0431-AA8B-4B2A-8346-86486CC75D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ownloads\i (2).jpg"/>
          <p:cNvPicPr/>
          <p:nvPr/>
        </p:nvPicPr>
        <p:blipFill>
          <a:blip r:embed="rId1"/>
          <a:stretch/>
        </p:blipFill>
        <p:spPr>
          <a:xfrm>
            <a:off x="684360" y="3716280"/>
            <a:ext cx="177480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39720" y="3789360"/>
            <a:ext cx="1862280" cy="1727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916360" y="148428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2914560" y="21844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2895480" y="29131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2916360" y="37274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2916360" y="45212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2933640" y="532620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4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9"/>
          <p:cNvSpPr/>
          <p:nvPr/>
        </p:nvSpPr>
        <p:spPr>
          <a:xfrm>
            <a:off x="6951600" y="15080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10"/>
          <p:cNvSpPr/>
          <p:nvPr/>
        </p:nvSpPr>
        <p:spPr>
          <a:xfrm>
            <a:off x="6954840" y="2268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11"/>
          <p:cNvSpPr/>
          <p:nvPr/>
        </p:nvSpPr>
        <p:spPr>
          <a:xfrm>
            <a:off x="6943680" y="297324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6943680" y="3701880"/>
            <a:ext cx="14414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6975360" y="451656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54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7012080" y="529416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2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341360"/>
            <a:ext cx="8362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468360" y="3716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16360" y="1457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0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916360" y="21510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2913120" y="292428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2900520" y="365292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9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6732720" y="1411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8"/>
          <p:cNvSpPr/>
          <p:nvPr/>
        </p:nvSpPr>
        <p:spPr>
          <a:xfrm>
            <a:off x="6732720" y="21574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9"/>
          <p:cNvSpPr/>
          <p:nvPr/>
        </p:nvSpPr>
        <p:spPr>
          <a:xfrm>
            <a:off x="6759720" y="29750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0"/>
          <p:cNvSpPr/>
          <p:nvPr/>
        </p:nvSpPr>
        <p:spPr>
          <a:xfrm>
            <a:off x="6759720" y="376236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11"/>
          <p:cNvSpPr/>
          <p:nvPr/>
        </p:nvSpPr>
        <p:spPr>
          <a:xfrm>
            <a:off x="3995640" y="438156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12"/>
          <p:cNvSpPr/>
          <p:nvPr/>
        </p:nvSpPr>
        <p:spPr>
          <a:xfrm>
            <a:off x="5091120" y="5110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44:26Z</dcterms:created>
  <dc:creator>user</dc:creator>
  <dc:description/>
  <dc:language>en-US</dc:language>
  <cp:lastModifiedBy>LEGION</cp:lastModifiedBy>
  <dcterms:modified xsi:type="dcterms:W3CDTF">2015-01-23T13:23:35Z</dcterms:modified>
  <cp:revision>19</cp:revision>
  <dc:subject/>
  <dc:title>Приемы устного счета</dc:title>
</cp:coreProperties>
</file>