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5BFD-812E-4540-A0C9-A9FB5BFE0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здержки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здержки производства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представляют собой плату за ресурсы используемые в процессе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E685-8BF0-44FD-8E27-006655563A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тветьте на предлож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2AE4-47A9-4BF8-814B-2992A51881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Место прибыли в струк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228D-45BE-4AB1-A560-025E9E9B7C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на явняе и нея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D397-35B4-4F6D-8B99-D02AF8243D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393-9368-4ED8-A3D2-FC4CFE7BB7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в завис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т объёма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E86-08D7-4D37-BAE5-B7545B6B59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F0FE-36EB-4A08-AE6E-C38579CF0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Издержки производства и прибы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в денежных единицах (условный при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AF83-D1DD-40F8-9E65-73891747DF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нести графики и их наз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общих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остоянны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еременных издер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5B2D-EE6E-4399-8E8F-EC35BB81DA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ь величину переменных издержек на данном производстве в точке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8DC-D258-4302-A43D-32DF106E6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DF8-6668-4CB0-8220-2CDFE557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D24-0CE7-41B6-821F-D041753B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432-5DA2-4102-B9AC-0A960192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8F6-A7B9-43A8-AB50-1416A97D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037-4B51-4DE2-BCB0-8BE70050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EB0-70BB-4A33-A485-489E7078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99F-A1B4-4A6C-BB3A-63107CA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07C-0C3E-44F7-B296-94A59872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EB7-731C-4296-B889-A42DA9B3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85B-B81A-4C60-B818-04B0C44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FDC-E4F7-49A4-B1B9-0E49081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CD9-746A-4808-A919-A44A000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96A3-8427-4F88-9EE7-7AA064E7F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3124080"/>
            <a:ext cx="8610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здержки производства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представляют собой плату за ресурсы используемые в процессе производств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71600" y="1143000"/>
            <a:ext cx="6772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рибыль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04920" y="22860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962520" y="6488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ук Т., МУПК, Лисак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304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1066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 сколько оцениваете свой уровень усвоения темы за сегодняшний урок?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1752480"/>
            <a:ext cx="76176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2514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читаете ли, что использование на уроке компьютера помогло вам лучше повторить матери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038480" y="175248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86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629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2514600" y="1600200"/>
            <a:ext cx="5790960" cy="4718160"/>
            <a:chOff x="2514600" y="1600200"/>
            <a:chExt cx="5790960" cy="4718160"/>
          </a:xfrm>
        </p:grpSpPr>
        <p:sp>
          <p:nvSpPr>
            <p:cNvPr id="54" name="Text Box 6"/>
            <p:cNvSpPr/>
            <p:nvPr/>
          </p:nvSpPr>
          <p:spPr>
            <a:xfrm>
              <a:off x="2514600" y="2243520"/>
              <a:ext cx="3217320" cy="6433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2514600" y="2886840"/>
              <a:ext cx="3217320" cy="34315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89800" y="1600200"/>
              <a:ext cx="15015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6589800" y="2672280"/>
              <a:ext cx="17157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 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 rot="10800000">
              <a:off x="5946120" y="202860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 rot="10800000">
              <a:off x="5946120" y="267192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2"/>
          <p:cNvSpPr/>
          <p:nvPr/>
        </p:nvSpPr>
        <p:spPr>
          <a:xfrm flipH="1"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20574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H="1" flipV="1">
            <a:off x="1752120" y="434340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1752120" y="228600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6"/>
          <p:cNvSpPr txBox="1"/>
          <p:nvPr/>
        </p:nvSpPr>
        <p:spPr>
          <a:xfrm rot="5400000">
            <a:off x="-1357560" y="3672000"/>
            <a:ext cx="43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оимость това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прибыли в структур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имости това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3"/>
          <p:cNvSpPr/>
          <p:nvPr/>
        </p:nvSpPr>
        <p:spPr>
          <a:xfrm>
            <a:off x="482760" y="4148280"/>
            <a:ext cx="388440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124080" y="2438280"/>
            <a:ext cx="2797200" cy="7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65760" y="2593800"/>
            <a:ext cx="13986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881360" y="2593800"/>
            <a:ext cx="139824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569960" y="3738600"/>
            <a:ext cx="18655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454720" y="3738600"/>
            <a:ext cx="186516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38820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5752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522680" y="4160880"/>
            <a:ext cx="388476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8096400" y="5702400"/>
            <a:ext cx="30312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793440" y="6323040"/>
            <a:ext cx="730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482760" y="5702400"/>
            <a:ext cx="3110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968560" y="6167520"/>
            <a:ext cx="32641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0948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533520" y="1447920"/>
            <a:ext cx="79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на явняе и неяв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219320" y="54864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Разделите виды затрат на явные и неявны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533520"/>
          <a:ext cx="8610480" cy="35719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яв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7"/>
          <p:cNvSpPr/>
          <p:nvPr/>
        </p:nvSpPr>
        <p:spPr>
          <a:xfrm>
            <a:off x="0" y="4419720"/>
            <a:ext cx="9144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971800" y="2209680"/>
            <a:ext cx="3110040" cy="11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держки произв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8752800">
            <a:off x="2470320" y="3304800"/>
            <a:ext cx="457200" cy="423720"/>
          </a:xfrm>
          <a:prstGeom prst="rightArrow">
            <a:avLst>
              <a:gd name="adj1" fmla="val 50000"/>
              <a:gd name="adj2" fmla="val 269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2911800">
            <a:off x="6183000" y="3329280"/>
            <a:ext cx="471240" cy="457200"/>
          </a:xfrm>
          <a:prstGeom prst="rightArrow">
            <a:avLst>
              <a:gd name="adj1" fmla="val 50000"/>
              <a:gd name="adj2" fmla="val 25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89080" y="38718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791320" y="38862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43000" y="4916520"/>
            <a:ext cx="6591240" cy="49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7057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2634840" y="5413320"/>
            <a:ext cx="111924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3257640" y="6035760"/>
            <a:ext cx="12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2635200" y="6657840"/>
            <a:ext cx="18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749840" y="59119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749840" y="64087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9051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858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990720" y="914400"/>
            <a:ext cx="70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в зависимо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объёма производст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5"/>
          <p:cNvSpPr/>
          <p:nvPr/>
        </p:nvSpPr>
        <p:spPr>
          <a:xfrm>
            <a:off x="457200" y="487548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5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8"/>
          <p:cNvSpPr/>
          <p:nvPr/>
        </p:nvSpPr>
        <p:spPr>
          <a:xfrm>
            <a:off x="0" y="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   Разделить виды затрат на постоянные и пе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57200"/>
          <a:ext cx="8534520" cy="363204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320" y="2011320"/>
          <a:ext cx="8915400" cy="3870360"/>
        </p:xfrm>
        <a:graphic>
          <a:graphicData uri="http://schemas.openxmlformats.org/drawingml/2006/table">
            <a:tbl>
              <a:tblPr/>
              <a:tblGrid>
                <a:gridCol w="928440"/>
                <a:gridCol w="795600"/>
                <a:gridCol w="834840"/>
                <a:gridCol w="965160"/>
                <a:gridCol w="963720"/>
                <a:gridCol w="936720"/>
                <a:gridCol w="847440"/>
                <a:gridCol w="871560"/>
                <a:gridCol w="897120"/>
                <a:gridCol w="87480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-ницы продук-ции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единицы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-ная выруч-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2+гр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4+г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WordArt 724"/>
          <p:cNvSpPr txBox="1"/>
          <p:nvPr/>
        </p:nvSpPr>
        <p:spPr>
          <a:xfrm>
            <a:off x="838080" y="228600"/>
            <a:ext cx="75819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и прибыль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енежных единицах (условный пример)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 flipV="1">
            <a:off x="609480" y="13712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09480" y="3505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609480" y="1828800"/>
            <a:ext cx="1524240" cy="1676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60" h="1056">
                <a:moveTo>
                  <a:pt x="0" y="1056"/>
                </a:moveTo>
                <a:cubicBezTo>
                  <a:pt x="280" y="928"/>
                  <a:pt x="560" y="800"/>
                  <a:pt x="720" y="624"/>
                </a:cubicBezTo>
                <a:cubicBezTo>
                  <a:pt x="880" y="448"/>
                  <a:pt x="920" y="112"/>
                  <a:pt x="9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146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809880" y="1600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809880" y="35053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809880" y="144792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12" h="768">
                <a:moveTo>
                  <a:pt x="0" y="768"/>
                </a:moveTo>
                <a:cubicBezTo>
                  <a:pt x="260" y="688"/>
                  <a:pt x="520" y="608"/>
                  <a:pt x="672" y="480"/>
                </a:cubicBezTo>
                <a:cubicBezTo>
                  <a:pt x="824" y="352"/>
                  <a:pt x="872" y="80"/>
                  <a:pt x="9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6705720" y="1523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6705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670572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04920" y="5105520"/>
            <a:ext cx="533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бщих издерж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остоянных издер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еременных издер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5530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3808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098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670572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791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8458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6576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5530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38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нести графики и их наз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80880" y="304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9907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625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7010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определить величину переменных издержек на данном производстве в точке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609480" y="999720"/>
            <a:ext cx="1800" cy="38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57200" y="4495680"/>
            <a:ext cx="4164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609480" y="1965240"/>
            <a:ext cx="3886200" cy="138744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016" h="720">
                <a:moveTo>
                  <a:pt x="0" y="720"/>
                </a:moveTo>
                <a:cubicBezTo>
                  <a:pt x="148" y="612"/>
                  <a:pt x="296" y="504"/>
                  <a:pt x="528" y="480"/>
                </a:cubicBezTo>
                <a:cubicBezTo>
                  <a:pt x="760" y="456"/>
                  <a:pt x="1144" y="656"/>
                  <a:pt x="1392" y="576"/>
                </a:cubicBezTo>
                <a:cubicBezTo>
                  <a:pt x="1640" y="496"/>
                  <a:pt x="1904" y="96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86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52280" y="21463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28600" y="3060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28600" y="411336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80880" y="623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80988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8:50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