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5.wmf" ContentType="image/x-wmf"/>
  <Override PartName="/ppt/media/image3.wmf" ContentType="image/x-wmf"/>
  <Override PartName="/ppt/media/driveby.wav" ContentType="audio/x-wav"/>
  <Override PartName="/ppt/media/image4.gif" ContentType="image/gif"/>
  <Override PartName="/ppt/media/image7.wmf" ContentType="image/x-wmf"/>
  <Override PartName="/ppt/media/image6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2E7F7-7AF8-4546-873D-6317C1C7364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Тема урока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крытие скоб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16B32-9D41-408C-A4FC-4FEC347745F6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олнить таблицу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 = - 3 + 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12955-B207-4CA9-A13B-DBDB27FBD398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олнить таблицу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 = - 3 + 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C3B43-46CF-4812-8F64-4EBA24F4E7ED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олнить таблицу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 = - х +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C9E83-AC33-43A5-8826-AF209A23DA6E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олнить таблицу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 = - х +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4C6D8-1F35-4672-9ECF-7A6313C19848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по учебник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. 121 №52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№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2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№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№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3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№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№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3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A1239-F001-4257-AB0F-563AFF981DD0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. 120 №521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№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BCFB6-DB37-494A-8772-B3EE50604ACB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바탕"/>
              </a:rPr>
              <a:t>Выполните действия:</a:t>
            </a:r>
            <a:r>
              <a:rPr b="1" i="1" lang="ru-RU" sz="1200" spc="-1" strike="noStrike">
                <a:solidFill>
                  <a:srgbClr val="000000"/>
                </a:solidFill>
                <a:latin typeface="바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바탕"/>
              </a:rPr>
              <a:t>- 70 : 10  =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바탕"/>
              </a:rPr>
              <a:t>60 : (-2) 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바탕"/>
              </a:rPr>
              <a:t>- 160 + 40  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바탕"/>
              </a:rPr>
              <a:t>- 300 : (-100) 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바탕"/>
              </a:rPr>
              <a:t>(-90)+(- 909)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바탕"/>
              </a:rPr>
              <a:t>- 150 + 400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바탕"/>
              </a:rPr>
              <a:t>- 90 + 125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바탕"/>
              </a:rPr>
              <a:t>8. (- 400)+(- 111)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94B5C-BBD9-48A3-BAA3-76A7E4FDCC2D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바탕"/>
              </a:rPr>
              <a:t>Выполните умноже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94C2E-80C4-4BE7-A158-AAE9AFE43BB8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+(а – в + с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перед скобками стоит знак +, это значит, что все слагаемые в скобках надо умножить на 1, т.е., РАСКРЫВАЯ СКОБКИ , ОСТАВИТЬ ИХ БЕЗ ИЗМЕ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E3C3A-F4F0-41EF-AC43-6714911BB85A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-(а – в + с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перед скобками стоит знак -, это значит, что все слагаемые в скобках надо умножить на - 1, т.е., РАСКРЫВАЯ СКОБКИ , ИЗМЕНИТЬ ЗНАКИ СЛАГАЕМЫХ НА ПРОТИВОПОЛОЖ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0CD16-18B8-4D1A-9A91-553A4313CF2B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ить запис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+1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(а – в + с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= 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A03FB-4A43-436E-ACC7-F911363CD203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родолжить запись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(а – в + с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=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F835D-F9E5-478A-BE1A-D2E34534177C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кройте скоб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- 41(2 – ху – у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71( а + в – с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- (- 20 + а – 3в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22(в - 100 – 4а) 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- 33(2х – ху + 3у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18(- а + в + с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- (65 + а – 98в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31(в – 2с – 3а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48F73-4454-4A3D-AF0E-F7EB2D042B7B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скрой скобки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- 4(5 – х – 6у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81( а + в – с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- (25 + а – 4в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11(- в - 5 – 6а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- 9(8 + х – 4у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18(- а - в + с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- (5 - а + 54в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100(в + 9 – 3а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- 3(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+ ху – 6у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- 1( а + в – с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2 (21 - а – 66в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10(- с - 49 + 3а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- 6(9 – а – 5в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57(- а + в – с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- (85 - а – 404в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51(в - 10 + а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A6B60-2BC3-45E2-BA9D-903E9DE82FAE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5CAF-2260-4E35-9F71-4E54092D0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284E-CA3F-4655-94F7-9CD9F5393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5352-16B4-4C83-A336-42D7FE061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549F-6075-4D7C-93E8-3278CA6DF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DE5C7-F904-45F5-8E96-ECAFF26E7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B98DC-DC2E-4840-B790-60230691E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EB32C-B7C7-410B-B7E7-87A5701E2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9DCC3-C51F-40C3-85F8-D7F716DE6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AE96F-993A-46B0-B37D-FB5B300B4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487AF-87B5-4AEB-9C2B-16C1C024F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C87CC-9D01-42BF-B6BA-7D690E8B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3EA5-6900-493A-B658-BA74DF9DB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2B1AB-F985-4572-861E-8E49332E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7BD03-4F9D-476B-AC5B-88158706A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B9D4A-A38A-44AF-8B0B-B2501AEA7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2AE8C-9343-4497-BAAF-F7FBF347E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6C592-FEFC-4CC8-BEDA-69AFFDF98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B286-03A7-4AF5-B3EB-4E18DEC67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DED8-0BE3-4F84-99B4-D49AE386B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1E8B-D94C-4CED-8EC5-9E59D0B22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EC4E-4448-43C8-ADB7-93346D80B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84E5-3B8D-4C98-9430-02922A33A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46CA-64FD-437D-AE11-A79CCC35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580F-088A-4FF6-97CE-157431CB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D6312-3A86-49A5-8F87-28477EE1DA3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A9B9B-8966-4860-8E2C-379E1A95817E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wmf"/><Relationship Id="rId3" Type="http://schemas.openxmlformats.org/officeDocument/2006/relationships/audio" Target="../media/driveby.wav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gif"/><Relationship Id="rId3" Type="http://schemas.openxmlformats.org/officeDocument/2006/relationships/audio" Target="../media/driveby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34136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333399"/>
                </a:solidFill>
                <a:uFillTx/>
                <a:latin typeface="Tahoma"/>
              </a:rPr>
              <a:t>Тема урока: 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аскрытие скобок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7" name="Picture 5" descr="удивленный мышонок"/>
          <p:cNvPicPr/>
          <p:nvPr/>
        </p:nvPicPr>
        <p:blipFill>
          <a:blip r:embed="rId1"/>
          <a:stretch/>
        </p:blipFill>
        <p:spPr>
          <a:xfrm>
            <a:off x="539640" y="3716280"/>
            <a:ext cx="1746360" cy="27558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j0196200"/>
          <p:cNvPicPr/>
          <p:nvPr/>
        </p:nvPicPr>
        <p:blipFill>
          <a:blip r:embed="rId2"/>
          <a:stretch/>
        </p:blipFill>
        <p:spPr>
          <a:xfrm>
            <a:off x="6012000" y="404640"/>
            <a:ext cx="2736720" cy="2165400"/>
          </a:xfrm>
          <a:prstGeom prst="rect">
            <a:avLst/>
          </a:prstGeom>
          <a:ln w="0">
            <a:noFill/>
          </a:ln>
        </p:spPr>
      </p:pic>
      <p:sp>
        <p:nvSpPr>
          <p:cNvPr id="109" name="TextBox 1"/>
          <p:cNvSpPr/>
          <p:nvPr/>
        </p:nvSpPr>
        <p:spPr>
          <a:xfrm>
            <a:off x="3100320" y="4292640"/>
            <a:ext cx="382752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втор: учитель математики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рофимова Елена Иозасовн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. Абаза, 2013 го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полнить таблицу, 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если 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у = - 3 + х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684360" y="2421000"/>
          <a:ext cx="7772400" cy="1614600"/>
        </p:xfrm>
        <a:graphic>
          <a:graphicData uri="http://schemas.openxmlformats.org/drawingml/2006/table">
            <a:tbl>
              <a:tblPr/>
              <a:tblGrid>
                <a:gridCol w="971280"/>
                <a:gridCol w="971640"/>
                <a:gridCol w="971640"/>
                <a:gridCol w="971640"/>
                <a:gridCol w="971280"/>
                <a:gridCol w="971640"/>
                <a:gridCol w="971640"/>
                <a:gridCol w="97164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171" name="Rectangle 38"/>
          <p:cNvSpPr/>
          <p:nvPr/>
        </p:nvSpPr>
        <p:spPr>
          <a:xfrm>
            <a:off x="755640" y="472428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Отметьте на координатной плоскости точки с координатами (х;у), взятыми из полученной таблиц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2" name="Picture 39" descr="crayon1"/>
          <p:cNvPicPr/>
          <p:nvPr/>
        </p:nvPicPr>
        <p:blipFill>
          <a:blip r:embed="rId1"/>
          <a:stretch/>
        </p:blipFill>
        <p:spPr>
          <a:xfrm>
            <a:off x="7264440" y="0"/>
            <a:ext cx="1879560" cy="274644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полнить таблицу, 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если 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у = - 3 + х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684360" y="2421000"/>
          <a:ext cx="7772400" cy="1614600"/>
        </p:xfrm>
        <a:graphic>
          <a:graphicData uri="http://schemas.openxmlformats.org/drawingml/2006/table">
            <a:tbl>
              <a:tblPr/>
              <a:tblGrid>
                <a:gridCol w="971280"/>
                <a:gridCol w="971640"/>
                <a:gridCol w="971640"/>
                <a:gridCol w="971640"/>
                <a:gridCol w="971280"/>
                <a:gridCol w="971640"/>
                <a:gridCol w="971640"/>
                <a:gridCol w="97164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176" name="Rectangle 32"/>
          <p:cNvSpPr/>
          <p:nvPr/>
        </p:nvSpPr>
        <p:spPr>
          <a:xfrm>
            <a:off x="755640" y="472428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Отметьте на координатной плоскости точки с координатами (х;у), взятыми из полученной таблиц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Picture 33" descr="crayon1"/>
          <p:cNvPicPr/>
          <p:nvPr/>
        </p:nvPicPr>
        <p:blipFill>
          <a:blip r:embed="rId1"/>
          <a:stretch/>
        </p:blipFill>
        <p:spPr>
          <a:xfrm>
            <a:off x="7264440" y="0"/>
            <a:ext cx="1879560" cy="274788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полнить таблицу, 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если 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у = - х + 7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684360" y="2421000"/>
          <a:ext cx="7772400" cy="1614600"/>
        </p:xfrm>
        <a:graphic>
          <a:graphicData uri="http://schemas.openxmlformats.org/drawingml/2006/table">
            <a:tbl>
              <a:tblPr/>
              <a:tblGrid>
                <a:gridCol w="971280"/>
                <a:gridCol w="971640"/>
                <a:gridCol w="971640"/>
                <a:gridCol w="971640"/>
                <a:gridCol w="971280"/>
                <a:gridCol w="971640"/>
                <a:gridCol w="971640"/>
                <a:gridCol w="97164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181" name="Rectangle 32"/>
          <p:cNvSpPr/>
          <p:nvPr/>
        </p:nvSpPr>
        <p:spPr>
          <a:xfrm>
            <a:off x="755640" y="472428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Отметьте на координатной плоскости точки с координатами (х;у), взятыми из полученной таблиц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Picture 33" descr="crayon1"/>
          <p:cNvPicPr/>
          <p:nvPr/>
        </p:nvPicPr>
        <p:blipFill>
          <a:blip r:embed="rId1"/>
          <a:stretch/>
        </p:blipFill>
        <p:spPr>
          <a:xfrm>
            <a:off x="7093080" y="0"/>
            <a:ext cx="1780920" cy="260352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полнить таблицу, 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если 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у = - х + 7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684360" y="2421000"/>
          <a:ext cx="7772400" cy="1614600"/>
        </p:xfrm>
        <a:graphic>
          <a:graphicData uri="http://schemas.openxmlformats.org/drawingml/2006/table">
            <a:tbl>
              <a:tblPr/>
              <a:tblGrid>
                <a:gridCol w="971280"/>
                <a:gridCol w="971640"/>
                <a:gridCol w="971640"/>
                <a:gridCol w="971640"/>
                <a:gridCol w="971280"/>
                <a:gridCol w="971640"/>
                <a:gridCol w="971640"/>
                <a:gridCol w="97164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186" name="Rectangle 32"/>
          <p:cNvSpPr/>
          <p:nvPr/>
        </p:nvSpPr>
        <p:spPr>
          <a:xfrm>
            <a:off x="755640" y="472428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Отметьте на координатной плоскости точки с координатами (х;у), взятыми из полученной таблиц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7" name="Picture 33" descr="crayon1"/>
          <p:cNvPicPr/>
          <p:nvPr/>
        </p:nvPicPr>
        <p:blipFill>
          <a:blip r:embed="rId1"/>
          <a:stretch/>
        </p:blipFill>
        <p:spPr>
          <a:xfrm>
            <a:off x="7093080" y="0"/>
            <a:ext cx="1730160" cy="253044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абота по учебнику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4397400" cy="450684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тр. 121 №52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№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529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№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53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№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53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№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53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№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53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7308720" y="404640"/>
            <a:ext cx="1100160" cy="11257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мышонок читает"/>
          <p:cNvPicPr/>
          <p:nvPr/>
        </p:nvPicPr>
        <p:blipFill>
          <a:blip r:embed="rId2"/>
          <a:stretch/>
        </p:blipFill>
        <p:spPr>
          <a:xfrm>
            <a:off x="6804000" y="2924280"/>
            <a:ext cx="1684440" cy="259848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ДОМА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58560" y="2205000"/>
            <a:ext cx="6342120" cy="364320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тр. 120 №521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№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52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6" name="Picture 4" descr=""/>
          <p:cNvPicPr/>
          <p:nvPr/>
        </p:nvPicPr>
        <p:blipFill>
          <a:blip r:embed="rId1"/>
          <a:stretch/>
        </p:blipFill>
        <p:spPr>
          <a:xfrm>
            <a:off x="4716360" y="2637000"/>
            <a:ext cx="2519640" cy="251928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7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바탕"/>
              </a:rPr>
              <a:t>Выполните действия:</a:t>
            </a:r>
            <a:r>
              <a:rPr b="1" i="1" lang="ru-RU" sz="4400" spc="-1" strike="noStrike">
                <a:solidFill>
                  <a:srgbClr val="000000"/>
                </a:solidFill>
                <a:latin typeface="바탕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3581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</a:rPr>
              <a:t>- 70 : 10  =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</a:rPr>
              <a:t>60 : (-2) 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</a:rPr>
              <a:t>- 160 + 40  =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</a:rPr>
              <a:t>- 300 : (-100) =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</a:rPr>
              <a:t>(-90)+(- 909)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</a:rPr>
              <a:t>- 150 + 400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</a:rPr>
              <a:t>- 90 + 125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</a:rPr>
              <a:t>8. (- 400)+(- 111)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4859280" y="1268280"/>
            <a:ext cx="1112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  <a:ea typeface="Times New Roman"/>
              </a:rPr>
              <a:t>- 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4932360" y="1844640"/>
            <a:ext cx="1309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  <a:ea typeface="Times New Roman"/>
              </a:rPr>
              <a:t>- 3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5076720" y="2421000"/>
            <a:ext cx="1440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  <a:ea typeface="Times New Roman"/>
              </a:rPr>
              <a:t>- 12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5435640" y="3068640"/>
            <a:ext cx="762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5219640" y="3645000"/>
            <a:ext cx="1752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  <a:ea typeface="Times New Roman"/>
              </a:rPr>
              <a:t>- 999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5219640" y="4221000"/>
            <a:ext cx="160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  <a:ea typeface="Times New Roman"/>
              </a:rPr>
              <a:t>25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5148360" y="4797360"/>
            <a:ext cx="1676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  <a:ea typeface="Times New Roman"/>
              </a:rPr>
              <a:t>3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Rectangle 11"/>
          <p:cNvSpPr/>
          <p:nvPr/>
        </p:nvSpPr>
        <p:spPr>
          <a:xfrm>
            <a:off x="5219640" y="5373720"/>
            <a:ext cx="1371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  <a:ea typeface="Times New Roman"/>
              </a:rPr>
              <a:t>- 51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바탕"/>
              </a:rPr>
              <a:t>Выполните умножение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6858000" y="91440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3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7467480" y="227664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6,3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7596360" y="3645000"/>
            <a:ext cx="10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468360" y="981000"/>
            <a:ext cx="74883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0,3  · (-0,5)  ·  2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-1)=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455760" indent="-4557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455760" indent="-4557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0,25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-1) · (- 6,3) · (-4) =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455760" indent="-4557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455760" indent="-4557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(-2,5) · (0,4) · 50 · (-0,02) =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455760" indent="-4557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455760" indent="-4557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333399"/>
                </a:solidFill>
                <a:latin typeface="Times New Roman"/>
              </a:rPr>
              <a:t>+(а – в + с)</a:t>
            </a:r>
            <a:endParaRPr b="0" lang="en-US" sz="9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перед скобками стоит знак +, это значит, что все слагаемые в скобках надо умножить на 1, т.е., РАСКРЫВАЯ СКОБКИ , ОСТАВИТЬ ИХ БЕЗ ИЗМЕН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971640" y="4869000"/>
            <a:ext cx="779292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333399"/>
                </a:solidFill>
                <a:latin typeface="Times New Roman"/>
              </a:rPr>
              <a:t>+1</a:t>
            </a:r>
            <a:r>
              <a:rPr b="0" i="1" lang="en-US" sz="9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·</a:t>
            </a:r>
            <a:r>
              <a:rPr b="0" i="1" lang="ru-RU" sz="9600" spc="-1" strike="noStrike">
                <a:solidFill>
                  <a:srgbClr val="333399"/>
                </a:solidFill>
                <a:latin typeface="Times New Roman"/>
              </a:rPr>
              <a:t>(а – в + с)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Arc 9"/>
          <p:cNvSpPr/>
          <p:nvPr/>
        </p:nvSpPr>
        <p:spPr>
          <a:xfrm>
            <a:off x="2268360" y="4724280"/>
            <a:ext cx="1417680" cy="542880"/>
          </a:xfrm>
          <a:custGeom>
            <a:avLst/>
            <a:gdLst/>
            <a:ahLst/>
            <a:rect l="l" t="t" r="r" b="b"/>
            <a:pathLst>
              <a:path fill="none" w="43200" h="23016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3016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lnTo>
                  <a:pt x="46" y="23015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Arc 11"/>
          <p:cNvSpPr/>
          <p:nvPr/>
        </p:nvSpPr>
        <p:spPr>
          <a:xfrm>
            <a:off x="2268360" y="4654440"/>
            <a:ext cx="3095640" cy="567000"/>
          </a:xfrm>
          <a:custGeom>
            <a:avLst/>
            <a:gdLst/>
            <a:ahLst/>
            <a:rect l="l" t="t" r="r" b="b"/>
            <a:pathLst>
              <a:path fill="none" w="43200" h="24055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420"/>
                  <a:pt x="-22383" y="23239"/>
                  <a:pt x="-22476" y="24055"/>
                </a:cubicBezTo>
              </a:path>
              <a:path stroke="0" w="43200" h="24055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420"/>
                  <a:pt x="-22383" y="23239"/>
                  <a:pt x="-22476" y="24055"/>
                </a:cubicBezTo>
                <a:lnTo>
                  <a:pt x="21600" y="21600"/>
                </a:lnTo>
                <a:lnTo>
                  <a:pt x="46" y="23015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Arc 12"/>
          <p:cNvSpPr/>
          <p:nvPr/>
        </p:nvSpPr>
        <p:spPr>
          <a:xfrm>
            <a:off x="2341440" y="4586400"/>
            <a:ext cx="5051520" cy="569880"/>
          </a:xfrm>
          <a:custGeom>
            <a:avLst/>
            <a:gdLst/>
            <a:ahLst/>
            <a:rect l="l" t="t" r="r" b="b"/>
            <a:pathLst>
              <a:path fill="none" w="43200" h="24185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463"/>
                  <a:pt x="-22388" y="23327"/>
                  <a:pt x="-22492" y="24184"/>
                </a:cubicBezTo>
              </a:path>
              <a:path stroke="0" w="43200" h="24185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463"/>
                  <a:pt x="-22388" y="23327"/>
                  <a:pt x="-22492" y="24184"/>
                </a:cubicBezTo>
                <a:lnTo>
                  <a:pt x="21600" y="21600"/>
                </a:lnTo>
                <a:lnTo>
                  <a:pt x="46" y="23015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Line 14"/>
          <p:cNvSpPr/>
          <p:nvPr/>
        </p:nvSpPr>
        <p:spPr>
          <a:xfrm>
            <a:off x="3564000" y="5084640"/>
            <a:ext cx="14436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Line 15"/>
          <p:cNvSpPr/>
          <p:nvPr/>
        </p:nvSpPr>
        <p:spPr>
          <a:xfrm flipH="1">
            <a:off x="3708000" y="5084640"/>
            <a:ext cx="7164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Line 16"/>
          <p:cNvSpPr/>
          <p:nvPr/>
        </p:nvSpPr>
        <p:spPr>
          <a:xfrm>
            <a:off x="5219640" y="5084640"/>
            <a:ext cx="14436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17"/>
          <p:cNvSpPr/>
          <p:nvPr/>
        </p:nvSpPr>
        <p:spPr>
          <a:xfrm flipH="1">
            <a:off x="5364000" y="5084640"/>
            <a:ext cx="14472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Line 19"/>
          <p:cNvSpPr/>
          <p:nvPr/>
        </p:nvSpPr>
        <p:spPr>
          <a:xfrm>
            <a:off x="7236000" y="5084640"/>
            <a:ext cx="144360" cy="7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Line 20"/>
          <p:cNvSpPr/>
          <p:nvPr/>
        </p:nvSpPr>
        <p:spPr>
          <a:xfrm flipH="1">
            <a:off x="7380000" y="5013360"/>
            <a:ext cx="14436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333399"/>
                </a:solidFill>
                <a:latin typeface="Times New Roman"/>
              </a:rPr>
              <a:t>-(а – в + с)</a:t>
            </a:r>
            <a:endParaRPr b="0" lang="en-US" sz="9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34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перед скобками стоит знак -, это значит, что все слагаемые в скобках надо умножить на - 1, т.е., РАСКРЫВАЯ СКОБКИ , ИЗМЕНИТЬ ЗНАКИ СЛАГАЕМЫХ НА ПРОТИВОПОЛОЖНЫ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971640" y="4869000"/>
            <a:ext cx="779292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333399"/>
                </a:solidFill>
                <a:latin typeface="Times New Roman"/>
              </a:rPr>
              <a:t>-1</a:t>
            </a:r>
            <a:r>
              <a:rPr b="0" i="1" lang="en-US" sz="9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·</a:t>
            </a:r>
            <a:r>
              <a:rPr b="0" i="1" lang="ru-RU" sz="9600" spc="-1" strike="noStrike">
                <a:solidFill>
                  <a:srgbClr val="333399"/>
                </a:solidFill>
                <a:latin typeface="Times New Roman"/>
              </a:rPr>
              <a:t>(а – в + с)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Arc 5"/>
          <p:cNvSpPr/>
          <p:nvPr/>
        </p:nvSpPr>
        <p:spPr>
          <a:xfrm>
            <a:off x="2268360" y="4724280"/>
            <a:ext cx="1417680" cy="542880"/>
          </a:xfrm>
          <a:custGeom>
            <a:avLst/>
            <a:gdLst/>
            <a:ahLst/>
            <a:rect l="l" t="t" r="r" b="b"/>
            <a:pathLst>
              <a:path fill="none" w="43200" h="23016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3016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lnTo>
                  <a:pt x="46" y="23015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Arc 6"/>
          <p:cNvSpPr/>
          <p:nvPr/>
        </p:nvSpPr>
        <p:spPr>
          <a:xfrm>
            <a:off x="2268360" y="4654440"/>
            <a:ext cx="3095640" cy="567000"/>
          </a:xfrm>
          <a:custGeom>
            <a:avLst/>
            <a:gdLst/>
            <a:ahLst/>
            <a:rect l="l" t="t" r="r" b="b"/>
            <a:pathLst>
              <a:path fill="none" w="43200" h="24055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420"/>
                  <a:pt x="-22383" y="23239"/>
                  <a:pt x="-22476" y="24055"/>
                </a:cubicBezTo>
              </a:path>
              <a:path stroke="0" w="43200" h="24055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420"/>
                  <a:pt x="-22383" y="23239"/>
                  <a:pt x="-22476" y="24055"/>
                </a:cubicBezTo>
                <a:lnTo>
                  <a:pt x="21600" y="21600"/>
                </a:lnTo>
                <a:lnTo>
                  <a:pt x="46" y="23015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Arc 7"/>
          <p:cNvSpPr/>
          <p:nvPr/>
        </p:nvSpPr>
        <p:spPr>
          <a:xfrm>
            <a:off x="2341440" y="4586400"/>
            <a:ext cx="5051520" cy="569880"/>
          </a:xfrm>
          <a:custGeom>
            <a:avLst/>
            <a:gdLst/>
            <a:ahLst/>
            <a:rect l="l" t="t" r="r" b="b"/>
            <a:pathLst>
              <a:path fill="none" w="43200" h="24185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463"/>
                  <a:pt x="-22388" y="23327"/>
                  <a:pt x="-22492" y="24184"/>
                </a:cubicBezTo>
              </a:path>
              <a:path stroke="0" w="43200" h="24185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463"/>
                  <a:pt x="-22388" y="23327"/>
                  <a:pt x="-22492" y="24184"/>
                </a:cubicBezTo>
                <a:lnTo>
                  <a:pt x="21600" y="21600"/>
                </a:lnTo>
                <a:lnTo>
                  <a:pt x="46" y="23015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Line 8"/>
          <p:cNvSpPr/>
          <p:nvPr/>
        </p:nvSpPr>
        <p:spPr>
          <a:xfrm>
            <a:off x="3564000" y="5084640"/>
            <a:ext cx="14436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Line 9"/>
          <p:cNvSpPr/>
          <p:nvPr/>
        </p:nvSpPr>
        <p:spPr>
          <a:xfrm flipH="1">
            <a:off x="3708000" y="5084640"/>
            <a:ext cx="7164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Line 10"/>
          <p:cNvSpPr/>
          <p:nvPr/>
        </p:nvSpPr>
        <p:spPr>
          <a:xfrm>
            <a:off x="5219640" y="5084640"/>
            <a:ext cx="14436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Line 11"/>
          <p:cNvSpPr/>
          <p:nvPr/>
        </p:nvSpPr>
        <p:spPr>
          <a:xfrm flipH="1">
            <a:off x="5364000" y="5084640"/>
            <a:ext cx="14472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Line 12"/>
          <p:cNvSpPr/>
          <p:nvPr/>
        </p:nvSpPr>
        <p:spPr>
          <a:xfrm>
            <a:off x="7236000" y="5084640"/>
            <a:ext cx="144360" cy="7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Line 13"/>
          <p:cNvSpPr/>
          <p:nvPr/>
        </p:nvSpPr>
        <p:spPr>
          <a:xfrm flipH="1">
            <a:off x="7380000" y="5013360"/>
            <a:ext cx="14436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одолжить запись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58920" y="2349000"/>
            <a:ext cx="6485040" cy="270684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Times New Roman"/>
              </a:rPr>
              <a:t>+1</a:t>
            </a:r>
            <a:r>
              <a:rPr b="1" i="1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i="1" lang="ru-RU" sz="7200" spc="-1" strike="noStrike">
                <a:solidFill>
                  <a:srgbClr val="000000"/>
                </a:solidFill>
                <a:latin typeface="Times New Roman"/>
              </a:rPr>
              <a:t>(а – в + с) =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Times New Roman"/>
              </a:rPr>
              <a:t>= … 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Продолжить запись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7280" y="2636640"/>
            <a:ext cx="6485040" cy="285084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1" i="1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i="1" lang="ru-RU" sz="7200" spc="-1" strike="noStrike">
                <a:solidFill>
                  <a:srgbClr val="000000"/>
                </a:solidFill>
                <a:latin typeface="Times New Roman"/>
              </a:rPr>
              <a:t>(а – в + с) =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Times New Roman"/>
              </a:rPr>
              <a:t>= …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аскройте скобки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920" y="2017800"/>
            <a:ext cx="791208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- 41(2 – ху – у) =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71( а + в – с) =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- (- 20 + а – 3в) =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22(в - 100 – 4а) =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- 33(2х – ху + 3у) =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18(- а + в + с) =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- (65 + а – 98в) =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31(в – 2с – 3а) =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700360" y="333360"/>
            <a:ext cx="4500720" cy="55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Раскрой скобки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000" y="1412640"/>
            <a:ext cx="3600360" cy="5182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- 4(5 – х – 6у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81( а + в – с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- (25 + а – 4в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1(- в - 5 – 6а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- 9(8 + х – 4у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8(- а - в + с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- (5 - а + 54в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00(в + 9 – 3а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003280" y="1412640"/>
            <a:ext cx="3961080" cy="5182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- 3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+ ху – 6у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- 1( а + в – с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2 (21 - а – 66в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0(- с - 49 + 3а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- 6(9 – а – 5в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57(- а + в – с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- (85 - а – 404в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51(в - 10 + а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1332000" y="907920"/>
            <a:ext cx="22320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 вариан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5867280" y="907920"/>
            <a:ext cx="22320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 вариан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10:42:51Z</dcterms:created>
  <dc:creator>Трофимов</dc:creator>
  <dc:description/>
  <dc:language>en-US</dc:language>
  <cp:lastModifiedBy>LEGION</cp:lastModifiedBy>
  <dcterms:modified xsi:type="dcterms:W3CDTF">2015-01-23T13:24:43Z</dcterms:modified>
  <cp:revision>6</cp:revision>
  <dc:subject/>
  <dc:title>Тема урока:  Раскрытие скобок.</dc:title>
</cp:coreProperties>
</file>