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E585-B84D-4B06-850C-7B94EBA490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1800"/>
            </a:b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Урок-путешествие вокруг  Зем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4C8C-DC28-45D0-A6D4-34A10531C1D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Когда Луна сверкнёт во тьме ночной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воим серпом, блистательным и нежным,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Моя душа стремиться в мир большой, 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Пленяясь всем далёким, всем безбрежным.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К. Бельм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5176-D090-4A8D-9768-484B93FC77A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바탕"/>
              </a:rPr>
              <a:t>Необходимые астрономические еди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5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18EF-6AEF-4E9B-978F-95A179A61B5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439A-FEC0-41B4-818A-27E372493F4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2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14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F169-3386-416C-B522-5E50D64DA80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F58F-0397-469C-A75F-A9E28685B84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1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BCD9-7B69-4173-BAD6-C6F044D1689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D50-01D6-4544-BA2E-0E3021DA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D7B-552C-4D68-907A-5D991141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62C-9EC2-47E7-AF41-C9D4C866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56C-7068-42EB-B8C8-05DA5391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103C-053B-4F18-86DD-AAC975BB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1158-8F90-44C1-931F-D69C12CF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EF5D-B0A1-4AD6-B467-9757C01A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6980-CA31-40E6-9200-5A75FCC1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9024-1E3D-4A45-8034-3FAC8844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3AD7-F426-4206-9BCE-85FE65ED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E30B-B33A-4383-8506-D4D4BAD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BB5-CE0B-4D7E-BB5D-5D301863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B82E-71B5-4C0E-8AEC-56D44DB2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3072-F44B-4299-A0AE-A4353D72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E72F-5E70-43B4-AC40-B4A9BFD1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7FBC-9F2B-4F85-9014-AF879E10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BCC8-BCBD-4BA3-9F77-67E22961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05C-9326-4C69-AAC3-5F0AA3BF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878-1E9A-4AA3-9DEB-1C210CAE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EF9-5D47-46B0-ACF1-E295BC2B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1A9-842D-4581-B53C-994BA19E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E90-4306-47E7-83EB-56597B01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F0D-AE73-4FB7-A5C1-F18D8CA5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C8E-36FA-474E-80D5-6DF61BF9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.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.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.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.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оуг.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оуг.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FF92-EE98-4AD9-BDC8-E1CAA2D6CB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Группа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Прямоуг.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Прямоуг.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Группа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Прямоуг.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Прямоуг.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Прямоуг.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Прямоуг.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Прямоуг.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F242-6B26-43A7-82C3-2C057A2AC63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3600"/>
            </a:br>
            <a:r>
              <a:rPr b="1" i="1" lang="ru-RU" sz="2800" spc="-1" strike="noStrike">
                <a:solidFill>
                  <a:srgbClr val="333399"/>
                </a:solidFill>
                <a:latin typeface="Bookman Old Style"/>
              </a:rPr>
              <a:t>Урок-путешествие вокруг  Земл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Рисунок 4" descr="стандартный вид числа 001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1458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792920" cy="3456000"/>
          </a:xfrm>
          <a:prstGeom prst="rect">
            <a:avLst/>
          </a:prstGeom>
          <a:solidFill>
            <a:srgbClr val="b3e6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Когда Луна сверкнёт во тьме ночн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Своим серпом, блистательным и нежным,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Моя душа стремиться в мир большой, 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Пленяясь всем далёким, всем безбрежным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                                                   К. Бельмонт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Рисунок 14" descr="стандартный вид числа 009"/>
          <p:cNvPicPr/>
          <p:nvPr/>
        </p:nvPicPr>
        <p:blipFill>
          <a:blip r:embed="rId1"/>
          <a:stretch/>
        </p:blipFill>
        <p:spPr>
          <a:xfrm>
            <a:off x="611280" y="4005360"/>
            <a:ext cx="828180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Стандартный вид числа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바탕"/>
              </a:rPr>
              <a:t>Необходимые астрономические единиц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5" descr="стандартный вид числа 004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стандартный вид числа 003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3200"/>
            </a:b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1" name="Рисунок 4" descr="стандартный вид числа 002"/>
          <p:cNvPicPr/>
          <p:nvPr/>
        </p:nvPicPr>
        <p:blipFill>
          <a:blip r:embed="rId1"/>
          <a:stretch/>
        </p:blipFill>
        <p:spPr>
          <a:xfrm>
            <a:off x="2771640" y="4797360"/>
            <a:ext cx="4194360" cy="1170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. 8"/>
          <p:cNvSpPr/>
          <p:nvPr/>
        </p:nvSpPr>
        <p:spPr>
          <a:xfrm>
            <a:off x="3506760" y="1848960"/>
            <a:ext cx="200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7,34 * 1025г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c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= 12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 = -17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1 км/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4 раз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6 р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8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4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72000" y="206064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Рисунок 4" descr="стандартный вид числа 006"/>
          <p:cNvPicPr/>
          <p:nvPr/>
        </p:nvPicPr>
        <p:blipFill>
          <a:blip r:embed="rId1"/>
          <a:stretch/>
        </p:blipFill>
        <p:spPr>
          <a:xfrm>
            <a:off x="6084720" y="4869000"/>
            <a:ext cx="2808360" cy="172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8001d"/>
                </a:solidFill>
                <a:latin typeface="Bookman Old Style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47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Рисунок 4" descr="стандартный вид числа 007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. 8"/>
          <p:cNvSpPr/>
          <p:nvPr/>
        </p:nvSpPr>
        <p:spPr>
          <a:xfrm>
            <a:off x="468360" y="610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6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5:35:42Z</dcterms:created>
  <dc:creator> ЛУИЗА</dc:creator>
  <dc:description/>
  <dc:language>en-US</dc:language>
  <cp:lastModifiedBy>LEGION</cp:lastModifiedBy>
  <dcterms:modified xsi:type="dcterms:W3CDTF">2015-01-23T13:25:04Z</dcterms:modified>
  <cp:revision>8</cp:revision>
  <dc:subject/>
  <dc:title>Стандартный вид числа Урок-путешествие вокруг  Земли</dc:title>
</cp:coreProperties>
</file>