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9D0B-D2E2-45B4-A49A-E6875BE3CE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1800"/>
            </a:br>
            <a:r>
              <a:rPr b="1" i="1" lang="ru-RU" sz="1400" spc="-1" strike="noStrike">
                <a:solidFill>
                  <a:srgbClr val="000000"/>
                </a:solidFill>
                <a:latin typeface="Bookman Old Style"/>
              </a:rPr>
              <a:t>Урок-путешествие вокруг  Зем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0518-73FD-4A3A-A65D-BCDBD8DBE09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Когда Луна сверкнёт во тьме ночной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воим серпом, блистательным и нежным,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Моя душа стремиться в мир большой,  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Пленяясь всем далёким, всем безбрежным.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К. Бельмо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661C-D585-44DB-933A-811EF0B7FCD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바탕"/>
              </a:rPr>
              <a:t>Необходимые астрономические еди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5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12D9-6D9E-4265-A45C-4C76F259045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7F84-6471-4464-BC94-F2AFFA82EA9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2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14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654E-D18B-4C53-B838-023620AC92C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A337-EA11-45B6-82E3-485660774C4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1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08A0-6D84-4C0A-80EA-01B74A8BF15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A729-913B-4764-94CB-E1AA2B94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723-AD45-4C41-B57E-E4F682B9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C11-DBE9-483D-AEBE-BB1959F3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9BE-59A6-4AFE-9F62-F851B699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BA79-14E2-419A-8295-0F74D315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F86F-8574-4356-82D7-6F8D8C08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13D3-988B-4387-8267-EA01E8AA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4960-1C30-4CB2-A0B7-4DB5AEAD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B9E5-0AAD-4A3B-8D44-E8DEE6AD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8A7C-732A-4151-BAC2-51B219E4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BE6B-B312-4675-B3A4-B8D34BEE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177-38D1-469B-9E82-21501A29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5D13-0C25-4FC8-9976-07F45DAB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FA9A-5D28-4B8D-BBA2-4CBFF026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4A7D-E8DE-4BD3-879F-D0B48034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F631-0ABC-454A-8EB1-6C923698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DDBA-5C0F-4E45-AA88-DC9DEB75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359-A872-4542-A1C5-78CE39C2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F34C-CEB7-4EAD-826A-7AB0DB78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C3C-A983-41FB-A8D8-FA7C14BD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749-67D4-44ED-AAA1-B5E3E5FF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96BE-E666-4E18-A538-D4A574A6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CEA-1341-4EB2-9A1F-E387E1B7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97C2-0DB2-439B-B1A1-861E7D77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.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.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.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.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оуг.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оуг.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6E2E-3A99-4C40-9A90-5767370319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Группа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Прямоуг.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Прямоуг.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Группа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Прямоуг.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Прямоуг.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Прямоуг.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Прямоуг.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Прямоуг.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CC23-6314-474A-AF52-1B4BD01B1AF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3600"/>
            </a:br>
            <a:r>
              <a:rPr b="1" i="1" lang="ru-RU" sz="2800" spc="-1" strike="noStrike">
                <a:solidFill>
                  <a:srgbClr val="333399"/>
                </a:solidFill>
                <a:latin typeface="Bookman Old Style"/>
              </a:rPr>
              <a:t>Урок-путешествие вокруг  Земл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Рисунок 4" descr="стандартный вид числа 001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1458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792920" cy="3456000"/>
          </a:xfrm>
          <a:prstGeom prst="rect">
            <a:avLst/>
          </a:prstGeom>
          <a:solidFill>
            <a:srgbClr val="b3e6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Когда Луна сверкнёт во тьме ночн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Своим серпом, блистательным и нежным,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Моя душа стремиться в мир большой, 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Пленяясь всем далёким, всем безбрежным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                                                   К. Бельмонт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Рисунок 14" descr="стандартный вид числа 009"/>
          <p:cNvPicPr/>
          <p:nvPr/>
        </p:nvPicPr>
        <p:blipFill>
          <a:blip r:embed="rId1"/>
          <a:stretch/>
        </p:blipFill>
        <p:spPr>
          <a:xfrm>
            <a:off x="611280" y="4005360"/>
            <a:ext cx="8281800" cy="2519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5" descr="Стандартный вид числа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바탕"/>
              </a:rPr>
              <a:t>Необходимые астрономические единиц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5" descr="стандартный вид числа 004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0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стандартный вид числа 003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3200"/>
            </a:b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21" name="Рисунок 4" descr="стандартный вид числа 002"/>
          <p:cNvPicPr/>
          <p:nvPr/>
        </p:nvPicPr>
        <p:blipFill>
          <a:blip r:embed="rId1"/>
          <a:stretch/>
        </p:blipFill>
        <p:spPr>
          <a:xfrm>
            <a:off x="2771640" y="4797360"/>
            <a:ext cx="4194360" cy="1170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. 8"/>
          <p:cNvSpPr/>
          <p:nvPr/>
        </p:nvSpPr>
        <p:spPr>
          <a:xfrm>
            <a:off x="3506760" y="1848960"/>
            <a:ext cx="200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7,34 * 1025г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c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= 12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 = -17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1 км/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4 раз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6 р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8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242100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4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72000" y="206064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Рисунок 4" descr="стандартный вид числа 006"/>
          <p:cNvPicPr/>
          <p:nvPr/>
        </p:nvPicPr>
        <p:blipFill>
          <a:blip r:embed="rId1"/>
          <a:stretch/>
        </p:blipFill>
        <p:spPr>
          <a:xfrm>
            <a:off x="6084720" y="4869000"/>
            <a:ext cx="2808360" cy="172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8001d"/>
                </a:solidFill>
                <a:latin typeface="Bookman Old Style"/>
              </a:rPr>
              <a:t>   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4764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Рисунок 4" descr="стандартный вид числа 007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. 8"/>
          <p:cNvSpPr/>
          <p:nvPr/>
        </p:nvSpPr>
        <p:spPr>
          <a:xfrm>
            <a:off x="468360" y="610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6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5:35:42Z</dcterms:created>
  <dc:creator> ЛУИЗА</dc:creator>
  <dc:description/>
  <dc:language>en-US</dc:language>
  <cp:lastModifiedBy>LEGION</cp:lastModifiedBy>
  <dcterms:modified xsi:type="dcterms:W3CDTF">2015-01-23T13:25:04Z</dcterms:modified>
  <cp:revision>8</cp:revision>
  <dc:subject/>
  <dc:title>Стандартный вид числа Урок-путешествие вокруг  Земли</dc:title>
</cp:coreProperties>
</file>