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imes.wav" ContentType="audio/x-wav"/>
  <Override PartName="/ppt/media/image6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C14ED-5D18-4C97-A18A-BA00B71825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Monotype Corsiva"/>
              </a:rPr>
              <a:t>Платоновы тела, 10 класс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Monotype Corsiva"/>
              </a:rPr>
              <a:t>Правильные выпуклые многогран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1752-0EAA-410B-86D9-6816126B3D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Кеплер предположил, что существует связь между пятью правильными многогранниками и шестью открытыми к  тому времени планетами Солнечной систе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Согласно этому предположению, в сферу орбиты Сатурна можно вписать куб, в который вписывается сфера орбиты Юпитера. В неё, в свою очередь, вписывается тетраэдр, описанный около сферы орбиты Марса. В сферу орбиты Марса вписывается додекаэдр, к который вписывается сфера орбиты Земли. А она описана около икосаэдра, в который вписана сфера орбиты Венеры. Сфера этой планеты описана около октаэдра, в который вписывается сфера Меркур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Такая модель Солнечной системы (рис. 6) получила название  «Космического кубка» Кеплера. Результаты своих вычислений учёный опубликовал в книге «Тайна мироздания». Он считал, что тайна Вселенной раскры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Год за годом учёный уточнял свои наблюдения, перепроверял данные коллег, но, наконец, нашёл в себе силы отказаться от заманчивой гипотезы. Однако её следы просматриваются в третьем законе Кеплера, где говориться о кубах средних расстояний от Солн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11553-48D8-42F4-A3BE-C7D3043669E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Идеи Платона и Кеплера о связи правильных многогранников с гармоничным устройством мира и в наше время нашли своё продолжение в интересной научной гипотезе, которую в начале 80-х гг. высказали московские инженеры В. Макаров и В. Морозов. Они считают, что ядро Земли имеет форму и свойства растущего кристалла, оказывающего воздействие на развитие всех природных процессов, идущих на планете. Лучи этого кристалла, а точнее, его силовое поле, обуславливают икосаэдро-додекаэдровую структуру Земли (рис. 7).  Она проявляется в том, что в земной коре как бы  проступают проекции вписанных в земной шар правильных  многогранников: икосаэдра и додекаэ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Многие залежи полезных ископаемых тянутся вдоль икосаэдро-додекаэдровой сетки; 62 вершины и середины рёбер многогранников, называемых авторами узлами, обладают рядом специфических свойств, позволяющих объяснить некоторые непонятные явления. Здесь располагаются очаги древнейших культур и цивилизаций: Перу, Северная Монголия, Гаити, Обская культура и другие. В этих точках наблюдаются максимумы и минимумы атмосферного давления, гигантские завихрения Мирового океана. В этих узлах находятся озеро Лох-Несс, Бермудский треугольни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6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Дальнейшие исследования Земли, возможно, определят отношение к этой научной гипотезе, в которой, как видно, правильные многогранники занимают важное мест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C577-C005-4F89-ACAB-20BCDE678A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умма числа граней и вершин любого многогранн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равна числу рёбер, увеличенному на 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ff"/>
                </a:solidFill>
                <a:latin typeface="Monotype Corsiva"/>
              </a:rPr>
              <a:t>Г + В = Р +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6DEB-73CC-4E76-B649-A6EAF8C0AA1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ff"/>
                </a:solidFill>
                <a:latin typeface="Monotype Corsiva"/>
              </a:rPr>
              <a:t>Сальвадор Д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EF915-B332-4EB8-9661-67F655D257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Monotype Corsiva"/>
              </a:rPr>
              <a:t>Правильные многогранники и приро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встречаются в живой природе. Например, скелет одноклеточного организма феодарии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Circjgjnia</a:t>
            </a:r>
            <a:r>
              <a:rPr b="1" lang="en-US" sz="1200" spc="-1" strike="noStrike">
                <a:solidFill>
                  <a:srgbClr val="333399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icosahtdra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по форме напоминает икосаэдр (рис. 8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Чем же вызвана такая природная геометризация феодарий? По-видимому, тем, что из всех многогранников с тем же числом граней именно икосаэдр имеет наибольший объём при наименьшей площади поверхности. Это свойство помогает морскому организму преодолевать давление водной тол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– самые «выгодные» фигуры.  И  природа этим широко пользуется. Подтверждением  тому  служит  форма  некоторых кристалл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Взять хотя бы поваренную соль, без которой мы  не  можем обойтись. Известно, что она растворима в воде, служит проводником электрического тока. А кристаллы поваренной соли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NaCl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имеют форму куб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ри производстве алюминия пользуются алюминиево-калиевыми кварцами 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K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[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Al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SO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4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2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] </a:t>
            </a:r>
            <a:r>
              <a:rPr b="1" lang="ru-RU" sz="1100" spc="-1" strike="noStrike">
                <a:solidFill>
                  <a:srgbClr val="333399"/>
                </a:solidFill>
                <a:latin typeface="Symbol"/>
                <a:ea typeface="Symbol"/>
              </a:rPr>
              <a:t>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 12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H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2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O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,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монокристалл которых имеет форму правильного октаэ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олучение серной кислоты, железа, особых сортов цемента не обходится без сернистого колчедана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FeS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.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Кристаллы этого химического вещества имеют форму додекаэ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В разных химических реакциях применяется сурьменистый  сернокислый натрий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Na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5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SbO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4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</a:t>
            </a:r>
            <a:r>
              <a:rPr b="1" lang="en-US" sz="1100" spc="-1" strike="noStrike">
                <a:solidFill>
                  <a:srgbClr val="333399"/>
                </a:solidFill>
                <a:latin typeface="Calibri"/>
              </a:rPr>
              <a:t>SO</a:t>
            </a:r>
            <a:r>
              <a:rPr b="1" lang="ru-RU" sz="1100" spc="-1" strike="noStrike" baseline="-25000">
                <a:solidFill>
                  <a:srgbClr val="333399"/>
                </a:solidFill>
                <a:latin typeface="Calibri"/>
              </a:rPr>
              <a:t>4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))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– вещество, синтезированное учёными. Кристалл сурьменистого сернокислого натрия имеет форму тетраэд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оследний правильный многогранник  –  икосаэдр  передаёт  форму  кристаллов  бора </a:t>
            </a:r>
            <a:r>
              <a:rPr b="1" lang="ru-RU" sz="1100" spc="-1" strike="noStrike">
                <a:solidFill>
                  <a:srgbClr val="333399"/>
                </a:solidFill>
                <a:latin typeface="Calibri"/>
              </a:rPr>
              <a:t>(В).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В своё время бор использовался для создания полупроводников первого поко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3F3A2-409B-4539-AEB0-E2D2D12074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Определите количество граней, вершин и рёбер многогранника, изображённого на рисунке 9. Проверьте выполнимость формулы Эйлера для данного многогранн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DC25-821A-4940-A7DC-D95ED2A527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Правильных многогранников вызывающе мало, но этот весьма скромный по численности отряд сумел пробраться в самые глубины различных наук.</a:t>
            </a:r>
            <a:r>
              <a:rPr b="0" lang="ru-RU" sz="2400" spc="-1" strike="noStrike">
                <a:solidFill>
                  <a:srgbClr val="333399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00ff"/>
                </a:solidFill>
                <a:latin typeface="Calibri"/>
              </a:rPr>
              <a:t>                                </a:t>
            </a:r>
            <a:r>
              <a:rPr b="1" lang="ru-RU" sz="2400" spc="-1" strike="noStrike">
                <a:solidFill>
                  <a:srgbClr val="ff00ff"/>
                </a:solidFill>
                <a:latin typeface="Monotype Corsiva"/>
              </a:rPr>
              <a:t>Л. Кэррол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91EC2-0FA6-4EB9-8064-D02254E5E9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Правильный тетраэд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оставлен из четырёх равносторонних треугольников. Каждая его вершина является вершиной трёх треугольников. Следовательно, сумма плоских углов при каждой вершине равна </a:t>
            </a:r>
            <a:r>
              <a:rPr b="1" i="1" lang="ru-RU" sz="1200" spc="-1" strike="noStrike">
                <a:solidFill>
                  <a:srgbClr val="333399"/>
                </a:solidFill>
                <a:latin typeface="Monotype Corsiva"/>
              </a:rPr>
              <a:t>180</a:t>
            </a:r>
            <a:r>
              <a:rPr b="1" i="1" lang="en-US" sz="1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19147-7C2E-4731-84FA-0D724F4FE0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оставлен из восьми равносторонних треугольников. Каждая вершина октаэдра является вершиной четырёх треугольников. Следовательно, сумма плоских углов при каждой вершине 240</a:t>
            </a:r>
            <a:r>
              <a:rPr b="1" lang="en-US" sz="1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82A0-DB84-4C73-957E-1C9E61C654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оставлен из двадцати равносторонних треугольников. Каждая вершина икосаэдра является вершиной пяти треугольников. Следовательно, сумма плоских углов при каждой вершине равна </a:t>
            </a:r>
            <a:r>
              <a:rPr b="1" i="1" lang="ru-RU" sz="1200" spc="-1" strike="noStrike">
                <a:solidFill>
                  <a:srgbClr val="333399"/>
                </a:solidFill>
                <a:latin typeface="Monotype Corsiva"/>
              </a:rPr>
              <a:t>300</a:t>
            </a:r>
            <a:r>
              <a:rPr b="1" i="1" lang="en-US" sz="1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109F-ED5F-47B4-967D-D0AA6293AB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Monotype Corsiva"/>
              </a:rPr>
              <a:t>Куб (гексаэдр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DD19E-C161-4E9E-8F52-3C94664913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Составлен из двенадцати правильных пятиугольников. Каждая вершина додекаэдра является вершиной трёх правильных пятиугольников. Следовательно, сумма плоских углов при каждой вершине равна </a:t>
            </a:r>
            <a:r>
              <a:rPr b="1" i="1" lang="ru-RU" sz="1200" spc="-1" strike="noStrike">
                <a:solidFill>
                  <a:srgbClr val="333399"/>
                </a:solidFill>
                <a:latin typeface="Monotype Corsiva"/>
              </a:rPr>
              <a:t>324</a:t>
            </a:r>
            <a:r>
              <a:rPr b="1" i="1" lang="en-US" sz="1200" spc="-1" strike="noStrike">
                <a:solidFill>
                  <a:srgbClr val="333399"/>
                </a:solidFill>
                <a:latin typeface="Monotype Corsiva"/>
                <a:ea typeface="Arial"/>
              </a:rPr>
              <a:t>º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.</a:t>
            </a:r>
            <a:r>
              <a:rPr b="1" lang="ru-RU" sz="11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1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1715-714B-4F57-9BE3-1573BB5456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Названия многогранник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пришли из Древней Гре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в них  указывается число гран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эдра»  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 гран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тетра»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4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гекса»  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6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окта»  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8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икоса» 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 20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«додека» 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12.</a:t>
            </a:r>
            <a:r>
              <a:rPr b="1" lang="ru-RU" sz="1200" spc="-1" strike="noStrike">
                <a:solidFill>
                  <a:srgbClr val="333399"/>
                </a:solidFill>
                <a:latin typeface="Monotype Corsiv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B740-EA6C-4636-8751-19854BDC1B1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ff"/>
                </a:solidFill>
                <a:latin typeface="Monotype Corsiva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иногда называют Платоновыми телами, поскольку они занимают видное место в философской картине мира, разработанной великим мыслителем Древней Греции Платоном (ок. 428 – ок. 348 до н.э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латон считал, что мир строится из четырёх «стихий» – огня, земли, воздуха и воды, а атомы этих «стихий» имеют форму четырёх правильных многогран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Тетраэдр олицетворял огонь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оскольку его вершина устремлена вверх, как у разгоревшегося пламе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Икосаэдр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– как самый обтекаемый –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воду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Куб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– самая устойчивая из фигур –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землю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Октаэдр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воздух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В наше время эту систему можно сравнить с четырьмя состояниями вещества – твёрдым, жидким, газообразным и пламен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Пятый многогранник –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додекаэдр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символизировал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ff00ff"/>
                </a:solidFill>
                <a:latin typeface="Times New Roman"/>
              </a:rPr>
              <a:t>весь мир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и почитался главнейши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333399"/>
                </a:solidFill>
                <a:latin typeface="Times New Roman"/>
              </a:rPr>
              <a:t>Это была одна из первых попыток ввести в науку идею систематиз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54AB-58F1-463C-86D7-97B5135ECA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4A50-8FFD-4070-9A94-82924543E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2C0C-1946-417A-A83A-52DCA197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3733-1F3E-4664-AA6E-932DF2FBE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0AF2-048F-4384-8F9B-B2300D114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CBF81-99E1-4AF6-9DE3-A9BA65B2C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B49C-D9BF-4FF1-9CCF-47C582A2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350C-DD9F-4A5A-9435-C442332B7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E640-F9E2-42C5-B418-4DA2FF01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6C748-9AED-44A2-BA14-DB8D2D9C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F89A9-64C7-46C4-A863-6853A2202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56ADA-40F5-4B06-9CE8-4120D319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D9E0-09EF-414C-82AD-322D1EC4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D02DF-7744-42E5-A04E-854B9B2FA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6839B-CA9C-407F-9A53-DEF223F76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854C4-1EDE-41F5-8043-A5037E6C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B7B21-F262-4095-9CDB-AC5353A71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26C6C-28C4-4D1A-9237-51CA16495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9EE8-7030-4310-A0FF-D650D8227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5504-B3E9-4C9B-9175-75396BD4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2CFD-C1EC-4749-89FA-36A55708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8F3D-85CF-41E6-81F3-C298552C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76577-B2E4-482C-8DD3-0AF052EB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D63D-3634-42FC-9BB2-79C9C484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5CC6-36BD-4C79-BF75-0D736788B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12E41-3D1A-4E51-9CE0-EB9BAD0587C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77952-8F94-4C11-AA3C-6F47B2DD761C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91680" y="1906200"/>
            <a:ext cx="7931160" cy="37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ff00ff"/>
                </a:solidFill>
                <a:latin typeface="Monotype Corsiva"/>
              </a:rPr>
              <a:t>Правильные выпуклые многогранник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369720" y="194760"/>
            <a:ext cx="815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латоновы тела, 10 клас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115920" y="163440"/>
            <a:ext cx="8505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Monotype Corsiva"/>
              </a:rPr>
              <a:t>«Космический кубок» Кеплер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32080" y="1415880"/>
            <a:ext cx="5370480" cy="50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Кеплер предположил, что существует связь между пятью правильными многогранниками и шестью открытыми к  тому времени планетами Солнечной систем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Согласно этому предположению, в сферу орбиты Сатурна можно вписать куб, в который вписывается сфера орбиты Юпитера. В неё, в свою очередь, вписывается тетраэдр, описанный около сферы орбиты Марса. В сферу орбиты Марса вписывается додекаэдр, к который вписывается сфера орбиты Земли. А она описана около икосаэдра, в который вписана сфера орбиты Венеры. Сфера этой планеты описана около октаэдра, в который вписывается сфера Меркур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Такая модель Солнечной системы (рис. 6) получила название  «Космического кубка» Кеплера. Результаты своих вычислений учёный опубликовал в книге «Тайна мироздания». Он считал, что тайна Вселенной раскрыт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4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Год за годом учёный уточнял свои наблюдения, перепроверял данные коллег, но, наконец, нашёл в себе силы отказаться от заманчивой гипотезы. Однако её следы просматриваются в третьем законе Кеплера, где говориться о кубах средних расстояний от Солнц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69120" y="5002200"/>
            <a:ext cx="34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Модель  Солнечн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системы  И. Кепл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1316160" y="462024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ис.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4" descr="Рисунок6"/>
          <p:cNvPicPr/>
          <p:nvPr/>
        </p:nvPicPr>
        <p:blipFill>
          <a:blip r:embed="rId1"/>
          <a:stretch/>
        </p:blipFill>
        <p:spPr>
          <a:xfrm>
            <a:off x="531720" y="1835280"/>
            <a:ext cx="2621160" cy="26636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0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0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5" dur="10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0" dur="10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5" dur="10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159000" y="1487520"/>
            <a:ext cx="5515200" cy="53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Идеи Платона и Кеплера о связи правильных многогранников с гармоничным устройством мира и в наше время нашли своё продолжение в интересной научной гипотезе, которую в начале 80-х гг. высказали московские инженеры В. Макаров и В. Морозов. Они считают, что ядро Земли имеет форму и свойства растущего кристалла, оказывающего воздействие на развитие всех природных процессов, идущих на планете. Лучи этого кристалла, а точнее, его силовое поле, обуславливают икосаэдро-додекаэдровую структуру Земли (рис. 7).  Она проявляется в том, что в земной коре как бы  проступают проекции вписанных в земной шар правильных  многогранников: икосаэдра и додекаэдр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Многие залежи полезных ископаемых тянутся вдоль икосаэдро-додекаэдровой сетки; 62 вершины и середины рёбер многогранников, называемых авторами узлами, обладают рядом специфических свойств, позволяющих объяснить некоторые непонятные явления. Здесь располагаются очаги древнейших культур и цивилизаций: Перу, Северная Монголия, Гаити, Обская культура и другие. В этих точках наблюдаются максимумы и минимумы атмосферного давления, гигантские завихрения Мирового океана. В этих узлах находятся озеро Лох-Несс, Бермудский треугольник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6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333399"/>
                </a:solidFill>
                <a:latin typeface="Times New Roman"/>
              </a:rPr>
              <a:t>Дальнейшие исследования Земли, возможно, определят отношение к этой научной гипотезе, в которой, как видно, правильные многогранники занимают важное мест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8"/>
          <p:cNvSpPr/>
          <p:nvPr/>
        </p:nvSpPr>
        <p:spPr>
          <a:xfrm>
            <a:off x="754200" y="4888080"/>
            <a:ext cx="223200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Икосаэдр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додекаэдров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структура Зем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434880" y="254160"/>
            <a:ext cx="763452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Икосаэдро-додекаэдровая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структура Зем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0"/>
          <p:cNvSpPr/>
          <p:nvPr/>
        </p:nvSpPr>
        <p:spPr>
          <a:xfrm>
            <a:off x="1287720" y="443124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ис.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11" descr="Рисунок7"/>
          <p:cNvPicPr/>
          <p:nvPr/>
        </p:nvPicPr>
        <p:blipFill>
          <a:blip r:embed="rId1"/>
          <a:stretch/>
        </p:blipFill>
        <p:spPr>
          <a:xfrm>
            <a:off x="482760" y="1724040"/>
            <a:ext cx="2663640" cy="256680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8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6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0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9" dur="10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612720" y="1455840"/>
          <a:ext cx="7848720" cy="4640040"/>
        </p:xfrm>
        <a:graphic>
          <a:graphicData uri="http://schemas.openxmlformats.org/drawingml/2006/table">
            <a:tbl>
              <a:tblPr/>
              <a:tblGrid>
                <a:gridCol w="1882800"/>
                <a:gridCol w="1987560"/>
                <a:gridCol w="1989000"/>
                <a:gridCol w="1989360"/>
              </a:tblGrid>
              <a:tr h="6177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Правильный многогран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</a:rPr>
                        <a:t>Чи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гране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верш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рёб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Тетр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7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К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71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Окт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Додек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Икос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Rectangle 481"/>
          <p:cNvSpPr/>
          <p:nvPr/>
        </p:nvSpPr>
        <p:spPr>
          <a:xfrm>
            <a:off x="620640" y="20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Таблица №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6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8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9" name=""/>
          <p:cNvGraphicFramePr/>
          <p:nvPr/>
        </p:nvGraphicFramePr>
        <p:xfrm>
          <a:off x="627120" y="1442880"/>
          <a:ext cx="7791480" cy="4664160"/>
        </p:xfrm>
        <a:graphic>
          <a:graphicData uri="http://schemas.openxmlformats.org/drawingml/2006/table">
            <a:tbl>
              <a:tblPr/>
              <a:tblGrid>
                <a:gridCol w="1863720"/>
                <a:gridCol w="2954160"/>
                <a:gridCol w="2973600"/>
              </a:tblGrid>
              <a:tr h="7336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Правильный многогранни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Monotype Corsiva"/>
                          <a:ea typeface="Times New Roman"/>
                        </a:rPr>
                        <a:t>Числ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граней и верши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(Г + В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рёбе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Times New Roman"/>
                          <a:ea typeface="Times New Roman"/>
                        </a:rPr>
                        <a:t>(Р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54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Тетр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4 + 4 = 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Ку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6 + 8 = 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Окт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8 + 6 = 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Додекаэд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12 + 20 = 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Икосаэдр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20 + 12 = 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333399"/>
                          </a:solidFill>
                          <a:latin typeface="Comic Sans MS"/>
                          <a:ea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6666cc"/>
                      </a:solidFill>
                    </a:lnL>
                    <a:lnR w="5760">
                      <a:solidFill>
                        <a:srgbClr val="6666cc"/>
                      </a:solidFill>
                    </a:lnR>
                    <a:lnT w="5760">
                      <a:solidFill>
                        <a:srgbClr val="6666cc"/>
                      </a:solidFill>
                    </a:lnT>
                    <a:lnB w="5760">
                      <a:solidFill>
                        <a:srgbClr val="6666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Rectangle 41"/>
          <p:cNvSpPr/>
          <p:nvPr/>
        </p:nvSpPr>
        <p:spPr>
          <a:xfrm>
            <a:off x="547560" y="192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Monotype Corsiva"/>
              </a:rPr>
              <a:t>Таблица №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94920" y="1846080"/>
            <a:ext cx="8288280" cy="19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Сумма числа граней и вершин любого многогранн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равна числу рёбер, увеличенному на 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ff"/>
                </a:solidFill>
                <a:latin typeface="Monotype Corsiva"/>
              </a:rPr>
              <a:t>Г + В = Р +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407880" y="14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Формула Эйлер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425520" y="4019400"/>
            <a:ext cx="8272440" cy="18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Число граней плюс число вершин минус число рёбе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в любом многограннике равно 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ff"/>
                </a:solidFill>
                <a:latin typeface="Monotype Corsiva"/>
              </a:rPr>
              <a:t>Г + В </a:t>
            </a:r>
            <a:r>
              <a:rPr b="1" lang="ru-RU" sz="6000" spc="-1" strike="noStrike">
                <a:solidFill>
                  <a:srgbClr val="ff00ff"/>
                </a:solidFill>
                <a:latin typeface="Symbol"/>
                <a:ea typeface="Symbol"/>
              </a:rPr>
              <a:t></a:t>
            </a:r>
            <a:r>
              <a:rPr b="1" lang="ru-RU" sz="6000" spc="-1" strike="noStrike">
                <a:solidFill>
                  <a:srgbClr val="ff00ff"/>
                </a:solidFill>
                <a:latin typeface="Monotype Corsiva"/>
              </a:rPr>
              <a:t> Р =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7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2" dur="1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7" dur="1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9" dur="1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4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3960" y="5008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Monotype Corsiva"/>
              </a:rPr>
              <a:t>Сальвадор Дал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385920" y="260280"/>
            <a:ext cx="8272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Monotype Corsiva"/>
              </a:rPr>
              <a:t>«Тайная вечеря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7" descr="Рисунок8"/>
          <p:cNvPicPr/>
          <p:nvPr/>
        </p:nvPicPr>
        <p:blipFill>
          <a:blip r:embed="rId1"/>
          <a:stretch/>
        </p:blipFill>
        <p:spPr>
          <a:xfrm>
            <a:off x="1397160" y="1612800"/>
            <a:ext cx="6349680" cy="36324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156960"/>
            <a:ext cx="849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Правильные многогранники и природ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86280" y="1349280"/>
            <a:ext cx="5636880" cy="519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встречаются в живой природе. Например, скелет одноклеточного организма феодарии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Circjgjnia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icosahtdra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по форме напоминает икосаэдр (рис. 8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Чем же вызвана такая природная геометризация феодарий? По-видимому, тем, что из всех многогранников с тем же числом граней именно икосаэдр имеет наибольший объём при наименьшей площади поверхности. Это свойство помогает морскому организму преодолевать давление водной толщ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– самые «выгодные» фигуры.  И  природа этим широко пользуется. Подтверждением  тому  служит  форма  некоторых кристалло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Взять хотя бы поваренную соль, без которой мы  не  можем обойтись. Известно, что она растворима в воде, служит проводником электрического тока. А кристаллы поваренной соли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NaCl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имеют форму куб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ри производстве алюминия пользуются алюминиево-калиевыми кварцами 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[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Al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O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] </a:t>
            </a:r>
            <a:r>
              <a:rPr b="1" lang="ru-RU" sz="1200" spc="-1" strike="noStrike">
                <a:solidFill>
                  <a:srgbClr val="333399"/>
                </a:solidFill>
                <a:latin typeface="Symbol"/>
                <a:ea typeface="Symbol"/>
              </a:rPr>
              <a:t>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 12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O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,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монокристалл которых имеет форму правильного октаэд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олучение серной кислоты, железа, особых сортов цемента не обходится без сернистого колчедана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FeS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.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Кристаллы этого химического вещества имеют форму додекаэд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В разных химических реакциях применяется сурьменистый  сернокислый натрий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Na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5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bO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SO</a:t>
            </a:r>
            <a:r>
              <a:rPr b="1" lang="ru-RU" sz="1200" spc="-1" strike="noStrike" baseline="-25000">
                <a:solidFill>
                  <a:srgbClr val="333399"/>
                </a:solidFill>
                <a:latin typeface="Arial"/>
              </a:rPr>
              <a:t>4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))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– вещество, синтезированное учёными. Кристалл сурьменистого сернокислого натрия имеет форму тетраэдр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Последний правильный многогранник  –  икосаэдр  передаёт  форму  кристаллов  бора </a:t>
            </a:r>
            <a:r>
              <a:rPr b="1" lang="ru-RU" sz="1200" spc="-1" strike="noStrike">
                <a:solidFill>
                  <a:srgbClr val="333399"/>
                </a:solidFill>
                <a:latin typeface="Arial"/>
              </a:rPr>
              <a:t>(В).</a:t>
            </a:r>
            <a:r>
              <a:rPr b="1" lang="ru-RU" sz="1400" spc="-1" strike="noStrike">
                <a:solidFill>
                  <a:srgbClr val="333399"/>
                </a:solidFill>
                <a:latin typeface="Times New Roman"/>
              </a:rPr>
              <a:t> В своё время бор использовался для создания полупроводников первого покол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-34920" y="5040360"/>
            <a:ext cx="360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Феодар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(</a:t>
            </a:r>
            <a:r>
              <a:rPr b="1" lang="en-US" sz="2400" spc="-1" strike="noStrike">
                <a:solidFill>
                  <a:srgbClr val="333399"/>
                </a:solidFill>
                <a:latin typeface="Monotype Corsiva"/>
              </a:rPr>
              <a:t>Circjgjnia icosahtdra</a:t>
            </a: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525600" y="4650120"/>
            <a:ext cx="254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Monotype Corsiva"/>
              </a:rPr>
              <a:t>Рис.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Рисунок9"/>
          <p:cNvPicPr/>
          <p:nvPr/>
        </p:nvPicPr>
        <p:blipFill>
          <a:blip r:embed="rId1"/>
          <a:stretch/>
        </p:blipFill>
        <p:spPr>
          <a:xfrm>
            <a:off x="498600" y="1612800"/>
            <a:ext cx="2571480" cy="301788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1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8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9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4" dur="10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9" dur="1000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4" dur="1000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9" dur="1000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4" dur="1000"/>
                                        <p:tgtEl>
                                          <p:spTgt spid="1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560760" y="1869840"/>
            <a:ext cx="4968720" cy="38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Определите количество граней, вершин и рёбер многогранника, изображённого на рисунке 9. Проверьте выполнимость формулы Эйлера для данного многогранни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407880" y="144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    </a:t>
            </a: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Задач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1410480" y="557136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Рис.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1" descr="Рисунок10"/>
          <p:cNvPicPr/>
          <p:nvPr/>
        </p:nvPicPr>
        <p:blipFill>
          <a:blip r:embed="rId1"/>
          <a:stretch/>
        </p:blipFill>
        <p:spPr>
          <a:xfrm>
            <a:off x="870120" y="1619280"/>
            <a:ext cx="2498400" cy="39067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1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2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8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2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3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4" dur="8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595440" y="1569960"/>
            <a:ext cx="78231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333399"/>
                </a:solidFill>
                <a:latin typeface="Monotype Corsiva"/>
              </a:rPr>
              <a:t>Правильных многогранников вызывающе мало, но этот весьма скромный по численности отряд сумел пробраться в самые глубины различных наук.</a:t>
            </a: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00ff"/>
                </a:solidFill>
                <a:latin typeface="Arial"/>
              </a:rPr>
              <a:t>                                </a:t>
            </a:r>
            <a:r>
              <a:rPr b="1" lang="ru-RU" sz="4800" spc="-1" strike="noStrike">
                <a:solidFill>
                  <a:srgbClr val="ff00ff"/>
                </a:solidFill>
                <a:latin typeface="Monotype Corsiva"/>
              </a:rPr>
              <a:t>Л. Кэррол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9720" y="194760"/>
            <a:ext cx="815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равильный тетраэдр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726000" y="2001960"/>
            <a:ext cx="4706640" cy="379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четырёх равносторонних треугольников. Каждая его вершина является вершиной трёх треугольников. Следовательно, сумма плоских углов при каждой вершине равна </a:t>
            </a:r>
            <a:r>
              <a:rPr b="1" i="1" lang="ru-RU" sz="3200" spc="-1" strike="noStrike">
                <a:solidFill>
                  <a:srgbClr val="333399"/>
                </a:solidFill>
                <a:latin typeface="Monotype Corsiva"/>
              </a:rPr>
              <a:t>180</a:t>
            </a:r>
            <a:r>
              <a:rPr b="1" i="1" lang="en-US" sz="3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1536840" y="512028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8" descr="Рисунок1"/>
          <p:cNvPicPr/>
          <p:nvPr/>
        </p:nvPicPr>
        <p:blipFill>
          <a:blip r:embed="rId1"/>
          <a:stretch/>
        </p:blipFill>
        <p:spPr>
          <a:xfrm>
            <a:off x="900000" y="2075040"/>
            <a:ext cx="2713320" cy="296856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649320" y="1972800"/>
            <a:ext cx="4962600" cy="33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576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восьми равносторонних треугольников. Каждая вершина октаэдра является вершиной четырёх треугольников. Следовательно, сумма плоских углов при каждой вершине 240</a:t>
            </a: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515880" y="138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равильный октаэд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0"/>
          <p:cNvSpPr/>
          <p:nvPr/>
        </p:nvSpPr>
        <p:spPr>
          <a:xfrm>
            <a:off x="1376280" y="512028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1" descr="Рисунок2"/>
          <p:cNvPicPr/>
          <p:nvPr/>
        </p:nvPicPr>
        <p:blipFill>
          <a:blip r:embed="rId1"/>
          <a:stretch/>
        </p:blipFill>
        <p:spPr>
          <a:xfrm>
            <a:off x="704880" y="2075040"/>
            <a:ext cx="2914560" cy="296856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385920" y="120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равильный икосаэд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522600" y="1909800"/>
            <a:ext cx="496728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54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двадцати равносторонних треугольников. Каждая вершина икосаэдра является вершиной пяти треугольников. Следовательно, сумма плоских углов при каждой вершине равна </a:t>
            </a:r>
            <a:r>
              <a:rPr b="1" i="1" lang="ru-RU" sz="3200" spc="-1" strike="noStrike">
                <a:solidFill>
                  <a:srgbClr val="333399"/>
                </a:solidFill>
                <a:latin typeface="Monotype Corsiva"/>
              </a:rPr>
              <a:t>300</a:t>
            </a:r>
            <a:r>
              <a:rPr b="1" i="1" lang="en-US" sz="3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1463760" y="501876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" descr="Рисунок3"/>
          <p:cNvPicPr/>
          <p:nvPr/>
        </p:nvPicPr>
        <p:blipFill>
          <a:blip r:embed="rId1"/>
          <a:stretch/>
        </p:blipFill>
        <p:spPr>
          <a:xfrm>
            <a:off x="765000" y="2023920"/>
            <a:ext cx="2651400" cy="289584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0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" dur="8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0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5"/>
          <p:cNvSpPr/>
          <p:nvPr/>
        </p:nvSpPr>
        <p:spPr>
          <a:xfrm>
            <a:off x="3544920" y="2117880"/>
            <a:ext cx="5110200" cy="27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Monotype Corsiva"/>
              </a:rPr>
              <a:t>   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шести квадратов. Каждая вершина куба является вершиной трёх квадратов. Следовательно, сумма плоских углов при каждой вершине равна 270</a:t>
            </a:r>
            <a:r>
              <a:rPr b="1" lang="en-US" sz="3200" spc="-1" strike="noStrike">
                <a:solidFill>
                  <a:srgbClr val="333399"/>
                </a:solidFill>
                <a:latin typeface="Monotype Corsiva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122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Куб (гексаэдр)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1573200" y="4876560"/>
            <a:ext cx="1087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Рисунок4"/>
          <p:cNvPicPr/>
          <p:nvPr/>
        </p:nvPicPr>
        <p:blipFill>
          <a:blip r:embed="rId1"/>
          <a:stretch/>
        </p:blipFill>
        <p:spPr>
          <a:xfrm>
            <a:off x="716040" y="2071800"/>
            <a:ext cx="2919240" cy="288900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8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36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8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ffff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415800" y="1382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Правильный додекаэдр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486240" y="1900080"/>
            <a:ext cx="505944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5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Составлен из двенадцати правильных пятиугольников. Каждая вершина додекаэдра является вершиной трёх правильных пятиугольников. Следовательно, сумма плоских углов при каждой вершине равна </a:t>
            </a:r>
            <a:r>
              <a:rPr b="1" i="1" lang="ru-RU" sz="3200" spc="-1" strike="noStrike">
                <a:solidFill>
                  <a:srgbClr val="333399"/>
                </a:solidFill>
                <a:latin typeface="Monotype Corsiva"/>
              </a:rPr>
              <a:t>324</a:t>
            </a:r>
            <a:r>
              <a:rPr b="1" i="1" lang="en-US" sz="3200" spc="-1" strike="noStrike">
                <a:solidFill>
                  <a:srgbClr val="333399"/>
                </a:solidFill>
                <a:latin typeface="Monotype Corsiva"/>
                <a:ea typeface="Arial"/>
              </a:rPr>
              <a:t>º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.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2800" spc="-1" strike="noStrike">
                <a:solidFill>
                  <a:srgbClr val="333399"/>
                </a:solidFill>
                <a:latin typeface="Monotype Corsiv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333440" y="5063400"/>
            <a:ext cx="139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Рис.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Рисунок5"/>
          <p:cNvPicPr/>
          <p:nvPr/>
        </p:nvPicPr>
        <p:blipFill>
          <a:blip r:embed="rId1"/>
          <a:stretch/>
        </p:blipFill>
        <p:spPr>
          <a:xfrm>
            <a:off x="768240" y="2062080"/>
            <a:ext cx="2730600" cy="284652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8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6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58440" y="1522080"/>
            <a:ext cx="7931160" cy="44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пришли из Древней Греци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в них  указывается число гране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эдра»  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 грань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тетра»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4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гекса»  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6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окта»  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8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икоса» 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 2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887400"/>
                <a:tab algn="l" pos="1774800"/>
                <a:tab algn="l" pos="2662200"/>
                <a:tab algn="l" pos="3549600"/>
                <a:tab algn="l" pos="4437000"/>
                <a:tab algn="l" pos="5324400"/>
                <a:tab algn="l" pos="6211800"/>
                <a:tab algn="l" pos="7099200"/>
                <a:tab algn="l" pos="7986600"/>
                <a:tab algn="l" pos="8874000"/>
                <a:tab algn="l" pos="9761400"/>
                <a:tab algn="l" pos="106488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«додека»  </a:t>
            </a:r>
            <a:r>
              <a:rPr b="1" lang="ru-RU" sz="3200" spc="-1" strike="noStrike">
                <a:solidFill>
                  <a:srgbClr val="333399"/>
                </a:solidFill>
                <a:latin typeface="Symbol"/>
                <a:ea typeface="Symbol"/>
              </a:rPr>
              <a:t>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12.</a:t>
            </a:r>
            <a:r>
              <a:rPr b="1" lang="ru-RU" sz="3200" spc="-1" strike="noStrike">
                <a:solidFill>
                  <a:srgbClr val="333399"/>
                </a:solidFill>
                <a:latin typeface="Monotype Corsiv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28760" y="13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Monotype Corsiva"/>
              </a:rPr>
              <a:t>Названия многогранников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8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" dur="10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" dur="10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2" dur="10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50000">
              <a:srgbClr val="ffffff"/>
            </a:gs>
            <a:gs pos="100000">
              <a:srgbClr val="99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09600" y="1353960"/>
            <a:ext cx="871200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Monotype Corsiva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равильные многогранники иногда называют Платоновыми телами, поскольку они занимают видное место в философской картине мира, разработанной великим мыслителем Древней Греции Платоном (ок. 428 – ок. 348 до н.э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латон считал, что мир строится из четырёх «стихий» – огня, земли, воздуха и воды, а атомы этих «стихий» имеют форму четырёх правильных многогран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Тетраэдр олицетворял огон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оскольку его вершина устремлена вверх, как у разгоревшегося пламе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Икосаэд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– как самый обтекаемый 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воду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Куб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– самая устойчивая из фигур 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землю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Октаэд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воздух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В наше время эту систему можно сравнить с четырьмя состояниями вещества – твёрдым, жидким, газообразным и пламенны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Пятый многогранник –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додекаэд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имволизировал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ff"/>
                </a:solidFill>
                <a:latin typeface="Times New Roman"/>
              </a:rPr>
              <a:t>весь мир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и почитался главнейш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       </a:t>
            </a: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Это была одна из первых попыток ввести в науку идею систематиз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9080" y="142920"/>
            <a:ext cx="8664480" cy="10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Правильные многогранники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Monotype Corsiva"/>
              </a:rPr>
              <a:t>в философской картине мира Плато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8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8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" dur="1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3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8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3" dur="1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3" dur="1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5T12:56:59Z</dcterms:created>
  <dc:creator>Igor</dc:creator>
  <dc:description/>
  <dc:language>en-US</dc:language>
  <cp:lastModifiedBy>LEGION</cp:lastModifiedBy>
  <dcterms:modified xsi:type="dcterms:W3CDTF">2015-01-23T13:25:39Z</dcterms:modified>
  <cp:revision>24</cp:revision>
  <dc:subject/>
  <dc:title>Слайд 1</dc:title>
</cp:coreProperties>
</file>