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3372-C0B8-4916-B6DA-934B358622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AC96-8361-4225-8044-A4AAB0FC99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.к. сумма острых углов прямоугольного треугольника равна 9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 два других острых угла также рав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торому признаку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729C-FCFC-410F-A432-FE9F14BFF7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9F15-96B2-41DE-858F-6D3A4CB7DB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23BD-2D7B-43FE-8D88-F6E662CAC9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7F98-BD1E-4EFC-89B8-D5BF11C50C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В прямоугольном треугольнике все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два угла острых и один прям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один острый угол, один прямой и один тупой уго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все углы прям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23FE-91D1-4E3E-8858-E4FBA723BC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 угол, назыв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ами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6A6B-6D9E-43C1-8457-F024F19514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ой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ом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ой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CCDF-38A2-4AE6-9EE4-836CA9B28E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умма острых углов прямоугольного треугольник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18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10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9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C52C-49FB-435B-8091-8BE68BCA86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cc00"/>
                </a:solidFill>
                <a:latin typeface="Tahoma"/>
              </a:rPr>
              <a:t>Кулешовой  Галиной  Николаевн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9B10-F2D6-4BF4-94FE-C7BD14F670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атематический папирус Ахмеса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хмес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пирус Ахмеса был обнаружен в 1858 шотландским египтологом Генри Риндом 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9E71-0AFD-45C5-B0CA-C204992979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cc00"/>
                </a:solidFill>
                <a:latin typeface="Arial"/>
              </a:rPr>
              <a:t>С о д е р ж а н и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063D-2185-4836-A482-C7A0B9A44E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кли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7EFE-6F11-4DA0-A11F-8C852DC90A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Arial"/>
                <a:ea typeface="Times New Roman"/>
              </a:rPr>
              <a:t>В любом треугольнике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  Против большей стороны лежит больший угол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  Против равных сторон лежат равные углы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  Сумма углов треугольника равна 180 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  Продолжая одну из сторон треуголь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а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угол треугольника равен сумме внутренних углов, не смежных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Любая сторона треугольника меньше суммы двух других сторон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a &lt; b + c,  a &gt; b – c;  b &lt; a + c,  b &gt; a – c;  c &lt; a + b,  c &gt; a – b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FE9A-776C-4F0E-A6B0-409C400298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ее внимательно изучи данную тем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9055-E631-469B-9D3B-9C8F4AD78F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0D25-E04F-4056-BB8D-CBA49504A0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D543-8CFA-4EC7-A405-E578B9495E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hypoteins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ющег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тянущаяся под чем либо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стягивающа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слова «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катетос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торое означал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отвес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перпендикуля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В средние века словом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е слов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отребляет выраж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00AA-20EA-49A6-BCE7-3F1209AFF7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это геометрическая фигу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ящая из трёх точек, не лежащих на 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один из углов треугольника 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ив прямого угла, называется </a:t>
            </a:r>
            <a:r>
              <a:rPr b="1" i="1" lang="ru-RU" sz="12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 две другие – </a:t>
            </a:r>
            <a:r>
              <a:rPr b="1" i="1" lang="ru-RU" sz="12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AE96-BB60-4CB5-B7A6-09BCFC389F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7970-9BE6-4B7E-A83F-0C9F5B41BB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31A1-4E87-4F8C-B758-E8C5C548C8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перв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двум сторонам и углу между ни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691-C11A-4F0F-B04B-91FE54F6D0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762F-0EE2-41AF-A6E5-12724391A1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втор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FA2-D112-46A4-A649-B035A10D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AA1-A0DE-4929-B241-66A56E04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28D-926D-44D9-87D0-AA000F18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2B4-C39C-4B7F-94BD-7884C8C1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8C2-4126-410E-926F-51EB145E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067-FD76-4B94-ACA6-767B0AB8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989-2D46-4C3D-AC9F-15DB4057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CBD-BFE6-4C31-B67D-7DB7C375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4D6-6EBD-4B6B-9563-9BDC9AF6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81C-CC94-4DC4-A158-2AE5EE1B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C72-0D76-41E1-A7E1-085BB807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50A-F205-492D-816B-8EFF75A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9172-E19B-4553-B862-303AE0BC36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hyperlink" Target="mailto:galka-kul@yandex.ru" TargetMode="External"/><Relationship Id="rId5" Type="http://schemas.openxmlformats.org/officeDocument/2006/relationships/slide" Target="slide24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image" Target="../media/image4.gif"/><Relationship Id="rId8" Type="http://schemas.openxmlformats.org/officeDocument/2006/relationships/slide" Target="slide13.xml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" Target="slide21.xml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" Target="slide3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6.gi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70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93" name="Line 7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7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7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74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97" name="Line 75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76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77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Text Box 78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9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0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81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82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83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84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07" name="Line 8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8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Group 87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10" name="Line 88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89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2" name="Picture 90" descr="cif3[1]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1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92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3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94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9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96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19" name="Rectangle 97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Object 98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Text Box 99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Arc 100"/>
          <p:cNvSpPr/>
          <p:nvPr/>
        </p:nvSpPr>
        <p:spPr>
          <a:xfrm flipH="1" flipV="1" rot="17826000">
            <a:off x="794880" y="185544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rc 101"/>
          <p:cNvSpPr/>
          <p:nvPr/>
        </p:nvSpPr>
        <p:spPr>
          <a:xfrm flipH="1" flipV="1" rot="17826000">
            <a:off x="2701440" y="184752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Group 104"/>
          <p:cNvGrpSpPr/>
          <p:nvPr/>
        </p:nvGrpSpPr>
        <p:grpSpPr>
          <a:xfrm>
            <a:off x="3636360" y="3432240"/>
            <a:ext cx="279720" cy="211320"/>
            <a:chOff x="3636360" y="3432240"/>
            <a:chExt cx="279720" cy="211320"/>
          </a:xfrm>
        </p:grpSpPr>
        <p:sp>
          <p:nvSpPr>
            <p:cNvPr id="325" name="Arc 102"/>
            <p:cNvSpPr/>
            <p:nvPr/>
          </p:nvSpPr>
          <p:spPr>
            <a:xfrm flipH="1" flipV="1" rot="4138800">
              <a:off x="3735720" y="3463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rc 103"/>
            <p:cNvSpPr/>
            <p:nvPr/>
          </p:nvSpPr>
          <p:spPr>
            <a:xfrm flipH="1" flipV="1" rot="4138800">
              <a:off x="3656880" y="3456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Group 105"/>
          <p:cNvGrpSpPr/>
          <p:nvPr/>
        </p:nvGrpSpPr>
        <p:grpSpPr>
          <a:xfrm>
            <a:off x="1737720" y="3459240"/>
            <a:ext cx="279720" cy="211320"/>
            <a:chOff x="1737720" y="3459240"/>
            <a:chExt cx="279720" cy="211320"/>
          </a:xfrm>
        </p:grpSpPr>
        <p:sp>
          <p:nvSpPr>
            <p:cNvPr id="328" name="Arc 106"/>
            <p:cNvSpPr/>
            <p:nvPr/>
          </p:nvSpPr>
          <p:spPr>
            <a:xfrm flipH="1" flipV="1" rot="4138800">
              <a:off x="1837080" y="3490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rc 107"/>
            <p:cNvSpPr/>
            <p:nvPr/>
          </p:nvSpPr>
          <p:spPr>
            <a:xfrm flipH="1" flipV="1" rot="4138800">
              <a:off x="1758240" y="3483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Group 112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31" name="Rectangle 110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111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Group 117"/>
          <p:cNvGrpSpPr/>
          <p:nvPr/>
        </p:nvGrpSpPr>
        <p:grpSpPr>
          <a:xfrm>
            <a:off x="776160" y="1477800"/>
            <a:ext cx="3203640" cy="2184480"/>
            <a:chOff x="776160" y="1477800"/>
            <a:chExt cx="3203640" cy="2184480"/>
          </a:xfrm>
        </p:grpSpPr>
        <p:grpSp>
          <p:nvGrpSpPr>
            <p:cNvPr id="334" name="Group 116"/>
            <p:cNvGrpSpPr/>
            <p:nvPr/>
          </p:nvGrpSpPr>
          <p:grpSpPr>
            <a:xfrm>
              <a:off x="2682000" y="1482480"/>
              <a:ext cx="1297800" cy="2179800"/>
              <a:chOff x="2682000" y="1482480"/>
              <a:chExt cx="1297800" cy="2179800"/>
            </a:xfrm>
          </p:grpSpPr>
          <p:sp>
            <p:nvSpPr>
              <p:cNvPr id="335" name="Arc 109"/>
              <p:cNvSpPr/>
              <p:nvPr/>
            </p:nvSpPr>
            <p:spPr>
              <a:xfrm flipH="1" flipV="1" rot="17826000">
                <a:off x="2698200" y="186336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Line 113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115"/>
            <p:cNvGrpSpPr/>
            <p:nvPr/>
          </p:nvGrpSpPr>
          <p:grpSpPr>
            <a:xfrm>
              <a:off x="776160" y="1477800"/>
              <a:ext cx="1287360" cy="2179800"/>
              <a:chOff x="776160" y="1477800"/>
              <a:chExt cx="1287360" cy="2179800"/>
            </a:xfrm>
          </p:grpSpPr>
          <p:sp>
            <p:nvSpPr>
              <p:cNvPr id="338" name="Line 108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rc 114"/>
              <p:cNvSpPr/>
              <p:nvPr/>
            </p:nvSpPr>
            <p:spPr>
              <a:xfrm flipH="1" flipV="1" rot="17826000">
                <a:off x="798120" y="186480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44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Group 13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48" name="Line 14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Text Box 17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58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61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3" name="Picture 29" descr="cif4[1]"/>
          <p:cNvPicPr/>
          <p:nvPr/>
        </p:nvPicPr>
        <p:blipFill>
          <a:blip r:embed="rId2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38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69" name="Rectangle 35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37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39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72" name="Line 40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41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42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Text Box 43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44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45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Group 49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379" name="Line 50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51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Group 52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382" name="Line 53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Line 55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57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58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rc 61"/>
          <p:cNvSpPr/>
          <p:nvPr/>
        </p:nvSpPr>
        <p:spPr>
          <a:xfrm flipH="1" rot="11792400">
            <a:off x="2682360" y="1948680"/>
            <a:ext cx="277920" cy="26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Group 64"/>
          <p:cNvGrpSpPr/>
          <p:nvPr/>
        </p:nvGrpSpPr>
        <p:grpSpPr>
          <a:xfrm>
            <a:off x="3474720" y="3390840"/>
            <a:ext cx="299880" cy="266760"/>
            <a:chOff x="3474720" y="3390840"/>
            <a:chExt cx="299880" cy="266760"/>
          </a:xfrm>
        </p:grpSpPr>
        <p:sp>
          <p:nvSpPr>
            <p:cNvPr id="391" name="Arc 60"/>
            <p:cNvSpPr/>
            <p:nvPr/>
          </p:nvSpPr>
          <p:spPr>
            <a:xfrm flipH="1">
              <a:off x="3474360" y="3392280"/>
              <a:ext cx="277560" cy="265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rc 62"/>
            <p:cNvSpPr/>
            <p:nvPr/>
          </p:nvSpPr>
          <p:spPr>
            <a:xfrm flipH="1">
              <a:off x="3614040" y="3390840"/>
              <a:ext cx="16020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65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98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02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10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415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418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26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30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435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42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47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8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49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55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63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69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481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3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800280" y="1806480"/>
            <a:ext cx="7907040" cy="2136240"/>
            <a:chOff x="800280" y="1806480"/>
            <a:chExt cx="7907040" cy="2136240"/>
          </a:xfrm>
        </p:grpSpPr>
        <p:sp>
          <p:nvSpPr>
            <p:cNvPr id="503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7"/>
            <p:cNvSpPr/>
            <p:nvPr/>
          </p:nvSpPr>
          <p:spPr>
            <a:xfrm>
              <a:off x="2314440" y="2600280"/>
              <a:ext cx="34290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10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4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9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6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9" descr="124"/>
          <p:cNvPicPr/>
          <p:nvPr/>
        </p:nvPicPr>
        <p:blipFill>
          <a:blip r:embed="rId1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12a"/>
          <p:cNvPicPr/>
          <p:nvPr/>
        </p:nvPicPr>
        <p:blipFill>
          <a:blip r:embed="rId2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099[1]"/>
          <p:cNvPicPr/>
          <p:nvPr/>
        </p:nvPicPr>
        <p:blipFill>
          <a:blip r:embed="rId3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4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6">
            <a:hlinkClick r:id="rId5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Arial"/>
                <a:hlinkClick r:id="rId6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12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13" descr="book[1]"/>
          <p:cNvPicPr/>
          <p:nvPr/>
        </p:nvPicPr>
        <p:blipFill>
          <a:blip r:embed="rId3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0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11" descr="01"/>
          <p:cNvPicPr/>
          <p:nvPr/>
        </p:nvPicPr>
        <p:blipFill>
          <a:blip r:embed="rId7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71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72" name="Picture 13" descr="07[2]"/>
              <p:cNvPicPr/>
              <p:nvPr/>
            </p:nvPicPr>
            <p:blipFill>
              <a:blip r:embed="rId9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4" descr="07[2]"/>
              <p:cNvPicPr/>
              <p:nvPr/>
            </p:nvPicPr>
            <p:blipFill>
              <a:blip r:embed="rId10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75" name="Picture 17" descr="07[2]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18" descr="07[2]"/>
              <p:cNvPicPr/>
              <p:nvPr/>
            </p:nvPicPr>
            <p:blipFill>
              <a:blip r:embed="rId12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78" name="Picture 20" descr="07[2]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21" descr="07[2]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81" name="Picture 23" descr="07[2]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4" descr="07[2]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Text Box 26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7" descr="07[3]"/>
          <p:cNvPicPr/>
          <p:nvPr/>
        </p:nvPicPr>
        <p:blipFill>
          <a:blip r:embed="rId18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13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Picture 14" descr="roman_speaker[1]"/>
          <p:cNvPicPr/>
          <p:nvPr/>
        </p:nvPicPr>
        <p:blipFill>
          <a:blip r:embed="rId4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>
            <a:hlinkClick r:id="rId1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37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38" name="Picture 21" descr="geo7b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41" name="Picture 7" descr="http://www.bymath.net/studyguide/geo/sec/geo7a.gif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31" descr="r1[1]"/>
          <p:cNvPicPr/>
          <p:nvPr/>
        </p:nvPicPr>
        <p:blipFill>
          <a:blip r:embed="rId4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AutoShape 5">
            <a:hlinkClick r:id="rId1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Picture 7" descr="mangoodpoint[1]"/>
          <p:cNvPicPr/>
          <p:nvPr/>
        </p:nvPicPr>
        <p:blipFill>
          <a:blip r:embed="rId2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30[1]"/>
          <p:cNvPicPr/>
          <p:nvPr/>
        </p:nvPicPr>
        <p:blipFill>
          <a:blip r:embed="rId3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30[1]"/>
          <p:cNvPicPr/>
          <p:nvPr/>
        </p:nvPicPr>
        <p:blipFill>
          <a:blip r:embed="rId4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5">
            <a:hlinkClick r:id="rId1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55" name="Picture 14" descr="ani-lights-left-29x120[1]"/>
            <p:cNvPicPr/>
            <p:nvPr/>
          </p:nvPicPr>
          <p:blipFill>
            <a:blip r:embed="rId2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6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57" name="Picture 15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16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17" descr="ani-lights-left-29x120[1]"/>
              <p:cNvPicPr/>
              <p:nvPr/>
            </p:nvPicPr>
            <p:blipFill>
              <a:blip r:embed="rId5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0" name="Picture 19" descr="ani-lights-left-29x120[1]"/>
            <p:cNvPicPr/>
            <p:nvPr/>
          </p:nvPicPr>
          <p:blipFill>
            <a:blip r:embed="rId6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62" name="Picture 24" descr="ani-lights-left-29x120[1]"/>
            <p:cNvPicPr/>
            <p:nvPr/>
          </p:nvPicPr>
          <p:blipFill>
            <a:blip r:embed="rId7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3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64" name="Picture 26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27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Picture 28" descr="ani-lights-left-29x120[1]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7" name="Picture 29" descr="ani-lights-left-29x120[1]"/>
            <p:cNvPicPr/>
            <p:nvPr/>
          </p:nvPicPr>
          <p:blipFill>
            <a:blip r:embed="rId11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69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70" name="Picture 20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21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2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73" name="Picture 32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Picture 33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5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76" name="Picture 35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36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8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79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80" name="Picture 40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Picture 41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83" name="Picture 43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44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5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86" name="Picture 46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47" descr="ani-lights-left-29x120[1]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88" name="Picture 50" descr="mangoodpoint[1]"/>
          <p:cNvPicPr/>
          <p:nvPr/>
        </p:nvPicPr>
        <p:blipFill>
          <a:blip r:embed="rId24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11" descr="angel147[1]"/>
          <p:cNvPicPr/>
          <p:nvPr/>
        </p:nvPicPr>
        <p:blipFill>
          <a:blip r:embed="rId2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594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595" name="Picture 17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18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7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598" name="Picture 21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Picture 22" descr="16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0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01" name="Picture 24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25" descr="16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3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04" name="Picture 27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Picture 28" descr="16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8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7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20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23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26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47" name="Text Box 9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4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19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59" name="Text Box 15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70" name="Line 1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15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174" name="Line 16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7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184" name="Line 2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28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187" name="Line 29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Line 31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6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192" name="Line 34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195" name="Line 38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84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198" name="Rectangle 83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41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43" descr="cif1[1]"/>
          <p:cNvPicPr/>
          <p:nvPr/>
        </p:nvPicPr>
        <p:blipFill>
          <a:blip r:embed="rId2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58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04" name="Line 48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Group 49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06" name="Line 50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57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09" name="Line 47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52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53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Group 54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13" name="Line 55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56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Group 59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16" name="Line 60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61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18" name="Line 62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64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21" name="Line 65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4" name="Group 68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25" name="Line 69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70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" name="Group 71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28" name="Line 72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73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30" name="Line 74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76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33" name="Line 77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79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Group 80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37" name="Line 81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82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43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13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47" name="Line 14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Text Box 17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57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60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2" name="Picture 29" descr="cif2[1]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39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70" name="Rectangle 36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34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Text Box 38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Rectangle 40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rc 42"/>
          <p:cNvSpPr/>
          <p:nvPr/>
        </p:nvSpPr>
        <p:spPr>
          <a:xfrm rot="6490800">
            <a:off x="774360" y="1909440"/>
            <a:ext cx="23472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rc 48"/>
          <p:cNvSpPr/>
          <p:nvPr/>
        </p:nvSpPr>
        <p:spPr>
          <a:xfrm rot="6490800">
            <a:off x="2704680" y="1917360"/>
            <a:ext cx="23508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60"/>
          <p:cNvGrpSpPr/>
          <p:nvPr/>
        </p:nvGrpSpPr>
        <p:grpSpPr>
          <a:xfrm>
            <a:off x="746280" y="1467000"/>
            <a:ext cx="2213640" cy="2214360"/>
            <a:chOff x="746280" y="1467000"/>
            <a:chExt cx="2213640" cy="2214360"/>
          </a:xfrm>
        </p:grpSpPr>
        <p:grpSp>
          <p:nvGrpSpPr>
            <p:cNvPr id="277" name="Group 53"/>
            <p:cNvGrpSpPr/>
            <p:nvPr/>
          </p:nvGrpSpPr>
          <p:grpSpPr>
            <a:xfrm>
              <a:off x="746280" y="1467000"/>
              <a:ext cx="305640" cy="2195280"/>
              <a:chOff x="746280" y="1467000"/>
              <a:chExt cx="305640" cy="2195280"/>
            </a:xfrm>
          </p:grpSpPr>
          <p:sp>
            <p:nvSpPr>
              <p:cNvPr id="278" name="Line 41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rc 49"/>
              <p:cNvSpPr/>
              <p:nvPr/>
            </p:nvSpPr>
            <p:spPr>
              <a:xfrm rot="6490800">
                <a:off x="793440" y="189540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50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281" name="Line 51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52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Group 54"/>
            <p:cNvGrpSpPr/>
            <p:nvPr/>
          </p:nvGrpSpPr>
          <p:grpSpPr>
            <a:xfrm>
              <a:off x="2654280" y="1486080"/>
              <a:ext cx="305640" cy="2195280"/>
              <a:chOff x="2654280" y="1486080"/>
              <a:chExt cx="305640" cy="2195280"/>
            </a:xfrm>
          </p:grpSpPr>
          <p:sp>
            <p:nvSpPr>
              <p:cNvPr id="284" name="Line 55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rc 56"/>
              <p:cNvSpPr/>
              <p:nvPr/>
            </p:nvSpPr>
            <p:spPr>
              <a:xfrm rot="6490800">
                <a:off x="2701440" y="191448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6" name="Group 57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287" name="Line 58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59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3:32:15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