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0433-48A1-4729-B071-BB0A2402499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hyperlink" Target="http://oldru.narod.ru/history106.html" TargetMode="External"/><Relationship Id="rId2" Type="http://schemas.openxmlformats.org/officeDocument/2006/relationships/hyperlink" Target="http://oldru.narod.ru/history106.html" TargetMode="External"/><Relationship Id="rId3" Type="http://schemas.openxmlformats.org/officeDocument/2006/relationships/slide" Target="../slides/slide28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змерение отрез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F525-E388-47D0-8882-79E74AD82BE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3 аршина составляли САЖ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C3DB-BA38-43B7-BD98-6F0787E4730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49e7"/>
                </a:solidFill>
                <a:latin typeface="Calibri"/>
              </a:rPr>
              <a:t>Длина локтя или шага у разных людей различная, а мера длины должна быть одинак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B6A7-048B-4304-9FDF-8D455811166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бразец меры – метр, принятий за эталон, сейчас хранится в одном из французских музее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A2BD-ABEF-424E-8FF1-DADFFD30C2F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492296"/>
                </a:solidFill>
                <a:latin typeface="Calibri"/>
              </a:rPr>
              <a:t>Вернемся к вопросу, заданному в начале: «Что значит измерить?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о можно ответить так: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«Измерить – значит сравнить с эталоном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4932-0851-4E8D-B0D8-412F7DB476F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c5e"/>
                </a:solidFill>
                <a:latin typeface="Calibri"/>
              </a:rPr>
              <a:t>Инструмент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- А чем мы обычно измеря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 древнейшим геометрическим инструмен-там относятся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циркуль и линейк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Сначала изобрели линейку, а циркуль был изобретен позже - в I ве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Древней Гре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EB1D-880B-4E83-ACE9-354896221AA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c5e"/>
                </a:solidFill>
                <a:latin typeface="Calibri"/>
              </a:rPr>
              <a:t>Инструмент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техническом черчении употребляют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масштабную миллиметровую линейку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ля измерения диамет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рубки использу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штангенциркуль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0EB5-1514-42D1-9FAE-893EF393364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c5e"/>
                </a:solidFill>
                <a:latin typeface="Calibri"/>
              </a:rPr>
              <a:t>Инструмент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ля измерения расстояний на местности пользуются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улеткой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«Рулетка» - с французского (rouler – свертывать, ката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55C3-677B-415D-B255-E32E699131B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войства длины отрезка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отрезки нельзя начерт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2,5 с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5 с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- 2 с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A358-BAD8-432D-86E7-3B7059C9F82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войства длины отрезка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ожно сказать о длине двух равных отрезков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E12E-F4D9-4052-8922-B0C1C46B8FE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войства длины отрезка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ачертить отрезок АВ, поставить на нём точку С, то получатся отрезки АС и СВ. Что можно узнать, сложив длины отрезков АС и СВ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614A-6C08-4E60-87C1-6607F1C35EC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99"/>
                </a:solidFill>
                <a:latin typeface="Calibri"/>
              </a:rPr>
              <a:t>Измерь самого себя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99"/>
                </a:solidFill>
                <a:latin typeface="Calibri"/>
              </a:rPr>
              <a:t>и ты станешь настоящим геомет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арсилио Сичи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73FA-80C3-4C97-BDB7-F21FC3A023B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ешение зада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1) (Устно) На отрезке АС поставлена точка В, АВ = 5,6 см, ВС=2,8 см. Найдите длину 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44c5e"/>
                </a:solidFill>
                <a:latin typeface="Calibri"/>
              </a:rPr>
              <a:t>2) </a:t>
            </a: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(Письменно) </a:t>
            </a:r>
            <a:r>
              <a:rPr b="0" lang="ru-RU" sz="1200" spc="-1" strike="noStrike">
                <a:solidFill>
                  <a:srgbClr val="344c5e"/>
                </a:solidFill>
                <a:latin typeface="Calibri"/>
              </a:rPr>
              <a:t>На отрезке АВ лежит точка С, АС = 6,1 см, АВ = 8,7 см. Найдите длину С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9712-6DF2-499B-A74B-085C7A9B965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бразец оформл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Задача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Дано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езок А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ahoma"/>
              </a:rPr>
              <a:t>Є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 А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 = 6,1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 = 8,7с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С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586C-4FDB-44D9-8B4B-F3F594E705F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Решить самостоят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1) Точка М лежит на прямой ЕF между Е и F. Чему равна длина отрезка МF, если EF = 7,2 cм, EM = 2,2 c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2) На отрезке LS лежат точки K и R так, что К лежит между L и R, LK = 3,5 см, LS = 9 см и LK = KR. Найти 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3672-D592-4DE1-AD8C-6DFDD9326A9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ернёмся к цели урок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ознакомиться с процедурой измерения отрезков, рассмотреть свойства длин отрезка, познакомиться с различными единицами измерения длины и инструментами для измерения отрезков, узнать, как можно измерять без инструм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87E8-DB45-4901-A27D-3D3A2C005AC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Дополн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нглийский король Генрих 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вел в качестве единиц длины ЯРД – расстояние от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3315-6CE4-49B0-A35E-F62995D8279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Дополн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Длина отрезка выражается  ….… чис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BA3F-CBCB-48E9-994B-05541AFFC70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 древнейшим геометрическим инструментам относятс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3977-40EF-4291-B000-1D10A1DF34D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. 7,8 (с.13-16) – чит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5, 33, 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F39C-0B59-46E7-A980-270352ABD49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использованной литератур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метрия, 7 – 9: Учеб. для общеобразоват. учреждений/ Л.С. Атанасян, В.Ф. Бутузов, С.Б. Кадомцев и др. – М.: Просвещение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ru.wikipedia.org/wiki/%DF%F0%E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ldru.narod.ru/history106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festival.1september.ru/articles/312112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-u.ru/biblio/archive/depman_mir/00.asp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арти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nnok-nikol.narod.ru/images/clip_image017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milanmark.files.wordpress.com/2009/11/0905p68-measuring-tape-l.jpg?w=280&amp;h=28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activerain.com/image_store/uploads/1/6/4/6/6/ar12264966366461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school.xvatit.com/images/0/03/22102010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screenshots.etvnet.com/000/363/443/b09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mer.kakras.ru/img-mer/arshin.gi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vladpaper.ru/d/168020/d/31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www.bikmark.ru/goods_big/%C3%CE%C4018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mg.zinzilin.com/items/29/lineyka-masshtabnaya-1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www.specural.com/files/slovar/metr_2.gi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F2DB-364D-4DE0-9A77-25AE6FFFC70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Calibri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ознакомиться с процедурой измерения отрезков, рассмотреть свойства длин отрезка, познакомиться с различными единицами измерения длины и инструментами для измерения отрезков, узнать, как можно измерять без инструм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925E-A766-489C-B8A1-3F4FA8C20CA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опрос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Что значит измерить какую-то величину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Герои одного мультфильма измеряли длину удава в попуга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49D6-CF4B-4385-AF42-ACFE656AE1F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Arial"/>
                <a:ea typeface="Arial"/>
              </a:rPr>
              <a:t>Единицы измерения дли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Arial"/>
                <a:ea typeface="Arial"/>
              </a:rPr>
              <a:t>в разное врем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Arial"/>
                <a:ea typeface="Arial"/>
              </a:rPr>
              <a:t>и в разных стр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глийский король Генрих 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л в качестве единиц длины ЯРД – расстояние от кончика своего носа до большого пальца вытянутой р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1AE0-5485-4943-A0F3-1E13DE83267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Другая английская единица длины ФУТ, что по-английски означает «ступня». 16 англичан выстраивались в цепочку таким образом, что каждый следующий касался концами пальцев своих ног пяток предыдущего. 1/16 такой цепочки и составляла 1 ф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98BA-1873-4698-BA46-5E2F399CE32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На Руси в старину мерой длины был ШАГ и ПЯДЬ: </a:t>
            </a:r>
            <a:r>
              <a:rPr b="0" i="1" lang="ru-RU" sz="1200" spc="-1" strike="noStrike">
                <a:solidFill>
                  <a:srgbClr val="006600"/>
                </a:solidFill>
                <a:latin typeface="Calibri"/>
              </a:rPr>
              <a:t>Малая пядь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 равнялась расстоянию между концами растянутых пальцев, большего и указательного (~19 см), </a:t>
            </a:r>
            <a:r>
              <a:rPr b="0" i="1" lang="ru-RU" sz="1200" spc="-1" strike="noStrike">
                <a:solidFill>
                  <a:srgbClr val="006600"/>
                </a:solidFill>
                <a:latin typeface="Calibri"/>
              </a:rPr>
              <a:t>большая пядь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 – расстояние между раздвинутым большим пальцем и мизинцем   (~ 23 с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64D1-BD73-4A8D-829F-E9B2C59471D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АДОНЬ – ширина кисти руки, ЛОКОТЬ – расстояние от локтя до конца среднего пальца </a:t>
            </a:r>
            <a:r>
              <a:rPr b="0" lang="ru-RU" sz="1000" spc="-1" strike="noStrike">
                <a:solidFill>
                  <a:srgbClr val="800080"/>
                </a:solidFill>
                <a:latin typeface="Calibri"/>
              </a:rPr>
              <a:t>(~71 см)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B356-404D-4E22-B522-CBEA1C43A03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АРШИН в переводе с персидского – локоть. Существовал персидский аршин, турецкий аршин и др., отсюда и появилась поговорка «Мерить на свой аршин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BCF7-2139-4B4B-86A8-17BA9442FA9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B567-0AF1-4394-BBA5-2815BC40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C236-6337-4500-87E2-88C20EB5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5C85-656C-4223-BB03-3A224FB5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9688-534A-4A48-80F1-C26012C29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D72F-DDA2-49A2-A327-8212EBCE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482F-63B6-4543-982C-BB1626A0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70C8-22ED-46FC-953C-486E413D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9B2A-A09D-41B5-9459-B24E0422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9ADF-6B99-4004-B29F-0326D418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1E44-3AD4-4A29-870E-B8D1EA3B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68A7-F21D-4E2B-8FC3-AB4E7ECE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D1EE-7E61-4F0F-9EBB-0CCFFD19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084E-9DDA-4D6F-953B-9CA167A023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oldru.narod.ru/history106.html" TargetMode="External"/><Relationship Id="rId2" Type="http://schemas.openxmlformats.org/officeDocument/2006/relationships/hyperlink" Target="http://oldru.narod.ru/history106.html" TargetMode="External"/><Relationship Id="rId3" Type="http://schemas.openxmlformats.org/officeDocument/2006/relationships/hyperlink" Target="http://festival.1september.ru/articles/312112/" TargetMode="External"/><Relationship Id="rId4" Type="http://schemas.openxmlformats.org/officeDocument/2006/relationships/hyperlink" Target="http://www.i-u.ru/biblio/archive/depman_mir/00.aspx" TargetMode="External"/><Relationship Id="rId5" Type="http://schemas.openxmlformats.org/officeDocument/2006/relationships/hyperlink" Target="http://innok-nikol.narod.ru/images/clip_image017.png" TargetMode="External"/><Relationship Id="rId6" Type="http://schemas.openxmlformats.org/officeDocument/2006/relationships/hyperlink" Target="http://milanmark.wordpress.com/" TargetMode="External"/><Relationship Id="rId7" Type="http://schemas.openxmlformats.org/officeDocument/2006/relationships/hyperlink" Target="http://activerain.com/image_store/uploads/1/6/4/6/6/ar12264966366461.png" TargetMode="External"/><Relationship Id="rId8" Type="http://schemas.openxmlformats.org/officeDocument/2006/relationships/hyperlink" Target="http://school.xvatit.com/images/0/03/22102010.jpg" TargetMode="External"/><Relationship Id="rId9" Type="http://schemas.openxmlformats.org/officeDocument/2006/relationships/hyperlink" Target="http://screenshots.etvnet.com/000/363/443/b09.jpg" TargetMode="External"/><Relationship Id="rId10" Type="http://schemas.openxmlformats.org/officeDocument/2006/relationships/hyperlink" Target="http://mer.kakras.ru/img-mer/arshin.gif" TargetMode="External"/><Relationship Id="rId11" Type="http://schemas.openxmlformats.org/officeDocument/2006/relationships/hyperlink" Target="http://vladpaper.ru/d/168020/d/31.png" TargetMode="External"/><Relationship Id="rId12" Type="http://schemas.openxmlformats.org/officeDocument/2006/relationships/hyperlink" Target="http://www.bikmark.ru/goods_big/%C3%CE%C4018.jpg" TargetMode="External"/><Relationship Id="rId13" Type="http://schemas.openxmlformats.org/officeDocument/2006/relationships/hyperlink" Target="http://img.zinzilin.com/items/29/lineyka-masshtabnaya-1.png" TargetMode="External"/><Relationship Id="rId14" Type="http://schemas.openxmlformats.org/officeDocument/2006/relationships/hyperlink" Target="http://www.specural.com/files/slovar/metr_2.gif" TargetMode="External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WordArt 5"/>
          <p:cNvGrpSpPr/>
          <p:nvPr/>
        </p:nvGrpSpPr>
        <p:grpSpPr>
          <a:xfrm>
            <a:off x="682560" y="2146320"/>
            <a:ext cx="7705800" cy="1627200"/>
            <a:chOff x="682560" y="2146320"/>
            <a:chExt cx="7705800" cy="1627200"/>
          </a:xfrm>
        </p:grpSpPr>
        <p:pic>
          <p:nvPicPr>
            <p:cNvPr id="49" name="WordArt 5" descr=""/>
            <p:cNvPicPr/>
            <p:nvPr/>
          </p:nvPicPr>
          <p:blipFill>
            <a:blip r:embed="rId1"/>
            <a:stretch/>
          </p:blipFill>
          <p:spPr>
            <a:xfrm>
              <a:off x="682560" y="2149200"/>
              <a:ext cx="7705800" cy="16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684360" y="2146320"/>
              <a:ext cx="7704000" cy="16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змерение отрезков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" name="Rectangle 6"/>
          <p:cNvSpPr/>
          <p:nvPr/>
        </p:nvSpPr>
        <p:spPr>
          <a:xfrm>
            <a:off x="3363120" y="551880"/>
            <a:ext cx="307620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2492"/>
                </a:solidFill>
                <a:latin typeface="Tahoma"/>
              </a:rPr>
              <a:t>Геометрия - 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4500720" y="5000760"/>
            <a:ext cx="46432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a8ad8"/>
                </a:solidFill>
                <a:latin typeface="Tahoma"/>
              </a:rPr>
              <a:t>Баталова О.В.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a8ad8"/>
                </a:solidFill>
                <a:latin typeface="Tahoma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a8ad8"/>
                </a:solidFill>
                <a:latin typeface="Tahoma"/>
              </a:rPr>
              <a:t>НРМОУ «Сингапайская СОШ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2"/>
          <a:srcRect l="0" t="12211" r="0" b="0"/>
          <a:stretch/>
        </p:blipFill>
        <p:spPr>
          <a:xfrm>
            <a:off x="0" y="3784680"/>
            <a:ext cx="3500280" cy="30733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920" y="214200"/>
            <a:ext cx="8858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ahoma"/>
              </a:rPr>
              <a:t>3 аршина составляли САЖЕНЬ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91" name="Picture 23" descr="1357"/>
          <p:cNvPicPr/>
          <p:nvPr/>
        </p:nvPicPr>
        <p:blipFill>
          <a:blip r:embed="rId1"/>
          <a:srcRect l="27607" t="0" r="0" b="0"/>
          <a:stretch/>
        </p:blipFill>
        <p:spPr>
          <a:xfrm>
            <a:off x="928800" y="1495440"/>
            <a:ext cx="7412040" cy="536256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146800" cy="26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349e7"/>
                </a:solidFill>
                <a:latin typeface="Tahoma"/>
              </a:rPr>
              <a:t>Длина локтя или шага у разных людей различная, а мера длины должна быть одинаковой.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919960" y="2928240"/>
            <a:ext cx="28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явился метр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1"/>
          <a:stretch/>
        </p:blipFill>
        <p:spPr>
          <a:xfrm>
            <a:off x="2357280" y="3619440"/>
            <a:ext cx="4314960" cy="32385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65200" y="907560"/>
            <a:ext cx="490716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Образец меры – метр, принятий за эталон, сейчас хранится в одном из французских музеев.</a:t>
            </a:r>
            <a:br>
              <a:rPr sz="4400"/>
            </a:b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1"/>
          <a:stretch/>
        </p:blipFill>
        <p:spPr>
          <a:xfrm>
            <a:off x="0" y="3971880"/>
            <a:ext cx="4238640" cy="2886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2"/>
          <a:stretch/>
        </p:blipFill>
        <p:spPr>
          <a:xfrm>
            <a:off x="-14400" y="1192320"/>
            <a:ext cx="4229280" cy="26654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92296"/>
                </a:solidFill>
                <a:latin typeface="Tahoma"/>
              </a:rPr>
              <a:t>Вернемся к вопросу, заданному в начале: «Что значит измерить?»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оротко можно ответить так:</a:t>
            </a:r>
            <a:r>
              <a:rPr b="0" i="1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«Измерить – значит сравнить с эталоном»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44c5e"/>
                </a:solidFill>
                <a:latin typeface="Tahoma"/>
              </a:rPr>
              <a:t>Инструменты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- А чем мы обычно измеряем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К древнейшим геометрическим инструмен-там относятся </a:t>
            </a: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циркуль и линейка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. Сначала изобрели линейку, а циркуль был изобретен позже - в I век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 Древней Гре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000080" y="3857760"/>
            <a:ext cx="3214800" cy="3000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5072040" y="3857760"/>
            <a:ext cx="3000240" cy="30002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44c5e"/>
                </a:solidFill>
                <a:latin typeface="Tahoma"/>
              </a:rPr>
              <a:t>Инструменты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56760" y="1268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 техническом черчении употребляют </a:t>
            </a: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масштабную миллиметровую линейку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Для измерения диаметр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трубки использую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штангенциркуль.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rcRect l="0" t="37149" r="0" b="35000"/>
          <a:stretch/>
        </p:blipFill>
        <p:spPr>
          <a:xfrm>
            <a:off x="3286080" y="2357280"/>
            <a:ext cx="3333960" cy="928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4643280" y="4524480"/>
            <a:ext cx="3500640" cy="23335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44c5e"/>
                </a:solidFill>
                <a:latin typeface="Tahoma"/>
              </a:rPr>
              <a:t>Инструменты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Для измерения расстояний на местности пользуются </a:t>
            </a: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рулеткой.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«Рулетка» - с французского (rouler – свертывать, катать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2428920" y="2714760"/>
            <a:ext cx="4000320" cy="400032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Свойства длины отрезка</a:t>
            </a: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отрезки нельзя начерти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2,5 см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) 5 см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) - 2 с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611280" y="3860640"/>
            <a:ext cx="295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вод 1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2653920" y="5083920"/>
            <a:ext cx="624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Длина отрезка выражаетс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положительным числом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Свойства длины отрезка</a:t>
            </a: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можно сказать о длине двух равных отрезков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611280" y="3860640"/>
            <a:ext cx="295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вод 2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61880" y="5444280"/>
            <a:ext cx="83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Равные отрезки имеют равные длины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Свойства длины отрезка</a:t>
            </a: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начертить отрезок АВ, поставить на нём точку С, то получатся отрезки АС и СВ. Что можно узнать, сложив длины отрезков АС и СВ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611280" y="3860640"/>
            <a:ext cx="295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вод 3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593360" y="4958280"/>
            <a:ext cx="594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Длина всего отрезка равн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сумме длин отрезков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из которых он состоит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71280" y="493092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Марсилио Сичино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965400" cy="4876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6499080" y="4103640"/>
            <a:ext cx="2644920" cy="275436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4572000" y="460440"/>
            <a:ext cx="397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99"/>
                </a:solidFill>
                <a:latin typeface="Tahoma"/>
              </a:rPr>
              <a:t>Измерь самого себя –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99"/>
                </a:solidFill>
                <a:latin typeface="Tahoma"/>
              </a:rPr>
              <a:t>и ты станешь настоящим геометро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Решение задач</a:t>
            </a: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3296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Tahoma"/>
              </a:rPr>
              <a:t>1) (Устно) На отрезке АС поставлена точка В, АВ = 5,6 см, ВС=2,8 см. Найдите длину АС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44c5e"/>
                </a:solidFill>
                <a:latin typeface="Tahoma"/>
              </a:rPr>
              <a:t>2) </a:t>
            </a:r>
            <a:r>
              <a:rPr b="0" lang="ru-RU" sz="4000" spc="-1" strike="noStrike">
                <a:solidFill>
                  <a:srgbClr val="800000"/>
                </a:solidFill>
                <a:latin typeface="Tahoma"/>
              </a:rPr>
              <a:t>(Письменно) </a:t>
            </a:r>
            <a:r>
              <a:rPr b="0" lang="ru-RU" sz="4000" spc="-1" strike="noStrike">
                <a:solidFill>
                  <a:srgbClr val="344c5e"/>
                </a:solidFill>
                <a:latin typeface="Tahoma"/>
              </a:rPr>
              <a:t>На отрезке АВ лежит точка С, АС = 6,1 см, АВ = 8,7 см. Найдите длину СВ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Образец оформления</a:t>
            </a: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Задача 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2492"/>
                </a:solidFill>
                <a:latin typeface="Tahoma"/>
              </a:rPr>
              <a:t>Дано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резок АВ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Є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А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С = 6,1с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В = 8,7с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йти С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2916360" y="2349360"/>
            <a:ext cx="0" cy="280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250920" y="472428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0" name="Group 16"/>
          <p:cNvGrpSpPr/>
          <p:nvPr/>
        </p:nvGrpSpPr>
        <p:grpSpPr>
          <a:xfrm>
            <a:off x="3276720" y="1628640"/>
            <a:ext cx="5305320" cy="1931040"/>
            <a:chOff x="3276720" y="1628640"/>
            <a:chExt cx="5305320" cy="1931040"/>
          </a:xfrm>
        </p:grpSpPr>
        <p:grpSp>
          <p:nvGrpSpPr>
            <p:cNvPr id="141" name="Group 7"/>
            <p:cNvGrpSpPr/>
            <p:nvPr/>
          </p:nvGrpSpPr>
          <p:grpSpPr>
            <a:xfrm>
              <a:off x="3515040" y="2149920"/>
              <a:ext cx="4586040" cy="1409760"/>
              <a:chOff x="3515040" y="2149920"/>
              <a:chExt cx="4586040" cy="1409760"/>
            </a:xfrm>
          </p:grpSpPr>
          <p:sp>
            <p:nvSpPr>
              <p:cNvPr id="142" name="Oval 8"/>
              <p:cNvSpPr/>
              <p:nvPr/>
            </p:nvSpPr>
            <p:spPr>
              <a:xfrm flipV="1" rot="19734600">
                <a:off x="3558240" y="3363120"/>
                <a:ext cx="75600" cy="190440"/>
              </a:xfrm>
              <a:prstGeom prst="ellipse">
                <a:avLst/>
              </a:prstGeom>
              <a:solidFill>
                <a:srgbClr val="ff6600"/>
              </a:solidFill>
              <a:ln w="572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43" name="Group 9"/>
              <p:cNvGrpSpPr/>
              <p:nvPr/>
            </p:nvGrpSpPr>
            <p:grpSpPr>
              <a:xfrm>
                <a:off x="3563640" y="2149920"/>
                <a:ext cx="4537440" cy="1328400"/>
                <a:chOff x="3563640" y="2149920"/>
                <a:chExt cx="4537440" cy="1328400"/>
              </a:xfrm>
            </p:grpSpPr>
            <p:sp>
              <p:nvSpPr>
                <p:cNvPr id="144" name="Line 10"/>
                <p:cNvSpPr/>
                <p:nvPr/>
              </p:nvSpPr>
              <p:spPr>
                <a:xfrm flipV="1">
                  <a:off x="3563640" y="2231640"/>
                  <a:ext cx="4488120" cy="1246680"/>
                </a:xfrm>
                <a:prstGeom prst="line">
                  <a:avLst/>
                </a:prstGeom>
                <a:ln w="572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Oval 11"/>
                <p:cNvSpPr/>
                <p:nvPr/>
              </p:nvSpPr>
              <p:spPr>
                <a:xfrm flipV="1" rot="19734600">
                  <a:off x="7981560" y="2155680"/>
                  <a:ext cx="75600" cy="190440"/>
                </a:xfrm>
                <a:prstGeom prst="ellipse">
                  <a:avLst/>
                </a:prstGeom>
                <a:solidFill>
                  <a:srgbClr val="ff6600"/>
                </a:solidFill>
                <a:ln w="572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46" name="Oval 12"/>
            <p:cNvSpPr/>
            <p:nvPr/>
          </p:nvSpPr>
          <p:spPr>
            <a:xfrm flipH="1">
              <a:off x="6227640" y="2637000"/>
              <a:ext cx="85680" cy="1425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WordArt 13"/>
            <p:cNvSpPr txBox="1"/>
            <p:nvPr/>
          </p:nvSpPr>
          <p:spPr>
            <a:xfrm>
              <a:off x="6084720" y="1989000"/>
              <a:ext cx="33840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С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8" name="WordArt 14"/>
            <p:cNvSpPr txBox="1"/>
            <p:nvPr/>
          </p:nvSpPr>
          <p:spPr>
            <a:xfrm>
              <a:off x="3276720" y="2637000"/>
              <a:ext cx="33804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А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9" name="WordArt 15"/>
            <p:cNvSpPr txBox="1"/>
            <p:nvPr/>
          </p:nvSpPr>
          <p:spPr>
            <a:xfrm>
              <a:off x="8244000" y="1628640"/>
              <a:ext cx="33804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В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50" name="Rectangle 17"/>
          <p:cNvSpPr/>
          <p:nvPr/>
        </p:nvSpPr>
        <p:spPr>
          <a:xfrm>
            <a:off x="209520" y="189000"/>
            <a:ext cx="86724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 отрезке АВ лежит точка С, АС = 6,1 см, АВ = 8,7 с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йдите длину С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4645080" y="2637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6,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20"/>
          <p:cNvSpPr/>
          <p:nvPr/>
        </p:nvSpPr>
        <p:spPr>
          <a:xfrm>
            <a:off x="3564000" y="2276640"/>
            <a:ext cx="4464000" cy="130968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1309680"/>
              <a:gd name="textAreaBottom" fmla="*/ 1310040 h 1309680"/>
            </a:gdLst>
            <a:ahLst/>
            <a:rect l="textAreaLeft" t="textAreaTop" r="textAreaRight" b="textAreaBottom"/>
            <a:pathLst>
              <a:path w="2812" h="825">
                <a:moveTo>
                  <a:pt x="0" y="771"/>
                </a:moveTo>
                <a:cubicBezTo>
                  <a:pt x="113" y="790"/>
                  <a:pt x="226" y="809"/>
                  <a:pt x="317" y="817"/>
                </a:cubicBezTo>
                <a:cubicBezTo>
                  <a:pt x="408" y="825"/>
                  <a:pt x="431" y="825"/>
                  <a:pt x="544" y="817"/>
                </a:cubicBezTo>
                <a:cubicBezTo>
                  <a:pt x="657" y="809"/>
                  <a:pt x="862" y="794"/>
                  <a:pt x="998" y="771"/>
                </a:cubicBezTo>
                <a:cubicBezTo>
                  <a:pt x="1134" y="748"/>
                  <a:pt x="1248" y="711"/>
                  <a:pt x="1361" y="681"/>
                </a:cubicBezTo>
                <a:cubicBezTo>
                  <a:pt x="1474" y="651"/>
                  <a:pt x="1557" y="628"/>
                  <a:pt x="1678" y="590"/>
                </a:cubicBezTo>
                <a:cubicBezTo>
                  <a:pt x="1799" y="552"/>
                  <a:pt x="1966" y="499"/>
                  <a:pt x="2087" y="454"/>
                </a:cubicBezTo>
                <a:cubicBezTo>
                  <a:pt x="2208" y="409"/>
                  <a:pt x="2306" y="371"/>
                  <a:pt x="2404" y="318"/>
                </a:cubicBezTo>
                <a:cubicBezTo>
                  <a:pt x="2502" y="265"/>
                  <a:pt x="2608" y="189"/>
                  <a:pt x="2676" y="136"/>
                </a:cubicBezTo>
                <a:cubicBezTo>
                  <a:pt x="2744" y="83"/>
                  <a:pt x="2778" y="41"/>
                  <a:pt x="281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5960160" y="335772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8,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3203640" y="4005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2492"/>
                </a:solidFill>
                <a:latin typeface="Tahoma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7020000" y="1989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24"/>
          <p:cNvSpPr/>
          <p:nvPr/>
        </p:nvSpPr>
        <p:spPr>
          <a:xfrm>
            <a:off x="3132000" y="47242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В = АВ - А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25"/>
          <p:cNvSpPr/>
          <p:nvPr/>
        </p:nvSpPr>
        <p:spPr>
          <a:xfrm>
            <a:off x="3132000" y="513252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В = 8,7 – 6,1 = 2,6 (см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26"/>
          <p:cNvSpPr/>
          <p:nvPr/>
        </p:nvSpPr>
        <p:spPr>
          <a:xfrm>
            <a:off x="3203640" y="570852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2492"/>
                </a:solidFill>
                <a:latin typeface="Tahoma"/>
              </a:rPr>
              <a:t>Ответ: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В = 2,6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42492"/>
                </a:solidFill>
                <a:latin typeface="Tahoma"/>
              </a:rPr>
              <a:t>Решить самостоятельно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ahoma"/>
              </a:rPr>
              <a:t>1) Точка М лежит на прямой ЕF между Е и F. Чему равна длина отрезка МF, если EF = 7,2 cм, EM = 2,2 cм?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Tahoma"/>
              </a:rPr>
              <a:t>2) На отрезке LS лежат точки K и R так, что К лежит между L и R, LK = 3,5 см, LS = 9 см и LK = KR. Найти RS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324000" y="223200"/>
            <a:ext cx="8569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42492"/>
                </a:solidFill>
                <a:latin typeface="Tahoma"/>
              </a:rPr>
              <a:t>Вернёмся к цели урока: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Tahoma"/>
              </a:rPr>
              <a:t>познакомиться с процедурой измерения отрезков, рассмотреть свойства длин отрезка, познакомиться с различными единицами измерения длины и инструментами для измерения отрезков, узнать, как можно измерять без инструментов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Дополни предложения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Английский король Генрих I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ввел в качестве единиц длины ЯРД – расстояние от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826920" y="249228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ончика своего носа до большого пальца вытянутой рук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11280" y="2852640"/>
            <a:ext cx="8229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2492"/>
                </a:solidFill>
                <a:latin typeface="Tahoma"/>
              </a:rPr>
              <a:t>ФУТ, что по-английски означает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6156360" y="2997360"/>
            <a:ext cx="2519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2492"/>
                </a:solidFill>
                <a:latin typeface="Tahoma"/>
              </a:rPr>
              <a:t>«ступня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611280" y="3500280"/>
            <a:ext cx="66247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ЛОКОТЬ приближённо равен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7236000" y="3500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2492"/>
                </a:solidFill>
                <a:latin typeface="Tahoma"/>
              </a:rPr>
              <a:t>71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56520" y="4075200"/>
            <a:ext cx="64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МАХОВАЯ САЖЕНЬ – расстояние между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132000" y="443088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вытянутыми в стороны рука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179280" y="486900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Эталон метра хранится в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4284720" y="486900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одном из французских музее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11280" y="558972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Измерить – значит сравнить с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6084720" y="558972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эталон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Дополни предложения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Длина отрезка выражается  ….… числ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5796000" y="220500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оложительны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24000" y="2852640"/>
            <a:ext cx="6265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Tahoma"/>
              </a:rPr>
              <a:t>Равные отрезки имеют </a:t>
            </a: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6229440" y="2924280"/>
            <a:ext cx="2663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Tahoma"/>
              </a:rPr>
              <a:t>равные длин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611280" y="3500280"/>
            <a:ext cx="66247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Tahoma"/>
              </a:rPr>
              <a:t>Длина всего отрезка равна сумме длин отрезков, из </a:t>
            </a: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4932360" y="450864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ahoma"/>
              </a:rPr>
              <a:t>которых он состои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179280" y="486900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Эталон метра хранится в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4284720" y="486900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одном из французских музее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611280" y="558972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Измерить – значит сравнить с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6084720" y="558972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эталон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39640" y="189000"/>
            <a:ext cx="82296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К древнейшим геометрическим инструментам относятся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708360" y="1268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циркуль и линей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4140360" y="246708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миллиметровую линейк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4140360" y="3860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штангенциркул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6084720" y="530064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рулетко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468360" y="1989000"/>
            <a:ext cx="8640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В техническом черчении употребляют </a:t>
            </a:r>
            <a:r>
              <a:rPr b="1" lang="ru-RU" sz="3600" spc="-1" strike="noStrike">
                <a:solidFill>
                  <a:srgbClr val="003399"/>
                </a:solidFill>
                <a:latin typeface="Tahoma"/>
              </a:rPr>
              <a:t>масштабную</a:t>
            </a: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395280" y="335592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Для измерения диаметра трубки используют…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468360" y="486900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Для измерения расстояний на местности пользуются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П. 7,8 (с.13-16) – читат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25, 33, 4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1258920" y="692280"/>
            <a:ext cx="6192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машнее задание: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" name="WordArt 5"/>
          <p:cNvSpPr txBox="1"/>
          <p:nvPr/>
        </p:nvSpPr>
        <p:spPr>
          <a:xfrm>
            <a:off x="2124000" y="3933720"/>
            <a:ext cx="4681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елаю удачи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Список использованной литературы</a:t>
            </a:r>
            <a:br>
              <a:rPr sz="4400"/>
            </a:b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00040" y="15717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еометрия, 7 – 9: Учеб. для общеобразоват. учреждений/ Л.С. Атанасян, В.Ф. Бутузов, С.Б. Кадомцев и др. – М.: Просвещение, 20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8ad8"/>
                </a:solidFill>
                <a:uFillTx/>
                <a:latin typeface="Tahoma"/>
                <a:hlinkClick r:id="rId1"/>
              </a:rPr>
              <a:t>http://ru.wikipedia.org/wiki/%DF%F0%E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8ad8"/>
                </a:solidFill>
                <a:uFillTx/>
                <a:latin typeface="Tahoma"/>
                <a:hlinkClick r:id="rId2"/>
              </a:rPr>
              <a:t>http://oldru.narod.ru/history106.htm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8ad8"/>
                </a:solidFill>
                <a:uFillTx/>
                <a:latin typeface="Tahoma"/>
                <a:hlinkClick r:id="rId3"/>
              </a:rPr>
              <a:t>http://festival.1september.ru/articles/312112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8ad8"/>
                </a:solidFill>
                <a:uFillTx/>
                <a:latin typeface="Tahoma"/>
                <a:hlinkClick r:id="rId4"/>
              </a:rPr>
              <a:t>http://www.i-u.ru/biblio/archive/depman_mir/00.aspx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Картинк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5"/>
              </a:rPr>
              <a:t>http://innok-nikol.narod.ru/images/clip_image017.p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6"/>
              </a:rPr>
              <a:t>http://milanmark.files.wordpress.com/2009/11/0905p68-measuring-tape-l.jpg?w=280&amp;h=28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7"/>
              </a:rPr>
              <a:t>http://activerain.com/image_store/uploads/1/6/4/6/6/ar12264966366461.p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8"/>
              </a:rPr>
              <a:t>http://school.xvatit.com/images/0/03/22102010.jp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9"/>
              </a:rPr>
              <a:t>http://screenshots.etvnet.com/000/363/443/b09.jp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0"/>
              </a:rPr>
              <a:t>http://mer.kakras.ru/img-mer/arshin.gi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1"/>
              </a:rPr>
              <a:t>http://vladpaper.ru/d/168020/d/31.p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2"/>
              </a:rPr>
              <a:t>http://www.bikmark.ru/goods_big/%C3%CE%C4018.jp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3"/>
              </a:rPr>
              <a:t>http://img.zinzilin.com/items/29/lineyka-masshtabnaya-1.p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4"/>
              </a:rPr>
              <a:t>http://www.specural.com/files/slovar/metr_2.gi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324000" y="2338920"/>
            <a:ext cx="856908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42492"/>
                </a:solidFill>
                <a:latin typeface="Tahoma"/>
              </a:rPr>
              <a:t>Цель: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познакомиться с процедурой измерения отрезков, рассмотреть свойства длин отрезка, познакомиться с различными единицами измерения длины и инструментами для измерения отрезков, узнать, как можно измерять без инструмент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6000840" y="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1200" y="1642320"/>
            <a:ext cx="906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«Что значит измерить какую-то величину?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WordArt 3"/>
          <p:cNvSpPr txBox="1"/>
          <p:nvPr/>
        </p:nvSpPr>
        <p:spPr>
          <a:xfrm>
            <a:off x="684360" y="404640"/>
            <a:ext cx="3166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прос: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500040" y="3295800"/>
            <a:ext cx="3214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ahoma"/>
              </a:rPr>
              <a:t>Герои одного мультфильма измеряли длину удава в попугаях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rcRect l="3123" t="3123" r="3123" b="1824"/>
          <a:stretch/>
        </p:blipFill>
        <p:spPr>
          <a:xfrm>
            <a:off x="3652920" y="2403360"/>
            <a:ext cx="5491080" cy="44546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3"/>
          <p:cNvSpPr txBox="1"/>
          <p:nvPr/>
        </p:nvSpPr>
        <p:spPr>
          <a:xfrm>
            <a:off x="1187280" y="189000"/>
            <a:ext cx="727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ab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диницы измерения длины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ab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ab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разное время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ab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ab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в разных странах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ab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924360" y="2128680"/>
            <a:ext cx="5040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глийский король Генрих 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л в качестве единиц длины ЯРД – расстояние от кончика своего носа до большого пальца вытянутой ру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285840" y="2108160"/>
            <a:ext cx="3500280" cy="453564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img2.jpg (20792 bytes)"/>
          <p:cNvPicPr/>
          <p:nvPr/>
        </p:nvPicPr>
        <p:blipFill>
          <a:blip r:embed="rId1"/>
          <a:stretch/>
        </p:blipFill>
        <p:spPr>
          <a:xfrm>
            <a:off x="228600" y="1484280"/>
            <a:ext cx="3287880" cy="44467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76720" y="380520"/>
            <a:ext cx="5410080" cy="621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2492"/>
                </a:solidFill>
                <a:latin typeface="Tahoma"/>
              </a:rPr>
              <a:t>Другая английская единица длины ФУТ, что по-английски означает «ступня». 16 англичан выстраивались в цепочку таким образом, что каждый следующий касался концами пальцев своих ног пяток предыдущего. 1/16 такой цепочки и составляла 1 фут.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img3.jpg (39872 bytes)"/>
          <p:cNvPicPr/>
          <p:nvPr/>
        </p:nvPicPr>
        <p:blipFill>
          <a:blip r:embed="rId1"/>
          <a:stretch/>
        </p:blipFill>
        <p:spPr>
          <a:xfrm>
            <a:off x="-4616280" y="1854360"/>
            <a:ext cx="1774800" cy="2582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img4.jpg (27326 bytes)"/>
          <p:cNvPicPr/>
          <p:nvPr/>
        </p:nvPicPr>
        <p:blipFill>
          <a:blip r:embed="rId2"/>
          <a:stretch/>
        </p:blipFill>
        <p:spPr>
          <a:xfrm>
            <a:off x="-4216320" y="2593800"/>
            <a:ext cx="1238040" cy="24098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-4613400" y="18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-4611240" y="2630880"/>
            <a:ext cx="43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780000" y="380520"/>
            <a:ext cx="4906800" cy="621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Tahoma"/>
              </a:rPr>
              <a:t>На Руси в старину мерой длины был ШАГ и ПЯДЬ: </a:t>
            </a: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Малая пядь</a:t>
            </a:r>
            <a:r>
              <a:rPr b="0" lang="ru-RU" sz="3200" spc="-1" strike="noStrike">
                <a:solidFill>
                  <a:srgbClr val="006600"/>
                </a:solidFill>
                <a:latin typeface="Tahoma"/>
              </a:rPr>
              <a:t> равнялась расстоянию между концами растянутых пальцев, большего и указательного (~19 см), </a:t>
            </a: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большая пядь</a:t>
            </a:r>
            <a:r>
              <a:rPr b="0" lang="ru-RU" sz="3200" spc="-1" strike="noStrike">
                <a:solidFill>
                  <a:srgbClr val="006600"/>
                </a:solidFill>
                <a:latin typeface="Tahoma"/>
              </a:rPr>
              <a:t> – расстояние между раздвинутым большим пальцем и мизинцем   (~ 23 см)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80" name="Picture 8" descr="img3.jpg (39872 bytes)"/>
          <p:cNvPicPr/>
          <p:nvPr/>
        </p:nvPicPr>
        <p:blipFill>
          <a:blip r:embed="rId3"/>
          <a:stretch/>
        </p:blipFill>
        <p:spPr>
          <a:xfrm>
            <a:off x="357120" y="1000080"/>
            <a:ext cx="3114720" cy="453708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67280" y="836280"/>
            <a:ext cx="4859280" cy="578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ЛАДОНЬ – ширина кисти руки, ЛОКОТЬ – расстояние от локтя до конца среднего пальца </a:t>
            </a:r>
            <a:r>
              <a:rPr b="0" lang="ru-RU" sz="3600" spc="-1" strike="noStrike">
                <a:solidFill>
                  <a:srgbClr val="242492"/>
                </a:solidFill>
                <a:latin typeface="Tahoma"/>
              </a:rPr>
              <a:t>(~71 см)</a:t>
            </a:r>
            <a:r>
              <a:rPr b="0" lang="ru-RU" sz="4400" spc="-1" strike="noStrike">
                <a:solidFill>
                  <a:srgbClr val="242492"/>
                </a:solidFill>
                <a:latin typeface="Tahoma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3351240" cy="5072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rcRect l="14122" t="0" r="12137" b="0"/>
          <a:stretch/>
        </p:blipFill>
        <p:spPr>
          <a:xfrm>
            <a:off x="0" y="3705120"/>
            <a:ext cx="3357720" cy="315288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2320"/>
            <a:ext cx="8362800" cy="29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АРШИН в переводе с персидского – локоть. Существовал персидский аршин, турецкий аршин и др., отсюда и появилась поговорка «Мерить на свой аршин». 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286000" y="3000240"/>
            <a:ext cx="4429080" cy="37148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"/>
          <p:cNvSpPr/>
          <p:nvPr/>
        </p:nvSpPr>
        <p:spPr>
          <a:xfrm>
            <a:off x="-74520" y="142920"/>
            <a:ext cx="95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ahoma"/>
              </a:rPr>
              <a:t>Большие расстояния измерялись ПОЛЕТОМ СТРЕЛ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9:48:14Z</dcterms:created>
  <dc:creator>артем</dc:creator>
  <dc:description/>
  <dc:language>en-US</dc:language>
  <cp:lastModifiedBy>LEGION</cp:lastModifiedBy>
  <dcterms:modified xsi:type="dcterms:W3CDTF">2015-01-26T10:15:46Z</dcterms:modified>
  <cp:revision>73</cp:revision>
  <dc:subject/>
  <dc:title>Слайд 1</dc:title>
</cp:coreProperties>
</file>