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753E-46DD-4EAF-BF9A-1EC30794F98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отрез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0565-C9E0-4C38-AD13-DB35776DB51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3 аршина составляли СА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0C4F-5503-4B16-B046-E9982517388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49e7"/>
                </a:solidFill>
                <a:latin typeface="Calibri"/>
              </a:rPr>
              <a:t>Длина локтя или шага у разных людей различная, а мера длины должна быть одинак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CC02-8735-4504-883E-F0301090696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разец меры – метр, принятий за эталон, сейчас хранится в одном из французских музе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D54A-69A7-45B1-8330-0C22E3646FD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92296"/>
                </a:solidFill>
                <a:latin typeface="Calibri"/>
              </a:rPr>
              <a:t>Вернемся к вопросу, заданному в начале: «Что значит измерить?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о можно ответить так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Измерить – значит сравнить с этал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8FDA-D018-4E27-A694-38555878F33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А чем мы обычно измеря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-там относя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иркуль и линей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Сначала изобрели линейку, а циркуль был изобретен позже - в I ве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15A9-7203-46B4-ADAB-1D92A2C8D3B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хническом черчении употребляю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асштабную миллиметровую линей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диаме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бки использ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штангенциркуль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B655-184A-4EB0-9C53-8E4E8177FFE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расстояний на местности пользую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улет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Рулетка» - с французского (rouler – свертывать, кат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BBCC-BEFD-4C7F-AF61-996D854B66A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резки нельзя начерт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,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- 2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C42-15BC-4A70-9D24-0248164FD2A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 длине двух равных отрезк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858B-BB7E-40A0-AB16-D15A44F7BE7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B1B5-0E4B-4D37-88BF-E014D17567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змерь самого себ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 ты станешь настоящим геоме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силио Сич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1838-87AB-4261-9865-54A4B2CF9E2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) (Устно) На отрезке АС поставлена точка В, АВ = 5,6 см, ВС=2,8 см. Найдите длину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(Письменно) </a:t>
            </a: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На отрезке АВ лежит точка С, АС = 6,1 см, АВ = 8,7 см. Найдите длину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69C6-4726-4BD1-8E90-F310F02E52D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зец оформ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дач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ан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езок А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ahoma"/>
              </a:rPr>
              <a:t>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 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= 6,1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= 8,7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8919-BD44-4FC1-9CC6-133876D4AF9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ешить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1) Точка М лежит на прямой ЕF между Е и F. Чему равна длина отрезка МF, если EF = 7,2 cм, EM = 2,2 c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) На отрезке LS лежат точки K и R так, что К лежит между L и R, LK = 3,5 см, LS = 9 см и LK = KR. Найти 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20EF-D21F-4F5F-9E0D-F1C6C2CE0F3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рнёмся к цели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2506-993F-465D-BC61-85F99E89098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вел в качестве единиц длины ЯРД – расстояние от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00FC-E34E-4FE9-AA14-45684E87856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Длина отрезка выражается  ….…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AAE2-7ED2-41DA-90FF-7C73DF85051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там относя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2597-9BC0-41EB-9438-5B60CA289F0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. 7,8 (с.13-16) – 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, 33,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F6DB-2CCE-46F2-8EFA-768EEA0CF28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%DF%F0%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ru.narod.ru/history1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stival.1september.ru/articles/312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-u.ru/biblio/archive/depman_mir/00.as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nnok-nikol.narod.ru/images/clip_image01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ilanmark.files.wordpress.com/2009/11/0905p68-measuring-tape-l.jpg?w=280&amp;h=2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ctiverain.com/image_store/uploads/1/6/4/6/6/ar1226496636646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hool.xvatit.com/images/0/03/2210201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reenshots.etvnet.com/000/363/443/b0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er.kakras.ru/img-mer/arshin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vladpaper.ru/d/168020/d/3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ikmark.ru/goods_big/%C3%CE%C40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zinzilin.com/items/29/lineyka-masshtabnaya-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pecural.com/files/slovar/metr_2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4BB5-64F7-49C3-99B8-DF731211A25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2A75-74B0-45FF-8788-C11E9733261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то значит измерить какую-то величину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Герои одного мультфильма измеряли длину удава в попуга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44EF-1DF4-489F-A82E-4CE27BCC0E4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Единицы измерения д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в разное вре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и в раз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C9F7-6926-4DCA-A4CF-498CF60FC85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A05A-EC21-43CC-9678-0F36B598C40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Руси в старину мерой длины был ШАГ и ПЯДЬ: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Мал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больш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– расстояние между раздвинутым большим пальцем и мизинцем   (~ 23 с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FD85-A4CA-4352-8EB4-D0D30A8EF24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1000" spc="-1" strike="noStrike">
                <a:solidFill>
                  <a:srgbClr val="800080"/>
                </a:solidFill>
                <a:latin typeface="Calibri"/>
              </a:rPr>
              <a:t>(~71 см)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10E6-C385-4F51-81B1-8C7161D5B89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921D-F0A3-427F-862D-87107C7825A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9F5-3D9F-40DD-B598-E0EE149E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669-5A8C-468B-B99D-52657A93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9F6-544E-4003-92C7-52CD9E83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E3C-A512-4A53-B9C1-0FB31425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D61-FC4D-4799-8DFB-5DFA23B9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FFF-B8CD-41F9-8B51-E1FAC129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C8D-954A-4815-8ED0-B19CDF81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047-87D3-439A-BEF5-9CDE5949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911-3D16-41E1-A629-CD73B4D3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F6A-D54F-4F28-8034-6AB245E5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6F3-02D7-4C2E-830F-852CDA8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D51-6E90-4FD1-8EC9-4092002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38D-66FA-4A56-B30C-2E5D1D266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hyperlink" Target="http://festival.1september.ru/articles/312112/" TargetMode="External"/><Relationship Id="rId4" Type="http://schemas.openxmlformats.org/officeDocument/2006/relationships/hyperlink" Target="http://www.i-u.ru/biblio/archive/depman_mir/00.aspx" TargetMode="External"/><Relationship Id="rId5" Type="http://schemas.openxmlformats.org/officeDocument/2006/relationships/hyperlink" Target="http://innok-nikol.narod.ru/images/clip_image017.png" TargetMode="External"/><Relationship Id="rId6" Type="http://schemas.openxmlformats.org/officeDocument/2006/relationships/hyperlink" Target="http://milanmark.wordpress.com/" TargetMode="External"/><Relationship Id="rId7" Type="http://schemas.openxmlformats.org/officeDocument/2006/relationships/hyperlink" Target="http://activerain.com/image_store/uploads/1/6/4/6/6/ar12264966366461.png" TargetMode="External"/><Relationship Id="rId8" Type="http://schemas.openxmlformats.org/officeDocument/2006/relationships/hyperlink" Target="http://school.xvatit.com/images/0/03/22102010.jpg" TargetMode="External"/><Relationship Id="rId9" Type="http://schemas.openxmlformats.org/officeDocument/2006/relationships/hyperlink" Target="http://screenshots.etvnet.com/000/363/443/b09.jpg" TargetMode="External"/><Relationship Id="rId10" Type="http://schemas.openxmlformats.org/officeDocument/2006/relationships/hyperlink" Target="http://mer.kakras.ru/img-mer/arshin.gif" TargetMode="External"/><Relationship Id="rId11" Type="http://schemas.openxmlformats.org/officeDocument/2006/relationships/hyperlink" Target="http://vladpaper.ru/d/168020/d/31.png" TargetMode="External"/><Relationship Id="rId12" Type="http://schemas.openxmlformats.org/officeDocument/2006/relationships/hyperlink" Target="http://www.bikmark.ru/goods_big/%C3%CE%C4018.jpg" TargetMode="External"/><Relationship Id="rId13" Type="http://schemas.openxmlformats.org/officeDocument/2006/relationships/hyperlink" Target="http://img.zinzilin.com/items/29/lineyka-masshtabnaya-1.png" TargetMode="External"/><Relationship Id="rId14" Type="http://schemas.openxmlformats.org/officeDocument/2006/relationships/hyperlink" Target="http://www.specural.com/files/slovar/metr_2.gif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5"/>
          <p:cNvGrpSpPr/>
          <p:nvPr/>
        </p:nvGrpSpPr>
        <p:grpSpPr>
          <a:xfrm>
            <a:off x="682560" y="2146320"/>
            <a:ext cx="7705800" cy="1627200"/>
            <a:chOff x="682560" y="2146320"/>
            <a:chExt cx="7705800" cy="1627200"/>
          </a:xfrm>
        </p:grpSpPr>
        <p:pic>
          <p:nvPicPr>
            <p:cNvPr id="49" name="WordArt 5" descr=""/>
            <p:cNvPicPr/>
            <p:nvPr/>
          </p:nvPicPr>
          <p:blipFill>
            <a:blip r:embed="rId1"/>
            <a:stretch/>
          </p:blipFill>
          <p:spPr>
            <a:xfrm>
              <a:off x="682560" y="2149200"/>
              <a:ext cx="77058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146320"/>
              <a:ext cx="770400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рение отрезко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Rectangle 6"/>
          <p:cNvSpPr/>
          <p:nvPr/>
        </p:nvSpPr>
        <p:spPr>
          <a:xfrm>
            <a:off x="3363120" y="551880"/>
            <a:ext cx="3076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2492"/>
                </a:solidFill>
                <a:latin typeface="Tahoma"/>
              </a:rPr>
              <a:t>Геометрия 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rcRect l="0" t="12211" r="0" b="0"/>
          <a:stretch/>
        </p:blipFill>
        <p:spPr>
          <a:xfrm>
            <a:off x="0" y="3784680"/>
            <a:ext cx="3500280" cy="3073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ahoma"/>
              </a:rPr>
              <a:t>3 аршина составляли САЖЕНЬ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1" name="Picture 23" descr="1357"/>
          <p:cNvPicPr/>
          <p:nvPr/>
        </p:nvPicPr>
        <p:blipFill>
          <a:blip r:embed="rId1"/>
          <a:srcRect l="27607" t="0" r="0" b="0"/>
          <a:stretch/>
        </p:blipFill>
        <p:spPr>
          <a:xfrm>
            <a:off x="928800" y="1495440"/>
            <a:ext cx="7412040" cy="53625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46800" cy="26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49e7"/>
                </a:solidFill>
                <a:latin typeface="Tahoma"/>
              </a:rPr>
              <a:t>Длина локтя или шага у разных людей различная, а мера длины должна быть одинаковой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919960" y="292824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вился ме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2357280" y="361944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65200" y="907560"/>
            <a:ext cx="4907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Образец меры – метр, принятий за эталон, сейчас хранится в одном из французских музеев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3971880"/>
            <a:ext cx="4238640" cy="28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-14400" y="1192320"/>
            <a:ext cx="4229280" cy="26654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92296"/>
                </a:solidFill>
                <a:latin typeface="Tahoma"/>
              </a:rPr>
              <a:t>Вернемся к вопросу, заданному в начале: «Что значит измерить?»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ротко можно ответить так: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Измерить – значит сравнить с эталон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А чем мы обычно измеря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-там относя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Сначала изобрели линейку, а циркуль был изобретен позже - в I век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масштабную миллиметровую линей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диамет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рубки использу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штангенциркуль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37149" r="0" b="35000"/>
          <a:stretch/>
        </p:blipFill>
        <p:spPr>
          <a:xfrm>
            <a:off x="3286080" y="2357280"/>
            <a:ext cx="333396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4524480"/>
            <a:ext cx="350064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рулеткой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«Рулетка» - с французского (rouler – свертывать, катать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трезки нельзя начерт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,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- 2 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1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653920" y="508392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ложительным числом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но сказать о длине двух равных отрез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2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1880" y="544428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Равные отрезки имеют равные длины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3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93360" y="4958280"/>
            <a:ext cx="59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всего отрезка ра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умме длин отрезк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з которых он состоит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71280" y="4930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Марсилио Сичи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6540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99080" y="4103640"/>
            <a:ext cx="264492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60440"/>
            <a:ext cx="397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змерь самого себя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 ты станешь настоящим гео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Решение задач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29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1) (Устно) На отрезке АС поставлена точка В, АВ = 5,6 см, ВС=2,8 см. Найдите длину А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2) </a:t>
            </a: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(Письменно) </a:t>
            </a: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На отрезке АВ лежит точка С, АС = 6,1 см, АВ = 8,7 см. Найдите длину С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Образец оформления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а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резок А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А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 = 6,1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 = 8,7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916360" y="234936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4724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276720" y="1628640"/>
            <a:ext cx="5305320" cy="1931040"/>
            <a:chOff x="3276720" y="1628640"/>
            <a:chExt cx="5305320" cy="1931040"/>
          </a:xfrm>
        </p:grpSpPr>
        <p:grpSp>
          <p:nvGrpSpPr>
            <p:cNvPr id="141" name="Group 7"/>
            <p:cNvGrpSpPr/>
            <p:nvPr/>
          </p:nvGrpSpPr>
          <p:grpSpPr>
            <a:xfrm>
              <a:off x="3515040" y="2149920"/>
              <a:ext cx="4586040" cy="1409760"/>
              <a:chOff x="3515040" y="2149920"/>
              <a:chExt cx="4586040" cy="1409760"/>
            </a:xfrm>
          </p:grpSpPr>
          <p:sp>
            <p:nvSpPr>
              <p:cNvPr id="142" name="Oval 8"/>
              <p:cNvSpPr/>
              <p:nvPr/>
            </p:nvSpPr>
            <p:spPr>
              <a:xfrm flipV="1" rot="19734600">
                <a:off x="3558240" y="3363120"/>
                <a:ext cx="75600" cy="190440"/>
              </a:xfrm>
              <a:prstGeom prst="ellipse">
                <a:avLst/>
              </a:prstGeom>
              <a:solidFill>
                <a:srgbClr val="ff6600"/>
              </a:solidFill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3" name="Group 9"/>
              <p:cNvGrpSpPr/>
              <p:nvPr/>
            </p:nvGrpSpPr>
            <p:grpSpPr>
              <a:xfrm>
                <a:off x="3563640" y="2149920"/>
                <a:ext cx="4537440" cy="1328400"/>
                <a:chOff x="3563640" y="2149920"/>
                <a:chExt cx="4537440" cy="1328400"/>
              </a:xfrm>
            </p:grpSpPr>
            <p:sp>
              <p:nvSpPr>
                <p:cNvPr id="144" name="Line 10"/>
                <p:cNvSpPr/>
                <p:nvPr/>
              </p:nvSpPr>
              <p:spPr>
                <a:xfrm flipV="1">
                  <a:off x="3563640" y="2231640"/>
                  <a:ext cx="4488120" cy="124668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11"/>
                <p:cNvSpPr/>
                <p:nvPr/>
              </p:nvSpPr>
              <p:spPr>
                <a:xfrm flipV="1" rot="19734600">
                  <a:off x="7981560" y="2155680"/>
                  <a:ext cx="75600" cy="190440"/>
                </a:xfrm>
                <a:prstGeom prst="ellipse">
                  <a:avLst/>
                </a:prstGeom>
                <a:solidFill>
                  <a:srgbClr val="ff6600"/>
                </a:solidFill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6" name="Oval 12"/>
            <p:cNvSpPr/>
            <p:nvPr/>
          </p:nvSpPr>
          <p:spPr>
            <a:xfrm flipH="1">
              <a:off x="6227640" y="2637000"/>
              <a:ext cx="85680" cy="142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6084720" y="1989000"/>
              <a:ext cx="338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3276720" y="2637000"/>
              <a:ext cx="338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9" name="WordArt 15"/>
            <p:cNvSpPr txBox="1"/>
            <p:nvPr/>
          </p:nvSpPr>
          <p:spPr>
            <a:xfrm>
              <a:off x="8244000" y="1628640"/>
              <a:ext cx="338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0" name="Rectangle 17"/>
          <p:cNvSpPr/>
          <p:nvPr/>
        </p:nvSpPr>
        <p:spPr>
          <a:xfrm>
            <a:off x="209520" y="189000"/>
            <a:ext cx="8672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трезке АВ лежит точка С, АС = 6,1 см, АВ = 8,7 с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йдите длину С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4508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564000" y="2276640"/>
            <a:ext cx="4464000" cy="130968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812" h="825">
                <a:moveTo>
                  <a:pt x="0" y="771"/>
                </a:moveTo>
                <a:cubicBezTo>
                  <a:pt x="113" y="790"/>
                  <a:pt x="226" y="809"/>
                  <a:pt x="317" y="817"/>
                </a:cubicBezTo>
                <a:cubicBezTo>
                  <a:pt x="408" y="825"/>
                  <a:pt x="431" y="825"/>
                  <a:pt x="544" y="817"/>
                </a:cubicBezTo>
                <a:cubicBezTo>
                  <a:pt x="657" y="809"/>
                  <a:pt x="862" y="794"/>
                  <a:pt x="998" y="771"/>
                </a:cubicBezTo>
                <a:cubicBezTo>
                  <a:pt x="1134" y="748"/>
                  <a:pt x="1248" y="711"/>
                  <a:pt x="1361" y="681"/>
                </a:cubicBezTo>
                <a:cubicBezTo>
                  <a:pt x="1474" y="651"/>
                  <a:pt x="1557" y="628"/>
                  <a:pt x="1678" y="590"/>
                </a:cubicBezTo>
                <a:cubicBezTo>
                  <a:pt x="1799" y="552"/>
                  <a:pt x="1966" y="499"/>
                  <a:pt x="2087" y="454"/>
                </a:cubicBezTo>
                <a:cubicBezTo>
                  <a:pt x="2208" y="409"/>
                  <a:pt x="2306" y="371"/>
                  <a:pt x="2404" y="318"/>
                </a:cubicBezTo>
                <a:cubicBezTo>
                  <a:pt x="2502" y="265"/>
                  <a:pt x="2608" y="189"/>
                  <a:pt x="2676" y="136"/>
                </a:cubicBezTo>
                <a:cubicBezTo>
                  <a:pt x="2744" y="83"/>
                  <a:pt x="2778" y="41"/>
                  <a:pt x="2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60160" y="33577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20364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2000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132000" y="47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АВ - 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132000" y="5132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8,7 – 6,1 = 2,6 (с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203640" y="5708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2,6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Решить самостоятельно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1) Точка М лежит на прямой ЕF между Е и F. Чему равна длина отрезка МF, если EF = 7,2 cм, EM = 2,2 cм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2) На отрезке LS лежат точки K и R так, что К лежит между L и R, LK = 3,5 см, LS = 9 см и LK = KR. Найти R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24000" y="2232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Вернёмся к цели урока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глийский король Генрих 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ел в качестве единиц длины ЯРД – расстояние от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чика своего носа до большого пальца вытянутой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285264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ФУТ, что по-английски означа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56360" y="2997360"/>
            <a:ext cx="251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2492"/>
                </a:solidFill>
                <a:latin typeface="Tahoma"/>
              </a:rPr>
              <a:t>«ступн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ОКОТЬ приближённо равен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36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71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6520" y="4075200"/>
            <a:ext cx="64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АХОВАЯ САЖЕНЬ – расстояние между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132000" y="44308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ытянутыми в стороны ру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 ….…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796000" y="2205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итель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2852640"/>
            <a:ext cx="6265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ahoma"/>
              </a:rPr>
              <a:t>Равные отрезки име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29440" y="2924280"/>
            <a:ext cx="26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ahoma"/>
              </a:rPr>
              <a:t>равные д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ahoma"/>
              </a:rPr>
              <a:t>Длина всего отрезка равна сумме длин отрезков, из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236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ahoma"/>
              </a:rPr>
              <a:t>которых он состо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там относя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0836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140360" y="24670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миллиметровую линей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штангенцирку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5300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улет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68360" y="1989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масштабную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95280" y="335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диаметра трубки используют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. 7,8 (с.13-16) – чита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5, 33, 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69228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124000" y="3933720"/>
            <a:ext cx="4681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5717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1"/>
              </a:rPr>
              <a:t>http://ru.wikipedia.org/wiki/%DF%F0%E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oldru.narod.ru/history106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http://festival.1september.ru/articles/3121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www.i-u.ru/biblio/archive/depman_mir/00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Картин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://innok-nikol.narod.ru/images/clip_image017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http://milanmark.files.wordpress.com/2009/11/0905p68-measuring-tape-l.jpg?w=280&amp;h=2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http://activerain.com/image_store/uploads/1/6/4/6/6/ar1226496636646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http://school.xvatit.com/images/0/03/22102010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http://screenshots.etvnet.com/000/363/443/b09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http://mer.kakras.ru/img-mer/arshin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1"/>
              </a:rPr>
              <a:t>http://vladpaper.ru/d/168020/d/3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2"/>
              </a:rPr>
              <a:t>http://www.bikmark.ru/goods_big/%C3%CE%C4018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3"/>
              </a:rPr>
              <a:t>http://img.zinzilin.com/items/29/lineyka-masshtabnaya-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4"/>
              </a:rPr>
              <a:t>http://www.specural.com/files/slovar/metr_2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2338920"/>
            <a:ext cx="8569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200" y="1642320"/>
            <a:ext cx="90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 значит измерить какую-то величину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4360" y="404640"/>
            <a:ext cx="31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: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0040" y="329580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Герои одного мультфильма измеряли длину удава в попуга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3123" t="3123" r="3123" b="1824"/>
          <a:stretch/>
        </p:blipFill>
        <p:spPr>
          <a:xfrm>
            <a:off x="3652920" y="2403360"/>
            <a:ext cx="549108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1187280" y="18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измерения длин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ное врем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разны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24360" y="21286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85840" y="2108160"/>
            <a:ext cx="350028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2.jpg (20792 bytes)"/>
          <p:cNvPicPr/>
          <p:nvPr/>
        </p:nvPicPr>
        <p:blipFill>
          <a:blip r:embed="rId1"/>
          <a:stretch/>
        </p:blipFill>
        <p:spPr>
          <a:xfrm>
            <a:off x="228600" y="1484280"/>
            <a:ext cx="3287880" cy="444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54100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g3.jpg (39872 bytes)"/>
          <p:cNvPicPr/>
          <p:nvPr/>
        </p:nvPicPr>
        <p:blipFill>
          <a:blip r:embed="rId1"/>
          <a:stretch/>
        </p:blipFill>
        <p:spPr>
          <a:xfrm>
            <a:off x="-4616280" y="1854360"/>
            <a:ext cx="1774800" cy="258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mg4.jpg (27326 bytes)"/>
          <p:cNvPicPr/>
          <p:nvPr/>
        </p:nvPicPr>
        <p:blipFill>
          <a:blip r:embed="rId2"/>
          <a:stretch/>
        </p:blipFill>
        <p:spPr>
          <a:xfrm>
            <a:off x="-4216320" y="2593800"/>
            <a:ext cx="12380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-46134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611240" y="2630880"/>
            <a:ext cx="4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380520"/>
            <a:ext cx="49068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На Руси в старину мерой длины был ШАГ и ПЯДЬ: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Мал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больш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– расстояние между раздвинутым большим пальцем и мизинцем   (~ 23 см)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0" name="Picture 8" descr="img3.jpg (39872 bytes)"/>
          <p:cNvPicPr/>
          <p:nvPr/>
        </p:nvPicPr>
        <p:blipFill>
          <a:blip r:embed="rId3"/>
          <a:stretch/>
        </p:blipFill>
        <p:spPr>
          <a:xfrm>
            <a:off x="357120" y="1000080"/>
            <a:ext cx="31147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7280" y="836280"/>
            <a:ext cx="485928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3600" spc="-1" strike="noStrike">
                <a:solidFill>
                  <a:srgbClr val="242492"/>
                </a:solidFill>
                <a:latin typeface="Tahoma"/>
              </a:rPr>
              <a:t>(~71 см)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4122" t="0" r="12137" b="0"/>
          <a:stretch/>
        </p:blipFill>
        <p:spPr>
          <a:xfrm>
            <a:off x="0" y="3705120"/>
            <a:ext cx="335772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36280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4290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-74520" y="142920"/>
            <a:ext cx="95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льшие расстояния измерялись ПОЛЕТОМ СТРЕ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48:14Z</dcterms:created>
  <dc:creator>артем</dc:creator>
  <dc:description/>
  <dc:language>en-US</dc:language>
  <cp:lastModifiedBy>LEGION</cp:lastModifiedBy>
  <dcterms:modified xsi:type="dcterms:W3CDTF">2015-01-26T10:15:46Z</dcterms:modified>
  <cp:revision>73</cp:revision>
  <dc:subject/>
  <dc:title>Слайд 1</dc:title>
</cp:coreProperties>
</file>