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BFB0-C833-4A2F-9B1B-F3BEB52F1B1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slide" Target="../slides/slide2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рение отрез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03F4-88DE-46E6-9509-91F53AA7785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3 аршина составляли СА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4428-7DE5-4EA9-A2CE-31A507A0BCC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49e7"/>
                </a:solidFill>
                <a:latin typeface="Calibri"/>
              </a:rPr>
              <a:t>Длина локтя или шага у разных людей различная, а мера длины должна быть одинак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ED5E-7AB1-4E35-9ECC-51D08C7824D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разец меры – метр, принятий за эталон, сейчас хранится в одном из французских музе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DA43-46F2-4F3C-94C0-3511CCFAB63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92296"/>
                </a:solidFill>
                <a:latin typeface="Calibri"/>
              </a:rPr>
              <a:t>Вернемся к вопросу, заданному в начале: «Что значит измерить?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о можно ответить так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Измерить – значит сравнить с эталоном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5463-F006-47A5-BA26-5436712437E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А чем мы обычно измеря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-там относя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иркуль и линей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Сначала изобрели линейку, а циркуль был изобретен позже - в I ве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CC24-A48D-41C0-AB97-F18E895356B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хническом черчении употребляю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асштабную миллиметровую линей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диаме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бки использ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штангенциркуль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0E04-6B1A-4E94-B1EB-E5A737CFF34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расстояний на местности пользую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улет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Рулетка» - с французского (rouler – свертывать, кат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BF53-20D9-4267-85BD-90ABC7E1585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резки нельзя начерт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,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- 2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6452-490C-4D1C-B664-CF1CB56C2BF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 длине двух равных отрезк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CD30-BF01-40DE-A6C9-255B7E496F5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1768-4ABE-4761-A180-4278C0A54FD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змерь самого себ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 ты станешь настоящим геоме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силио Сич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5E35-470E-456F-9DD6-00BA026337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шение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) (Устно) На отрезке АС поставлена точка В, АВ = 5,6 см, ВС=2,8 см. Найдите длину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(Письменно) </a:t>
            </a: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На отрезке АВ лежит точка С, АС = 6,1 см, АВ = 8,7 см. Найдите длину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BD93-2D42-42FC-A832-D29EA80CD7A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зец оформ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дач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ано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езок А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ahoma"/>
              </a:rPr>
              <a:t>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 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= 6,1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= 8,7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95C5-F204-4224-8C9A-84B2818A7F0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ешить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1) Точка М лежит на прямой ЕF между Е и F. Чему равна длина отрезка МF, если EF = 7,2 cм, EM = 2,2 c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) На отрезке LS лежат точки K и R так, что К лежит между L и R, LK = 3,5 см, LS = 9 см и LK = KR. Найти 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0EBA-A410-4E14-B6D0-C71945F20B9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рнёмся к цели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B9B2-5D78-4C36-BDDE-7D419F657C4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вел в качестве единиц длины ЯРД – расстояние от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AD03-9271-4FE6-85E3-2BE49710781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Длина отрезка выражается  ….…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2692-0D2D-4065-92B5-8C9DDB79A79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там относя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559C-E73E-4B98-B86D-FCFDB78A850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. 7,8 (с.13-16) – 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, 33,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BE57-DCA8-4DB9-B418-5FB25D51145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%DF%F0%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dru.narod.ru/history1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stival.1september.ru/articles/3121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-u.ru/biblio/archive/depman_mir/00.asp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nnok-nikol.narod.ru/images/clip_image01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ilanmark.files.wordpress.com/2009/11/0905p68-measuring-tape-l.jpg?w=280&amp;h=2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activerain.com/image_store/uploads/1/6/4/6/6/ar1226496636646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hool.xvatit.com/images/0/03/2210201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reenshots.etvnet.com/000/363/443/b0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er.kakras.ru/img-mer/arshin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vladpaper.ru/d/168020/d/3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ikmark.ru/goods_big/%C3%CE%C401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.zinzilin.com/items/29/lineyka-masshtabnaya-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pecural.com/files/slovar/metr_2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8011-C343-48AD-8501-D8BC383F63A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1128-E3BD-4087-BFB7-A4F37137389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то значит измерить какую-то величину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Герои одного мультфильма измеряли длину удава в попуга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3A4E-4A81-4D07-B9D3-BC42BDB68BB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Единицы измерения д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в разное вре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и в раз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DCB9-94DD-4ED9-8DD2-C9EB073A71A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BF19-14EC-41F0-9AC8-CBCA7C98BE5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Руси в старину мерой длины был ШАГ и ПЯДЬ: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Мал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больш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– расстояние между раздвинутым большим пальцем и мизинцем   (~ 23 с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B160-EF5D-4502-A15E-A9836840AB9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1000" spc="-1" strike="noStrike">
                <a:solidFill>
                  <a:srgbClr val="800080"/>
                </a:solidFill>
                <a:latin typeface="Calibri"/>
              </a:rPr>
              <a:t>(~71 см)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792F-D6F7-48E0-9C46-C9D7601CB4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1B7B-F886-4D26-9315-D959C09816E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D1D-5D9C-456A-B82E-814C11D7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FFA-C843-4091-A3E6-D9306AF2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D30-E2D4-45ED-B008-0131A540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B59-C4CF-4BD5-8AE2-B43553E2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2AF-7DC2-43B3-BB7B-291DBB7D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586-0B5D-4D9C-8474-1578AF8B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814-03DC-43AA-96FC-574F2866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2FE-3E9D-4A7B-AAB2-5D8AB7C0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9E4-A641-4F9A-8CAD-6E5F1675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C89-0B7E-4BFD-ACE2-EA46924C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B3C-AB16-4893-8A8B-F6429A8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4D8-F536-41EF-B4EF-EF1F22A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3858-A86C-487F-B2DC-56013756A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hyperlink" Target="http://festival.1september.ru/articles/312112/" TargetMode="External"/><Relationship Id="rId4" Type="http://schemas.openxmlformats.org/officeDocument/2006/relationships/hyperlink" Target="http://www.i-u.ru/biblio/archive/depman_mir/00.aspx" TargetMode="External"/><Relationship Id="rId5" Type="http://schemas.openxmlformats.org/officeDocument/2006/relationships/hyperlink" Target="http://innok-nikol.narod.ru/images/clip_image017.png" TargetMode="External"/><Relationship Id="rId6" Type="http://schemas.openxmlformats.org/officeDocument/2006/relationships/hyperlink" Target="http://milanmark.wordpress.com/" TargetMode="External"/><Relationship Id="rId7" Type="http://schemas.openxmlformats.org/officeDocument/2006/relationships/hyperlink" Target="http://activerain.com/image_store/uploads/1/6/4/6/6/ar12264966366461.png" TargetMode="External"/><Relationship Id="rId8" Type="http://schemas.openxmlformats.org/officeDocument/2006/relationships/hyperlink" Target="http://school.xvatit.com/images/0/03/22102010.jpg" TargetMode="External"/><Relationship Id="rId9" Type="http://schemas.openxmlformats.org/officeDocument/2006/relationships/hyperlink" Target="http://screenshots.etvnet.com/000/363/443/b09.jpg" TargetMode="External"/><Relationship Id="rId10" Type="http://schemas.openxmlformats.org/officeDocument/2006/relationships/hyperlink" Target="http://mer.kakras.ru/img-mer/arshin.gif" TargetMode="External"/><Relationship Id="rId11" Type="http://schemas.openxmlformats.org/officeDocument/2006/relationships/hyperlink" Target="http://vladpaper.ru/d/168020/d/31.png" TargetMode="External"/><Relationship Id="rId12" Type="http://schemas.openxmlformats.org/officeDocument/2006/relationships/hyperlink" Target="http://www.bikmark.ru/goods_big/%C3%CE%C4018.jpg" TargetMode="External"/><Relationship Id="rId13" Type="http://schemas.openxmlformats.org/officeDocument/2006/relationships/hyperlink" Target="http://img.zinzilin.com/items/29/lineyka-masshtabnaya-1.png" TargetMode="External"/><Relationship Id="rId14" Type="http://schemas.openxmlformats.org/officeDocument/2006/relationships/hyperlink" Target="http://www.specural.com/files/slovar/metr_2.gif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WordArt 5"/>
          <p:cNvGrpSpPr/>
          <p:nvPr/>
        </p:nvGrpSpPr>
        <p:grpSpPr>
          <a:xfrm>
            <a:off x="682560" y="2146320"/>
            <a:ext cx="7705800" cy="1627200"/>
            <a:chOff x="682560" y="2146320"/>
            <a:chExt cx="7705800" cy="1627200"/>
          </a:xfrm>
        </p:grpSpPr>
        <p:pic>
          <p:nvPicPr>
            <p:cNvPr id="49" name="WordArt 5" descr=""/>
            <p:cNvPicPr/>
            <p:nvPr/>
          </p:nvPicPr>
          <p:blipFill>
            <a:blip r:embed="rId1"/>
            <a:stretch/>
          </p:blipFill>
          <p:spPr>
            <a:xfrm>
              <a:off x="682560" y="2149200"/>
              <a:ext cx="770580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146320"/>
              <a:ext cx="7704000" cy="16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змерение отрезко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Rectangle 6"/>
          <p:cNvSpPr/>
          <p:nvPr/>
        </p:nvSpPr>
        <p:spPr>
          <a:xfrm>
            <a:off x="3363120" y="551880"/>
            <a:ext cx="30762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2492"/>
                </a:solidFill>
                <a:latin typeface="Tahoma"/>
              </a:rPr>
              <a:t>Геометрия 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rcRect l="0" t="12211" r="0" b="0"/>
          <a:stretch/>
        </p:blipFill>
        <p:spPr>
          <a:xfrm>
            <a:off x="0" y="3784680"/>
            <a:ext cx="3500280" cy="3073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ahoma"/>
              </a:rPr>
              <a:t>3 аршина составляли САЖЕНЬ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1" name="Picture 23" descr="1357"/>
          <p:cNvPicPr/>
          <p:nvPr/>
        </p:nvPicPr>
        <p:blipFill>
          <a:blip r:embed="rId1"/>
          <a:srcRect l="27607" t="0" r="0" b="0"/>
          <a:stretch/>
        </p:blipFill>
        <p:spPr>
          <a:xfrm>
            <a:off x="928800" y="1495440"/>
            <a:ext cx="7412040" cy="53625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46800" cy="26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49e7"/>
                </a:solidFill>
                <a:latin typeface="Tahoma"/>
              </a:rPr>
              <a:t>Длина локтя или шага у разных людей различная, а мера длины должна быть одинаковой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919960" y="292824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вился мет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2357280" y="361944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65200" y="907560"/>
            <a:ext cx="49071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Образец меры – метр, принятий за эталон, сейчас хранится в одном из французских музеев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3971880"/>
            <a:ext cx="4238640" cy="28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-14400" y="1192320"/>
            <a:ext cx="4229280" cy="26654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92296"/>
                </a:solidFill>
                <a:latin typeface="Tahoma"/>
              </a:rPr>
              <a:t>Вернемся к вопросу, заданному в начале: «Что значит измерить?»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ротко можно ответить так: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Измерить – значит сравнить с эталоном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А чем мы обычно измеря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-там относя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Сначала изобрели линейку, а циркуль был изобретен позже - в I век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Древней Гре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5072040" y="385776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126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масштабную миллиметровую линейку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диаметр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рубки использу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штангенциркуль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37149" r="0" b="35000"/>
          <a:stretch/>
        </p:blipFill>
        <p:spPr>
          <a:xfrm>
            <a:off x="3286080" y="2357280"/>
            <a:ext cx="3333960" cy="9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43280" y="4524480"/>
            <a:ext cx="3500640" cy="2333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рулеткой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«Рулетка» - с французского (rouler – свертывать, катать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трезки нельзя начерт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,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- 2 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1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653920" y="5083920"/>
            <a:ext cx="62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оложительным числом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ожно сказать о длине двух равных отрезк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2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61880" y="5444280"/>
            <a:ext cx="83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Равные отрезки имеют равные длины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3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93360" y="4958280"/>
            <a:ext cx="59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всего отрезка ра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умме длин отрезко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из которых он состоит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71280" y="49309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Марсилио Сичи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6540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99080" y="4103640"/>
            <a:ext cx="2644920" cy="2754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572000" y="460440"/>
            <a:ext cx="397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змерь самого себя 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 ты станешь настоящим геометр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Решение задач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29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1) (Устно) На отрезке АС поставлена точка В, АВ = 5,6 см, ВС=2,8 см. Найдите длину А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2) </a:t>
            </a: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(Письменно) </a:t>
            </a: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На отрезке АВ лежит точка С, АС = 6,1 см, АВ = 8,7 см. Найдите длину С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Образец оформления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Задача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ан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резок А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А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 = 6,1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 = 8,7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С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916360" y="234936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0920" y="47242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3276720" y="1628640"/>
            <a:ext cx="5305320" cy="1931040"/>
            <a:chOff x="3276720" y="1628640"/>
            <a:chExt cx="5305320" cy="1931040"/>
          </a:xfrm>
        </p:grpSpPr>
        <p:grpSp>
          <p:nvGrpSpPr>
            <p:cNvPr id="141" name="Group 7"/>
            <p:cNvGrpSpPr/>
            <p:nvPr/>
          </p:nvGrpSpPr>
          <p:grpSpPr>
            <a:xfrm>
              <a:off x="3515040" y="2149920"/>
              <a:ext cx="4586040" cy="1409760"/>
              <a:chOff x="3515040" y="2149920"/>
              <a:chExt cx="4586040" cy="1409760"/>
            </a:xfrm>
          </p:grpSpPr>
          <p:sp>
            <p:nvSpPr>
              <p:cNvPr id="142" name="Oval 8"/>
              <p:cNvSpPr/>
              <p:nvPr/>
            </p:nvSpPr>
            <p:spPr>
              <a:xfrm flipV="1" rot="19734600">
                <a:off x="3558240" y="3363120"/>
                <a:ext cx="75600" cy="190440"/>
              </a:xfrm>
              <a:prstGeom prst="ellipse">
                <a:avLst/>
              </a:prstGeom>
              <a:solidFill>
                <a:srgbClr val="ff6600"/>
              </a:solidFill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3" name="Group 9"/>
              <p:cNvGrpSpPr/>
              <p:nvPr/>
            </p:nvGrpSpPr>
            <p:grpSpPr>
              <a:xfrm>
                <a:off x="3563640" y="2149920"/>
                <a:ext cx="4537440" cy="1328400"/>
                <a:chOff x="3563640" y="2149920"/>
                <a:chExt cx="4537440" cy="1328400"/>
              </a:xfrm>
            </p:grpSpPr>
            <p:sp>
              <p:nvSpPr>
                <p:cNvPr id="144" name="Line 10"/>
                <p:cNvSpPr/>
                <p:nvPr/>
              </p:nvSpPr>
              <p:spPr>
                <a:xfrm flipV="1">
                  <a:off x="3563640" y="2231640"/>
                  <a:ext cx="4488120" cy="1246680"/>
                </a:xfrm>
                <a:prstGeom prst="line">
                  <a:avLst/>
                </a:prstGeom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Oval 11"/>
                <p:cNvSpPr/>
                <p:nvPr/>
              </p:nvSpPr>
              <p:spPr>
                <a:xfrm flipV="1" rot="19734600">
                  <a:off x="7981560" y="2155680"/>
                  <a:ext cx="75600" cy="190440"/>
                </a:xfrm>
                <a:prstGeom prst="ellipse">
                  <a:avLst/>
                </a:prstGeom>
                <a:solidFill>
                  <a:srgbClr val="ff6600"/>
                </a:solidFill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6" name="Oval 12"/>
            <p:cNvSpPr/>
            <p:nvPr/>
          </p:nvSpPr>
          <p:spPr>
            <a:xfrm flipH="1">
              <a:off x="6227640" y="2637000"/>
              <a:ext cx="85680" cy="142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6084720" y="1989000"/>
              <a:ext cx="338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4"/>
            <p:cNvSpPr txBox="1"/>
            <p:nvPr/>
          </p:nvSpPr>
          <p:spPr>
            <a:xfrm>
              <a:off x="3276720" y="2637000"/>
              <a:ext cx="338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9" name="WordArt 15"/>
            <p:cNvSpPr txBox="1"/>
            <p:nvPr/>
          </p:nvSpPr>
          <p:spPr>
            <a:xfrm>
              <a:off x="8244000" y="1628640"/>
              <a:ext cx="338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0" name="Rectangle 17"/>
          <p:cNvSpPr/>
          <p:nvPr/>
        </p:nvSpPr>
        <p:spPr>
          <a:xfrm>
            <a:off x="209520" y="189000"/>
            <a:ext cx="86724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трезке АВ лежит точка С, АС = 6,1 см, АВ = 8,7 с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йдите длину С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464508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3564000" y="2276640"/>
            <a:ext cx="4464000" cy="130968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812" h="825">
                <a:moveTo>
                  <a:pt x="0" y="771"/>
                </a:moveTo>
                <a:cubicBezTo>
                  <a:pt x="113" y="790"/>
                  <a:pt x="226" y="809"/>
                  <a:pt x="317" y="817"/>
                </a:cubicBezTo>
                <a:cubicBezTo>
                  <a:pt x="408" y="825"/>
                  <a:pt x="431" y="825"/>
                  <a:pt x="544" y="817"/>
                </a:cubicBezTo>
                <a:cubicBezTo>
                  <a:pt x="657" y="809"/>
                  <a:pt x="862" y="794"/>
                  <a:pt x="998" y="771"/>
                </a:cubicBezTo>
                <a:cubicBezTo>
                  <a:pt x="1134" y="748"/>
                  <a:pt x="1248" y="711"/>
                  <a:pt x="1361" y="681"/>
                </a:cubicBezTo>
                <a:cubicBezTo>
                  <a:pt x="1474" y="651"/>
                  <a:pt x="1557" y="628"/>
                  <a:pt x="1678" y="590"/>
                </a:cubicBezTo>
                <a:cubicBezTo>
                  <a:pt x="1799" y="552"/>
                  <a:pt x="1966" y="499"/>
                  <a:pt x="2087" y="454"/>
                </a:cubicBezTo>
                <a:cubicBezTo>
                  <a:pt x="2208" y="409"/>
                  <a:pt x="2306" y="371"/>
                  <a:pt x="2404" y="318"/>
                </a:cubicBezTo>
                <a:cubicBezTo>
                  <a:pt x="2502" y="265"/>
                  <a:pt x="2608" y="189"/>
                  <a:pt x="2676" y="136"/>
                </a:cubicBezTo>
                <a:cubicBezTo>
                  <a:pt x="2744" y="83"/>
                  <a:pt x="2778" y="41"/>
                  <a:pt x="28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960160" y="335772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20364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2000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132000" y="472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АВ - А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3132000" y="51325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8,7 – 6,1 = 2,6 (с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3203640" y="57085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2,6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Решить самостоятельно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1) Точка М лежит на прямой ЕF между Е и F. Чему равна длина отрезка МF, если EF = 7,2 cм, EM = 2,2 cм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ahoma"/>
              </a:rPr>
              <a:t>2) На отрезке LS лежат точки K и R так, что К лежит между L и R, LK = 3,5 см, LS = 9 см и LK = KR. Найти RS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24000" y="22320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Вернёмся к цели урока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нглийский король Генрих 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вел в качестве единиц длины ЯРД – расстояние от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24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чика своего носа до большого пальца вытянутой ру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11280" y="285264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ФУТ, что по-английски означае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56360" y="2997360"/>
            <a:ext cx="2519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2492"/>
                </a:solidFill>
                <a:latin typeface="Tahoma"/>
              </a:rPr>
              <a:t>«ступн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ОКОТЬ приближённо равен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36000" y="35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71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6520" y="4075200"/>
            <a:ext cx="64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МАХОВАЯ САЖЕНЬ – расстояние между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132000" y="44308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ытянутыми в стороны рук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 ….… числ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796000" y="22050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ложитель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2852640"/>
            <a:ext cx="6265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ahoma"/>
              </a:rPr>
              <a:t>Равные отрезки име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29440" y="2924280"/>
            <a:ext cx="266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ahoma"/>
              </a:rPr>
              <a:t>равные д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ahoma"/>
              </a:rPr>
              <a:t>Длина всего отрезка равна сумме длин отрезков, из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932360" y="4508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ahoma"/>
              </a:rPr>
              <a:t>которых он состо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там относя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70836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140360" y="246708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миллиметровую линей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140360" y="386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штангенцирку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084720" y="5300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улет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68360" y="1989000"/>
            <a:ext cx="864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масштабную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95280" y="335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диаметра трубки используют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6836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. 7,8 (с.13-16) – чита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5, 33, 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258920" y="692280"/>
            <a:ext cx="619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2124000" y="3933720"/>
            <a:ext cx="4681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Список использованной литературы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15717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1"/>
              </a:rPr>
              <a:t>http://ru.wikipedia.org/wiki/%DF%F0%E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2"/>
              </a:rPr>
              <a:t>http://oldru.narod.ru/history106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3"/>
              </a:rPr>
              <a:t>http://festival.1september.ru/articles/312112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4"/>
              </a:rPr>
              <a:t>http://www.i-u.ru/biblio/archive/depman_mir/00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Картин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5"/>
              </a:rPr>
              <a:t>http://innok-nikol.narod.ru/images/clip_image017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6"/>
              </a:rPr>
              <a:t>http://milanmark.files.wordpress.com/2009/11/0905p68-measuring-tape-l.jpg?w=280&amp;h=2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7"/>
              </a:rPr>
              <a:t>http://activerain.com/image_store/uploads/1/6/4/6/6/ar1226496636646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8"/>
              </a:rPr>
              <a:t>http://school.xvatit.com/images/0/03/22102010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9"/>
              </a:rPr>
              <a:t>http://screenshots.etvnet.com/000/363/443/b09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0"/>
              </a:rPr>
              <a:t>http://mer.kakras.ru/img-mer/arshin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1"/>
              </a:rPr>
              <a:t>http://vladpaper.ru/d/168020/d/3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2"/>
              </a:rPr>
              <a:t>http://www.bikmark.ru/goods_big/%C3%CE%C4018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3"/>
              </a:rPr>
              <a:t>http://img.zinzilin.com/items/29/lineyka-masshtabnaya-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4"/>
              </a:rPr>
              <a:t>http://www.specural.com/files/slovar/metr_2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24000" y="2338920"/>
            <a:ext cx="8569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200" y="1642320"/>
            <a:ext cx="90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Что значит измерить какую-то величину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684360" y="404640"/>
            <a:ext cx="31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прос: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00040" y="329580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Герои одного мультфильма измеряли длину удава в попуга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3123" t="3123" r="3123" b="1824"/>
          <a:stretch/>
        </p:blipFill>
        <p:spPr>
          <a:xfrm>
            <a:off x="3652920" y="2403360"/>
            <a:ext cx="5491080" cy="44546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1187280" y="18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ицы измерения длин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ное врем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разны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24360" y="2128680"/>
            <a:ext cx="50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85840" y="2108160"/>
            <a:ext cx="350028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2.jpg (20792 bytes)"/>
          <p:cNvPicPr/>
          <p:nvPr/>
        </p:nvPicPr>
        <p:blipFill>
          <a:blip r:embed="rId1"/>
          <a:stretch/>
        </p:blipFill>
        <p:spPr>
          <a:xfrm>
            <a:off x="228600" y="1484280"/>
            <a:ext cx="3287880" cy="444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541008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g3.jpg (39872 bytes)"/>
          <p:cNvPicPr/>
          <p:nvPr/>
        </p:nvPicPr>
        <p:blipFill>
          <a:blip r:embed="rId1"/>
          <a:stretch/>
        </p:blipFill>
        <p:spPr>
          <a:xfrm>
            <a:off x="-4616280" y="1854360"/>
            <a:ext cx="1774800" cy="258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img4.jpg (27326 bytes)"/>
          <p:cNvPicPr/>
          <p:nvPr/>
        </p:nvPicPr>
        <p:blipFill>
          <a:blip r:embed="rId2"/>
          <a:stretch/>
        </p:blipFill>
        <p:spPr>
          <a:xfrm>
            <a:off x="-4216320" y="2593800"/>
            <a:ext cx="12380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-46134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4611240" y="2630880"/>
            <a:ext cx="4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380520"/>
            <a:ext cx="490680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На Руси в старину мерой длины был ШАГ и ПЯДЬ: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Мал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больш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– расстояние между раздвинутым большим пальцем и мизинцем   (~ 23 см)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0" name="Picture 8" descr="img3.jpg (39872 bytes)"/>
          <p:cNvPicPr/>
          <p:nvPr/>
        </p:nvPicPr>
        <p:blipFill>
          <a:blip r:embed="rId3"/>
          <a:stretch/>
        </p:blipFill>
        <p:spPr>
          <a:xfrm>
            <a:off x="357120" y="1000080"/>
            <a:ext cx="3114720" cy="45370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7280" y="836280"/>
            <a:ext cx="485928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3600" spc="-1" strike="noStrike">
                <a:solidFill>
                  <a:srgbClr val="242492"/>
                </a:solidFill>
                <a:latin typeface="Tahoma"/>
              </a:rPr>
              <a:t>(~71 см)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51240" cy="50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14122" t="0" r="12137" b="0"/>
          <a:stretch/>
        </p:blipFill>
        <p:spPr>
          <a:xfrm>
            <a:off x="0" y="3705120"/>
            <a:ext cx="3357720" cy="31528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2320"/>
            <a:ext cx="8362800" cy="29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42908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-74520" y="142920"/>
            <a:ext cx="95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Большие расстояния измерялись ПОЛЕТОМ СТРЕ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9:48:14Z</dcterms:created>
  <dc:creator>артем</dc:creator>
  <dc:description/>
  <dc:language>en-US</dc:language>
  <cp:lastModifiedBy>LEGION</cp:lastModifiedBy>
  <dcterms:modified xsi:type="dcterms:W3CDTF">2015-01-26T10:15:46Z</dcterms:modified>
  <cp:revision>73</cp:revision>
  <dc:subject/>
  <dc:title>Слайд 1</dc:title>
</cp:coreProperties>
</file>