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7450-676B-457D-A5AA-55D0A6C93AF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Задачи на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5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0C8E-5CAF-4B93-9680-3C01DA9E7CD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959B-F0D5-49CE-8A71-9B6C18C6EC2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E1E4-1069-4C6A-8538-B6D69B73AF8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33cc"/>
                </a:solidFill>
                <a:uFillTx/>
                <a:latin typeface="Calibri"/>
              </a:rPr>
              <a:t>П.2.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Стр.141, № 13, 15,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доп. №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5910-ED32-423F-B22C-CDC48A2B7BE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атематика - это язык, на         котором говорят все точные науки.    </a:t>
            </a:r>
            <a:br>
              <a:rPr sz="1200"/>
            </a:b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         Н.И. Лобачев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E71A-8599-49D5-BACB-05DD4BB36C0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ак бы машина хорошо ни работала, она может решать все требуемые от нее задачи, но она никогда не придумает ни од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А. Эйнштейн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А вот нам с вами предстоит сейчас придумать задачу по предложенной схеме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8AC9-DFF5-4E2E-BF0F-59CDDBC0946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думайте и решите задачу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 помощью сх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8BAE-A10D-454C-88CD-3D0B649F6EB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80"/>
                </a:solidFill>
                <a:latin typeface="Arial"/>
              </a:rPr>
              <a:t>24.10.12         </a:t>
            </a:r>
            <a:r>
              <a:rPr b="1" lang="ru-RU" sz="1200" spc="-1" strike="noStrike">
                <a:solidFill>
                  <a:srgbClr val="800080"/>
                </a:solidFill>
                <a:latin typeface="Arial"/>
              </a:rPr>
              <a:t>Задачи на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думайте и ответьте: какое важное условие (которое не оговаривается, но принимается по умолчанию) должно выполняться в задачах на части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Подсказка: это хорошо видно на схем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8115-12E8-4EA4-8F34-257525BE92D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думайте и ответьте: что первым делом необходимо найти при решении задачи на ча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ужно узнать, сколько составляет одна ч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A59C-A7DC-441F-B416-353652ECCF5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варенья из вишни на 2 части ягод берут 3 части сахара. Сколько сахара требуется на 4 кг яг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C0D1-99D2-4459-9734-F4FFE3C2ECE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у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AB2A-7135-49AE-8312-F0051388341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в па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092E-C8EA-4F18-9C49-B54A359F526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30C7-C725-4ECE-AAA4-6B075C93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90C0-6C58-47D6-8E2C-DB009D58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55F-AF3A-4946-AA11-2837FAD5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F2A9-A446-4513-817E-60A7DEFE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736B-3B8A-4C8B-8D1A-8DE25AD3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8A5F-2C8B-49B9-B75C-EBDC512D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1E1-458A-4FAF-88AB-0F7DD30E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9522-82C3-43FC-9258-F4B644FE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DC80-8086-49EC-8458-3C490E55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83EC-4AC5-4624-B21E-9DE0D721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E9AA-ADA5-4266-B33E-9DDC4298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9523-6F0F-4DF1-969E-B568C017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99FD-077A-4936-BAE0-5F4CA6DC2DA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CEEF-6786-4B88-A0B8-5B85346B03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794320" y="2924280"/>
            <a:ext cx="33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Задачи на ча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75240" y="4292640"/>
            <a:ext cx="72824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Разработка учителя математики МКОУ «СОШ №2  им. И.С.Унковског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Коломиец А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.Воротынск Калуж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845800" y="1700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бник С.А.Козловой, А.Г.Руб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647520" y="1484280"/>
            <a:ext cx="6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№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296440" y="235116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му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2278800" y="29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х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02280" y="263844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е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ine 10"/>
          <p:cNvSpPr/>
          <p:nvPr/>
        </p:nvSpPr>
        <p:spPr>
          <a:xfrm flipV="1">
            <a:off x="1619280" y="256536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1619280" y="2852640"/>
            <a:ext cx="64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635280" y="328464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363528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507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651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363528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17"/>
          <p:cNvSpPr/>
          <p:nvPr/>
        </p:nvSpPr>
        <p:spPr>
          <a:xfrm>
            <a:off x="507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18"/>
          <p:cNvSpPr/>
          <p:nvPr/>
        </p:nvSpPr>
        <p:spPr>
          <a:xfrm>
            <a:off x="651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363528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20"/>
          <p:cNvSpPr/>
          <p:nvPr/>
        </p:nvSpPr>
        <p:spPr>
          <a:xfrm>
            <a:off x="507672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795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900000" y="1773360"/>
            <a:ext cx="5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rc 25"/>
          <p:cNvSpPr/>
          <p:nvPr/>
        </p:nvSpPr>
        <p:spPr>
          <a:xfrm flipV="1" rot="10800000">
            <a:off x="3635280" y="3283560"/>
            <a:ext cx="1440000" cy="144360"/>
          </a:xfrm>
          <a:custGeom>
            <a:avLst/>
            <a:gdLst/>
            <a:ahLst/>
            <a:rect l="l" t="t" r="r" b="b"/>
            <a:pathLst>
              <a:path fill="none" w="41705" h="21600">
                <a:moveTo>
                  <a:pt x="-23832" y="5856"/>
                </a:moveTo>
                <a:cubicBezTo>
                  <a:pt x="-26455" y="15168"/>
                  <a:pt x="30587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</a:path>
              <a:path stroke="0" w="41705" h="21600">
                <a:moveTo>
                  <a:pt x="-23832" y="5856"/>
                </a:moveTo>
                <a:cubicBezTo>
                  <a:pt x="-26455" y="15168"/>
                  <a:pt x="30587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  <a:lnTo>
                  <a:pt x="20914" y="0"/>
                </a:lnTo>
                <a:lnTo>
                  <a:pt x="-2383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3934080" y="3500280"/>
            <a:ext cx="7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Arc 27"/>
          <p:cNvSpPr/>
          <p:nvPr/>
        </p:nvSpPr>
        <p:spPr>
          <a:xfrm flipV="1">
            <a:off x="3635280" y="2348280"/>
            <a:ext cx="4321440" cy="357480"/>
          </a:xfrm>
          <a:custGeom>
            <a:avLst/>
            <a:gdLst/>
            <a:ahLst/>
            <a:rect l="l" t="t" r="r" b="b"/>
            <a:pathLst>
              <a:path fill="none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</a:path>
              <a:path stroke="0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  <a:lnTo>
                  <a:pt x="20914" y="0"/>
                </a:lnTo>
                <a:lnTo>
                  <a:pt x="-23822" y="582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5133600" y="191628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3 ч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3915720" y="3429000"/>
            <a:ext cx="9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 ча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AutoShape 30"/>
          <p:cNvSpPr/>
          <p:nvPr/>
        </p:nvSpPr>
        <p:spPr>
          <a:xfrm>
            <a:off x="7885080" y="2492280"/>
            <a:ext cx="432000" cy="936720"/>
          </a:xfrm>
          <a:custGeom>
            <a:avLst/>
            <a:gdLst>
              <a:gd name="textAreaLeft" fmla="*/ 0 w 432000"/>
              <a:gd name="textAreaRight" fmla="*/ 155880 w 432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8253720" y="2708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?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1634400" y="400536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 часть – 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33"/>
          <p:cNvSpPr/>
          <p:nvPr/>
        </p:nvSpPr>
        <p:spPr>
          <a:xfrm>
            <a:off x="1828440" y="4583160"/>
            <a:ext cx="49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Всё зерно (мука + отходы) – 4 ч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34"/>
          <p:cNvSpPr/>
          <p:nvPr/>
        </p:nvSpPr>
        <p:spPr>
          <a:xfrm>
            <a:off x="1707480" y="5157720"/>
            <a:ext cx="52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) 12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·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4 = 48 (ц) – </a:t>
            </a:r>
            <a:r>
              <a:rPr b="1" i="1" lang="ru-RU" sz="2400" spc="-1" strike="noStrike">
                <a:solidFill>
                  <a:srgbClr val="0033cc"/>
                </a:solidFill>
                <a:latin typeface="Calibri"/>
              </a:rPr>
              <a:t>всего смололи зер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35"/>
          <p:cNvSpPr/>
          <p:nvPr/>
        </p:nvSpPr>
        <p:spPr>
          <a:xfrm>
            <a:off x="2185200" y="583560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вет: 48 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723120" y="1292400"/>
            <a:ext cx="73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№</a:t>
            </a: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296440" y="235116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му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278800" y="29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х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02280" y="263844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е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Line 7"/>
          <p:cNvSpPr/>
          <p:nvPr/>
        </p:nvSpPr>
        <p:spPr>
          <a:xfrm flipV="1">
            <a:off x="1619280" y="256536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1619280" y="2852640"/>
            <a:ext cx="64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3635280" y="328464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63528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507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651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ine 13"/>
          <p:cNvSpPr/>
          <p:nvPr/>
        </p:nvSpPr>
        <p:spPr>
          <a:xfrm>
            <a:off x="363528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507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Line 15"/>
          <p:cNvSpPr/>
          <p:nvPr/>
        </p:nvSpPr>
        <p:spPr>
          <a:xfrm>
            <a:off x="651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16"/>
          <p:cNvSpPr/>
          <p:nvPr/>
        </p:nvSpPr>
        <p:spPr>
          <a:xfrm>
            <a:off x="363528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17"/>
          <p:cNvSpPr/>
          <p:nvPr/>
        </p:nvSpPr>
        <p:spPr>
          <a:xfrm>
            <a:off x="507672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795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900000" y="1773360"/>
            <a:ext cx="5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5950080" y="1844640"/>
            <a:ext cx="7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rc 22"/>
          <p:cNvSpPr/>
          <p:nvPr/>
        </p:nvSpPr>
        <p:spPr>
          <a:xfrm flipV="1">
            <a:off x="5076720" y="2348280"/>
            <a:ext cx="2880000" cy="357480"/>
          </a:xfrm>
          <a:custGeom>
            <a:avLst/>
            <a:gdLst/>
            <a:ahLst/>
            <a:rect l="l" t="t" r="r" b="b"/>
            <a:pathLst>
              <a:path fill="none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</a:path>
              <a:path stroke="0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  <a:lnTo>
                  <a:pt x="20914" y="0"/>
                </a:lnTo>
                <a:lnTo>
                  <a:pt x="-23822" y="582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23"/>
          <p:cNvSpPr/>
          <p:nvPr/>
        </p:nvSpPr>
        <p:spPr>
          <a:xfrm>
            <a:off x="7885080" y="2492280"/>
            <a:ext cx="432000" cy="865440"/>
          </a:xfrm>
          <a:custGeom>
            <a:avLst/>
            <a:gdLst>
              <a:gd name="textAreaLeft" fmla="*/ 0 w 432000"/>
              <a:gd name="textAreaRight" fmla="*/ 155880 w 43200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8253720" y="2708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?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1379880" y="3860640"/>
            <a:ext cx="24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 части – это 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1121400" y="436572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) 12 : 2 = 6 (ц) – </a:t>
            </a:r>
            <a:r>
              <a:rPr b="1" i="1" lang="ru-RU" sz="2400" spc="-1" strike="noStrike">
                <a:solidFill>
                  <a:srgbClr val="0033cc"/>
                </a:solidFill>
                <a:latin typeface="Calibri"/>
              </a:rPr>
              <a:t>составляет 1 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1274040" y="5013360"/>
            <a:ext cx="51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2) 6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·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4 = 24 (ц) – </a:t>
            </a:r>
            <a:r>
              <a:rPr b="1" i="1" lang="ru-RU" sz="2400" spc="-1" strike="noStrike">
                <a:solidFill>
                  <a:srgbClr val="0033cc"/>
                </a:solidFill>
                <a:latin typeface="Calibri"/>
              </a:rPr>
              <a:t>всего смололи зер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30"/>
          <p:cNvSpPr/>
          <p:nvPr/>
        </p:nvSpPr>
        <p:spPr>
          <a:xfrm>
            <a:off x="2061360" y="558972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вет: 24 ц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691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Домашнее зада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cc"/>
                </a:solidFill>
                <a:uFillTx/>
                <a:latin typeface="Calibri"/>
              </a:rPr>
              <a:t>П.2.1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тр.141, № 13, 15,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оп. №1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Математика - это язык, на         котором говорят все точные науки.    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                     Н.И. Лобачевски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Как бы машина хорошо ни работала, она может решать все требуемые от нее задачи, но она никогда не придумает ни одной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А. Эйнштейн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 вот нам с вами предстоит сейчас придумать задачу по предложенной схеме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785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думайте и решите задачу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с помощью схем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7"/>
          <p:cNvSpPr/>
          <p:nvPr/>
        </p:nvSpPr>
        <p:spPr>
          <a:xfrm>
            <a:off x="169236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8"/>
          <p:cNvSpPr/>
          <p:nvPr/>
        </p:nvSpPr>
        <p:spPr>
          <a:xfrm>
            <a:off x="399564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9"/>
          <p:cNvSpPr/>
          <p:nvPr/>
        </p:nvSpPr>
        <p:spPr>
          <a:xfrm>
            <a:off x="169236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169236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399564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12"/>
          <p:cNvSpPr/>
          <p:nvPr/>
        </p:nvSpPr>
        <p:spPr>
          <a:xfrm>
            <a:off x="399564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169236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4"/>
          <p:cNvSpPr/>
          <p:nvPr/>
        </p:nvSpPr>
        <p:spPr>
          <a:xfrm>
            <a:off x="6300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445320" y="234936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пол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373680" y="31417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II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пол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19"/>
          <p:cNvSpPr/>
          <p:nvPr/>
        </p:nvSpPr>
        <p:spPr>
          <a:xfrm>
            <a:off x="6443640" y="2492280"/>
            <a:ext cx="360360" cy="1224000"/>
          </a:xfrm>
          <a:custGeom>
            <a:avLst/>
            <a:gdLst>
              <a:gd name="textAreaLeft" fmla="*/ 0 w 360360"/>
              <a:gd name="textAreaRight" fmla="*/ 12996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6978240" y="285264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150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кни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rc 21"/>
          <p:cNvSpPr/>
          <p:nvPr/>
        </p:nvSpPr>
        <p:spPr>
          <a:xfrm flipV="1">
            <a:off x="1674720" y="2348640"/>
            <a:ext cx="231948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rc 22"/>
          <p:cNvSpPr/>
          <p:nvPr/>
        </p:nvSpPr>
        <p:spPr>
          <a:xfrm flipV="1">
            <a:off x="3995640" y="2348640"/>
            <a:ext cx="231948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rc 23"/>
          <p:cNvSpPr/>
          <p:nvPr/>
        </p:nvSpPr>
        <p:spPr>
          <a:xfrm flipV="1" rot="10800000">
            <a:off x="1692360" y="3427920"/>
            <a:ext cx="231912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2297880" y="378936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? кни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684360" y="486900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На первой полке книг в два раза больше, чем на второй. Сколько книг на второй полке, если на обеих полках 150 книг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1527840" y="4367160"/>
            <a:ext cx="44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дин из возможных вари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27"/>
          <p:cNvGrpSpPr/>
          <p:nvPr/>
        </p:nvGrpSpPr>
        <p:grpSpPr>
          <a:xfrm>
            <a:off x="3276720" y="3789360"/>
            <a:ext cx="3241440" cy="2135160"/>
            <a:chOff x="3276720" y="3789360"/>
            <a:chExt cx="3241440" cy="2135160"/>
          </a:xfrm>
        </p:grpSpPr>
        <p:pic>
          <p:nvPicPr>
            <p:cNvPr id="79" name="Picture 28" descr="MCj04244440000[1]"/>
            <p:cNvPicPr/>
            <p:nvPr/>
          </p:nvPicPr>
          <p:blipFill>
            <a:blip r:embed="rId1"/>
            <a:stretch/>
          </p:blipFill>
          <p:spPr>
            <a:xfrm>
              <a:off x="3276720" y="4321800"/>
              <a:ext cx="1460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29"/>
            <p:cNvSpPr/>
            <p:nvPr/>
          </p:nvSpPr>
          <p:spPr>
            <a:xfrm>
              <a:off x="4263120" y="3789360"/>
              <a:ext cx="2255040" cy="73872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24.10.12         </a:t>
            </a: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Задачи на ч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одумайте и ответьте: какое важное условие (которое не оговаривается, но принимается по умолчанию) должно выполняться в задачах на части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Подсказка: это хорошо видно на схе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10080" y="4653000"/>
            <a:ext cx="736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се части, о которых идет речь в задач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равны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 5"/>
          <p:cNvGrpSpPr/>
          <p:nvPr/>
        </p:nvGrpSpPr>
        <p:grpSpPr>
          <a:xfrm>
            <a:off x="4932360" y="3933720"/>
            <a:ext cx="3787920" cy="2597040"/>
            <a:chOff x="4932360" y="3933720"/>
            <a:chExt cx="3787920" cy="2597040"/>
          </a:xfrm>
        </p:grpSpPr>
        <p:pic>
          <p:nvPicPr>
            <p:cNvPr id="86" name="Picture 6" descr="MCj04244440000[1]"/>
            <p:cNvPicPr/>
            <p:nvPr/>
          </p:nvPicPr>
          <p:blipFill>
            <a:blip r:embed="rId1"/>
            <a:stretch/>
          </p:blipFill>
          <p:spPr>
            <a:xfrm>
              <a:off x="4932360" y="4581360"/>
              <a:ext cx="170676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AutoShape 7"/>
            <p:cNvSpPr/>
            <p:nvPr/>
          </p:nvSpPr>
          <p:spPr>
            <a:xfrm>
              <a:off x="6085080" y="3933720"/>
              <a:ext cx="263520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84360" y="177336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одумайте и ответьте: что первым делом необходимо найти при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11280" y="35002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ужно узнать, сколько составляет одна ча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11"/>
          <p:cNvGrpSpPr/>
          <p:nvPr/>
        </p:nvGrpSpPr>
        <p:grpSpPr>
          <a:xfrm>
            <a:off x="4356000" y="3284640"/>
            <a:ext cx="3787920" cy="2597040"/>
            <a:chOff x="4356000" y="3284640"/>
            <a:chExt cx="3787920" cy="2597040"/>
          </a:xfrm>
        </p:grpSpPr>
        <p:pic>
          <p:nvPicPr>
            <p:cNvPr id="93" name="Picture 12" descr="MCj04244440000[1]"/>
            <p:cNvPicPr/>
            <p:nvPr/>
          </p:nvPicPr>
          <p:blipFill>
            <a:blip r:embed="rId1"/>
            <a:stretch/>
          </p:blipFill>
          <p:spPr>
            <a:xfrm>
              <a:off x="4356000" y="3932280"/>
              <a:ext cx="170676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AutoShape 13"/>
            <p:cNvSpPr/>
            <p:nvPr/>
          </p:nvSpPr>
          <p:spPr>
            <a:xfrm>
              <a:off x="5508720" y="3284640"/>
              <a:ext cx="263520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3659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варенья из вишни на 2 части ягод берут 3 части сахара. Сколько сахара требуется на 4 кг ягод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3"/>
          <p:cNvSpPr/>
          <p:nvPr/>
        </p:nvSpPr>
        <p:spPr>
          <a:xfrm>
            <a:off x="169236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99564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5"/>
          <p:cNvSpPr/>
          <p:nvPr/>
        </p:nvSpPr>
        <p:spPr>
          <a:xfrm>
            <a:off x="169236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169236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399564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399564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169236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6300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69080" y="23493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Я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71600" y="314172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rc 16"/>
          <p:cNvSpPr/>
          <p:nvPr/>
        </p:nvSpPr>
        <p:spPr>
          <a:xfrm flipV="1">
            <a:off x="1692360" y="2348280"/>
            <a:ext cx="462276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rc 17"/>
          <p:cNvSpPr/>
          <p:nvPr/>
        </p:nvSpPr>
        <p:spPr>
          <a:xfrm flipV="1" rot="10800000">
            <a:off x="1692360" y="3427920"/>
            <a:ext cx="691200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21"/>
          <p:cNvSpPr/>
          <p:nvPr/>
        </p:nvSpPr>
        <p:spPr>
          <a:xfrm>
            <a:off x="399564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630072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630072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860436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3066840" y="184464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 части – 4 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8"/>
          <p:cNvSpPr/>
          <p:nvPr/>
        </p:nvSpPr>
        <p:spPr>
          <a:xfrm>
            <a:off x="4146120" y="386064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3 части – ? 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1108800" y="4538520"/>
            <a:ext cx="47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1) 4 : 2 = 2 (кг) –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составляет одна ча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839520" y="508464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)  2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·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 3 = 6 (кг) – нужно взять саха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3754440" y="559260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Ответ: 6 кг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уст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629360" y="1852560"/>
            <a:ext cx="2120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Стр. 13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№ 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1,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в пар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39640" y="1677960"/>
            <a:ext cx="81360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1 ряд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2 ряд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3 ря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      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№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  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№4                    №5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1:09:41Z</dcterms:created>
  <dc:creator>user</dc:creator>
  <dc:description/>
  <dc:language>en-US</dc:language>
  <cp:lastModifiedBy>LEGION</cp:lastModifiedBy>
  <dcterms:modified xsi:type="dcterms:W3CDTF">2015-01-26T10:17:48Z</dcterms:modified>
  <cp:revision>65</cp:revision>
  <dc:subject/>
  <dc:title>Презентация PowerPoint</dc:title>
</cp:coreProperties>
</file>