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5AED-B2BD-4551-B92D-0F8E888D02E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дачи на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6D01-A18E-4498-9938-39C737523CF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D47F-AA8B-4FED-A79C-3900DAC9615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2945-BDA4-4C88-93F8-E63A4123AB3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cc"/>
                </a:solidFill>
                <a:uFillTx/>
                <a:latin typeface="Calibri"/>
              </a:rPr>
              <a:t>П.2.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Стр.141, № 13, 15,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оп. №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329A-F99F-48A1-8FF5-452A466DD85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атематика - это язык, на         котором говорят все точные науки.    </a:t>
            </a:r>
            <a:br>
              <a:rPr sz="1200"/>
            </a:b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Н.И. Лобач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5B14-D7FC-46B9-A44B-CB0C6F59B91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ак бы машина хорошо ни работала, она может решать все требуемые от нее задачи, но она никогда не придумает ни од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А. Эйнштейн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 вот нам с вами предстоит сейчас придумать задачу по предложенной схеме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80C6-5EED-4A2B-B0C3-DC02EBE88A6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думайте и решите задачу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помощью сх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0C64-8AEC-4C1F-9341-84CB7446C01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80"/>
                </a:solidFill>
                <a:latin typeface="Arial"/>
              </a:rPr>
              <a:t>24.10.12         </a:t>
            </a: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Задачи на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думайте и ответьте: какое важное условие (которое не оговаривается, но принимается по умолчанию) должно выполняться в задачах на части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Подсказка: это хорошо видно на схем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3573-AFA4-47A1-A5BC-6A9D75171DF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думайте и ответьте: что первым делом необходимо найти при решении задачи на ча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ужно узнать, сколько составляет одна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F9C4-14C9-4DAF-94B4-1C1262FC9A6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варенья из вишни на 2 части ягод берут 3 части сахара. Сколько сахара требуется на 4 кг яг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D1A7-0DD1-430A-83E6-14B078AE939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C249-24C9-460B-8EC6-4C7DD449F98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 па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5820-23CE-4995-9F2E-0E421AB98CB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A91-E1CE-4BC7-85DF-E4A0936C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58B-82BE-422A-AC93-FD130BDD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A7B-DA64-4F32-A9A5-8BC77777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E2B-D2BC-4544-996D-4953EA72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B0E-816B-40AE-A56B-D9CFE801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F36C-77FF-4A7A-ACEF-C6AD1207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A2C-51C2-4ECA-B3E4-BE90C756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9A6-FCC2-4C24-BC94-4D2C9CA9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FFE-D607-48EB-BFF8-D252E1DA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E89-ADEA-4F73-8C50-7FCE845D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87F-FC4F-414A-89F4-85926373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0F0-8B66-483E-8737-121D7BAF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50D9-DA77-4BBD-86E6-0C1083C80B0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02DE-04DD-477F-813D-CADA0472E0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94320" y="292428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адачи на ч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75240" y="4292640"/>
            <a:ext cx="7282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азработка учителя математики МКОУ «СОШ №2  им. И.С.Унковског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оломиец А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.Воротынск Калуж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845800" y="1700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бник С.А.Козловой, А.Г.Руб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647520" y="1484280"/>
            <a:ext cx="6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96440" y="23511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278800" y="29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02280" y="263844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161928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1619280" y="2852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635280" y="328464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363528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507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651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363528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507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651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363528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20"/>
          <p:cNvSpPr/>
          <p:nvPr/>
        </p:nvSpPr>
        <p:spPr>
          <a:xfrm>
            <a:off x="507672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795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900000" y="1773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rc 25"/>
          <p:cNvSpPr/>
          <p:nvPr/>
        </p:nvSpPr>
        <p:spPr>
          <a:xfrm flipV="1" rot="10800000">
            <a:off x="3635280" y="3283560"/>
            <a:ext cx="1440000" cy="144360"/>
          </a:xfrm>
          <a:custGeom>
            <a:avLst/>
            <a:gdLst/>
            <a:ahLst/>
            <a:rect l="l" t="t" r="r" b="b"/>
            <a:pathLst>
              <a:path fill="none" w="41705" h="21600">
                <a:moveTo>
                  <a:pt x="-23832" y="5856"/>
                </a:moveTo>
                <a:cubicBezTo>
                  <a:pt x="-26455" y="15168"/>
                  <a:pt x="30587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05" h="21600">
                <a:moveTo>
                  <a:pt x="-23832" y="5856"/>
                </a:moveTo>
                <a:cubicBezTo>
                  <a:pt x="-26455" y="15168"/>
                  <a:pt x="30587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3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934080" y="350028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rc 27"/>
          <p:cNvSpPr/>
          <p:nvPr/>
        </p:nvSpPr>
        <p:spPr>
          <a:xfrm flipV="1">
            <a:off x="3635280" y="2348280"/>
            <a:ext cx="4321440" cy="357480"/>
          </a:xfrm>
          <a:custGeom>
            <a:avLst/>
            <a:gdLst/>
            <a:ahLst/>
            <a:rect l="l" t="t" r="r" b="b"/>
            <a:pathLst>
              <a:path fill="none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22" y="58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133600" y="191628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 ч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3915720" y="342900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30"/>
          <p:cNvSpPr/>
          <p:nvPr/>
        </p:nvSpPr>
        <p:spPr>
          <a:xfrm>
            <a:off x="7885080" y="2492280"/>
            <a:ext cx="432000" cy="936720"/>
          </a:xfrm>
          <a:custGeom>
            <a:avLst/>
            <a:gdLst>
              <a:gd name="textAreaLeft" fmla="*/ 0 w 432000"/>
              <a:gd name="textAreaRight" fmla="*/ 155880 w 432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8253720" y="2708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?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1634400" y="400536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 часть – 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1828440" y="458316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Всё зерно (мука + отходы) – 4 ч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1707480" y="5157720"/>
            <a:ext cx="52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) 12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4 = 48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всего смололи зе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2185200" y="583560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вет: 48 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723120" y="1292400"/>
            <a:ext cx="7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296440" y="23511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278800" y="29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02280" y="263844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7"/>
          <p:cNvSpPr/>
          <p:nvPr/>
        </p:nvSpPr>
        <p:spPr>
          <a:xfrm flipV="1">
            <a:off x="161928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1619280" y="2852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3635280" y="328464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63528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07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651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363528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507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651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363528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507672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795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900000" y="1773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5950080" y="184464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rc 22"/>
          <p:cNvSpPr/>
          <p:nvPr/>
        </p:nvSpPr>
        <p:spPr>
          <a:xfrm flipV="1">
            <a:off x="5076720" y="2348280"/>
            <a:ext cx="2880000" cy="357480"/>
          </a:xfrm>
          <a:custGeom>
            <a:avLst/>
            <a:gdLst/>
            <a:ahLst/>
            <a:rect l="l" t="t" r="r" b="b"/>
            <a:pathLst>
              <a:path fill="none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22" y="58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23"/>
          <p:cNvSpPr/>
          <p:nvPr/>
        </p:nvSpPr>
        <p:spPr>
          <a:xfrm>
            <a:off x="7885080" y="2492280"/>
            <a:ext cx="432000" cy="865440"/>
          </a:xfrm>
          <a:custGeom>
            <a:avLst/>
            <a:gdLst>
              <a:gd name="textAreaLeft" fmla="*/ 0 w 432000"/>
              <a:gd name="textAreaRight" fmla="*/ 155880 w 432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8253720" y="2708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?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1379880" y="386064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 части – это 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121400" y="436572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) 12 : 2 = 6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составляет 1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1274040" y="5013360"/>
            <a:ext cx="51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2) 6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4 = 24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всего смололи зе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2061360" y="558972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вет: 24 ц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cc"/>
                </a:solidFill>
                <a:uFillTx/>
                <a:latin typeface="Calibri"/>
              </a:rPr>
              <a:t>П.2.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тр.141, № 13, 15,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п. №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Математика - это язык, на         котором говорят все точные науки.    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                     Н.И. Лобачевск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Как бы машина хорошо ни работала, она может решать все требуемые от нее задачи, но она никогда не придумает ни одной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А. Эйнштейн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 вот нам с вами предстоит сейчас придумать задачу по предложенной схеме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85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думайте и решите задачу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с помощью схе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7"/>
          <p:cNvSpPr/>
          <p:nvPr/>
        </p:nvSpPr>
        <p:spPr>
          <a:xfrm>
            <a:off x="169236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8"/>
          <p:cNvSpPr/>
          <p:nvPr/>
        </p:nvSpPr>
        <p:spPr>
          <a:xfrm>
            <a:off x="399564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9"/>
          <p:cNvSpPr/>
          <p:nvPr/>
        </p:nvSpPr>
        <p:spPr>
          <a:xfrm>
            <a:off x="169236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169236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399564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399564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1692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6300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45320" y="234936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п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373680" y="31417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п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6443640" y="2492280"/>
            <a:ext cx="360360" cy="1224000"/>
          </a:xfrm>
          <a:custGeom>
            <a:avLst/>
            <a:gdLst>
              <a:gd name="textAreaLeft" fmla="*/ 0 w 360360"/>
              <a:gd name="textAreaRight" fmla="*/ 12996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6978240" y="285264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150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кн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rc 21"/>
          <p:cNvSpPr/>
          <p:nvPr/>
        </p:nvSpPr>
        <p:spPr>
          <a:xfrm flipV="1">
            <a:off x="1674720" y="2348640"/>
            <a:ext cx="231948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rc 22"/>
          <p:cNvSpPr/>
          <p:nvPr/>
        </p:nvSpPr>
        <p:spPr>
          <a:xfrm flipV="1">
            <a:off x="3995640" y="2348640"/>
            <a:ext cx="231948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rc 23"/>
          <p:cNvSpPr/>
          <p:nvPr/>
        </p:nvSpPr>
        <p:spPr>
          <a:xfrm flipV="1" rot="10800000">
            <a:off x="1692360" y="3427920"/>
            <a:ext cx="231912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2297880" y="37893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? кн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684360" y="4869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На первой полке книг в два раза больше, чем на второй. Сколько книг на второй полке, если на обеих полках 150 книг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1527840" y="436716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дин из возможных вари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27"/>
          <p:cNvGrpSpPr/>
          <p:nvPr/>
        </p:nvGrpSpPr>
        <p:grpSpPr>
          <a:xfrm>
            <a:off x="3276720" y="3789360"/>
            <a:ext cx="3241440" cy="2135160"/>
            <a:chOff x="3276720" y="3789360"/>
            <a:chExt cx="3241440" cy="2135160"/>
          </a:xfrm>
        </p:grpSpPr>
        <p:pic>
          <p:nvPicPr>
            <p:cNvPr id="79" name="Picture 28" descr="MCj04244440000[1]"/>
            <p:cNvPicPr/>
            <p:nvPr/>
          </p:nvPicPr>
          <p:blipFill>
            <a:blip r:embed="rId1"/>
            <a:stretch/>
          </p:blipFill>
          <p:spPr>
            <a:xfrm>
              <a:off x="3276720" y="4321800"/>
              <a:ext cx="1460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29"/>
            <p:cNvSpPr/>
            <p:nvPr/>
          </p:nvSpPr>
          <p:spPr>
            <a:xfrm>
              <a:off x="4263120" y="3789360"/>
              <a:ext cx="2255040" cy="73872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24.10.12        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Задачи на ч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думайте и ответьте: какое важное условие (которое не оговаривается, но принимается по умолчанию) должно выполняться в задачах на част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Подсказка: это хорошо видно на схе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10080" y="4653000"/>
            <a:ext cx="73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се части, о которых идет речь в задач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равны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4932360" y="3933720"/>
            <a:ext cx="3787920" cy="2597040"/>
            <a:chOff x="4932360" y="3933720"/>
            <a:chExt cx="3787920" cy="2597040"/>
          </a:xfrm>
        </p:grpSpPr>
        <p:pic>
          <p:nvPicPr>
            <p:cNvPr id="86" name="Picture 6" descr="MCj04244440000[1]"/>
            <p:cNvPicPr/>
            <p:nvPr/>
          </p:nvPicPr>
          <p:blipFill>
            <a:blip r:embed="rId1"/>
            <a:stretch/>
          </p:blipFill>
          <p:spPr>
            <a:xfrm>
              <a:off x="4932360" y="458136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AutoShape 7"/>
            <p:cNvSpPr/>
            <p:nvPr/>
          </p:nvSpPr>
          <p:spPr>
            <a:xfrm>
              <a:off x="6085080" y="393372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84360" y="177336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думайте и ответьте: что первым делом необходимо найти при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11280" y="3500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ужно узнать, сколько составляет одна ч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11"/>
          <p:cNvGrpSpPr/>
          <p:nvPr/>
        </p:nvGrpSpPr>
        <p:grpSpPr>
          <a:xfrm>
            <a:off x="4356000" y="3284640"/>
            <a:ext cx="3787920" cy="2597040"/>
            <a:chOff x="4356000" y="3284640"/>
            <a:chExt cx="3787920" cy="2597040"/>
          </a:xfrm>
        </p:grpSpPr>
        <p:pic>
          <p:nvPicPr>
            <p:cNvPr id="93" name="Picture 12" descr="MCj04244440000[1]"/>
            <p:cNvPicPr/>
            <p:nvPr/>
          </p:nvPicPr>
          <p:blipFill>
            <a:blip r:embed="rId1"/>
            <a:stretch/>
          </p:blipFill>
          <p:spPr>
            <a:xfrm>
              <a:off x="4356000" y="393228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AutoShape 13"/>
            <p:cNvSpPr/>
            <p:nvPr/>
          </p:nvSpPr>
          <p:spPr>
            <a:xfrm>
              <a:off x="5508720" y="328464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3659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варенья из вишни на 2 части ягод берут 3 части сахара. Сколько сахара требуется на 4 кг ягод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3"/>
          <p:cNvSpPr/>
          <p:nvPr/>
        </p:nvSpPr>
        <p:spPr>
          <a:xfrm>
            <a:off x="169236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99564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5"/>
          <p:cNvSpPr/>
          <p:nvPr/>
        </p:nvSpPr>
        <p:spPr>
          <a:xfrm>
            <a:off x="169236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69236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99564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399564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1692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6300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9080" y="23493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Я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71600" y="31417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rc 16"/>
          <p:cNvSpPr/>
          <p:nvPr/>
        </p:nvSpPr>
        <p:spPr>
          <a:xfrm flipV="1">
            <a:off x="1692360" y="2348280"/>
            <a:ext cx="462276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rc 17"/>
          <p:cNvSpPr/>
          <p:nvPr/>
        </p:nvSpPr>
        <p:spPr>
          <a:xfrm flipV="1" rot="10800000">
            <a:off x="1692360" y="3427920"/>
            <a:ext cx="691200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399564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630072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630072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8604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066840" y="184464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 части – 4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8"/>
          <p:cNvSpPr/>
          <p:nvPr/>
        </p:nvSpPr>
        <p:spPr>
          <a:xfrm>
            <a:off x="4146120" y="386064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 части – ?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1108800" y="4538520"/>
            <a:ext cx="47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) 4 : 2 = 2 (кг) –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составляет одна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839520" y="508464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)  2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 3 = 6 (кг) – нужно взять саха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3754440" y="55926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Ответ: 6 к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629360" y="1852560"/>
            <a:ext cx="212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Стр. 13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№ 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1,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39640" y="1677960"/>
            <a:ext cx="8136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1 ряд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2 ряд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3 ря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№4                    №5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1:09:41Z</dcterms:created>
  <dc:creator>user</dc:creator>
  <dc:description/>
  <dc:language>en-US</dc:language>
  <cp:lastModifiedBy>LEGION</cp:lastModifiedBy>
  <dcterms:modified xsi:type="dcterms:W3CDTF">2015-01-26T10:17:48Z</dcterms:modified>
  <cp:revision>65</cp:revision>
  <dc:subject/>
  <dc:title>Презентация PowerPoint</dc:title>
</cp:coreProperties>
</file>