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3B5C-F761-43F5-82E2-2B1466FD2E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EF9A-CEEF-4B42-A8D0-BFB3E25FBE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8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ыжник от озера до деревни шёл со скоростью 15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обратно – со скоростью 1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времени ушло у него на обратную дорог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2AA6-0441-4E9E-A6F8-31E4310F22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D88B-F184-4D0C-BC37-23A23EF1AB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40036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Логические те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ите анаграмму и исключите лишнее слов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0400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прямая, луч, отрезок, перимет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тавьте пропущенное числ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,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94CA-E5DB-4099-BC32-9BCF73F484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имеры тесто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65FD-D501-4252-AFC7-D487D29330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74B8-533D-408C-826C-8F952ADB1D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961D-1203-4265-8D15-09A2919F52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 «Равнобедренный треуголь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E840-D2F1-41CF-B2AE-597583E7C3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517-C294-4691-99EB-C8FEB52E7D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иды те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 зависимости от цели 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 формы отв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3E5E-03DB-41CA-944A-60A3196450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Правила тест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DB16-9C58-48C2-B8FA-0DA106D127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Тесты обученности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Преимущество тестовой провер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7A7-8FBB-461C-B2FD-0FD7E9DE33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Недостатки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Использование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B46-D8FE-4388-B8E7-127A17525F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Решите уравнен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4085-0323-412A-AC2A-631C728791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7582-5378-4BCE-B9EF-42F99A92F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дготовка к ГИ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B36A-B359-49A4-AD61-4A3340426B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86F-0BF5-4302-A699-0F92D1FC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6CA-5709-427D-9F59-23D36EAE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A47-0FE2-46D2-BE71-AE8E164F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CCB-6D16-42EB-AEE0-62FA2CA1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F730-FD18-4B74-B6D2-2EBB9E17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4EC8-DC2B-44BD-8F0B-A74A37BA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242E-64A8-4731-A9E9-1866073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C38C-685D-4BEC-B0A6-45B7197A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BEC7-E9F8-45B7-94D2-28ADD7CC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3293-B5A0-42EC-99E5-83D65764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1648-3A03-4053-8B73-AFE6D455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255-E42A-4427-94A7-DED72495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7DC2-68BA-406C-8994-7F4342D2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C265-1D30-45F3-98E2-568AC9A0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9DCE-7150-4626-BEB4-F087B9D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9A04-BDB8-4373-A907-1EB95521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7075-C2FB-414F-8C7B-511F323C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E0B-4F77-4860-9653-825F567B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B42-54F6-44A9-9CFE-83F8C9AC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8A4-A34F-4884-ADFD-34D440EE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CAB-4E83-44BE-82FF-93C9342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300-F5B8-4D7E-A330-793170F7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4C4-A7FE-47A0-A6AA-D8880BC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87C-2FF2-43C0-BC73-4F6D79EF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CA85-5BBC-4FA1-B377-157AF952B9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A90F-418C-4779-8E6D-0450A5C6BF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05440" cy="2374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4716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rack02.mp3" descr=""/>
          <p:cNvPicPr/>
          <p:nvPr/>
        </p:nvPicPr>
        <p:blipFill>
          <a:blip r:embed="rId1"/>
          <a:stretch/>
        </p:blipFill>
        <p:spPr>
          <a:xfrm>
            <a:off x="6112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2205720" y="260280"/>
            <a:ext cx="638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ыжник от озера до деревни шёл со скоростью 15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обратно – со скоростью 1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времени ушло у него на обратную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3059280" y="141300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0"/>
          <p:cNvSpPr/>
          <p:nvPr/>
        </p:nvSpPr>
        <p:spPr>
          <a:xfrm>
            <a:off x="2341440" y="234828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2700360" y="2365200"/>
                <a:ext cx="129528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5073840" y="2348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5508720" y="2276640"/>
                <a:ext cx="1120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2414880" y="2848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5435640" y="2852640"/>
                <a:ext cx="1512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3"/>
          <p:cNvSpPr/>
          <p:nvPr/>
        </p:nvSpPr>
        <p:spPr>
          <a:xfrm>
            <a:off x="-2430000" y="4307760"/>
            <a:ext cx="30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71640" y="2852640"/>
                <a:ext cx="1368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Picture 14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5013360"/>
            <a:ext cx="5029200" cy="1209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0"/>
          <p:cNvSpPr/>
          <p:nvPr/>
        </p:nvSpPr>
        <p:spPr>
          <a:xfrm>
            <a:off x="2406600" y="3284280"/>
            <a:ext cx="60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9"/>
              <p:cNvSpPr txBox="1"/>
              <p:nvPr/>
            </p:nvSpPr>
            <p:spPr>
              <a:xfrm>
                <a:off x="3995640" y="3716280"/>
                <a:ext cx="136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Rectangle 22"/>
          <p:cNvSpPr/>
          <p:nvPr/>
        </p:nvSpPr>
        <p:spPr>
          <a:xfrm>
            <a:off x="2411280" y="170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время, затраченное на обратную доро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е из уравнений соответствует условию зада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5005080" y="285264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549360"/>
                <a:ext cx="12952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Picture 4" descr="4"/>
          <p:cNvPicPr/>
          <p:nvPr/>
        </p:nvPicPr>
        <p:blipFill>
          <a:blip r:embed="rId1"/>
          <a:stretch/>
        </p:blipFill>
        <p:spPr>
          <a:xfrm>
            <a:off x="2843280" y="4149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2118960" y="89640"/>
            <a:ext cx="66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каждой функции, заданной формулой, укажите её граф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716360" y="62064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6516720" y="620640"/>
                <a:ext cx="1008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4"/>
          <p:cNvSpPr/>
          <p:nvPr/>
        </p:nvSpPr>
        <p:spPr>
          <a:xfrm>
            <a:off x="22860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3"/>
          <p:cNvPicPr/>
          <p:nvPr/>
        </p:nvPicPr>
        <p:blipFill>
          <a:blip r:embed="rId2"/>
          <a:stretch/>
        </p:blipFill>
        <p:spPr>
          <a:xfrm>
            <a:off x="2484360" y="1052640"/>
            <a:ext cx="5133960" cy="167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5"/>
          <p:cNvSpPr/>
          <p:nvPr/>
        </p:nvSpPr>
        <p:spPr>
          <a:xfrm>
            <a:off x="2265120" y="2565000"/>
            <a:ext cx="56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7885080" y="3068640"/>
                <a:ext cx="255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2268360" y="342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ртикальной – расстоя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228600" y="3975120"/>
                <a:ext cx="11448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17"/>
          <p:cNvSpPr/>
          <p:nvPr/>
        </p:nvSpPr>
        <p:spPr>
          <a:xfrm>
            <a:off x="2336400" y="3788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участке пути скорость течения наибольш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9"/>
              <p:cNvSpPr txBox="1"/>
              <p:nvPr/>
            </p:nvSpPr>
            <p:spPr>
              <a:xfrm>
                <a:off x="5364000" y="3429000"/>
                <a:ext cx="268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21"/>
          <p:cNvSpPr/>
          <p:nvPr/>
        </p:nvSpPr>
        <p:spPr>
          <a:xfrm>
            <a:off x="2195640" y="5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4286160" y="620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086520" y="62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10252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5508360" y="3429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ое проплыл п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 flipV="1" rot="10800000">
            <a:off x="5148360" y="4651920"/>
            <a:ext cx="33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2268360" y="252720"/>
            <a:ext cx="72360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Arial"/>
                <a:ea typeface="Times New Roman"/>
              </a:rPr>
              <a:t>Логические 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е анаграмму и исключите лишнее сло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прямая, луч, отрезок, периме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,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,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383920" y="3284640"/>
            <a:ext cx="46890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%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%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(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6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(?)      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?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x-4=24+x                     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x+6= -1                     3x-1,5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20)                                    (-25)                            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6799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5943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55087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515280" y="3645000"/>
            <a:ext cx="73152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2340000" y="131868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7" descr=""/>
          <p:cNvPicPr/>
          <p:nvPr/>
        </p:nvPicPr>
        <p:blipFill>
          <a:blip r:embed="rId1"/>
          <a:stretch/>
        </p:blipFill>
        <p:spPr>
          <a:xfrm>
            <a:off x="3059280" y="5229360"/>
            <a:ext cx="4884480" cy="936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967480" y="281160"/>
            <a:ext cx="40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имеры тестов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2344680" y="623160"/>
            <a:ext cx="631332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7" descr=""/>
          <p:cNvPicPr/>
          <p:nvPr/>
        </p:nvPicPr>
        <p:blipFill>
          <a:blip r:embed="rId1"/>
          <a:stretch/>
        </p:blipFill>
        <p:spPr>
          <a:xfrm>
            <a:off x="-3506760" y="2471760"/>
            <a:ext cx="3038400" cy="2705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-3506760" y="517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7" descr=""/>
          <p:cNvPicPr/>
          <p:nvPr/>
        </p:nvPicPr>
        <p:blipFill>
          <a:blip r:embed="rId2"/>
          <a:stretch/>
        </p:blipFill>
        <p:spPr>
          <a:xfrm>
            <a:off x="3708360" y="2898720"/>
            <a:ext cx="3311640" cy="29480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202480" y="260280"/>
            <a:ext cx="531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C:\Users\Admin\Documents\Мои результаты сканирования\2008-02 (фев)\сканирование0003.gif"/>
          <p:cNvPicPr/>
          <p:nvPr/>
        </p:nvPicPr>
        <p:blipFill>
          <a:blip r:embed="rId1"/>
          <a:srcRect l="4305" t="4061" r="4918" b="0"/>
          <a:stretch/>
        </p:blipFill>
        <p:spPr>
          <a:xfrm>
            <a:off x="4067280" y="1773360"/>
            <a:ext cx="2558880" cy="2046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198880" y="3978720"/>
            <a:ext cx="65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2376360" cy="757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314172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Точка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Точк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очка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очка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8"/>
          <p:cNvSpPr/>
          <p:nvPr/>
        </p:nvSpPr>
        <p:spPr>
          <a:xfrm>
            <a:off x="3059280" y="15573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132000" y="2060640"/>
            <a:ext cx="18288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634920" y="206064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126520" y="105192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ти перимет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140360" y="1628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203640" y="2103120"/>
            <a:ext cx="64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см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844000" y="260280"/>
            <a:ext cx="52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«Равнобедренный треуголь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267640" y="1700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3 см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91440" y="105192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5264280" y="15699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"/>
          <p:cNvSpPr/>
          <p:nvPr/>
        </p:nvSpPr>
        <p:spPr>
          <a:xfrm>
            <a:off x="5378400" y="192564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0" y="0"/>
                </a:moveTo>
                <a:lnTo>
                  <a:pt x="106" y="9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5797080" y="191772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22"/>
          <p:cNvSpPr/>
          <p:nvPr/>
        </p:nvSpPr>
        <p:spPr>
          <a:xfrm>
            <a:off x="5364000" y="2349360"/>
            <a:ext cx="92160" cy="182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448960" y="220392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7"/>
          <p:cNvSpPr/>
          <p:nvPr/>
        </p:nvSpPr>
        <p:spPr>
          <a:xfrm>
            <a:off x="6588000" y="155736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666108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 flipH="1">
            <a:off x="716400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30"/>
          <p:cNvSpPr/>
          <p:nvPr/>
        </p:nvSpPr>
        <p:spPr>
          <a:xfrm>
            <a:off x="6661080" y="2421000"/>
            <a:ext cx="18252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6818040" y="225576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2"/>
          <p:cNvSpPr/>
          <p:nvPr/>
        </p:nvSpPr>
        <p:spPr>
          <a:xfrm>
            <a:off x="7758360" y="169992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4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5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3"/>
          <p:cNvSpPr/>
          <p:nvPr/>
        </p:nvSpPr>
        <p:spPr>
          <a:xfrm>
            <a:off x="2107800" y="335700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ычислить периме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4"/>
          <p:cNvSpPr/>
          <p:nvPr/>
        </p:nvSpPr>
        <p:spPr>
          <a:xfrm>
            <a:off x="262728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26748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H="1">
            <a:off x="31320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9"/>
          <p:cNvSpPr/>
          <p:nvPr/>
        </p:nvSpPr>
        <p:spPr>
          <a:xfrm>
            <a:off x="399564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0"/>
          <p:cNvSpPr/>
          <p:nvPr/>
        </p:nvSpPr>
        <p:spPr>
          <a:xfrm>
            <a:off x="411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1"/>
          <p:cNvSpPr/>
          <p:nvPr/>
        </p:nvSpPr>
        <p:spPr>
          <a:xfrm flipH="1">
            <a:off x="450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2259360" y="515772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2 см меньше    на 3 см мень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3336480" y="450864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см                     7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/>
          <p:cNvSpPr/>
          <p:nvPr/>
        </p:nvSpPr>
        <p:spPr>
          <a:xfrm>
            <a:off x="3061080" y="5445000"/>
            <a:ext cx="10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1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586728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591516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 flipH="1">
            <a:off x="637200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9"/>
          <p:cNvSpPr/>
          <p:nvPr/>
        </p:nvSpPr>
        <p:spPr>
          <a:xfrm>
            <a:off x="723600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0"/>
          <p:cNvSpPr/>
          <p:nvPr/>
        </p:nvSpPr>
        <p:spPr>
          <a:xfrm>
            <a:off x="735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1"/>
          <p:cNvSpPr/>
          <p:nvPr/>
        </p:nvSpPr>
        <p:spPr>
          <a:xfrm flipH="1">
            <a:off x="774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2"/>
          <p:cNvSpPr/>
          <p:nvPr/>
        </p:nvSpPr>
        <p:spPr>
          <a:xfrm>
            <a:off x="6588000" y="53791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5см                 б) 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3"/>
          <p:cNvSpPr/>
          <p:nvPr/>
        </p:nvSpPr>
        <p:spPr>
          <a:xfrm>
            <a:off x="5718960" y="3357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айти осн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4"/>
          <p:cNvSpPr/>
          <p:nvPr/>
        </p:nvSpPr>
        <p:spPr>
          <a:xfrm>
            <a:off x="5834520" y="4435560"/>
            <a:ext cx="271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см                      6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=14 см                   Р=15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9"/>
          <p:cNvSpPr/>
          <p:nvPr/>
        </p:nvSpPr>
        <p:spPr>
          <a:xfrm>
            <a:off x="516888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70036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79072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H="1">
            <a:off x="324756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5259240" y="1457280"/>
            <a:ext cx="1843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5716440" y="1365120"/>
            <a:ext cx="184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522600" y="191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991120" y="191448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rc 12"/>
          <p:cNvSpPr/>
          <p:nvPr/>
        </p:nvSpPr>
        <p:spPr>
          <a:xfrm>
            <a:off x="343044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13"/>
          <p:cNvSpPr/>
          <p:nvPr/>
        </p:nvSpPr>
        <p:spPr>
          <a:xfrm>
            <a:off x="590076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556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340000" y="2204280"/>
            <a:ext cx="53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а, 2б, 3в, 4б, 5в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б, 2а, 3а, 4в,5б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2410920" y="33480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495240" y="1484280"/>
            <a:ext cx="29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12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7093080" y="981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0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8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цветы "/>
          <p:cNvPicPr/>
          <p:nvPr/>
        </p:nvPicPr>
        <p:blipFill>
          <a:blip r:embed="rId1"/>
          <a:stretch/>
        </p:blipFill>
        <p:spPr>
          <a:xfrm>
            <a:off x="3419640" y="836640"/>
            <a:ext cx="4228920" cy="5346720"/>
          </a:xfrm>
          <a:prstGeom prst="rect">
            <a:avLst/>
          </a:prstGeom>
          <a:ln w="0">
            <a:noFill/>
          </a:ln>
        </p:spPr>
      </p:pic>
      <p:sp>
        <p:nvSpPr>
          <p:cNvPr id="303" name="WordArt 7"/>
          <p:cNvSpPr txBox="1"/>
          <p:nvPr/>
        </p:nvSpPr>
        <p:spPr>
          <a:xfrm>
            <a:off x="2484360" y="692280"/>
            <a:ext cx="6120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Благодарю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492360" y="5589720"/>
            <a:ext cx="40849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Желаю успехов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343960" y="47304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75560" y="3354120"/>
            <a:ext cx="621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иды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 зависимости от цели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и формы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166120" y="473760"/>
            <a:ext cx="68918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авила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495160" y="40212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Тесты обуч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92720" y="2993760"/>
            <a:ext cx="596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Преимущество тестовой прове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846160" y="3930840"/>
            <a:ext cx="560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Использование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83360" y="256680"/>
            <a:ext cx="65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Недостатки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6840" y="7542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1. Решите уравне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6920" y="1650960"/>
            <a:ext cx="31240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851280" y="1844640"/>
                <a:ext cx="38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3708360" y="2637000"/>
                <a:ext cx="504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12"/>
          <p:cNvSpPr/>
          <p:nvPr/>
        </p:nvSpPr>
        <p:spPr>
          <a:xfrm>
            <a:off x="5867280" y="907920"/>
            <a:ext cx="288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2. Упростите выражение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5а-3)(2а+6)-14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938920" y="2082960"/>
            <a:ext cx="2062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6299280" y="2082960"/>
                <a:ext cx="1297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6226200" y="2585880"/>
                <a:ext cx="136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6226200" y="3090960"/>
                <a:ext cx="13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6226200" y="3594240"/>
                <a:ext cx="1368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5506920" y="4386240"/>
                <a:ext cx="3168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6299280" y="4890960"/>
                <a:ext cx="169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2"/>
              <p:cNvSpPr txBox="1"/>
              <p:nvPr/>
            </p:nvSpPr>
            <p:spPr>
              <a:xfrm>
                <a:off x="6227640" y="5538960"/>
                <a:ext cx="2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23"/>
          <p:cNvSpPr/>
          <p:nvPr/>
        </p:nvSpPr>
        <p:spPr>
          <a:xfrm>
            <a:off x="5866560" y="41004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4. Решите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5938920" y="496260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;               б)  -7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;               г)  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2770200" y="4386240"/>
                <a:ext cx="2158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45"/>
          <p:cNvSpPr/>
          <p:nvPr/>
        </p:nvSpPr>
        <p:spPr>
          <a:xfrm>
            <a:off x="2483280" y="38098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3.  Представьте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произведения мног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843280" y="4818240"/>
            <a:ext cx="194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7"/>
              <p:cNvSpPr txBox="1"/>
              <p:nvPr/>
            </p:nvSpPr>
            <p:spPr>
              <a:xfrm>
                <a:off x="3132000" y="4818240"/>
                <a:ext cx="12430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8"/>
              <p:cNvSpPr txBox="1"/>
              <p:nvPr/>
            </p:nvSpPr>
            <p:spPr>
              <a:xfrm>
                <a:off x="3059280" y="5300640"/>
                <a:ext cx="1296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9"/>
              <p:cNvSpPr txBox="1"/>
              <p:nvPr/>
            </p:nvSpPr>
            <p:spPr>
              <a:xfrm>
                <a:off x="3132000" y="5754600"/>
                <a:ext cx="11509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0"/>
              <p:cNvSpPr txBox="1"/>
              <p:nvPr/>
            </p:nvSpPr>
            <p:spPr>
              <a:xfrm>
                <a:off x="3132000" y="6259680"/>
                <a:ext cx="11527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51"/>
          <p:cNvSpPr/>
          <p:nvPr/>
        </p:nvSpPr>
        <p:spPr>
          <a:xfrm>
            <a:off x="2772360" y="115920"/>
            <a:ext cx="61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на тему: «Произведение многочле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Алгебра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52644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3132000" y="1989000"/>
                <a:ext cx="3961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2916360" y="2565360"/>
                <a:ext cx="4319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3059280" y="3173400"/>
                <a:ext cx="4176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3132000" y="3645000"/>
                <a:ext cx="3889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050920" y="1413000"/>
            <a:ext cx="673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724360" y="1413000"/>
                <a:ext cx="901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6372360" y="1916280"/>
                <a:ext cx="579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4356000" y="2133720"/>
                <a:ext cx="577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6156360" y="2133720"/>
                <a:ext cx="62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7956720" y="2205000"/>
                <a:ext cx="663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708360" y="2492280"/>
                <a:ext cx="292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1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6372360" y="2565360"/>
                <a:ext cx="7920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2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2916360" y="2781360"/>
                <a:ext cx="5778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4140360" y="2781360"/>
                <a:ext cx="609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6"/>
              <p:cNvSpPr txBox="1"/>
              <p:nvPr/>
            </p:nvSpPr>
            <p:spPr>
              <a:xfrm>
                <a:off x="5148360" y="2781360"/>
                <a:ext cx="5443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Rectangle 2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8"/>
              <p:cNvSpPr txBox="1"/>
              <p:nvPr/>
            </p:nvSpPr>
            <p:spPr>
              <a:xfrm>
                <a:off x="2771640" y="2276640"/>
                <a:ext cx="6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9"/>
              <p:cNvSpPr txBox="1"/>
              <p:nvPr/>
            </p:nvSpPr>
            <p:spPr>
              <a:xfrm>
                <a:off x="7380360" y="3273480"/>
                <a:ext cx="6476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Text Box 33"/>
          <p:cNvSpPr/>
          <p:nvPr/>
        </p:nvSpPr>
        <p:spPr>
          <a:xfrm>
            <a:off x="3418200" y="285840"/>
            <a:ext cx="36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c"/>
                </a:solidFill>
                <a:latin typeface="Times New Roman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2455560" y="4039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простите вы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5724360" y="404640"/>
                <a:ext cx="24480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2772720" y="9072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3276720" y="981000"/>
                <a:ext cx="107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3132000" y="1413000"/>
                <a:ext cx="136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3132000" y="1844640"/>
                <a:ext cx="150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3276720" y="2421000"/>
                <a:ext cx="1069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9"/>
          <p:cNvSpPr/>
          <p:nvPr/>
        </p:nvSpPr>
        <p:spPr>
          <a:xfrm>
            <a:off x="2557080" y="278028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из данных выражений не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7308720" y="2565360"/>
                <a:ext cx="621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ra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3132000" y="3284640"/>
                <a:ext cx="648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203640" y="4005360"/>
                <a:ext cx="55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3132000" y="4797360"/>
                <a:ext cx="5526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132000" y="5661000"/>
                <a:ext cx="648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24"/>
          <p:cNvSpPr/>
          <p:nvPr/>
        </p:nvSpPr>
        <p:spPr>
          <a:xfrm>
            <a:off x="2773080" y="1341360"/>
            <a:ext cx="3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2701800" y="3357720"/>
            <a:ext cx="39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3:28:08Z</dcterms:created>
  <dc:creator>Антон</dc:creator>
  <dc:description/>
  <dc:language>en-US</dc:language>
  <cp:lastModifiedBy>LEGION</cp:lastModifiedBy>
  <dcterms:modified xsi:type="dcterms:W3CDTF">2015-01-26T10:19:04Z</dcterms:modified>
  <cp:revision>42</cp:revision>
  <dc:subject/>
  <dc:title>Тест на тему: «Произведение многочленов»</dc:title>
</cp:coreProperties>
</file>