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6.wmf" ContentType="image/x-wmf"/>
  <Override PartName="/ppt/media/image4.wmf" ContentType="image/x-wmf"/>
  <Override PartName="/ppt/media/image5.png" ContentType="image/png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A4BF-D26A-4048-AA0E-8B4C538F28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Решение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квадратных уравнений и неравен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Руководитель:</a:t>
            </a: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учитель мате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МБОУ «Гимназия № 97 г. Ельц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Агеева Юлия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194A-D921-48C3-91B4-060F7FD5F22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cc"/>
                </a:solidFill>
                <a:latin typeface="Monotype Corsiva"/>
              </a:rPr>
              <a:t>В ходе проведенных исследований мы пришли к выводу о правильности выдвинутой гипотезы, а именно: СКМ </a:t>
            </a:r>
            <a:r>
              <a:rPr b="0" lang="en-US" sz="1200" spc="-1" strike="noStrike">
                <a:solidFill>
                  <a:srgbClr val="99ffcc"/>
                </a:solidFill>
                <a:latin typeface="Monotype Corsiva"/>
              </a:rPr>
              <a:t>MathCAD </a:t>
            </a:r>
            <a:r>
              <a:rPr b="0" lang="ru-RU" sz="1200" spc="-1" strike="noStrike">
                <a:solidFill>
                  <a:srgbClr val="99ffcc"/>
                </a:solidFill>
                <a:latin typeface="Monotype Corsiva"/>
              </a:rPr>
              <a:t>значительно облегчает работу по решению квадратных уравнений и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F758-21D1-4D09-8F68-5D4E85DA3A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Что такое алгебра и зачем она нуж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7BDD-2E67-4A3B-BA56-FB1C4F2CC3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Monotype Corsiva"/>
              </a:rPr>
              <a:t>Компьютер решает квадратные уравнения и нераве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Monotype Corsiva"/>
              </a:rPr>
              <a:t>Возможно ли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F029-A022-4380-A5E9-720D3280E5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Что это и каковы её графические возмож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 истор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шение квадратных уравнений в 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) графический способ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) аналитический спос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шение квадратных неравенств в 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71EA-2D55-4687-B1C6-846A243F8A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СКМ </a:t>
            </a:r>
            <a:r>
              <a:rPr b="0" lang="en-US" sz="1200" spc="-1" strike="noStrike">
                <a:solidFill>
                  <a:srgbClr val="0000ff"/>
                </a:solidFill>
                <a:latin typeface="Monotype Corsiva"/>
              </a:rPr>
              <a:t>MathCAD </a:t>
            </a: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облегчает решение квадратных уравнений и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1581-A993-4833-B93C-B7347666D8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Образовательны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сформировать у учащихся представления о возможностях решения квадратных уравнений и неравенств в СКМ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athCAD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, а также навыки работы в этой сис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Развивающи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развить алгоритмическое мышление, произвольное внимание, произвольную память, интерес к математике и информа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Воспитательны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воспитать усидчивость, прилежность, умение работать в группе, аккуратность при обращении с ПК, настойчивость в достижении поставленны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A6CB-DB56-4023-B9F3-CEB7F40EAE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общается тема проекта «Решение квадратных уравнений и неравенст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ласс разбивается на 3 группы, выбираются темы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проблемы и выполнение каждой группой задания в виде презентации и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Обсуждение результатов исследован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3482-8F3C-4174-86EB-BD14FB26DF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Сообщение тем исследований и формирование групп для проведения исследований – 1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Работа в группах – 2, 3 у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Подготовка презентации и публикации – 4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Защита работ учащихся и подведение итогов – 5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0A7A-9A8C-4CA7-A693-FF0BBB22E1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1) СКМ </a:t>
            </a:r>
            <a:r>
              <a:rPr b="0" i="1" lang="en-US" sz="12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2) СКМ </a:t>
            </a:r>
            <a:r>
              <a:rPr b="0" i="1" lang="en-US" sz="12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3) Из истор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2481-9DF8-4BB3-9E5A-84728338BD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829-3E8A-4C15-93EC-0D755E3A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AD7-42A5-4C5D-8254-502C7DC4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383-238E-4F3C-BE9D-A7C2B252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0A2-92C4-43AC-91D0-4788DD28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451E-0F94-497C-9029-C1FBD955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DC50-537F-4007-BDB7-5AF29348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048F-F27E-4B25-B267-EE9D4A5B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9D4D-941B-40C8-827C-10D496B3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25F3-C718-455C-A25E-856CC9A6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3FAD-D1E3-48CC-BF56-F1A1E064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D131-F7A1-4B71-B7CC-3BD2B641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9DB9-A708-4EB2-B956-E5683C42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6935-4844-400B-961F-9012984A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7910-0F95-4804-85AD-4136C8C8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FDC3-F995-41A9-9488-7FC5C122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22EB-F41F-4FF0-B5FF-7453741B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155C-206B-43A7-A7E3-C09E4259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A40-CC98-4379-867A-C1053E7E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1D77-07E9-4DAC-B4AB-F9D316AE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73F-10C0-4966-9BE5-341FF56D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7616-D263-478B-B69B-93E3BFEF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D01-D79E-4D6A-ADCB-3B83498A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3A19-B0FE-4707-BFE0-C87BE14E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50C-A451-4CE2-B580-AD46F7ED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F53A-2132-476A-A91D-46D7ECB86B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7C30-0050-4793-9414-B408D2C9E4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507520" cy="315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99ff99"/>
                </a:solidFill>
                <a:latin typeface="Monotype Corsiva"/>
              </a:rPr>
              <a:t>Решение</a:t>
            </a:r>
            <a:r>
              <a:rPr b="1" i="1" lang="ru-RU" sz="7200" spc="-1" strike="noStrike">
                <a:solidFill>
                  <a:srgbClr val="ccecff"/>
                </a:solidFill>
                <a:latin typeface="Monotype Corsiva"/>
              </a:rPr>
              <a:t> </a:t>
            </a:r>
            <a:r>
              <a:rPr b="1" i="1" lang="ru-RU" sz="7200" spc="-1" strike="noStrike">
                <a:solidFill>
                  <a:srgbClr val="99ff99"/>
                </a:solidFill>
                <a:latin typeface="Monotype Corsiva"/>
              </a:rPr>
              <a:t>квадратных уравнений и неравенств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3284640"/>
            <a:ext cx="7993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Monotype Corsiva"/>
              </a:rPr>
              <a:t>Руководитель:</a:t>
            </a: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учитель математик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МБОУ «Гимназия № 97 г. Ельц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Агеева Юлия Владимиров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4"/>
          <p:cNvSpPr txBox="1"/>
          <p:nvPr/>
        </p:nvSpPr>
        <p:spPr>
          <a:xfrm>
            <a:off x="179280" y="549360"/>
            <a:ext cx="86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ведение итог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68000" y="2565000"/>
            <a:ext cx="828036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cc"/>
                </a:solidFill>
                <a:latin typeface="Monotype Corsiva"/>
              </a:rPr>
              <a:t>В ходе проведенных исследований мы пришли к выводу о правильности выдвинутой гипотезы, а именно: СКМ </a:t>
            </a:r>
            <a:r>
              <a:rPr b="0" lang="en-US" sz="3600" spc="-1" strike="noStrike">
                <a:solidFill>
                  <a:srgbClr val="99ffcc"/>
                </a:solidFill>
                <a:latin typeface="Monotype Corsiva"/>
              </a:rPr>
              <a:t>MathCAD </a:t>
            </a:r>
            <a:r>
              <a:rPr b="0" lang="ru-RU" sz="3600" spc="-1" strike="noStrike">
                <a:solidFill>
                  <a:srgbClr val="99ffcc"/>
                </a:solidFill>
                <a:latin typeface="Monotype Corsiva"/>
              </a:rPr>
              <a:t>значительно облегчает работу по решению квадратных уравнений и неравен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7" descr="AG00373_"/>
          <p:cNvPicPr/>
          <p:nvPr/>
        </p:nvPicPr>
        <p:blipFill>
          <a:blip r:embed="rId1"/>
          <a:stretch/>
        </p:blipFill>
        <p:spPr>
          <a:xfrm>
            <a:off x="6804000" y="4869000"/>
            <a:ext cx="2160720" cy="1728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Animate0036"/>
          <p:cNvPicPr/>
          <p:nvPr/>
        </p:nvPicPr>
        <p:blipFill>
          <a:blip r:embed="rId2"/>
          <a:stretch/>
        </p:blipFill>
        <p:spPr>
          <a:xfrm>
            <a:off x="395280" y="4808520"/>
            <a:ext cx="2089080" cy="1860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 rot="21099600">
            <a:off x="324000" y="765000"/>
            <a:ext cx="8351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ополагающий вопро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ff99"/>
                </a:solidFill>
                <a:latin typeface="Monotype Corsiva"/>
              </a:rPr>
              <a:t>Что такое алгебра и зачем она нужна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10" descr="Animate0013"/>
          <p:cNvPicPr/>
          <p:nvPr/>
        </p:nvPicPr>
        <p:blipFill>
          <a:blip r:embed="rId1"/>
          <a:stretch/>
        </p:blipFill>
        <p:spPr>
          <a:xfrm>
            <a:off x="3276720" y="4724280"/>
            <a:ext cx="2950920" cy="18734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>
            <a:off x="611280" y="333360"/>
            <a:ext cx="799308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ный вопро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95280" y="2852280"/>
            <a:ext cx="8424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Компьютер решает квадратные уравнения и неравенства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Возможно ли это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7" descr="Animate0208"/>
          <p:cNvPicPr/>
          <p:nvPr/>
        </p:nvPicPr>
        <p:blipFill>
          <a:blip r:embed="rId1"/>
          <a:stretch/>
        </p:blipFill>
        <p:spPr>
          <a:xfrm>
            <a:off x="7020000" y="4594320"/>
            <a:ext cx="1944720" cy="1930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j0195384"/>
          <p:cNvPicPr/>
          <p:nvPr/>
        </p:nvPicPr>
        <p:blipFill>
          <a:blip r:embed="rId2"/>
          <a:stretch/>
        </p:blipFill>
        <p:spPr>
          <a:xfrm>
            <a:off x="324000" y="469116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5"/>
          <p:cNvSpPr txBox="1"/>
          <p:nvPr/>
        </p:nvSpPr>
        <p:spPr>
          <a:xfrm>
            <a:off x="539640" y="260280"/>
            <a:ext cx="8136000" cy="16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тические вопрос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21840" y="184428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. Что это и каковы её графические возможно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Из истории квадратных урав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Решение квадратных уравнений в 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А) графический способ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Б) аналитический спосо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Решение квадратных неравенств в 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j0292020"/>
          <p:cNvPicPr/>
          <p:nvPr/>
        </p:nvPicPr>
        <p:blipFill>
          <a:blip r:embed="rId3"/>
          <a:stretch/>
        </p:blipFill>
        <p:spPr>
          <a:xfrm>
            <a:off x="6156360" y="3816360"/>
            <a:ext cx="2016000" cy="17733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4"/>
          <p:cNvSpPr txBox="1"/>
          <p:nvPr/>
        </p:nvSpPr>
        <p:spPr>
          <a:xfrm>
            <a:off x="1619280" y="692280"/>
            <a:ext cx="63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ИПОТЕЗ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26560" y="2276280"/>
            <a:ext cx="7705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ff99"/>
                </a:solidFill>
                <a:latin typeface="Monotype Corsiva"/>
              </a:rPr>
              <a:t>СКМ </a:t>
            </a:r>
            <a:r>
              <a:rPr b="0" lang="en-US" sz="5400" spc="-1" strike="noStrike">
                <a:solidFill>
                  <a:srgbClr val="99ff99"/>
                </a:solidFill>
                <a:latin typeface="Monotype Corsiva"/>
              </a:rPr>
              <a:t>MathCAD </a:t>
            </a:r>
            <a:r>
              <a:rPr b="0" lang="ru-RU" sz="5400" spc="-1" strike="noStrike">
                <a:solidFill>
                  <a:srgbClr val="99ff99"/>
                </a:solidFill>
                <a:latin typeface="Monotype Corsiva"/>
              </a:rPr>
              <a:t>облегчает решение квадратных уравнений и неравенст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8" descr="Animate0035"/>
          <p:cNvPicPr/>
          <p:nvPr/>
        </p:nvPicPr>
        <p:blipFill>
          <a:blip r:embed="rId1"/>
          <a:stretch/>
        </p:blipFill>
        <p:spPr>
          <a:xfrm>
            <a:off x="3851280" y="4952880"/>
            <a:ext cx="1584360" cy="142884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324000" y="0"/>
            <a:ext cx="842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и проек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58560" y="1628280"/>
            <a:ext cx="8785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Образовательны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сформировать у учащихся представления о возможностях решения квадратных уравнений и неравенств в СКМ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thCAD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, а также навыки работы в этой сис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Развивающи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развить алгоритмическое мышление, произвольное внимание, произвольную память, интерес к математике и информат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Воспитательны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воспитать усидчивость, прилежность, умение работать в группе, аккуратность при обращении с ПК, настойчивость в достижении поставленных ц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4"/>
          <p:cNvSpPr txBox="1"/>
          <p:nvPr/>
        </p:nvSpPr>
        <p:spPr>
          <a:xfrm>
            <a:off x="324000" y="476280"/>
            <a:ext cx="85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рганизация выполнения проек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250920" y="206064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Сообщается тема проекта «Решение квадратных уравнений и неравенств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ласс разбивается на 3 группы, выбираются темы исслед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Исследование проблемы и выполнение каждой группой задания в виде презентации и публик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Обсуждение результатов исследов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>
            <a:off x="611280" y="404640"/>
            <a:ext cx="80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нирование по тем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Сообщение тем исследований и формирование групп для проведения исследований – 1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Работа в группах – 2, 3 уро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Подготовка презентации и публикации – 4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Защита работ учащихся и подведение итогов – 5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5"/>
          <p:cNvSpPr txBox="1"/>
          <p:nvPr/>
        </p:nvSpPr>
        <p:spPr>
          <a:xfrm>
            <a:off x="611280" y="476280"/>
            <a:ext cx="82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речень тем   проект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83534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1) СКМ </a:t>
            </a:r>
            <a:r>
              <a:rPr b="0" i="1" lang="en-US" sz="36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уравн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2) СКМ </a:t>
            </a:r>
            <a:r>
              <a:rPr b="0" i="1" lang="en-US" sz="36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неравен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3) Из истории квадратных уравн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8" descr="Animate0029"/>
          <p:cNvPicPr/>
          <p:nvPr/>
        </p:nvPicPr>
        <p:blipFill>
          <a:blip r:embed="rId1"/>
          <a:stretch/>
        </p:blipFill>
        <p:spPr>
          <a:xfrm>
            <a:off x="6022800" y="4743360"/>
            <a:ext cx="2509920" cy="1781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Animate0030"/>
          <p:cNvPicPr/>
          <p:nvPr/>
        </p:nvPicPr>
        <p:blipFill>
          <a:blip r:embed="rId2"/>
          <a:stretch/>
        </p:blipFill>
        <p:spPr>
          <a:xfrm>
            <a:off x="971640" y="4797360"/>
            <a:ext cx="2592360" cy="187164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3:45:29Z</dcterms:created>
  <dc:creator>1234</dc:creator>
  <dc:description/>
  <dc:language>en-US</dc:language>
  <cp:lastModifiedBy>LEGION</cp:lastModifiedBy>
  <dcterms:modified xsi:type="dcterms:W3CDTF">2015-01-26T10:19:40Z</dcterms:modified>
  <cp:revision>16</cp:revision>
  <dc:subject/>
  <dc:title>Решение </dc:title>
</cp:coreProperties>
</file>