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gif" ContentType="image/gif"/>
  <Override PartName="/ppt/media/image6.wmf" ContentType="image/x-wmf"/>
  <Override PartName="/ppt/media/image4.wmf" ContentType="image/x-wmf"/>
  <Override PartName="/ppt/media/image5.png" ContentType="image/png"/>
  <Override PartName="/ppt/media/image7.gif" ContentType="image/gif"/>
  <Override PartName="/ppt/media/image8.gif" ContentType="image/gif"/>
  <Override PartName="/ppt/media/image9.gif" ContentType="image/gif"/>
  <Override PartName="/ppt/media/image10.gif" ContentType="image/gif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30C8-C2FF-4E7C-B391-B93B495450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Решение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квадратных уравнений и неравенст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Monotype Corsiva"/>
              </a:rPr>
              <a:t>Руководитель:</a:t>
            </a:r>
            <a:r>
              <a:rPr b="1" i="1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Monotype Corsiva"/>
              </a:rPr>
              <a:t>учитель математ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Monotype Corsiva"/>
              </a:rPr>
              <a:t>МБОУ «Гимназия № 97 г. Ельц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Monotype Corsiva"/>
              </a:rPr>
              <a:t>Агеева Юлия Владими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4C21-4800-4F63-906E-99BAEBF1F7F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cc"/>
                </a:solidFill>
                <a:latin typeface="Monotype Corsiva"/>
              </a:rPr>
              <a:t>В ходе проведенных исследований мы пришли к выводу о правильности выдвинутой гипотезы, а именно: СКМ </a:t>
            </a:r>
            <a:r>
              <a:rPr b="0" lang="en-US" sz="1200" spc="-1" strike="noStrike">
                <a:solidFill>
                  <a:srgbClr val="99ffcc"/>
                </a:solidFill>
                <a:latin typeface="Monotype Corsiva"/>
              </a:rPr>
              <a:t>MathCAD </a:t>
            </a:r>
            <a:r>
              <a:rPr b="0" lang="ru-RU" sz="1200" spc="-1" strike="noStrike">
                <a:solidFill>
                  <a:srgbClr val="99ffcc"/>
                </a:solidFill>
                <a:latin typeface="Monotype Corsiva"/>
              </a:rPr>
              <a:t>значительно облегчает работу по решению квадратных уравнений и неравен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B737-0863-4AFE-9B68-7847EA70653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Monotype Corsiva"/>
              </a:rPr>
              <a:t>Что такое алгебра и зачем она нуж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A921-9A4D-4215-A346-BD206C06580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Monotype Corsiva"/>
              </a:rPr>
              <a:t>Компьютер решает квадратные уравнения и неравен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Monotype Corsiva"/>
              </a:rPr>
              <a:t>Возможно ли эт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A454-ECC7-4F86-BE01-47DBC3A660A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КМ 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MathCAD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 Что это и каковы её графические возможн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з истории квадратных урав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ешение квадратных уравнений в СКМ 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MathCAD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) графический способ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Б) аналитический спосо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ешение квадратных неравенств в СКМ 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MathCAD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EF2A-1527-49E5-B360-A5A77B543A2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Monotype Corsiva"/>
              </a:rPr>
              <a:t>СКМ </a:t>
            </a:r>
            <a:r>
              <a:rPr b="0" lang="en-US" sz="1200" spc="-1" strike="noStrike">
                <a:solidFill>
                  <a:srgbClr val="0000ff"/>
                </a:solidFill>
                <a:latin typeface="Monotype Corsiva"/>
              </a:rPr>
              <a:t>MathCAD </a:t>
            </a:r>
            <a:r>
              <a:rPr b="0" lang="ru-RU" sz="1200" spc="-1" strike="noStrike">
                <a:solidFill>
                  <a:srgbClr val="0000ff"/>
                </a:solidFill>
                <a:latin typeface="Monotype Corsiva"/>
              </a:rPr>
              <a:t>облегчает решение квадратных уравнений и неравен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94E0-EE77-4952-8E10-594B7F78440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Times New Roman"/>
              </a:rPr>
              <a:t>Образовательные: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сформировать у учащихся представления о возможностях решения квадратных уравнений и неравенств в СКМ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athCAD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, а также навыки работы в этой сист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Times New Roman"/>
              </a:rPr>
              <a:t>Развивающие: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развить алгоритмическое мышление, произвольное внимание, произвольную память, интерес к математике и информат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Times New Roman"/>
              </a:rPr>
              <a:t>Воспитательные: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воспитать усидчивость, прилежность, умение работать в группе, аккуратность при обращении с ПК, настойчивость в достижении поставленных ц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F728-9823-456A-BE18-CC0D7F6E23B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ообщается тема проекта «Решение квадратных уравнений и неравенст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Класс разбивается на 3 группы, выбираются темы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Исследование проблемы и выполнение каждой группой задания в виде презентации и публ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Обсуждение результатов исследования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32CA-E8B1-4DD3-B619-D104CBAD8F8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Сообщение тем исследований и формирование групп для проведения исследований – 1 у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Работа в группах – 2, 3 ур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Подготовка презентации и публикации – 4 у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Защита работ учащихся и подведение итогов – 5 у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5446-2A71-40F6-91BA-72EF6C29C45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ccff"/>
                </a:solidFill>
                <a:latin typeface="Times New Roman"/>
              </a:rPr>
              <a:t>1) СКМ </a:t>
            </a:r>
            <a:r>
              <a:rPr b="0" i="1" lang="en-US" sz="1200" spc="-1" strike="noStrike">
                <a:solidFill>
                  <a:srgbClr val="33ccff"/>
                </a:solidFill>
                <a:latin typeface="Times New Roman"/>
              </a:rPr>
              <a:t>MathCAD </a:t>
            </a:r>
            <a:r>
              <a:rPr b="0" i="1" lang="ru-RU" sz="1200" spc="-1" strike="noStrike">
                <a:solidFill>
                  <a:srgbClr val="33ccff"/>
                </a:solidFill>
                <a:latin typeface="Times New Roman"/>
              </a:rPr>
              <a:t>и её возможности при решении квадратных урав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ccff"/>
                </a:solidFill>
                <a:latin typeface="Times New Roman"/>
              </a:rPr>
              <a:t>2) СКМ </a:t>
            </a:r>
            <a:r>
              <a:rPr b="0" i="1" lang="en-US" sz="1200" spc="-1" strike="noStrike">
                <a:solidFill>
                  <a:srgbClr val="33ccff"/>
                </a:solidFill>
                <a:latin typeface="Times New Roman"/>
              </a:rPr>
              <a:t>MathCAD </a:t>
            </a:r>
            <a:r>
              <a:rPr b="0" i="1" lang="ru-RU" sz="1200" spc="-1" strike="noStrike">
                <a:solidFill>
                  <a:srgbClr val="33ccff"/>
                </a:solidFill>
                <a:latin typeface="Times New Roman"/>
              </a:rPr>
              <a:t>и её возможности при решении квадратных неравен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ccff"/>
                </a:solidFill>
                <a:latin typeface="Times New Roman"/>
              </a:rPr>
              <a:t>3) Из истории квадратных урав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51F8-0918-4713-AA8B-261FC547A0D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34F5-1DFF-4E30-9426-4F71F33EB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0B4C-B6A0-4F4B-8D2A-787C6143F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2A9C-3A13-4002-A85A-E5233708C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3DDD-08F0-4F5A-89CA-158D19954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942A-55EC-4E33-A401-47547BDC7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4870-BDAA-4BD6-9891-A6F24547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8DCC-E499-432C-9260-4E8B9BE3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9E52-1AFE-4E90-A5EC-D8C2FDE2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9B8D-123F-48B2-9DB9-7D89CBC1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1BF2-1913-4211-9407-AF5F8C16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085D-BD0A-4D56-B65A-867C7035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BD2E-47A5-4036-B231-D55A449F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4F0E-F24B-4EFC-A654-7BEF01FA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BFCC-5829-4F0F-A587-3D86982F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26E3-EE46-48AF-9D7F-7F147EE8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A27F-E843-4325-AEE8-20C90FF01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C903-D92F-42F9-909D-EFA2D0D39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0ADD-65B1-4A04-B3BD-28E273B5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1412-1265-4C03-A9D4-8A8FA3DD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6833-FD55-4AE4-BE69-F060D096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3777-E81D-40B6-AA51-DF24F83E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30AD-A9DA-41FF-889D-F9E08331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854B-FDE6-4361-92AA-B8C7DD25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AD30-DC03-4BD7-B013-D7C7505F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6E47-0577-4701-AED6-7E796322EA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FF3A-F35B-4D20-8594-0DAFB0091F8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507520" cy="315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99ff99"/>
                </a:solidFill>
                <a:latin typeface="Monotype Corsiva"/>
              </a:rPr>
              <a:t>Решение</a:t>
            </a:r>
            <a:r>
              <a:rPr b="1" i="1" lang="ru-RU" sz="7200" spc="-1" strike="noStrike">
                <a:solidFill>
                  <a:srgbClr val="ccecff"/>
                </a:solidFill>
                <a:latin typeface="Monotype Corsiva"/>
              </a:rPr>
              <a:t> </a:t>
            </a:r>
            <a:r>
              <a:rPr b="1" i="1" lang="ru-RU" sz="7200" spc="-1" strike="noStrike">
                <a:solidFill>
                  <a:srgbClr val="99ff99"/>
                </a:solidFill>
                <a:latin typeface="Monotype Corsiva"/>
              </a:rPr>
              <a:t>квадратных уравнений и неравенств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3640" y="3284640"/>
            <a:ext cx="7993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Monotype Corsiva"/>
              </a:rPr>
              <a:t>Руководитель:</a:t>
            </a: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учитель математик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МБОУ «Гимназия № 97 г. Ельца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Агеева Юлия Владимиров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WordArt 4"/>
          <p:cNvSpPr txBox="1"/>
          <p:nvPr/>
        </p:nvSpPr>
        <p:spPr>
          <a:xfrm>
            <a:off x="179280" y="549360"/>
            <a:ext cx="86407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дведение итогов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68000" y="2565000"/>
            <a:ext cx="8280360" cy="30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ffcc"/>
                </a:solidFill>
                <a:latin typeface="Monotype Corsiva"/>
              </a:rPr>
              <a:t>В ходе проведенных исследований мы пришли к выводу о правильности выдвинутой гипотезы, а именно: СКМ </a:t>
            </a:r>
            <a:r>
              <a:rPr b="0" lang="en-US" sz="3600" spc="-1" strike="noStrike">
                <a:solidFill>
                  <a:srgbClr val="99ffcc"/>
                </a:solidFill>
                <a:latin typeface="Monotype Corsiva"/>
              </a:rPr>
              <a:t>MathCAD </a:t>
            </a:r>
            <a:r>
              <a:rPr b="0" lang="ru-RU" sz="3600" spc="-1" strike="noStrike">
                <a:solidFill>
                  <a:srgbClr val="99ffcc"/>
                </a:solidFill>
                <a:latin typeface="Monotype Corsiva"/>
              </a:rPr>
              <a:t>значительно облегчает работу по решению квадратных уравнений и неравенст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7" descr="AG00373_"/>
          <p:cNvPicPr/>
          <p:nvPr/>
        </p:nvPicPr>
        <p:blipFill>
          <a:blip r:embed="rId1"/>
          <a:stretch/>
        </p:blipFill>
        <p:spPr>
          <a:xfrm>
            <a:off x="6804000" y="4869000"/>
            <a:ext cx="2160720" cy="1728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9" descr="Animate0036"/>
          <p:cNvPicPr/>
          <p:nvPr/>
        </p:nvPicPr>
        <p:blipFill>
          <a:blip r:embed="rId2"/>
          <a:stretch/>
        </p:blipFill>
        <p:spPr>
          <a:xfrm>
            <a:off x="395280" y="4808520"/>
            <a:ext cx="2089080" cy="186048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WordArt 5"/>
          <p:cNvSpPr txBox="1"/>
          <p:nvPr/>
        </p:nvSpPr>
        <p:spPr>
          <a:xfrm rot="21099600">
            <a:off x="324000" y="765000"/>
            <a:ext cx="83516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ополагающий вопрос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99ff99"/>
                </a:solidFill>
                <a:latin typeface="Monotype Corsiva"/>
              </a:rPr>
              <a:t>Что такое алгебра и зачем она нужна?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Picture 10" descr="Animate0013"/>
          <p:cNvPicPr/>
          <p:nvPr/>
        </p:nvPicPr>
        <p:blipFill>
          <a:blip r:embed="rId1"/>
          <a:stretch/>
        </p:blipFill>
        <p:spPr>
          <a:xfrm>
            <a:off x="3276720" y="4724280"/>
            <a:ext cx="2950920" cy="187344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WordArt 4"/>
          <p:cNvSpPr txBox="1"/>
          <p:nvPr/>
        </p:nvSpPr>
        <p:spPr>
          <a:xfrm>
            <a:off x="611280" y="333360"/>
            <a:ext cx="799308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блемный вопро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95280" y="2852280"/>
            <a:ext cx="842472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Monotype Corsiva"/>
              </a:rPr>
              <a:t>Компьютер решает квадратные уравнения и неравенства.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Monotype Corsiva"/>
              </a:rPr>
              <a:t>Возможно ли это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7" descr="Animate0208"/>
          <p:cNvPicPr/>
          <p:nvPr/>
        </p:nvPicPr>
        <p:blipFill>
          <a:blip r:embed="rId1"/>
          <a:stretch/>
        </p:blipFill>
        <p:spPr>
          <a:xfrm>
            <a:off x="7020000" y="4594320"/>
            <a:ext cx="1944720" cy="1930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j0195384"/>
          <p:cNvPicPr/>
          <p:nvPr/>
        </p:nvPicPr>
        <p:blipFill>
          <a:blip r:embed="rId2"/>
          <a:stretch/>
        </p:blipFill>
        <p:spPr>
          <a:xfrm>
            <a:off x="324000" y="4691160"/>
            <a:ext cx="1795320" cy="183348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5"/>
          <p:cNvSpPr txBox="1"/>
          <p:nvPr/>
        </p:nvSpPr>
        <p:spPr>
          <a:xfrm>
            <a:off x="539640" y="260280"/>
            <a:ext cx="8136000" cy="16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матические вопрос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21840" y="184428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СКМ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MathCAD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. Что это и каковы её графические возможност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Из истории квадратных уравн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Решение квадратных уравнений в СКМ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MathCAD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А) графический способ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Б) аналитический спосо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Решение квадратных неравенств в СКМ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MathCAD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8" descr="j0292020"/>
          <p:cNvPicPr/>
          <p:nvPr/>
        </p:nvPicPr>
        <p:blipFill>
          <a:blip r:embed="rId3"/>
          <a:stretch/>
        </p:blipFill>
        <p:spPr>
          <a:xfrm>
            <a:off x="6156360" y="3816360"/>
            <a:ext cx="2016000" cy="177336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98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98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98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98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98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WordArt 4"/>
          <p:cNvSpPr txBox="1"/>
          <p:nvPr/>
        </p:nvSpPr>
        <p:spPr>
          <a:xfrm>
            <a:off x="1619280" y="692280"/>
            <a:ext cx="6337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ИПОТЕЗ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826560" y="2276280"/>
            <a:ext cx="77058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ff99"/>
                </a:solidFill>
                <a:latin typeface="Monotype Corsiva"/>
              </a:rPr>
              <a:t>СКМ </a:t>
            </a:r>
            <a:r>
              <a:rPr b="0" lang="en-US" sz="5400" spc="-1" strike="noStrike">
                <a:solidFill>
                  <a:srgbClr val="99ff99"/>
                </a:solidFill>
                <a:latin typeface="Monotype Corsiva"/>
              </a:rPr>
              <a:t>MathCAD </a:t>
            </a:r>
            <a:r>
              <a:rPr b="0" lang="ru-RU" sz="5400" spc="-1" strike="noStrike">
                <a:solidFill>
                  <a:srgbClr val="99ff99"/>
                </a:solidFill>
                <a:latin typeface="Monotype Corsiva"/>
              </a:rPr>
              <a:t>облегчает решение квадратных уравнений и неравенст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8" descr="Animate0035"/>
          <p:cNvPicPr/>
          <p:nvPr/>
        </p:nvPicPr>
        <p:blipFill>
          <a:blip r:embed="rId1"/>
          <a:stretch/>
        </p:blipFill>
        <p:spPr>
          <a:xfrm>
            <a:off x="3851280" y="4952880"/>
            <a:ext cx="1584360" cy="142884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4"/>
          <p:cNvSpPr txBox="1"/>
          <p:nvPr/>
        </p:nvSpPr>
        <p:spPr>
          <a:xfrm>
            <a:off x="324000" y="0"/>
            <a:ext cx="8424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Цели проект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358560" y="1628280"/>
            <a:ext cx="878508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ff99"/>
                </a:solidFill>
                <a:latin typeface="Times New Roman"/>
              </a:rPr>
              <a:t>Образовательные: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сформировать у учащихся представления о возможностях решения квадратных уравнений и неравенств в СКМ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athCAD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, а также навыки работы в этой систем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ff99"/>
                </a:solidFill>
                <a:latin typeface="Times New Roman"/>
              </a:rPr>
              <a:t>Развивающие: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развить алгоритмическое мышление, произвольное внимание, произвольную память, интерес к математике и информати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ff99"/>
                </a:solidFill>
                <a:latin typeface="Times New Roman"/>
              </a:rPr>
              <a:t>Воспитательные: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воспитать усидчивость, прилежность, умение работать в группе, аккуратность при обращении с ПК, настойчивость в достижении поставленных цел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WordArt 4"/>
          <p:cNvSpPr txBox="1"/>
          <p:nvPr/>
        </p:nvSpPr>
        <p:spPr>
          <a:xfrm>
            <a:off x="324000" y="476280"/>
            <a:ext cx="8569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рганизация выполнения проект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250920" y="2060640"/>
            <a:ext cx="86421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Сообщается тема проекта «Решение квадратных уравнений и неравенств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Класс разбивается на 3 группы, выбираются темы исследова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Исследование проблемы и выполнение каждой группой задания в виде презентации и публик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Обсуждение результатов исследова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WordArt 4"/>
          <p:cNvSpPr txBox="1"/>
          <p:nvPr/>
        </p:nvSpPr>
        <p:spPr>
          <a:xfrm>
            <a:off x="611280" y="404640"/>
            <a:ext cx="806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ланирование по тем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94920" y="1483920"/>
            <a:ext cx="8209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ff99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99ff99"/>
                </a:solidFill>
                <a:latin typeface="Monotype Corsiva"/>
              </a:rPr>
              <a:t>Сообщение тем исследований и формирование групп для проведения исследований – 1 ур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99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99ff99"/>
                </a:solidFill>
                <a:latin typeface="Monotype Corsiva"/>
              </a:rPr>
              <a:t>Работа в группах – 2, 3 уро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99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99ff99"/>
                </a:solidFill>
                <a:latin typeface="Monotype Corsiva"/>
              </a:rPr>
              <a:t>Подготовка презентации и публикации – 4 ур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99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99ff99"/>
                </a:solidFill>
                <a:latin typeface="Monotype Corsiva"/>
              </a:rPr>
              <a:t>Защита работ учащихся и подведение итогов – 5 ур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WordArt 5"/>
          <p:cNvSpPr txBox="1"/>
          <p:nvPr/>
        </p:nvSpPr>
        <p:spPr>
          <a:xfrm>
            <a:off x="611280" y="476280"/>
            <a:ext cx="820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еречень тем   проектов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395280" y="1700280"/>
            <a:ext cx="835344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ccff"/>
                </a:solidFill>
                <a:latin typeface="Times New Roman"/>
              </a:rPr>
              <a:t>1) СКМ </a:t>
            </a:r>
            <a:r>
              <a:rPr b="0" i="1" lang="en-US" sz="3600" spc="-1" strike="noStrike">
                <a:solidFill>
                  <a:srgbClr val="33ccff"/>
                </a:solidFill>
                <a:latin typeface="Times New Roman"/>
              </a:rPr>
              <a:t>MathCAD </a:t>
            </a:r>
            <a:r>
              <a:rPr b="0" i="1" lang="ru-RU" sz="3600" spc="-1" strike="noStrike">
                <a:solidFill>
                  <a:srgbClr val="33ccff"/>
                </a:solidFill>
                <a:latin typeface="Times New Roman"/>
              </a:rPr>
              <a:t>и её возможности при решении квадратных уравне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ccff"/>
                </a:solidFill>
                <a:latin typeface="Times New Roman"/>
              </a:rPr>
              <a:t>2) СКМ </a:t>
            </a:r>
            <a:r>
              <a:rPr b="0" i="1" lang="en-US" sz="3600" spc="-1" strike="noStrike">
                <a:solidFill>
                  <a:srgbClr val="33ccff"/>
                </a:solidFill>
                <a:latin typeface="Times New Roman"/>
              </a:rPr>
              <a:t>MathCAD </a:t>
            </a:r>
            <a:r>
              <a:rPr b="0" i="1" lang="ru-RU" sz="3600" spc="-1" strike="noStrike">
                <a:solidFill>
                  <a:srgbClr val="33ccff"/>
                </a:solidFill>
                <a:latin typeface="Times New Roman"/>
              </a:rPr>
              <a:t>и её возможности при решении квадратных неравенст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ccff"/>
                </a:solidFill>
                <a:latin typeface="Times New Roman"/>
              </a:rPr>
              <a:t>3) Из истории квадратных уравне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8" descr="Animate0029"/>
          <p:cNvPicPr/>
          <p:nvPr/>
        </p:nvPicPr>
        <p:blipFill>
          <a:blip r:embed="rId1"/>
          <a:stretch/>
        </p:blipFill>
        <p:spPr>
          <a:xfrm>
            <a:off x="6022800" y="4743360"/>
            <a:ext cx="2509920" cy="1781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9" descr="Animate0030"/>
          <p:cNvPicPr/>
          <p:nvPr/>
        </p:nvPicPr>
        <p:blipFill>
          <a:blip r:embed="rId2"/>
          <a:stretch/>
        </p:blipFill>
        <p:spPr>
          <a:xfrm>
            <a:off x="971640" y="4797360"/>
            <a:ext cx="2592360" cy="187164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98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98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98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23:45:29Z</dcterms:created>
  <dc:creator>1234</dc:creator>
  <dc:description/>
  <dc:language>en-US</dc:language>
  <cp:lastModifiedBy>LEGION</cp:lastModifiedBy>
  <dcterms:modified xsi:type="dcterms:W3CDTF">2015-01-26T10:19:40Z</dcterms:modified>
  <cp:revision>16</cp:revision>
  <dc:subject/>
  <dc:title>Решение </dc:title>
</cp:coreProperties>
</file>