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media/image6.wmf" ContentType="image/x-wmf"/>
  <Override PartName="/ppt/media/image4.wmf" ContentType="image/x-wmf"/>
  <Override PartName="/ppt/media/image5.png" ContentType="image/png"/>
  <Override PartName="/ppt/media/image7.gif" ContentType="image/gif"/>
  <Override PartName="/ppt/media/image8.gif" ContentType="image/gif"/>
  <Override PartName="/ppt/media/image9.gif" ContentType="image/gif"/>
  <Override PartName="/ppt/media/image10.gif" ContentType="image/gif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510B-2603-434A-9DC4-03F20A9B0E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Решение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квадратных уравнений и неравенст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Monotype Corsiva"/>
              </a:rPr>
              <a:t>Руководитель:</a:t>
            </a:r>
            <a:r>
              <a:rPr b="1" i="1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Monotype Corsiva"/>
              </a:rPr>
              <a:t>учитель математ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Monotype Corsiva"/>
              </a:rPr>
              <a:t>МБОУ «Гимназия № 97 г. Ельц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Monotype Corsiva"/>
              </a:rPr>
              <a:t>Агеева Юлия Владими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5EA3-EEA8-4087-89CF-573B24CA9C3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cc"/>
                </a:solidFill>
                <a:latin typeface="Monotype Corsiva"/>
              </a:rPr>
              <a:t>В ходе проведенных исследований мы пришли к выводу о правильности выдвинутой гипотезы, а именно: СКМ </a:t>
            </a:r>
            <a:r>
              <a:rPr b="0" lang="en-US" sz="1200" spc="-1" strike="noStrike">
                <a:solidFill>
                  <a:srgbClr val="99ffcc"/>
                </a:solidFill>
                <a:latin typeface="Monotype Corsiva"/>
              </a:rPr>
              <a:t>MathCAD </a:t>
            </a:r>
            <a:r>
              <a:rPr b="0" lang="ru-RU" sz="1200" spc="-1" strike="noStrike">
                <a:solidFill>
                  <a:srgbClr val="99ffcc"/>
                </a:solidFill>
                <a:latin typeface="Monotype Corsiva"/>
              </a:rPr>
              <a:t>значительно облегчает работу по решению квадратных уравнений и неравен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4988-635B-4C1F-9241-6D0114818BE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Monotype Corsiva"/>
              </a:rPr>
              <a:t>Что такое алгебра и зачем она нуж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3643-45C6-4838-930A-BEB7F3A572B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Monotype Corsiva"/>
              </a:rPr>
              <a:t>Компьютер решает квадратные уравнения и неравен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Monotype Corsiva"/>
              </a:rPr>
              <a:t>Возможно ли э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4975-EA28-4944-8655-9CC41243A05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КМ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MathCAD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 Что это и каковы её графические возможн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з истории квадратных урав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ешение квадратных уравнений в СКМ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MathCAD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) графический способ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) аналитический спос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ешение квадратных неравенств в СКМ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MathCAD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B848-720D-46D5-9FA8-1386E7217EC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Monotype Corsiva"/>
              </a:rPr>
              <a:t>СКМ </a:t>
            </a:r>
            <a:r>
              <a:rPr b="0" lang="en-US" sz="1200" spc="-1" strike="noStrike">
                <a:solidFill>
                  <a:srgbClr val="0000ff"/>
                </a:solidFill>
                <a:latin typeface="Monotype Corsiva"/>
              </a:rPr>
              <a:t>MathCAD </a:t>
            </a:r>
            <a:r>
              <a:rPr b="0" lang="ru-RU" sz="1200" spc="-1" strike="noStrike">
                <a:solidFill>
                  <a:srgbClr val="0000ff"/>
                </a:solidFill>
                <a:latin typeface="Monotype Corsiva"/>
              </a:rPr>
              <a:t>облегчает решение квадратных уравнений и неравен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0182-1496-46F2-A443-F5DBE1FA652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Образовательные: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сформировать у учащихся представления о возможностях решения квадратных уравнений и неравенств в СКМ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athCAD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, а также навыки работы в этой сис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Развивающие: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развить алгоритмическое мышление, произвольное внимание, произвольную память, интерес к математике и информат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Воспитательные: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воспитать усидчивость, прилежность, умение работать в группе, аккуратность при обращении с ПК, настойчивость в достижении поставленных ц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3C54-6518-4ACE-A89C-CC2C0BBC710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ообщается тема проекта «Решение квадратных уравнений и неравенст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Класс разбивается на 3 группы, выбираются темы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Исследование проблемы и выполнение каждой группой задания в виде презентации и публ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Обсуждение результатов исследования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9027-C6DB-4708-B49E-5B1E0B06E29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Сообщение тем исследований и формирование групп для проведения исследований – 1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Работа в группах – 2, 3 у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Подготовка презентации и публикации – 4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Защита работ учащихся и подведение итогов – 5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3AF7-EB61-481F-931B-461B0E4A41F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ccff"/>
                </a:solidFill>
                <a:latin typeface="Times New Roman"/>
              </a:rPr>
              <a:t>1) СКМ </a:t>
            </a:r>
            <a:r>
              <a:rPr b="0" i="1" lang="en-US" sz="1200" spc="-1" strike="noStrike">
                <a:solidFill>
                  <a:srgbClr val="33ccff"/>
                </a:solidFill>
                <a:latin typeface="Times New Roman"/>
              </a:rPr>
              <a:t>MathCAD </a:t>
            </a:r>
            <a:r>
              <a:rPr b="0" i="1" lang="ru-RU" sz="1200" spc="-1" strike="noStrike">
                <a:solidFill>
                  <a:srgbClr val="33ccff"/>
                </a:solidFill>
                <a:latin typeface="Times New Roman"/>
              </a:rPr>
              <a:t>и её возможности при решении квадратных урав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ccff"/>
                </a:solidFill>
                <a:latin typeface="Times New Roman"/>
              </a:rPr>
              <a:t>2) СКМ </a:t>
            </a:r>
            <a:r>
              <a:rPr b="0" i="1" lang="en-US" sz="1200" spc="-1" strike="noStrike">
                <a:solidFill>
                  <a:srgbClr val="33ccff"/>
                </a:solidFill>
                <a:latin typeface="Times New Roman"/>
              </a:rPr>
              <a:t>MathCAD </a:t>
            </a:r>
            <a:r>
              <a:rPr b="0" i="1" lang="ru-RU" sz="1200" spc="-1" strike="noStrike">
                <a:solidFill>
                  <a:srgbClr val="33ccff"/>
                </a:solidFill>
                <a:latin typeface="Times New Roman"/>
              </a:rPr>
              <a:t>и её возможности при решении квадратных неравен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ccff"/>
                </a:solidFill>
                <a:latin typeface="Times New Roman"/>
              </a:rPr>
              <a:t>3) Из истории квадратных урав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1613-FE42-4998-BD00-3A45D376A78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C242-C7BF-4397-9B1E-57E17CC33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7958-3DE8-41F8-903C-090091EF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C99B-A942-4498-BAE5-773DD0AA5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7B28-1A8D-478B-9596-A224D1B5A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9B8C-D342-440A-86D3-D8F0222B1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011F-4186-4953-9104-38871B92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C5A4-001D-4BE9-B3FB-1E041013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016F-8A8E-4AFE-8B69-C0F83654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A487-D1B5-4A97-A020-254387F1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4FF6-D4DE-48DB-8EFF-E6E8C828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0F2F-6057-43DB-94AE-B5D7CFA9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8251-1761-4415-9D31-030307E6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399A-53C4-4492-BE91-35BC9F23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5F64-ABF3-41CF-A4D0-458E5CF1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AE3F-4952-4DD6-BD4F-9C0AA592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5737-1E44-4706-AD6A-D152B06A2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03D8-A35C-46CE-A0A4-5DCD7AA08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278F-B24E-4915-9B5A-93C620B5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10C9-512E-49A4-9284-FFF1AA58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6038-1C2B-4555-B27A-EBA4BD54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94D3-1F50-4190-B70A-FC7C25AA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A422-844D-4326-A2EC-E4DB7288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98E6-47FE-4097-8AD9-8A9910B0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5CCA-5EB4-41BF-9D92-E7137A9F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1A8B-AF3D-4BDA-9FF8-4103F7FE36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5209-E1D5-4D91-AFB5-312867560F9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507520" cy="315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99ff99"/>
                </a:solidFill>
                <a:latin typeface="Monotype Corsiva"/>
              </a:rPr>
              <a:t>Решение</a:t>
            </a:r>
            <a:r>
              <a:rPr b="1" i="1" lang="ru-RU" sz="7200" spc="-1" strike="noStrike">
                <a:solidFill>
                  <a:srgbClr val="ccecff"/>
                </a:solidFill>
                <a:latin typeface="Monotype Corsiva"/>
              </a:rPr>
              <a:t> </a:t>
            </a:r>
            <a:r>
              <a:rPr b="1" i="1" lang="ru-RU" sz="7200" spc="-1" strike="noStrike">
                <a:solidFill>
                  <a:srgbClr val="99ff99"/>
                </a:solidFill>
                <a:latin typeface="Monotype Corsiva"/>
              </a:rPr>
              <a:t>квадратных уравнений и неравенств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3284640"/>
            <a:ext cx="7993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Monotype Corsiva"/>
              </a:rPr>
              <a:t>Руководитель:</a:t>
            </a: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учитель математик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МБОУ «Гимназия № 97 г. Ельца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Агеева Юлия Владимиров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4"/>
          <p:cNvSpPr txBox="1"/>
          <p:nvPr/>
        </p:nvSpPr>
        <p:spPr>
          <a:xfrm>
            <a:off x="179280" y="549360"/>
            <a:ext cx="8640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дведение итого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68000" y="2565000"/>
            <a:ext cx="8280360" cy="30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ffcc"/>
                </a:solidFill>
                <a:latin typeface="Monotype Corsiva"/>
              </a:rPr>
              <a:t>В ходе проведенных исследований мы пришли к выводу о правильности выдвинутой гипотезы, а именно: СКМ </a:t>
            </a:r>
            <a:r>
              <a:rPr b="0" lang="en-US" sz="3600" spc="-1" strike="noStrike">
                <a:solidFill>
                  <a:srgbClr val="99ffcc"/>
                </a:solidFill>
                <a:latin typeface="Monotype Corsiva"/>
              </a:rPr>
              <a:t>MathCAD </a:t>
            </a:r>
            <a:r>
              <a:rPr b="0" lang="ru-RU" sz="3600" spc="-1" strike="noStrike">
                <a:solidFill>
                  <a:srgbClr val="99ffcc"/>
                </a:solidFill>
                <a:latin typeface="Monotype Corsiva"/>
              </a:rPr>
              <a:t>значительно облегчает работу по решению квадратных уравнений и неравенст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7" descr="AG00373_"/>
          <p:cNvPicPr/>
          <p:nvPr/>
        </p:nvPicPr>
        <p:blipFill>
          <a:blip r:embed="rId1"/>
          <a:stretch/>
        </p:blipFill>
        <p:spPr>
          <a:xfrm>
            <a:off x="6804000" y="4869000"/>
            <a:ext cx="2160720" cy="1728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Animate0036"/>
          <p:cNvPicPr/>
          <p:nvPr/>
        </p:nvPicPr>
        <p:blipFill>
          <a:blip r:embed="rId2"/>
          <a:stretch/>
        </p:blipFill>
        <p:spPr>
          <a:xfrm>
            <a:off x="395280" y="4808520"/>
            <a:ext cx="2089080" cy="186048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5"/>
          <p:cNvSpPr txBox="1"/>
          <p:nvPr/>
        </p:nvSpPr>
        <p:spPr>
          <a:xfrm rot="21099600">
            <a:off x="324000" y="765000"/>
            <a:ext cx="83516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ополагающий вопро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9ff99"/>
                </a:solidFill>
                <a:latin typeface="Monotype Corsiva"/>
              </a:rPr>
              <a:t>Что такое алгебра и зачем она нужна?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Picture 10" descr="Animate0013"/>
          <p:cNvPicPr/>
          <p:nvPr/>
        </p:nvPicPr>
        <p:blipFill>
          <a:blip r:embed="rId1"/>
          <a:stretch/>
        </p:blipFill>
        <p:spPr>
          <a:xfrm>
            <a:off x="3276720" y="4724280"/>
            <a:ext cx="2950920" cy="187344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4"/>
          <p:cNvSpPr txBox="1"/>
          <p:nvPr/>
        </p:nvSpPr>
        <p:spPr>
          <a:xfrm>
            <a:off x="611280" y="333360"/>
            <a:ext cx="799308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блемный вопро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95280" y="2852280"/>
            <a:ext cx="84247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Monotype Corsiva"/>
              </a:rPr>
              <a:t>Компьютер решает квадратные уравнения и неравенства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Monotype Corsiva"/>
              </a:rPr>
              <a:t>Возможно ли это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7" descr="Animate0208"/>
          <p:cNvPicPr/>
          <p:nvPr/>
        </p:nvPicPr>
        <p:blipFill>
          <a:blip r:embed="rId1"/>
          <a:stretch/>
        </p:blipFill>
        <p:spPr>
          <a:xfrm>
            <a:off x="7020000" y="4594320"/>
            <a:ext cx="1944720" cy="1930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j0195384"/>
          <p:cNvPicPr/>
          <p:nvPr/>
        </p:nvPicPr>
        <p:blipFill>
          <a:blip r:embed="rId2"/>
          <a:stretch/>
        </p:blipFill>
        <p:spPr>
          <a:xfrm>
            <a:off x="324000" y="469116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5"/>
          <p:cNvSpPr txBox="1"/>
          <p:nvPr/>
        </p:nvSpPr>
        <p:spPr>
          <a:xfrm>
            <a:off x="539640" y="260280"/>
            <a:ext cx="8136000" cy="16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атические вопрос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21840" y="184428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СКМ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MathCAD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. Что это и каковы её графические возможност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Из истории квадратных уравн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Решение квадратных уравнений в СКМ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MathCAD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А) графический способ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Б) аналитический спосо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Решение квадратных неравенств в СКМ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MathCAD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8" descr="j0292020"/>
          <p:cNvPicPr/>
          <p:nvPr/>
        </p:nvPicPr>
        <p:blipFill>
          <a:blip r:embed="rId3"/>
          <a:stretch/>
        </p:blipFill>
        <p:spPr>
          <a:xfrm>
            <a:off x="6156360" y="3816360"/>
            <a:ext cx="2016000" cy="177336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98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98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4"/>
          <p:cNvSpPr txBox="1"/>
          <p:nvPr/>
        </p:nvSpPr>
        <p:spPr>
          <a:xfrm>
            <a:off x="1619280" y="692280"/>
            <a:ext cx="633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ИПОТЕЗ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826560" y="2276280"/>
            <a:ext cx="77058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ff99"/>
                </a:solidFill>
                <a:latin typeface="Monotype Corsiva"/>
              </a:rPr>
              <a:t>СКМ </a:t>
            </a:r>
            <a:r>
              <a:rPr b="0" lang="en-US" sz="5400" spc="-1" strike="noStrike">
                <a:solidFill>
                  <a:srgbClr val="99ff99"/>
                </a:solidFill>
                <a:latin typeface="Monotype Corsiva"/>
              </a:rPr>
              <a:t>MathCAD </a:t>
            </a:r>
            <a:r>
              <a:rPr b="0" lang="ru-RU" sz="5400" spc="-1" strike="noStrike">
                <a:solidFill>
                  <a:srgbClr val="99ff99"/>
                </a:solidFill>
                <a:latin typeface="Monotype Corsiva"/>
              </a:rPr>
              <a:t>облегчает решение квадратных уравнений и неравенст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8" descr="Animate0035"/>
          <p:cNvPicPr/>
          <p:nvPr/>
        </p:nvPicPr>
        <p:blipFill>
          <a:blip r:embed="rId1"/>
          <a:stretch/>
        </p:blipFill>
        <p:spPr>
          <a:xfrm>
            <a:off x="3851280" y="4952880"/>
            <a:ext cx="1584360" cy="142884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4"/>
          <p:cNvSpPr txBox="1"/>
          <p:nvPr/>
        </p:nvSpPr>
        <p:spPr>
          <a:xfrm>
            <a:off x="324000" y="0"/>
            <a:ext cx="842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ели проект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358560" y="1628280"/>
            <a:ext cx="878508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ff99"/>
                </a:solidFill>
                <a:latin typeface="Times New Roman"/>
              </a:rPr>
              <a:t>Образовательные: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сформировать у учащихся представления о возможностях решения квадратных уравнений и неравенств в СКМ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athCAD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, а также навыки работы в этой систе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ff99"/>
                </a:solidFill>
                <a:latin typeface="Times New Roman"/>
              </a:rPr>
              <a:t>Развивающие: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развить алгоритмическое мышление, произвольное внимание, произвольную память, интерес к математике и информати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ff99"/>
                </a:solidFill>
                <a:latin typeface="Times New Roman"/>
              </a:rPr>
              <a:t>Воспитательные: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воспитать усидчивость, прилежность, умение работать в группе, аккуратность при обращении с ПК, настойчивость в достижении поставленных це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4"/>
          <p:cNvSpPr txBox="1"/>
          <p:nvPr/>
        </p:nvSpPr>
        <p:spPr>
          <a:xfrm>
            <a:off x="324000" y="476280"/>
            <a:ext cx="856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рганизация выполнения проек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250920" y="2060640"/>
            <a:ext cx="8642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Сообщается тема проекта «Решение квадратных уравнений и неравенств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Класс разбивается на 3 группы, выбираются темы исследов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Исследование проблемы и выполнение каждой группой задания в виде презентации и публик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Обсуждение результатов исследова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4"/>
          <p:cNvSpPr txBox="1"/>
          <p:nvPr/>
        </p:nvSpPr>
        <p:spPr>
          <a:xfrm>
            <a:off x="611280" y="404640"/>
            <a:ext cx="806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анирование по тем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20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99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Сообщение тем исследований и формирование групп для проведения исследований – 1 ур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Работа в группах – 2, 3 уро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Подготовка презентации и публикации – 4 ур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Защита работ учащихся и подведение итогов – 5 ур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5"/>
          <p:cNvSpPr txBox="1"/>
          <p:nvPr/>
        </p:nvSpPr>
        <p:spPr>
          <a:xfrm>
            <a:off x="611280" y="476280"/>
            <a:ext cx="820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еречень тем   проектов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395280" y="1700280"/>
            <a:ext cx="835344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ccff"/>
                </a:solidFill>
                <a:latin typeface="Times New Roman"/>
              </a:rPr>
              <a:t>1) СКМ </a:t>
            </a:r>
            <a:r>
              <a:rPr b="0" i="1" lang="en-US" sz="3600" spc="-1" strike="noStrike">
                <a:solidFill>
                  <a:srgbClr val="33ccff"/>
                </a:solidFill>
                <a:latin typeface="Times New Roman"/>
              </a:rPr>
              <a:t>MathCAD </a:t>
            </a:r>
            <a:r>
              <a:rPr b="0" i="1" lang="ru-RU" sz="3600" spc="-1" strike="noStrike">
                <a:solidFill>
                  <a:srgbClr val="33ccff"/>
                </a:solidFill>
                <a:latin typeface="Times New Roman"/>
              </a:rPr>
              <a:t>и её возможности при решении квадратных уравн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ccff"/>
                </a:solidFill>
                <a:latin typeface="Times New Roman"/>
              </a:rPr>
              <a:t>2) СКМ </a:t>
            </a:r>
            <a:r>
              <a:rPr b="0" i="1" lang="en-US" sz="3600" spc="-1" strike="noStrike">
                <a:solidFill>
                  <a:srgbClr val="33ccff"/>
                </a:solidFill>
                <a:latin typeface="Times New Roman"/>
              </a:rPr>
              <a:t>MathCAD </a:t>
            </a:r>
            <a:r>
              <a:rPr b="0" i="1" lang="ru-RU" sz="3600" spc="-1" strike="noStrike">
                <a:solidFill>
                  <a:srgbClr val="33ccff"/>
                </a:solidFill>
                <a:latin typeface="Times New Roman"/>
              </a:rPr>
              <a:t>и её возможности при решении квадратных неравенст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ccff"/>
                </a:solidFill>
                <a:latin typeface="Times New Roman"/>
              </a:rPr>
              <a:t>3) Из истории квадратных уравн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8" descr="Animate0029"/>
          <p:cNvPicPr/>
          <p:nvPr/>
        </p:nvPicPr>
        <p:blipFill>
          <a:blip r:embed="rId1"/>
          <a:stretch/>
        </p:blipFill>
        <p:spPr>
          <a:xfrm>
            <a:off x="6022800" y="4743360"/>
            <a:ext cx="2509920" cy="1781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Animate0030"/>
          <p:cNvPicPr/>
          <p:nvPr/>
        </p:nvPicPr>
        <p:blipFill>
          <a:blip r:embed="rId2"/>
          <a:stretch/>
        </p:blipFill>
        <p:spPr>
          <a:xfrm>
            <a:off x="971640" y="4797360"/>
            <a:ext cx="2592360" cy="187164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98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98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23:45:29Z</dcterms:created>
  <dc:creator>1234</dc:creator>
  <dc:description/>
  <dc:language>en-US</dc:language>
  <cp:lastModifiedBy>LEGION</cp:lastModifiedBy>
  <dcterms:modified xsi:type="dcterms:W3CDTF">2015-01-26T10:19:40Z</dcterms:modified>
  <cp:revision>16</cp:revision>
  <dc:subject/>
  <dc:title>Решение </dc:title>
</cp:coreProperties>
</file>