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24.png" ContentType="image/png"/>
  <Override PartName="/ppt/media/image1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38.wmf" ContentType="image/x-wmf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30.png" ContentType="image/png"/>
  <Override PartName="/ppt/media/image31.png" ContentType="image/png"/>
  <Override PartName="/ppt/media/image32.png" ContentType="image/png"/>
  <Override PartName="/ppt/media/image40.wmf" ContentType="image/x-wmf"/>
  <Override PartName="/ppt/media/image37.png" ContentType="image/png"/>
  <Override PartName="/ppt/media/image7.png" ContentType="image/png"/>
  <Override PartName="/ppt/media/image41.gif" ContentType="image/gif"/>
  <Override PartName="/ppt/media/image34.wmf" ContentType="image/x-wmf"/>
  <Override PartName="/ppt/media/image4.wmf" ContentType="image/x-wmf"/>
  <Override PartName="/ppt/media/image11.png" ContentType="image/png"/>
  <Override PartName="/ppt/media/image6.png" ContentType="image/png"/>
  <Override PartName="/ppt/media/image36.png" ContentType="image/png"/>
  <Override PartName="/ppt/media/image15.png" ContentType="image/png"/>
  <Override PartName="/ppt/media/image39.gif" ContentType="image/gif"/>
  <Override PartName="/ppt/media/image35.wmf" ContentType="image/x-wmf"/>
  <Override PartName="/ppt/media/image5.wmf" ContentType="image/x-wmf"/>
  <Override PartName="/ppt/media/image10.png" ContentType="image/png"/>
  <Override PartName="/ppt/media/image3.wmf" ContentType="image/x-wmf"/>
  <Override PartName="/ppt/media/image29.png" ContentType="image/png"/>
  <Override PartName="/ppt/media/image2.wmf" ContentType="image/x-wmf"/>
  <Override PartName="/ppt/media/image25.wmf" ContentType="image/x-wmf"/>
  <Override PartName="/ppt/media/image2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1248-5102-4392-973E-9210FF05AF0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Путешествие в город обыкновенных дробей на проспект Умн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99C5-C422-42B5-ACE7-35B78419A3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Задач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Автомашина движется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со скоростью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м/ч.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Какой </a:t>
            </a:r>
            <a:r>
              <a:rPr b="1" lang="ru-RU" sz="1200" spc="-1" strike="noStrike" u="sng">
                <a:solidFill>
                  <a:srgbClr val="6600cc"/>
                </a:solidFill>
                <a:uFillTx/>
                <a:latin typeface="Calibri"/>
              </a:rPr>
              <a:t>путь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рошла автомаши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 2ч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? </a:t>
            </a: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За 3ч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962B-0180-41FF-A5A5-6E79F80E9A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Задач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Автомашина движется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со скоростью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м/ч. 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Какой </a:t>
            </a:r>
            <a:r>
              <a:rPr b="1" lang="ru-RU" sz="1200" spc="-1" strike="noStrike" u="sng">
                <a:solidFill>
                  <a:srgbClr val="6600cc"/>
                </a:solidFill>
                <a:uFillTx/>
                <a:latin typeface="Calibri"/>
              </a:rPr>
              <a:t>путь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рошла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      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автомаши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 9ч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?  </a:t>
            </a: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За       ч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82DC-0BB4-4A32-961C-C23C59204B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твет к задач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93CE-76C4-4953-9BA2-BB1E5BD05F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1 кг черешни      сотни рублей. Персики </a:t>
            </a:r>
            <a:r>
              <a:rPr b="1" lang="ru-RU" sz="1200" spc="-1" strike="noStrike">
                <a:solidFill>
                  <a:srgbClr val="6600cc"/>
                </a:solidFill>
                <a:latin typeface="Calibri"/>
              </a:rPr>
              <a:t>в       раза дорож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вь вопросы к задач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4359-7E71-490C-BE55-F3E1022B65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На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«3»</a:t>
            </a:r>
            <a:r>
              <a:rPr b="1" lang="ru-RU" sz="1000" spc="-1" strike="noStrike">
                <a:solidFill>
                  <a:srgbClr val="006600"/>
                </a:solidFill>
                <a:latin typeface="Calibri"/>
              </a:rPr>
              <a:t>№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 457 а-г),                         на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«4»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1000" spc="-1" strike="noStrike">
                <a:solidFill>
                  <a:srgbClr val="006600"/>
                </a:solidFill>
                <a:latin typeface="Calibri"/>
              </a:rPr>
              <a:t>№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463 а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на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«5» Составить задач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B07D-FCCA-4C4A-A4EC-8A396A99DF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Конеч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E356-2576-4E1F-9D31-BB5C760A6D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ff"/>
                </a:solidFill>
                <a:latin typeface="Calibri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картинки предоставлены руководителем курсов «Интернет-технологии для преподавателей» Дубыниной Е.В., которые проходили в п. Пойковский Нефтеюганского района ХМАО-Югры в 2001 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7358-5230-4164-A227-6462351050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Действия на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обыкновенными дроб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DBB4-30A8-4104-BF4C-A85CF74B0C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41f1a"/>
                </a:solidFill>
                <a:latin typeface="Arial"/>
                <a:ea typeface="Arial"/>
              </a:rPr>
              <a:t>Город обыкновенных дроб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63EF-2617-45B1-B4D6-67F35163BA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К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6ED6-E9A4-4CDD-A8FE-E135D81956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Иг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"Дополни предложения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12B1-73CE-4E28-AFE7-3218F4E1ED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Проблем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615D-3FF5-4D19-AE3B-2A1F471AF9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Алгоритм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здайте алгорит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умножения обыкновенных дроб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FFA0-E850-4E4F-AFFE-8201DBEE8A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Граф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1DC0-83CD-4481-B69B-15A847A4B3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41f1a"/>
                </a:solidFill>
                <a:latin typeface="Impact"/>
              </a:rPr>
              <a:t>Вычисли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Метод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"Гусеница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F273-A04B-4860-BD9D-658D76307B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32CF-0CFB-4544-B6A8-8366E3BF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1FDF-D28C-49AC-949D-FF642A75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789A-AF62-40E3-B3B4-06B4FB2FA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87D9-30C7-47EA-8031-A740002CD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940E-4724-4733-82EC-E8EBA1D25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5165-F479-443C-8F89-8DD4EAF6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03E0-3400-4BE9-B87A-3B00A8A2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DBC6-A836-4F32-8CA3-52490310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898A-9209-442F-A9CE-44EE48F6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E6536-03FB-4672-86ED-272BF4E8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BABE-8E11-4EBF-82CE-387E3D0E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72C7-89FC-499D-BD84-E5D2BFB2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6B26-4A8F-4E62-941A-A09F1540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6EC7C-435E-4BC2-99F1-420D0319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9F0E-4EFF-4639-B08F-E1E9B87B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6A38-57F5-4884-ABC8-9A206DA5D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F4AE-ADF1-48D9-8D2F-6E82E8D15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1B59-7C3F-46CB-91CE-97FF272D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D73F-800F-4CF4-8772-634AA334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E500-B075-45A3-AF57-BE9B7E0A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3F49-4AAC-4537-946C-1A4B4046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0BE7-103A-443F-9C70-3F8057FB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ACAE-6A47-4945-B8C7-FB1620A8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D408-5618-495E-B6AC-27A16AD2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9988-182C-45EF-80E1-836BB9DDEEA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7D7B-57D0-431C-ACCE-7AC34F41B04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8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0.png"/><Relationship Id="rId11" Type="http://schemas.openxmlformats.org/officeDocument/2006/relationships/image" Target="../media/image27.png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31.png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32.png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33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5.wmf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1.gif"/><Relationship Id="rId3" Type="http://schemas.openxmlformats.org/officeDocument/2006/relationships/image" Target="../media/image41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2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3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Путешествие в город обыкновенных дробей на проспект Умнож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3357720" y="556560"/>
            <a:ext cx="316332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Математика -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4500720" y="5000760"/>
            <a:ext cx="46432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Баталова О.В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учитель мате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НРМОУ «Сингапай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7" descr=""/>
          <p:cNvPicPr/>
          <p:nvPr/>
        </p:nvPicPr>
        <p:blipFill>
          <a:blip r:embed="rId1"/>
          <a:stretch/>
        </p:blipFill>
        <p:spPr>
          <a:xfrm>
            <a:off x="5724360" y="2565360"/>
            <a:ext cx="1403640" cy="1862280"/>
          </a:xfrm>
          <a:prstGeom prst="rect">
            <a:avLst/>
          </a:prstGeom>
          <a:ln w="0">
            <a:noFill/>
          </a:ln>
        </p:spPr>
      </p:pic>
      <p:sp>
        <p:nvSpPr>
          <p:cNvPr id="281" name="Line 19"/>
          <p:cNvSpPr/>
          <p:nvPr/>
        </p:nvSpPr>
        <p:spPr>
          <a:xfrm>
            <a:off x="0" y="2781360"/>
            <a:ext cx="914400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826920" y="836640"/>
            <a:ext cx="79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втомашина движетс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о скоростью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м/ч.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акой </a:t>
            </a:r>
            <a:r>
              <a:rPr b="1" lang="ru-RU" sz="3200" spc="-1" strike="noStrike" u="sng">
                <a:solidFill>
                  <a:srgbClr val="6600cc"/>
                </a:solidFill>
                <a:uFillTx/>
                <a:latin typeface="Arial"/>
              </a:rPr>
              <a:t>путь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ошла автомашин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 2ч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?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За 3ч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14" descr=""/>
          <p:cNvPicPr/>
          <p:nvPr/>
        </p:nvPicPr>
        <p:blipFill>
          <a:blip r:embed="rId2"/>
          <a:stretch/>
        </p:blipFill>
        <p:spPr>
          <a:xfrm>
            <a:off x="360360" y="2911320"/>
            <a:ext cx="1979640" cy="14544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1" descr=""/>
          <p:cNvPicPr/>
          <p:nvPr/>
        </p:nvPicPr>
        <p:blipFill>
          <a:blip r:embed="rId3"/>
          <a:stretch/>
        </p:blipFill>
        <p:spPr>
          <a:xfrm>
            <a:off x="7380360" y="2565360"/>
            <a:ext cx="1482480" cy="21891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4" descr=""/>
          <p:cNvPicPr/>
          <p:nvPr/>
        </p:nvPicPr>
        <p:blipFill>
          <a:blip r:embed="rId4"/>
          <a:stretch/>
        </p:blipFill>
        <p:spPr>
          <a:xfrm>
            <a:off x="4427640" y="2492280"/>
            <a:ext cx="1066680" cy="1575000"/>
          </a:xfrm>
          <a:prstGeom prst="rect">
            <a:avLst/>
          </a:prstGeom>
          <a:ln w="0">
            <a:noFill/>
          </a:ln>
        </p:spPr>
      </p:pic>
      <p:sp>
        <p:nvSpPr>
          <p:cNvPr id="286" name="Line 20"/>
          <p:cNvSpPr/>
          <p:nvPr/>
        </p:nvSpPr>
        <p:spPr>
          <a:xfrm>
            <a:off x="0" y="3933720"/>
            <a:ext cx="8244000" cy="292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33" descr=""/>
          <p:cNvPicPr/>
          <p:nvPr/>
        </p:nvPicPr>
        <p:blipFill>
          <a:blip r:embed="rId5"/>
          <a:stretch/>
        </p:blipFill>
        <p:spPr>
          <a:xfrm>
            <a:off x="2627280" y="4076640"/>
            <a:ext cx="1066680" cy="1575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4" descr=""/>
          <p:cNvPicPr/>
          <p:nvPr/>
        </p:nvPicPr>
        <p:blipFill>
          <a:blip r:embed="rId6"/>
          <a:stretch/>
        </p:blipFill>
        <p:spPr>
          <a:xfrm>
            <a:off x="3774960" y="4437000"/>
            <a:ext cx="1359000" cy="20066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5" descr=""/>
          <p:cNvPicPr/>
          <p:nvPr/>
        </p:nvPicPr>
        <p:blipFill>
          <a:blip r:embed="rId7"/>
          <a:stretch/>
        </p:blipFill>
        <p:spPr>
          <a:xfrm>
            <a:off x="5172120" y="4653000"/>
            <a:ext cx="1492200" cy="2205000"/>
          </a:xfrm>
          <a:prstGeom prst="rect">
            <a:avLst/>
          </a:prstGeom>
          <a:ln w="0">
            <a:noFill/>
          </a:ln>
        </p:spPr>
      </p:pic>
      <p:grpSp>
        <p:nvGrpSpPr>
          <p:cNvPr id="290" name="Group 38"/>
          <p:cNvGrpSpPr/>
          <p:nvPr/>
        </p:nvGrpSpPr>
        <p:grpSpPr>
          <a:xfrm>
            <a:off x="1260360" y="0"/>
            <a:ext cx="6696360" cy="936360"/>
            <a:chOff x="1260360" y="0"/>
            <a:chExt cx="6696360" cy="936360"/>
          </a:xfrm>
        </p:grpSpPr>
        <p:sp>
          <p:nvSpPr>
            <p:cNvPr id="291" name="AutoShape 37"/>
            <p:cNvSpPr/>
            <p:nvPr/>
          </p:nvSpPr>
          <p:spPr>
            <a:xfrm>
              <a:off x="1260360" y="0"/>
              <a:ext cx="6696360" cy="936360"/>
            </a:xfrm>
            <a:prstGeom prst="horizontalScroll">
              <a:avLst>
                <a:gd name="adj" fmla="val 125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WordArt 36"/>
            <p:cNvSpPr txBox="1"/>
            <p:nvPr/>
          </p:nvSpPr>
          <p:spPr>
            <a:xfrm>
              <a:off x="2413080" y="215640"/>
              <a:ext cx="439236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Задачная</a:t>
              </a:r>
              <a:endPara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9ed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6012000" y="2997360"/>
            <a:ext cx="1185840" cy="1573200"/>
          </a:xfrm>
          <a:prstGeom prst="rect">
            <a:avLst/>
          </a:prstGeom>
          <a:ln w="0">
            <a:noFill/>
          </a:ln>
        </p:spPr>
      </p:pic>
      <p:sp>
        <p:nvSpPr>
          <p:cNvPr id="295" name="Line 3"/>
          <p:cNvSpPr/>
          <p:nvPr/>
        </p:nvSpPr>
        <p:spPr>
          <a:xfrm>
            <a:off x="0" y="2781360"/>
            <a:ext cx="914400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250920" y="765000"/>
            <a:ext cx="8569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втомашина движетс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о скоростью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м/ч.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акой </a:t>
            </a:r>
            <a:r>
              <a:rPr b="1" lang="ru-RU" sz="3200" spc="-1" strike="noStrike" u="sng">
                <a:solidFill>
                  <a:srgbClr val="6600cc"/>
                </a:solidFill>
                <a:uFillTx/>
                <a:latin typeface="Arial"/>
              </a:rPr>
              <a:t>путь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ошл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втомашин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 9ч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? 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За       ч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5" descr=""/>
          <p:cNvPicPr/>
          <p:nvPr/>
        </p:nvPicPr>
        <p:blipFill>
          <a:blip r:embed="rId2"/>
          <a:stretch/>
        </p:blipFill>
        <p:spPr>
          <a:xfrm>
            <a:off x="576360" y="2982960"/>
            <a:ext cx="1979640" cy="14540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" descr=""/>
          <p:cNvPicPr/>
          <p:nvPr/>
        </p:nvPicPr>
        <p:blipFill>
          <a:blip r:embed="rId3"/>
          <a:stretch/>
        </p:blipFill>
        <p:spPr>
          <a:xfrm>
            <a:off x="7661160" y="2997360"/>
            <a:ext cx="1190880" cy="1757160"/>
          </a:xfrm>
          <a:prstGeom prst="rect">
            <a:avLst/>
          </a:prstGeom>
          <a:ln w="0">
            <a:noFill/>
          </a:ln>
        </p:spPr>
      </p:pic>
      <p:sp>
        <p:nvSpPr>
          <p:cNvPr id="299" name="Line 8"/>
          <p:cNvSpPr/>
          <p:nvPr/>
        </p:nvSpPr>
        <p:spPr>
          <a:xfrm>
            <a:off x="0" y="3933720"/>
            <a:ext cx="8244000" cy="292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7" descr=""/>
          <p:cNvPicPr/>
          <p:nvPr/>
        </p:nvPicPr>
        <p:blipFill>
          <a:blip r:embed="rId4"/>
          <a:stretch/>
        </p:blipFill>
        <p:spPr>
          <a:xfrm>
            <a:off x="2627280" y="4076640"/>
            <a:ext cx="1066680" cy="1575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0" descr=""/>
          <p:cNvPicPr/>
          <p:nvPr/>
        </p:nvPicPr>
        <p:blipFill>
          <a:blip r:embed="rId5"/>
          <a:stretch/>
        </p:blipFill>
        <p:spPr>
          <a:xfrm>
            <a:off x="3774960" y="4437000"/>
            <a:ext cx="1359000" cy="20066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1" descr=""/>
          <p:cNvPicPr/>
          <p:nvPr/>
        </p:nvPicPr>
        <p:blipFill>
          <a:blip r:embed="rId6"/>
          <a:stretch/>
        </p:blipFill>
        <p:spPr>
          <a:xfrm>
            <a:off x="5172120" y="4653000"/>
            <a:ext cx="1492200" cy="2205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2" descr=""/>
          <p:cNvPicPr/>
          <p:nvPr/>
        </p:nvPicPr>
        <p:blipFill>
          <a:blip r:embed="rId7"/>
          <a:stretch/>
        </p:blipFill>
        <p:spPr>
          <a:xfrm>
            <a:off x="4716360" y="2924280"/>
            <a:ext cx="849240" cy="1253880"/>
          </a:xfrm>
          <a:prstGeom prst="rect">
            <a:avLst/>
          </a:prstGeom>
          <a:ln w="0">
            <a:noFill/>
          </a:ln>
        </p:spPr>
      </p:pic>
      <p:grpSp>
        <p:nvGrpSpPr>
          <p:cNvPr id="304" name="Group 13"/>
          <p:cNvGrpSpPr/>
          <p:nvPr/>
        </p:nvGrpSpPr>
        <p:grpSpPr>
          <a:xfrm>
            <a:off x="1260360" y="0"/>
            <a:ext cx="6696360" cy="936360"/>
            <a:chOff x="1260360" y="0"/>
            <a:chExt cx="6696360" cy="936360"/>
          </a:xfrm>
        </p:grpSpPr>
        <p:sp>
          <p:nvSpPr>
            <p:cNvPr id="305" name="AutoShape 14"/>
            <p:cNvSpPr/>
            <p:nvPr/>
          </p:nvSpPr>
          <p:spPr>
            <a:xfrm>
              <a:off x="1260360" y="0"/>
              <a:ext cx="6696360" cy="936360"/>
            </a:xfrm>
            <a:prstGeom prst="horizontalScroll">
              <a:avLst>
                <a:gd name="adj" fmla="val 125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WordArt 15"/>
            <p:cNvSpPr txBox="1"/>
            <p:nvPr/>
          </p:nvSpPr>
          <p:spPr>
            <a:xfrm>
              <a:off x="2413080" y="215640"/>
              <a:ext cx="439236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Задачная</a:t>
              </a:r>
              <a:endPara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07" name="Group 22"/>
          <p:cNvGrpSpPr/>
          <p:nvPr/>
        </p:nvGrpSpPr>
        <p:grpSpPr>
          <a:xfrm>
            <a:off x="1116000" y="1387440"/>
            <a:ext cx="863640" cy="891720"/>
            <a:chOff x="1116000" y="1387440"/>
            <a:chExt cx="863640" cy="891720"/>
          </a:xfrm>
        </p:grpSpPr>
        <p:sp>
          <p:nvSpPr>
            <p:cNvPr id="308" name="Text Box 18"/>
            <p:cNvSpPr/>
            <p:nvPr/>
          </p:nvSpPr>
          <p:spPr>
            <a:xfrm>
              <a:off x="1116000" y="138744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7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19"/>
            <p:cNvSpPr/>
            <p:nvPr/>
          </p:nvSpPr>
          <p:spPr>
            <a:xfrm>
              <a:off x="1258920" y="18194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21"/>
            <p:cNvSpPr/>
            <p:nvPr/>
          </p:nvSpPr>
          <p:spPr>
            <a:xfrm>
              <a:off x="1116000" y="181944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23"/>
          <p:cNvGrpSpPr/>
          <p:nvPr/>
        </p:nvGrpSpPr>
        <p:grpSpPr>
          <a:xfrm>
            <a:off x="6804000" y="2060640"/>
            <a:ext cx="863640" cy="891360"/>
            <a:chOff x="6804000" y="2060640"/>
            <a:chExt cx="863640" cy="891360"/>
          </a:xfrm>
        </p:grpSpPr>
        <p:sp>
          <p:nvSpPr>
            <p:cNvPr id="312" name="Text Box 24"/>
            <p:cNvSpPr/>
            <p:nvPr/>
          </p:nvSpPr>
          <p:spPr>
            <a:xfrm>
              <a:off x="6804000" y="206064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25"/>
            <p:cNvSpPr/>
            <p:nvPr/>
          </p:nvSpPr>
          <p:spPr>
            <a:xfrm>
              <a:off x="6946920" y="24922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26"/>
            <p:cNvSpPr/>
            <p:nvPr/>
          </p:nvSpPr>
          <p:spPr>
            <a:xfrm>
              <a:off x="6804000" y="249228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38040" y="277920"/>
            <a:ext cx="64292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Ответ к задач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971640" y="1916280"/>
            <a:ext cx="7488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19" descr="j0250659"/>
          <p:cNvPicPr/>
          <p:nvPr/>
        </p:nvPicPr>
        <p:blipFill>
          <a:blip r:embed="rId1"/>
          <a:stretch/>
        </p:blipFill>
        <p:spPr>
          <a:xfrm>
            <a:off x="6956280" y="0"/>
            <a:ext cx="2187720" cy="1770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0" descr="j0336336"/>
          <p:cNvPicPr/>
          <p:nvPr/>
        </p:nvPicPr>
        <p:blipFill>
          <a:blip r:embed="rId2"/>
          <a:stretch/>
        </p:blipFill>
        <p:spPr>
          <a:xfrm>
            <a:off x="395280" y="907920"/>
            <a:ext cx="1352520" cy="120024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35"/>
          <p:cNvSpPr/>
          <p:nvPr/>
        </p:nvSpPr>
        <p:spPr>
          <a:xfrm>
            <a:off x="7812000" y="27050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(к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Object 51"/>
          <p:cNvGraphicFramePr/>
          <p:nvPr/>
        </p:nvGraphicFramePr>
        <p:xfrm>
          <a:off x="395280" y="2421000"/>
          <a:ext cx="971640" cy="115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2" name="Object 5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2421000"/>
                    <a:ext cx="97164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Text Box 54"/>
          <p:cNvSpPr/>
          <p:nvPr/>
        </p:nvSpPr>
        <p:spPr>
          <a:xfrm>
            <a:off x="1692360" y="2565360"/>
            <a:ext cx="107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55"/>
          <p:cNvSpPr/>
          <p:nvPr/>
        </p:nvSpPr>
        <p:spPr>
          <a:xfrm>
            <a:off x="1476360" y="292428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Object 56"/>
          <p:cNvGraphicFramePr/>
          <p:nvPr/>
        </p:nvGraphicFramePr>
        <p:xfrm>
          <a:off x="2484360" y="2349360"/>
          <a:ext cx="4095720" cy="123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6" name="Object 5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84360" y="2349360"/>
                    <a:ext cx="409572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Text Box 57"/>
          <p:cNvSpPr/>
          <p:nvPr/>
        </p:nvSpPr>
        <p:spPr>
          <a:xfrm>
            <a:off x="6516720" y="2637000"/>
            <a:ext cx="15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=5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8"/>
          <p:cNvSpPr/>
          <p:nvPr/>
        </p:nvSpPr>
        <p:spPr>
          <a:xfrm>
            <a:off x="4211640" y="2414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9"/>
          <p:cNvSpPr/>
          <p:nvPr/>
        </p:nvSpPr>
        <p:spPr>
          <a:xfrm>
            <a:off x="3635280" y="29908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60"/>
          <p:cNvSpPr/>
          <p:nvPr/>
        </p:nvSpPr>
        <p:spPr>
          <a:xfrm>
            <a:off x="3635280" y="2637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61"/>
          <p:cNvSpPr/>
          <p:nvPr/>
        </p:nvSpPr>
        <p:spPr>
          <a:xfrm>
            <a:off x="5938920" y="2637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75"/>
          <p:cNvSpPr/>
          <p:nvPr/>
        </p:nvSpPr>
        <p:spPr>
          <a:xfrm>
            <a:off x="7164360" y="42894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(к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76"/>
          <p:cNvSpPr/>
          <p:nvPr/>
        </p:nvSpPr>
        <p:spPr>
          <a:xfrm>
            <a:off x="324000" y="580536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Ответ</a:t>
            </a:r>
            <a:r>
              <a:rPr b="0" i="1" lang="ru-RU" sz="36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 машина пройдёт 516 км и 14    к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Object 77"/>
          <p:cNvGraphicFramePr/>
          <p:nvPr/>
        </p:nvGraphicFramePr>
        <p:xfrm>
          <a:off x="7975440" y="5734080"/>
          <a:ext cx="341640" cy="71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5" name="Object 7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975440" y="5734080"/>
                    <a:ext cx="34164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6" name="Group 81"/>
          <p:cNvGrpSpPr/>
          <p:nvPr/>
        </p:nvGrpSpPr>
        <p:grpSpPr>
          <a:xfrm>
            <a:off x="468360" y="3860640"/>
            <a:ext cx="6720840" cy="1224000"/>
            <a:chOff x="468360" y="3860640"/>
            <a:chExt cx="6720840" cy="1224000"/>
          </a:xfrm>
        </p:grpSpPr>
        <p:grpSp>
          <p:nvGrpSpPr>
            <p:cNvPr id="337" name="Group 79"/>
            <p:cNvGrpSpPr/>
            <p:nvPr/>
          </p:nvGrpSpPr>
          <p:grpSpPr>
            <a:xfrm>
              <a:off x="468360" y="3860640"/>
              <a:ext cx="6720840" cy="1224000"/>
              <a:chOff x="468360" y="3860640"/>
              <a:chExt cx="6720840" cy="1224000"/>
            </a:xfrm>
          </p:grpSpPr>
          <p:grpSp>
            <p:nvGrpSpPr>
              <p:cNvPr id="338" name="Group 78"/>
              <p:cNvGrpSpPr/>
              <p:nvPr/>
            </p:nvGrpSpPr>
            <p:grpSpPr>
              <a:xfrm>
                <a:off x="468360" y="3860640"/>
                <a:ext cx="6720840" cy="1224000"/>
                <a:chOff x="468360" y="3860640"/>
                <a:chExt cx="6720840" cy="1224000"/>
              </a:xfrm>
            </p:grpSpPr>
            <p:graphicFrame>
              <p:nvGraphicFramePr>
                <p:cNvPr id="339" name="Object 62"/>
                <p:cNvGraphicFramePr/>
                <p:nvPr/>
              </p:nvGraphicFramePr>
              <p:xfrm>
                <a:off x="1692000" y="3931920"/>
                <a:ext cx="661680" cy="105876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340" name="Object 62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1692000" y="3931920"/>
                          <a:ext cx="661680" cy="1058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41" name="Line 68"/>
                <p:cNvSpPr/>
                <p:nvPr/>
              </p:nvSpPr>
              <p:spPr>
                <a:xfrm flipH="1">
                  <a:off x="3852360" y="4579560"/>
                  <a:ext cx="504360" cy="36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2" name="Group 74"/>
                <p:cNvGrpSpPr/>
                <p:nvPr/>
              </p:nvGrpSpPr>
              <p:grpSpPr>
                <a:xfrm>
                  <a:off x="468360" y="3860640"/>
                  <a:ext cx="6720840" cy="1224000"/>
                  <a:chOff x="468360" y="3860640"/>
                  <a:chExt cx="6720840" cy="1224000"/>
                </a:xfrm>
              </p:grpSpPr>
              <p:pic>
                <p:nvPicPr>
                  <p:cNvPr id="343" name="Picture 5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8360" y="3932280"/>
                    <a:ext cx="97128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4" name="Oval 63"/>
                  <p:cNvSpPr/>
                  <p:nvPr/>
                </p:nvSpPr>
                <p:spPr>
                  <a:xfrm>
                    <a:off x="1476000" y="4437000"/>
                    <a:ext cx="142560" cy="142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345" name="Object 64"/>
                  <p:cNvGraphicFramePr/>
                  <p:nvPr/>
                </p:nvGraphicFramePr>
                <p:xfrm>
                  <a:off x="2341080" y="3994200"/>
                  <a:ext cx="2016000" cy="1025640"/>
                </p:xfrm>
                <a:graphic>
                  <a:graphicData uri="http://schemas.openxmlformats.org/presentationml/2006/ole">
                    <p:oleObj r:id="rId12" spid="">
                      <p:embed/>
                      <p:pic>
                        <p:nvPicPr>
                          <p:cNvPr id="346" name="Object 64" descr=""/>
                          <p:cNvPicPr/>
                          <p:nvPr/>
                        </p:nvPicPr>
                        <p:blipFill>
                          <a:blip r:embed="rId13"/>
                          <a:stretch/>
                        </p:blipFill>
                        <p:spPr>
                          <a:xfrm>
                            <a:off x="2341080" y="3994200"/>
                            <a:ext cx="2016000" cy="102564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347" name="Oval 65"/>
                  <p:cNvSpPr/>
                  <p:nvPr/>
                </p:nvSpPr>
                <p:spPr>
                  <a:xfrm>
                    <a:off x="3708000" y="4219560"/>
                    <a:ext cx="72720" cy="73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Oval 66"/>
                  <p:cNvSpPr/>
                  <p:nvPr/>
                </p:nvSpPr>
                <p:spPr>
                  <a:xfrm>
                    <a:off x="3565080" y="4722840"/>
                    <a:ext cx="72720" cy="73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Text Box 69"/>
                  <p:cNvSpPr/>
                  <p:nvPr/>
                </p:nvSpPr>
                <p:spPr>
                  <a:xfrm>
                    <a:off x="4214520" y="4502160"/>
                    <a:ext cx="358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Text Box 70"/>
                  <p:cNvSpPr/>
                  <p:nvPr/>
                </p:nvSpPr>
                <p:spPr>
                  <a:xfrm>
                    <a:off x="3492360" y="3860640"/>
                    <a:ext cx="504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000000"/>
                        </a:solidFill>
                        <a:latin typeface="Arial"/>
                      </a:rPr>
                      <a:t>4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351" name="Object 71"/>
                  <p:cNvGraphicFramePr/>
                  <p:nvPr/>
                </p:nvGraphicFramePr>
                <p:xfrm>
                  <a:off x="4428720" y="3971880"/>
                  <a:ext cx="1152360" cy="1020960"/>
                </p:xfrm>
                <a:graphic>
                  <a:graphicData uri="http://schemas.openxmlformats.org/presentationml/2006/ole">
                    <p:oleObj r:id="rId14" spid="">
                      <p:embed/>
                      <p:pic>
                        <p:nvPicPr>
                          <p:cNvPr id="352" name="Object 71" descr=""/>
                          <p:cNvPicPr/>
                          <p:nvPr/>
                        </p:nvPicPr>
                        <p:blipFill>
                          <a:blip r:embed="rId15"/>
                          <a:stretch/>
                        </p:blipFill>
                        <p:spPr>
                          <a:xfrm>
                            <a:off x="4428720" y="3971880"/>
                            <a:ext cx="1152360" cy="10209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353" name="Text Box 72"/>
                  <p:cNvSpPr/>
                  <p:nvPr/>
                </p:nvSpPr>
                <p:spPr>
                  <a:xfrm>
                    <a:off x="5508360" y="4076640"/>
                    <a:ext cx="1296720" cy="764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7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4400" spc="-1" strike="noStrike">
                        <a:solidFill>
                          <a:srgbClr val="000000"/>
                        </a:solidFill>
                        <a:latin typeface="Arial"/>
                      </a:rPr>
                      <a:t>=</a:t>
                    </a:r>
                    <a:r>
                      <a:rPr b="1" lang="ru-RU" sz="4400" spc="-1" strike="noStrike">
                        <a:solidFill>
                          <a:srgbClr val="000000"/>
                        </a:solidFill>
                        <a:latin typeface="Arial"/>
                      </a:rPr>
                      <a:t>14</a:t>
                    </a:r>
                    <a:endParaRPr b="0" lang="en-US" sz="4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354" name="Object 73"/>
                  <p:cNvGraphicFramePr/>
                  <p:nvPr/>
                </p:nvGraphicFramePr>
                <p:xfrm>
                  <a:off x="6660720" y="4003560"/>
                  <a:ext cx="528480" cy="1009800"/>
                </p:xfrm>
                <a:graphic>
                  <a:graphicData uri="http://schemas.openxmlformats.org/presentationml/2006/ole">
                    <p:oleObj r:id="rId16" spid="">
                      <p:embed/>
                      <p:pic>
                        <p:nvPicPr>
                          <p:cNvPr id="355" name="Object 73" descr=""/>
                          <p:cNvPicPr/>
                          <p:nvPr/>
                        </p:nvPicPr>
                        <p:blipFill>
                          <a:blip r:embed="rId17"/>
                          <a:stretch/>
                        </p:blipFill>
                        <p:spPr>
                          <a:xfrm>
                            <a:off x="6660720" y="4003560"/>
                            <a:ext cx="528480" cy="10098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</p:grpSp>
          <p:sp>
            <p:nvSpPr>
              <p:cNvPr id="356" name="Line 67"/>
              <p:cNvSpPr/>
              <p:nvPr/>
            </p:nvSpPr>
            <p:spPr>
              <a:xfrm flipH="1">
                <a:off x="2628720" y="4003560"/>
                <a:ext cx="93672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Line 80"/>
            <p:cNvSpPr/>
            <p:nvPr/>
          </p:nvSpPr>
          <p:spPr>
            <a:xfrm flipH="1">
              <a:off x="3924000" y="4579920"/>
              <a:ext cx="36036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ccecff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1354" descr="36"/>
          <p:cNvPicPr/>
          <p:nvPr/>
        </p:nvPicPr>
        <p:blipFill>
          <a:blip r:embed="rId1"/>
          <a:stretch/>
        </p:blipFill>
        <p:spPr>
          <a:xfrm>
            <a:off x="5092560" y="0"/>
            <a:ext cx="4051440" cy="45370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355" descr="5"/>
          <p:cNvPicPr/>
          <p:nvPr/>
        </p:nvPicPr>
        <p:blipFill>
          <a:blip r:embed="rId2"/>
          <a:stretch/>
        </p:blipFill>
        <p:spPr>
          <a:xfrm>
            <a:off x="71280" y="388800"/>
            <a:ext cx="4140360" cy="347184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1356"/>
          <p:cNvSpPr/>
          <p:nvPr/>
        </p:nvSpPr>
        <p:spPr>
          <a:xfrm>
            <a:off x="611280" y="4340160"/>
            <a:ext cx="82818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ена 1 кг черешни      сотни рублей. Персики 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в       раза дорож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тавь вопросы к задач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364"/>
          <p:cNvSpPr/>
          <p:nvPr/>
        </p:nvSpPr>
        <p:spPr>
          <a:xfrm>
            <a:off x="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Object 1371"/>
          <p:cNvGraphicFramePr/>
          <p:nvPr/>
        </p:nvGraphicFramePr>
        <p:xfrm>
          <a:off x="4776840" y="4149720"/>
          <a:ext cx="515880" cy="79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4" name="Object 137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76840" y="4149720"/>
                    <a:ext cx="5158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1372"/>
          <p:cNvGraphicFramePr/>
          <p:nvPr/>
        </p:nvGraphicFramePr>
        <p:xfrm>
          <a:off x="3139920" y="4869000"/>
          <a:ext cx="60516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6" name="Object 13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9920" y="4869000"/>
                    <a:ext cx="6051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Control 2"/>
          <p:cNvSpPr/>
          <p:nvPr/>
        </p:nvSpPr>
        <p:spPr>
          <a:xfrm>
            <a:off x="2727360" y="4645080"/>
            <a:ext cx="1971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8"/>
          <p:cNvGrpSpPr/>
          <p:nvPr/>
        </p:nvGrpSpPr>
        <p:grpSpPr>
          <a:xfrm>
            <a:off x="0" y="0"/>
            <a:ext cx="4140360" cy="3500280"/>
            <a:chOff x="0" y="0"/>
            <a:chExt cx="4140360" cy="3500280"/>
          </a:xfrm>
        </p:grpSpPr>
        <p:pic>
          <p:nvPicPr>
            <p:cNvPr id="370" name="Picture 4" descr="j025203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140360" cy="35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Oval 5"/>
            <p:cNvSpPr/>
            <p:nvPr/>
          </p:nvSpPr>
          <p:spPr>
            <a:xfrm>
              <a:off x="2853720" y="875880"/>
              <a:ext cx="730080" cy="688320"/>
            </a:xfrm>
            <a:prstGeom prst="ellipse">
              <a:avLst/>
            </a:prstGeom>
            <a:solidFill>
              <a:srgbClr val="e927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6"/>
            <p:cNvSpPr/>
            <p:nvPr/>
          </p:nvSpPr>
          <p:spPr>
            <a:xfrm>
              <a:off x="2986920" y="1752120"/>
              <a:ext cx="465120" cy="438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7"/>
            <p:cNvSpPr/>
            <p:nvPr/>
          </p:nvSpPr>
          <p:spPr>
            <a:xfrm>
              <a:off x="2986920" y="2377080"/>
              <a:ext cx="465120" cy="4384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4462560" y="0"/>
            <a:ext cx="4681440" cy="1368360"/>
            <a:chOff x="4462560" y="0"/>
            <a:chExt cx="4681440" cy="1368360"/>
          </a:xfrm>
        </p:grpSpPr>
        <p:sp>
          <p:nvSpPr>
            <p:cNvPr id="375" name="AutoShape 11"/>
            <p:cNvSpPr/>
            <p:nvPr/>
          </p:nvSpPr>
          <p:spPr>
            <a:xfrm>
              <a:off x="4462560" y="0"/>
              <a:ext cx="4681440" cy="1368360"/>
            </a:xfrm>
            <a:prstGeom prst="horizontalScroll">
              <a:avLst>
                <a:gd name="adj" fmla="val 12500"/>
              </a:avLst>
            </a:prstGeom>
            <a:solidFill>
              <a:srgbClr val="f41f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WordArt 10"/>
            <p:cNvSpPr txBox="1"/>
            <p:nvPr/>
          </p:nvSpPr>
          <p:spPr>
            <a:xfrm>
              <a:off x="4751640" y="215640"/>
              <a:ext cx="4248000" cy="86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Светофор</a:t>
              </a:r>
              <a:endPara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77" name="Group 13"/>
          <p:cNvGrpSpPr/>
          <p:nvPr/>
        </p:nvGrpSpPr>
        <p:grpSpPr>
          <a:xfrm>
            <a:off x="4500720" y="1197000"/>
            <a:ext cx="4576680" cy="2665440"/>
            <a:chOff x="4500720" y="1197000"/>
            <a:chExt cx="4576680" cy="2665440"/>
          </a:xfrm>
        </p:grpSpPr>
        <p:pic>
          <p:nvPicPr>
            <p:cNvPr id="378" name="Picture 14" descr="78"/>
            <p:cNvPicPr/>
            <p:nvPr/>
          </p:nvPicPr>
          <p:blipFill>
            <a:blip r:embed="rId2"/>
            <a:stretch/>
          </p:blipFill>
          <p:spPr>
            <a:xfrm>
              <a:off x="4500720" y="1197000"/>
              <a:ext cx="4576680" cy="266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9" name="Group 15"/>
            <p:cNvGrpSpPr/>
            <p:nvPr/>
          </p:nvGrpSpPr>
          <p:grpSpPr>
            <a:xfrm>
              <a:off x="5627160" y="2494800"/>
              <a:ext cx="2973600" cy="649800"/>
              <a:chOff x="5627160" y="2494800"/>
              <a:chExt cx="2973600" cy="649800"/>
            </a:xfrm>
          </p:grpSpPr>
          <p:sp>
            <p:nvSpPr>
              <p:cNvPr id="380" name="AutoShape 16"/>
              <p:cNvSpPr/>
              <p:nvPr/>
            </p:nvSpPr>
            <p:spPr>
              <a:xfrm>
                <a:off x="5627160" y="2494800"/>
                <a:ext cx="2973600" cy="649800"/>
              </a:xfrm>
              <a:custGeom>
                <a:avLst/>
                <a:gdLst>
                  <a:gd name="textAreaLeft" fmla="*/ 743400 w 2973600"/>
                  <a:gd name="textAreaRight" fmla="*/ 2230200 w 2973600"/>
                  <a:gd name="textAreaTop" fmla="*/ 162360 h 649800"/>
                  <a:gd name="textAreaBottom" fmla="*/ 630720 h 649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6200"/>
                    </a:moveTo>
                    <a:arcTo wR="21600" hR="20153" stAng="7304956" swAng="-976834"/>
                    <a:lnTo>
                      <a:pt x="5400" y="20960"/>
                    </a:lnTo>
                    <a:arcTo wR="21600" hR="20153" stAng="6328122" swAng="-1856244"/>
                    <a:lnTo>
                      <a:pt x="16200" y="18260"/>
                    </a:lnTo>
                    <a:arcTo wR="21600" hR="20153" stAng="4471878" swAng="-976834"/>
                    <a:lnTo>
                      <a:pt x="18900" y="9329"/>
                    </a:lnTo>
                    <a:lnTo>
                      <a:pt x="21600" y="0"/>
                    </a:lnTo>
                    <a:lnTo>
                      <a:pt x="21600" y="0"/>
                    </a:lnTo>
                    <a:arcTo wR="21600" hR="20153" stAng="3495044" swAng="1443536"/>
                    <a:lnTo>
                      <a:pt x="13500" y="5242"/>
                    </a:lnTo>
                    <a:arcTo wR="21600" hR="20153" stAng="4938580" swAng="922840"/>
                    <a:lnTo>
                      <a:pt x="8100" y="2542"/>
                    </a:lnTo>
                    <a:arcTo wR="21600" hR="20153" stAng="5861420" swAng="1443536"/>
                    <a:lnTo>
                      <a:pt x="2700" y="9329"/>
                    </a:lnTo>
                    <a:close/>
                  </a:path>
                  <a:path fill="none" w="21600" h="21600">
                    <a:moveTo>
                      <a:pt x="8100" y="5242"/>
                    </a:moveTo>
                    <a:arcTo wR="21600" hR="20153" stAng="5861420" swAng="466702"/>
                    <a:lnTo>
                      <a:pt x="8100" y="2542"/>
                    </a:lnTo>
                  </a:path>
                  <a:path fill="none" w="21600" h="21600">
                    <a:moveTo>
                      <a:pt x="13500" y="5242"/>
                    </a:moveTo>
                    <a:arcTo wR="21600" hR="20153" stAng="4938580" swAng="-466702"/>
                    <a:lnTo>
                      <a:pt x="13500" y="2542"/>
                    </a:lnTo>
                  </a:path>
                  <a:path fill="none" w="21600" h="21600">
                    <a:moveTo>
                      <a:pt x="5400" y="18260"/>
                    </a:moveTo>
                    <a:lnTo>
                      <a:pt x="5400" y="4760"/>
                    </a:lnTo>
                  </a:path>
                  <a:path fill="none" w="21600" h="21600">
                    <a:moveTo>
                      <a:pt x="16200" y="18260"/>
                    </a:moveTo>
                    <a:lnTo>
                      <a:pt x="16200" y="4760"/>
                    </a:lnTo>
                  </a:path>
                </a:pathLst>
              </a:custGeom>
              <a:solidFill>
                <a:srgbClr val="89a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WordArt 17"/>
              <p:cNvSpPr txBox="1"/>
              <p:nvPr/>
            </p:nvSpPr>
            <p:spPr>
              <a:xfrm>
                <a:off x="6300000" y="2611800"/>
                <a:ext cx="1580760" cy="501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школьный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382" name="Rectangle 18"/>
          <p:cNvSpPr/>
          <p:nvPr/>
        </p:nvSpPr>
        <p:spPr>
          <a:xfrm>
            <a:off x="179280" y="3716280"/>
            <a:ext cx="7345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9" descr="j0189242"/>
          <p:cNvPicPr/>
          <p:nvPr/>
        </p:nvPicPr>
        <p:blipFill>
          <a:blip r:embed="rId3"/>
          <a:stretch/>
        </p:blipFill>
        <p:spPr>
          <a:xfrm>
            <a:off x="2771640" y="765000"/>
            <a:ext cx="925560" cy="93528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20"/>
          <p:cNvSpPr/>
          <p:nvPr/>
        </p:nvSpPr>
        <p:spPr>
          <a:xfrm>
            <a:off x="0" y="449568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На 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«3»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№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 457 а-г),                         на 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«4»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№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463 а)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на 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«5» Составить задач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4" descr="1"/>
          <p:cNvPicPr/>
          <p:nvPr/>
        </p:nvPicPr>
        <p:blipFill>
          <a:blip r:embed="rId1"/>
          <a:stretch/>
        </p:blipFill>
        <p:spPr>
          <a:xfrm>
            <a:off x="5915160" y="0"/>
            <a:ext cx="3228840" cy="458136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8"/>
          <p:cNvSpPr/>
          <p:nvPr/>
        </p:nvSpPr>
        <p:spPr>
          <a:xfrm>
            <a:off x="179280" y="0"/>
            <a:ext cx="6120000" cy="158436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11"/>
              <p:cNvSpPr txBox="1"/>
              <p:nvPr/>
            </p:nvSpPr>
            <p:spPr>
              <a:xfrm>
                <a:off x="755640" y="1557360"/>
                <a:ext cx="4176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0" name="Rectangle 1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Object 13"/>
              <p:cNvSpPr txBox="1"/>
              <p:nvPr/>
            </p:nvSpPr>
            <p:spPr>
              <a:xfrm>
                <a:off x="1638360" y="1596960"/>
                <a:ext cx="3492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2" name="Oval 16"/>
          <p:cNvSpPr/>
          <p:nvPr/>
        </p:nvSpPr>
        <p:spPr>
          <a:xfrm>
            <a:off x="1332000" y="2060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Object 17"/>
              <p:cNvSpPr txBox="1"/>
              <p:nvPr/>
            </p:nvSpPr>
            <p:spPr>
              <a:xfrm>
                <a:off x="739800" y="2565360"/>
                <a:ext cx="4474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5" name="Oval 19"/>
          <p:cNvSpPr/>
          <p:nvPr/>
        </p:nvSpPr>
        <p:spPr>
          <a:xfrm>
            <a:off x="1332000" y="3068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20"/>
              <p:cNvSpPr txBox="1"/>
              <p:nvPr/>
            </p:nvSpPr>
            <p:spPr>
              <a:xfrm>
                <a:off x="1650960" y="2637000"/>
                <a:ext cx="3938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8" name="Rectangle 2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22"/>
              <p:cNvSpPr txBox="1"/>
              <p:nvPr/>
            </p:nvSpPr>
            <p:spPr>
              <a:xfrm>
                <a:off x="755640" y="3716280"/>
                <a:ext cx="3682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0" name="Oval 24"/>
          <p:cNvSpPr/>
          <p:nvPr/>
        </p:nvSpPr>
        <p:spPr>
          <a:xfrm>
            <a:off x="1332000" y="4219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25"/>
              <p:cNvSpPr txBox="1"/>
              <p:nvPr/>
            </p:nvSpPr>
            <p:spPr>
              <a:xfrm>
                <a:off x="1562040" y="3716280"/>
                <a:ext cx="4176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3" name="Rectangle 2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27"/>
              <p:cNvSpPr txBox="1"/>
              <p:nvPr/>
            </p:nvSpPr>
            <p:spPr>
              <a:xfrm>
                <a:off x="684360" y="4869000"/>
                <a:ext cx="4204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5" name="Oval 29"/>
          <p:cNvSpPr/>
          <p:nvPr/>
        </p:nvSpPr>
        <p:spPr>
          <a:xfrm>
            <a:off x="1332000" y="537228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Object 30"/>
              <p:cNvSpPr txBox="1"/>
              <p:nvPr/>
            </p:nvSpPr>
            <p:spPr>
              <a:xfrm>
                <a:off x="1566720" y="4797360"/>
                <a:ext cx="4208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8" name="Rectangle 3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33"/>
              <p:cNvSpPr txBox="1"/>
              <p:nvPr/>
            </p:nvSpPr>
            <p:spPr>
              <a:xfrm>
                <a:off x="3630600" y="2205000"/>
                <a:ext cx="3650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0" name="Oval 35"/>
          <p:cNvSpPr/>
          <p:nvPr/>
        </p:nvSpPr>
        <p:spPr>
          <a:xfrm>
            <a:off x="4140360" y="393372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6"/>
          <p:cNvSpPr/>
          <p:nvPr/>
        </p:nvSpPr>
        <p:spPr>
          <a:xfrm>
            <a:off x="5003640" y="3933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37"/>
          <p:cNvSpPr/>
          <p:nvPr/>
        </p:nvSpPr>
        <p:spPr>
          <a:xfrm>
            <a:off x="4932360" y="2637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38"/>
          <p:cNvSpPr/>
          <p:nvPr/>
        </p:nvSpPr>
        <p:spPr>
          <a:xfrm>
            <a:off x="4140360" y="263700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4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39"/>
              <p:cNvSpPr txBox="1"/>
              <p:nvPr/>
            </p:nvSpPr>
            <p:spPr>
              <a:xfrm>
                <a:off x="4371840" y="2205000"/>
                <a:ext cx="3654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6" name="Rectangle 4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41"/>
              <p:cNvSpPr txBox="1"/>
              <p:nvPr/>
            </p:nvSpPr>
            <p:spPr>
              <a:xfrm>
                <a:off x="5076720" y="2205000"/>
                <a:ext cx="3430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8" name="Rectangle 4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Object 43"/>
              <p:cNvSpPr txBox="1"/>
              <p:nvPr/>
            </p:nvSpPr>
            <p:spPr>
              <a:xfrm>
                <a:off x="3635280" y="3357720"/>
                <a:ext cx="44928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0" name="Rectangle 4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Object 45"/>
              <p:cNvSpPr txBox="1"/>
              <p:nvPr/>
            </p:nvSpPr>
            <p:spPr>
              <a:xfrm>
                <a:off x="4356000" y="3357720"/>
                <a:ext cx="4780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2" name="Rectangle 4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Object 47"/>
              <p:cNvSpPr txBox="1"/>
              <p:nvPr/>
            </p:nvSpPr>
            <p:spPr>
              <a:xfrm>
                <a:off x="3924360" y="4724280"/>
                <a:ext cx="9223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4" name="Text Box 49"/>
          <p:cNvSpPr/>
          <p:nvPr/>
        </p:nvSpPr>
        <p:spPr>
          <a:xfrm>
            <a:off x="5148360" y="364500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WordArt 50"/>
          <p:cNvSpPr txBox="1"/>
          <p:nvPr/>
        </p:nvSpPr>
        <p:spPr>
          <a:xfrm>
            <a:off x="539640" y="404640"/>
            <a:ext cx="5545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нечна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WordArt 4"/>
          <p:cNvSpPr txBox="1"/>
          <p:nvPr/>
        </p:nvSpPr>
        <p:spPr>
          <a:xfrm>
            <a:off x="1500120" y="5072040"/>
            <a:ext cx="6335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елаю удач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8" name="Picture 5" descr="Бабочка"/>
          <p:cNvPicPr/>
          <p:nvPr/>
        </p:nvPicPr>
        <p:blipFill>
          <a:blip r:embed="rId1"/>
          <a:stretch/>
        </p:blipFill>
        <p:spPr>
          <a:xfrm>
            <a:off x="2714760" y="3214800"/>
            <a:ext cx="3528720" cy="24033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8" descr="Бабочка"/>
          <p:cNvPicPr/>
          <p:nvPr/>
        </p:nvPicPr>
        <p:blipFill>
          <a:blip r:embed="rId2"/>
          <a:stretch/>
        </p:blipFill>
        <p:spPr>
          <a:xfrm rot="1735800">
            <a:off x="81000" y="3003120"/>
            <a:ext cx="2881440" cy="19623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9" descr="Бабочка"/>
          <p:cNvPicPr/>
          <p:nvPr/>
        </p:nvPicPr>
        <p:blipFill>
          <a:blip r:embed="rId3"/>
          <a:stretch/>
        </p:blipFill>
        <p:spPr>
          <a:xfrm rot="19701600">
            <a:off x="6514920" y="2395080"/>
            <a:ext cx="2881080" cy="196236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7"/>
          <p:cNvSpPr/>
          <p:nvPr/>
        </p:nvSpPr>
        <p:spPr>
          <a:xfrm>
            <a:off x="1525680" y="500040"/>
            <a:ext cx="36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ff"/>
                </a:solidFill>
                <a:latin typeface="Arial"/>
              </a:rPr>
              <a:t>Список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285840" y="1073520"/>
            <a:ext cx="835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чебник: Виленкин Н.Я. и др.  Математика.   Учебник для  6  класса. М., «Русское слово», 200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4"/>
          <p:cNvSpPr/>
          <p:nvPr/>
        </p:nvSpPr>
        <p:spPr>
          <a:xfrm>
            <a:off x="285840" y="1857240"/>
            <a:ext cx="807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картинки предоставлены руководителем курсов «Интернет-технологии для преподавателей» Дубыниной Е.В., которые проходили в п. Пойковский Нефтеюганского района ХМАО-Югры в 2001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403280" y="476280"/>
            <a:ext cx="51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3"/>
          <p:cNvSpPr txBox="1"/>
          <p:nvPr/>
        </p:nvSpPr>
        <p:spPr>
          <a:xfrm>
            <a:off x="755640" y="260280"/>
            <a:ext cx="7993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йствия над 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ыкновенными дробями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324000" y="2565360"/>
            <a:ext cx="1726920" cy="32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2557440" y="2565360"/>
            <a:ext cx="1727280" cy="3240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4861080" y="2565360"/>
            <a:ext cx="1726920" cy="3240000"/>
          </a:xfrm>
          <a:prstGeom prst="rect">
            <a:avLst/>
          </a:prstGeom>
          <a:solidFill>
            <a:srgbClr val="e2be8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7021440" y="2565360"/>
            <a:ext cx="1727280" cy="3240000"/>
          </a:xfrm>
          <a:prstGeom prst="rect">
            <a:avLst/>
          </a:prstGeom>
          <a:solidFill>
            <a:srgbClr val="cbb3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6"/>
          <p:cNvSpPr/>
          <p:nvPr/>
        </p:nvSpPr>
        <p:spPr>
          <a:xfrm flipH="1">
            <a:off x="1186920" y="1484280"/>
            <a:ext cx="1081080" cy="10810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7"/>
          <p:cNvSpPr/>
          <p:nvPr/>
        </p:nvSpPr>
        <p:spPr>
          <a:xfrm>
            <a:off x="3419640" y="1484280"/>
            <a:ext cx="0" cy="10810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5651640" y="1484280"/>
            <a:ext cx="0" cy="10810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7020000" y="1484280"/>
            <a:ext cx="1008000" cy="10810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 rot="16200000">
            <a:off x="-30240" y="389448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л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1"/>
          <p:cNvSpPr/>
          <p:nvPr/>
        </p:nvSpPr>
        <p:spPr>
          <a:xfrm rot="16200000">
            <a:off x="2106720" y="3949200"/>
            <a:ext cx="263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ычит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5292720" y="321300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3" descr="j0254500"/>
          <p:cNvPicPr/>
          <p:nvPr/>
        </p:nvPicPr>
        <p:blipFill>
          <a:blip r:embed="rId1"/>
          <a:stretch/>
        </p:blipFill>
        <p:spPr>
          <a:xfrm>
            <a:off x="5203800" y="355608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24"/>
          <p:cNvSpPr/>
          <p:nvPr/>
        </p:nvSpPr>
        <p:spPr>
          <a:xfrm>
            <a:off x="7597800" y="3613320"/>
            <a:ext cx="5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" descr="j0250210"/>
          <p:cNvPicPr/>
          <p:nvPr/>
        </p:nvPicPr>
        <p:blipFill>
          <a:blip r:embed="rId1"/>
          <a:stretch/>
        </p:blipFill>
        <p:spPr>
          <a:xfrm>
            <a:off x="3673440" y="765000"/>
            <a:ext cx="5470560" cy="3989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j0250213"/>
          <p:cNvPicPr/>
          <p:nvPr/>
        </p:nvPicPr>
        <p:blipFill>
          <a:blip r:embed="rId2"/>
          <a:stretch/>
        </p:blipFill>
        <p:spPr>
          <a:xfrm>
            <a:off x="-252360" y="1628640"/>
            <a:ext cx="4784760" cy="419436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14"/>
          <p:cNvGrpSpPr/>
          <p:nvPr/>
        </p:nvGrpSpPr>
        <p:grpSpPr>
          <a:xfrm>
            <a:off x="178920" y="0"/>
            <a:ext cx="3456360" cy="2492280"/>
            <a:chOff x="178920" y="0"/>
            <a:chExt cx="3456360" cy="2492280"/>
          </a:xfrm>
        </p:grpSpPr>
        <p:sp>
          <p:nvSpPr>
            <p:cNvPr id="128" name="Oval 7"/>
            <p:cNvSpPr/>
            <p:nvPr/>
          </p:nvSpPr>
          <p:spPr>
            <a:xfrm>
              <a:off x="250920" y="189000"/>
              <a:ext cx="1368360" cy="1368360"/>
            </a:xfrm>
            <a:prstGeom prst="ellipse">
              <a:avLst/>
            </a:prstGeom>
            <a:solidFill>
              <a:srgbClr val="edd81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8"/>
            <p:cNvSpPr/>
            <p:nvPr/>
          </p:nvSpPr>
          <p:spPr>
            <a:xfrm flipV="1">
              <a:off x="1332000" y="0"/>
              <a:ext cx="360360" cy="404640"/>
            </a:xfrm>
            <a:prstGeom prst="line">
              <a:avLst/>
            </a:prstGeom>
            <a:ln w="38160">
              <a:solidFill>
                <a:srgbClr val="edd8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9"/>
            <p:cNvSpPr/>
            <p:nvPr/>
          </p:nvSpPr>
          <p:spPr>
            <a:xfrm flipV="1">
              <a:off x="1547640" y="333000"/>
              <a:ext cx="2087640" cy="358920"/>
            </a:xfrm>
            <a:prstGeom prst="line">
              <a:avLst/>
            </a:prstGeom>
            <a:ln w="38160">
              <a:solidFill>
                <a:srgbClr val="edd8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0"/>
            <p:cNvSpPr/>
            <p:nvPr/>
          </p:nvSpPr>
          <p:spPr>
            <a:xfrm>
              <a:off x="1547640" y="1052640"/>
              <a:ext cx="1872000" cy="288720"/>
            </a:xfrm>
            <a:prstGeom prst="line">
              <a:avLst/>
            </a:prstGeom>
            <a:ln w="38160">
              <a:solidFill>
                <a:srgbClr val="edd8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1"/>
            <p:cNvSpPr/>
            <p:nvPr/>
          </p:nvSpPr>
          <p:spPr>
            <a:xfrm>
              <a:off x="1332000" y="1341360"/>
              <a:ext cx="1224000" cy="719280"/>
            </a:xfrm>
            <a:prstGeom prst="line">
              <a:avLst/>
            </a:prstGeom>
            <a:ln w="38160">
              <a:solidFill>
                <a:srgbClr val="edd8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2"/>
            <p:cNvSpPr/>
            <p:nvPr/>
          </p:nvSpPr>
          <p:spPr>
            <a:xfrm>
              <a:off x="971640" y="1341360"/>
              <a:ext cx="360360" cy="1150920"/>
            </a:xfrm>
            <a:prstGeom prst="line">
              <a:avLst/>
            </a:prstGeom>
            <a:ln w="38160">
              <a:solidFill>
                <a:srgbClr val="edd8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3"/>
            <p:cNvSpPr/>
            <p:nvPr/>
          </p:nvSpPr>
          <p:spPr>
            <a:xfrm flipH="1">
              <a:off x="178920" y="1197000"/>
              <a:ext cx="505080" cy="1224000"/>
            </a:xfrm>
            <a:prstGeom prst="line">
              <a:avLst/>
            </a:prstGeom>
            <a:ln w="38160">
              <a:solidFill>
                <a:srgbClr val="edd8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WordArt 16"/>
          <p:cNvSpPr txBox="1"/>
          <p:nvPr/>
        </p:nvSpPr>
        <p:spPr>
          <a:xfrm>
            <a:off x="2500200" y="549360"/>
            <a:ext cx="624852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41f1a"/>
                </a:solidFill>
                <a:latin typeface="Arial"/>
              </a:rPr>
              <a:t>Город обыкновенных дроб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41f1a"/>
              </a:solidFill>
              <a:latin typeface="Arial"/>
              <a:ea typeface="Arial"/>
            </a:endParaRPr>
          </a:p>
        </p:txBody>
      </p:sp>
      <p:pic>
        <p:nvPicPr>
          <p:cNvPr id="136" name="Picture 17" descr="ARROWSGN"/>
          <p:cNvPicPr/>
          <p:nvPr/>
        </p:nvPicPr>
        <p:blipFill>
          <a:blip r:embed="rId3"/>
          <a:stretch/>
        </p:blipFill>
        <p:spPr>
          <a:xfrm>
            <a:off x="650880" y="2421000"/>
            <a:ext cx="2451240" cy="4437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8"/>
          <p:cNvSpPr/>
          <p:nvPr/>
        </p:nvSpPr>
        <p:spPr>
          <a:xfrm rot="21403200">
            <a:off x="1405080" y="278100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пект Умн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22"/>
          <p:cNvGrpSpPr/>
          <p:nvPr/>
        </p:nvGrpSpPr>
        <p:grpSpPr>
          <a:xfrm>
            <a:off x="3270240" y="3284640"/>
            <a:ext cx="5873760" cy="3249360"/>
            <a:chOff x="3270240" y="3284640"/>
            <a:chExt cx="5873760" cy="3249360"/>
          </a:xfrm>
        </p:grpSpPr>
        <p:pic>
          <p:nvPicPr>
            <p:cNvPr id="139" name="Picture 4" descr="78"/>
            <p:cNvPicPr/>
            <p:nvPr/>
          </p:nvPicPr>
          <p:blipFill>
            <a:blip r:embed="rId4"/>
            <a:stretch/>
          </p:blipFill>
          <p:spPr>
            <a:xfrm>
              <a:off x="3270240" y="3284640"/>
              <a:ext cx="5873760" cy="32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0" name="Group 19"/>
            <p:cNvGrpSpPr/>
            <p:nvPr/>
          </p:nvGrpSpPr>
          <p:grpSpPr>
            <a:xfrm>
              <a:off x="4716360" y="4869000"/>
              <a:ext cx="3816360" cy="792000"/>
              <a:chOff x="4716360" y="4869000"/>
              <a:chExt cx="3816360" cy="792000"/>
            </a:xfrm>
          </p:grpSpPr>
          <p:sp>
            <p:nvSpPr>
              <p:cNvPr id="141" name="AutoShape 20"/>
              <p:cNvSpPr/>
              <p:nvPr/>
            </p:nvSpPr>
            <p:spPr>
              <a:xfrm>
                <a:off x="4716360" y="4869000"/>
                <a:ext cx="3816360" cy="792000"/>
              </a:xfrm>
              <a:custGeom>
                <a:avLst/>
                <a:gdLst>
                  <a:gd name="textAreaLeft" fmla="*/ 954000 w 3816360"/>
                  <a:gd name="textAreaRight" fmla="*/ 2862360 w 3816360"/>
                  <a:gd name="textAreaTop" fmla="*/ 198000 h 792000"/>
                  <a:gd name="textAreaBottom" fmla="*/ 768600 h 79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6200"/>
                    </a:moveTo>
                    <a:arcTo wR="21600" hR="20153" stAng="7304956" swAng="-976834"/>
                    <a:lnTo>
                      <a:pt x="5400" y="20960"/>
                    </a:lnTo>
                    <a:arcTo wR="21600" hR="20153" stAng="6328122" swAng="-1856244"/>
                    <a:lnTo>
                      <a:pt x="16200" y="18260"/>
                    </a:lnTo>
                    <a:arcTo wR="21600" hR="20153" stAng="4471878" swAng="-976834"/>
                    <a:lnTo>
                      <a:pt x="18900" y="9329"/>
                    </a:lnTo>
                    <a:lnTo>
                      <a:pt x="21600" y="0"/>
                    </a:lnTo>
                    <a:lnTo>
                      <a:pt x="21600" y="0"/>
                    </a:lnTo>
                    <a:arcTo wR="21600" hR="20153" stAng="3495044" swAng="1443536"/>
                    <a:lnTo>
                      <a:pt x="13500" y="5242"/>
                    </a:lnTo>
                    <a:arcTo wR="21600" hR="20153" stAng="4938580" swAng="922840"/>
                    <a:lnTo>
                      <a:pt x="8100" y="2542"/>
                    </a:lnTo>
                    <a:arcTo wR="21600" hR="20153" stAng="5861420" swAng="1443536"/>
                    <a:lnTo>
                      <a:pt x="2700" y="9329"/>
                    </a:lnTo>
                    <a:close/>
                  </a:path>
                  <a:path fill="none" w="21600" h="21600">
                    <a:moveTo>
                      <a:pt x="8100" y="5242"/>
                    </a:moveTo>
                    <a:arcTo wR="21600" hR="20153" stAng="5861420" swAng="466702"/>
                    <a:lnTo>
                      <a:pt x="8100" y="2542"/>
                    </a:lnTo>
                  </a:path>
                  <a:path fill="none" w="21600" h="21600">
                    <a:moveTo>
                      <a:pt x="13500" y="5242"/>
                    </a:moveTo>
                    <a:arcTo wR="21600" hR="20153" stAng="4938580" swAng="-466702"/>
                    <a:lnTo>
                      <a:pt x="13500" y="2542"/>
                    </a:lnTo>
                  </a:path>
                  <a:path fill="none" w="21600" h="21600">
                    <a:moveTo>
                      <a:pt x="5400" y="18260"/>
                    </a:moveTo>
                    <a:lnTo>
                      <a:pt x="5400" y="4760"/>
                    </a:lnTo>
                  </a:path>
                  <a:path fill="none" w="21600" h="21600">
                    <a:moveTo>
                      <a:pt x="16200" y="18260"/>
                    </a:moveTo>
                    <a:lnTo>
                      <a:pt x="16200" y="4760"/>
                    </a:lnTo>
                  </a:path>
                </a:pathLst>
              </a:custGeom>
              <a:solidFill>
                <a:srgbClr val="89a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WordArt 21"/>
              <p:cNvSpPr txBox="1"/>
              <p:nvPr/>
            </p:nvSpPr>
            <p:spPr>
              <a:xfrm>
                <a:off x="5580000" y="5011560"/>
                <a:ext cx="2028960" cy="610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школьный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2484360" y="549360"/>
            <a:ext cx="4105440" cy="575928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3138480" y="1557360"/>
            <a:ext cx="2873520" cy="10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СС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3421080" y="2565360"/>
            <a:ext cx="2158920" cy="1871640"/>
          </a:xfrm>
          <a:prstGeom prst="rect">
            <a:avLst/>
          </a:prstGeom>
          <a:solidFill>
            <a:srgbClr val="b5c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5148360" y="2565360"/>
            <a:ext cx="1944720" cy="1008000"/>
          </a:xfrm>
          <a:prstGeom prst="flowChartPunchedTape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 flipH="1">
            <a:off x="4643280" y="3860640"/>
            <a:ext cx="1944720" cy="1008360"/>
          </a:xfrm>
          <a:prstGeom prst="flowChartPunchedTape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 flipH="1">
            <a:off x="6516720" y="5661000"/>
            <a:ext cx="1944720" cy="1008000"/>
          </a:xfrm>
          <a:prstGeom prst="flowChartPunchedTape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1908000" y="3284640"/>
            <a:ext cx="1944720" cy="1008000"/>
          </a:xfrm>
          <a:prstGeom prst="flowChartPunchedTape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 flipH="1">
            <a:off x="395280" y="4941720"/>
            <a:ext cx="1944720" cy="1008360"/>
          </a:xfrm>
          <a:prstGeom prst="flowChartPunchedTape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4"/>
          <p:cNvGrpSpPr/>
          <p:nvPr/>
        </p:nvGrpSpPr>
        <p:grpSpPr>
          <a:xfrm>
            <a:off x="755640" y="5013360"/>
            <a:ext cx="647640" cy="647640"/>
            <a:chOff x="755640" y="5013360"/>
            <a:chExt cx="647640" cy="647640"/>
          </a:xfrm>
        </p:grpSpPr>
        <p:sp>
          <p:nvSpPr>
            <p:cNvPr id="153" name="Oval 12"/>
            <p:cNvSpPr/>
            <p:nvPr/>
          </p:nvSpPr>
          <p:spPr>
            <a:xfrm>
              <a:off x="755640" y="5013360"/>
              <a:ext cx="647640" cy="647640"/>
            </a:xfrm>
            <a:prstGeom prst="ellipse">
              <a:avLst/>
            </a:prstGeom>
            <a:solidFill>
              <a:srgbClr val="f41f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3"/>
            <p:cNvSpPr/>
            <p:nvPr/>
          </p:nvSpPr>
          <p:spPr>
            <a:xfrm>
              <a:off x="898560" y="5084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15"/>
          <p:cNvGrpSpPr/>
          <p:nvPr/>
        </p:nvGrpSpPr>
        <p:grpSpPr>
          <a:xfrm>
            <a:off x="2050920" y="3573360"/>
            <a:ext cx="647640" cy="647640"/>
            <a:chOff x="2050920" y="3573360"/>
            <a:chExt cx="647640" cy="647640"/>
          </a:xfrm>
        </p:grpSpPr>
        <p:sp>
          <p:nvSpPr>
            <p:cNvPr id="156" name="Oval 16"/>
            <p:cNvSpPr/>
            <p:nvPr/>
          </p:nvSpPr>
          <p:spPr>
            <a:xfrm>
              <a:off x="2050920" y="3573360"/>
              <a:ext cx="647640" cy="647640"/>
            </a:xfrm>
            <a:prstGeom prst="ellipse">
              <a:avLst/>
            </a:prstGeom>
            <a:solidFill>
              <a:srgbClr val="f41f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7"/>
            <p:cNvSpPr/>
            <p:nvPr/>
          </p:nvSpPr>
          <p:spPr>
            <a:xfrm>
              <a:off x="2193840" y="3644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18"/>
          <p:cNvGrpSpPr/>
          <p:nvPr/>
        </p:nvGrpSpPr>
        <p:grpSpPr>
          <a:xfrm>
            <a:off x="5364000" y="2852640"/>
            <a:ext cx="647640" cy="647640"/>
            <a:chOff x="5364000" y="2852640"/>
            <a:chExt cx="647640" cy="647640"/>
          </a:xfrm>
        </p:grpSpPr>
        <p:sp>
          <p:nvSpPr>
            <p:cNvPr id="159" name="Oval 19"/>
            <p:cNvSpPr/>
            <p:nvPr/>
          </p:nvSpPr>
          <p:spPr>
            <a:xfrm>
              <a:off x="5364000" y="2852640"/>
              <a:ext cx="647640" cy="647640"/>
            </a:xfrm>
            <a:prstGeom prst="ellipse">
              <a:avLst/>
            </a:prstGeom>
            <a:solidFill>
              <a:srgbClr val="f41f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20"/>
            <p:cNvSpPr/>
            <p:nvPr/>
          </p:nvSpPr>
          <p:spPr>
            <a:xfrm>
              <a:off x="5506920" y="29239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21"/>
          <p:cNvGrpSpPr/>
          <p:nvPr/>
        </p:nvGrpSpPr>
        <p:grpSpPr>
          <a:xfrm>
            <a:off x="4859280" y="3933720"/>
            <a:ext cx="647640" cy="647640"/>
            <a:chOff x="4859280" y="3933720"/>
            <a:chExt cx="647640" cy="647640"/>
          </a:xfrm>
        </p:grpSpPr>
        <p:sp>
          <p:nvSpPr>
            <p:cNvPr id="162" name="Oval 22"/>
            <p:cNvSpPr/>
            <p:nvPr/>
          </p:nvSpPr>
          <p:spPr>
            <a:xfrm>
              <a:off x="4859280" y="3933720"/>
              <a:ext cx="647640" cy="647640"/>
            </a:xfrm>
            <a:prstGeom prst="ellipse">
              <a:avLst/>
            </a:prstGeom>
            <a:solidFill>
              <a:srgbClr val="f41f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3"/>
            <p:cNvSpPr/>
            <p:nvPr/>
          </p:nvSpPr>
          <p:spPr>
            <a:xfrm>
              <a:off x="5002200" y="40050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24"/>
          <p:cNvGrpSpPr/>
          <p:nvPr/>
        </p:nvGrpSpPr>
        <p:grpSpPr>
          <a:xfrm>
            <a:off x="6659640" y="5734080"/>
            <a:ext cx="647640" cy="647640"/>
            <a:chOff x="6659640" y="5734080"/>
            <a:chExt cx="647640" cy="647640"/>
          </a:xfrm>
        </p:grpSpPr>
        <p:sp>
          <p:nvSpPr>
            <p:cNvPr id="165" name="Oval 25"/>
            <p:cNvSpPr/>
            <p:nvPr/>
          </p:nvSpPr>
          <p:spPr>
            <a:xfrm>
              <a:off x="6659640" y="5734080"/>
              <a:ext cx="647640" cy="647640"/>
            </a:xfrm>
            <a:prstGeom prst="ellipse">
              <a:avLst/>
            </a:prstGeom>
            <a:solidFill>
              <a:srgbClr val="f41f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26"/>
            <p:cNvSpPr/>
            <p:nvPr/>
          </p:nvSpPr>
          <p:spPr>
            <a:xfrm>
              <a:off x="6802560" y="5805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Object 14"/>
          <p:cNvGraphicFramePr/>
          <p:nvPr/>
        </p:nvGraphicFramePr>
        <p:xfrm>
          <a:off x="3616200" y="2492280"/>
          <a:ext cx="2108160" cy="22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6200" y="2492280"/>
                    <a:ext cx="210816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WordArt 5"/>
          <p:cNvSpPr txBox="1"/>
          <p:nvPr/>
        </p:nvSpPr>
        <p:spPr>
          <a:xfrm>
            <a:off x="539640" y="1125360"/>
            <a:ext cx="8353440" cy="100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гр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Дополни предложения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aphicFrame>
        <p:nvGraphicFramePr>
          <p:cNvPr id="171" name="Object 9"/>
          <p:cNvGraphicFramePr/>
          <p:nvPr/>
        </p:nvGraphicFramePr>
        <p:xfrm>
          <a:off x="0" y="4653000"/>
          <a:ext cx="2108160" cy="220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653000"/>
                    <a:ext cx="210816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1"/>
          <p:cNvGraphicFramePr/>
          <p:nvPr/>
        </p:nvGraphicFramePr>
        <p:xfrm>
          <a:off x="458640" y="2565360"/>
          <a:ext cx="1952640" cy="2028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8640" y="2565360"/>
                    <a:ext cx="195264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10"/>
          <p:cNvGraphicFramePr/>
          <p:nvPr/>
        </p:nvGraphicFramePr>
        <p:xfrm>
          <a:off x="1692360" y="2852640"/>
          <a:ext cx="1952640" cy="202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6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92360" y="2852640"/>
                    <a:ext cx="195264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7" name="Group 18"/>
          <p:cNvGrpSpPr/>
          <p:nvPr/>
        </p:nvGrpSpPr>
        <p:grpSpPr>
          <a:xfrm>
            <a:off x="3270240" y="3141720"/>
            <a:ext cx="5873760" cy="3249720"/>
            <a:chOff x="3270240" y="3141720"/>
            <a:chExt cx="5873760" cy="3249720"/>
          </a:xfrm>
        </p:grpSpPr>
        <p:pic>
          <p:nvPicPr>
            <p:cNvPr id="178" name="Picture 4" descr="78"/>
            <p:cNvPicPr/>
            <p:nvPr/>
          </p:nvPicPr>
          <p:blipFill>
            <a:blip r:embed="rId9"/>
            <a:stretch/>
          </p:blipFill>
          <p:spPr>
            <a:xfrm>
              <a:off x="3270240" y="3141720"/>
              <a:ext cx="5873760" cy="3249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9" name="Group 15"/>
            <p:cNvGrpSpPr/>
            <p:nvPr/>
          </p:nvGrpSpPr>
          <p:grpSpPr>
            <a:xfrm>
              <a:off x="4716360" y="4724280"/>
              <a:ext cx="3816360" cy="792360"/>
              <a:chOff x="4716360" y="4724280"/>
              <a:chExt cx="3816360" cy="792360"/>
            </a:xfrm>
          </p:grpSpPr>
          <p:sp>
            <p:nvSpPr>
              <p:cNvPr id="180" name="AutoShape 16"/>
              <p:cNvSpPr/>
              <p:nvPr/>
            </p:nvSpPr>
            <p:spPr>
              <a:xfrm>
                <a:off x="4716360" y="4724280"/>
                <a:ext cx="3816360" cy="792360"/>
              </a:xfrm>
              <a:custGeom>
                <a:avLst/>
                <a:gdLst>
                  <a:gd name="textAreaLeft" fmla="*/ 954000 w 3816360"/>
                  <a:gd name="textAreaRight" fmla="*/ 2862360 w 3816360"/>
                  <a:gd name="textAreaTop" fmla="*/ 198000 h 792360"/>
                  <a:gd name="textAreaBottom" fmla="*/ 768960 h 79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6200"/>
                    </a:moveTo>
                    <a:arcTo wR="21600" hR="20153" stAng="7304956" swAng="-976834"/>
                    <a:lnTo>
                      <a:pt x="5400" y="20960"/>
                    </a:lnTo>
                    <a:arcTo wR="21600" hR="20153" stAng="6328122" swAng="-1856244"/>
                    <a:lnTo>
                      <a:pt x="16200" y="18260"/>
                    </a:lnTo>
                    <a:arcTo wR="21600" hR="20153" stAng="4471878" swAng="-976834"/>
                    <a:lnTo>
                      <a:pt x="18900" y="9329"/>
                    </a:lnTo>
                    <a:lnTo>
                      <a:pt x="21600" y="0"/>
                    </a:lnTo>
                    <a:lnTo>
                      <a:pt x="21600" y="0"/>
                    </a:lnTo>
                    <a:arcTo wR="21600" hR="20153" stAng="3495044" swAng="1443536"/>
                    <a:lnTo>
                      <a:pt x="13500" y="5242"/>
                    </a:lnTo>
                    <a:arcTo wR="21600" hR="20153" stAng="4938580" swAng="922840"/>
                    <a:lnTo>
                      <a:pt x="8100" y="2542"/>
                    </a:lnTo>
                    <a:arcTo wR="21600" hR="20153" stAng="5861420" swAng="1443536"/>
                    <a:lnTo>
                      <a:pt x="2700" y="9329"/>
                    </a:lnTo>
                    <a:close/>
                  </a:path>
                  <a:path fill="none" w="21600" h="21600">
                    <a:moveTo>
                      <a:pt x="8100" y="5242"/>
                    </a:moveTo>
                    <a:arcTo wR="21600" hR="20153" stAng="5861420" swAng="466702"/>
                    <a:lnTo>
                      <a:pt x="8100" y="2542"/>
                    </a:lnTo>
                  </a:path>
                  <a:path fill="none" w="21600" h="21600">
                    <a:moveTo>
                      <a:pt x="13500" y="5242"/>
                    </a:moveTo>
                    <a:arcTo wR="21600" hR="20153" stAng="4938580" swAng="-466702"/>
                    <a:lnTo>
                      <a:pt x="13500" y="2542"/>
                    </a:lnTo>
                  </a:path>
                  <a:path fill="none" w="21600" h="21600">
                    <a:moveTo>
                      <a:pt x="5400" y="18260"/>
                    </a:moveTo>
                    <a:lnTo>
                      <a:pt x="5400" y="4760"/>
                    </a:lnTo>
                  </a:path>
                  <a:path fill="none" w="21600" h="21600">
                    <a:moveTo>
                      <a:pt x="16200" y="18260"/>
                    </a:moveTo>
                    <a:lnTo>
                      <a:pt x="16200" y="4760"/>
                    </a:lnTo>
                  </a:path>
                </a:pathLst>
              </a:custGeom>
              <a:solidFill>
                <a:srgbClr val="89a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WordArt 17"/>
              <p:cNvSpPr txBox="1"/>
              <p:nvPr/>
            </p:nvSpPr>
            <p:spPr>
              <a:xfrm>
                <a:off x="5580000" y="4867200"/>
                <a:ext cx="2028960" cy="611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школьный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9"/>
          <p:cNvGrpSpPr/>
          <p:nvPr/>
        </p:nvGrpSpPr>
        <p:grpSpPr>
          <a:xfrm>
            <a:off x="3132000" y="2781360"/>
            <a:ext cx="6011640" cy="3240000"/>
            <a:chOff x="3132000" y="2781360"/>
            <a:chExt cx="6011640" cy="3240000"/>
          </a:xfrm>
        </p:grpSpPr>
        <p:pic>
          <p:nvPicPr>
            <p:cNvPr id="184" name="Picture 20" descr="78"/>
            <p:cNvPicPr/>
            <p:nvPr/>
          </p:nvPicPr>
          <p:blipFill>
            <a:blip r:embed="rId1"/>
            <a:stretch/>
          </p:blipFill>
          <p:spPr>
            <a:xfrm>
              <a:off x="3132000" y="2781360"/>
              <a:ext cx="6011640" cy="3240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5" name="Group 21"/>
            <p:cNvGrpSpPr/>
            <p:nvPr/>
          </p:nvGrpSpPr>
          <p:grpSpPr>
            <a:xfrm>
              <a:off x="4611960" y="4361040"/>
              <a:ext cx="3905640" cy="789480"/>
              <a:chOff x="4611960" y="4361040"/>
              <a:chExt cx="3905640" cy="789480"/>
            </a:xfrm>
          </p:grpSpPr>
          <p:sp>
            <p:nvSpPr>
              <p:cNvPr id="186" name="AutoShape 22"/>
              <p:cNvSpPr/>
              <p:nvPr/>
            </p:nvSpPr>
            <p:spPr>
              <a:xfrm>
                <a:off x="4611960" y="4361040"/>
                <a:ext cx="3905640" cy="789480"/>
              </a:xfrm>
              <a:custGeom>
                <a:avLst/>
                <a:gdLst>
                  <a:gd name="textAreaLeft" fmla="*/ 976320 w 3905640"/>
                  <a:gd name="textAreaRight" fmla="*/ 2929320 w 3905640"/>
                  <a:gd name="textAreaTop" fmla="*/ 197280 h 789480"/>
                  <a:gd name="textAreaBottom" fmla="*/ 766080 h 78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6200"/>
                    </a:moveTo>
                    <a:arcTo wR="21600" hR="20153" stAng="7304956" swAng="-976834"/>
                    <a:lnTo>
                      <a:pt x="5400" y="20960"/>
                    </a:lnTo>
                    <a:arcTo wR="21600" hR="20153" stAng="6328122" swAng="-1856244"/>
                    <a:lnTo>
                      <a:pt x="16200" y="18260"/>
                    </a:lnTo>
                    <a:arcTo wR="21600" hR="20153" stAng="4471878" swAng="-976834"/>
                    <a:lnTo>
                      <a:pt x="18900" y="9329"/>
                    </a:lnTo>
                    <a:lnTo>
                      <a:pt x="21600" y="0"/>
                    </a:lnTo>
                    <a:lnTo>
                      <a:pt x="21600" y="0"/>
                    </a:lnTo>
                    <a:arcTo wR="21600" hR="20153" stAng="3495044" swAng="1443536"/>
                    <a:lnTo>
                      <a:pt x="13500" y="5242"/>
                    </a:lnTo>
                    <a:arcTo wR="21600" hR="20153" stAng="4938580" swAng="922840"/>
                    <a:lnTo>
                      <a:pt x="8100" y="2542"/>
                    </a:lnTo>
                    <a:arcTo wR="21600" hR="20153" stAng="5861420" swAng="1443536"/>
                    <a:lnTo>
                      <a:pt x="2700" y="9329"/>
                    </a:lnTo>
                    <a:close/>
                  </a:path>
                  <a:path fill="none" w="21600" h="21600">
                    <a:moveTo>
                      <a:pt x="8100" y="5242"/>
                    </a:moveTo>
                    <a:arcTo wR="21600" hR="20153" stAng="5861420" swAng="466702"/>
                    <a:lnTo>
                      <a:pt x="8100" y="2542"/>
                    </a:lnTo>
                  </a:path>
                  <a:path fill="none" w="21600" h="21600">
                    <a:moveTo>
                      <a:pt x="13500" y="5242"/>
                    </a:moveTo>
                    <a:arcTo wR="21600" hR="20153" stAng="4938580" swAng="-466702"/>
                    <a:lnTo>
                      <a:pt x="13500" y="2542"/>
                    </a:lnTo>
                  </a:path>
                  <a:path fill="none" w="21600" h="21600">
                    <a:moveTo>
                      <a:pt x="5400" y="18260"/>
                    </a:moveTo>
                    <a:lnTo>
                      <a:pt x="5400" y="4760"/>
                    </a:lnTo>
                  </a:path>
                  <a:path fill="none" w="21600" h="21600">
                    <a:moveTo>
                      <a:pt x="16200" y="18260"/>
                    </a:moveTo>
                    <a:lnTo>
                      <a:pt x="16200" y="4760"/>
                    </a:lnTo>
                  </a:path>
                </a:pathLst>
              </a:custGeom>
              <a:solidFill>
                <a:srgbClr val="89a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WordArt 23"/>
              <p:cNvSpPr txBox="1"/>
              <p:nvPr/>
            </p:nvSpPr>
            <p:spPr>
              <a:xfrm>
                <a:off x="5495760" y="4503240"/>
                <a:ext cx="2076480" cy="608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школьный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graphicFrame>
        <p:nvGraphicFramePr>
          <p:cNvPr id="188" name="Object 25"/>
          <p:cNvGraphicFramePr/>
          <p:nvPr/>
        </p:nvGraphicFramePr>
        <p:xfrm>
          <a:off x="-12600" y="0"/>
          <a:ext cx="292716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9" name="Object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2600" y="0"/>
                    <a:ext cx="2927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0" name="Group 18"/>
          <p:cNvGrpSpPr/>
          <p:nvPr/>
        </p:nvGrpSpPr>
        <p:grpSpPr>
          <a:xfrm>
            <a:off x="0" y="-100080"/>
            <a:ext cx="6264360" cy="1439640"/>
            <a:chOff x="0" y="-100080"/>
            <a:chExt cx="6264360" cy="1439640"/>
          </a:xfrm>
        </p:grpSpPr>
        <p:sp>
          <p:nvSpPr>
            <p:cNvPr id="191" name="AutoShape 17"/>
            <p:cNvSpPr/>
            <p:nvPr/>
          </p:nvSpPr>
          <p:spPr>
            <a:xfrm>
              <a:off x="0" y="-100080"/>
              <a:ext cx="6264360" cy="1439640"/>
            </a:xfrm>
            <a:prstGeom prst="horizontalScroll">
              <a:avLst>
                <a:gd name="adj" fmla="val 12500"/>
              </a:avLst>
            </a:prstGeom>
            <a:solidFill>
              <a:srgbClr val="f3f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WordArt 15"/>
            <p:cNvSpPr txBox="1"/>
            <p:nvPr/>
          </p:nvSpPr>
          <p:spPr>
            <a:xfrm>
              <a:off x="792360" y="260280"/>
              <a:ext cx="4680000" cy="71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Проблемная</a:t>
              </a:r>
              <a:endPara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193" name="Picture 26" descr="j0254500"/>
          <p:cNvPicPr/>
          <p:nvPr/>
        </p:nvPicPr>
        <p:blipFill>
          <a:blip r:embed="rId4"/>
          <a:stretch/>
        </p:blipFill>
        <p:spPr>
          <a:xfrm>
            <a:off x="2771640" y="1628640"/>
            <a:ext cx="1629000" cy="162900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8"/>
          <p:cNvGrpSpPr/>
          <p:nvPr/>
        </p:nvGrpSpPr>
        <p:grpSpPr>
          <a:xfrm>
            <a:off x="971640" y="260280"/>
            <a:ext cx="7057800" cy="1368360"/>
            <a:chOff x="971640" y="260280"/>
            <a:chExt cx="7057800" cy="1368360"/>
          </a:xfrm>
        </p:grpSpPr>
        <p:sp>
          <p:nvSpPr>
            <p:cNvPr id="196" name="AutoShape 7"/>
            <p:cNvSpPr/>
            <p:nvPr/>
          </p:nvSpPr>
          <p:spPr>
            <a:xfrm>
              <a:off x="971640" y="260280"/>
              <a:ext cx="7057800" cy="1368360"/>
            </a:xfrm>
            <a:prstGeom prst="horizontalScroll">
              <a:avLst>
                <a:gd name="adj" fmla="val 125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WordArt 5"/>
            <p:cNvSpPr txBox="1"/>
            <p:nvPr/>
          </p:nvSpPr>
          <p:spPr>
            <a:xfrm>
              <a:off x="1331640" y="549000"/>
              <a:ext cx="640836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Алгоритмическая</a:t>
              </a:r>
              <a:endPara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98" name="WordArt 9"/>
          <p:cNvSpPr txBox="1"/>
          <p:nvPr/>
        </p:nvSpPr>
        <p:spPr>
          <a:xfrm>
            <a:off x="539640" y="2421000"/>
            <a:ext cx="8209080" cy="1047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оздайте алгоритм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множения обыкновенных дроб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aphicFrame>
        <p:nvGraphicFramePr>
          <p:cNvPr id="199" name="Object 10"/>
          <p:cNvGraphicFramePr/>
          <p:nvPr/>
        </p:nvGraphicFramePr>
        <p:xfrm>
          <a:off x="169920" y="4541760"/>
          <a:ext cx="1952640" cy="202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4541760"/>
                    <a:ext cx="195264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11"/>
          <p:cNvGraphicFramePr/>
          <p:nvPr/>
        </p:nvGraphicFramePr>
        <p:xfrm>
          <a:off x="1403280" y="4829040"/>
          <a:ext cx="1952640" cy="202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4829040"/>
                    <a:ext cx="195264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3" name="Group 15"/>
          <p:cNvGrpSpPr/>
          <p:nvPr/>
        </p:nvGrpSpPr>
        <p:grpSpPr>
          <a:xfrm>
            <a:off x="3522600" y="3500280"/>
            <a:ext cx="5873760" cy="3249720"/>
            <a:chOff x="3522600" y="3500280"/>
            <a:chExt cx="5873760" cy="3249720"/>
          </a:xfrm>
        </p:grpSpPr>
        <p:pic>
          <p:nvPicPr>
            <p:cNvPr id="204" name="Picture 6" descr="78"/>
            <p:cNvPicPr/>
            <p:nvPr/>
          </p:nvPicPr>
          <p:blipFill>
            <a:blip r:embed="rId5"/>
            <a:stretch/>
          </p:blipFill>
          <p:spPr>
            <a:xfrm>
              <a:off x="3522600" y="3500280"/>
              <a:ext cx="5873760" cy="3249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5" name="Group 14"/>
            <p:cNvGrpSpPr/>
            <p:nvPr/>
          </p:nvGrpSpPr>
          <p:grpSpPr>
            <a:xfrm>
              <a:off x="5003640" y="5157720"/>
              <a:ext cx="3816360" cy="792360"/>
              <a:chOff x="5003640" y="5157720"/>
              <a:chExt cx="3816360" cy="792360"/>
            </a:xfrm>
          </p:grpSpPr>
          <p:sp>
            <p:nvSpPr>
              <p:cNvPr id="206" name="AutoShape 12"/>
              <p:cNvSpPr/>
              <p:nvPr/>
            </p:nvSpPr>
            <p:spPr>
              <a:xfrm>
                <a:off x="5003640" y="5157720"/>
                <a:ext cx="3816360" cy="792360"/>
              </a:xfrm>
              <a:custGeom>
                <a:avLst/>
                <a:gdLst>
                  <a:gd name="textAreaLeft" fmla="*/ 954000 w 3816360"/>
                  <a:gd name="textAreaRight" fmla="*/ 2862360 w 3816360"/>
                  <a:gd name="textAreaTop" fmla="*/ 198000 h 792360"/>
                  <a:gd name="textAreaBottom" fmla="*/ 768960 h 79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6200"/>
                    </a:moveTo>
                    <a:arcTo wR="21600" hR="20153" stAng="7304956" swAng="-976834"/>
                    <a:lnTo>
                      <a:pt x="5400" y="20960"/>
                    </a:lnTo>
                    <a:arcTo wR="21600" hR="20153" stAng="6328122" swAng="-1856244"/>
                    <a:lnTo>
                      <a:pt x="16200" y="18260"/>
                    </a:lnTo>
                    <a:arcTo wR="21600" hR="20153" stAng="4471878" swAng="-976834"/>
                    <a:lnTo>
                      <a:pt x="18900" y="9329"/>
                    </a:lnTo>
                    <a:lnTo>
                      <a:pt x="21600" y="0"/>
                    </a:lnTo>
                    <a:lnTo>
                      <a:pt x="21600" y="0"/>
                    </a:lnTo>
                    <a:arcTo wR="21600" hR="20153" stAng="3495044" swAng="1443536"/>
                    <a:lnTo>
                      <a:pt x="13500" y="5242"/>
                    </a:lnTo>
                    <a:arcTo wR="21600" hR="20153" stAng="4938580" swAng="922840"/>
                    <a:lnTo>
                      <a:pt x="8100" y="2542"/>
                    </a:lnTo>
                    <a:arcTo wR="21600" hR="20153" stAng="5861420" swAng="1443536"/>
                    <a:lnTo>
                      <a:pt x="2700" y="9329"/>
                    </a:lnTo>
                    <a:close/>
                  </a:path>
                  <a:path fill="none" w="21600" h="21600">
                    <a:moveTo>
                      <a:pt x="8100" y="5242"/>
                    </a:moveTo>
                    <a:arcTo wR="21600" hR="20153" stAng="5861420" swAng="466702"/>
                    <a:lnTo>
                      <a:pt x="8100" y="2542"/>
                    </a:lnTo>
                  </a:path>
                  <a:path fill="none" w="21600" h="21600">
                    <a:moveTo>
                      <a:pt x="13500" y="5242"/>
                    </a:moveTo>
                    <a:arcTo wR="21600" hR="20153" stAng="4938580" swAng="-466702"/>
                    <a:lnTo>
                      <a:pt x="13500" y="2542"/>
                    </a:lnTo>
                  </a:path>
                  <a:path fill="none" w="21600" h="21600">
                    <a:moveTo>
                      <a:pt x="5400" y="18260"/>
                    </a:moveTo>
                    <a:lnTo>
                      <a:pt x="5400" y="4760"/>
                    </a:lnTo>
                  </a:path>
                  <a:path fill="none" w="21600" h="21600">
                    <a:moveTo>
                      <a:pt x="16200" y="18260"/>
                    </a:moveTo>
                    <a:lnTo>
                      <a:pt x="16200" y="4760"/>
                    </a:lnTo>
                  </a:path>
                </a:pathLst>
              </a:custGeom>
              <a:solidFill>
                <a:srgbClr val="89a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WordArt 13"/>
              <p:cNvSpPr txBox="1"/>
              <p:nvPr/>
            </p:nvSpPr>
            <p:spPr>
              <a:xfrm>
                <a:off x="5867280" y="5300640"/>
                <a:ext cx="2028960" cy="611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школьный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9ed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j0250665"/>
          <p:cNvPicPr/>
          <p:nvPr/>
        </p:nvPicPr>
        <p:blipFill>
          <a:blip r:embed="rId1"/>
          <a:stretch/>
        </p:blipFill>
        <p:spPr>
          <a:xfrm>
            <a:off x="6372360" y="189000"/>
            <a:ext cx="2520720" cy="236700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10"/>
          <p:cNvGrpSpPr/>
          <p:nvPr/>
        </p:nvGrpSpPr>
        <p:grpSpPr>
          <a:xfrm>
            <a:off x="395280" y="115920"/>
            <a:ext cx="5832360" cy="1224000"/>
            <a:chOff x="395280" y="115920"/>
            <a:chExt cx="5832360" cy="1224000"/>
          </a:xfrm>
        </p:grpSpPr>
        <p:sp>
          <p:nvSpPr>
            <p:cNvPr id="211" name="AutoShape 9"/>
            <p:cNvSpPr/>
            <p:nvPr/>
          </p:nvSpPr>
          <p:spPr>
            <a:xfrm>
              <a:off x="395280" y="115920"/>
              <a:ext cx="5832360" cy="1224000"/>
            </a:xfrm>
            <a:prstGeom prst="horizontalScroll">
              <a:avLst>
                <a:gd name="adj" fmla="val 12500"/>
              </a:avLst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WordArt 7"/>
            <p:cNvSpPr txBox="1"/>
            <p:nvPr/>
          </p:nvSpPr>
          <p:spPr>
            <a:xfrm>
              <a:off x="755640" y="421920"/>
              <a:ext cx="5256000" cy="607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Графическая</a:t>
              </a:r>
              <a:endPara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13" name="Group 11"/>
          <p:cNvGrpSpPr/>
          <p:nvPr/>
        </p:nvGrpSpPr>
        <p:grpSpPr>
          <a:xfrm>
            <a:off x="5940360" y="2781360"/>
            <a:ext cx="3203640" cy="1800000"/>
            <a:chOff x="5940360" y="2781360"/>
            <a:chExt cx="3203640" cy="1800000"/>
          </a:xfrm>
        </p:grpSpPr>
        <p:pic>
          <p:nvPicPr>
            <p:cNvPr id="214" name="Picture 12" descr="78"/>
            <p:cNvPicPr/>
            <p:nvPr/>
          </p:nvPicPr>
          <p:blipFill>
            <a:blip r:embed="rId2"/>
            <a:stretch/>
          </p:blipFill>
          <p:spPr>
            <a:xfrm>
              <a:off x="5940360" y="2781360"/>
              <a:ext cx="3203640" cy="1800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5" name="Group 13"/>
            <p:cNvGrpSpPr/>
            <p:nvPr/>
          </p:nvGrpSpPr>
          <p:grpSpPr>
            <a:xfrm>
              <a:off x="6729120" y="3659040"/>
              <a:ext cx="2081520" cy="438480"/>
              <a:chOff x="6729120" y="3659040"/>
              <a:chExt cx="2081520" cy="438480"/>
            </a:xfrm>
          </p:grpSpPr>
          <p:sp>
            <p:nvSpPr>
              <p:cNvPr id="216" name="AutoShape 14"/>
              <p:cNvSpPr/>
              <p:nvPr/>
            </p:nvSpPr>
            <p:spPr>
              <a:xfrm>
                <a:off x="6729120" y="3659040"/>
                <a:ext cx="2081520" cy="438480"/>
              </a:xfrm>
              <a:custGeom>
                <a:avLst/>
                <a:gdLst>
                  <a:gd name="textAreaLeft" fmla="*/ 520200 w 2081520"/>
                  <a:gd name="textAreaRight" fmla="*/ 1561320 w 2081520"/>
                  <a:gd name="textAreaTop" fmla="*/ 109440 h 438480"/>
                  <a:gd name="textAreaBottom" fmla="*/ 425520 h 43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6200"/>
                    </a:moveTo>
                    <a:arcTo wR="21600" hR="20153" stAng="7304956" swAng="-976834"/>
                    <a:lnTo>
                      <a:pt x="5400" y="20960"/>
                    </a:lnTo>
                    <a:arcTo wR="21600" hR="20153" stAng="6328122" swAng="-1856244"/>
                    <a:lnTo>
                      <a:pt x="16200" y="18260"/>
                    </a:lnTo>
                    <a:arcTo wR="21600" hR="20153" stAng="4471878" swAng="-976834"/>
                    <a:lnTo>
                      <a:pt x="18900" y="9329"/>
                    </a:lnTo>
                    <a:lnTo>
                      <a:pt x="21600" y="0"/>
                    </a:lnTo>
                    <a:lnTo>
                      <a:pt x="21600" y="0"/>
                    </a:lnTo>
                    <a:arcTo wR="21600" hR="20153" stAng="3495044" swAng="1443536"/>
                    <a:lnTo>
                      <a:pt x="13500" y="5242"/>
                    </a:lnTo>
                    <a:arcTo wR="21600" hR="20153" stAng="4938580" swAng="922840"/>
                    <a:lnTo>
                      <a:pt x="8100" y="2542"/>
                    </a:lnTo>
                    <a:arcTo wR="21600" hR="20153" stAng="5861420" swAng="1443536"/>
                    <a:lnTo>
                      <a:pt x="2700" y="9329"/>
                    </a:lnTo>
                    <a:close/>
                  </a:path>
                  <a:path fill="none" w="21600" h="21600">
                    <a:moveTo>
                      <a:pt x="8100" y="5242"/>
                    </a:moveTo>
                    <a:arcTo wR="21600" hR="20153" stAng="5861420" swAng="466702"/>
                    <a:lnTo>
                      <a:pt x="8100" y="2542"/>
                    </a:lnTo>
                  </a:path>
                  <a:path fill="none" w="21600" h="21600">
                    <a:moveTo>
                      <a:pt x="13500" y="5242"/>
                    </a:moveTo>
                    <a:arcTo wR="21600" hR="20153" stAng="4938580" swAng="-466702"/>
                    <a:lnTo>
                      <a:pt x="13500" y="2542"/>
                    </a:lnTo>
                  </a:path>
                  <a:path fill="none" w="21600" h="21600">
                    <a:moveTo>
                      <a:pt x="5400" y="18260"/>
                    </a:moveTo>
                    <a:lnTo>
                      <a:pt x="5400" y="4760"/>
                    </a:lnTo>
                  </a:path>
                  <a:path fill="none" w="21600" h="21600">
                    <a:moveTo>
                      <a:pt x="16200" y="18260"/>
                    </a:moveTo>
                    <a:lnTo>
                      <a:pt x="16200" y="4760"/>
                    </a:lnTo>
                  </a:path>
                </a:pathLst>
              </a:custGeom>
              <a:solidFill>
                <a:srgbClr val="89a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WordArt 15"/>
              <p:cNvSpPr txBox="1"/>
              <p:nvPr/>
            </p:nvSpPr>
            <p:spPr>
              <a:xfrm>
                <a:off x="7200000" y="3737880"/>
                <a:ext cx="1106640" cy="33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школьный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218" name="Rectangle 16"/>
          <p:cNvSpPr/>
          <p:nvPr/>
        </p:nvSpPr>
        <p:spPr>
          <a:xfrm>
            <a:off x="250920" y="6021360"/>
            <a:ext cx="244944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Отв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22"/>
          <p:cNvGrpSpPr/>
          <p:nvPr/>
        </p:nvGrpSpPr>
        <p:grpSpPr>
          <a:xfrm>
            <a:off x="971640" y="1341360"/>
            <a:ext cx="3168720" cy="830160"/>
            <a:chOff x="971640" y="1341360"/>
            <a:chExt cx="3168720" cy="830160"/>
          </a:xfrm>
        </p:grpSpPr>
        <p:graphicFrame>
          <p:nvGraphicFramePr>
            <p:cNvPr id="220" name="Object 18"/>
            <p:cNvGraphicFramePr/>
            <p:nvPr/>
          </p:nvGraphicFramePr>
          <p:xfrm>
            <a:off x="971640" y="1341360"/>
            <a:ext cx="3168720" cy="83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1" name="Object 1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71640" y="1341360"/>
                      <a:ext cx="3168720" cy="83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2" name="Oval 19"/>
            <p:cNvSpPr/>
            <p:nvPr/>
          </p:nvSpPr>
          <p:spPr>
            <a:xfrm>
              <a:off x="1474920" y="169992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0"/>
            <p:cNvSpPr/>
            <p:nvPr/>
          </p:nvSpPr>
          <p:spPr>
            <a:xfrm>
              <a:off x="2698920" y="155556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1"/>
            <p:cNvSpPr/>
            <p:nvPr/>
          </p:nvSpPr>
          <p:spPr>
            <a:xfrm>
              <a:off x="2698920" y="191592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27"/>
          <p:cNvGrpSpPr/>
          <p:nvPr/>
        </p:nvGrpSpPr>
        <p:grpSpPr>
          <a:xfrm>
            <a:off x="971640" y="2276640"/>
            <a:ext cx="4176720" cy="785520"/>
            <a:chOff x="971640" y="2276640"/>
            <a:chExt cx="4176720" cy="785520"/>
          </a:xfrm>
        </p:grpSpPr>
        <p:graphicFrame>
          <p:nvGraphicFramePr>
            <p:cNvPr id="226" name="Object 23"/>
            <p:cNvGraphicFramePr/>
            <p:nvPr/>
          </p:nvGraphicFramePr>
          <p:xfrm>
            <a:off x="971640" y="2276640"/>
            <a:ext cx="4176720" cy="785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27" name="Object 2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71640" y="2276640"/>
                      <a:ext cx="4176720" cy="78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8" name="Oval 24"/>
            <p:cNvSpPr/>
            <p:nvPr/>
          </p:nvSpPr>
          <p:spPr>
            <a:xfrm>
              <a:off x="1474920" y="256536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25"/>
            <p:cNvSpPr/>
            <p:nvPr/>
          </p:nvSpPr>
          <p:spPr>
            <a:xfrm>
              <a:off x="2627280" y="285264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26"/>
            <p:cNvSpPr/>
            <p:nvPr/>
          </p:nvSpPr>
          <p:spPr>
            <a:xfrm>
              <a:off x="2627280" y="242100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40"/>
          <p:cNvGrpSpPr/>
          <p:nvPr/>
        </p:nvGrpSpPr>
        <p:grpSpPr>
          <a:xfrm>
            <a:off x="1042920" y="3141720"/>
            <a:ext cx="3529080" cy="830160"/>
            <a:chOff x="1042920" y="3141720"/>
            <a:chExt cx="3529080" cy="830160"/>
          </a:xfrm>
        </p:grpSpPr>
        <p:graphicFrame>
          <p:nvGraphicFramePr>
            <p:cNvPr id="232" name="Object 28"/>
            <p:cNvGraphicFramePr/>
            <p:nvPr/>
          </p:nvGraphicFramePr>
          <p:xfrm>
            <a:off x="1042920" y="3141720"/>
            <a:ext cx="3529080" cy="830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3" name="Object 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042920" y="3141720"/>
                      <a:ext cx="3529080" cy="83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4" name="Oval 29"/>
            <p:cNvSpPr/>
            <p:nvPr/>
          </p:nvSpPr>
          <p:spPr>
            <a:xfrm>
              <a:off x="1547640" y="3500280"/>
              <a:ext cx="7164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30"/>
            <p:cNvSpPr/>
            <p:nvPr/>
          </p:nvSpPr>
          <p:spPr>
            <a:xfrm>
              <a:off x="3205080" y="3284640"/>
              <a:ext cx="7164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31"/>
            <p:cNvSpPr/>
            <p:nvPr/>
          </p:nvSpPr>
          <p:spPr>
            <a:xfrm>
              <a:off x="3059280" y="364500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42"/>
          <p:cNvGrpSpPr/>
          <p:nvPr/>
        </p:nvGrpSpPr>
        <p:grpSpPr>
          <a:xfrm>
            <a:off x="1042920" y="4076640"/>
            <a:ext cx="4105440" cy="776520"/>
            <a:chOff x="1042920" y="4076640"/>
            <a:chExt cx="4105440" cy="776520"/>
          </a:xfrm>
        </p:grpSpPr>
        <p:grpSp>
          <p:nvGrpSpPr>
            <p:cNvPr id="238" name="Group 39"/>
            <p:cNvGrpSpPr/>
            <p:nvPr/>
          </p:nvGrpSpPr>
          <p:grpSpPr>
            <a:xfrm>
              <a:off x="1042920" y="4076640"/>
              <a:ext cx="4105440" cy="776520"/>
              <a:chOff x="1042920" y="4076640"/>
              <a:chExt cx="4105440" cy="776520"/>
            </a:xfrm>
          </p:grpSpPr>
          <p:graphicFrame>
            <p:nvGraphicFramePr>
              <p:cNvPr id="239" name="Object 38"/>
              <p:cNvGraphicFramePr/>
              <p:nvPr/>
            </p:nvGraphicFramePr>
            <p:xfrm>
              <a:off x="1042920" y="4076640"/>
              <a:ext cx="4105440" cy="7765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40" name="Object 38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1042920" y="4076640"/>
                        <a:ext cx="4105440" cy="776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41" name="Oval 33"/>
              <p:cNvSpPr/>
              <p:nvPr/>
            </p:nvSpPr>
            <p:spPr>
              <a:xfrm>
                <a:off x="2771640" y="4437000"/>
                <a:ext cx="7164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Oval 35"/>
              <p:cNvSpPr/>
              <p:nvPr/>
            </p:nvSpPr>
            <p:spPr>
              <a:xfrm>
                <a:off x="3995640" y="4221000"/>
                <a:ext cx="7164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37"/>
              <p:cNvSpPr/>
              <p:nvPr/>
            </p:nvSpPr>
            <p:spPr>
              <a:xfrm>
                <a:off x="3995640" y="4581360"/>
                <a:ext cx="7164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34"/>
              <p:cNvSpPr/>
              <p:nvPr/>
            </p:nvSpPr>
            <p:spPr>
              <a:xfrm>
                <a:off x="1476360" y="4437000"/>
                <a:ext cx="7128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Text Box 41"/>
            <p:cNvSpPr/>
            <p:nvPr/>
          </p:nvSpPr>
          <p:spPr>
            <a:xfrm>
              <a:off x="1619280" y="4149720"/>
              <a:ext cx="35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Text Box 43"/>
          <p:cNvSpPr/>
          <p:nvPr/>
        </p:nvSpPr>
        <p:spPr>
          <a:xfrm>
            <a:off x="395280" y="1484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4"/>
          <p:cNvSpPr/>
          <p:nvPr/>
        </p:nvSpPr>
        <p:spPr>
          <a:xfrm>
            <a:off x="395280" y="23954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5"/>
          <p:cNvSpPr/>
          <p:nvPr/>
        </p:nvSpPr>
        <p:spPr>
          <a:xfrm>
            <a:off x="395280" y="32590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6"/>
          <p:cNvSpPr/>
          <p:nvPr/>
        </p:nvSpPr>
        <p:spPr>
          <a:xfrm>
            <a:off x="395280" y="41958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7"/>
          <p:cNvSpPr/>
          <p:nvPr/>
        </p:nvSpPr>
        <p:spPr>
          <a:xfrm>
            <a:off x="395280" y="50594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48"/>
          <p:cNvGraphicFramePr/>
          <p:nvPr/>
        </p:nvGraphicFramePr>
        <p:xfrm>
          <a:off x="971640" y="4941720"/>
          <a:ext cx="5256000" cy="901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2" name="Object 4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71640" y="4941720"/>
                    <a:ext cx="525600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Oval 49"/>
          <p:cNvSpPr/>
          <p:nvPr/>
        </p:nvSpPr>
        <p:spPr>
          <a:xfrm>
            <a:off x="1692360" y="537372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50"/>
          <p:cNvSpPr/>
          <p:nvPr/>
        </p:nvSpPr>
        <p:spPr>
          <a:xfrm>
            <a:off x="3348000" y="515772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51"/>
          <p:cNvSpPr/>
          <p:nvPr/>
        </p:nvSpPr>
        <p:spPr>
          <a:xfrm>
            <a:off x="3276720" y="558972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52"/>
          <p:cNvSpPr/>
          <p:nvPr/>
        </p:nvSpPr>
        <p:spPr>
          <a:xfrm>
            <a:off x="4643280" y="515772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53"/>
          <p:cNvSpPr/>
          <p:nvPr/>
        </p:nvSpPr>
        <p:spPr>
          <a:xfrm>
            <a:off x="4716360" y="558972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4"/>
          <p:cNvSpPr/>
          <p:nvPr/>
        </p:nvSpPr>
        <p:spPr>
          <a:xfrm>
            <a:off x="6156360" y="5084640"/>
            <a:ext cx="1440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0,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55"/>
          <p:cNvSpPr/>
          <p:nvPr/>
        </p:nvSpPr>
        <p:spPr>
          <a:xfrm>
            <a:off x="2987640" y="6021360"/>
            <a:ext cx="576360" cy="503280"/>
          </a:xfrm>
          <a:custGeom>
            <a:avLst/>
            <a:gdLst/>
            <a:ahLst/>
            <a:rect l="l" t="t" r="r" b="b"/>
            <a:pathLst>
              <a:path w="576263" h="503237">
                <a:moveTo>
                  <a:pt x="1" y="192219"/>
                </a:moveTo>
                <a:lnTo>
                  <a:pt x="220114" y="192220"/>
                </a:lnTo>
                <a:lnTo>
                  <a:pt x="288132" y="0"/>
                </a:lnTo>
                <a:lnTo>
                  <a:pt x="356149" y="192220"/>
                </a:lnTo>
                <a:lnTo>
                  <a:pt x="576262" y="192219"/>
                </a:lnTo>
                <a:lnTo>
                  <a:pt x="398186" y="311016"/>
                </a:lnTo>
                <a:lnTo>
                  <a:pt x="466206" y="503236"/>
                </a:lnTo>
                <a:lnTo>
                  <a:pt x="288132" y="384436"/>
                </a:lnTo>
                <a:lnTo>
                  <a:pt x="110057" y="503236"/>
                </a:lnTo>
                <a:lnTo>
                  <a:pt x="178077" y="311016"/>
                </a:lnTo>
                <a:lnTo>
                  <a:pt x="1" y="192219"/>
                </a:lnTo>
                <a:close/>
              </a:path>
            </a:pathLst>
          </a:custGeom>
          <a:solidFill>
            <a:srgbClr val="f41f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56"/>
          <p:cNvSpPr/>
          <p:nvPr/>
        </p:nvSpPr>
        <p:spPr>
          <a:xfrm>
            <a:off x="3780000" y="6093000"/>
            <a:ext cx="433080" cy="433080"/>
          </a:xfrm>
          <a:prstGeom prst="ellipse">
            <a:avLst/>
          </a:prstGeom>
          <a:solidFill>
            <a:srgbClr val="f3e8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57"/>
          <p:cNvSpPr/>
          <p:nvPr/>
        </p:nvSpPr>
        <p:spPr>
          <a:xfrm>
            <a:off x="4427640" y="6021360"/>
            <a:ext cx="576000" cy="503280"/>
          </a:xfrm>
          <a:custGeom>
            <a:avLst/>
            <a:gdLst/>
            <a:ahLst/>
            <a:rect l="l" t="t" r="r" b="b"/>
            <a:pathLst>
              <a:path w="576262" h="503237">
                <a:moveTo>
                  <a:pt x="1" y="192219"/>
                </a:moveTo>
                <a:lnTo>
                  <a:pt x="220114" y="192220"/>
                </a:lnTo>
                <a:lnTo>
                  <a:pt x="288131" y="0"/>
                </a:lnTo>
                <a:lnTo>
                  <a:pt x="356148" y="192220"/>
                </a:lnTo>
                <a:lnTo>
                  <a:pt x="576261" y="192219"/>
                </a:lnTo>
                <a:lnTo>
                  <a:pt x="398185" y="311016"/>
                </a:lnTo>
                <a:lnTo>
                  <a:pt x="466205" y="503236"/>
                </a:lnTo>
                <a:lnTo>
                  <a:pt x="288131" y="384436"/>
                </a:lnTo>
                <a:lnTo>
                  <a:pt x="110057" y="503236"/>
                </a:lnTo>
                <a:lnTo>
                  <a:pt x="178077" y="311016"/>
                </a:lnTo>
                <a:lnTo>
                  <a:pt x="1" y="192219"/>
                </a:lnTo>
                <a:close/>
              </a:path>
            </a:pathLst>
          </a:custGeom>
          <a:solidFill>
            <a:srgbClr val="f41f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58"/>
          <p:cNvSpPr/>
          <p:nvPr/>
        </p:nvSpPr>
        <p:spPr>
          <a:xfrm>
            <a:off x="5867280" y="6021360"/>
            <a:ext cx="576360" cy="503280"/>
          </a:xfrm>
          <a:custGeom>
            <a:avLst/>
            <a:gdLst/>
            <a:ahLst/>
            <a:rect l="l" t="t" r="r" b="b"/>
            <a:pathLst>
              <a:path w="576263" h="503237">
                <a:moveTo>
                  <a:pt x="1" y="192219"/>
                </a:moveTo>
                <a:lnTo>
                  <a:pt x="220114" y="192220"/>
                </a:lnTo>
                <a:lnTo>
                  <a:pt x="288132" y="0"/>
                </a:lnTo>
                <a:lnTo>
                  <a:pt x="356149" y="192220"/>
                </a:lnTo>
                <a:lnTo>
                  <a:pt x="576262" y="192219"/>
                </a:lnTo>
                <a:lnTo>
                  <a:pt x="398186" y="311016"/>
                </a:lnTo>
                <a:lnTo>
                  <a:pt x="466206" y="503236"/>
                </a:lnTo>
                <a:lnTo>
                  <a:pt x="288132" y="384436"/>
                </a:lnTo>
                <a:lnTo>
                  <a:pt x="110057" y="503236"/>
                </a:lnTo>
                <a:lnTo>
                  <a:pt x="178077" y="311016"/>
                </a:lnTo>
                <a:lnTo>
                  <a:pt x="1" y="192219"/>
                </a:lnTo>
                <a:close/>
              </a:path>
            </a:pathLst>
          </a:custGeom>
          <a:solidFill>
            <a:srgbClr val="f41f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59"/>
          <p:cNvSpPr/>
          <p:nvPr/>
        </p:nvSpPr>
        <p:spPr>
          <a:xfrm>
            <a:off x="5218200" y="6093000"/>
            <a:ext cx="433440" cy="433080"/>
          </a:xfrm>
          <a:prstGeom prst="ellipse">
            <a:avLst/>
          </a:prstGeom>
          <a:solidFill>
            <a:srgbClr val="f3e8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10" descr="T1"/>
          <p:cNvPicPr/>
          <p:nvPr/>
        </p:nvPicPr>
        <p:blipFill>
          <a:blip r:embed="rId1"/>
          <a:stretch/>
        </p:blipFill>
        <p:spPr>
          <a:xfrm>
            <a:off x="3132000" y="0"/>
            <a:ext cx="6012000" cy="601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Object 29"/>
          <p:cNvGraphicFramePr/>
          <p:nvPr/>
        </p:nvGraphicFramePr>
        <p:xfrm>
          <a:off x="2268360" y="0"/>
          <a:ext cx="2176560" cy="27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7" name="Object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0"/>
                    <a:ext cx="2176560" cy="27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AutoShape 16"/>
          <p:cNvSpPr/>
          <p:nvPr/>
        </p:nvSpPr>
        <p:spPr>
          <a:xfrm>
            <a:off x="324000" y="0"/>
            <a:ext cx="7127640" cy="1341360"/>
          </a:xfrm>
          <a:prstGeom prst="horizontalScroll">
            <a:avLst>
              <a:gd name="adj" fmla="val 125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25"/>
          <p:cNvGraphicFramePr/>
          <p:nvPr/>
        </p:nvGraphicFramePr>
        <p:xfrm>
          <a:off x="6805440" y="4365720"/>
          <a:ext cx="2303640" cy="249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0" name="Object 2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05440" y="4365720"/>
                    <a:ext cx="2303640" cy="24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27"/>
          <p:cNvGraphicFramePr/>
          <p:nvPr/>
        </p:nvGraphicFramePr>
        <p:xfrm>
          <a:off x="2916360" y="4481640"/>
          <a:ext cx="2341440" cy="2376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2" name="Object 2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4481640"/>
                    <a:ext cx="234144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28"/>
          <p:cNvGraphicFramePr/>
          <p:nvPr/>
        </p:nvGraphicFramePr>
        <p:xfrm>
          <a:off x="938160" y="2639880"/>
          <a:ext cx="2338560" cy="2301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4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38160" y="2639880"/>
                    <a:ext cx="2338560" cy="23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30"/>
          <p:cNvGraphicFramePr/>
          <p:nvPr/>
        </p:nvGraphicFramePr>
        <p:xfrm>
          <a:off x="5219640" y="4941720"/>
          <a:ext cx="1590840" cy="1916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76" name="Object 3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219640" y="4941720"/>
                    <a:ext cx="159084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WordArt 17"/>
          <p:cNvSpPr txBox="1"/>
          <p:nvPr/>
        </p:nvSpPr>
        <p:spPr>
          <a:xfrm>
            <a:off x="108000" y="5016600"/>
            <a:ext cx="4895640" cy="143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тодика 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Гусеница"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8" name="WordArt 31"/>
          <p:cNvSpPr txBox="1"/>
          <p:nvPr/>
        </p:nvSpPr>
        <p:spPr>
          <a:xfrm>
            <a:off x="539640" y="333360"/>
            <a:ext cx="67690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41f1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числительная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41f1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1:47:28Z</dcterms:created>
  <dc:creator>AVBer</dc:creator>
  <dc:description/>
  <dc:language>en-US</dc:language>
  <cp:lastModifiedBy>LEGION</cp:lastModifiedBy>
  <dcterms:modified xsi:type="dcterms:W3CDTF">2015-01-26T10:34:20Z</dcterms:modified>
  <cp:revision>100</cp:revision>
  <dc:subject/>
  <dc:title>Слайд 1</dc:title>
</cp:coreProperties>
</file>