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217C-7272-4BD3-9287-AC135A32AF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CB8A-0CF4-45F8-86DB-D6E35C914B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адачи, приводящие к        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понятию производ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ый проект по матема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Этапы и сроки проведени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Организационно-подготовительный этап </a:t>
            </a:r>
            <a:br>
              <a:rPr sz="1200"/>
            </a:b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   (1 неделя – 45 минут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. Постановка пробл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. Формирование групп, составление плана дейст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. Обсуждение возможных источников информации по поставленной проблеме, вопросов защиты  авторских пр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4. Самостоятельное распределение заданий внутри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20CC-9455-429C-9009-170752799D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Этапы и сроки прове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00"/>
                </a:solidFill>
                <a:latin typeface="Times New Roman"/>
              </a:rPr>
              <a:t>II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. Экспериментально-аналитически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(1,2 недели - внеурочно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бор информации по проблемам исследов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оведение наблюдений, экспери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нализ результа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онсультационо-координирующая деятельность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бсуждение, обобщение результатов исследований (общие вывод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6600"/>
                </a:solidFill>
                <a:latin typeface="Times New Roman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848B-590E-4972-BE78-7DA6A8703C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Arial"/>
              </a:rPr>
              <a:t>Этапы и сроки провед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00"/>
                </a:solidFill>
                <a:latin typeface="Times New Roman"/>
              </a:rPr>
              <a:t>III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. Заключительный этап</a:t>
            </a: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(2 неделя – внеурочно, 1,5 часа – подведение итогов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ыбор творческого названия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формление результатов исследования в виде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презентации и букл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формление «Портфолио мультимедийных умен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результатов исслед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ефлексия деятельности участников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ценивание деятельности участников проекта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учи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AEEB-131F-45E3-8349-428EF85297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Результаты исследов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Мультимедийная презентация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Задачи, приводящие к понятию производно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Букл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Остановись мгновенье! Мы тебя исследуе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Веб-сайт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Задачи, приводящие к понятию производно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8D29-0E42-4C80-8838-B1323BEBCE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Информационные ресур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tel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«Обучение для будущего»: Учеб. пособие/ Под ред. Е.Н. Ястребцовой, Я.С Быховского. —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е издание испр. — М.: Интернет-Университет Информационных Технологий, 2006. — 1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8 с.+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.      Журналы «Математика в школ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920C-1DF4-4C6E-A767-B87FBE5774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55D9-36B7-4B90-9F3C-3C7439D6A6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дактические цели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предметной 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самостоятельной познавательной активности, навыков работы с большими объемами информации, умений видеть проблему и наметить пути ее решения, применять базовые знания для решения конкретной проблемы, развитие креативных способностей, логического мыш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коммуникативно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умения кратко, логично и понятно излагать свои мысли, математически грамотно говор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 социальной 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навыков работы в команде: умения отстаивать свою точку зрения, считаться с чужим мнением, проводить объективную рефлекс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EE41-00E3-4011-ABD7-572A571DEF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кажи мне, и я забу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окажи мне, и я запомн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Дай мне действовать  самом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 я науч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фуц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A20D-34F2-434C-B565-20EC3DAA46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и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ормировать у учащихся осознанное понятие производной функ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ить школьников обрабатывать и обобщать полученную  информацию в результате проведенных вычислений и экспериментов,  научить пользоваться  PowerPoint для оформления результатов,  научить  кратко излагать свои мысли устно и письмен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ормировать навыки проектной деятельност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DF0E-99D8-4693-B0BE-488E71A618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проекта в учебном процесс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6600"/>
                </a:solidFill>
                <a:latin typeface="Times New Roman"/>
              </a:rPr>
              <a:t>Предметная область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мате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6600"/>
                </a:solidFill>
                <a:latin typeface="Times New Roman"/>
              </a:rPr>
              <a:t>Учебная тем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Введение понятия производной функ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2DB6-C715-4455-8440-041A50E490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Основополагающий вопр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тематика - это царица нау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ли их служан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66C2-9E96-428A-B802-94CD942814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исследовательский </a:t>
            </a:r>
            <a:br>
              <a:rPr sz="1200"/>
            </a:b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по доминирующей деятельност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межпредметный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(по предметно-содержательной област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краткосрочный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 (10.11 - 25.11.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по продолжительности выполнения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открытый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(по характеру координации проект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внутришкольный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(по характеру контакто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групповой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(6 человек – три команд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05DD-E290-4203-916D-29AAD155EF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Проблемные 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 Что такое мгновенная скорость с точки зрения математика ?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Какие характеристики  производной можно использовать для исследования функции  и построения графиков ?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Можно ли применить производную для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шения прикладных задач ?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1BFD-BF4D-4562-9F22-7E1DFAE839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Темы самостоятельных исследов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добрать и систематизирова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) задачи из курса физики и химии, приводящие к понятию  производн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) задачи из курса геометрии, приводящие к понятию  производн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) Задачи из курса экономики, приводящие к понятию  производ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9420-67C1-4014-AE5E-E760B4154B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5498-4BA3-431B-86A5-9D0F844D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94EC-B83B-4415-ADCE-564A243A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DCA0-8EE5-43FA-B457-5E41863E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9D21-E17D-4820-8CF4-7E45D027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9E3A-0FC9-4A70-BD16-F7192C4F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FFE4-9A36-40D1-B739-0BC13134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171E-292E-4EC7-876F-42E7A1F6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FE2B-FC1E-489F-B597-ECD7DE88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6E19-77C9-4042-9410-1E212946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91CD-D628-47C4-A9AD-6157FDBC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0304-6ABD-4D00-B0A2-002672C3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2F2E-4B1B-460C-9886-EED5B447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3B23-99EE-4F21-ABEA-ACE19BC3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E7F3-1707-4653-9D39-951C895B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4A02-6E36-44DD-9D10-6AC2258F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07E6-822B-4A55-8380-2C853BAB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C1D4-60BB-461F-8899-951BF05D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F1F4-15E6-41E0-A68C-6FE0901E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19C5-AFC9-4CD7-9988-3E5342C5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2F4A-8A38-4126-853C-7F4F56D8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1729-FB13-4DE9-AEAE-70F8B9A7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E167-BEA3-4AF6-B6FC-D5D64884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6504-717C-4B92-B465-FD5E58E9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ECB6-5C6D-4672-A7EE-EF003890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48C9-F423-4B1F-8B21-6517D3EBC9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0079-0750-4475-B98F-E5F4F9F3CB3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920" y="400500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Задачи, приводящие к         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 понятию производной.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276360" y="2708280"/>
            <a:ext cx="56322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бный проект по мате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056280" y="1052640"/>
            <a:ext cx="316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итель МОУСОШ №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рохов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астни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ащиеся 10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0" y="1521000"/>
            <a:ext cx="1908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Учись учиться всю жиз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ершенствуй себя и умей находить истин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00"/>
                </a:solidFill>
                <a:latin typeface="Times New Roman"/>
              </a:rPr>
              <a:t>Этапы и сроки проведения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208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00000"/>
              </a:lnSpc>
              <a:buClr>
                <a:srgbClr val="006600"/>
              </a:buClr>
              <a:buSzPct val="9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Организационно-подготовительный этап </a:t>
            </a:r>
            <a:br>
              <a:rPr sz="2400"/>
            </a:b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   (1 неделя – 45 минут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. Постановка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. Формирование групп, составление плана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. Обсуждение возможных источников информации по поставленной проблеме, вопросов защиты  авторских пр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. Самостоятельное распределение заданий внутри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00"/>
                </a:solidFill>
                <a:latin typeface="Times New Roman"/>
              </a:rPr>
              <a:t>Этапы и сроки проведени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I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. Экспериментально-аналитически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(1,2 недели - внеурочно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бор информации по проблемам исслед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оведение наблюдений, экспери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нализ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нсультационо-координирующая деятельность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суждение, обобщение результатов исследований (общие выво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6600"/>
                </a:solidFill>
                <a:latin typeface="Times New Roman"/>
              </a:rPr>
              <a:t>Этапы и сроки проведе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II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. Заключительный этап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(2 неделя – внеурочно, 1,5 часа – подведение итого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ыбор творческого названия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формление результатов исследования в виде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презентации и букл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формление «Портфолио мультимедийных умен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дставление результатов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флексия деятельности участников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ценивание деятельности участников проекта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00"/>
                </a:solidFill>
                <a:latin typeface="Times New Roman"/>
              </a:rPr>
              <a:t>Результаты исследований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Мультимедийная презентация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Задачи, приводящие к понятию производн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Бук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Остановись мгновенье! Мы тебя исследуе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Веб-сайт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Задачи, приводящие к понятию производн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00"/>
                </a:solidFill>
                <a:latin typeface="Times New Roman"/>
              </a:rPr>
              <a:t>Информационные ресурсы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tel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«Обучение для будущего»: Учеб. пособие/ Под ред. Е.Н. Ястребцовой, Я.С Быховского. —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-е издание испр. — М.: Интернет-Университет Информационных Технологий, 2006. — 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8 с.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2.      Журналы «Математика в шко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Автор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6443640" y="1628640"/>
            <a:ext cx="252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щиеся 10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мбарцумян Ануш, Дешевых Андрей,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ындин  Вячеслав,   Макаровская И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ликова Евгения, Морохов Алексан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1_1"/>
          <p:cNvPicPr/>
          <p:nvPr/>
        </p:nvPicPr>
        <p:blipFill>
          <a:blip r:embed="rId1"/>
          <a:stretch/>
        </p:blipFill>
        <p:spPr>
          <a:xfrm>
            <a:off x="1116000" y="1557360"/>
            <a:ext cx="5040360" cy="33512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47640" y="-27000"/>
            <a:ext cx="65534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Дидактические цели проекта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701360"/>
            <a:ext cx="8425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предметной компетент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самостоятельной познавательной активности, навыков работы с большими объемами информации, умений видеть проблему и наметить пути ее решения, применять базовые знания для решения конкретной проблемы, развитие креативных способностей, логического мыш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коммуникативно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етент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умения кратко, логично и понятно излагать свои мысли, математически грамотно говор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социальной компетент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навыков работы в команде: умения отстаивать свою точку зрения, считаться с чужим мнением, проводить объективную рефлекс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348000" y="58248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кажи мне, и я заб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кажи мне, и я запомн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ай мне действовать  само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 я научу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кажи мне, и я забу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окажи мне, и я запомн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Дай мне действовать  самому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 я научу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фуц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5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Методические задачи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ормировать у учащихся осознанное понятие производной функ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чить школьников обрабатывать и обобщать полученную  информацию в результате проведенных вычислений и экспериментов,  научить пользоваться  PowerPoint для оформления результатов,  научить  кратко излагать свои мысли устно и письм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ормировать навыки проектной деятельност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Место проекта в учебном процесс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971640" y="2060640"/>
            <a:ext cx="784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Times New Roman"/>
              </a:rPr>
              <a:t>Предметная область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Times New Roman"/>
              </a:rPr>
              <a:t>Учебная тем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Введение понятия производной функ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544920"/>
            <a:ext cx="75438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00"/>
                </a:solidFill>
                <a:latin typeface="Times New Roman"/>
              </a:rPr>
              <a:t>Основополагающий вопрос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2560" y="4861080"/>
            <a:ext cx="792180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тематика - это царица нау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ли их служан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042920" y="33336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16000" y="260280"/>
            <a:ext cx="7543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00"/>
                </a:solidFill>
                <a:latin typeface="Times New Roman"/>
              </a:rPr>
              <a:t>Учебный  вопрос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84360" y="1514520"/>
            <a:ext cx="81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ввести понятие производной функции опираясь на известные понятия из предметов школьного курс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книга вопрос"/>
          <p:cNvPicPr/>
          <p:nvPr/>
        </p:nvPicPr>
        <p:blipFill>
          <a:blip r:embed="rId1"/>
          <a:stretch/>
        </p:blipFill>
        <p:spPr>
          <a:xfrm>
            <a:off x="6732720" y="258840"/>
            <a:ext cx="1439640" cy="8557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Тип проект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исследовательский </a:t>
            </a:r>
            <a:br>
              <a:rPr sz="2400"/>
            </a:b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по доминирующей деятельност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межпредметный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(по предметно-содержательной област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краткосрочный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 (10.11 - 25.11.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по продолжительности выполнени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открытый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(по характеру координации проект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внутришкольный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(по характеру контакт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групповой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(6 человек – три коман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00"/>
                </a:solidFill>
                <a:latin typeface="Times New Roman"/>
              </a:rPr>
              <a:t>Проблемные вопросы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Что такое мгновенная скорость с точки зрения математика ?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Какие характеристики  производной можно использовать для исследования функции  и построения графиков ?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Можно ли применить производную для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шения прикладных задач 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0920" y="277560"/>
            <a:ext cx="82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00"/>
                </a:solidFill>
                <a:latin typeface="Times New Roman"/>
              </a:rPr>
              <a:t>Темы самостоятельных исследований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обрать и систематизиров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задачи из курса физики и химии, приводящие к понятию  производ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задачи из курса геометрии, приводящие к понятию  производ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Задачи из курса экономики, приводящие к понятию  производ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07:57:20Z</dcterms:created>
  <dc:creator>Секретарь</dc:creator>
  <dc:description/>
  <dc:language>en-US</dc:language>
  <cp:lastModifiedBy>LEGION</cp:lastModifiedBy>
  <dcterms:modified xsi:type="dcterms:W3CDTF">2015-01-26T10:34:55Z</dcterms:modified>
  <cp:revision>41</cp:revision>
  <dc:subject/>
  <dc:title>Слайд 1</dc:title>
</cp:coreProperties>
</file>