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E885-565F-402D-9C80-79A81B7060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C1E2-250B-4E0D-9AA2-117558866B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Задачи, приводящие к       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понятию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бный проект по математ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Организационно-подготовительный этап </a:t>
            </a:r>
            <a:br>
              <a:rPr sz="1200"/>
            </a:b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(1 неделя – 45 минут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. Постановка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. Формирование групп, составление плана 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3. Обсуждение возможных источников информации по поставленной проблеме, вопросов защиты  авторских пр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4. Самостоятельное распределение заданий внутри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0E53-9ED9-4B73-BB42-301D3DFE72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. Экспериментально-аналитически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(1,2 недели - внеурочно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бор информации по проблемам исследов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ведение наблюдений, экспери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нализ результа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онсультационо-координирующая деятельность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учи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бсуждение, обобщение результатов исследований (общие выво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F64A-AF72-4FD9-8659-F60FDEF937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Arial"/>
              </a:rPr>
              <a:t>Этапы и сроки прове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. Заключительный этап</a:t>
            </a:r>
            <a:r>
              <a:rPr b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(2 неделя – внеурочно, 1,5 часа – подведение итогов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бор творческого названи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 в вид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презентации и букле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формление «Портфолио мультимедийных умен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ефлексия деятельности участников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ценивание деятельности участников проект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уч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C78A-B85C-45A6-ADC2-F9503895D5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Результаты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Мультимедийная презентация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Букл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Остановись мгновенье! Мы тебя исследуе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Веб-сайт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4806-27A9-45FE-AA99-9D0A60C47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Информационные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«Обучение для будущего»: Учеб. пособие/ Под ред. Е.Н. Ястребцовой, Я.С Быховского. —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-е издание испр. — М.: Интернет-Университет Информационных Технологий, 2006. — 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8 с.+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2.      Журналы «Математика в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A175-CE75-4FCE-AEB9-B7DE45DEEC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1E64-1344-426E-97FE-7D11639508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дактические цел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предметн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самостоятельной познавательной активности, навыков работы с большими объемами информации, умений видеть проблему и наметить пути ее решения, применять базовые знания для решения конкретной проблемы, развитие креативных способностей, логического мыш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о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умения кратко, логично и понятно излагать свои мысли, математически грамотно говор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навыков работы в команде: умения отстаивать свою точку зрения, считаться с чужим мнением, проводить объективную рефлекс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99AE-0177-45DD-BB9D-E2F710A75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29AD-05C0-40E1-9DC2-DD6205DF4A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ие 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ть у учащихся осознанное понятие производной функ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ь школьников обрабатывать и обобщать полученную  информацию в результате проведенных вычислений и экспериментов,  научить пользоваться  PowerPoint для оформления результатов,  научить  кратко излагать свои мысли устно и письме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ормировать навыки проект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317E-1BFB-430F-B8AB-6C819AC0DA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проекта в учебном процесс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Предметная область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Учебная тем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Введение понятия производной функ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3419-4391-4F6C-865A-D55FD87FC1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Основополагающи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тематика - это царица нау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ли их служа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1A57-E9A4-4003-B02F-2B6C138A7D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исследовательский </a:t>
            </a:r>
            <a:br>
              <a:rPr sz="1200"/>
            </a:b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по доминирующей деятельност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межпредметны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предметно-содержательной област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краткосрочны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 (10.11 - 25.11.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(по продолжительности выполнени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открыты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характеру координации проект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внутришкольны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(по характеру контакт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групповой</a:t>
            </a:r>
            <a:r>
              <a:rPr b="1" i="1" lang="ru-RU" sz="1200" spc="-1" strike="noStrike">
                <a:solidFill>
                  <a:srgbClr val="808080"/>
                </a:solidFill>
                <a:latin typeface="Times New Roman"/>
              </a:rPr>
              <a:t>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(6 человек – три команд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D6D1-A4D2-40CB-A8BF-6216C6FA10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Проблемные 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 Что такое мгновенная скорость с точки зрения математика ?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Какие характеристики  производной можно использовать для исследования функции  и построения графиков ?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Можно ли применить производную для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я прикладных задач ?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0E99-82E7-47CA-978B-41BD93F600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00"/>
                </a:solidFill>
                <a:latin typeface="Arial"/>
              </a:rPr>
              <a:t>Темы самостоятельных исследов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добрать и систематизирова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) задачи из курса физики и химии, приводящие к понятию  производ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) задачи из курса геометрии, приводящие к понятию  производ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) Задачи из курса экономики, приводящие к понятию  производ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1A97-FEFE-4F47-B38C-FB488F9C36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7E43-145E-48E7-AB0A-25AFF9FB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E8C-8505-4DE0-8CD7-BFB3F67E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04B-A3EE-4EB0-B5EE-C845395A3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41C-97EC-4E27-B5F8-940EE8DC0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8F01-4B56-4711-8AD1-A989DC19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A260-CC33-49FD-A686-0D0CFC7A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41B5-4B28-4BE6-A44F-B31030FB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FA0A-1052-487B-BF59-E7A9EECE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4DFF-CE40-4EF0-830B-880CB343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3ACF-FE1D-440B-8930-EB478D6E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B973-3789-4BB6-A4FE-70D9B405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8D4-0525-4516-9DCC-E3B6ADFB0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E3E8-DF00-45A7-836B-7D7BA7D7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F6BE-F2EC-4D5F-A346-E73A1F3C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3A89-585E-4683-9DAE-CF7139AA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3A1C-0124-4B20-91D8-33D94635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4D85-5A4E-40BF-AF40-D1D0A0F9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B231-644D-4156-B8D8-32DC2308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517-FF7B-4EFF-84CC-FFC7FD71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24ED-1E76-4502-B9C6-94150B1B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BEF-DFBE-4922-96EA-4989FB05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B927-BC41-4EE5-8C73-7C8F0EF9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8989-B63D-42A2-9417-1FFBBAA9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2ED-A6C7-41D5-BFF8-F842534E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D103-EFCF-4D8D-9512-7C051F4E6B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F9D8-080A-4727-87D8-E25E7AA373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6920" y="400500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Задачи, приводящие к        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 понятию производной.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76360" y="2708280"/>
            <a:ext cx="56322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ебный проект по математ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056280" y="1052640"/>
            <a:ext cx="316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итель МОУСОШ №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рохова Л.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астни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чащиеся 10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1521000"/>
            <a:ext cx="1908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Учись учиться всю жиз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вершенствуй себя и умей находить истин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208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00000"/>
              </a:lnSpc>
              <a:buClr>
                <a:srgbClr val="006600"/>
              </a:buClr>
              <a:buSzPct val="9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рганизационно-подготовительный этап </a:t>
            </a:r>
            <a:br>
              <a:rPr sz="2400"/>
            </a:b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(1 неделя – 45 мину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. Постановка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. Формирование групп, составление плана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. Обсуждение возможных источников информации по поставленной проблеме, вопросов защиты  авторск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. Самостоятельное распределение заданий внутри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I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. Экспериментально-аналитический 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1,2 недели - внеурочно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бор информации по проблемам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оведение наблюдений, экспери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нализ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сультационо-координирующая деятельность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суждение, обобщение результатов исследований (общие выво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6600"/>
                </a:solidFill>
                <a:latin typeface="Times New Roman"/>
              </a:rPr>
              <a:t>Этапы и сроки проведения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III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. Заключительный этап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(2 неделя – внеурочно, 1,5 часа – подведение итого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бор творческого названия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формление результатов исследования в виде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презентации и букл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формление «Портфолио мультимедийных умени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дставление результатов исслед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флексия деятельности участников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ценивание деятельности участников проект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учител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Результаты исследова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Мультимедийная презентация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Букл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Остановись мгновенье! Мы тебя исследу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Веб-сайт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Задачи, приводящие к понятию производно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Информационные ресурс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«Обучение для будущего»: Учеб. пособие/ Под ред. Е.Н. Ястребцовой, Я.С Быховского. —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-е издание испр. — М.: Интернет-Университет Информационных Технологий, 2006. — 1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8 с.+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2.      Журналы «Математика в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Авто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6443640" y="1628640"/>
            <a:ext cx="252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еся 10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мбарцумян Ануш, Дешевых Андрей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ындин  Вячеслав,   Макаровская И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ликова Евгения, Морохов Алексан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1_1"/>
          <p:cNvPicPr/>
          <p:nvPr/>
        </p:nvPicPr>
        <p:blipFill>
          <a:blip r:embed="rId1"/>
          <a:stretch/>
        </p:blipFill>
        <p:spPr>
          <a:xfrm>
            <a:off x="1116000" y="1557360"/>
            <a:ext cx="5040360" cy="3351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640" y="-27000"/>
            <a:ext cx="6553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Дидактические цели проекта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701360"/>
            <a:ext cx="842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предметной 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самостоятельной познавательной активности, навыков работы с большими объемами информации, умений видеть проблему и наметить пути ее решения, применять базовые знания для решения конкретной проблемы, развитие креативных способностей, логи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коммуникативно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умения кратко, логично и понятно излагать свои мысли, математически грамотно гово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ормирование социальной компетент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навыков работы в команде: умения отстаивать свою точку зрения, считаться с чужим мнением, проводить объективную рефлекс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348000" y="58248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кажи мне, и я забу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кажи мне, и я запомн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ай мне действовать  самом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 я научу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фуц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5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Методические задач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у учащихся осознанное понятие производной фун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чить школьников обрабатывать и обобщать полученную  информацию в результате проведенных вычислений и экспериментов,  научить пользоваться  PowerPoint для оформления результатов,  научить  кратко излагать свои мысли устно и письм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ормировать навыки проектн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Место проекта в учебном процессе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971640" y="2060640"/>
            <a:ext cx="784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Предметная область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00"/>
                </a:solidFill>
                <a:latin typeface="Times New Roman"/>
              </a:rPr>
              <a:t>Учебная те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Введение понятия производной функ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544920"/>
            <a:ext cx="754380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Основополагающий вопрос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2560" y="4861080"/>
            <a:ext cx="792180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матика - это царица нау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ли их служан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42920" y="333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116000" y="260280"/>
            <a:ext cx="75438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00"/>
                </a:solidFill>
                <a:latin typeface="Times New Roman"/>
              </a:rPr>
              <a:t>Учебный  вопрос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84360" y="1514520"/>
            <a:ext cx="813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ввести понятие производной функции опираясь на известные понятия из предметов школьного курс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книга вопрос"/>
          <p:cNvPicPr/>
          <p:nvPr/>
        </p:nvPicPr>
        <p:blipFill>
          <a:blip r:embed="rId1"/>
          <a:stretch/>
        </p:blipFill>
        <p:spPr>
          <a:xfrm>
            <a:off x="6732720" y="258840"/>
            <a:ext cx="1439640" cy="8557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Тип проект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исследовательский </a:t>
            </a:r>
            <a:br>
              <a:rPr sz="2400"/>
            </a:b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доминирующей деятельно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межпредметны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предметно-содержательной област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краткосрочны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 (10.11 - 25.11.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по продолжительности выполне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открыты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характеру координации проект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внутришкольный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(по характеру контакт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групповой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(6 человек – три команд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Проблемные вопросы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78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. Что такое мгновенная скорость с точки зрения математика ?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акие характеристики  производной можно использовать для исследования функции  и построения графиков ?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Можно ли применить производную дл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ения прикладных задач 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0920" y="277560"/>
            <a:ext cx="82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6600"/>
                </a:solidFill>
                <a:latin typeface="Times New Roman"/>
              </a:rPr>
              <a:t>Темы самостоятельных исследований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обрать и систематизиров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задачи из курса физики и химии, приводящие к понятию  производ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задачи из курса геометрии, приводящие к понятию  производ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Задачи из курса экономики, приводящие к понятию  произв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07:57:20Z</dcterms:created>
  <dc:creator>Секретарь</dc:creator>
  <dc:description/>
  <dc:language>en-US</dc:language>
  <cp:lastModifiedBy>LEGION</cp:lastModifiedBy>
  <dcterms:modified xsi:type="dcterms:W3CDTF">2015-01-26T10:34:55Z</dcterms:modified>
  <cp:revision>41</cp:revision>
  <dc:subject/>
  <dc:title>Слайд 1</dc:title>
</cp:coreProperties>
</file>