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25.jpeg" ContentType="image/jpeg"/>
  <Override PartName="/ppt/media/image10.wmf" ContentType="image/x-wmf"/>
  <Override PartName="/ppt/media/image31.jpeg" ContentType="image/jpeg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9.wmf" ContentType="image/x-wmf"/>
  <Override PartName="/ppt/media/image30.gif" ContentType="image/gif"/>
  <Override PartName="/ppt/media/image16.wmf" ContentType="image/x-wmf"/>
  <Override PartName="/ppt/media/image35.wmf" ContentType="image/x-wmf"/>
  <Override PartName="/ppt/media/image5.wmf" ContentType="image/x-wmf"/>
  <Override PartName="/ppt/media/image27.jpeg" ContentType="image/jpeg"/>
  <Override PartName="/ppt/media/image13.wmf" ContentType="image/x-wmf"/>
  <Override PartName="/ppt/media/image33.wmf" ContentType="image/x-wmf"/>
  <Override PartName="/ppt/media/image29.jpeg" ContentType="image/jpeg"/>
  <Override PartName="/ppt/media/image3.wmf" ContentType="image/x-wm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22.jpeg" ContentType="image/jpeg"/>
  <Override PartName="/ppt/media/image14.wmf" ContentType="image/x-wmf"/>
  <Override PartName="/ppt/media/image17.wmf" ContentType="image/x-wmf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FEFB-6130-4FEB-8778-9CD92DF5150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езентация к уроку алгебры </a:t>
            </a:r>
            <a:br>
              <a:rPr sz="900"/>
            </a:b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(8 класс)</a:t>
            </a: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«Преобразование выражений, содержащих операцию извлечения квадратного корн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атематики Косова В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БОУ гимназия № 9 Г. Ставроп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C67E-6344-47BD-A37F-BA3E11567AD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тветы к тест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 вари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вари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                                                             № 3(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(а)  102                                               № 5(а)    36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(а)                                                             № 6 (а)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(а)                                                            № 7(а)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итерии оценки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, № 6(а) –оценка «3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, № 6(а), № 5(а) –оценка «4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(а), № 6(а), № 5(а), № 7(а) –оценка «5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0FBD-BDA0-4808-AC58-B8938AFB102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5.6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)                                           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5.79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24FC-FC46-43B0-AB85-6253D92A7C44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образование выражений, содержащих операцию извлечения квадратного кор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6BA0-212F-4EA9-841D-2F9734D2E735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сторическая справ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ифметический корень произошел от латинского слова radix – корень, radicalis – корен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я с 13 века итальянские и другие европейские математики обозначали корень латинским словом radix ( сокращенно r). В 1525 г. в книге Х.Рудольфа “Быстрый и красивый счет при помощи искусных правил алгебры, обычно называемых Косс” появилось обозначение V для квадратного корня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V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кубического. В 1626 г. голландский математик А. Жирар ввел обозначе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V и т. д., которые вскоре вытеснили знак r, при этом над подкоренным выражением ставилась горизонтальная черта. Современное обозначение корня впервые появилось в книге Рене Декарта “Геометрия”, изданной в 1637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799E-6A9B-45F7-B868-007ABDE9838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стная раб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ислит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нести множитель из-под знака корн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сти множитель под знак корн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E553-345A-4F6D-ABEA-DDD53B77F429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айдите ошиб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666D-20FA-4450-A5FF-34A27C0FDEC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5. Записать в тетрадь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формулу квадратного корня из произ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формулу квадратного корня из част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формулу квадратного корня из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5DD2-04EF-4678-B1AE-4D666CB70B5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A607-A598-45FE-AB88-06B8CF679FDC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CD1-C8A0-4C54-85F2-3A516A63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627B-0DA2-477B-A351-7FBB71A6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29D27A-1655-4C12-BF69-C924EE9D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23904-3089-4D9A-B8ED-9D415970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657F1-6F98-434B-86E2-A57231F3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BF1E5-D3C3-4149-8D99-6DF75576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E0B6F-98D5-4546-8CAC-01F6FFA7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22A6D7-B410-4E96-ABA9-92738195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2128F-A5DA-4715-9952-137D6DAE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F8DA1-175B-44FC-8CEA-B65AC509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138A2-A228-49D3-98F9-81EFCCE2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DCA-3BC9-45AB-A7AC-10CF5E66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09F5-591E-4C65-AE6C-27F97EB5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1E0D-E3E6-487E-8C52-448D331E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9C01-36C6-482A-8EE8-4A09C71A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D638-D405-4638-B8B3-7FBE0C01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673C-4D75-4E0F-BEEC-11CBEC07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6355-A420-4632-97A5-48B94323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6899-339E-43BE-9786-57ECD244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C955-9CAD-4706-BE75-83559692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0571-2374-4311-B255-A92C5083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9418-46C3-4986-A39F-E4B2A06C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FB9A-A788-4A06-8EDD-1219F1D9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CE70-0BD6-4592-B56B-E3AB85A12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4A20-31C3-4616-B9EF-4040360C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AAC7-789A-4B1A-B892-43A26C7D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491D8-3C83-47A3-8207-2382D4AD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AAC78-3FF1-4455-8FF0-AC892391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7C4DB-3BC1-4DE1-9A62-A11640A4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CC270-8245-48C8-B673-1ACBC560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C6919-F074-4CF8-9220-9B52E18A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E898-4824-4EA3-998C-0F721342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FEAB5-DD8F-475E-B71F-00F06E38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EBD49-1C1C-4F3D-B286-258AFEB3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9A695-3D63-44EE-92DC-07DDD94B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9F94B-E104-49EA-AF89-70A3CCA7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EEF69-9283-4774-8FF4-1F961FF4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E978A-13F6-45B5-9912-A3D2DE30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3E164-C8FD-4690-9CBB-216DEE03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E9684-5C58-45E3-B079-B81352F0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C5455-628C-46C9-95E0-1EFDD130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88E28-B55B-48F6-82D4-2157999C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2EAE-C42D-4A94-B1B0-6B01097E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5D1CC-D0C0-427B-8E34-DDC62B4F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B1E95-821C-416B-9920-6A0BF962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2BDCD-8E4F-46AA-A21F-C5E80A1A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D83E2-303E-4235-8AF6-4D2D0A68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80404-77A7-4BC7-BF11-3EDC5FF9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CB85E-03C9-400B-A676-709B427E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58A10-6D11-41D6-A981-8F828444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58AD3-533D-4B75-A843-55A0C7F8F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226C2-835D-43F8-8057-87162DFE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7CF48-1CA1-4FD9-8471-7233FAE6D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EDC-FC27-4BBC-83E5-18D8AC90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DED9C-B034-4E09-97E3-C4D36E63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CCA72-B266-44C7-8C4C-AC7E4901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6C4D2-A3F7-4AA8-AB92-8FA0496D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408FC-60B3-47B5-A955-8433464B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A9703-38DE-40AD-9305-80B384E3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BB9DA-D6BC-4983-9B8F-0D99802A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14952-ADDB-44C4-AC43-51AA1B62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01C9C-2214-43F6-B06D-6E07C432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4DCAB-6895-4A40-A4E7-E6A86E1E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D1B16-D784-4BF5-B47F-4047556E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AA66-1D8F-4E48-B051-4F3FB7B3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5C6B4-1A66-4DC2-BB91-98B7C72D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365E7-7E55-4691-B4FE-D3376A5F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0F2D6-2DE5-41E3-9B66-EEF84987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8EF5F-11FF-4E27-ACE3-F42EB4FA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C8180-D3A6-47F3-9787-59596D37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C61A7-82E2-4CC3-BCAA-DD74B21C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CEDF4-2D12-4036-AD41-5A9DAC7C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58ACB-4E5F-4454-B634-124CA668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ED7B2-11DE-4AC0-B160-83D4F3D6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20F58-C16B-42A6-A245-8539D7EF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B64F-7FEF-4055-BA8D-32D35A01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1AAE1-B902-4429-8894-BF79E205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0B3A6-5DE8-4E15-9F8B-728F7AF9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E7C6A-0617-4B59-94DE-EC4FB0378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CC6C2-1900-4956-B6A0-EF5D33128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1EA33-5832-49CB-9E3D-3B932576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29044-BEA4-486D-A983-A9B03107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6A4D1-CCF0-48C0-856C-8AAACF9C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8A71D-D15D-458C-996D-0007E53B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E8A56-AA20-4E32-8831-8D378936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5EC93-BD5E-48F7-85C1-D7F624A2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B987-4C0B-4FD9-9086-AE63B298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4E2BA-284D-4F7C-B72D-0B159885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CB22E-1EEF-41F5-8624-97A40830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A7014-C631-45BE-A9AF-CCF70E89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F036C-791B-41A0-8500-0434A78A5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E44A4-A42F-4F76-AAC8-D9946EF7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8C751-FBEF-4EC9-9757-C6CF4B46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E4FA9-AC78-4B01-87A1-B636B59C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A8070-EA53-4F83-948F-20D0771B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1A24A-A747-4031-BDE4-03CABEF4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224DD-2511-40FF-A786-98C7803D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CDD9-EDEF-48F6-8B9D-B45B4F3E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4EA13-9604-47B7-9FA1-85BA50C9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59C33-756A-45DA-B6ED-3EB22001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98087-DD90-4672-B89B-9C7F593A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2E863-6A13-40D0-A3BA-D026BB83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BDEAE-DA78-4B75-B85F-A1DA440A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7E7BE-0EF0-4CD6-9A4A-97CBD6A1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A1FBD-CDC9-41A9-8C39-14D142AD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00515-5754-46B7-8354-197EC448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C12D6-6AF2-4E02-9B8F-9A65195E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100410-D276-48AB-A4D3-43DC8BAC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EF33-0CCE-458E-AF83-018B20F3C26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DC05-2239-4195-963F-79DC9FBADE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4368-62CE-4415-9A72-341AF96DEFC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F77B-142B-465E-9B62-B1D1D935F9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E583-713D-4ABF-8B09-078AF7AA9EF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403A-033F-41AF-86AC-8373CBB7E6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8B6D-3B1C-4D66-A00B-68DC5E07569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22D1-4F55-4F11-8154-7E86F364E4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A839-30E2-494E-88FD-89E80EC5F5A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D9C4-E03A-4AF1-A076-885C311031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BB17-55C0-4B55-BD67-8F0495CB5CE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31A3-8F75-4950-A299-0E9913A63B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AA7A-6E2C-4EBC-947F-74CC0A84F85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8FFA-96AA-464B-8E1C-8F950ED151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7E9F-EC28-4AE0-BB00-C133EB455EE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7EE5-06EC-4544-93E0-61DDB5DC9A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D3C2-93DF-4275-859F-1D102D81B0B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1C0F-2319-48CA-97AE-4C9806642B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gif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7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29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зентация к уроку алгебр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8 класс)</a:t>
            </a:r>
            <a:br>
              <a:rPr sz="24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«Преобразование выражений, содержащих операцию извлечения квадратного корн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математики Косова В.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БОУ гимназия № 9 Г. Ставропо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Рисунок 1" descr=""/>
          <p:cNvPicPr/>
          <p:nvPr/>
        </p:nvPicPr>
        <p:blipFill>
          <a:blip r:embed="rId1"/>
          <a:stretch/>
        </p:blipFill>
        <p:spPr>
          <a:xfrm>
            <a:off x="192240" y="4724280"/>
            <a:ext cx="1623960" cy="1719360"/>
          </a:xfrm>
          <a:prstGeom prst="rect">
            <a:avLst/>
          </a:prstGeom>
          <a:ln w="0">
            <a:noFill/>
          </a:ln>
        </p:spPr>
      </p:pic>
      <p:sp>
        <p:nvSpPr>
          <p:cNvPr id="44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38 -0.03518 C 0.00104 0.14537 0.0217 0.12708 0.07865 0.12292 C 0.16059 0.12292 0.16667 -0.7206 0.26459 -0.72361 C 0.35261 -0.72361 0.30556 0.01412 0.39028 0.01088 C 0.47882 0.01088 0.43125 -0.52292 0.52587 -0.52292 C 0.61059 -0.52292 0.56354 -0.16296 0.63906 -0.16296 C 0.71181 -0.16296 0.67413 -0.43773 0.74028 -0.43773 C 0.77795 -0.43773 0.78073 -0.36296 0.78403 -0.30556 E">
                                      <p:cBhvr>
                                        <p:cTn id="15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29398 C -2.22222E-006 -0.09352 0.0875 0.06204 0.19427 0.06204 C 0.30434 0.06204 0.39202 -0.09352 0.39202 -0.29398 C 0.39202 -0.49468 0.47952 -0.65 0.58959 -0.65 C 0.69636 -0.65 0.78403 -0.49468 0.78403 -0.29398 E">
                                      <p:cBhvr>
                                        <p:cTn id="18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" nodeType="after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29931 C -2.22222E-006 -0.50301 0.0875 -0.66065 0.19427 -0.66065 C 0.30434 -0.66065 0.39202 -0.50301 0.39202 -0.29931 C 0.39202 -0.09583 0.47952 0.06204 0.58959 0.06204 C 0.69636 0.06204 0.78403 -0.09583 0.78403 -0.29931 E">
                                      <p:cBhvr>
                                        <p:cTn id="21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31505 C -2.22222E-006 -0.10278 0.08837 0.06204 0.19618 0.06204 C 0.30729 0.06204 0.39584 -0.10278 0.39584 -0.31505 C 0.39584 -0.52755 0.48438 -0.69213 0.59549 -0.69213 C 0.7033 -0.69213 0.79184 -0.52755 0.79184 -0.31505 E">
                                      <p:cBhvr>
                                        <p:cTn id="24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Рисунок 1" descr=""/>
          <p:cNvPicPr/>
          <p:nvPr/>
        </p:nvPicPr>
        <p:blipFill>
          <a:blip r:embed="rId1"/>
          <a:stretch/>
        </p:blipFill>
        <p:spPr>
          <a:xfrm>
            <a:off x="635040" y="819000"/>
            <a:ext cx="912600" cy="96552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2" descr=""/>
          <p:cNvPicPr/>
          <p:nvPr/>
        </p:nvPicPr>
        <p:blipFill>
          <a:blip r:embed="rId2"/>
          <a:stretch/>
        </p:blipFill>
        <p:spPr>
          <a:xfrm>
            <a:off x="4859280" y="111240"/>
            <a:ext cx="1081080" cy="114444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3" descr=""/>
          <p:cNvPicPr/>
          <p:nvPr/>
        </p:nvPicPr>
        <p:blipFill>
          <a:blip r:embed="rId3"/>
          <a:stretch/>
        </p:blipFill>
        <p:spPr>
          <a:xfrm>
            <a:off x="2484360" y="1341360"/>
            <a:ext cx="1023840" cy="108432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4" descr=""/>
          <p:cNvPicPr/>
          <p:nvPr/>
        </p:nvPicPr>
        <p:blipFill>
          <a:blip r:embed="rId4"/>
          <a:stretch/>
        </p:blipFill>
        <p:spPr>
          <a:xfrm>
            <a:off x="7308720" y="1200240"/>
            <a:ext cx="1103400" cy="116820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5" descr=""/>
          <p:cNvPicPr/>
          <p:nvPr/>
        </p:nvPicPr>
        <p:blipFill>
          <a:blip r:embed="rId5"/>
          <a:stretch/>
        </p:blipFill>
        <p:spPr>
          <a:xfrm>
            <a:off x="-5076720" y="3295800"/>
            <a:ext cx="3892320" cy="252864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6" descr=""/>
          <p:cNvPicPr/>
          <p:nvPr/>
        </p:nvPicPr>
        <p:blipFill>
          <a:blip r:embed="rId6"/>
          <a:stretch/>
        </p:blipFill>
        <p:spPr>
          <a:xfrm>
            <a:off x="9144000" y="2924280"/>
            <a:ext cx="4927680" cy="320364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7" descr=""/>
          <p:cNvPicPr/>
          <p:nvPr/>
        </p:nvPicPr>
        <p:blipFill>
          <a:blip r:embed="rId7"/>
          <a:stretch/>
        </p:blipFill>
        <p:spPr>
          <a:xfrm>
            <a:off x="-2495520" y="4186080"/>
            <a:ext cx="2006640" cy="166212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10" descr=""/>
          <p:cNvPicPr/>
          <p:nvPr/>
        </p:nvPicPr>
        <p:blipFill>
          <a:blip r:embed="rId8"/>
          <a:stretch/>
        </p:blipFill>
        <p:spPr>
          <a:xfrm>
            <a:off x="9178920" y="3192480"/>
            <a:ext cx="2665440" cy="2824200"/>
          </a:xfrm>
          <a:prstGeom prst="rect">
            <a:avLst/>
          </a:prstGeom>
          <a:ln w="0">
            <a:noFill/>
          </a:ln>
        </p:spPr>
      </p:pic>
      <p:sp>
        <p:nvSpPr>
          <p:cNvPr id="4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08 0.05741 L 1.60625 0.05231 E">
                                      <p:cBhvr>
                                        <p:cTn id="30" dur="5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611 0.06065 L -1.62465 0.06273 E">
                                      <p:cBhvr>
                                        <p:cTn id="33" dur="5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201 -0.0088 L 1.37674 -0.01968 E">
                                      <p:cBhvr>
                                        <p:cTn id="36" dur="5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8 0.03865 L -1.61024 0.04143 E">
                                      <p:cBhvr>
                                        <p:cTn id="39" dur="5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тветы к тест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394920" y="126792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1 вариан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2вариа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                                                             № 3(а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(а)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№ 5(а)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36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(а)                                                             № 6 (а)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(а)                                                            № 7(а)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итерии оцен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, № 6(а) –оценка «3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, № 6(а), № 5(а) –оценка «4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(а), № 6(а), № 5(а), № 7(а) –оценка «5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4" name="Объект 3"/>
          <p:cNvGraphicFramePr/>
          <p:nvPr/>
        </p:nvGraphicFramePr>
        <p:xfrm>
          <a:off x="1403280" y="1628640"/>
          <a:ext cx="108108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628640"/>
                    <a:ext cx="10810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Объект 4"/>
          <p:cNvGraphicFramePr/>
          <p:nvPr/>
        </p:nvGraphicFramePr>
        <p:xfrm>
          <a:off x="5724360" y="1700280"/>
          <a:ext cx="93528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1700280"/>
                    <a:ext cx="935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Объект 5"/>
          <p:cNvGraphicFramePr/>
          <p:nvPr/>
        </p:nvGraphicFramePr>
        <p:xfrm>
          <a:off x="1403280" y="3068640"/>
          <a:ext cx="72072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9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3068640"/>
                    <a:ext cx="720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Объект 6"/>
          <p:cNvGraphicFramePr/>
          <p:nvPr/>
        </p:nvGraphicFramePr>
        <p:xfrm>
          <a:off x="5796000" y="2997360"/>
          <a:ext cx="64764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61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6000" y="2997360"/>
                    <a:ext cx="647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Объект 7"/>
          <p:cNvGraphicFramePr/>
          <p:nvPr/>
        </p:nvGraphicFramePr>
        <p:xfrm>
          <a:off x="1476360" y="3789360"/>
          <a:ext cx="863640" cy="431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3" name="Объект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6360" y="3789360"/>
                    <a:ext cx="863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Объект 8"/>
          <p:cNvGraphicFramePr/>
          <p:nvPr/>
        </p:nvGraphicFramePr>
        <p:xfrm>
          <a:off x="5435640" y="3789360"/>
          <a:ext cx="1081080" cy="431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5" name="Объект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35640" y="3789360"/>
                    <a:ext cx="1081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ка домашнего зада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94920" y="1196640"/>
            <a:ext cx="820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5.65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)                                           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№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15.79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1" name="Объект 5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Объект 6"/>
          <p:cNvGraphicFramePr/>
          <p:nvPr/>
        </p:nvGraphicFramePr>
        <p:xfrm>
          <a:off x="2268360" y="1197000"/>
          <a:ext cx="2087640" cy="8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Объект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1197000"/>
                    <a:ext cx="20876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Объект 7"/>
          <p:cNvGraphicFramePr/>
          <p:nvPr/>
        </p:nvGraphicFramePr>
        <p:xfrm>
          <a:off x="5651640" y="1197000"/>
          <a:ext cx="2305080" cy="79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Объект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51640" y="1197000"/>
                    <a:ext cx="23050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Объект 8"/>
          <p:cNvGraphicFramePr/>
          <p:nvPr/>
        </p:nvGraphicFramePr>
        <p:xfrm>
          <a:off x="2195640" y="2637000"/>
          <a:ext cx="4680000" cy="93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8" name="Объект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95640" y="2637000"/>
                    <a:ext cx="468000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Объект 9"/>
          <p:cNvGraphicFramePr/>
          <p:nvPr/>
        </p:nvGraphicFramePr>
        <p:xfrm>
          <a:off x="1042920" y="3860640"/>
          <a:ext cx="5977080" cy="93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0" name="Объект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3860640"/>
                    <a:ext cx="59770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Объект 10"/>
          <p:cNvGraphicFramePr/>
          <p:nvPr/>
        </p:nvGraphicFramePr>
        <p:xfrm>
          <a:off x="1187280" y="5157720"/>
          <a:ext cx="5113440" cy="1079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2" name="Объект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5157720"/>
                    <a:ext cx="51134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образование выражений, содержащих операцию извлечения квадратного кор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826920" y="1267920"/>
            <a:ext cx="734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рифметический корень произошел от латинского слова radix – корень, radicalis – коренно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чиная с 13 века итальянские и другие европейские математики обозначали корень латинским словом radix ( сокращенно r). В 1525 г. в книге Х.Рудольфа “Быстрый и красивый счет при помощи искусных правил алгебры, обычно называемых Косс” появилось обозначение V для квадратного корня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VV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для кубического. В 1626 г. голландский математик А. Жирар ввел обозначения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V и т. д., которые вскоре вытеснили знак r, при этом над подкоренным выражением ставилась горизонтальная черта. Современное обозначение корня впервые появилось в книге Рене Декарта “Геометрия”, изданной в 1637 г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9" name="Объект 4"/>
          <p:cNvGraphicFramePr/>
          <p:nvPr/>
        </p:nvGraphicFramePr>
        <p:xfrm>
          <a:off x="3780000" y="4437000"/>
          <a:ext cx="11412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4437000"/>
                    <a:ext cx="11412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Объект 5"/>
          <p:cNvGraphicFramePr/>
          <p:nvPr/>
        </p:nvGraphicFramePr>
        <p:xfrm>
          <a:off x="3492360" y="4437000"/>
          <a:ext cx="127080" cy="16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Объект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360" y="4437000"/>
                    <a:ext cx="127080" cy="1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ная раб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394920" y="1125360"/>
            <a:ext cx="8064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числить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нести множитель из-под знака корн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нести множитель под знак корн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6" name="Объект 3"/>
          <p:cNvGraphicFramePr/>
          <p:nvPr/>
        </p:nvGraphicFramePr>
        <p:xfrm>
          <a:off x="2627280" y="1268280"/>
          <a:ext cx="345744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68280"/>
                    <a:ext cx="34574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Объект 4"/>
          <p:cNvGraphicFramePr/>
          <p:nvPr/>
        </p:nvGraphicFramePr>
        <p:xfrm>
          <a:off x="1187280" y="2492280"/>
          <a:ext cx="3313440" cy="6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492280"/>
                    <a:ext cx="331344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Объект 5"/>
          <p:cNvGraphicFramePr/>
          <p:nvPr/>
        </p:nvGraphicFramePr>
        <p:xfrm>
          <a:off x="1332000" y="4005360"/>
          <a:ext cx="352728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4005360"/>
                    <a:ext cx="3527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Найдите ошибк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5" name="Объект 3"/>
          <p:cNvGraphicFramePr/>
          <p:nvPr/>
        </p:nvGraphicFramePr>
        <p:xfrm>
          <a:off x="971640" y="1125360"/>
          <a:ext cx="2808360" cy="6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25360"/>
                    <a:ext cx="280836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Объект 4"/>
          <p:cNvGraphicFramePr/>
          <p:nvPr/>
        </p:nvGraphicFramePr>
        <p:xfrm>
          <a:off x="1116000" y="1989000"/>
          <a:ext cx="2592360" cy="75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1989000"/>
                    <a:ext cx="259236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Объект 5"/>
          <p:cNvGraphicFramePr/>
          <p:nvPr/>
        </p:nvGraphicFramePr>
        <p:xfrm>
          <a:off x="1116000" y="2852640"/>
          <a:ext cx="3743280" cy="77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0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2852640"/>
                    <a:ext cx="3743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Объект 6"/>
          <p:cNvGraphicFramePr/>
          <p:nvPr/>
        </p:nvGraphicFramePr>
        <p:xfrm>
          <a:off x="1187280" y="3789360"/>
          <a:ext cx="4032360" cy="73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2" name="Объект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87280" y="3789360"/>
                    <a:ext cx="403236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Записать в тетрад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11280" y="1268280"/>
            <a:ext cx="792144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формулу квадратного корня из произвед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формулу квадратного корня из част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формулу квадратного корня и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6" name="Объект 5"/>
          <p:cNvGraphicFramePr/>
          <p:nvPr/>
        </p:nvGraphicFramePr>
        <p:xfrm>
          <a:off x="6588000" y="2924280"/>
          <a:ext cx="7923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Объект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2924280"/>
                    <a:ext cx="792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900000" y="1268280"/>
            <a:ext cx="73440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1" name="Объект 3"/>
          <p:cNvGraphicFramePr/>
          <p:nvPr/>
        </p:nvGraphicFramePr>
        <p:xfrm>
          <a:off x="1547640" y="1341360"/>
          <a:ext cx="3024360" cy="52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341360"/>
                    <a:ext cx="3024360" cy="5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Объект 4"/>
          <p:cNvGraphicFramePr/>
          <p:nvPr/>
        </p:nvGraphicFramePr>
        <p:xfrm>
          <a:off x="1692360" y="2133720"/>
          <a:ext cx="2735280" cy="81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Объект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2133720"/>
                    <a:ext cx="273528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Объект 5"/>
          <p:cNvGraphicFramePr/>
          <p:nvPr/>
        </p:nvGraphicFramePr>
        <p:xfrm>
          <a:off x="1835280" y="3141720"/>
          <a:ext cx="2305080" cy="69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6" name="Объект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35280" y="3141720"/>
                    <a:ext cx="230508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Рисунок 1" descr=""/>
          <p:cNvPicPr/>
          <p:nvPr/>
        </p:nvPicPr>
        <p:blipFill>
          <a:blip r:embed="rId1"/>
          <a:stretch/>
        </p:blipFill>
        <p:spPr>
          <a:xfrm>
            <a:off x="3492360" y="2286000"/>
            <a:ext cx="2159280" cy="228600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2" descr=""/>
          <p:cNvPicPr/>
          <p:nvPr/>
        </p:nvPicPr>
        <p:blipFill>
          <a:blip r:embed="rId2"/>
          <a:stretch/>
        </p:blipFill>
        <p:spPr>
          <a:xfrm>
            <a:off x="3203640" y="0"/>
            <a:ext cx="2539800" cy="2286000"/>
          </a:xfrm>
          <a:prstGeom prst="rect">
            <a:avLst/>
          </a:prstGeom>
          <a:ln w="0">
            <a:noFill/>
          </a:ln>
        </p:spPr>
      </p:pic>
      <p:sp>
        <p:nvSpPr>
          <p:cNvPr id="4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3.33333E-006 C 0.23975 3.33333E-006 0.41232 0.16157 0.41232 0.36088 C 0.41232 0.55972 0.23975 0.72152 0.02829 0.72152 C -0.18316 0.72152 -0.35521 0.55972 -0.35521 0.36088 C -0.35521 0.16157 -0.18316 3.33333E-006 0.02829 3.33333E-006 Z">
                                      <p:cBhvr>
                                        <p:cTn id="6" dur="5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33333E-006 C 0.2106 3.33333E-006 0.38195 0.15926 0.38195 0.35555 C 0.38195 0.55185 0.2106 0.71111 -4.72222E-006 0.71111 C -0.21093 0.71111 -0.38194 0.55185 -0.38194 0.35555 C -0.38194 0.15926 -0.21093 3.33333E-006 -4.72222E-006 3.33333E-006 Z">
                                      <p:cBhvr>
                                        <p:cTn id="9" dur="5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09:12:03Z</dcterms:created>
  <dc:creator>EVA</dc:creator>
  <dc:description/>
  <dc:language>en-US</dc:language>
  <cp:lastModifiedBy>LEGION</cp:lastModifiedBy>
  <dcterms:modified xsi:type="dcterms:W3CDTF">2015-01-26T10:35:21Z</dcterms:modified>
  <cp:revision>13</cp:revision>
  <dc:subject/>
  <dc:title>Проверка домашнего задания:</dc:title>
</cp:coreProperties>
</file>