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ftr" idx="11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 type="sldNum" idx="12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AAF2-7BF5-46AD-BA5A-4ED0AADC0A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Производная степенной 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УРОК алгебры и начала анализа в 11 «Б» классе учителя лицея № 179 ПАК НАТАЛЬИ НИКОЛАЕВ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A70E-23A0-4EFA-993F-F10A00C3A957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Геометрический  смысл производ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состоит в том, что значение производной функции  </a:t>
            </a:r>
            <a:r>
              <a:rPr b="0" i="1" lang="en-US" sz="1200" spc="-1" strike="noStrike">
                <a:solidFill>
                  <a:srgbClr val="0070c0"/>
                </a:solidFill>
                <a:latin typeface="Arial"/>
              </a:rPr>
              <a:t>y=f(x) </a:t>
            </a: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в  точке  </a:t>
            </a:r>
            <a:r>
              <a:rPr b="0" i="1" lang="en-US" sz="1200" spc="-1" strike="noStrike">
                <a:solidFill>
                  <a:srgbClr val="0070c0"/>
                </a:solidFill>
                <a:latin typeface="Arial"/>
              </a:rPr>
              <a:t>x</a:t>
            </a:r>
            <a:r>
              <a:rPr b="0" i="1" lang="ru-RU" sz="12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равно угловому коэффициенту касательной к графику функции в  точке с абсциссой </a:t>
            </a:r>
            <a:r>
              <a:rPr b="0" i="1" lang="en-US" sz="1200" spc="-1" strike="noStrike">
                <a:solidFill>
                  <a:srgbClr val="0070c0"/>
                </a:solidFill>
                <a:latin typeface="Arial"/>
              </a:rPr>
              <a:t>x</a:t>
            </a:r>
            <a:r>
              <a:rPr b="0" i="1" lang="ru-RU" sz="800" spc="-1" strike="noStrike">
                <a:solidFill>
                  <a:srgbClr val="0070c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3A2A-D493-44FF-8AAF-71C255E849E0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метрический смысл производ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AD25-63D1-4CA1-B484-2953B4732518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Arial"/>
              </a:rPr>
              <a:t>Физический  смыс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18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ff66ff"/>
                </a:solidFill>
                <a:latin typeface="Arial"/>
              </a:rPr>
              <a:t>скоро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18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ff66ff"/>
                </a:solidFill>
                <a:latin typeface="Arial"/>
              </a:rPr>
              <a:t>ускор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12A6-BAC7-4CBB-9F8B-1E64D7287E6B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чка движется прямолинейно по закону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числите  скорость движения точ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) в момент времени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) в момент времени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=2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75C6-A98C-4618-826D-2E4E322C42FA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йдите скорость и ускорение для  точки, движущейся по зако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) в момент времени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) в момент времени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=3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B6C9-61E2-4E3E-BC65-1C2FD4D9CA1E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"/>
              </a:rPr>
              <a:t>Проблемная  зада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ве материальные  точки  движутся  прямолинейно  по  закона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какой  момент  времени скорости их  равны, т.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9917-4B7F-4DB4-939E-95DB226AE678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ff66"/>
                </a:solidFill>
                <a:latin typeface="Arial"/>
              </a:rPr>
              <a:t>Решение проблемной  за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DAAC-3331-4D8C-A3E3-87AE602EC6BD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379C-D751-4AD2-84BD-CACEE6BACAC7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cc0000"/>
                </a:solidFill>
                <a:uFillTx/>
                <a:latin typeface="Arial"/>
              </a:rPr>
              <a:t>Упражнение для гла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24E0-387F-466F-BDAD-382A1371431D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оурочные разработки по геометрии: 11 класс». / Сост.  В.А.  Яровенк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Отдых для гла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отрывая глаз, смотрите на двигающийся  кр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Разбор некоторых задач самостоятельной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 = 3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+ 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ru-RU" sz="1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АВ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0 с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1000" spc="-1" strike="noStrike" baseline="-25000">
                <a:solidFill>
                  <a:srgbClr val="000000"/>
                </a:solidFill>
                <a:latin typeface="Arial"/>
              </a:rPr>
              <a:t>се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.к.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′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, то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0 см,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10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 60 + 5 = 65(г/с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твет: 65 г/с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006E-F230-4739-8664-9219198A82E3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Девиз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Кто такой учёны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Тот, кто ночами, забыв про кровать.</a:t>
            </a:r>
            <a:br>
              <a:rPr sz="1200"/>
            </a:b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Усердно роется в книжной груде.</a:t>
            </a:r>
            <a:br>
              <a:rPr sz="1200"/>
            </a:b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Чтобы ещё кое-что узнать</a:t>
            </a:r>
            <a:br>
              <a:rPr sz="1200"/>
            </a:b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Из того, что знают другие люд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П. Хейне – американский экономист, доктор философ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C617-21B2-4A03-B65D-EC99BCB9EB84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Разбор некоторых задач самостоятельной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AC8F-FCC1-4B2F-9A15-2DFE8329B4B4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матики о производн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 Слова 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«производная»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«произошло»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меют похожие части слова, да и смысл похож: производная происходит от исходной функции (переложив на отношения человека: исходная функция - </a:t>
            </a:r>
            <a:r>
              <a:rPr b="1" i="1" lang="ru-RU" sz="1200" spc="-1" strike="noStrike">
                <a:solidFill>
                  <a:srgbClr val="cc0000"/>
                </a:solidFill>
                <a:latin typeface="Arial"/>
              </a:rPr>
              <a:t>«мама»,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ё производная - </a:t>
            </a:r>
            <a:r>
              <a:rPr b="1" i="1" lang="ru-RU" sz="1200" spc="-1" strike="noStrike">
                <a:solidFill>
                  <a:srgbClr val="cc0000"/>
                </a:solidFill>
                <a:latin typeface="Arial"/>
              </a:rPr>
              <a:t>«дочь»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Производна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- часть математической науки, одно из её звеньев. Нет этого звена - прерваны связи между многими понятиями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15FC-108B-4A91-AA56-D4F7C2BEFD46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Что называется производн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Производной функции в дан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точке 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называется предел отношения приращения функции в этой точке к приращению аргумента, когда приращение аргумента стремится к ну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879F-077E-48C8-83B8-BD0417487F19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«Алгоритм нахождения производно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7B0E9-2FF9-473D-92A7-8BAF0E9EFD74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следуя функции, можно встретить случаи, когда функция определена, но не дифференцируема. Что эт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чему так происходи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жно ли этому найти объяснен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5228-F403-40E6-B050-AB9D8C9D4249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Взгляд из дет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ем с детства известно такое явление, как движение мяча, падающего на пол и упруго отскакивающего от н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то явление можно объяснить с помощью законов физ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пробуем переложить всё это на математический язы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CAAF-44D0-431D-BE76-7A561E92349E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отскоке от пола  (пр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=0)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направление движения мяча меняется (и функция достигает минимума), однако в эти моменты скорость мяча не равна нулю, касательную к график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провести нельзя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графике скорости мяча мы видим: в момент отскока скорость мяча однозначно найти нельзя - график скорости в эти моменты имеет разрывы.</a:t>
            </a:r>
            <a:br>
              <a:rPr sz="1200"/>
            </a:b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(Производная в этих точках не существуе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C48B1-EDCA-44E3-A6EB-2C2105D9D1C8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Примеры функций, имеющих особые точ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функции вида у 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пр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=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меют особые точки - точки излома.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ый случай: у 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гд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=0 - особая точ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C17A-52A7-4144-805A-49FCC3597347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BAEE-EC60-418A-8023-C09E89950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2F67-2A81-4840-B53A-56BA8019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5CD6-CF93-421E-8576-CEF0832EB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B805-B88D-4F91-BB06-412577888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E1BB-4735-40D7-BC13-CF79CE3B6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DCF4-E67B-4ADB-AA79-DB037CA1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37FF-498E-47EF-B762-873DD559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F4F2-B189-4560-89B8-B1F496CA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CEE3-1BCB-4844-A54B-8A48D5E2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42B96-B492-4369-9EAC-EE521D21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9B5A-5E27-4821-8036-A67309A8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5C7A-DD29-43F8-AE15-C3EE187C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CF617-FFDF-44A7-B34C-FF174D66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F3BF-DD0A-4068-8C48-5EBECCBF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431F-C0D1-434B-A32B-FC426A9A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19F1-A2C3-4DFD-BDB6-104E336A4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D17E-5823-4780-AEE5-C471498E5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40CBE-2051-4CE4-9D70-F07101B4F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9B798-CA8D-4029-9A53-C97E0E59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A8A42-AFDE-4B9C-96A3-6FEAEF41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B2B8A-4489-4D3A-920C-EB58D24E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D8C04-F0A5-4E7C-B422-21B2E3BB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8664-DABC-4180-8264-B9C0A948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7744B-65AB-4DC0-9475-FEEDC7E6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24A3E-9456-492C-B6F6-40CB83FF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AA416-E5C5-47BB-8FA6-0893B838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2BF3E-3BCD-4DCF-A726-D4040BDE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20B29-E4C6-4741-8752-BB3DEF06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3983C-30D1-4857-819B-251FD64B1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54646-A989-4925-B863-83910B18E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950D-12BC-4E4C-97DD-2BC53A67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A1B9-B2E7-4DDB-9F97-06B58274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FFAF-08DA-4F90-851B-8C3063AD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018B-1771-44E9-8815-DE89ED89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3D77-C6EC-4C8A-95C4-E52FB57F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101A-5480-47EF-AA74-ADFD3695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8A7C-402F-45FB-8418-D216BB1A92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73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74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5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6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8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5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A96D-2189-4EB7-A2EC-5F47F81426C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3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1CE7-FD27-4256-A7D7-E795902E3569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14240" y="78588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br>
              <a:rPr sz="5100"/>
            </a:br>
            <a:br>
              <a:rPr sz="5100"/>
            </a:br>
            <a:br>
              <a:rPr sz="5100"/>
            </a:br>
            <a:br>
              <a:rPr sz="5100"/>
            </a:br>
            <a:br>
              <a:rPr sz="5100"/>
            </a:br>
            <a:br>
              <a:rPr sz="5100"/>
            </a:br>
            <a:br>
              <a:rPr sz="5100"/>
            </a:br>
            <a:r>
              <a:rPr b="0" lang="ru-RU" sz="5100" spc="-1" strike="noStrike">
                <a:solidFill>
                  <a:srgbClr val="cc0000"/>
                </a:solidFill>
                <a:latin typeface="Arial"/>
              </a:rPr>
              <a:t>Производная степенной функции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Verdana"/>
              </a:rPr>
              <a:t>УРОК алгебры и начала анализа в 11 «Б» классе учителя лицея № 179 ПАК НАТАЛЬИ НИКОЛАЕВНЫ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1115640" y="206064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Verdana"/>
              </a:rPr>
              <a:t>Геометрический  смысл производной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70c0"/>
                </a:solidFill>
                <a:latin typeface="Verdana"/>
              </a:rPr>
              <a:t>состоит в том, что значение производной функции  </a:t>
            </a:r>
            <a:r>
              <a:rPr b="0" i="1" lang="en-US" sz="3200" spc="-1" strike="noStrike">
                <a:solidFill>
                  <a:srgbClr val="0070c0"/>
                </a:solidFill>
                <a:latin typeface="Verdana"/>
              </a:rPr>
              <a:t>y=f(x) </a:t>
            </a:r>
            <a:r>
              <a:rPr b="0" lang="en-US" sz="3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70c0"/>
                </a:solidFill>
                <a:latin typeface="Verdana"/>
              </a:rPr>
              <a:t>в  точке  </a:t>
            </a:r>
            <a:r>
              <a:rPr b="0" i="1" lang="en-US" sz="3200" spc="-1" strike="noStrike">
                <a:solidFill>
                  <a:srgbClr val="0070c0"/>
                </a:solidFill>
                <a:latin typeface="Verdana"/>
              </a:rPr>
              <a:t>x</a:t>
            </a:r>
            <a:r>
              <a:rPr b="0" i="1" lang="ru-RU" sz="3200" spc="-1" strike="noStrike">
                <a:solidFill>
                  <a:srgbClr val="0070c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70c0"/>
                </a:solidFill>
                <a:latin typeface="Verdana"/>
              </a:rPr>
              <a:t>равно угловому коэффициенту касательной к графику функции в  точке с абсциссой </a:t>
            </a:r>
            <a:r>
              <a:rPr b="0" i="1" lang="en-US" sz="3200" spc="-1" strike="noStrike">
                <a:solidFill>
                  <a:srgbClr val="0070c0"/>
                </a:solidFill>
                <a:latin typeface="Verdana"/>
              </a:rPr>
              <a:t>x</a:t>
            </a:r>
            <a:r>
              <a:rPr b="0" i="1" lang="ru-RU" sz="1400" spc="-1" strike="noStrike">
                <a:solidFill>
                  <a:srgbClr val="0070c0"/>
                </a:solidFill>
                <a:latin typeface="Verdana"/>
              </a:rPr>
              <a:t>0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2"/>
              <p:cNvSpPr txBox="1"/>
              <p:nvPr/>
            </p:nvSpPr>
            <p:spPr>
              <a:xfrm>
                <a:off x="1476360" y="404640"/>
                <a:ext cx="590544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Геометрический смысл производной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9" name="Picture 4" descr="5"/>
          <p:cNvPicPr/>
          <p:nvPr/>
        </p:nvPicPr>
        <p:blipFill>
          <a:blip r:embed="rId1"/>
          <a:stretch/>
        </p:blipFill>
        <p:spPr>
          <a:xfrm>
            <a:off x="1763640" y="1484280"/>
            <a:ext cx="6261120" cy="502452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Физический  смысл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050560" y="1557360"/>
            <a:ext cx="59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0"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4800" spc="-1" strike="noStrike">
                <a:solidFill>
                  <a:srgbClr val="ff66ff"/>
                </a:solidFill>
                <a:latin typeface="Verdana"/>
              </a:rPr>
              <a:t>скорость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0"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4800" spc="-1" strike="noStrike">
                <a:solidFill>
                  <a:srgbClr val="ff66ff"/>
                </a:solidFill>
                <a:latin typeface="Verdana"/>
              </a:rPr>
              <a:t>ускорение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2"/>
              <p:cNvSpPr txBox="1"/>
              <p:nvPr/>
            </p:nvSpPr>
            <p:spPr>
              <a:xfrm>
                <a:off x="1547640" y="1628640"/>
                <a:ext cx="17272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3"/>
              <p:cNvSpPr txBox="1"/>
              <p:nvPr/>
            </p:nvSpPr>
            <p:spPr>
              <a:xfrm>
                <a:off x="1692360" y="2276640"/>
                <a:ext cx="136836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4"/>
              <p:cNvSpPr txBox="1"/>
              <p:nvPr/>
            </p:nvSpPr>
            <p:spPr>
              <a:xfrm>
                <a:off x="1619280" y="3068640"/>
                <a:ext cx="151128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Rectangle 11"/>
          <p:cNvSpPr/>
          <p:nvPr/>
        </p:nvSpPr>
        <p:spPr>
          <a:xfrm>
            <a:off x="971640" y="4005360"/>
            <a:ext cx="7127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Производная от перемещения по времени  является мгновенная скорост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Производная от скорости по времени является ускорением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5760" y="1598760"/>
            <a:ext cx="82929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очка движется прямолинейно по закону  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ычислите  скорость движения точки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) в момент времени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t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) в момент времени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=2с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Решени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3"/>
              <p:cNvSpPr txBox="1"/>
              <p:nvPr/>
            </p:nvSpPr>
            <p:spPr>
              <a:xfrm>
                <a:off x="6877080" y="1844640"/>
                <a:ext cx="2016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WordArt 4"/>
          <p:cNvSpPr txBox="1"/>
          <p:nvPr/>
        </p:nvSpPr>
        <p:spPr>
          <a:xfrm>
            <a:off x="395280" y="189000"/>
            <a:ext cx="2089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дача 1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5"/>
              <p:cNvSpPr txBox="1"/>
              <p:nvPr/>
            </p:nvSpPr>
            <p:spPr>
              <a:xfrm>
                <a:off x="828720" y="3860640"/>
                <a:ext cx="727236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5760" y="1598760"/>
            <a:ext cx="82929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йдите скорость и ускорение для  точки, движущейся по закону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) в момент времени 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t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) в момент времени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=3с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Решени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3"/>
              <p:cNvSpPr txBox="1"/>
              <p:nvPr/>
            </p:nvSpPr>
            <p:spPr>
              <a:xfrm>
                <a:off x="5148360" y="2421000"/>
                <a:ext cx="2663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5" name="WordArt 4"/>
          <p:cNvSpPr txBox="1"/>
          <p:nvPr/>
        </p:nvSpPr>
        <p:spPr>
          <a:xfrm>
            <a:off x="395280" y="189000"/>
            <a:ext cx="2089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дача 2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5"/>
              <p:cNvSpPr txBox="1"/>
              <p:nvPr/>
            </p:nvSpPr>
            <p:spPr>
              <a:xfrm>
                <a:off x="1258920" y="4076640"/>
                <a:ext cx="5689440" cy="252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∗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м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33"/>
                </a:solidFill>
                <a:latin typeface="Arial"/>
              </a:rPr>
              <a:t>Проблемная  задача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642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ве материальные  точки  движутся  прямолинейно  по  законам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какой  момент  времени скорости их  равны, т.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4"/>
              <p:cNvSpPr txBox="1"/>
              <p:nvPr/>
            </p:nvSpPr>
            <p:spPr>
              <a:xfrm>
                <a:off x="2700360" y="2060640"/>
                <a:ext cx="4248000" cy="16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,5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,5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5"/>
              <p:cNvSpPr txBox="1"/>
              <p:nvPr/>
            </p:nvSpPr>
            <p:spPr>
              <a:xfrm>
                <a:off x="2771640" y="4437000"/>
                <a:ext cx="4248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ff66"/>
                </a:solidFill>
                <a:latin typeface="Arial"/>
              </a:rPr>
              <a:t>Решение проблемной  задач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3"/>
              <p:cNvSpPr txBox="1"/>
              <p:nvPr/>
            </p:nvSpPr>
            <p:spPr>
              <a:xfrm>
                <a:off x="755640" y="1341360"/>
                <a:ext cx="7056360" cy="468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2,5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,5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5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cc0000"/>
                </a:solidFill>
                <a:uFillTx/>
                <a:latin typeface="Arial"/>
              </a:rPr>
              <a:t>Упражнение для глаз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7" name="Picture 3" descr="1479677_Untitled01"/>
          <p:cNvPicPr/>
          <p:nvPr/>
        </p:nvPicPr>
        <p:blipFill>
          <a:blip r:embed="rId1"/>
          <a:stretch/>
        </p:blipFill>
        <p:spPr>
          <a:xfrm>
            <a:off x="0" y="2943360"/>
            <a:ext cx="9144000" cy="3914640"/>
          </a:xfrm>
          <a:prstGeom prst="rect">
            <a:avLst/>
          </a:prstGeom>
          <a:ln w="0">
            <a:noFill/>
          </a:ln>
        </p:spPr>
      </p:pic>
      <p:pic>
        <p:nvPicPr>
          <p:cNvPr id="258" name="зарядка.wav" descr=""/>
          <p:cNvPicPr/>
          <p:nvPr/>
        </p:nvPicPr>
        <p:blipFill>
          <a:blip r:embed="rId2"/>
          <a:stretch/>
        </p:blipFill>
        <p:spPr>
          <a:xfrm>
            <a:off x="7929720" y="64296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31" nodeType="clickEffect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44530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-360" y="152280"/>
            <a:ext cx="9004320" cy="6705360"/>
            <a:chOff x="-360" y="152280"/>
            <a:chExt cx="9004320" cy="6705360"/>
          </a:xfrm>
        </p:grpSpPr>
        <p:sp>
          <p:nvSpPr>
            <p:cNvPr id="261" name="Freeform 3"/>
            <p:cNvSpPr/>
            <p:nvPr/>
          </p:nvSpPr>
          <p:spPr>
            <a:xfrm>
              <a:off x="466200" y="17964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2" name="Freeform 4"/>
            <p:cNvSpPr/>
            <p:nvPr/>
          </p:nvSpPr>
          <p:spPr>
            <a:xfrm>
              <a:off x="505800" y="684396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3" name="Freeform 5"/>
            <p:cNvSpPr/>
            <p:nvPr/>
          </p:nvSpPr>
          <p:spPr>
            <a:xfrm>
              <a:off x="8964000" y="61668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4" name="Freeform 6"/>
            <p:cNvSpPr/>
            <p:nvPr/>
          </p:nvSpPr>
          <p:spPr>
            <a:xfrm>
              <a:off x="52920" y="616680"/>
              <a:ext cx="26640" cy="5762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5" name="Freeform 7"/>
            <p:cNvSpPr/>
            <p:nvPr/>
          </p:nvSpPr>
          <p:spPr>
            <a:xfrm>
              <a:off x="52920" y="636624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6" name="Freeform 8"/>
            <p:cNvSpPr/>
            <p:nvPr/>
          </p:nvSpPr>
          <p:spPr>
            <a:xfrm flipH="1">
              <a:off x="8551080" y="635220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7" name="Freeform 9"/>
            <p:cNvSpPr/>
            <p:nvPr/>
          </p:nvSpPr>
          <p:spPr>
            <a:xfrm flipH="1" rot="16200000">
              <a:off x="8530560" y="14472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8" name="Freeform 10"/>
            <p:cNvSpPr/>
            <p:nvPr/>
          </p:nvSpPr>
          <p:spPr>
            <a:xfrm rot="5400000">
              <a:off x="6840" y="14472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69" name="Text Box 11"/>
          <p:cNvSpPr/>
          <p:nvPr/>
        </p:nvSpPr>
        <p:spPr>
          <a:xfrm>
            <a:off x="380880" y="3049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  <a:ea typeface="Arial"/>
              </a:rPr>
              <a:t>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0" name="Rectangle 12"/>
          <p:cNvSpPr/>
          <p:nvPr/>
        </p:nvSpPr>
        <p:spPr>
          <a:xfrm>
            <a:off x="2484360" y="404640"/>
            <a:ext cx="59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Отдых для глаз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1" name="Rectangle 13"/>
          <p:cNvSpPr/>
          <p:nvPr/>
        </p:nvSpPr>
        <p:spPr>
          <a:xfrm>
            <a:off x="468360" y="1773360"/>
            <a:ext cx="537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отрывая глаз, смотрите на двигающийся  круг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Oval 14"/>
          <p:cNvSpPr/>
          <p:nvPr/>
        </p:nvSpPr>
        <p:spPr>
          <a:xfrm>
            <a:off x="6732720" y="2852640"/>
            <a:ext cx="1582560" cy="15843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1.48148E-006 C -0.02014 -0.03148 0.04427 -0.19467 0.00365 -0.25555 C -0.03698 -0.31643 -0.14323 -0.35254 -0.24409 -0.36528 C -0.34496 -0.37801 -0.51892 -0.37824 -0.60121 -0.33194 C -0.6835 -0.28565 -0.71736 -0.19051 -0.73802 -0.0875 C -0.75868 0.01551 -0.77986 0.20741 -0.725 0.28565 C -0.67014 0.36389 -0.51736 0.37708 -0.40833 0.38241 C -0.2993 0.38773 -0.15 0.39283 -0.07031 0.31736 C 0.00938 0.2419 0.07639 0.03079 0.07032 -0.06991 C 0.06424 -0.1706 -0.01371 -0.24606 -0.10711 -0.2875 C -0.20052 -0.32893 -0.38194 -0.36296 -0.49045 -0.31921 C -0.59896 -0.27546 -0.74288 -0.14028 -0.75833 -0.02546 C -0.77378 0.08935 -0.70399 0.31389 -0.58333 0.36968 C -0.46267 0.42546 -0.1342 0.39653 -0.03455 0.30949 C 0.06511 0.22246 0.10695 -0.06342 0.01424 -0.15254 C -0.07847 -0.24167 -0.50955 -0.19838 -0.59045 -0.22546 C -0.67135 -0.25254 -0.54687 -0.32106 -0.47152 -0.31551 C -0.39618 -0.30995 -0.21597 -0.2618 -0.13802 -0.19213 C -0.06007 -0.12245 -0.00399 0.01921 -0.00364 0.10301 C -0.0033 0.18681 -0.03507 0.27361 -0.13576 0.31111 C -0.23646 0.34861 -0.50781 0.3757 -0.60833 0.32847 C -0.70885 0.28125 -0.73871 0.13496 -0.73923 0.02847 C -0.73975 -0.07801 -0.71684 -0.24097 -0.61198 -0.31111 C -0.50711 -0.38125 -0.225 -0.44444 -0.10955 -0.39213 C 0.00591 -0.33981 0.06598 -0.11643 0.08091 0.00301 C 0.09584 0.12246 0.06059 0.26065 -0.02031 0.32523 C -0.10121 0.38982 -0.32343 0.40486 -0.40468 0.39028 C -0.48593 0.3757 -0.525 0.30509 -0.50833 0.23796 C -0.49166 0.17083 -0.36406 0.05903 -0.30468 -0.01273 C -0.24531 -0.08449 -0.18455 -0.13495 -0.15243 -0.19213 C -0.12031 -0.2493 -0.10156 -0.30972 -0.11198 -0.35555 C -0.12239 -0.40139 -0.17396 -0.46319 -0.21545 -0.46667 C -0.25694 -0.47014 -0.33402 -0.41204 -0.36076 -0.37639 C -0.3875 -0.34074 -0.41493 -0.32639 -0.37639 -0.25208 C -0.33784 -0.17778 -0.17031 -0.02176 -0.12968 0.06968 C -0.08906 0.16111 -0.09236 0.2419 -0.13211 0.29676 C -0.17187 0.35162 -0.30208 0.40278 -0.36788 0.39838 C -0.43368 0.39398 -0.54149 0.34722 -0.52743 0.26968 C -0.51336 0.19213 -0.34982 0.01713 -0.28333 -0.06667 C -0.21684 -0.15046 -0.14392 -0.16643 -0.12864 -0.23333 C -0.11336 -0.30023 -0.14705 -0.44815 -0.19166 -0.46829 C -0.23628 -0.48842 -0.39913 -0.43379 -0.39635 -0.35417 C -0.39357 -0.27454 -0.2243 -0.08079 -0.175 0.00949 C -0.12569 0.09977 -0.10312 0.13264 -0.1 0.18727 C -0.09687 0.2419 -0.11441 0.30278 -0.1559 0.33796 C -0.19739 0.37315 -0.28871 0.4081 -0.34878 0.39838 C -0.40885 0.38866 -0.53802 0.36366 -0.51666 0.27917 C -0.49531 0.19468 -0.28732 -0.01389 -0.22031 -0.1081 C -0.1533 -0.20231 -0.1184 -0.22315 -0.11423 -0.28588 C -0.11007 -0.34861 -0.1467 -0.47917 -0.19531 -0.48426 C -0.24392 -0.48935 -0.41666 -0.41018 -0.4059 -0.31597 C -0.39514 -0.22176 -0.17864 -0.02014 -0.1309 0.08079 C -0.08316 0.18171 -0.09201 0.2382 -0.11909 0.29028 C -0.14618 0.34236 -0.28767 0.39005 -0.29288 0.39352 C -0.29809 0.39699 -0.18159 0.34583 -0.15 0.31111 C -0.1184 0.27639 -0.07847 0.25833 -0.10364 0.18565 C -0.12882 0.11296 -0.24896 -0.03148 -0.30121 -0.12546 C -0.35347 -0.21944 -0.42882 -0.31944 -0.41666 -0.37778 C -0.40451 -0.43611 -0.27482 -0.46967 -0.22864 -0.47477 C -0.18246 -0.47986 -0.1585 -0.44143 -0.13923 -0.4081 C -0.11996 -0.37477 -0.09514 -0.33102 -0.11302 -0.27477 C -0.1309 -0.21852 -0.15833 -0.13079 -0.24635 -0.06991 C -0.33437 -0.00903 -0.56146 0.10533 -0.64166 0.09028 C -0.72187 0.07523 -0.72257 -0.10046 -0.72743 -0.16042 C -0.73229 -0.22037 -0.71545 -0.25139 -0.67031 -0.26991 C -0.62517 -0.28842 -0.53958 -0.31435 -0.45607 -0.27106 C -0.37257 -0.22778 -0.25573 -0.06435 -0.16909 -0.00972 C -0.08246 0.04491 0.0132 0.07315 0.06424 0.05695 C 0.11528 0.04074 0.14254 -0.05602 0.13698 -0.10648 C 0.13143 -0.15694 0.09497 -0.25162 0.03091 -0.24606 C -0.03316 -0.24051 -0.14705 -0.12708 -0.24757 -0.07315 C -0.34809 -0.01921 -0.49323 0.07014 -0.57257 0.07778 C -0.65191 0.08542 -0.70104 0.0206 -0.72378 -0.02708 C -0.74652 -0.07477 -0.73906 -0.16898 -0.70955 -0.2081 C -0.68003 -0.24722 -0.6059 -0.2706 -0.54635 -0.26204 C -0.4868 -0.25347 -0.42257 -0.20555 -0.35243 -0.15717 C -0.28229 -0.10879 -0.19479 -0.00648 -0.125 0.02847 C -0.05521 0.06343 0.02379 0.08195 0.06667 0.05232 C 0.10955 0.02269 0.14462 -0.09745 0.13212 -0.1493 C 0.11962 -0.20116 0.03802 -0.25579 -0.00833 -0.25879 C -0.05468 -0.2618 -0.0783 -0.21319 -0.14635 -0.16667 C -0.21441 -0.12014 -0.34722 -0.02245 -0.41666 0.0206 C -0.48611 0.06366 -0.51875 0.07894 -0.56302 0.0919 C -0.60729 0.10486 -0.64913 0.11968 -0.68211 0.09838 C -0.7151 0.07708 -0.75694 0.01482 -0.76076 -0.03657 C -0.76458 -0.08796 -0.74271 -0.17037 -0.70468 -0.20972 C -0.66666 -0.24907 -0.60746 -0.29629 -0.53229 -0.27268 C -0.45711 -0.24907 -0.26788 -0.07292 -0.25364 -0.06829 C -0.23941 -0.06366 -0.39739 -0.21157 -0.44652 -0.24421 C -0.49566 -0.27685 -0.50434 -0.26852 -0.54878 -0.26366 C -0.59323 -0.25879 -0.68698 -0.26134 -0.71302 -0.21435 C -0.73906 -0.16736 -0.74392 -0.02616 -0.70468 0.01898 C -0.66545 0.06412 -0.55798 0.07732 -0.47743 0.05695 C -0.39687 0.03658 -0.29184 -0.05231 -0.22135 -0.10324 C -0.15086 -0.15417 -0.10243 -0.22824 -0.05468 -0.2493 C -0.00694 -0.27037 0.03525 -0.24745 0.06545 -0.23032 C 0.09566 -0.21319 0.11684 -0.18148 0.12622 -0.14606 C 0.13559 -0.11065 0.13542 -0.05278 0.12136 -0.01759 C 0.10729 0.01759 0.08108 0.05671 0.04167 0.06505 C 0.00226 0.07338 -0.06493 0.05556 -0.11545 0.03171 C -0.16597 0.00787 -0.2151 -0.04259 -0.26198 -0.07778 C -0.30885 -0.11296 -0.35139 -0.15023 -0.39635 -0.1794 C -0.44132 -0.20856 -0.48298 -0.24583 -0.53211 -0.25254 C -0.58125 -0.25926 -0.65833 -0.24861 -0.69166 -0.21921 C -0.725 -0.18981 -0.73489 -0.11967 -0.73211 -0.07639 C -0.72934 -0.0331 -0.72309 0.0213 -0.675 0.04121 C -0.62691 0.06111 -0.52048 0.06759 -0.44409 0.04283 C -0.36771 0.01806 -0.28941 -0.05764 -0.21666 -0.1081 C -0.14392 -0.15856 -0.06389 -0.24583 -0.00711 -0.26042 C 0.04966 -0.275 0.10174 -0.22754 0.12379 -0.19537 C 0.14584 -0.16319 0.14584 -0.1 0.125 -0.06667 C 0.10417 -0.03333 0.02014 0.03148 -3.05556E-006 -1.48148E-006 Z">
                                      <p:cBhvr>
                                        <p:cTn id="40" dur="25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07680" y="7916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Разбор некоторых задач самостоятельной работ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2133360"/>
            <a:ext cx="79581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) = 3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+ 5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А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20 см,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сер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Решение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Т.к.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m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′(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), то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6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5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10 см,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(10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= 60 + 5 = 65(г/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Ответ: 65 г/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6"/>
              <p:cNvSpPr txBox="1"/>
              <p:nvPr/>
            </p:nvSpPr>
            <p:spPr>
              <a:xfrm>
                <a:off x="1523880" y="1397160"/>
                <a:ext cx="6096240" cy="40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Девиз уро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Verdana"/>
              </a:rPr>
              <a:t>Кто такой учёный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Определени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Тот, кто ночами, забыв про кровать.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Усердно роется в книжной груде.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Чтобы ещё кое-что узнать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Из того, что знают другие люди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(П. Хейне – американский экономист, доктор философии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Разбор некоторых задач самостоятельной работ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82" name="Picture 5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327640"/>
          </a:xfrm>
          <a:prstGeom prst="rect">
            <a:avLst/>
          </a:prstGeom>
          <a:ln w="0">
            <a:noFill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04880" y="277560"/>
            <a:ext cx="7734240" cy="834840"/>
          </a:xfrm>
          <a:prstGeom prst="rect">
            <a:avLst/>
          </a:prstGeom>
          <a:solidFill>
            <a:srgbClr val="37a3c9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Математики о производной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850160" cy="45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« Слова 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«производная»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«произошло»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имеют похожие части слова, да и смысл похож: производная происходит от исходной функции (переложив на отношения человека: исходная функция - 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«мама»,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её производная - 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«дочь»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Производна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- часть математической науки, одно из её звеньев. Нет этого звена - прерваны связи между многими понятиями.»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         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6477120" cy="1752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Что называется производной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142640" y="1557000"/>
            <a:ext cx="70009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66ff"/>
                </a:solidFill>
                <a:latin typeface="Verdana"/>
              </a:rPr>
              <a:t>Производной функции в данной</a:t>
            </a:r>
            <a:r>
              <a:rPr b="0" lang="ru-RU" sz="26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600" spc="-1" strike="noStrike">
                <a:solidFill>
                  <a:srgbClr val="ff66ff"/>
                </a:solidFill>
                <a:latin typeface="Verdana"/>
              </a:rPr>
              <a:t>точке </a:t>
            </a:r>
            <a:r>
              <a:rPr b="0" lang="ru-RU" sz="2600" spc="-1" strike="noStrike">
                <a:solidFill>
                  <a:srgbClr val="0070c0"/>
                </a:solidFill>
                <a:latin typeface="Verdana"/>
              </a:rPr>
              <a:t>называется предел отношения приращения функции в этой точке к приращению аргумента, когда приращение аргумента стремится к нулю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2"/>
              <p:cNvSpPr txBox="1"/>
              <p:nvPr/>
            </p:nvSpPr>
            <p:spPr>
              <a:xfrm>
                <a:off x="1419120" y="4653000"/>
                <a:ext cx="594864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«Алгоритм нахождения производной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2"/>
              <p:cNvSpPr txBox="1"/>
              <p:nvPr/>
            </p:nvSpPr>
            <p:spPr>
              <a:xfrm>
                <a:off x="1692360" y="1989000"/>
                <a:ext cx="540072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Δ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3"/>
              <p:cNvSpPr txBox="1"/>
              <p:nvPr/>
            </p:nvSpPr>
            <p:spPr>
              <a:xfrm>
                <a:off x="1763640" y="3257640"/>
                <a:ext cx="86364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у</m:t>
                        </m:r>
                      </m:num>
                      <m:den>
                        <m:r>
                          <m:t xml:space="preserve">Δ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4"/>
              <p:cNvSpPr txBox="1"/>
              <p:nvPr/>
            </p:nvSpPr>
            <p:spPr>
              <a:xfrm>
                <a:off x="1692360" y="5083200"/>
                <a:ext cx="230328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у</m:t>
                        </m:r>
                      </m:num>
                      <m:den>
                        <m:r>
                          <m:t xml:space="preserve">Δ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1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218960" y="2590560"/>
            <a:ext cx="7391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сследуя функции, можно встретить случаи, когда функция определена, но не дифференцируема. Что это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чему так происходит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Можно ли этому найти объяснения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3505320" y="380880"/>
            <a:ext cx="2819160" cy="228600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cc0000"/>
                </a:solidFill>
                <a:latin typeface="Arial"/>
              </a:rPr>
              <a:t>Взгляд из детства.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5640" y="1699920"/>
            <a:ext cx="6858000" cy="25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сем с детства известно такое явление, как движение мяча, падающего на пол и упруго отскакивающего от него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Это явление можно объяснить с помощью законов физик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пробуем переложить всё это на математический язык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7" name="Picture 4" descr="sl01040_"/>
          <p:cNvPicPr/>
          <p:nvPr/>
        </p:nvPicPr>
        <p:blipFill>
          <a:blip r:embed="rId1"/>
          <a:stretch/>
        </p:blipFill>
        <p:spPr>
          <a:xfrm>
            <a:off x="7885080" y="549360"/>
            <a:ext cx="893880" cy="90000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2640" y="189000"/>
            <a:ext cx="7467480" cy="313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отскоке от пола  (пр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=0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направление движения мяча меняется (и функция достигает минимума), однако в эти моменты скорость мяча не равна нулю, касательную к графику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ровести нельзя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графике скорости мяча мы видим: в момент отскока скорость мяча однозначно найти нельзя - график скорости в эти моменты имеет разрывы.</a:t>
            </a:r>
            <a:br>
              <a:rPr sz="2000"/>
            </a:b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(Производная в этих точках не существует)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0" name="Picture 3" descr="5"/>
          <p:cNvPicPr/>
          <p:nvPr/>
        </p:nvPicPr>
        <p:blipFill>
          <a:blip r:embed="rId1"/>
          <a:stretch/>
        </p:blipFill>
        <p:spPr>
          <a:xfrm>
            <a:off x="2590920" y="3429000"/>
            <a:ext cx="5181480" cy="277812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6400800" cy="4503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Примеры функций, имеющих особые точки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функции вида у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р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=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меют особые точки - точки излома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ный случай: у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д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=0 - особая точка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3" name="Picture 3" descr="6"/>
          <p:cNvPicPr/>
          <p:nvPr/>
        </p:nvPicPr>
        <p:blipFill>
          <a:blip r:embed="rId1"/>
          <a:stretch/>
        </p:blipFill>
        <p:spPr>
          <a:xfrm>
            <a:off x="5791320" y="3809880"/>
            <a:ext cx="3047760" cy="267840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18:52:50Z</dcterms:created>
  <dc:creator>User</dc:creator>
  <dc:description/>
  <dc:language>en-US</dc:language>
  <cp:lastModifiedBy>LEGION</cp:lastModifiedBy>
  <dcterms:modified xsi:type="dcterms:W3CDTF">2015-01-26T12:27:29Z</dcterms:modified>
  <cp:revision>18</cp:revision>
  <dc:subject/>
  <dc:title>Производная </dc:title>
</cp:coreProperties>
</file>