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7133-39F3-4D38-BC88-5D450DB80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УРОК алгебры и начала анализа в 11 «Б» классе учителя лицея № 179 ПАК НАТАЛЬИ НИКОЛАЕВ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414-5E01-4334-84B9-E875D959603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еометрический  смысл производ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остоит в том, что значение производной функции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y=f(x)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в  точке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132A-B40B-44EB-83AF-FFB43B1F8F9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E664-7B19-484D-9E7B-49D06B9D620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3ECC-4012-4F1B-B6BA-028113220DE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 движется прямолинейно по закону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числите  скорость движения точ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3954-A9CB-4468-90A2-A1497F4B089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корость и ускорение для  точки, движущейся по зак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9CA8-1AA1-4085-80CB-0D3E96B853A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е материальные  точки  движутся  прямолинейно  по  закон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кой  момент  времени скорости их  равны, т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4554-1D26-4F35-9FA2-0FFC476A169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E8B-680F-478B-8A8A-BD48502EE43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4839-878C-4BB2-8E4D-D8E0587A074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475-50FE-4EF7-BA60-68D60067BA8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= 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 с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′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см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60 + 5 = 65(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65 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9454-5A96-4DA2-AFAF-ECDFC536611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то такой учё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т, кто ночами, забыв про кровать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Усердно роется в книжной груде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тобы ещё кое-что узнать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Из того, что знают другие лю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Хейне – американский экономист, доктор философ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B93-A5CF-47C6-9E15-32A6360546B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301-0CE8-4439-B6C6-4F6F82F458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и о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 Слова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водна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ошло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мама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производна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дочь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Произв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72F0-8927-4EC3-826B-1993C2F2704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Производной функции в да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точке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7690-8B36-4B9F-9ED3-3BC8B5FE3A3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23FD-E25F-489B-9514-9851188DDDE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 этому найти объяс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7DF-96B6-4500-8C75-C0B0059D894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явление можно объяснить с помощью законов физ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буем переложить всё это на математиче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7334-494E-473C-8A63-D486879085B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65AB-0C07-4ED3-8CC0-9C0AE7828C0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57F4-9087-4832-8A1E-4FC469233CC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FB5-C232-4928-960A-D55CF03C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287-8016-4A8F-8F45-7F2CACB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4A8-57A2-46F2-AEC1-02D91C0F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A3B-F672-470B-9324-9C4CB538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2CEE-1745-43C9-8AB4-9865D9B3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2A7B-FA23-4CD9-9105-4EBBB2F2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1FE5-40E0-43F9-B844-492D8E4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6EE9-ABCE-4183-A915-E749F8A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1D31-6A94-4638-AA8D-AFF2EE97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B44D-7CB8-4B07-9C5E-86F22BF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4439-3AFD-48F9-ABE0-4F44018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7F1-C480-4F6A-96A9-A427F117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3F16-50A2-4B8D-AE1A-509174A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5ED0-306A-4382-9550-6952D0D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030F-B85C-455E-BFC4-919BEB63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CA68-B124-4ECC-A774-D213196B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61A-5A43-4778-B22B-0A7C54AC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FCF3-3C5A-4E16-8044-417C4FA8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0939-7FA0-4866-A527-FA559CEE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9A5C-AFCF-4840-A3BB-FA3DDE8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5E2A-AB0C-4DC6-A024-B00B13F6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B268-7F0A-48F5-8089-B7B22E48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197-D887-43E4-828F-FFA6CD9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2495-99B9-483B-B62E-353AEBFE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5BBF-3E0A-4AC2-B5C7-4756C52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65EC-661B-4B29-AA6B-A3C5311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51E6-D17E-4DB9-A7C3-E72284C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1096-DFC1-406B-A65E-8186D140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28AA-D264-4EAB-BE26-D9BB2E0D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432B-7056-4461-945F-3888A5C5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6B8-A538-4AFF-965C-312E3D3E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647-D502-4537-AAA3-A31D181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04C-4026-4943-B119-908189D1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873-1DDE-4506-ADE8-174136C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2F8-D5C9-4B07-A5F7-13C4163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DB0-DB32-4EEC-A1E7-A09AC29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C8D9-510D-416A-BCF8-E4ECC2242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4715-9F75-4B90-97A8-FF6241DC5D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952D-DB30-4873-BCAC-910AB23CD86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ru-RU" sz="51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УРОК алгебры и начала анализа в 11 «Б» классе учителя лицея № 179 ПАК НАТАЛЬИ НИКОЛАЕВНЫ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Геометрический  смысл производн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состоит в том, что значение производной функции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y=f(x) </a:t>
            </a: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в  точке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32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0070c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476360" y="404640"/>
                <a:ext cx="5905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метрический смысл производ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763640" y="1484280"/>
            <a:ext cx="6261120" cy="50245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скорость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ускоре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1547640" y="1628640"/>
                <a:ext cx="172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692360" y="227664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619280" y="3068640"/>
                <a:ext cx="1511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971640" y="400536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перемещения по времени  является мгновенная скор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скорости по времени является ускор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чка движется прямолинейно по закону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числите  скорость движения точк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=2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877080" y="184464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28720" y="3860640"/>
                <a:ext cx="72723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ите скорость и ускорение для  точки, движущейся по закон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=3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148360" y="2421000"/>
                <a:ext cx="26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258920" y="4076640"/>
                <a:ext cx="568944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64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е материальные  точки  движутся  прямолинейно  по  закона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й  момент  времени скорости их  равны, т.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2700360" y="2060640"/>
                <a:ext cx="4248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771640" y="4437000"/>
                <a:ext cx="424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55640" y="1341360"/>
                <a:ext cx="705636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3" descr="1479677_Untitled01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914640"/>
          </a:xfrm>
          <a:prstGeom prst="rect">
            <a:avLst/>
          </a:prstGeom>
          <a:ln w="0">
            <a:noFill/>
          </a:ln>
        </p:spPr>
      </p:pic>
      <p:pic>
        <p:nvPicPr>
          <p:cNvPr id="258" name="зарядка.wav" descr=""/>
          <p:cNvPicPr/>
          <p:nvPr/>
        </p:nvPicPr>
        <p:blipFill>
          <a:blip r:embed="rId2"/>
          <a:stretch/>
        </p:blipFill>
        <p:spPr>
          <a:xfrm>
            <a:off x="7929720" y="642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453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261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40" dur="2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7680" y="791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3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 5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А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0 с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с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к.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, т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0 с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10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 60 + 5 = 65(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 65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Verdana"/>
              </a:rPr>
              <a:t>Кто такой учёны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предел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Тот, кто ночами, забыв про кровать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сердно роется в книжной груде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Чтобы ещё кое-что узнать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Из того, что знают другие люд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. Хейне – американский экономист, доктор философи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4880" y="277560"/>
            <a:ext cx="7734240" cy="834840"/>
          </a:xfrm>
          <a:prstGeom prst="rect">
            <a:avLst/>
          </a:prstGeom>
          <a:solidFill>
            <a:srgbClr val="37a3c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тематики о производной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501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 Слова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водная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ошло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мама»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ё производна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дочь»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Производн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1557000"/>
            <a:ext cx="7000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Производной функции в данной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точке </a:t>
            </a:r>
            <a:r>
              <a:rPr b="0" lang="ru-RU" sz="2600" spc="-1" strike="noStrike">
                <a:solidFill>
                  <a:srgbClr val="0070c0"/>
                </a:solidFill>
                <a:latin typeface="Verdana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419120" y="4653000"/>
                <a:ext cx="5948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1692360" y="1989000"/>
                <a:ext cx="5400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763640" y="3257640"/>
                <a:ext cx="863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692360" y="5083200"/>
                <a:ext cx="2303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8960" y="25905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чему так происходи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жно ли этому найти объяснени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81916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858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о явление можно объяснить с помощью законов физи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пробуем переложить всё это на математический язы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sl01040_"/>
          <p:cNvPicPr/>
          <p:nvPr/>
        </p:nvPicPr>
        <p:blipFill>
          <a:blip r:embed="rId1"/>
          <a:stretch/>
        </p:blipFill>
        <p:spPr>
          <a:xfrm>
            <a:off x="7885080" y="549360"/>
            <a:ext cx="893880" cy="90000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467480" cy="31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5"/>
          <p:cNvPicPr/>
          <p:nvPr/>
        </p:nvPicPr>
        <p:blipFill>
          <a:blip r:embed="rId1"/>
          <a:stretch/>
        </p:blipFill>
        <p:spPr>
          <a:xfrm>
            <a:off x="2590920" y="3429000"/>
            <a:ext cx="5181480" cy="27781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400800" cy="450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3" descr="6"/>
          <p:cNvPicPr/>
          <p:nvPr/>
        </p:nvPicPr>
        <p:blipFill>
          <a:blip r:embed="rId1"/>
          <a:stretch/>
        </p:blipFill>
        <p:spPr>
          <a:xfrm>
            <a:off x="5791320" y="3809880"/>
            <a:ext cx="3047760" cy="26784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52:50Z</dcterms:created>
  <dc:creator>User</dc:creator>
  <dc:description/>
  <dc:language>en-US</dc:language>
  <cp:lastModifiedBy>LEGION</cp:lastModifiedBy>
  <dcterms:modified xsi:type="dcterms:W3CDTF">2015-01-26T12:27:29Z</dcterms:modified>
  <cp:revision>18</cp:revision>
  <dc:subject/>
  <dc:title>Производная </dc:title>
</cp:coreProperties>
</file>