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gif" ContentType="image/gif"/>
  <Override PartName="/ppt/media/image26.wmf" ContentType="image/x-wmf"/>
  <Override PartName="/ppt/media/image15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2.wmf" ContentType="image/x-wmf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D2B1-4881-429D-93EF-8977903DEB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salda.ru/dishes/profi/" TargetMode="External"/><Relationship Id="rId2" Type="http://schemas.openxmlformats.org/officeDocument/2006/relationships/hyperlink" Target="http://www.cook.freecopy.su/cookbook/?l=23&amp;w=4306" TargetMode="External"/><Relationship Id="rId3" Type="http://schemas.openxmlformats.org/officeDocument/2006/relationships/hyperlink" Target="http://www.srbp.ru/offers/20/805/2456.html" TargetMode="External"/><Relationship Id="rId4" Type="http://schemas.openxmlformats.org/officeDocument/2006/relationships/hyperlink" Target="http://fotki.yandex.ru/users/mamuka532/view/60544/" TargetMode="External"/><Relationship Id="rId5" Type="http://schemas.openxmlformats.org/officeDocument/2006/relationships/hyperlink" Target="http://arsel.flamber.ru/photos/1200076904/" TargetMode="External"/><Relationship Id="rId6" Type="http://schemas.openxmlformats.org/officeDocument/2006/relationships/hyperlink" Target="http://www.vikar-plastic.com.ua/index.php?categoryID=301" TargetMode="External"/><Relationship Id="rId7" Type="http://schemas.openxmlformats.org/officeDocument/2006/relationships/hyperlink" Target="http://yogaclassic.ru/post/2343" TargetMode="External"/><Relationship Id="rId8" Type="http://schemas.openxmlformats.org/officeDocument/2006/relationships/hyperlink" Target="http://fantasyflash.ru/anime/index.php?kont=sea&amp;n=3" TargetMode="External"/><Relationship Id="rId9" Type="http://schemas.openxmlformats.org/officeDocument/2006/relationships/hyperlink" Target="http://fantasyflash.ru/anime/index.php?kont=disney&amp;n=1" TargetMode="External"/><Relationship Id="rId10" Type="http://schemas.openxmlformats.org/officeDocument/2006/relationships/hyperlink" Target="http://www.liveinternet.ru/photo/ha8xa7/post15454746/" TargetMode="External"/><Relationship Id="rId11" Type="http://schemas.openxmlformats.org/officeDocument/2006/relationships/hyperlink" Target="http://s99-omsk.narod.ru/projects/v/mozaika.htm" TargetMode="External"/><Relationship Id="rId12" Type="http://schemas.openxmlformats.org/officeDocument/2006/relationships/hyperlink" Target="http://iskystvo.ru/metka/forma/" TargetMode="External"/><Relationship Id="rId13" Type="http://schemas.openxmlformats.org/officeDocument/2006/relationships/hyperlink" Target="http://www.russika.ru/ef.php?s=3346" TargetMode="External"/><Relationship Id="rId14" Type="http://schemas.openxmlformats.org/officeDocument/2006/relationships/hyperlink" Target="http://akinfeev.livejournal.com/17482.html?page=26" TargetMode="External"/><Relationship Id="rId15" Type="http://schemas.openxmlformats.org/officeDocument/2006/relationships/hyperlink" Target="http://mega.km.ru/bes_2004/encyclop.asp?TopicNumber=34130&amp;rubr=156" TargetMode="External"/><Relationship Id="rId16" Type="http://schemas.openxmlformats.org/officeDocument/2006/relationships/hyperlink" Target="http://www.board74.ru/articles/geometry/tcone.html" TargetMode="External"/><Relationship Id="rId17" Type="http://schemas.openxmlformats.org/officeDocument/2006/relationships/hyperlink" Target="http://iskystvo.ru/2008/10/" TargetMode="External"/><Relationship Id="rId18" Type="http://schemas.openxmlformats.org/officeDocument/2006/relationships/hyperlink" Target="http://flamber.ru/photos/tags/%E4%EE%F0%EE%E3%E0/1181070512/" TargetMode="External"/><Relationship Id="rId19" Type="http://schemas.openxmlformats.org/officeDocument/2006/relationships/hyperlink" Target="http://slavyane.cddk.ru/publ/20-1-0-272" TargetMode="External"/><Relationship Id="rId20" Type="http://schemas.openxmlformats.org/officeDocument/2006/relationships/hyperlink" Target="http://media.meta.ua/files/pic/0/26/108/mIR6YnZXGo.jpg" TargetMode="External"/><Relationship Id="rId21" Type="http://schemas.openxmlformats.org/officeDocument/2006/relationships/hyperlink" Target="http://media.meta.ua/files/pic/0/26/108/mIR6YnZXGo.jpg" TargetMode="External"/><Relationship Id="rId22" Type="http://schemas.openxmlformats.org/officeDocument/2006/relationships/hyperlink" Target="http://media.meta.ua/files/pic/0/26/108/mIR6YnZXGo.jpg" TargetMode="External"/><Relationship Id="rId23" Type="http://schemas.openxmlformats.org/officeDocument/2006/relationships/hyperlink" Target="http://media.meta.ua/files/pic/0/26/108/mIR6YnZXGo.jpg" TargetMode="External"/><Relationship Id="rId24" Type="http://schemas.openxmlformats.org/officeDocument/2006/relationships/hyperlink" Target="http://media.meta.ua/files/pic/0/26/108/mIR6YnZXGo.jpg" TargetMode="External"/><Relationship Id="rId25" Type="http://schemas.openxmlformats.org/officeDocument/2006/relationships/hyperlink" Target="http://media.meta.ua/files/pic/0/26/108/mIR6YnZXGo.jpg" TargetMode="External"/><Relationship Id="rId26" Type="http://schemas.openxmlformats.org/officeDocument/2006/relationships/hyperlink" Target="http://media.meta.ua/files/pic/0/26/108/mIR6YnZXGo.jpg" TargetMode="External"/><Relationship Id="rId27" Type="http://schemas.openxmlformats.org/officeDocument/2006/relationships/hyperlink" Target="http://media.meta.ua/files/pic/0/26/108/mIR6YnZXGo.jpg" TargetMode="External"/><Relationship Id="rId28" Type="http://schemas.openxmlformats.org/officeDocument/2006/relationships/hyperlink" Target="http://media.meta.ua/files/pic/0/26/108/mIR6YnZXGo.jpg" TargetMode="External"/><Relationship Id="rId29" Type="http://schemas.openxmlformats.org/officeDocument/2006/relationships/hyperlink" Target="http://media.meta.ua/files/pic/0/26/108/mIR6YnZXGo.jpg" TargetMode="External"/><Relationship Id="rId30" Type="http://schemas.openxmlformats.org/officeDocument/2006/relationships/hyperlink" Target="http://media.meta.ua/files/pic/0/26/108/mIR6YnZXGo.jpg" TargetMode="External"/><Relationship Id="rId31" Type="http://schemas.openxmlformats.org/officeDocument/2006/relationships/slide" Target="../slides/slide9.xml"/><Relationship Id="rId3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РУГЛЫЕ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/пресс-конференция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ЦИЛИ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Ш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 уроку геометрии в 11 классе . Автор: Михайлова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атематики МОУ «СОШ № 15 п. Березайка Тверской об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0CF0-4C24-4FBF-B245-4BF1BB7D8E0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и углубление знаний  о круглых телах;   применение их (круглых тел) на практике в повседнев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логического мышления, творческой деятельности, ре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самостоятельности, активности, культуры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9CC0-E07E-4E06-B82D-440E76D5601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ИЛИ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линдром здесь зовусь, друз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ухне встретите ме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–термос, вкусный торт и свеч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стрюля тёплая на пе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CEDA-FEFE-4D03-BD87-56945386478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АР,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глобус, апельсин и мяч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круглый шар, я даже чай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AE73-5A93-4EB9-9115-1247EBB6F6C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b3579"/>
                </a:solidFill>
                <a:latin typeface="Calibri"/>
              </a:rPr>
              <a:t>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ёшь меня легко в ворон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ёлке, в шляпке у гри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, конус не стоит в сторон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ковка – это тоже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8261-B168-4525-AA73-AD5EE7B197D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2d050"/>
                </a:solidFill>
                <a:latin typeface="Calibri"/>
              </a:rPr>
              <a:t>УСЕЧЁННЫЙ 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одская труба и маяк освещённый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нус совсем не простой – усечённы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9381-F3CC-4BE7-AA6A-7ED1DF6372E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задача не для робки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ч упаковать в коробк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ен плотно он войт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 в пути не растрясти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3CB0-1B16-48D3-83B7-EB8C283C773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итоге? Посмотр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б – коробка, мяч – внут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94D0-6DB6-4AFA-8B38-E87E2A91642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ная литература и Интернет – ресур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я: Учеб. для 10-11 кл.сред.шк./Л.С.Атанасян, В.Ф.Бутузов, С.Б. Кадомцев и др.-М.: Просвещение.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 Power Point 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ция картино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http://www.salda.ru/dishes/prof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ook.freecopy.su/cookbook/?l=23&amp;w=43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srbp.ru/offers/20/805/245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fotki.yandex.ru/users/mamuka532/view/6054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arsel.flamber.ru/photos/120007690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vikar-plastic.com.ua/index.php?categoryID=3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yogaclassic.ru/post/23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fantasyflash.ru/anime/index.php?kont=sea&amp;n=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fantasyflash.ru/anime/index.php?kont=disney&amp;n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liveinternet.ru/photo/ha8xa7/post15454746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s99-omsk.narod.ru/projects/v/mozaika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iskystvo.ru/metka/form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russika.ru/ef.php?s=3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akinfeev.livejournal.com/17482.html?page=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mega.km.ru/bes_2004/encyclop.asp?TopicNumber=34130&amp;rubr=1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board74.ru/articles/geometry/tcon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iskystvo.ru/2008/10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flamber.ru/photos/tags/%E4%EE%F0%EE%E3%E0/118107051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://slavyane.cddk.ru/publ/20-1-0-2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medi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met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u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files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9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0"/>
              </a:rPr>
              <a:t>pic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/0/26/108/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IR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YnZXG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15BF-70B5-48B7-AF7E-FB3264C3444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859-647C-410A-AF68-1B9A3826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171-9E74-4A10-9D4C-9B58B664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D3A-458F-43AC-AC49-F4CBF858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844-5345-46BC-B51A-8191FAE1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5E79-CA43-4E98-BEC6-5FE9F3DE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E491-C76C-4508-963E-CD3A7F1E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E8F9-0640-4516-80DB-314C0B29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600B-1D9D-4F03-8B9C-24EDEFEA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3249-82A8-42D2-8A55-785F8B38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D9CC-8970-497E-8843-CADD42AB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43D5-2D2A-4995-B8F9-02B90A5C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AF41-72C7-4623-BF8F-FD5E3721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E795-42D6-49DD-9E98-4576779A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2A44-0707-4261-98ED-77E922E9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87C5-8EE6-4BBB-AF7E-18362BB4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1EFE-2ECE-4604-8031-8D7665D0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11F4-ACD1-41CE-A2C7-2704C7E5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368-79FA-4E49-A240-41C40721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7B3-8381-4853-BE5A-D1B1632A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5B20-DB73-41B2-83D1-EE0016FB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DD0-8758-4FE7-9EC8-AA12B284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4E18-6D1C-4D14-B7AA-A1D3218A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FCC-674E-41A6-8DB0-C8C3CE9D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263-CCB8-4F00-8766-3E02F5AF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5EC6-4942-463A-A1C2-695B3CDAD9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5240-27F8-47B9-8D92-DC58201CDD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adugavd.ru/d/63369/d/1409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media.meta.ua/files/pic/0/26/108/mIR6YnZXGo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g-fotki.yandex.ru/get/3301/ostroum-igor.0/0_2586_82bc2d69_L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iskystvo.ru/wp-content/24.jpg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www.peky.ru/tovary/kastruli/p_k_7.jpg" TargetMode="Externa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://iskystvo.ru/wp-content/26.jpg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hyperlink" Target="http://s57.radikal.ru/i155/0810/61/a5647e91633f.jpg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www.cook.freecopy.su/cookbook/pictures/4306.jpg" TargetMode="External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zavodplastmas.kiev.ua/foto/26v.jpg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mega.km.ru/bes_2004/DATA/PREV1998/k_320i.jpg" TargetMode="External"/><Relationship Id="rId7" Type="http://schemas.openxmlformats.org/officeDocument/2006/relationships/image" Target="../media/image19.jpeg"/><Relationship Id="rId8" Type="http://schemas.openxmlformats.org/officeDocument/2006/relationships/hyperlink" Target="http://kinoforum.my1.ru/_fr/3/7676031.jpg" TargetMode="External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gif"/><Relationship Id="rId4" Type="http://schemas.openxmlformats.org/officeDocument/2006/relationships/hyperlink" Target="http://www.board74.ru/articles/geometry/tcone.gif" TargetMode="External"/><Relationship Id="rId5" Type="http://schemas.openxmlformats.org/officeDocument/2006/relationships/image" Target="../media/image24.png"/><Relationship Id="rId6" Type="http://schemas.openxmlformats.org/officeDocument/2006/relationships/hyperlink" Target="http://flamber.ru/files/photos/1152431728/1181070512_o.jpg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lda.ru/dishes/profi/" TargetMode="External"/><Relationship Id="rId2" Type="http://schemas.openxmlformats.org/officeDocument/2006/relationships/hyperlink" Target="http://www.cook.freecopy.su/cookbook/?l=23&amp;w=4306" TargetMode="External"/><Relationship Id="rId3" Type="http://schemas.openxmlformats.org/officeDocument/2006/relationships/hyperlink" Target="http://www.srbp.ru/offers/20/805/2456.html" TargetMode="External"/><Relationship Id="rId4" Type="http://schemas.openxmlformats.org/officeDocument/2006/relationships/hyperlink" Target="http://fotki.yandex.ru/users/mamuka532/view/60544/" TargetMode="External"/><Relationship Id="rId5" Type="http://schemas.openxmlformats.org/officeDocument/2006/relationships/hyperlink" Target="http://arsel.flamber.ru/photos/1200076904/" TargetMode="External"/><Relationship Id="rId6" Type="http://schemas.openxmlformats.org/officeDocument/2006/relationships/hyperlink" Target="http://www.vikar-plastic.com.ua/index.php?categoryID=301" TargetMode="External"/><Relationship Id="rId7" Type="http://schemas.openxmlformats.org/officeDocument/2006/relationships/hyperlink" Target="http://yogaclassic.ru/post/2343" TargetMode="External"/><Relationship Id="rId8" Type="http://schemas.openxmlformats.org/officeDocument/2006/relationships/hyperlink" Target="http://fantasyflash.ru/anime/index.php?kont=sea&amp;n=3" TargetMode="External"/><Relationship Id="rId9" Type="http://schemas.openxmlformats.org/officeDocument/2006/relationships/hyperlink" Target="http://fantasyflash.ru/anime/index.php?kont=disney&amp;n=1" TargetMode="External"/><Relationship Id="rId10" Type="http://schemas.openxmlformats.org/officeDocument/2006/relationships/hyperlink" Target="http://www.liveinternet.ru/photo/ha8xa7/post15454746/" TargetMode="External"/><Relationship Id="rId11" Type="http://schemas.openxmlformats.org/officeDocument/2006/relationships/hyperlink" Target="http://s99-omsk.narod.ru/projects/v/mozaika.htm" TargetMode="External"/><Relationship Id="rId12" Type="http://schemas.openxmlformats.org/officeDocument/2006/relationships/hyperlink" Target="http://iskystvo.ru/metka/forma/" TargetMode="External"/><Relationship Id="rId13" Type="http://schemas.openxmlformats.org/officeDocument/2006/relationships/hyperlink" Target="http://www.russika.ru/ef.php?s=3346" TargetMode="External"/><Relationship Id="rId14" Type="http://schemas.openxmlformats.org/officeDocument/2006/relationships/hyperlink" Target="http://akinfeev.livejournal.com/17482.html?page=26" TargetMode="External"/><Relationship Id="rId15" Type="http://schemas.openxmlformats.org/officeDocument/2006/relationships/hyperlink" Target="http://mega.km.ru/bes_2004/encyclop.asp?TopicNumber=34130&amp;rubr=156" TargetMode="External"/><Relationship Id="rId16" Type="http://schemas.openxmlformats.org/officeDocument/2006/relationships/hyperlink" Target="http://www.board74.ru/articles/geometry/tcone.html" TargetMode="External"/><Relationship Id="rId17" Type="http://schemas.openxmlformats.org/officeDocument/2006/relationships/hyperlink" Target="http://iskystvo.ru/2008/10/" TargetMode="External"/><Relationship Id="rId18" Type="http://schemas.openxmlformats.org/officeDocument/2006/relationships/hyperlink" Target="http://flamber.ru/photos/tags/%E4%EE%F0%EE%E3%E0/1181070512/" TargetMode="External"/><Relationship Id="rId19" Type="http://schemas.openxmlformats.org/officeDocument/2006/relationships/hyperlink" Target="http://slavyane.cddk.ru/publ/20-1-0-272" TargetMode="External"/><Relationship Id="rId20" Type="http://schemas.openxmlformats.org/officeDocument/2006/relationships/hyperlink" Target="http://media.meta.ua/files/pic/0/26/108/mIR6YnZXGo.jpg" TargetMode="External"/><Relationship Id="rId21" Type="http://schemas.openxmlformats.org/officeDocument/2006/relationships/hyperlink" Target="http://media.meta.ua/files/pic/0/26/108/mIR6YnZXGo.jpg" TargetMode="External"/><Relationship Id="rId22" Type="http://schemas.openxmlformats.org/officeDocument/2006/relationships/hyperlink" Target="http://media.meta.ua/files/pic/0/26/108/mIR6YnZXGo.jpg" TargetMode="External"/><Relationship Id="rId23" Type="http://schemas.openxmlformats.org/officeDocument/2006/relationships/hyperlink" Target="http://media.meta.ua/files/pic/0/26/108/mIR6YnZXGo.jpg" TargetMode="External"/><Relationship Id="rId24" Type="http://schemas.openxmlformats.org/officeDocument/2006/relationships/hyperlink" Target="http://media.meta.ua/files/pic/0/26/108/mIR6YnZXGo.jpg" TargetMode="External"/><Relationship Id="rId25" Type="http://schemas.openxmlformats.org/officeDocument/2006/relationships/hyperlink" Target="http://media.meta.ua/files/pic/0/26/108/mIR6YnZXGo.jpg" TargetMode="External"/><Relationship Id="rId26" Type="http://schemas.openxmlformats.org/officeDocument/2006/relationships/hyperlink" Target="http://media.meta.ua/files/pic/0/26/108/mIR6YnZXGo.jpg" TargetMode="External"/><Relationship Id="rId27" Type="http://schemas.openxmlformats.org/officeDocument/2006/relationships/hyperlink" Target="http://media.meta.ua/files/pic/0/26/108/mIR6YnZXGo.jpg" TargetMode="External"/><Relationship Id="rId28" Type="http://schemas.openxmlformats.org/officeDocument/2006/relationships/hyperlink" Target="http://media.meta.ua/files/pic/0/26/108/mIR6YnZXGo.jpg" TargetMode="External"/><Relationship Id="rId29" Type="http://schemas.openxmlformats.org/officeDocument/2006/relationships/hyperlink" Target="http://media.meta.ua/files/pic/0/26/108/mIR6YnZXGo.jpg" TargetMode="External"/><Relationship Id="rId30" Type="http://schemas.openxmlformats.org/officeDocument/2006/relationships/hyperlink" Target="http://media.meta.ua/files/pic/0/26/108/mIR6YnZXGo.jpg" TargetMode="External"/><Relationship Id="rId31" Type="http://schemas.openxmlformats.org/officeDocument/2006/relationships/hyperlink" Target="http://media.meta.ua/files/pic/0/26/108/mIR6YnZXGo.jpg" TargetMode="External"/><Relationship Id="rId32" Type="http://schemas.openxmlformats.org/officeDocument/2006/relationships/hyperlink" Target="http://media.meta.ua/files/pic/0/26/108/mIR6YnZXGo.jpg" TargetMode="External"/><Relationship Id="rId33" Type="http://schemas.openxmlformats.org/officeDocument/2006/relationships/hyperlink" Target="http://media.meta.ua/files/pic/0/26/108/mIR6YnZXGo.jpg" TargetMode="External"/><Relationship Id="rId34" Type="http://schemas.openxmlformats.org/officeDocument/2006/relationships/hyperlink" Target="http://media.meta.ua/files/pic/0/26/108/mIR6YnZXGo.jpg" TargetMode="External"/><Relationship Id="rId35" Type="http://schemas.openxmlformats.org/officeDocument/2006/relationships/hyperlink" Target="http://media.meta.ua/files/pic/0/26/108/mIR6YnZXGo.jpg" TargetMode="External"/><Relationship Id="rId36" Type="http://schemas.openxmlformats.org/officeDocument/2006/relationships/hyperlink" Target="http://media.meta.ua/files/pic/0/26/108/mIR6YnZXGo.jpg" TargetMode="External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5"/>
          <p:cNvSpPr txBox="1"/>
          <p:nvPr/>
        </p:nvSpPr>
        <p:spPr>
          <a:xfrm>
            <a:off x="2843280" y="714240"/>
            <a:ext cx="365760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УГЛЫЕ ТЕ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/пресс-конференция/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3419640" y="2781360"/>
            <a:ext cx="226692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ИЛИНД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НУ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Ш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85840" y="585792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зентация к уроку геометрии в 11 классе . Автор: Михайлова 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математики МОУ «СОШ № 15 п. Березайка Тверской об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бщение и углубление знаний  о круглых телах;   применение их (круглых тел) на практике в повседневной жизн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ие логического мышления, творческой деятельности, реч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спитание самостоятельности, активности, культуры общ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Прямоугольник 3" descr=""/>
          <p:cNvPicPr/>
          <p:nvPr/>
        </p:nvPicPr>
        <p:blipFill>
          <a:blip r:embed="rId1"/>
          <a:stretch/>
        </p:blipFill>
        <p:spPr>
          <a:xfrm>
            <a:off x="285840" y="334800"/>
            <a:ext cx="7572240" cy="145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3" descr=""/>
          <p:cNvPicPr/>
          <p:nvPr/>
        </p:nvPicPr>
        <p:blipFill>
          <a:blip r:embed="rId1"/>
          <a:stretch/>
        </p:blipFill>
        <p:spPr>
          <a:xfrm>
            <a:off x="1749600" y="407880"/>
            <a:ext cx="4846320" cy="157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0" name="Object 14"/>
              <p:cNvSpPr txBox="1"/>
              <p:nvPr/>
            </p:nvSpPr>
            <p:spPr>
              <a:xfrm>
                <a:off x="1714680" y="4929120"/>
                <a:ext cx="1866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бо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6"/>
              <p:cNvSpPr txBox="1"/>
              <p:nvPr/>
            </p:nvSpPr>
            <p:spPr>
              <a:xfrm>
                <a:off x="1500120" y="5500800"/>
                <a:ext cx="23335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полн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Box 13"/>
          <p:cNvSpPr/>
          <p:nvPr/>
        </p:nvSpPr>
        <p:spPr>
          <a:xfrm>
            <a:off x="357120" y="207180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илиндром здесь зовусь, друзь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кухне встретите мен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–термос, вкусный торт и свеч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стрюля тёплая на печк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4" descr="http://radugavd.ru/d/63369/d/1409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2143080"/>
            <a:ext cx="1428840" cy="2055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http://media.meta.ua/files/pic/0/26/108/mIR6YnZXGo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15080" y="1928880"/>
            <a:ext cx="1785960" cy="1496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Картинка 22 из 12056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72200" y="4071960"/>
            <a:ext cx="1398600" cy="195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Картинка 62 из 106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71760" y="3357720"/>
            <a:ext cx="2214360" cy="1477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Картинка 2 из 9513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429080" y="4643280"/>
            <a:ext cx="1785960" cy="1428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1359000" y="291960"/>
            <a:ext cx="6986520" cy="1609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5"/>
              <p:cNvSpPr txBox="1"/>
              <p:nvPr/>
            </p:nvSpPr>
            <p:spPr>
              <a:xfrm>
                <a:off x="3929040" y="5000760"/>
                <a:ext cx="18892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2" name="TextBox 16"/>
          <p:cNvSpPr/>
          <p:nvPr/>
        </p:nvSpPr>
        <p:spPr>
          <a:xfrm>
            <a:off x="2000160" y="18572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– глобус, апельсин и мячи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– круглый шар, я даже чайни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7" descr="http://im5-tub.yandex.net/i?id=57082072&amp;tov=5"/>
          <p:cNvPicPr/>
          <p:nvPr/>
        </p:nvPicPr>
        <p:blipFill>
          <a:blip r:embed="rId2"/>
          <a:stretch/>
        </p:blipFill>
        <p:spPr>
          <a:xfrm>
            <a:off x="1000080" y="4286160"/>
            <a:ext cx="1333440" cy="1806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Картинка 150 из 12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3240" y="342900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http://im0-tub.yandex.net/i?id=61901722&amp;tov=0"/>
          <p:cNvPicPr/>
          <p:nvPr/>
        </p:nvPicPr>
        <p:blipFill>
          <a:blip r:embed="rId5"/>
          <a:stretch/>
        </p:blipFill>
        <p:spPr>
          <a:xfrm>
            <a:off x="714240" y="2571840"/>
            <a:ext cx="1333800" cy="1320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Картинка 101 из 125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97720" y="2214720"/>
            <a:ext cx="1903320" cy="1428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Картинка 14 из 10484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43800" y="4429080"/>
            <a:ext cx="2143080" cy="16081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2682720" y="334800"/>
            <a:ext cx="3535560" cy="1457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9"/>
              <p:cNvSpPr txBox="1"/>
              <p:nvPr/>
            </p:nvSpPr>
            <p:spPr>
              <a:xfrm>
                <a:off x="5572080" y="4141800"/>
                <a:ext cx="13572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21"/>
              <p:cNvSpPr txBox="1"/>
              <p:nvPr/>
            </p:nvSpPr>
            <p:spPr>
              <a:xfrm>
                <a:off x="5286240" y="4500720"/>
                <a:ext cx="194976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полн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π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TextBox 17"/>
          <p:cNvSpPr/>
          <p:nvPr/>
        </p:nvSpPr>
        <p:spPr>
          <a:xfrm>
            <a:off x="500040" y="185724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ёшь меня легко в ворон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ёлке, в шляпке у гриб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, конус не стоит в сторон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рковка – это тоже 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16" descr="http://im4-tub.yandex.net/i?id=44256238&amp;tov=4"/>
          <p:cNvPicPr/>
          <p:nvPr/>
        </p:nvPicPr>
        <p:blipFill>
          <a:blip r:embed="rId2"/>
          <a:stretch/>
        </p:blipFill>
        <p:spPr>
          <a:xfrm>
            <a:off x="1857240" y="4714920"/>
            <a:ext cx="1800360" cy="1347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http://im8-tub.yandex.net/i?id=73588947&amp;tov=8"/>
          <p:cNvPicPr/>
          <p:nvPr/>
        </p:nvPicPr>
        <p:blipFill>
          <a:blip r:embed="rId3"/>
          <a:stretch/>
        </p:blipFill>
        <p:spPr>
          <a:xfrm>
            <a:off x="3786120" y="3071880"/>
            <a:ext cx="1143000" cy="1517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Картинка 31 из 4814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7120" y="3214800"/>
            <a:ext cx="1857600" cy="1311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Картинка 143 из 47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29160" y="20001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Картинка 5 из 700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00960" y="4429080"/>
            <a:ext cx="1206360" cy="15685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3" descr=""/>
          <p:cNvPicPr/>
          <p:nvPr/>
        </p:nvPicPr>
        <p:blipFill>
          <a:blip r:embed="rId1"/>
          <a:stretch/>
        </p:blipFill>
        <p:spPr>
          <a:xfrm>
            <a:off x="109440" y="334800"/>
            <a:ext cx="8705880" cy="145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:\Program Files\Microsoft Office\MEDIA\CAGCAT10\j0285360.wmf"/>
          <p:cNvPicPr/>
          <p:nvPr/>
        </p:nvPicPr>
        <p:blipFill>
          <a:blip r:embed="rId2"/>
          <a:stretch/>
        </p:blipFill>
        <p:spPr>
          <a:xfrm>
            <a:off x="307800" y="3357720"/>
            <a:ext cx="1737000" cy="2143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2665440" y="5643720"/>
                <a:ext cx="3701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л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"/>
              <p:cNvSpPr txBox="1"/>
              <p:nvPr/>
            </p:nvSpPr>
            <p:spPr>
              <a:xfrm>
                <a:off x="3308400" y="5072040"/>
                <a:ext cx="2246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Box 11"/>
          <p:cNvSpPr/>
          <p:nvPr/>
        </p:nvSpPr>
        <p:spPr>
          <a:xfrm>
            <a:off x="1643040" y="178596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водская труба и маяк освещённый –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конус совсем не простой – усечённый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Рисунок 11" descr="sea70.gif"/>
          <p:cNvPicPr/>
          <p:nvPr/>
        </p:nvPicPr>
        <p:blipFill>
          <a:blip r:embed="rId3"/>
          <a:stretch/>
        </p:blipFill>
        <p:spPr>
          <a:xfrm>
            <a:off x="7286760" y="2000160"/>
            <a:ext cx="115380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Картинка 153 из 47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43160" y="3071880"/>
            <a:ext cx="1924200" cy="148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Картинка 5 из 133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00880" y="4286160"/>
            <a:ext cx="1976400" cy="1482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07228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т задача не для робких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яч упаковать в коробк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ен плотно он войт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б в пути не растряст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2" descr="j0299763"/>
          <p:cNvPicPr/>
          <p:nvPr/>
        </p:nvPicPr>
        <p:blipFill>
          <a:blip r:embed="rId1"/>
          <a:stretch/>
        </p:blipFill>
        <p:spPr>
          <a:xfrm>
            <a:off x="785880" y="2714760"/>
            <a:ext cx="3097080" cy="25477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3"/>
          <p:cNvSpPr/>
          <p:nvPr/>
        </p:nvSpPr>
        <p:spPr>
          <a:xfrm>
            <a:off x="4643280" y="2571840"/>
            <a:ext cx="3000600" cy="2643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Рисунок 4" descr="dis16.gif"/>
          <p:cNvPicPr/>
          <p:nvPr/>
        </p:nvPicPr>
        <p:blipFill>
          <a:blip r:embed="rId2"/>
          <a:stretch/>
        </p:blipFill>
        <p:spPr>
          <a:xfrm>
            <a:off x="7286760" y="285840"/>
            <a:ext cx="952200" cy="1143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 в итоге? Посмотри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уб – коробка, мяч – внутри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2" descr="j0299763"/>
          <p:cNvPicPr/>
          <p:nvPr/>
        </p:nvPicPr>
        <p:blipFill>
          <a:blip r:embed="rId1"/>
          <a:stretch/>
        </p:blipFill>
        <p:spPr>
          <a:xfrm>
            <a:off x="2714760" y="2786040"/>
            <a:ext cx="2838240" cy="2286000"/>
          </a:xfrm>
          <a:prstGeom prst="rect">
            <a:avLst/>
          </a:prstGeom>
          <a:ln w="0">
            <a:noFill/>
          </a:ln>
        </p:spPr>
      </p:pic>
      <p:sp>
        <p:nvSpPr>
          <p:cNvPr id="148" name="Куб 4"/>
          <p:cNvSpPr/>
          <p:nvPr/>
        </p:nvSpPr>
        <p:spPr>
          <a:xfrm>
            <a:off x="2928960" y="2643120"/>
            <a:ext cx="2928960" cy="264312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Прямая соединительная линия 6"/>
          <p:cNvSpPr/>
          <p:nvPr/>
        </p:nvSpPr>
        <p:spPr>
          <a:xfrm flipH="1">
            <a:off x="3569760" y="264312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10"/>
          <p:cNvSpPr/>
          <p:nvPr/>
        </p:nvSpPr>
        <p:spPr>
          <a:xfrm flipV="1">
            <a:off x="2928240" y="5143680"/>
            <a:ext cx="1429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 flipV="1">
            <a:off x="3142440" y="492876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рямая соединительная линия 16"/>
          <p:cNvSpPr/>
          <p:nvPr/>
        </p:nvSpPr>
        <p:spPr>
          <a:xfrm flipH="1" flipV="1">
            <a:off x="5643360" y="464292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рямая соединительная линия 18"/>
          <p:cNvSpPr/>
          <p:nvPr/>
        </p:nvSpPr>
        <p:spPr>
          <a:xfrm flipH="1" flipV="1">
            <a:off x="5428800" y="464292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 flipV="1">
            <a:off x="3429000" y="47149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Прямая соединительная линия 22"/>
          <p:cNvSpPr/>
          <p:nvPr/>
        </p:nvSpPr>
        <p:spPr>
          <a:xfrm flipH="1">
            <a:off x="3569760" y="292896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285840" y="1785960"/>
            <a:ext cx="835812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ометрия: Учеб. для 10-11 кл.сред.шк./Л.С.Атанасян, В.Ф.Бутузов, С.Б. Кадомцев и др.-М.: Просвещение.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crosoft Office Power Point 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ллекция картинок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 http://www.salda.ru/dishes/prof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ook.freecopy.su/cookbook/?l=23&amp;w=43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srbp.ru/offers/20/805/2456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fotki.yandex.ru/users/mamuka532/view/60544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arsel.flamber.ru/photos/1200076904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vikar-plastic.com.ua/index.php?categoryID=3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yogaclassic.ru/post/234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fantasyflash.ru/anime/index.php?kont=sea&amp;n=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http://fantasyflash.ru/anime/index.php?kont=disney&amp;n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http://www.liveinternet.ru/photo/ha8xa7/post15454746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http://s99-omsk.narod.ru/projects/v/mozaika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http://iskystvo.ru/metka/forma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http://www.russika.ru/ef.php?s=334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http://akinfeev.livejournal.com/17482.html?page=2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http://mega.km.ru/bes_2004/encyclop.asp?TopicNumber=34130&amp;rubr=15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http://www.board74.ru/articles/geometry/tcone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http://iskystvo.ru/2008/10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http://flamber.ru/photos/tags/%E4%EE%F0%EE%E3%E0/1181070512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9"/>
              </a:rPr>
              <a:t>http://slavyane.cddk.ru/publ/20-1-0-27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0"/>
              </a:rPr>
              <a:t>http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1"/>
              </a:rPr>
              <a:t>:/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2"/>
              </a:rPr>
              <a:t>medi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4"/>
              </a:rPr>
              <a:t>met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5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6"/>
              </a:rPr>
              <a:t>u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7"/>
              </a:rPr>
              <a:t>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8"/>
              </a:rPr>
              <a:t>files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9"/>
              </a:rPr>
              <a:t>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0"/>
              </a:rPr>
              <a:t>pic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1"/>
              </a:rPr>
              <a:t>/0/26/108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2"/>
              </a:rPr>
              <a:t>mIR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3"/>
              </a:rPr>
              <a:t>6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4"/>
              </a:rPr>
              <a:t>YnZXGo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5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6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357120" y="28584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ованная литература и Интернет – ресур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9:48:30Z</dcterms:created>
  <dc:creator>Березайка</dc:creator>
  <dc:description/>
  <dc:language>en-US</dc:language>
  <cp:lastModifiedBy>LEGION</cp:lastModifiedBy>
  <dcterms:modified xsi:type="dcterms:W3CDTF">2015-01-26T12:29:00Z</dcterms:modified>
  <cp:revision>59</cp:revision>
  <dc:subject/>
  <dc:title>Слайд 1</dc:title>
</cp:coreProperties>
</file>