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gif" ContentType="image/gif"/>
  <Override PartName="/ppt/media/image26.wmf" ContentType="image/x-wmf"/>
  <Override PartName="/ppt/media/image15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22.wmf" ContentType="image/x-wmf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ACDD-A180-49B5-A8D6-E61112A904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www.salda.ru/dishes/profi/" TargetMode="External"/><Relationship Id="rId2" Type="http://schemas.openxmlformats.org/officeDocument/2006/relationships/hyperlink" Target="http://www.cook.freecopy.su/cookbook/?l=23&amp;w=4306" TargetMode="External"/><Relationship Id="rId3" Type="http://schemas.openxmlformats.org/officeDocument/2006/relationships/hyperlink" Target="http://www.srbp.ru/offers/20/805/2456.html" TargetMode="External"/><Relationship Id="rId4" Type="http://schemas.openxmlformats.org/officeDocument/2006/relationships/hyperlink" Target="http://fotki.yandex.ru/users/mamuka532/view/60544/" TargetMode="External"/><Relationship Id="rId5" Type="http://schemas.openxmlformats.org/officeDocument/2006/relationships/hyperlink" Target="http://arsel.flamber.ru/photos/1200076904/" TargetMode="External"/><Relationship Id="rId6" Type="http://schemas.openxmlformats.org/officeDocument/2006/relationships/hyperlink" Target="http://www.vikar-plastic.com.ua/index.php?categoryID=301" TargetMode="External"/><Relationship Id="rId7" Type="http://schemas.openxmlformats.org/officeDocument/2006/relationships/hyperlink" Target="http://yogaclassic.ru/post/2343" TargetMode="External"/><Relationship Id="rId8" Type="http://schemas.openxmlformats.org/officeDocument/2006/relationships/hyperlink" Target="http://fantasyflash.ru/anime/index.php?kont=sea&amp;n=3" TargetMode="External"/><Relationship Id="rId9" Type="http://schemas.openxmlformats.org/officeDocument/2006/relationships/hyperlink" Target="http://fantasyflash.ru/anime/index.php?kont=disney&amp;n=1" TargetMode="External"/><Relationship Id="rId10" Type="http://schemas.openxmlformats.org/officeDocument/2006/relationships/hyperlink" Target="http://www.liveinternet.ru/photo/ha8xa7/post15454746/" TargetMode="External"/><Relationship Id="rId11" Type="http://schemas.openxmlformats.org/officeDocument/2006/relationships/hyperlink" Target="http://s99-omsk.narod.ru/projects/v/mozaika.htm" TargetMode="External"/><Relationship Id="rId12" Type="http://schemas.openxmlformats.org/officeDocument/2006/relationships/hyperlink" Target="http://iskystvo.ru/metka/forma/" TargetMode="External"/><Relationship Id="rId13" Type="http://schemas.openxmlformats.org/officeDocument/2006/relationships/hyperlink" Target="http://www.russika.ru/ef.php?s=3346" TargetMode="External"/><Relationship Id="rId14" Type="http://schemas.openxmlformats.org/officeDocument/2006/relationships/hyperlink" Target="http://akinfeev.livejournal.com/17482.html?page=26" TargetMode="External"/><Relationship Id="rId15" Type="http://schemas.openxmlformats.org/officeDocument/2006/relationships/hyperlink" Target="http://mega.km.ru/bes_2004/encyclop.asp?TopicNumber=34130&amp;rubr=156" TargetMode="External"/><Relationship Id="rId16" Type="http://schemas.openxmlformats.org/officeDocument/2006/relationships/hyperlink" Target="http://www.board74.ru/articles/geometry/tcone.html" TargetMode="External"/><Relationship Id="rId17" Type="http://schemas.openxmlformats.org/officeDocument/2006/relationships/hyperlink" Target="http://iskystvo.ru/2008/10/" TargetMode="External"/><Relationship Id="rId18" Type="http://schemas.openxmlformats.org/officeDocument/2006/relationships/hyperlink" Target="http://flamber.ru/photos/tags/%E4%EE%F0%EE%E3%E0/1181070512/" TargetMode="External"/><Relationship Id="rId19" Type="http://schemas.openxmlformats.org/officeDocument/2006/relationships/hyperlink" Target="http://slavyane.cddk.ru/publ/20-1-0-272" TargetMode="External"/><Relationship Id="rId20" Type="http://schemas.openxmlformats.org/officeDocument/2006/relationships/hyperlink" Target="http://media.meta.ua/files/pic/0/26/108/mIR6YnZXGo.jpg" TargetMode="External"/><Relationship Id="rId21" Type="http://schemas.openxmlformats.org/officeDocument/2006/relationships/hyperlink" Target="http://media.meta.ua/files/pic/0/26/108/mIR6YnZXGo.jpg" TargetMode="External"/><Relationship Id="rId22" Type="http://schemas.openxmlformats.org/officeDocument/2006/relationships/hyperlink" Target="http://media.meta.ua/files/pic/0/26/108/mIR6YnZXGo.jpg" TargetMode="External"/><Relationship Id="rId23" Type="http://schemas.openxmlformats.org/officeDocument/2006/relationships/hyperlink" Target="http://media.meta.ua/files/pic/0/26/108/mIR6YnZXGo.jpg" TargetMode="External"/><Relationship Id="rId24" Type="http://schemas.openxmlformats.org/officeDocument/2006/relationships/hyperlink" Target="http://media.meta.ua/files/pic/0/26/108/mIR6YnZXGo.jpg" TargetMode="External"/><Relationship Id="rId25" Type="http://schemas.openxmlformats.org/officeDocument/2006/relationships/hyperlink" Target="http://media.meta.ua/files/pic/0/26/108/mIR6YnZXGo.jpg" TargetMode="External"/><Relationship Id="rId26" Type="http://schemas.openxmlformats.org/officeDocument/2006/relationships/hyperlink" Target="http://media.meta.ua/files/pic/0/26/108/mIR6YnZXGo.jpg" TargetMode="External"/><Relationship Id="rId27" Type="http://schemas.openxmlformats.org/officeDocument/2006/relationships/hyperlink" Target="http://media.meta.ua/files/pic/0/26/108/mIR6YnZXGo.jpg" TargetMode="External"/><Relationship Id="rId28" Type="http://schemas.openxmlformats.org/officeDocument/2006/relationships/hyperlink" Target="http://media.meta.ua/files/pic/0/26/108/mIR6YnZXGo.jpg" TargetMode="External"/><Relationship Id="rId29" Type="http://schemas.openxmlformats.org/officeDocument/2006/relationships/hyperlink" Target="http://media.meta.ua/files/pic/0/26/108/mIR6YnZXGo.jpg" TargetMode="External"/><Relationship Id="rId30" Type="http://schemas.openxmlformats.org/officeDocument/2006/relationships/hyperlink" Target="http://media.meta.ua/files/pic/0/26/108/mIR6YnZXGo.jpg" TargetMode="External"/><Relationship Id="rId31" Type="http://schemas.openxmlformats.org/officeDocument/2006/relationships/slide" Target="../slides/slide9.xml"/><Relationship Id="rId3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РУГЛЫЕ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/пресс-конференция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ЦИЛИН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ОН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Ш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 уроку геометрии в 11 классе . Автор: Михайлова 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атематики МОУ «СОШ № 15 п. Березайка Тверской об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2C03-3470-4AD9-B64A-2D8595421D6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ение и углубление знаний  о круглых телах;   применение их (круглых тел) на практике в повседневной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логического мышления, творческой деятельности, реч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самостоятельности, активности, культуры 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5035-F457-4E5E-B772-E5B0112762B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ИЛИН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линдром здесь зовусь, друз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ухне встретите ме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–термос, вкусный торт и свеч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стрюля тёплая на печ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1CA8-B087-4CA4-B9CA-5892A30A190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АР,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– глобус, апельсин и мяч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– круглый шар, я даже чай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0B79-EB05-4D15-95A6-441210F8CA3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b3579"/>
                </a:solidFill>
                <a:latin typeface="Calibri"/>
              </a:rPr>
              <a:t>КОН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ёшь меня легко в ворон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ёлке, в шляпке у гри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, конус не стоит в сторон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ковка – это тоже 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8928-0B32-4FAD-A488-785ADEBB234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2d050"/>
                </a:solidFill>
                <a:latin typeface="Calibri"/>
              </a:rPr>
              <a:t>УСЕЧЁННЫЙ КОН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одская труба и маяк освещённый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нус совсем не простой – усечённы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9B7D-5D0C-4BFB-8D08-F335B3D6C5A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задача не для робких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ч упаковать в коробку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ен плотно он войт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 в пути не растрясти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610C-976B-4873-A500-E32FE382E46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 итоге? Посмотр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б – коробка, мяч – внут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D79C-57AE-430B-90F9-DE1D65BF0DD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ная литература и Интернет – ресур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метрия: Учеб. для 10-11 кл.сред.шк./Л.С.Атанасян, В.Ф.Бутузов, С.Б. Кадомцев и др.-М.: Просвещение.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ffice Power Point 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ция картино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http://www.salda.ru/dishes/prof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cook.freecopy.su/cookbook/?l=23&amp;w=43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srbp.ru/offers/20/805/2456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fotki.yandex.ru/users/mamuka532/view/60544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arsel.flamber.ru/photos/1200076904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vikar-plastic.com.ua/index.php?categoryID=3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yogaclassic.ru/post/23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fantasyflash.ru/anime/index.php?kont=sea&amp;n=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fantasyflash.ru/anime/index.php?kont=disney&amp;n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liveinternet.ru/photo/ha8xa7/post15454746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s99-omsk.narod.ru/projects/v/mozaika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iskystvo.ru/metka/form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russika.ru/ef.php?s=33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akinfeev.livejournal.com/17482.html?page=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mega.km.ru/bes_2004/encyclop.asp?TopicNumber=34130&amp;rubr=1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www.board74.ru/articles/geometry/tcone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iskystvo.ru/2008/10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flamber.ru/photos/tags/%E4%EE%F0%EE%E3%E0/1181070512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http://slavyane.cddk.ru/publ/20-1-0-2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http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media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meta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6"/>
              </a:rPr>
              <a:t>ua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7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8"/>
              </a:rPr>
              <a:t>files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9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0"/>
              </a:rPr>
              <a:t>pic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/0/26/108/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mIR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YnZXGo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FC3E-E2E8-41DE-8A3C-8ABF7DDCEEC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60FE-25C4-437F-B5FA-CE71577F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FCE0-7487-4D52-A80B-0B943E32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BD0D-67E8-4B22-A4AB-F99585EE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5D8B-7A27-404F-A265-DE44E85A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107D-D46F-40F1-80B4-55729C13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55FE-178C-488C-AF17-29C8F115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0B55-4874-4ACD-9068-FF3D9D73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E02C-C64D-4BBE-BAB5-FBA61D20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853D-AC73-4688-882C-C50ECE64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26B2-87C3-4D8B-B77B-1607B5D1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5EA0-C220-494C-A0A5-3010D432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49D5-2A38-4EDD-A417-A49649FF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6EAA-A3EA-4349-8789-D81B97E1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F2F8-509E-4D89-B828-8D57728C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C1BB-756F-4A46-9DAD-E0CAC05F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7CC4-0E00-449B-8611-F295E0E2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6B40-1031-4682-AD96-E46CEF3A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02AA-8B69-4594-9058-344B0819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0444-5EC2-43EB-802C-FB0B20F6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483F-C7C8-4DCA-8ECF-43C67C4D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04F6-E9C7-497F-99C7-90DC350C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4110-42D4-481A-B704-4469D0F3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147E-6C1D-4388-8E16-B6286D87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C246-F5EC-4D25-98E9-DEF1CA2A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5D1E-6E7C-4610-BC94-A2886AFD66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2A0E-AD92-4DB9-A695-BD2889F3FA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adugavd.ru/d/63369/d/14091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media.meta.ua/files/pic/0/26/108/mIR6YnZXGo.jpg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img-fotki.yandex.ru/get/3301/ostroum-igor.0/0_2586_82bc2d69_L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iskystvo.ru/wp-content/24.jpg" TargetMode="External"/><Relationship Id="rId9" Type="http://schemas.openxmlformats.org/officeDocument/2006/relationships/image" Target="../media/image7.jpeg"/><Relationship Id="rId10" Type="http://schemas.openxmlformats.org/officeDocument/2006/relationships/hyperlink" Target="http://www.peky.ru/tovary/kastruli/p_k_7.jpg" TargetMode="External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http://iskystvo.ru/wp-content/26.jpg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hyperlink" Target="http://s57.radikal.ru/i155/0810/61/a5647e91633f.jpg" TargetMode="External"/><Relationship Id="rId7" Type="http://schemas.openxmlformats.org/officeDocument/2006/relationships/image" Target="../media/image13.jpeg"/><Relationship Id="rId8" Type="http://schemas.openxmlformats.org/officeDocument/2006/relationships/hyperlink" Target="http://www.cook.freecopy.su/cookbook/pictures/4306.jpg" TargetMode="External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www.zavodplastmas.kiev.ua/foto/26v.jpg" TargetMode="External"/><Relationship Id="rId5" Type="http://schemas.openxmlformats.org/officeDocument/2006/relationships/image" Target="../media/image18.jpeg"/><Relationship Id="rId6" Type="http://schemas.openxmlformats.org/officeDocument/2006/relationships/hyperlink" Target="http://mega.km.ru/bes_2004/DATA/PREV1998/k_320i.jpg" TargetMode="External"/><Relationship Id="rId7" Type="http://schemas.openxmlformats.org/officeDocument/2006/relationships/image" Target="../media/image19.jpeg"/><Relationship Id="rId8" Type="http://schemas.openxmlformats.org/officeDocument/2006/relationships/hyperlink" Target="http://kinoforum.my1.ru/_fr/3/7676031.jpg" TargetMode="External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gif"/><Relationship Id="rId4" Type="http://schemas.openxmlformats.org/officeDocument/2006/relationships/hyperlink" Target="http://www.board74.ru/articles/geometry/tcone.gif" TargetMode="External"/><Relationship Id="rId5" Type="http://schemas.openxmlformats.org/officeDocument/2006/relationships/image" Target="../media/image24.png"/><Relationship Id="rId6" Type="http://schemas.openxmlformats.org/officeDocument/2006/relationships/hyperlink" Target="http://flamber.ru/files/photos/1152431728/1181070512_o.jpg" TargetMode="External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lda.ru/dishes/profi/" TargetMode="External"/><Relationship Id="rId2" Type="http://schemas.openxmlformats.org/officeDocument/2006/relationships/hyperlink" Target="http://www.cook.freecopy.su/cookbook/?l=23&amp;w=4306" TargetMode="External"/><Relationship Id="rId3" Type="http://schemas.openxmlformats.org/officeDocument/2006/relationships/hyperlink" Target="http://www.srbp.ru/offers/20/805/2456.html" TargetMode="External"/><Relationship Id="rId4" Type="http://schemas.openxmlformats.org/officeDocument/2006/relationships/hyperlink" Target="http://fotki.yandex.ru/users/mamuka532/view/60544/" TargetMode="External"/><Relationship Id="rId5" Type="http://schemas.openxmlformats.org/officeDocument/2006/relationships/hyperlink" Target="http://arsel.flamber.ru/photos/1200076904/" TargetMode="External"/><Relationship Id="rId6" Type="http://schemas.openxmlformats.org/officeDocument/2006/relationships/hyperlink" Target="http://www.vikar-plastic.com.ua/index.php?categoryID=301" TargetMode="External"/><Relationship Id="rId7" Type="http://schemas.openxmlformats.org/officeDocument/2006/relationships/hyperlink" Target="http://yogaclassic.ru/post/2343" TargetMode="External"/><Relationship Id="rId8" Type="http://schemas.openxmlformats.org/officeDocument/2006/relationships/hyperlink" Target="http://fantasyflash.ru/anime/index.php?kont=sea&amp;n=3" TargetMode="External"/><Relationship Id="rId9" Type="http://schemas.openxmlformats.org/officeDocument/2006/relationships/hyperlink" Target="http://fantasyflash.ru/anime/index.php?kont=disney&amp;n=1" TargetMode="External"/><Relationship Id="rId10" Type="http://schemas.openxmlformats.org/officeDocument/2006/relationships/hyperlink" Target="http://www.liveinternet.ru/photo/ha8xa7/post15454746/" TargetMode="External"/><Relationship Id="rId11" Type="http://schemas.openxmlformats.org/officeDocument/2006/relationships/hyperlink" Target="http://s99-omsk.narod.ru/projects/v/mozaika.htm" TargetMode="External"/><Relationship Id="rId12" Type="http://schemas.openxmlformats.org/officeDocument/2006/relationships/hyperlink" Target="http://iskystvo.ru/metka/forma/" TargetMode="External"/><Relationship Id="rId13" Type="http://schemas.openxmlformats.org/officeDocument/2006/relationships/hyperlink" Target="http://www.russika.ru/ef.php?s=3346" TargetMode="External"/><Relationship Id="rId14" Type="http://schemas.openxmlformats.org/officeDocument/2006/relationships/hyperlink" Target="http://akinfeev.livejournal.com/17482.html?page=26" TargetMode="External"/><Relationship Id="rId15" Type="http://schemas.openxmlformats.org/officeDocument/2006/relationships/hyperlink" Target="http://mega.km.ru/bes_2004/encyclop.asp?TopicNumber=34130&amp;rubr=156" TargetMode="External"/><Relationship Id="rId16" Type="http://schemas.openxmlformats.org/officeDocument/2006/relationships/hyperlink" Target="http://www.board74.ru/articles/geometry/tcone.html" TargetMode="External"/><Relationship Id="rId17" Type="http://schemas.openxmlformats.org/officeDocument/2006/relationships/hyperlink" Target="http://iskystvo.ru/2008/10/" TargetMode="External"/><Relationship Id="rId18" Type="http://schemas.openxmlformats.org/officeDocument/2006/relationships/hyperlink" Target="http://flamber.ru/photos/tags/%E4%EE%F0%EE%E3%E0/1181070512/" TargetMode="External"/><Relationship Id="rId19" Type="http://schemas.openxmlformats.org/officeDocument/2006/relationships/hyperlink" Target="http://slavyane.cddk.ru/publ/20-1-0-272" TargetMode="External"/><Relationship Id="rId20" Type="http://schemas.openxmlformats.org/officeDocument/2006/relationships/hyperlink" Target="http://media.meta.ua/files/pic/0/26/108/mIR6YnZXGo.jpg" TargetMode="External"/><Relationship Id="rId21" Type="http://schemas.openxmlformats.org/officeDocument/2006/relationships/hyperlink" Target="http://media.meta.ua/files/pic/0/26/108/mIR6YnZXGo.jpg" TargetMode="External"/><Relationship Id="rId22" Type="http://schemas.openxmlformats.org/officeDocument/2006/relationships/hyperlink" Target="http://media.meta.ua/files/pic/0/26/108/mIR6YnZXGo.jpg" TargetMode="External"/><Relationship Id="rId23" Type="http://schemas.openxmlformats.org/officeDocument/2006/relationships/hyperlink" Target="http://media.meta.ua/files/pic/0/26/108/mIR6YnZXGo.jpg" TargetMode="External"/><Relationship Id="rId24" Type="http://schemas.openxmlformats.org/officeDocument/2006/relationships/hyperlink" Target="http://media.meta.ua/files/pic/0/26/108/mIR6YnZXGo.jpg" TargetMode="External"/><Relationship Id="rId25" Type="http://schemas.openxmlformats.org/officeDocument/2006/relationships/hyperlink" Target="http://media.meta.ua/files/pic/0/26/108/mIR6YnZXGo.jpg" TargetMode="External"/><Relationship Id="rId26" Type="http://schemas.openxmlformats.org/officeDocument/2006/relationships/hyperlink" Target="http://media.meta.ua/files/pic/0/26/108/mIR6YnZXGo.jpg" TargetMode="External"/><Relationship Id="rId27" Type="http://schemas.openxmlformats.org/officeDocument/2006/relationships/hyperlink" Target="http://media.meta.ua/files/pic/0/26/108/mIR6YnZXGo.jpg" TargetMode="External"/><Relationship Id="rId28" Type="http://schemas.openxmlformats.org/officeDocument/2006/relationships/hyperlink" Target="http://media.meta.ua/files/pic/0/26/108/mIR6YnZXGo.jpg" TargetMode="External"/><Relationship Id="rId29" Type="http://schemas.openxmlformats.org/officeDocument/2006/relationships/hyperlink" Target="http://media.meta.ua/files/pic/0/26/108/mIR6YnZXGo.jpg" TargetMode="External"/><Relationship Id="rId30" Type="http://schemas.openxmlformats.org/officeDocument/2006/relationships/hyperlink" Target="http://media.meta.ua/files/pic/0/26/108/mIR6YnZXGo.jpg" TargetMode="External"/><Relationship Id="rId31" Type="http://schemas.openxmlformats.org/officeDocument/2006/relationships/hyperlink" Target="http://media.meta.ua/files/pic/0/26/108/mIR6YnZXGo.jpg" TargetMode="External"/><Relationship Id="rId32" Type="http://schemas.openxmlformats.org/officeDocument/2006/relationships/hyperlink" Target="http://media.meta.ua/files/pic/0/26/108/mIR6YnZXGo.jpg" TargetMode="External"/><Relationship Id="rId33" Type="http://schemas.openxmlformats.org/officeDocument/2006/relationships/hyperlink" Target="http://media.meta.ua/files/pic/0/26/108/mIR6YnZXGo.jpg" TargetMode="External"/><Relationship Id="rId34" Type="http://schemas.openxmlformats.org/officeDocument/2006/relationships/hyperlink" Target="http://media.meta.ua/files/pic/0/26/108/mIR6YnZXGo.jpg" TargetMode="External"/><Relationship Id="rId35" Type="http://schemas.openxmlformats.org/officeDocument/2006/relationships/hyperlink" Target="http://media.meta.ua/files/pic/0/26/108/mIR6YnZXGo.jpg" TargetMode="External"/><Relationship Id="rId36" Type="http://schemas.openxmlformats.org/officeDocument/2006/relationships/hyperlink" Target="http://media.meta.ua/files/pic/0/26/108/mIR6YnZXGo.jpg" TargetMode="External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5"/>
          <p:cNvSpPr txBox="1"/>
          <p:nvPr/>
        </p:nvSpPr>
        <p:spPr>
          <a:xfrm>
            <a:off x="2843280" y="714240"/>
            <a:ext cx="3657600" cy="12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РУГЛЫЕ ТЕЛ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/пресс-конференция/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WordArt 6"/>
          <p:cNvSpPr txBox="1"/>
          <p:nvPr/>
        </p:nvSpPr>
        <p:spPr>
          <a:xfrm>
            <a:off x="3419640" y="2781360"/>
            <a:ext cx="226692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ИЛИНД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НУ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ША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85840" y="585792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зентация к уроку геометрии в 11 классе . Автор: Михайлова 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ь математики МОУ «СОШ № 15 п. Березайка Тверской об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бщение и углубление знаний  о круглых телах;   применение их (круглых тел) на практике в повседневной жизн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витие логического мышления, творческой деятельности, реч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спитание самостоятельности, активности, культуры общ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Прямоугольник 3" descr=""/>
          <p:cNvPicPr/>
          <p:nvPr/>
        </p:nvPicPr>
        <p:blipFill>
          <a:blip r:embed="rId1"/>
          <a:stretch/>
        </p:blipFill>
        <p:spPr>
          <a:xfrm>
            <a:off x="285840" y="334800"/>
            <a:ext cx="7572240" cy="1457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3" descr=""/>
          <p:cNvPicPr/>
          <p:nvPr/>
        </p:nvPicPr>
        <p:blipFill>
          <a:blip r:embed="rId1"/>
          <a:stretch/>
        </p:blipFill>
        <p:spPr>
          <a:xfrm>
            <a:off x="1749600" y="407880"/>
            <a:ext cx="4846320" cy="1579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0" name="Object 14"/>
              <p:cNvSpPr txBox="1"/>
              <p:nvPr/>
            </p:nvSpPr>
            <p:spPr>
              <a:xfrm>
                <a:off x="1714680" y="4929120"/>
                <a:ext cx="18666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бо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6"/>
              <p:cNvSpPr txBox="1"/>
              <p:nvPr/>
            </p:nvSpPr>
            <p:spPr>
              <a:xfrm>
                <a:off x="1500120" y="5500800"/>
                <a:ext cx="233352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полн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TextBox 13"/>
          <p:cNvSpPr/>
          <p:nvPr/>
        </p:nvSpPr>
        <p:spPr>
          <a:xfrm>
            <a:off x="357120" y="207180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илиндром здесь зовусь, друзь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кухне встретите мен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–термос, вкусный торт и свечк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стрюля тёплая на печк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14" descr="http://radugavd.ru/d/63369/d/1409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29120" y="2143080"/>
            <a:ext cx="1428840" cy="2055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http://media.meta.ua/files/pic/0/26/108/mIR6YnZXGo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15080" y="1928880"/>
            <a:ext cx="1785960" cy="1496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Картинка 22 из 12056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72200" y="4071960"/>
            <a:ext cx="1398600" cy="1955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Картинка 62 из 106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71760" y="3357720"/>
            <a:ext cx="2214360" cy="1477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Картинка 2 из 95134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429080" y="4643280"/>
            <a:ext cx="1785960" cy="14288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3" descr=""/>
          <p:cNvPicPr/>
          <p:nvPr/>
        </p:nvPicPr>
        <p:blipFill>
          <a:blip r:embed="rId1"/>
          <a:stretch/>
        </p:blipFill>
        <p:spPr>
          <a:xfrm>
            <a:off x="1359000" y="291960"/>
            <a:ext cx="6986520" cy="16099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5"/>
              <p:cNvSpPr txBox="1"/>
              <p:nvPr/>
            </p:nvSpPr>
            <p:spPr>
              <a:xfrm>
                <a:off x="3929040" y="5000760"/>
                <a:ext cx="18892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2" name="TextBox 16"/>
          <p:cNvSpPr/>
          <p:nvPr/>
        </p:nvSpPr>
        <p:spPr>
          <a:xfrm>
            <a:off x="2000160" y="185724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 – глобус, апельсин и мячи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 – круглый шар, я даже чайни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7" descr="http://im5-tub.yandex.net/i?id=57082072&amp;tov=5"/>
          <p:cNvPicPr/>
          <p:nvPr/>
        </p:nvPicPr>
        <p:blipFill>
          <a:blip r:embed="rId2"/>
          <a:stretch/>
        </p:blipFill>
        <p:spPr>
          <a:xfrm>
            <a:off x="1000080" y="4286160"/>
            <a:ext cx="1333440" cy="1806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Картинка 150 из 12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3240" y="342900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http://im0-tub.yandex.net/i?id=61901722&amp;tov=0"/>
          <p:cNvPicPr/>
          <p:nvPr/>
        </p:nvPicPr>
        <p:blipFill>
          <a:blip r:embed="rId5"/>
          <a:stretch/>
        </p:blipFill>
        <p:spPr>
          <a:xfrm>
            <a:off x="714240" y="2571840"/>
            <a:ext cx="1333800" cy="1320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Картинка 101 из 125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97720" y="2214720"/>
            <a:ext cx="1903320" cy="1428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Картинка 14 из 10484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643800" y="4429080"/>
            <a:ext cx="2143080" cy="16081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3" descr=""/>
          <p:cNvPicPr/>
          <p:nvPr/>
        </p:nvPicPr>
        <p:blipFill>
          <a:blip r:embed="rId1"/>
          <a:stretch/>
        </p:blipFill>
        <p:spPr>
          <a:xfrm>
            <a:off x="2682720" y="334800"/>
            <a:ext cx="3535560" cy="1457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19"/>
              <p:cNvSpPr txBox="1"/>
              <p:nvPr/>
            </p:nvSpPr>
            <p:spPr>
              <a:xfrm>
                <a:off x="5572080" y="4141800"/>
                <a:ext cx="13572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21"/>
              <p:cNvSpPr txBox="1"/>
              <p:nvPr/>
            </p:nvSpPr>
            <p:spPr>
              <a:xfrm>
                <a:off x="5286240" y="4500720"/>
                <a:ext cx="194976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полн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π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TextBox 17"/>
          <p:cNvSpPr/>
          <p:nvPr/>
        </p:nvSpPr>
        <p:spPr>
          <a:xfrm>
            <a:off x="500040" y="185724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йдёшь меня легко в воронк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ёлке, в шляпке у гриб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, конус не стоит в сторонк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рковка – это тоже 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16" descr="http://im4-tub.yandex.net/i?id=44256238&amp;tov=4"/>
          <p:cNvPicPr/>
          <p:nvPr/>
        </p:nvPicPr>
        <p:blipFill>
          <a:blip r:embed="rId2"/>
          <a:stretch/>
        </p:blipFill>
        <p:spPr>
          <a:xfrm>
            <a:off x="1857240" y="4714920"/>
            <a:ext cx="1800360" cy="1347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http://im8-tub.yandex.net/i?id=73588947&amp;tov=8"/>
          <p:cNvPicPr/>
          <p:nvPr/>
        </p:nvPicPr>
        <p:blipFill>
          <a:blip r:embed="rId3"/>
          <a:stretch/>
        </p:blipFill>
        <p:spPr>
          <a:xfrm>
            <a:off x="3786120" y="3071880"/>
            <a:ext cx="1143000" cy="1517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0" descr="Картинка 31 из 4814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7120" y="3214800"/>
            <a:ext cx="1857600" cy="1311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Картинка 143 из 47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429160" y="200016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Картинка 5 из 7006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00960" y="4429080"/>
            <a:ext cx="1206360" cy="156852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Прямоугольник 3" descr=""/>
          <p:cNvPicPr/>
          <p:nvPr/>
        </p:nvPicPr>
        <p:blipFill>
          <a:blip r:embed="rId1"/>
          <a:stretch/>
        </p:blipFill>
        <p:spPr>
          <a:xfrm>
            <a:off x="109440" y="334800"/>
            <a:ext cx="8705880" cy="145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:\Program Files\Microsoft Office\MEDIA\CAGCAT10\j0285360.wmf"/>
          <p:cNvPicPr/>
          <p:nvPr/>
        </p:nvPicPr>
        <p:blipFill>
          <a:blip r:embed="rId2"/>
          <a:stretch/>
        </p:blipFill>
        <p:spPr>
          <a:xfrm>
            <a:off x="307800" y="3357720"/>
            <a:ext cx="1737000" cy="2143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2665440" y="5643720"/>
                <a:ext cx="37018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л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3"/>
              <p:cNvSpPr txBox="1"/>
              <p:nvPr/>
            </p:nvSpPr>
            <p:spPr>
              <a:xfrm>
                <a:off x="3308400" y="5072040"/>
                <a:ext cx="2246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TextBox 11"/>
          <p:cNvSpPr/>
          <p:nvPr/>
        </p:nvSpPr>
        <p:spPr>
          <a:xfrm>
            <a:off x="1643040" y="178596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водская труба и маяк освещённый –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конус совсем не простой – усечённый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Рисунок 11" descr="sea70.gif"/>
          <p:cNvPicPr/>
          <p:nvPr/>
        </p:nvPicPr>
        <p:blipFill>
          <a:blip r:embed="rId3"/>
          <a:stretch/>
        </p:blipFill>
        <p:spPr>
          <a:xfrm>
            <a:off x="7286760" y="2000160"/>
            <a:ext cx="1153800" cy="114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Картинка 153 из 47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43160" y="3071880"/>
            <a:ext cx="1924200" cy="1485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Картинка 5 из 133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00880" y="4286160"/>
            <a:ext cx="1976400" cy="14828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807228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т задача не для робких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яч упаковать в коробк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ен плотно он войт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б в пути не растрясти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2" descr="j0299763"/>
          <p:cNvPicPr/>
          <p:nvPr/>
        </p:nvPicPr>
        <p:blipFill>
          <a:blip r:embed="rId1"/>
          <a:stretch/>
        </p:blipFill>
        <p:spPr>
          <a:xfrm>
            <a:off x="785880" y="2714760"/>
            <a:ext cx="3097080" cy="254772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3"/>
          <p:cNvSpPr/>
          <p:nvPr/>
        </p:nvSpPr>
        <p:spPr>
          <a:xfrm>
            <a:off x="4643280" y="2571840"/>
            <a:ext cx="3000600" cy="2643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Рисунок 4" descr="dis16.gif"/>
          <p:cNvPicPr/>
          <p:nvPr/>
        </p:nvPicPr>
        <p:blipFill>
          <a:blip r:embed="rId2"/>
          <a:stretch/>
        </p:blipFill>
        <p:spPr>
          <a:xfrm>
            <a:off x="7286760" y="285840"/>
            <a:ext cx="952200" cy="1143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 в итоге? Посмотри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уб – коробка, мяч – внутри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2" descr="j0299763"/>
          <p:cNvPicPr/>
          <p:nvPr/>
        </p:nvPicPr>
        <p:blipFill>
          <a:blip r:embed="rId1"/>
          <a:stretch/>
        </p:blipFill>
        <p:spPr>
          <a:xfrm>
            <a:off x="2714760" y="2786040"/>
            <a:ext cx="2838240" cy="2286000"/>
          </a:xfrm>
          <a:prstGeom prst="rect">
            <a:avLst/>
          </a:prstGeom>
          <a:ln w="0">
            <a:noFill/>
          </a:ln>
        </p:spPr>
      </p:pic>
      <p:sp>
        <p:nvSpPr>
          <p:cNvPr id="148" name="Куб 4"/>
          <p:cNvSpPr/>
          <p:nvPr/>
        </p:nvSpPr>
        <p:spPr>
          <a:xfrm>
            <a:off x="2928960" y="2643120"/>
            <a:ext cx="2928960" cy="264312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Прямая соединительная линия 6"/>
          <p:cNvSpPr/>
          <p:nvPr/>
        </p:nvSpPr>
        <p:spPr>
          <a:xfrm flipH="1">
            <a:off x="3569760" y="264312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Прямая соединительная линия 10"/>
          <p:cNvSpPr/>
          <p:nvPr/>
        </p:nvSpPr>
        <p:spPr>
          <a:xfrm flipV="1">
            <a:off x="2928240" y="5143680"/>
            <a:ext cx="1429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ая соединительная линия 12"/>
          <p:cNvSpPr/>
          <p:nvPr/>
        </p:nvSpPr>
        <p:spPr>
          <a:xfrm flipV="1">
            <a:off x="3142440" y="492876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рямая соединительная линия 16"/>
          <p:cNvSpPr/>
          <p:nvPr/>
        </p:nvSpPr>
        <p:spPr>
          <a:xfrm flipH="1" flipV="1">
            <a:off x="5643360" y="4642920"/>
            <a:ext cx="214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рямая соединительная линия 18"/>
          <p:cNvSpPr/>
          <p:nvPr/>
        </p:nvSpPr>
        <p:spPr>
          <a:xfrm flipH="1" flipV="1">
            <a:off x="5428800" y="464292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Прямая соединительная линия 20"/>
          <p:cNvSpPr/>
          <p:nvPr/>
        </p:nvSpPr>
        <p:spPr>
          <a:xfrm flipV="1">
            <a:off x="3429000" y="471492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Прямая соединительная линия 22"/>
          <p:cNvSpPr/>
          <p:nvPr/>
        </p:nvSpPr>
        <p:spPr>
          <a:xfrm flipH="1">
            <a:off x="3569760" y="292896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285840" y="1785960"/>
            <a:ext cx="8358120" cy="63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еометрия: Учеб. для 10-11 кл.сред.шк./Л.С.Атанасян, В.Ф.Бутузов, С.Б. Кадомцев и др.-М.: Просвещение.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crosoft Office Power Point 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ллекция картинок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 http://www.salda.ru/dishes/prof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cook.freecopy.su/cookbook/?l=23&amp;w=43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srbp.ru/offers/20/805/2456.htm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fotki.yandex.ru/users/mamuka532/view/60544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arsel.flamber.ru/photos/1200076904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http://www.vikar-plastic.com.ua/index.php?categoryID=30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http://yogaclassic.ru/post/234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http://fantasyflash.ru/anime/index.php?kont=sea&amp;n=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http://fantasyflash.ru/anime/index.php?kont=disney&amp;n=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http://www.liveinternet.ru/photo/ha8xa7/post15454746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http://s99-omsk.narod.ru/projects/v/mozaika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http://iskystvo.ru/metka/forma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http://www.russika.ru/ef.php?s=334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http://akinfeev.livejournal.com/17482.html?page=2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http://mega.km.ru/bes_2004/encyclop.asp?TopicNumber=34130&amp;rubr=15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6"/>
              </a:rPr>
              <a:t>http://www.board74.ru/articles/geometry/tcone.htm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7"/>
              </a:rPr>
              <a:t>http://iskystvo.ru/2008/10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8"/>
              </a:rPr>
              <a:t>http://flamber.ru/photos/tags/%E4%EE%F0%EE%E3%E0/1181070512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9"/>
              </a:rPr>
              <a:t>http://slavyane.cddk.ru/publ/20-1-0-27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0"/>
              </a:rPr>
              <a:t>http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1"/>
              </a:rPr>
              <a:t>:/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2"/>
              </a:rPr>
              <a:t>media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3"/>
              </a:rPr>
              <a:t>.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4"/>
              </a:rPr>
              <a:t>meta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5"/>
              </a:rPr>
              <a:t>.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6"/>
              </a:rPr>
              <a:t>ua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7"/>
              </a:rPr>
              <a:t>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8"/>
              </a:rPr>
              <a:t>files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9"/>
              </a:rPr>
              <a:t>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0"/>
              </a:rPr>
              <a:t>pic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1"/>
              </a:rPr>
              <a:t>/0/26/108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2"/>
              </a:rPr>
              <a:t>mIR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3"/>
              </a:rPr>
              <a:t>6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4"/>
              </a:rPr>
              <a:t>YnZXGo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5"/>
              </a:rPr>
              <a:t>.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6"/>
              </a:rPr>
              <a:t>jp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357120" y="28584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пользованная литература и Интернет – ресур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9:48:30Z</dcterms:created>
  <dc:creator>Березайка</dc:creator>
  <dc:description/>
  <dc:language>en-US</dc:language>
  <cp:lastModifiedBy>LEGION</cp:lastModifiedBy>
  <dcterms:modified xsi:type="dcterms:W3CDTF">2015-01-26T12:29:00Z</dcterms:modified>
  <cp:revision>59</cp:revision>
  <dc:subject/>
  <dc:title>Слайд 1</dc:title>
</cp:coreProperties>
</file>