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gif" ContentType="image/gif"/>
  <Override PartName="/ppt/media/image26.wmf" ContentType="image/x-wmf"/>
  <Override PartName="/ppt/media/image15.png" ContentType="image/png"/>
  <Override PartName="/ppt/media/image3.png" ContentType="image/png"/>
  <Override PartName="/ppt/media/image17.jpeg" ContentType="image/jpeg"/>
  <Override PartName="/ppt/media/image23.gif" ContentType="image/gif"/>
  <Override PartName="/ppt/media/image22.wmf" ContentType="image/x-wmf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6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E324-11F0-4D51-B777-58EFFF193C1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www.salda.ru/dishes/profi/" TargetMode="External"/><Relationship Id="rId2" Type="http://schemas.openxmlformats.org/officeDocument/2006/relationships/hyperlink" Target="http://www.cook.freecopy.su/cookbook/?l=23&amp;w=4306" TargetMode="External"/><Relationship Id="rId3" Type="http://schemas.openxmlformats.org/officeDocument/2006/relationships/hyperlink" Target="http://www.srbp.ru/offers/20/805/2456.html" TargetMode="External"/><Relationship Id="rId4" Type="http://schemas.openxmlformats.org/officeDocument/2006/relationships/hyperlink" Target="http://fotki.yandex.ru/users/mamuka532/view/60544/" TargetMode="External"/><Relationship Id="rId5" Type="http://schemas.openxmlformats.org/officeDocument/2006/relationships/hyperlink" Target="http://arsel.flamber.ru/photos/1200076904/" TargetMode="External"/><Relationship Id="rId6" Type="http://schemas.openxmlformats.org/officeDocument/2006/relationships/hyperlink" Target="http://www.vikar-plastic.com.ua/index.php?categoryID=301" TargetMode="External"/><Relationship Id="rId7" Type="http://schemas.openxmlformats.org/officeDocument/2006/relationships/hyperlink" Target="http://yogaclassic.ru/post/2343" TargetMode="External"/><Relationship Id="rId8" Type="http://schemas.openxmlformats.org/officeDocument/2006/relationships/hyperlink" Target="http://fantasyflash.ru/anime/index.php?kont=sea&amp;n=3" TargetMode="External"/><Relationship Id="rId9" Type="http://schemas.openxmlformats.org/officeDocument/2006/relationships/hyperlink" Target="http://fantasyflash.ru/anime/index.php?kont=disney&amp;n=1" TargetMode="External"/><Relationship Id="rId10" Type="http://schemas.openxmlformats.org/officeDocument/2006/relationships/hyperlink" Target="http://www.liveinternet.ru/photo/ha8xa7/post15454746/" TargetMode="External"/><Relationship Id="rId11" Type="http://schemas.openxmlformats.org/officeDocument/2006/relationships/hyperlink" Target="http://s99-omsk.narod.ru/projects/v/mozaika.htm" TargetMode="External"/><Relationship Id="rId12" Type="http://schemas.openxmlformats.org/officeDocument/2006/relationships/hyperlink" Target="http://iskystvo.ru/metka/forma/" TargetMode="External"/><Relationship Id="rId13" Type="http://schemas.openxmlformats.org/officeDocument/2006/relationships/hyperlink" Target="http://www.russika.ru/ef.php?s=3346" TargetMode="External"/><Relationship Id="rId14" Type="http://schemas.openxmlformats.org/officeDocument/2006/relationships/hyperlink" Target="http://akinfeev.livejournal.com/17482.html?page=26" TargetMode="External"/><Relationship Id="rId15" Type="http://schemas.openxmlformats.org/officeDocument/2006/relationships/hyperlink" Target="http://mega.km.ru/bes_2004/encyclop.asp?TopicNumber=34130&amp;rubr=156" TargetMode="External"/><Relationship Id="rId16" Type="http://schemas.openxmlformats.org/officeDocument/2006/relationships/hyperlink" Target="http://www.board74.ru/articles/geometry/tcone.html" TargetMode="External"/><Relationship Id="rId17" Type="http://schemas.openxmlformats.org/officeDocument/2006/relationships/hyperlink" Target="http://iskystvo.ru/2008/10/" TargetMode="External"/><Relationship Id="rId18" Type="http://schemas.openxmlformats.org/officeDocument/2006/relationships/hyperlink" Target="http://flamber.ru/photos/tags/%E4%EE%F0%EE%E3%E0/1181070512/" TargetMode="External"/><Relationship Id="rId19" Type="http://schemas.openxmlformats.org/officeDocument/2006/relationships/hyperlink" Target="http://slavyane.cddk.ru/publ/20-1-0-272" TargetMode="External"/><Relationship Id="rId20" Type="http://schemas.openxmlformats.org/officeDocument/2006/relationships/hyperlink" Target="http://media.meta.ua/files/pic/0/26/108/mIR6YnZXGo.jpg" TargetMode="External"/><Relationship Id="rId21" Type="http://schemas.openxmlformats.org/officeDocument/2006/relationships/hyperlink" Target="http://media.meta.ua/files/pic/0/26/108/mIR6YnZXGo.jpg" TargetMode="External"/><Relationship Id="rId22" Type="http://schemas.openxmlformats.org/officeDocument/2006/relationships/hyperlink" Target="http://media.meta.ua/files/pic/0/26/108/mIR6YnZXGo.jpg" TargetMode="External"/><Relationship Id="rId23" Type="http://schemas.openxmlformats.org/officeDocument/2006/relationships/hyperlink" Target="http://media.meta.ua/files/pic/0/26/108/mIR6YnZXGo.jpg" TargetMode="External"/><Relationship Id="rId24" Type="http://schemas.openxmlformats.org/officeDocument/2006/relationships/hyperlink" Target="http://media.meta.ua/files/pic/0/26/108/mIR6YnZXGo.jpg" TargetMode="External"/><Relationship Id="rId25" Type="http://schemas.openxmlformats.org/officeDocument/2006/relationships/hyperlink" Target="http://media.meta.ua/files/pic/0/26/108/mIR6YnZXGo.jpg" TargetMode="External"/><Relationship Id="rId26" Type="http://schemas.openxmlformats.org/officeDocument/2006/relationships/hyperlink" Target="http://media.meta.ua/files/pic/0/26/108/mIR6YnZXGo.jpg" TargetMode="External"/><Relationship Id="rId27" Type="http://schemas.openxmlformats.org/officeDocument/2006/relationships/hyperlink" Target="http://media.meta.ua/files/pic/0/26/108/mIR6YnZXGo.jpg" TargetMode="External"/><Relationship Id="rId28" Type="http://schemas.openxmlformats.org/officeDocument/2006/relationships/hyperlink" Target="http://media.meta.ua/files/pic/0/26/108/mIR6YnZXGo.jpg" TargetMode="External"/><Relationship Id="rId29" Type="http://schemas.openxmlformats.org/officeDocument/2006/relationships/hyperlink" Target="http://media.meta.ua/files/pic/0/26/108/mIR6YnZXGo.jpg" TargetMode="External"/><Relationship Id="rId30" Type="http://schemas.openxmlformats.org/officeDocument/2006/relationships/hyperlink" Target="http://media.meta.ua/files/pic/0/26/108/mIR6YnZXGo.jpg" TargetMode="External"/><Relationship Id="rId31" Type="http://schemas.openxmlformats.org/officeDocument/2006/relationships/slide" Target="../slides/slide9.xml"/><Relationship Id="rId3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КРУГЛЫЕ Т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/пресс-конференция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ЦИЛИНД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КОН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Ш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к уроку геометрии в 11 классе . Автор: Михайлова 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математики МОУ «СОШ № 15 п. Березайка Тверской об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F7F3-21EE-4008-A0E0-4C5D0E154E1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ЕЛИ УР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ение и углубление знаний  о круглых телах;   применение их (круглых тел) на практике в повседневной жиз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логического мышления, творческой деятельности, реч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 самостоятельности, активности, культуры об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7624-2466-4F9E-948E-B2523812697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ИЛИНД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линдром здесь зовусь, друз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ухне встретите мен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–термос, вкусный торт и свеч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стрюля тёплая на печ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6787-4B75-41EC-895F-0755CADD7C9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ШАР, СФ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– глобус, апельсин и мяч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– круглый шар, я даже чай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FDED-FE2E-47F1-8C5E-CC818977152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b3579"/>
                </a:solidFill>
                <a:latin typeface="Calibri"/>
              </a:rPr>
              <a:t>КОН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ёшь меня легко в воронк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ёлке, в шляпке у гриб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, конус не стоит в сторонк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ковка – это тоже 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D432-1146-4F52-B75C-F15067F538A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2d050"/>
                </a:solidFill>
                <a:latin typeface="Calibri"/>
              </a:rPr>
              <a:t>УСЕЧЁННЫЙ КОН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одская труба и маяк освещённый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конус совсем не простой – усечённый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E70B-7585-49F4-8EB3-17D5E77C344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т задача не для робких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яч упаковать в коробку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ен плотно он войти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 в пути не растрясти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6EEC-6CFE-40BD-B43C-D464CD39632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в итоге? Посмотр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б – коробка, мяч – внутр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2ECD-67EC-4AC9-86A3-2E0FCD1D85B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ная литература и Интернет – ресур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метрия: Учеб. для 10-11 кл.сред.шк./Л.С.Атанасян, В.Ф.Бутузов, С.Б. Кадомцев и др.-М.: Просвещение.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Office Power Point /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ция картино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http://www.salda.ru/dishes/prof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cook.freecopy.su/cookbook/?l=23&amp;w=43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srbp.ru/offers/20/805/2456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fotki.yandex.ru/users/mamuka532/view/60544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arsel.flamber.ru/photos/1200076904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vikar-plastic.com.ua/index.php?categoryID=3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yogaclassic.ru/post/234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fantasyflash.ru/anime/index.php?kont=sea&amp;n=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fantasyflash.ru/anime/index.php?kont=disney&amp;n=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www.liveinternet.ru/photo/ha8xa7/post15454746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s99-omsk.narod.ru/projects/v/mozaika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iskystvo.ru/metka/forma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www.russika.ru/ef.php?s=334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akinfeev.livejournal.com/17482.html?page=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http://mega.km.ru/bes_2004/encyclop.asp?TopicNumber=34130&amp;rubr=1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://www.board74.ru/articles/geometry/tcone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http://iskystvo.ru/2008/10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http://flamber.ru/photos/tags/%E4%EE%F0%EE%E3%E0/1181070512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http://slavyane.cddk.ru/publ/20-1-0-2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http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media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.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meta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5"/>
              </a:rPr>
              <a:t>.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6"/>
              </a:rPr>
              <a:t>ua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7"/>
              </a:rPr>
              <a:t>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8"/>
              </a:rPr>
              <a:t>files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9"/>
              </a:rPr>
              <a:t>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0"/>
              </a:rPr>
              <a:t>pic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/0/26/108/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mIR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6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YnZXGo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C4B2-0F45-48B8-9C14-AFE37F6852F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7380-48A4-40EC-A7AE-3886A9B5A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AA74-1A1F-4B9E-A740-15F5692A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E0EB-FBF2-47D2-A16D-8D00332EF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16E2-B753-46A5-8BBC-7767AD024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0A44-D0D8-48CF-BB10-77F6E2AB2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B035F-1B2A-4C0A-B05E-1A2ABFB9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2ABF-67A8-4097-AB5A-0E115DC9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CE181-8FD9-47AA-8091-B995DFF7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360B-766B-4078-B69E-8E77FCB0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C145-E7F1-4EC6-9022-225CDA3B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A488-3171-46DC-A96D-AE612DB4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12D3-3760-4F10-8975-B1FE7080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1E64-93F4-48C1-9F34-BCC45C4B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32E18-CFB5-43F6-AB24-6BF4074B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B34C-8934-4273-A138-2D9F93AB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98F6-36D7-48D5-BFF1-5B696ECDC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2E14-E826-44A0-9A3E-AD8924DD7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48C8-2420-4EAF-9562-AF55F968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F8A8-2C06-4BFB-9C5B-5C31BFB2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DDBB-CCB0-4458-B0A5-8F3829D3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1863-0D2E-40D7-A450-6B917E92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DE0E-26ED-48C7-B84F-79C097F2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4FFF-1802-4058-B24B-27744642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B283-611A-4EAC-A401-9CC1066C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559B-43D4-418A-90BF-A8C047041BE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1BF4-666B-4CF5-9251-772BA096553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radugavd.ru/d/63369/d/14091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media.meta.ua/files/pic/0/26/108/mIR6YnZXGo.jpg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img-fotki.yandex.ru/get/3301/ostroum-igor.0/0_2586_82bc2d69_L" TargetMode="External"/><Relationship Id="rId7" Type="http://schemas.openxmlformats.org/officeDocument/2006/relationships/image" Target="../media/image6.jpeg"/><Relationship Id="rId8" Type="http://schemas.openxmlformats.org/officeDocument/2006/relationships/hyperlink" Target="http://iskystvo.ru/wp-content/24.jpg" TargetMode="External"/><Relationship Id="rId9" Type="http://schemas.openxmlformats.org/officeDocument/2006/relationships/image" Target="../media/image7.jpeg"/><Relationship Id="rId10" Type="http://schemas.openxmlformats.org/officeDocument/2006/relationships/hyperlink" Target="http://www.peky.ru/tovary/kastruli/p_k_7.jpg" TargetMode="External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hyperlink" Target="http://iskystvo.ru/wp-content/26.jpg" TargetMode="External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hyperlink" Target="http://s57.radikal.ru/i155/0810/61/a5647e91633f.jpg" TargetMode="External"/><Relationship Id="rId7" Type="http://schemas.openxmlformats.org/officeDocument/2006/relationships/image" Target="../media/image13.jpeg"/><Relationship Id="rId8" Type="http://schemas.openxmlformats.org/officeDocument/2006/relationships/hyperlink" Target="http://www.cook.freecopy.su/cookbook/pictures/4306.jpg" TargetMode="External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hyperlink" Target="http://www.zavodplastmas.kiev.ua/foto/26v.jpg" TargetMode="External"/><Relationship Id="rId5" Type="http://schemas.openxmlformats.org/officeDocument/2006/relationships/image" Target="../media/image18.jpeg"/><Relationship Id="rId6" Type="http://schemas.openxmlformats.org/officeDocument/2006/relationships/hyperlink" Target="http://mega.km.ru/bes_2004/DATA/PREV1998/k_320i.jpg" TargetMode="External"/><Relationship Id="rId7" Type="http://schemas.openxmlformats.org/officeDocument/2006/relationships/image" Target="../media/image19.jpeg"/><Relationship Id="rId8" Type="http://schemas.openxmlformats.org/officeDocument/2006/relationships/hyperlink" Target="http://kinoforum.my1.ru/_fr/3/7676031.jpg" TargetMode="External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gif"/><Relationship Id="rId4" Type="http://schemas.openxmlformats.org/officeDocument/2006/relationships/hyperlink" Target="http://www.board74.ru/articles/geometry/tcone.gif" TargetMode="External"/><Relationship Id="rId5" Type="http://schemas.openxmlformats.org/officeDocument/2006/relationships/image" Target="../media/image24.png"/><Relationship Id="rId6" Type="http://schemas.openxmlformats.org/officeDocument/2006/relationships/hyperlink" Target="http://flamber.ru/files/photos/1152431728/1181070512_o.jpg" TargetMode="External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alda.ru/dishes/profi/" TargetMode="External"/><Relationship Id="rId2" Type="http://schemas.openxmlformats.org/officeDocument/2006/relationships/hyperlink" Target="http://www.cook.freecopy.su/cookbook/?l=23&amp;w=4306" TargetMode="External"/><Relationship Id="rId3" Type="http://schemas.openxmlformats.org/officeDocument/2006/relationships/hyperlink" Target="http://www.srbp.ru/offers/20/805/2456.html" TargetMode="External"/><Relationship Id="rId4" Type="http://schemas.openxmlformats.org/officeDocument/2006/relationships/hyperlink" Target="http://fotki.yandex.ru/users/mamuka532/view/60544/" TargetMode="External"/><Relationship Id="rId5" Type="http://schemas.openxmlformats.org/officeDocument/2006/relationships/hyperlink" Target="http://arsel.flamber.ru/photos/1200076904/" TargetMode="External"/><Relationship Id="rId6" Type="http://schemas.openxmlformats.org/officeDocument/2006/relationships/hyperlink" Target="http://www.vikar-plastic.com.ua/index.php?categoryID=301" TargetMode="External"/><Relationship Id="rId7" Type="http://schemas.openxmlformats.org/officeDocument/2006/relationships/hyperlink" Target="http://yogaclassic.ru/post/2343" TargetMode="External"/><Relationship Id="rId8" Type="http://schemas.openxmlformats.org/officeDocument/2006/relationships/hyperlink" Target="http://fantasyflash.ru/anime/index.php?kont=sea&amp;n=3" TargetMode="External"/><Relationship Id="rId9" Type="http://schemas.openxmlformats.org/officeDocument/2006/relationships/hyperlink" Target="http://fantasyflash.ru/anime/index.php?kont=disney&amp;n=1" TargetMode="External"/><Relationship Id="rId10" Type="http://schemas.openxmlformats.org/officeDocument/2006/relationships/hyperlink" Target="http://www.liveinternet.ru/photo/ha8xa7/post15454746/" TargetMode="External"/><Relationship Id="rId11" Type="http://schemas.openxmlformats.org/officeDocument/2006/relationships/hyperlink" Target="http://s99-omsk.narod.ru/projects/v/mozaika.htm" TargetMode="External"/><Relationship Id="rId12" Type="http://schemas.openxmlformats.org/officeDocument/2006/relationships/hyperlink" Target="http://iskystvo.ru/metka/forma/" TargetMode="External"/><Relationship Id="rId13" Type="http://schemas.openxmlformats.org/officeDocument/2006/relationships/hyperlink" Target="http://www.russika.ru/ef.php?s=3346" TargetMode="External"/><Relationship Id="rId14" Type="http://schemas.openxmlformats.org/officeDocument/2006/relationships/hyperlink" Target="http://akinfeev.livejournal.com/17482.html?page=26" TargetMode="External"/><Relationship Id="rId15" Type="http://schemas.openxmlformats.org/officeDocument/2006/relationships/hyperlink" Target="http://mega.km.ru/bes_2004/encyclop.asp?TopicNumber=34130&amp;rubr=156" TargetMode="External"/><Relationship Id="rId16" Type="http://schemas.openxmlformats.org/officeDocument/2006/relationships/hyperlink" Target="http://www.board74.ru/articles/geometry/tcone.html" TargetMode="External"/><Relationship Id="rId17" Type="http://schemas.openxmlformats.org/officeDocument/2006/relationships/hyperlink" Target="http://iskystvo.ru/2008/10/" TargetMode="External"/><Relationship Id="rId18" Type="http://schemas.openxmlformats.org/officeDocument/2006/relationships/hyperlink" Target="http://flamber.ru/photos/tags/%E4%EE%F0%EE%E3%E0/1181070512/" TargetMode="External"/><Relationship Id="rId19" Type="http://schemas.openxmlformats.org/officeDocument/2006/relationships/hyperlink" Target="http://slavyane.cddk.ru/publ/20-1-0-272" TargetMode="External"/><Relationship Id="rId20" Type="http://schemas.openxmlformats.org/officeDocument/2006/relationships/hyperlink" Target="http://media.meta.ua/files/pic/0/26/108/mIR6YnZXGo.jpg" TargetMode="External"/><Relationship Id="rId21" Type="http://schemas.openxmlformats.org/officeDocument/2006/relationships/hyperlink" Target="http://media.meta.ua/files/pic/0/26/108/mIR6YnZXGo.jpg" TargetMode="External"/><Relationship Id="rId22" Type="http://schemas.openxmlformats.org/officeDocument/2006/relationships/hyperlink" Target="http://media.meta.ua/files/pic/0/26/108/mIR6YnZXGo.jpg" TargetMode="External"/><Relationship Id="rId23" Type="http://schemas.openxmlformats.org/officeDocument/2006/relationships/hyperlink" Target="http://media.meta.ua/files/pic/0/26/108/mIR6YnZXGo.jpg" TargetMode="External"/><Relationship Id="rId24" Type="http://schemas.openxmlformats.org/officeDocument/2006/relationships/hyperlink" Target="http://media.meta.ua/files/pic/0/26/108/mIR6YnZXGo.jpg" TargetMode="External"/><Relationship Id="rId25" Type="http://schemas.openxmlformats.org/officeDocument/2006/relationships/hyperlink" Target="http://media.meta.ua/files/pic/0/26/108/mIR6YnZXGo.jpg" TargetMode="External"/><Relationship Id="rId26" Type="http://schemas.openxmlformats.org/officeDocument/2006/relationships/hyperlink" Target="http://media.meta.ua/files/pic/0/26/108/mIR6YnZXGo.jpg" TargetMode="External"/><Relationship Id="rId27" Type="http://schemas.openxmlformats.org/officeDocument/2006/relationships/hyperlink" Target="http://media.meta.ua/files/pic/0/26/108/mIR6YnZXGo.jpg" TargetMode="External"/><Relationship Id="rId28" Type="http://schemas.openxmlformats.org/officeDocument/2006/relationships/hyperlink" Target="http://media.meta.ua/files/pic/0/26/108/mIR6YnZXGo.jpg" TargetMode="External"/><Relationship Id="rId29" Type="http://schemas.openxmlformats.org/officeDocument/2006/relationships/hyperlink" Target="http://media.meta.ua/files/pic/0/26/108/mIR6YnZXGo.jpg" TargetMode="External"/><Relationship Id="rId30" Type="http://schemas.openxmlformats.org/officeDocument/2006/relationships/hyperlink" Target="http://media.meta.ua/files/pic/0/26/108/mIR6YnZXGo.jpg" TargetMode="External"/><Relationship Id="rId31" Type="http://schemas.openxmlformats.org/officeDocument/2006/relationships/hyperlink" Target="http://media.meta.ua/files/pic/0/26/108/mIR6YnZXGo.jpg" TargetMode="External"/><Relationship Id="rId32" Type="http://schemas.openxmlformats.org/officeDocument/2006/relationships/hyperlink" Target="http://media.meta.ua/files/pic/0/26/108/mIR6YnZXGo.jpg" TargetMode="External"/><Relationship Id="rId33" Type="http://schemas.openxmlformats.org/officeDocument/2006/relationships/hyperlink" Target="http://media.meta.ua/files/pic/0/26/108/mIR6YnZXGo.jpg" TargetMode="External"/><Relationship Id="rId34" Type="http://schemas.openxmlformats.org/officeDocument/2006/relationships/hyperlink" Target="http://media.meta.ua/files/pic/0/26/108/mIR6YnZXGo.jpg" TargetMode="External"/><Relationship Id="rId35" Type="http://schemas.openxmlformats.org/officeDocument/2006/relationships/hyperlink" Target="http://media.meta.ua/files/pic/0/26/108/mIR6YnZXGo.jpg" TargetMode="External"/><Relationship Id="rId36" Type="http://schemas.openxmlformats.org/officeDocument/2006/relationships/hyperlink" Target="http://media.meta.ua/files/pic/0/26/108/mIR6YnZXGo.jpg" TargetMode="External"/><Relationship Id="rId37" Type="http://schemas.openxmlformats.org/officeDocument/2006/relationships/slideLayout" Target="../slideLayouts/slideLayout1.xml"/><Relationship Id="rId3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5"/>
          <p:cNvSpPr txBox="1"/>
          <p:nvPr/>
        </p:nvSpPr>
        <p:spPr>
          <a:xfrm>
            <a:off x="2843280" y="714240"/>
            <a:ext cx="3657600" cy="12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РУГЛЫЕ ТЕЛ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/пресс-конференция/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WordArt 6"/>
          <p:cNvSpPr txBox="1"/>
          <p:nvPr/>
        </p:nvSpPr>
        <p:spPr>
          <a:xfrm>
            <a:off x="3419640" y="2781360"/>
            <a:ext cx="226692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ЦИЛИНДР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НУС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ШАР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285840" y="585792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езентация к уроку геометрии в 11 классе . Автор: Михайлова 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итель математики МОУ «СОШ № 15 п. Березайка Тверской об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общение и углубление знаний  о круглых телах;   применение их (круглых тел) на практике в повседневной жизн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витие логического мышления, творческой деятельности, реч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оспитание самостоятельности, активности, культуры общ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Прямоугольник 3" descr=""/>
          <p:cNvPicPr/>
          <p:nvPr/>
        </p:nvPicPr>
        <p:blipFill>
          <a:blip r:embed="rId1"/>
          <a:stretch/>
        </p:blipFill>
        <p:spPr>
          <a:xfrm>
            <a:off x="285840" y="334800"/>
            <a:ext cx="7572240" cy="14576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Прямоугольник 3" descr=""/>
          <p:cNvPicPr/>
          <p:nvPr/>
        </p:nvPicPr>
        <p:blipFill>
          <a:blip r:embed="rId1"/>
          <a:stretch/>
        </p:blipFill>
        <p:spPr>
          <a:xfrm>
            <a:off x="1749600" y="407880"/>
            <a:ext cx="4846320" cy="1579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0" name="Object 14"/>
              <p:cNvSpPr txBox="1"/>
              <p:nvPr/>
            </p:nvSpPr>
            <p:spPr>
              <a:xfrm>
                <a:off x="1714680" y="4929120"/>
                <a:ext cx="18666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бок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R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6"/>
              <p:cNvSpPr txBox="1"/>
              <p:nvPr/>
            </p:nvSpPr>
            <p:spPr>
              <a:xfrm>
                <a:off x="1500120" y="5500800"/>
                <a:ext cx="233352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полн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R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TextBox 13"/>
          <p:cNvSpPr/>
          <p:nvPr/>
        </p:nvSpPr>
        <p:spPr>
          <a:xfrm>
            <a:off x="357120" y="207180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Цилиндром здесь зовусь, друзь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 кухне встретите мен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Я–термос, вкусный торт и свечка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стрюля тёплая на печк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14" descr="http://radugavd.ru/d/63369/d/1409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29120" y="2143080"/>
            <a:ext cx="1428840" cy="2055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http://media.meta.ua/files/pic/0/26/108/mIR6YnZXGo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15080" y="1928880"/>
            <a:ext cx="1785960" cy="1496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8" descr="Картинка 22 из 120563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072200" y="4071960"/>
            <a:ext cx="1398600" cy="1955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Картинка 62 из 106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571760" y="3357720"/>
            <a:ext cx="2214360" cy="1477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Картинка 2 из 95134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429080" y="4643280"/>
            <a:ext cx="1785960" cy="14288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Прямоугольник 3" descr=""/>
          <p:cNvPicPr/>
          <p:nvPr/>
        </p:nvPicPr>
        <p:blipFill>
          <a:blip r:embed="rId1"/>
          <a:stretch/>
        </p:blipFill>
        <p:spPr>
          <a:xfrm>
            <a:off x="1359000" y="291960"/>
            <a:ext cx="6986520" cy="16099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15"/>
              <p:cNvSpPr txBox="1"/>
              <p:nvPr/>
            </p:nvSpPr>
            <p:spPr>
              <a:xfrm>
                <a:off x="3929040" y="5000760"/>
                <a:ext cx="18892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2" name="TextBox 16"/>
          <p:cNvSpPr/>
          <p:nvPr/>
        </p:nvSpPr>
        <p:spPr>
          <a:xfrm>
            <a:off x="2000160" y="185724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Я – глобус, апельсин и мячи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Я – круглый шар, я даже чайни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17" descr="http://im5-tub.yandex.net/i?id=57082072&amp;tov=5"/>
          <p:cNvPicPr/>
          <p:nvPr/>
        </p:nvPicPr>
        <p:blipFill>
          <a:blip r:embed="rId2"/>
          <a:stretch/>
        </p:blipFill>
        <p:spPr>
          <a:xfrm>
            <a:off x="1000080" y="4286160"/>
            <a:ext cx="1333440" cy="1806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Картинка 150 из 125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43240" y="3429000"/>
            <a:ext cx="1238400" cy="119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http://im0-tub.yandex.net/i?id=61901722&amp;tov=0"/>
          <p:cNvPicPr/>
          <p:nvPr/>
        </p:nvPicPr>
        <p:blipFill>
          <a:blip r:embed="rId5"/>
          <a:stretch/>
        </p:blipFill>
        <p:spPr>
          <a:xfrm>
            <a:off x="714240" y="2571840"/>
            <a:ext cx="1333800" cy="1320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Картинка 101 из 1258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597720" y="2214720"/>
            <a:ext cx="1903320" cy="1428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Картинка 14 из 10484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643800" y="4429080"/>
            <a:ext cx="2143080" cy="160812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Прямоугольник 3" descr=""/>
          <p:cNvPicPr/>
          <p:nvPr/>
        </p:nvPicPr>
        <p:blipFill>
          <a:blip r:embed="rId1"/>
          <a:stretch/>
        </p:blipFill>
        <p:spPr>
          <a:xfrm>
            <a:off x="2682720" y="334800"/>
            <a:ext cx="3535560" cy="14576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19"/>
              <p:cNvSpPr txBox="1"/>
              <p:nvPr/>
            </p:nvSpPr>
            <p:spPr>
              <a:xfrm>
                <a:off x="5572080" y="4141800"/>
                <a:ext cx="13572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r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21"/>
              <p:cNvSpPr txBox="1"/>
              <p:nvPr/>
            </p:nvSpPr>
            <p:spPr>
              <a:xfrm>
                <a:off x="5286240" y="4500720"/>
                <a:ext cx="1949760" cy="44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полн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πr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+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TextBox 17"/>
          <p:cNvSpPr/>
          <p:nvPr/>
        </p:nvSpPr>
        <p:spPr>
          <a:xfrm>
            <a:off x="500040" y="1857240"/>
            <a:ext cx="471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йдёшь меня легко в воронке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 ёлке, в шляпке у гриб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а, конус не стоит в сторонке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орковка – это тоже 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16" descr="http://im4-tub.yandex.net/i?id=44256238&amp;tov=4"/>
          <p:cNvPicPr/>
          <p:nvPr/>
        </p:nvPicPr>
        <p:blipFill>
          <a:blip r:embed="rId2"/>
          <a:stretch/>
        </p:blipFill>
        <p:spPr>
          <a:xfrm>
            <a:off x="1857240" y="4714920"/>
            <a:ext cx="1800360" cy="1347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8" descr="http://im8-tub.yandex.net/i?id=73588947&amp;tov=8"/>
          <p:cNvPicPr/>
          <p:nvPr/>
        </p:nvPicPr>
        <p:blipFill>
          <a:blip r:embed="rId3"/>
          <a:stretch/>
        </p:blipFill>
        <p:spPr>
          <a:xfrm>
            <a:off x="3786120" y="3071880"/>
            <a:ext cx="1143000" cy="1517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0" descr="Картинка 31 из 4814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7120" y="3214800"/>
            <a:ext cx="1857600" cy="1311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Картинка 143 из 476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429160" y="200016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6" descr="Картинка 5 из 7006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00960" y="4429080"/>
            <a:ext cx="1206360" cy="156852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Прямоугольник 3" descr=""/>
          <p:cNvPicPr/>
          <p:nvPr/>
        </p:nvPicPr>
        <p:blipFill>
          <a:blip r:embed="rId1"/>
          <a:stretch/>
        </p:blipFill>
        <p:spPr>
          <a:xfrm>
            <a:off x="109440" y="334800"/>
            <a:ext cx="8705880" cy="1457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C:\Program Files\Microsoft Office\MEDIA\CAGCAT10\j0285360.wmf"/>
          <p:cNvPicPr/>
          <p:nvPr/>
        </p:nvPicPr>
        <p:blipFill>
          <a:blip r:embed="rId2"/>
          <a:stretch/>
        </p:blipFill>
        <p:spPr>
          <a:xfrm>
            <a:off x="307800" y="3357720"/>
            <a:ext cx="1737000" cy="21430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3"/>
              <p:cNvSpPr txBox="1"/>
              <p:nvPr/>
            </p:nvSpPr>
            <p:spPr>
              <a:xfrm>
                <a:off x="2665440" y="5643720"/>
                <a:ext cx="37018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л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3"/>
              <p:cNvSpPr txBox="1"/>
              <p:nvPr/>
            </p:nvSpPr>
            <p:spPr>
              <a:xfrm>
                <a:off x="3308400" y="5072040"/>
                <a:ext cx="22464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e>
                    </m:d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TextBox 11"/>
          <p:cNvSpPr/>
          <p:nvPr/>
        </p:nvSpPr>
        <p:spPr>
          <a:xfrm>
            <a:off x="1643040" y="1785960"/>
            <a:ext cx="54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водская труба и маяк освещённый –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то конус совсем не простой – усечённый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Рисунок 11" descr="sea70.gif"/>
          <p:cNvPicPr/>
          <p:nvPr/>
        </p:nvPicPr>
        <p:blipFill>
          <a:blip r:embed="rId3"/>
          <a:stretch/>
        </p:blipFill>
        <p:spPr>
          <a:xfrm>
            <a:off x="7286760" y="2000160"/>
            <a:ext cx="1153800" cy="1143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Картинка 153 из 47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143160" y="3071880"/>
            <a:ext cx="1924200" cy="1485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6" descr="Картинка 5 из 1333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500880" y="4286160"/>
            <a:ext cx="1976400" cy="14828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807228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от задача не для робких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яч упаковать в коробку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ен плотно он войти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б в пути не растрясти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Picture 2" descr="j0299763"/>
          <p:cNvPicPr/>
          <p:nvPr/>
        </p:nvPicPr>
        <p:blipFill>
          <a:blip r:embed="rId1"/>
          <a:stretch/>
        </p:blipFill>
        <p:spPr>
          <a:xfrm>
            <a:off x="785880" y="2714760"/>
            <a:ext cx="3097080" cy="254772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3"/>
          <p:cNvSpPr/>
          <p:nvPr/>
        </p:nvSpPr>
        <p:spPr>
          <a:xfrm>
            <a:off x="4643280" y="2571840"/>
            <a:ext cx="3000600" cy="26431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Рисунок 4" descr="dis16.gif"/>
          <p:cNvPicPr/>
          <p:nvPr/>
        </p:nvPicPr>
        <p:blipFill>
          <a:blip r:embed="rId2"/>
          <a:stretch/>
        </p:blipFill>
        <p:spPr>
          <a:xfrm>
            <a:off x="7286760" y="285840"/>
            <a:ext cx="952200" cy="11430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А в итоге? Посмотри: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Куб – коробка, мяч – внутри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Picture 2" descr="j0299763"/>
          <p:cNvPicPr/>
          <p:nvPr/>
        </p:nvPicPr>
        <p:blipFill>
          <a:blip r:embed="rId1"/>
          <a:stretch/>
        </p:blipFill>
        <p:spPr>
          <a:xfrm>
            <a:off x="2714760" y="2786040"/>
            <a:ext cx="2838240" cy="2286000"/>
          </a:xfrm>
          <a:prstGeom prst="rect">
            <a:avLst/>
          </a:prstGeom>
          <a:ln w="0">
            <a:noFill/>
          </a:ln>
        </p:spPr>
      </p:pic>
      <p:sp>
        <p:nvSpPr>
          <p:cNvPr id="148" name="Куб 4"/>
          <p:cNvSpPr/>
          <p:nvPr/>
        </p:nvSpPr>
        <p:spPr>
          <a:xfrm>
            <a:off x="2928960" y="2643120"/>
            <a:ext cx="2928960" cy="2643120"/>
          </a:xfrm>
          <a:prstGeom prst="cube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Прямая соединительная линия 6"/>
          <p:cNvSpPr/>
          <p:nvPr/>
        </p:nvSpPr>
        <p:spPr>
          <a:xfrm flipH="1">
            <a:off x="3569760" y="2643120"/>
            <a:ext cx="18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Прямая соединительная линия 10"/>
          <p:cNvSpPr/>
          <p:nvPr/>
        </p:nvSpPr>
        <p:spPr>
          <a:xfrm flipV="1">
            <a:off x="2928240" y="5143680"/>
            <a:ext cx="14292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Прямая соединительная линия 12"/>
          <p:cNvSpPr/>
          <p:nvPr/>
        </p:nvSpPr>
        <p:spPr>
          <a:xfrm flipV="1">
            <a:off x="3142440" y="4928760"/>
            <a:ext cx="1429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Прямая соединительная линия 16"/>
          <p:cNvSpPr/>
          <p:nvPr/>
        </p:nvSpPr>
        <p:spPr>
          <a:xfrm flipH="1" flipV="1">
            <a:off x="5643360" y="4642920"/>
            <a:ext cx="214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Прямая соединительная линия 18"/>
          <p:cNvSpPr/>
          <p:nvPr/>
        </p:nvSpPr>
        <p:spPr>
          <a:xfrm flipH="1" flipV="1">
            <a:off x="5428800" y="4642920"/>
            <a:ext cx="1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Прямая соединительная линия 20"/>
          <p:cNvSpPr/>
          <p:nvPr/>
        </p:nvSpPr>
        <p:spPr>
          <a:xfrm flipV="1">
            <a:off x="3429000" y="4714920"/>
            <a:ext cx="712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Прямая соединительная линия 22"/>
          <p:cNvSpPr/>
          <p:nvPr/>
        </p:nvSpPr>
        <p:spPr>
          <a:xfrm flipH="1">
            <a:off x="3569760" y="2928960"/>
            <a:ext cx="18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1"/>
          <p:cNvSpPr/>
          <p:nvPr/>
        </p:nvSpPr>
        <p:spPr>
          <a:xfrm>
            <a:off x="285840" y="1785960"/>
            <a:ext cx="8358120" cy="63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еометрия: Учеб. для 10-11 кл.сред.шк./Л.С.Атанасян, В.Ф.Бутузов, С.Б. Кадомцев и др.-М.: Просвещение.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crosoft Office Power Point 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ллекция картинок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 http://www.salda.ru/dishes/prof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cook.freecopy.su/cookbook/?l=23&amp;w=430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www.srbp.ru/offers/20/805/2456.htm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http://fotki.yandex.ru/users/mamuka532/view/60544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http://arsel.flamber.ru/photos/1200076904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http://www.vikar-plastic.com.ua/index.php?categoryID=30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http://yogaclassic.ru/post/234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http://fantasyflash.ru/anime/index.php?kont=sea&amp;n=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http://fantasyflash.ru/anime/index.php?kont=disney&amp;n=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0"/>
              </a:rPr>
              <a:t>http://www.liveinternet.ru/photo/ha8xa7/post15454746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1"/>
              </a:rPr>
              <a:t>http://s99-omsk.narod.ru/projects/v/mozaika.ht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2"/>
              </a:rPr>
              <a:t>http://iskystvo.ru/metka/forma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3"/>
              </a:rPr>
              <a:t>http://www.russika.ru/ef.php?s=334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4"/>
              </a:rPr>
              <a:t>http://akinfeev.livejournal.com/17482.html?page=2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5"/>
              </a:rPr>
              <a:t>http://mega.km.ru/bes_2004/encyclop.asp?TopicNumber=34130&amp;rubr=15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6"/>
              </a:rPr>
              <a:t>http://www.board74.ru/articles/geometry/tcone.htm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7"/>
              </a:rPr>
              <a:t>http://iskystvo.ru/2008/10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8"/>
              </a:rPr>
              <a:t>http://flamber.ru/photos/tags/%E4%EE%F0%EE%E3%E0/1181070512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9"/>
              </a:rPr>
              <a:t>http://slavyane.cddk.ru/publ/20-1-0-27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20"/>
              </a:rPr>
              <a:t>http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21"/>
              </a:rPr>
              <a:t>://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22"/>
              </a:rPr>
              <a:t>media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23"/>
              </a:rPr>
              <a:t>.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24"/>
              </a:rPr>
              <a:t>meta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25"/>
              </a:rPr>
              <a:t>.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26"/>
              </a:rPr>
              <a:t>ua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27"/>
              </a:rPr>
              <a:t>/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28"/>
              </a:rPr>
              <a:t>files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29"/>
              </a:rPr>
              <a:t>/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30"/>
              </a:rPr>
              <a:t>pic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31"/>
              </a:rPr>
              <a:t>/0/26/108/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32"/>
              </a:rPr>
              <a:t>mIR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33"/>
              </a:rPr>
              <a:t>6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34"/>
              </a:rPr>
              <a:t>YnZXGo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35"/>
              </a:rPr>
              <a:t>.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36"/>
              </a:rPr>
              <a:t>jp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Прямоугольник 2"/>
          <p:cNvSpPr/>
          <p:nvPr/>
        </p:nvSpPr>
        <p:spPr>
          <a:xfrm>
            <a:off x="357120" y="285840"/>
            <a:ext cx="85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спользованная литература и Интернет – ресурс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9:48:30Z</dcterms:created>
  <dc:creator>Березайка</dc:creator>
  <dc:description/>
  <dc:language>en-US</dc:language>
  <cp:lastModifiedBy>LEGION</cp:lastModifiedBy>
  <dcterms:modified xsi:type="dcterms:W3CDTF">2015-01-26T12:29:00Z</dcterms:modified>
  <cp:revision>59</cp:revision>
  <dc:subject/>
  <dc:title>Слайд 1</dc:title>
</cp:coreProperties>
</file>