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53D5-C72C-434D-A039-BACE033B02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я  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: «Площадь.  Площадь трапеци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F926-C0FB-4B32-80E5-FAEB8310F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//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епараллельные отре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7C40-D120-4374-B111-CCDF3B27EC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6779-3208-4E80-9D76-8490A6B51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резки в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BC85-F86E-42FA-8531-7E690B576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ff"/>
                </a:solidFill>
                <a:latin typeface="Arial"/>
                <a:ea typeface="Arial"/>
              </a:rPr>
              <a:t>Разбиение трапеции на части и нахождение площади трап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3919-0DB6-4ABD-9871-2483455B9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ощадь трапеции равна произведению полусуммы её оснований на выс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трапеция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//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=a, BC=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┴ AD, BH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5A0D-A99A-4AE2-8971-CB128EB216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F1C-6509-4E04-A1EA-C382090D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D09-18CD-438D-AD7F-44478313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C8809-BBAE-4D08-9DEE-61252E2B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E6FA8-853A-42F0-9283-9FEE6DAD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99E8C-181F-4662-B974-6A07F498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8158E-9754-40A6-9EC2-760211BF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C3F5B-7DAB-4939-9492-1A6ECD4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4870C-B004-47F6-B6C9-3E2AAA2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FFB5A-9899-445E-80C1-F8916722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DD685-9532-4835-842E-41DFBE94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C56DE-6440-4133-BCF8-538EE62E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31EA5-774A-40C1-A4A7-162CDBB2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5F6-5470-464B-A83C-D4FCE6A2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B1B41-48FB-4ABD-A3FC-875202AB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303A5-BC63-462A-83BE-73237708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7091C-C57F-4882-8920-31106BA0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1C6F2-0AB6-47F5-99EC-88956803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D3775-ECF5-4C69-AF73-B120626A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0AA02-9879-48D7-A774-1F851C62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5701A-C2EC-4F25-9A31-9A73FF54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EDF88-FDF2-49A6-B9FA-EFEEF775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0759B-91FD-4F64-9CC3-0B6ACC60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B52A7-FB74-460D-9429-E00E5570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91A-4958-4951-B7AA-8D217C05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2730C-78EA-4229-9E33-C2A9642E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5ABFA-768B-4498-9A9E-B40ADB27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7A6BE-D997-475E-9BE7-8913BEE3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56024-F240-4F63-AAC7-36644921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82452-0396-443E-8CCB-E0B8120F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2116E-1BE0-4832-9E2B-83A6AE70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D08DE-687E-4577-9FFE-3DBAEB6D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F517D-1CDB-45C9-A304-9FE27A0D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89418-F7B3-4A3A-A438-EEC4143C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A2441-849F-48DA-A70F-AC92BCF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48EE-92C4-4C05-A44C-C3D5AEB4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64DB6-2343-43C0-9331-FE96D7A8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93998-EA15-4ABA-9EBD-CF42A02A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AD566-1197-4AE7-BBD6-E51724F3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A751F-D038-40AA-B8B3-EE1A3AD6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0C73D-2D2A-4279-B8FB-66EE108C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3A8B2-5F9A-4F2A-A15F-76063E19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C3DF2-84FC-4B15-978C-2BFF8F7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17ADE-D95B-44ED-B153-2F614310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46AD7-30A4-4719-B339-7376F7C4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80D1B-63CB-4E81-B4E4-DDFA389D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061C-2560-40F0-B621-D4DD7564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290AB-C6CC-4F87-ACE1-FAE6ACE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1F99E-967F-48A2-BBD3-5033922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4214E-2B3D-4DBA-93C0-99442324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EF1B0-41CB-4558-86A9-4EDED2C5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50FC3-4C07-4B94-B8D1-DCA8C9D0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FEC88-012C-43AD-95B7-9FA4413A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7C748-783C-4D1B-B6A6-69A13F98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F23A8-682C-42D9-9184-D9D20CAD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95C1C-46B4-40A6-AC9D-AF6DAAD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511F5-6173-43A1-8775-8E0F5299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854A-B0FF-43E6-A701-42545EC1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D932E-03C1-427C-A773-3EB570F6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D3B07-099B-4278-8945-D5B452C6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22C83-3EE5-4517-8E3C-78FC4C35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8B122-B6D3-449A-8041-2FC5AEE2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2BF6F-CE0E-438B-83AB-5E7FDD7C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32439-5655-4B70-A0F2-E5D7D907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EEE5E-A372-4C1C-B923-611CBFCE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1702-FA1C-4363-ADED-BE1500BD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FE1B-1044-41FE-9D88-EB4B2F32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4D62-3A4A-4EF9-BAD8-3699EA6B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BE94-70DC-48C8-A3C3-08F9EE66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809-569F-495E-87D0-ECCE7D87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CBC8-6D97-4EAB-AB32-CEC6A9B3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80C2-1B3F-4A6F-B8FE-E2601F21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1B3E-6A01-4FCD-A1F0-D6DC7625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3B4C-F6DF-4C6E-BC42-92A020DC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09D7-1384-488B-8B47-DD2D35B8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F874-AD05-4309-A16A-2D3E44BD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B81A-FE94-4F9B-A4BD-A1806EF6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7881-FF3C-4D55-94B8-E77D8203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9AC11-F29C-46EE-A863-81EDCE27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7823-5871-41FF-ABD6-428107A2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8A3-E9EC-42DB-B9F1-810A80FA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CB4D-1F3C-4793-8526-454259F7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B52C-DA1C-4EF1-BF5E-CD768A36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3074-5074-4A45-9BAC-2DA483C6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BE75-804D-4001-94DC-937676AB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1FCF-520E-495A-BFB1-E8B2E2AB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6015-FBBE-4276-853E-E80BA0CE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CA96-7A2E-4B3E-8725-CA0F4522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FB72E-C9F7-4610-9333-BF3716F3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E953C-0909-45C5-9918-85B4DBA4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0984-8095-4B9B-BF92-AF112D9E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595-14A3-4D57-BD83-69337116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F8293-FD88-4389-BAA3-A948FD09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B3D6E-AFD6-4CAE-8519-71CEFDA1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EA11-F416-4B3F-9E59-B16AB045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90385-0AF0-45E7-BCF5-5E8C060E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AA060-5E42-4FE2-AB6B-AEE481F2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5E89-FF65-4B85-86A6-AA05FBA0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6BCBF-B92B-4B6C-B76A-FD75756F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7DB02-05D3-4A33-AA90-8716DF43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49A0-638D-4FDA-BF2A-4E6825F2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8C62-B247-430A-AB8A-195B68BF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7F6-1E23-43DC-B732-2EA9D8B5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3CE10-267F-4CFB-89A5-AC217D69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11144-EE37-4873-92C6-67A25697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317A6-C476-4241-85A5-FC9710AD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EFDC2-0AED-4012-87DF-1A642341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68A1E-C663-44FC-8ED6-9EE03223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1288A-207C-43FB-9D96-C717FB5D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CFE84-794D-4DE6-84D3-7778EBC8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E567-65BE-4A68-BFDB-55564744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4A75E-842A-44C0-A485-EAF931FB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ECEB0-0913-43D8-91B2-4C1FA6DF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6BF-D65E-4344-A236-5A70CE0C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BA1FD-000D-48DD-9C54-8B28824A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4D890-FF1E-47DC-8EAD-D6185E2C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8DE65-EE59-43C9-BF82-17D478B3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1C734-CE09-47B0-990A-A6222396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5CF12-907E-4141-A7AE-CC46F168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6735C-B0D4-4D91-9169-5CF82E82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7C8E-084C-462B-8C36-897681B1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ED9F4-62B6-4182-83FB-A61219E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8C4F7-A384-431D-B228-5D3EB00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C3BA-5514-43D4-94E7-5ABEF07F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F86-BA62-4F84-881C-8D8885C9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F4DA4-CD89-4354-8AE3-B5E90175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2112D-A872-4CDF-BBC6-069ACAE3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A6417-F880-4874-BD07-5BC5AA76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98F40-BE6C-42F6-9DE1-06C0633C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4D085-C54C-4A2C-B667-A943F2F1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0F0E-789D-4795-9A5F-73ABAEA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7E5BA-C907-4006-9EB5-4D1D84DD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9823-494C-4F72-AD81-5128C786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D12C0-DF4A-457F-9700-2707C3C3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7E8B4-2ADE-454D-8CCB-116CAE55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D7E-4AEC-4DBD-8C31-3D9321E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929E4-1B18-4873-9C0E-BE7B02C8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58BA2-583D-4CD4-9AEF-17B9D871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99EED-463A-4E9B-8F06-3F722C0A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5CE6A-3D5C-455B-A727-9A626FD3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CAB5F-DB89-423E-AC7E-8D109931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41178-BFC6-4571-B3A8-7864A6E7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A66F4-6ED3-4214-8D74-102CE243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0B3D7-FBFB-4824-813B-56099EB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6B831-655C-44AA-B0B5-6EA9B2A8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105CE-4D4B-45F3-99D4-87269D17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20D-C495-4AFF-984D-ADFBE9F4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95184-E564-40B3-A33E-336B19D6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62A55-33E0-45D8-AC1D-15AB9B38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3C23C-0D0D-4B63-ABF0-BAB09E7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D5DF0-40D8-44AF-8D1F-46EB7482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3231C-6456-4E77-A95B-3FD113C5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2874D-BE0C-447C-9B8C-6526CD12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0E45D-52FE-43F4-9E2A-DF1DF0C6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D6959-5997-4BBB-90B8-FC87743D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E7ECF-4DE0-42CE-99BE-1DB39C30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BE699-C632-4454-A37E-673CE489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B253-B390-4B07-8382-9F82CB0EC6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1588-73D9-4BD8-92CB-4A25E787CBBA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5D26-DD49-48EF-B28F-71FA829F8260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D746-1390-40DB-89C6-3CEF99C32954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8BC0-A5AD-4D9D-9D34-928B139DFFA5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C6E4-46F5-4F9E-A276-855E1A88DDC9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749A-8688-4153-A98A-61CB89161D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9E63-BE97-433A-8B8E-561456FDCB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7FF7-ECAB-4EC3-A9CE-D7AB5DA1CF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5F4B-9D6E-41EA-9375-E62BB3BA79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9DE-B5FE-46FC-8BC5-9887ECD956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A91F-9D96-40B8-892C-B6A52E0914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2F27-F261-46ED-A37B-B62346FBB9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LEGION</cp:lastModifiedBy>
  <dcterms:modified xsi:type="dcterms:W3CDTF">2015-01-26T12:30:37Z</dcterms:modified>
  <cp:revision>20</cp:revision>
  <dc:subject/>
  <dc:title>Презентация PowerPoint</dc:title>
</cp:coreProperties>
</file>